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gif" ContentType="image/gif"/>
  <Override PartName="/ppt/media/image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96B-22C2-48B0-AD68-F41748D8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689-6120-42B2-97CA-3AA8E9CF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FA0-2032-4960-A149-01352D04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A70-72E8-4754-91EA-F899BB97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27BB-04F4-4144-8AB8-158FD9AE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A1C2-7B8B-459E-A6AA-97FABC67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F7E1-7E6D-4925-9F25-19B08F75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0B88-E08A-4EA6-8081-650A3C0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F4B2-3A04-47F1-868A-6D587468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E7C6-B1ED-4E35-A969-3242C19B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732C-5937-4ED4-B58F-5A33F107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716-6FF5-4F94-A0F8-50AC32CE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F053-0A35-43AC-B4DF-8255A4E8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0283-17F4-4A7F-9B01-D00288A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065B-CA64-46C3-B3CC-A0DD62D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3299-9B46-4942-9448-AEC4DA54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5224-86E1-478A-BDE2-A61974E1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F2C-EB4F-46B3-9397-9E3BC5E4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DAF-A20B-40A3-97BA-F1FDAC7C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977-27E2-427C-B95B-E2A745C5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1D1-ECB8-4BB1-9394-5324C0D7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2F8-506F-4F0A-A79F-F2320459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BFA-13CC-432F-A9C7-212F62C8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10E-5189-4CBC-96FE-8A5D6B55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8839080" y="1828800"/>
              <a:ext cx="304920" cy="50292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90920" y="1828800"/>
              <a:ext cx="6248160" cy="50292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pic>
          <p:nvPicPr>
            <p:cNvPr id="4" name="ARTBANNA" descr=""/>
            <p:cNvPicPr/>
            <p:nvPr/>
          </p:nvPicPr>
          <p:blipFill>
            <a:blip r:embed="rId2"/>
            <a:stretch/>
          </p:blipFill>
          <p:spPr>
            <a:xfrm>
              <a:off x="2743200" y="0"/>
              <a:ext cx="5715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ARTBANND" descr="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ARTHSEPA" descr=""/>
            <p:cNvPicPr/>
            <p:nvPr/>
          </p:nvPicPr>
          <p:blipFill>
            <a:blip r:embed="rId4"/>
            <a:stretch/>
          </p:blipFill>
          <p:spPr>
            <a:xfrm>
              <a:off x="228600" y="175248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8268-701F-4D55-ABFE-A1E136CD4264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0" name=""/>
            <p:cNvSpPr/>
            <p:nvPr/>
          </p:nvSpPr>
          <p:spPr>
            <a:xfrm>
              <a:off x="8839080" y="3429000"/>
              <a:ext cx="304920" cy="34290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0920" y="3429000"/>
              <a:ext cx="6248160" cy="34290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609480" cy="35812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pic>
          <p:nvPicPr>
            <p:cNvPr id="53" name="ARTBANNA" descr=""/>
            <p:cNvPicPr/>
            <p:nvPr/>
          </p:nvPicPr>
          <p:blipFill>
            <a:blip r:embed="rId2"/>
            <a:srcRect l="0" t="0" r="58457" b="0"/>
            <a:stretch/>
          </p:blipFill>
          <p:spPr>
            <a:xfrm>
              <a:off x="2590920" y="0"/>
              <a:ext cx="6553080" cy="15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ARTBANND" descr=""/>
            <p:cNvPicPr/>
            <p:nvPr/>
          </p:nvPicPr>
          <p:blipFill>
            <a:blip r:embed="rId3"/>
            <a:srcRect l="64006" t="0" r="0" b="0"/>
            <a:stretch/>
          </p:blipFill>
          <p:spPr>
            <a:xfrm>
              <a:off x="0" y="0"/>
              <a:ext cx="20574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ARTHSEPA" descr=""/>
            <p:cNvPicPr/>
            <p:nvPr/>
          </p:nvPicPr>
          <p:blipFill>
            <a:blip r:embed="rId4"/>
            <a:stretch/>
          </p:blipFill>
          <p:spPr>
            <a:xfrm>
              <a:off x="380880" y="3200400"/>
              <a:ext cx="28576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819520" y="6705720"/>
              <a:ext cx="3886200" cy="1522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c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8664-1D81-4419-95C6-8390D24E211D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66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slide" Target="slide26.xml"/><Relationship Id="rId4" Type="http://schemas.openxmlformats.org/officeDocument/2006/relationships/slide" Target="slide1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3.xml"/><Relationship Id="rId3" Type="http://schemas.openxmlformats.org/officeDocument/2006/relationships/slide" Target="slide26.xml"/><Relationship Id="rId4" Type="http://schemas.openxmlformats.org/officeDocument/2006/relationships/slide" Target="slide13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5.xml"/><Relationship Id="rId3" Type="http://schemas.openxmlformats.org/officeDocument/2006/relationships/slide" Target="slide26.xml"/><Relationship Id="rId4" Type="http://schemas.openxmlformats.org/officeDocument/2006/relationships/slide" Target="slide15.xml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7.xml"/><Relationship Id="rId3" Type="http://schemas.openxmlformats.org/officeDocument/2006/relationships/slide" Target="slide26.xml"/><Relationship Id="rId4" Type="http://schemas.openxmlformats.org/officeDocument/2006/relationships/slide" Target="slide17.xm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9.xml"/><Relationship Id="rId3" Type="http://schemas.openxmlformats.org/officeDocument/2006/relationships/slide" Target="slide26.xml"/><Relationship Id="rId4" Type="http://schemas.openxmlformats.org/officeDocument/2006/relationships/slide" Target="slide19.xml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7;&#1083;&#1086;&#1074;&#1072;&#1088;&#1100;%20&#1064;&#1082;&#1086;&#1083;&#1072;%20.ppt#4. &#1057;&#1083;&#1072;&#1081;&#1076; 4" TargetMode="External"/><Relationship Id="rId2" Type="http://schemas.openxmlformats.org/officeDocument/2006/relationships/hyperlink" Target="file:///&#1057;&#1083;&#1086;&#1074;&#1072;&#1088;&#1100;%202&#1082;&#1083;.%20&#1046;&#1080;&#1074;&#1086;&#1090;&#1085;&#1099;&#1077;.ppt#2. &#1057;&#1083;&#1072;&#1081;&#1076; 2" TargetMode="External"/><Relationship Id="rId3" Type="http://schemas.openxmlformats.org/officeDocument/2006/relationships/hyperlink" Target="file:///&#1057;&#1083;&#1086;&#1074;&#1072;&#1088;&#1100;%20&#1064;&#1082;&#1086;&#1083;&#1072;%20.ppt#6. &#1057;&#1083;&#1072;&#1081;&#1076; 6" TargetMode="External"/><Relationship Id="rId4" Type="http://schemas.openxmlformats.org/officeDocument/2006/relationships/hyperlink" Target="file:///&#1057;&#1083;&#1086;&#1074;&#1072;&#1088;&#1100;%20&#1064;&#1082;&#1086;&#1083;&#1072;%20.ppt#8. &#1057;&#1083;&#1072;&#1081;&#1076; 8" TargetMode="External"/><Relationship Id="rId5" Type="http://schemas.openxmlformats.org/officeDocument/2006/relationships/hyperlink" Target="file:///&#1057;&#1083;&#1086;&#1074;&#1072;&#1088;&#1100;%20&#1064;&#1082;&#1086;&#1083;&#1072;%20.ppt#10. &#1057;&#1083;&#1072;&#1081;&#1076; 10" TargetMode="External"/><Relationship Id="rId6" Type="http://schemas.openxmlformats.org/officeDocument/2006/relationships/hyperlink" Target="file:///&#1057;&#1083;&#1086;&#1074;&#1072;&#1088;&#1100;%202&#1082;&#1083;.%20&#1046;&#1080;&#1074;&#1086;&#1090;&#1085;&#1099;&#1077;.ppt#10. &#1057;&#1083;&#1072;&#1081;&#1076; 10" TargetMode="External"/><Relationship Id="rId7" Type="http://schemas.openxmlformats.org/officeDocument/2006/relationships/hyperlink" Target="file:///&#1057;&#1083;&#1086;&#1074;&#1072;&#1088;&#1100;%20&#1064;&#1082;&#1086;&#1083;&#1072;%20.ppt#12. &#1057;&#1083;&#1072;&#1081;&#1076; 12" TargetMode="External"/><Relationship Id="rId8" Type="http://schemas.openxmlformats.org/officeDocument/2006/relationships/hyperlink" Target="file:///&#1057;&#1083;&#1086;&#1074;&#1072;&#1088;&#1100;%20&#1064;&#1082;&#1086;&#1083;&#1072;%20.ppt#14. &#1057;&#1083;&#1072;&#1081;&#1076; 14" TargetMode="External"/><Relationship Id="rId9" Type="http://schemas.openxmlformats.org/officeDocument/2006/relationships/hyperlink" Target="file:///&#1057;&#1083;&#1086;&#1074;&#1072;&#1088;&#1100;%20&#1064;&#1082;&#1086;&#1083;&#1072;%20.ppt#16. &#1057;&#1083;&#1072;&#1081;&#1076; 16" TargetMode="External"/><Relationship Id="rId10" Type="http://schemas.openxmlformats.org/officeDocument/2006/relationships/hyperlink" Target="file:///&#1057;&#1083;&#1086;&#1074;&#1072;&#1088;&#1100;%20&#1064;&#1082;&#1086;&#1083;&#1072;%20.ppt#18. &#1057;&#1083;&#1072;&#1081;&#1076; 18" TargetMode="External"/><Relationship Id="rId11" Type="http://schemas.openxmlformats.org/officeDocument/2006/relationships/hyperlink" Target="file:///&#1057;&#1083;&#1086;&#1074;&#1072;&#1088;&#1100;%20&#1064;&#1082;&#1086;&#1083;&#1072;%20.ppt#20. &#1057;&#1083;&#1072;&#1081;&#1076; 20" TargetMode="External"/><Relationship Id="rId12" Type="http://schemas.openxmlformats.org/officeDocument/2006/relationships/hyperlink" Target="file:///&#1057;&#1083;&#1086;&#1074;&#1072;&#1088;&#1100;%20&#1064;&#1082;&#1086;&#1083;&#1072;%20.ppt#22. &#1057;&#1083;&#1072;&#1081;&#1076; 22" TargetMode="External"/><Relationship Id="rId13" Type="http://schemas.openxmlformats.org/officeDocument/2006/relationships/hyperlink" Target="file:///&#1057;&#1083;&#1086;&#1074;&#1072;&#1088;&#1100;%20&#1064;&#1082;&#1086;&#1083;&#1072;%20.ppt#24. &#1057;&#1083;&#1072;&#1081;&#1076; 24" TargetMode="External"/><Relationship Id="rId14" Type="http://schemas.openxmlformats.org/officeDocument/2006/relationships/hyperlink" Target="file:///&#1057;&#1083;&#1086;&#1074;&#1072;&#1088;&#1100;%20&#1064;&#1082;&#1086;&#1083;&#1072;%20.ppt#24. &#1057;&#1083;&#1072;&#1081;&#1076; 24" TargetMode="External"/><Relationship Id="rId15" Type="http://schemas.openxmlformats.org/officeDocument/2006/relationships/hyperlink" Target="file:///&#1057;&#1083;&#1086;&#1074;&#1072;&#1088;&#1100;%20&#1064;&#1082;&#1086;&#1083;&#1072;%20.ppt#24. &#1057;&#1083;&#1072;&#1081;&#1076; 24" TargetMode="External"/><Relationship Id="rId16" Type="http://schemas.openxmlformats.org/officeDocument/2006/relationships/slide" Target=""/><Relationship Id="rId17" Type="http://schemas.openxmlformats.org/officeDocument/2006/relationships/hyperlink" Target="file:///&#1057;&#1083;&#1086;&#1074;&#1072;&#1088;&#1100;%20&#1064;&#1082;&#1086;&#1083;&#1072;%20.ppt" TargetMode="External"/><Relationship Id="rId18" Type="http://schemas.openxmlformats.org/officeDocument/2006/relationships/slide" Target="slide13.xml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21.xml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3.xml"/><Relationship Id="rId3" Type="http://schemas.openxmlformats.org/officeDocument/2006/relationships/slide" Target="slide26.xml"/><Relationship Id="rId4" Type="http://schemas.openxmlformats.org/officeDocument/2006/relationships/slide" Target="slide23.xm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5.xm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hyperlink" Target="file:///&#1057;&#1083;&#1086;&#1074;&#1072;&#1088;&#1100;%20&#1064;&#1082;&#1086;&#1083;&#1072;%20.ppt" TargetMode="External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nmenso.ru/components/com_virtuemart/shop_image/product/289826.jpg" TargetMode="External"/><Relationship Id="rId2" Type="http://schemas.openxmlformats.org/officeDocument/2006/relationships/hyperlink" Target="http://magie.com.ua/images/upload/Image/&#1050;&#1072;&#1088;&#1072;&#1085;&#1076;&#1072;&#1096;%20&#1076;&#1083;&#1103;%20&#1075;&#1083;&#1072;&#1079;%20&#1080;%20&#1075;&#1091;&#1073;.jpg" TargetMode="External"/><Relationship Id="rId3" Type="http://schemas.openxmlformats.org/officeDocument/2006/relationships/hyperlink" Target="http://t0.gstatic.com/images?q=tbn:ANd9GcSa5-w9eSny9S6wQBl2F7-zdKkBaoN1yrY6HLSj5KW1GGVrdsp_Jw&amp;t=1" TargetMode="External"/><Relationship Id="rId4" Type="http://schemas.openxmlformats.org/officeDocument/2006/relationships/hyperlink" Target="http://www.tvoyrebenok.ru/school-accs.shtml" TargetMode="External"/><Relationship Id="rId5" Type="http://schemas.openxmlformats.org/officeDocument/2006/relationships/hyperlink" Target="http://oraznom.net/index.php?option=com_content&amp;view=article&amp;id=54%3Astihi&amp;catid=35%3Aklass-&amp;Itemid=1" TargetMode="External"/><Relationship Id="rId6" Type="http://schemas.openxmlformats.org/officeDocument/2006/relationships/hyperlink" Target="http://www.fun4child.ru/detskie-stihi/prazdnichnye-stikhi/page/2/" TargetMode="External"/><Relationship Id="rId7" Type="http://schemas.openxmlformats.org/officeDocument/2006/relationships/hyperlink" Target="http://www.det-sad.com/detskie_stixi_k23_fevralia_malchikam-papam-dedushka" TargetMode="External"/><Relationship Id="rId8" Type="http://schemas.openxmlformats.org/officeDocument/2006/relationships/hyperlink" Target="http://blogs.mail.ru/mail/rina.65/4D27B34B0BB32A25.html" TargetMode="External"/><Relationship Id="rId9" Type="http://schemas.openxmlformats.org/officeDocument/2006/relationships/hyperlink" Target="http://s41.radikal.ru/i091/0811/a6/c941500be00a.png" TargetMode="External"/><Relationship Id="rId10" Type="http://schemas.openxmlformats.org/officeDocument/2006/relationships/hyperlink" Target="http://s39.radikal.ru/i085/1005/24/11bab8d57c7f.png" TargetMode="External"/><Relationship Id="rId11" Type="http://schemas.openxmlformats.org/officeDocument/2006/relationships/hyperlink" Target="http://img1.liveinternet.ru/images/attach/c/2//69/490/69490770_07.png" TargetMode="External"/><Relationship Id="rId12" Type="http://schemas.openxmlformats.org/officeDocument/2006/relationships/hyperlink" Target="http://planetashkol.ru/upload/iblock/3e0/denu4itelya.jpg" TargetMode="External"/><Relationship Id="rId13" Type="http://schemas.openxmlformats.org/officeDocument/2006/relationships/hyperlink" Target="http://www.infokniga.ru/wp-content/gallery/181bibl/dhdhdhdh-181.jpg" TargetMode="External"/><Relationship Id="rId14" Type="http://schemas.openxmlformats.org/officeDocument/2006/relationships/hyperlink" Target="http://doshkolnik.info/klass/slova.htm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7;&#1083;&#1086;&#1074;&#1072;&#1088;&#1100;%202&#1082;&#1083;.%20&#1046;&#1080;&#1074;&#1086;&#1090;&#1085;&#1099;&#1077;.ppt#2. &#1057;&#1083;&#1072;&#1081;&#1076; 2" TargetMode="External"/><Relationship Id="rId2" Type="http://schemas.openxmlformats.org/officeDocument/2006/relationships/hyperlink" Target="file:///&#1057;&#1083;&#1086;&#1074;&#1072;&#1088;&#1100;%202&#1082;&#1083;.%20&#1046;&#1080;&#1074;&#1086;&#1090;&#1085;&#1099;&#1077;.ppt#10. &#1057;&#1083;&#1072;&#1081;&#1076; 10" TargetMode="External"/><Relationship Id="rId3" Type="http://schemas.openxmlformats.org/officeDocument/2006/relationships/hyperlink" Target="file:///&#1057;&#1083;&#1086;&#1074;&#1072;&#1088;&#1100;%20&#1064;&#1082;&#1086;&#1083;&#1072;%20.ppt" TargetMode="Externa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26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file:///&#1057;&#1083;&#1086;&#1074;&#1072;&#1088;&#1100;%20&#1064;&#1082;&#1086;&#1083;&#1072;%20.ppt" TargetMode="External"/><Relationship Id="rId3" Type="http://schemas.openxmlformats.org/officeDocument/2006/relationships/slide" Target="slide26.xml"/><Relationship Id="rId4" Type="http://schemas.openxmlformats.org/officeDocument/2006/relationships/hyperlink" Target="file:///&#1057;&#1083;&#1086;&#1074;&#1072;&#1088;&#1100;%20&#1064;&#1082;&#1086;&#1083;&#1072;%20.ppt" TargetMode="External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9.xml"/><Relationship Id="rId3" Type="http://schemas.openxmlformats.org/officeDocument/2006/relationships/slide" Target="slide26.xml"/><Relationship Id="rId4" Type="http://schemas.openxmlformats.org/officeDocument/2006/relationships/slide" Target="slide9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2c2c4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eorgia"/>
              </a:rPr>
              <a:t>Словарный диктант №2</a:t>
            </a:r>
            <a:endParaRPr b="0" lang="en-US" sz="4400" spc="-1" strike="noStrike">
              <a:solidFill>
                <a:srgbClr val="ffcc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66688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«Школа»</a:t>
            </a: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5667480"/>
            <a:ext cx="65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eorgia"/>
              </a:rPr>
              <a:t>Выполнила учитель начальных классов 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eorgia"/>
              </a:rPr>
              <a:t>МОУ СОШ №222 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eorgia"/>
              </a:rPr>
              <a:t>г. Заречный Пензенской обл.  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Georgia"/>
              </a:rPr>
              <a:t>Сазнова Татьяна Евгеньевн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948360" y="4219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6948360" y="1987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2158920" y="33336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дев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 чка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687708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6948360" y="306864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6877080" y="436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">
            <a:hlinkClick r:id="rId4" action="ppaction://hlinksldjump"/>
          </p:cNvPr>
          <p:cNvSpPr/>
          <p:nvPr/>
        </p:nvSpPr>
        <p:spPr>
          <a:xfrm>
            <a:off x="687708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12536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292720" y="9079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900000" y="1628640"/>
            <a:ext cx="2264040" cy="5013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47640" y="2709000"/>
            <a:ext cx="66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- Ах ты, девочка чумазая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где ты руки так измазала?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Чёрные ладошки;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на локтях - дорожки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Я на солнышк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лежала, руки кверху держала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ВОТ ОНИ И ЗАГОРЕЛИ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           (Барто А., Барто П.)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Ребёнок женского пола. 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549360"/>
            <a:ext cx="8208720" cy="1800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851280" y="907920"/>
            <a:ext cx="1368360" cy="1152720"/>
            <a:chOff x="3851280" y="907920"/>
            <a:chExt cx="1368360" cy="1152720"/>
          </a:xfrm>
        </p:grpSpPr>
        <p:sp>
          <p:nvSpPr>
            <p:cNvPr id="201" name=""/>
            <p:cNvSpPr/>
            <p:nvPr/>
          </p:nvSpPr>
          <p:spPr>
            <a:xfrm>
              <a:off x="3851280" y="907920"/>
              <a:ext cx="1368360" cy="11527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56400" y="993600"/>
              <a:ext cx="1183320" cy="99756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86520" y="1405080"/>
              <a:ext cx="523080" cy="45540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97400" y="1152000"/>
              <a:ext cx="277920" cy="23328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11280" y="2852640"/>
            <a:ext cx="8208720" cy="3241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780000" y="3716280"/>
            <a:ext cx="1585800" cy="1582920"/>
            <a:chOff x="3780000" y="3716280"/>
            <a:chExt cx="1585800" cy="1582920"/>
          </a:xfrm>
        </p:grpSpPr>
        <p:sp>
          <p:nvSpPr>
            <p:cNvPr id="207" name=""/>
            <p:cNvSpPr/>
            <p:nvPr/>
          </p:nvSpPr>
          <p:spPr>
            <a:xfrm>
              <a:off x="3780000" y="371628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2040" y="383400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84720" y="439920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3240" y="405144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75640" y="422100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6875640" y="198900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404640"/>
            <a:ext cx="6769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мальч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 к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804000" y="2062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6875640" y="307008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804000" y="4365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8" name="">
            <a:hlinkClick r:id="rId4" action="ppaction://hlinksldjump"/>
          </p:cNvPr>
          <p:cNvSpPr/>
          <p:nvPr/>
        </p:nvSpPr>
        <p:spPr>
          <a:xfrm>
            <a:off x="6804000" y="3070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300720" y="1052640"/>
            <a:ext cx="64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826920" y="1916280"/>
            <a:ext cx="3367080" cy="4535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84800" y="3716280"/>
            <a:ext cx="810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Месяц февраль – он как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мальчики наши</a:t>
            </a: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 –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Строгий, спокойный и радостный он!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То ляжет снег на заборы и крыши,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То вдруг капели послышится звон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620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Ребёнок мужского пола. 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708360" y="907920"/>
            <a:ext cx="1585800" cy="1582920"/>
            <a:chOff x="3708360" y="907920"/>
            <a:chExt cx="1585800" cy="1582920"/>
          </a:xfrm>
        </p:grpSpPr>
        <p:sp>
          <p:nvSpPr>
            <p:cNvPr id="226" name=""/>
            <p:cNvSpPr/>
            <p:nvPr/>
          </p:nvSpPr>
          <p:spPr>
            <a:xfrm>
              <a:off x="370836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3040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308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4160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11280" y="3573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851280" y="3860640"/>
            <a:ext cx="1585800" cy="1582920"/>
            <a:chOff x="3851280" y="3860640"/>
            <a:chExt cx="1585800" cy="1582920"/>
          </a:xfrm>
        </p:grpSpPr>
        <p:sp>
          <p:nvSpPr>
            <p:cNvPr id="232" name=""/>
            <p:cNvSpPr/>
            <p:nvPr/>
          </p:nvSpPr>
          <p:spPr>
            <a:xfrm>
              <a:off x="3851280" y="386064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73320" y="397836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56000" y="454356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84520" y="419580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7d25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7564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687564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9" name=""/>
          <p:cNvSpPr/>
          <p:nvPr/>
        </p:nvSpPr>
        <p:spPr>
          <a:xfrm>
            <a:off x="1979640" y="33336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уч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 ница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680400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687564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680400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680400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3924360" y="98100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51280" y="9079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539640" y="1916280"/>
            <a:ext cx="4537080" cy="3423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92120" y="3789360"/>
            <a:ext cx="5589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Я на уроке в первый раз.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Теперь я ученица. 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Вошла учительница в класс,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- Вставать или садиться?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62064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Учащаяся средней школы, профессионально-технического училища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3573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24360" y="4005360"/>
            <a:ext cx="1585800" cy="1582560"/>
            <a:chOff x="3924360" y="4005360"/>
            <a:chExt cx="1585800" cy="1582560"/>
          </a:xfrm>
        </p:grpSpPr>
        <p:sp>
          <p:nvSpPr>
            <p:cNvPr id="253" name=""/>
            <p:cNvSpPr/>
            <p:nvPr/>
          </p:nvSpPr>
          <p:spPr>
            <a:xfrm>
              <a:off x="3924360" y="4005360"/>
              <a:ext cx="1585800" cy="158256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46400" y="4122720"/>
              <a:ext cx="1371600" cy="136944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29080" y="4687920"/>
              <a:ext cx="606240" cy="62496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57600" y="4340160"/>
              <a:ext cx="322200" cy="320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84360" y="476280"/>
            <a:ext cx="8208720" cy="2087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924360" y="907920"/>
            <a:ext cx="1439640" cy="1225800"/>
            <a:chOff x="3924360" y="907920"/>
            <a:chExt cx="1439640" cy="1225800"/>
          </a:xfrm>
        </p:grpSpPr>
        <p:sp>
          <p:nvSpPr>
            <p:cNvPr id="259" name=""/>
            <p:cNvSpPr/>
            <p:nvPr/>
          </p:nvSpPr>
          <p:spPr>
            <a:xfrm>
              <a:off x="3924360" y="907920"/>
              <a:ext cx="1439640" cy="122580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4880" y="999000"/>
              <a:ext cx="1244880" cy="106056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82280" y="1436760"/>
              <a:ext cx="550080" cy="48420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98920" y="1167480"/>
              <a:ext cx="292320" cy="248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04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6804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549360"/>
            <a:ext cx="61214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учит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 ль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673272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8" name="">
            <a:hlinkClick r:id="rId3" action="ppaction://hlinksldjump"/>
          </p:cNvPr>
          <p:cNvSpPr/>
          <p:nvPr/>
        </p:nvSpPr>
        <p:spPr>
          <a:xfrm>
            <a:off x="6732720" y="4292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">
            <a:hlinkClick r:id="rId4" action="ppaction://hlinksldjump"/>
          </p:cNvPr>
          <p:cNvSpPr/>
          <p:nvPr/>
        </p:nvSpPr>
        <p:spPr>
          <a:xfrm>
            <a:off x="673272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5435640" y="119700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64000" y="112536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611280" y="1989000"/>
            <a:ext cx="3917880" cy="4176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55640" y="3213360"/>
            <a:ext cx="77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Не смейте забывать учителей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Ведь лучшее всё в нас от их усилий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Учителями славится Россия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Ученики приносят славу ей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Не смейте забывать учителей!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(Дементьев А.)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62064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Лицо, которое обучает чему-нибудь, преподаватель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335772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708360" y="3787920"/>
            <a:ext cx="1585800" cy="1582560"/>
            <a:chOff x="3708360" y="3787920"/>
            <a:chExt cx="1585800" cy="1582560"/>
          </a:xfrm>
        </p:grpSpPr>
        <p:sp>
          <p:nvSpPr>
            <p:cNvPr id="278" name=""/>
            <p:cNvSpPr/>
            <p:nvPr/>
          </p:nvSpPr>
          <p:spPr>
            <a:xfrm>
              <a:off x="3708360" y="3787920"/>
              <a:ext cx="1585800" cy="158256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30400" y="3905280"/>
              <a:ext cx="1371600" cy="136944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13080" y="4470480"/>
              <a:ext cx="606240" cy="62496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41600" y="4122720"/>
              <a:ext cx="322200" cy="320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284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219" dur="indefinite" restart="never" nodeType="tmRoot">
          <p:childTnLst>
            <p:seq>
              <p:cTn id="220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948360" y="414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6948360" y="19875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1979640" y="476280"/>
            <a:ext cx="6443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р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 бята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687708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6948360" y="306864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687708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687708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684360" y="2349360"/>
            <a:ext cx="3671640" cy="3629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780000" y="1125360"/>
            <a:ext cx="50292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780000" y="1052640"/>
            <a:ext cx="64764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comb dir="vert"/>
  </p:transition>
  <p:timing>
    <p:tnLst>
      <p:par>
        <p:cTn id="238" dur="indefinite" restart="never" nodeType="tmRoot">
          <p:childTnLst>
            <p:seq>
              <p:cTn id="239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340000" y="357408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Я, ребята, старый дед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Мне, ребята, много лет!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В январе и феврале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Я гуляю по земле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(Дед Мороз.)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2340000" y="54936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Молодые люди, парни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Georgia"/>
              </a:rPr>
              <a:t>Мн.ч. от ребёнок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0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303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39640" y="3500280"/>
            <a:ext cx="820908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708360" y="3859200"/>
            <a:ext cx="1585800" cy="1582920"/>
            <a:chOff x="3708360" y="3859200"/>
            <a:chExt cx="1585800" cy="1582920"/>
          </a:xfrm>
        </p:grpSpPr>
        <p:sp>
          <p:nvSpPr>
            <p:cNvPr id="309" name=""/>
            <p:cNvSpPr/>
            <p:nvPr/>
          </p:nvSpPr>
          <p:spPr>
            <a:xfrm>
              <a:off x="3708360" y="385920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30400" y="397692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3080" y="454212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1600" y="419436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26920" y="1916280"/>
            <a:ext cx="2808360" cy="49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"/>
              </a:rPr>
              <a:t>Т.традь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3"/>
              </a:rPr>
              <a:t>К.р.ндаш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4"/>
              </a:rPr>
              <a:t>П.нал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5"/>
              </a:rPr>
              <a:t>Дев.чка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6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7"/>
              </a:rPr>
              <a:t>Мальч.к</a:t>
            </a: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8"/>
              </a:rPr>
              <a:t>Уч.ниц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1916280"/>
            <a:ext cx="33116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9"/>
              </a:rPr>
              <a:t>Учит.ль</a:t>
            </a: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0"/>
              </a:rPr>
              <a:t>Р.бят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1"/>
              </a:rPr>
              <a:t>Д.журный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2"/>
              </a:rPr>
              <a:t>Кла</a:t>
            </a: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3"/>
              </a:rPr>
              <a:t>Б.бл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4"/>
              </a:rPr>
              <a:t>…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5"/>
              </a:rPr>
              <a:t>тек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987640" y="5589720"/>
            <a:ext cx="1944720" cy="1079280"/>
            <a:chOff x="2987640" y="5589720"/>
            <a:chExt cx="1944720" cy="1079280"/>
          </a:xfrm>
        </p:grpSpPr>
        <p:sp>
          <p:nvSpPr>
            <p:cNvPr id="104" name="">
              <a:hlinkClick r:id="rId16" action="ppaction://hlinksldjump"/>
            </p:cNvPr>
            <p:cNvSpPr/>
            <p:nvPr/>
          </p:nvSpPr>
          <p:spPr>
            <a:xfrm>
              <a:off x="2987640" y="5589720"/>
              <a:ext cx="1944720" cy="1079280"/>
            </a:xfrm>
            <a:prstGeom prst="ellipse">
              <a:avLst/>
            </a:prstGeom>
            <a:solidFill>
              <a:srgbClr val="969696"/>
            </a:solidFill>
            <a:ln w="1522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05" name="">
              <a:hlinkClick r:id="rId17"/>
            </p:cNvPr>
            <p:cNvSpPr/>
            <p:nvPr/>
          </p:nvSpPr>
          <p:spPr>
            <a:xfrm>
              <a:off x="3058920" y="573372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Проверь </a:t>
              </a:r>
              <a:r>
                <a:rPr b="0" lang="ru-RU" sz="2400" spc="-1" strike="noStrike" u="sng">
                  <a:solidFill>
                    <a:srgbClr val="cc6600"/>
                  </a:solidFill>
                  <a:uFillTx/>
                  <a:latin typeface="Arial"/>
                  <a:hlinkClick r:id="rId18" action="ppaction://hlinksldjump"/>
                </a:rPr>
                <a:t>себя</a:t>
              </a:r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020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40464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Georgia"/>
              </a:rPr>
              <a:t>д </a:t>
            </a:r>
            <a:r>
              <a:rPr b="1" lang="ru-RU" sz="8800" spc="-1" strike="noStrike">
                <a:solidFill>
                  <a:srgbClr val="ffff00"/>
                </a:solidFill>
                <a:latin typeface="Georgia"/>
                <a:ea typeface="Arial"/>
              </a:rPr>
              <a:t> </a:t>
            </a:r>
            <a:r>
              <a:rPr b="1" lang="ru-RU" sz="8800" spc="-1" strike="noStrike">
                <a:solidFill>
                  <a:srgbClr val="ffff00"/>
                </a:solidFill>
                <a:latin typeface="Georgia"/>
              </a:rPr>
              <a:t> журный</a:t>
            </a:r>
            <a:endParaRPr b="0" lang="en-US" sz="8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6" name="">
            <a:hlinkClick r:id="rId2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7" name=""/>
          <p:cNvSpPr/>
          <p:nvPr/>
        </p:nvSpPr>
        <p:spPr>
          <a:xfrm>
            <a:off x="7020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694836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9" name="">
            <a:hlinkClick r:id="rId4" action="ppaction://hlinksldjump"/>
          </p:cNvPr>
          <p:cNvSpPr/>
          <p:nvPr/>
        </p:nvSpPr>
        <p:spPr>
          <a:xfrm>
            <a:off x="6948360" y="306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105264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556000" y="98100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11280" y="2133720"/>
            <a:ext cx="2682720" cy="3743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042920" y="364500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Школьный дежурный стоит на посту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Хранит свою школу и её чистоту.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В глазах его грусть, а в сердце любов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Грудью стоять он за школу готов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Человек, который несёт дежурство. Тот, кто дежурит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5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350028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851280" y="3860640"/>
            <a:ext cx="1585800" cy="1582920"/>
            <a:chOff x="3851280" y="3860640"/>
            <a:chExt cx="1585800" cy="1582920"/>
          </a:xfrm>
        </p:grpSpPr>
        <p:sp>
          <p:nvSpPr>
            <p:cNvPr id="328" name=""/>
            <p:cNvSpPr/>
            <p:nvPr/>
          </p:nvSpPr>
          <p:spPr>
            <a:xfrm>
              <a:off x="3851280" y="386064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3320" y="397836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56000" y="454356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84520" y="419580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334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279" dur="indefinite" restart="never" nodeType="tmRoot">
          <p:childTnLst>
            <p:seq>
              <p:cTn id="28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948360" y="414972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6948360" y="198900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2124000" y="33336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Georgia"/>
              </a:rPr>
              <a:t>кла 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1" name="">
            <a:hlinkClick r:id="rId2" action="ppaction://hlinksldjump"/>
          </p:cNvPr>
          <p:cNvSpPr/>
          <p:nvPr/>
        </p:nvSpPr>
        <p:spPr>
          <a:xfrm>
            <a:off x="6877080" y="2062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6948360" y="307008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>
                  <a:alpha val="61176"/>
                </a:srgbClr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6877080" y="42940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">
            <a:hlinkClick r:id="rId4" action="ppaction://hlinksldjump"/>
          </p:cNvPr>
          <p:cNvSpPr/>
          <p:nvPr/>
        </p:nvSpPr>
        <p:spPr>
          <a:xfrm>
            <a:off x="6877080" y="30700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11280" y="1916280"/>
            <a:ext cx="4103640" cy="39686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364000" y="105264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219640" y="907920"/>
            <a:ext cx="136836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сс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comb dir="vert"/>
  </p:transition>
  <p:timing>
    <p:tnLst>
      <p:par>
        <p:cTn id="298" dur="indefinite" restart="never" nodeType="tmRoot">
          <p:childTnLst>
            <p:seq>
              <p:cTn id="29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722600" y="3860640"/>
            <a:ext cx="59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Писать о школе очень трудно,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О классе тоже нелегко.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Писать о перемене чудно!</a:t>
            </a:r>
            <a:br>
              <a:rPr sz="2800"/>
            </a:br>
            <a:r>
              <a:rPr b="1" lang="pl-PL" sz="2800" spc="-1" strike="noStrike">
                <a:solidFill>
                  <a:srgbClr val="ffff00"/>
                </a:solidFill>
                <a:latin typeface="Georgia"/>
              </a:rPr>
              <a:t>Легко, забавно и смешно!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1587960" y="907200"/>
            <a:ext cx="638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Школьная комната для занятий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1116000" y="1411560"/>
            <a:ext cx="7675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Группа учеников, учащихся одного и того же года обучения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1" name=""/>
          <p:cNvSpPr/>
          <p:nvPr/>
        </p:nvSpPr>
        <p:spPr>
          <a:xfrm>
            <a:off x="1220400" y="2132640"/>
            <a:ext cx="6612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Georgia"/>
              </a:rPr>
              <a:t>Степень, уровень чего-нибудь, ранг N1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371628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62064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067280" y="981000"/>
            <a:ext cx="1585800" cy="1582920"/>
            <a:chOff x="4067280" y="981000"/>
            <a:chExt cx="1585800" cy="1582920"/>
          </a:xfrm>
        </p:grpSpPr>
        <p:sp>
          <p:nvSpPr>
            <p:cNvPr id="356" name=""/>
            <p:cNvSpPr/>
            <p:nvPr/>
          </p:nvSpPr>
          <p:spPr>
            <a:xfrm>
              <a:off x="4067280" y="98100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89320" y="109872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72000" y="166392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00520" y="131616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95640" y="4149720"/>
            <a:ext cx="1585800" cy="1582920"/>
            <a:chOff x="3995640" y="4149720"/>
            <a:chExt cx="1585800" cy="1582920"/>
          </a:xfrm>
        </p:grpSpPr>
        <p:sp>
          <p:nvSpPr>
            <p:cNvPr id="361" name=""/>
            <p:cNvSpPr/>
            <p:nvPr/>
          </p:nvSpPr>
          <p:spPr>
            <a:xfrm>
              <a:off x="3995640" y="41497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7680" y="42674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00360" y="48326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8880" y="44848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402200" y="284040"/>
            <a:ext cx="7319160" cy="1434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00"/>
                </a:solidFill>
                <a:latin typeface="Georgia"/>
              </a:rPr>
              <a:t>Б   бл     тека</a:t>
            </a:r>
            <a:endParaRPr b="0" lang="en-US" sz="8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411280" y="836640"/>
            <a:ext cx="6480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43280" y="836640"/>
            <a:ext cx="64800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64000" y="83664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о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369" name=""/>
          <p:cNvSpPr/>
          <p:nvPr/>
        </p:nvSpPr>
        <p:spPr>
          <a:xfrm>
            <a:off x="2484360" y="90792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0" name=""/>
          <p:cNvSpPr/>
          <p:nvPr/>
        </p:nvSpPr>
        <p:spPr>
          <a:xfrm>
            <a:off x="4643280" y="90792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1" name=""/>
          <p:cNvSpPr/>
          <p:nvPr/>
        </p:nvSpPr>
        <p:spPr>
          <a:xfrm>
            <a:off x="5364000" y="90792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>
            <a:off x="702000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4" name="">
            <a:hlinkClick r:id="rId2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6" name="">
            <a:hlinkClick r:id="rId3" action="ppaction://hlinksldjump"/>
          </p:cNvPr>
          <p:cNvSpPr/>
          <p:nvPr/>
        </p:nvSpPr>
        <p:spPr>
          <a:xfrm>
            <a:off x="694836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7" name="">
            <a:hlinkClick r:id="rId4" action="ppaction://hlinksldjump"/>
          </p:cNvPr>
          <p:cNvSpPr/>
          <p:nvPr/>
        </p:nvSpPr>
        <p:spPr>
          <a:xfrm>
            <a:off x="6948360" y="306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755640" y="1916280"/>
            <a:ext cx="5394240" cy="4046400"/>
          </a:xfrm>
          <a:prstGeom prst="rect">
            <a:avLst/>
          </a:prstGeom>
          <a:ln w="76320">
            <a:solidFill>
              <a:srgbClr val="ff7d25"/>
            </a:solidFill>
            <a:miter/>
          </a:ln>
        </p:spPr>
      </p:pic>
    </p:spTree>
  </p:cSld>
  <p:transition>
    <p:comb dir="vert"/>
  </p:transition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5280" y="335412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Не понятно человеку - он идёт в библиотеку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Интересно человеку - он идёт в библиотеку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Что-то важно человеку - он идёт в библиотеку..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Он задумчивый мечтатель или будущий поэт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Афоризмов собиратель или жаждущий эстет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Здесь встречают всех радушно,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Объясняют если нужно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И за свой умнейший труд золотых наград не ждут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0" name=""/>
          <p:cNvSpPr/>
          <p:nvPr/>
        </p:nvSpPr>
        <p:spPr>
          <a:xfrm>
            <a:off x="250920" y="9054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Учреждение, собирающее и хранящее произведения печати и письменности для общественного пользования, а также осуществляющее справочно-библиографическую работу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"/>
          <p:cNvSpPr/>
          <p:nvPr/>
        </p:nvSpPr>
        <p:spPr>
          <a:xfrm>
            <a:off x="501480" y="620640"/>
            <a:ext cx="86425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383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50920" y="3500280"/>
            <a:ext cx="8604000" cy="280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995640" y="4005360"/>
            <a:ext cx="1585800" cy="1582560"/>
            <a:chOff x="3995640" y="4005360"/>
            <a:chExt cx="1585800" cy="1582560"/>
          </a:xfrm>
        </p:grpSpPr>
        <p:sp>
          <p:nvSpPr>
            <p:cNvPr id="389" name=""/>
            <p:cNvSpPr/>
            <p:nvPr/>
          </p:nvSpPr>
          <p:spPr>
            <a:xfrm>
              <a:off x="3995640" y="4005360"/>
              <a:ext cx="1585800" cy="158256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17680" y="4122720"/>
              <a:ext cx="1371600" cy="136944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0360" y="4687920"/>
              <a:ext cx="606240" cy="62496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28880" y="4340160"/>
              <a:ext cx="322200" cy="320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393" name="">
            <a:hlinkClick r:id="rId1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7d25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84360" y="54396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. Поставь  в слове знак ударения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Раздели слово для переноса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дели слово на слоги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4. Подбери к слову однокоренные слова, запиши их, выдели корень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5. Подбери к слову однокоренные слова, разбери их по составу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6. Запиши транскрипцию слова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7. Составь и запиши предложение с данным словом, сделай синтаксический разбор предложения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8. Сделай фонетический разбор слова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9. Составь и напиши с данным словом словосочетания (прил. +  сущ.)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324000" y="198900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324000" y="263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324000" y="3429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324000" y="3789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324000" y="4508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9"/>
          <a:stretch/>
        </p:blipFill>
        <p:spPr>
          <a:xfrm>
            <a:off x="324000" y="4869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404" name="">
            <a:hlinkClick r:id="rId10"/>
          </p:cNvPr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76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4869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7" name=""/>
          <p:cNvSpPr/>
          <p:nvPr/>
        </p:nvSpPr>
        <p:spPr>
          <a:xfrm>
            <a:off x="324000" y="4437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3789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3357720"/>
            <a:ext cx="288720" cy="288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>
            <a:off x="324000" y="2637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32400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d676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378" dur="indefinite" restart="never" nodeType="tmRoot">
          <p:childTnLst>
            <p:seq>
              <p:cTn id="379" restart="whenNotActive" nodeType="interactiveSeq" fill="hold">
                <p:stCondLst>
                  <p:cond evt="onClick">
                    <p:tgtEl>
                      <p:spTgt spid="405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405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420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500040" y="2365200"/>
            <a:ext cx="81439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МОЛОДЦЫ!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37920" y="1989000"/>
            <a:ext cx="75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"/>
              </a:rPr>
              <a:t>http://inmenso.ru/components/com_virtuemart/shop_image/product/289826.jp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тетрадь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263700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2"/>
              </a:rPr>
              <a:t>http://magie.com.ua/images/upload/Image/%D0%9A%D0%B0%D1%80%D0%B0%D0%BD%D0%B4%D0%B0%D1%88%20%D0%B4%D0%BB%D1%8F%20%D0%B3%D0%BB%D0%B0%D0%B7%20%D0%B8%20%D0%B3%D1%83%D0%B1.jp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карандаши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57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3"/>
              </a:rPr>
              <a:t>http://t0.gstatic.com/images?q=tbn:ANd9GcSa5-w9eSny9S6wQBl2F7-zdKkBaoN1yrY6HLSj5KW1GGVrdsp_Jw&amp;t=1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пенал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8" name=""/>
          <p:cNvSpPr/>
          <p:nvPr/>
        </p:nvSpPr>
        <p:spPr>
          <a:xfrm>
            <a:off x="14400" y="4149720"/>
            <a:ext cx="72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4"/>
              </a:rPr>
              <a:t>http://www.tvoyrebenok.ru/school-accs.shtml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стихи о тетради, карандаше, пенале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437000"/>
            <a:ext cx="90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5"/>
              </a:rPr>
              <a:t>http://oraznom.net/index.php?option=com_content&amp;view=article&amp;id=54%3Astihi&amp;catid=35%3Aklass-&amp;Itemid=1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– стихи о классе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18000" y="4941720"/>
            <a:ext cx="70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6"/>
              </a:rPr>
              <a:t>http://www.fun4child.ru/detskie-stihi/prazdnichnye-stikhi/page/2/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стих. об ученице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1" name=""/>
          <p:cNvSpPr/>
          <p:nvPr/>
        </p:nvSpPr>
        <p:spPr>
          <a:xfrm>
            <a:off x="18720" y="515772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7"/>
              </a:rPr>
              <a:t>http://www.det-sad.com/detskie_stixi_k23_fevralia_malchikam-papam-dedushka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стих. о мальчиках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2" name=""/>
          <p:cNvSpPr/>
          <p:nvPr/>
        </p:nvSpPr>
        <p:spPr>
          <a:xfrm>
            <a:off x="22680" y="5373720"/>
            <a:ext cx="67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8"/>
              </a:rPr>
              <a:t>http://blogs.mail.ru/mail/rina.65/4D27B34B0BB32A25.html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стих. о библиотеке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>
            <a:off x="21960" y="5661000"/>
            <a:ext cx="54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9"/>
              </a:rPr>
              <a:t>http://s41.radikal.ru/i091/0811/a6/c941500be00a.pn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мальчик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>
            <a:off x="23760" y="5950080"/>
            <a:ext cx="53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0"/>
              </a:rPr>
              <a:t>http://s39.radikal.ru/i085/1005/24/11bab8d57c7f.pn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девочк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27720" y="623736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1"/>
              </a:rPr>
              <a:t>http://img1.liveinternet.ru/images/attach/c/2//69/490/69490770_07.pn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учениц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6" name=""/>
          <p:cNvSpPr/>
          <p:nvPr/>
        </p:nvSpPr>
        <p:spPr>
          <a:xfrm>
            <a:off x="21240" y="6491160"/>
            <a:ext cx="55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2"/>
              </a:rPr>
              <a:t>http://planetashkol.ru/upload/iblock/3e0/denu4itelya.jp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учитель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709560" y="2349360"/>
            <a:ext cx="70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 Narrow"/>
                <a:hlinkClick r:id="rId13"/>
              </a:rPr>
              <a:t>http://www.infokniga.ru/wp-content/gallery/181bibl/dhdhdhdh-181.jpg</a:t>
            </a:r>
            <a:r>
              <a:rPr b="0" lang="ru-RU" sz="1800" spc="-1" strike="noStrike">
                <a:solidFill>
                  <a:srgbClr val="ffffcc"/>
                </a:solidFill>
                <a:latin typeface="Arial Narrow"/>
              </a:rPr>
              <a:t> - библиотек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8" name=""/>
          <p:cNvSpPr/>
          <p:nvPr/>
        </p:nvSpPr>
        <p:spPr>
          <a:xfrm>
            <a:off x="1833120" y="836640"/>
            <a:ext cx="617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Интернет-ресурсы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9" name=""/>
          <p:cNvSpPr/>
          <p:nvPr/>
        </p:nvSpPr>
        <p:spPr>
          <a:xfrm>
            <a:off x="616320" y="1700280"/>
            <a:ext cx="68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"/>
                <a:hlinkClick r:id="rId14"/>
              </a:rPr>
              <a:t>http://doshkolnik.info/klass/slova.htm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- стихотворение Берестова</a:t>
            </a:r>
            <a:endParaRPr b="0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26920" y="1916280"/>
            <a:ext cx="280836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Тетрадь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1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Карандаш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Пенал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Девочка</a:t>
            </a:r>
            <a:r>
              <a:rPr b="0" lang="ru-RU" sz="3200" spc="-1" strike="noStrike" u="sng">
                <a:solidFill>
                  <a:srgbClr val="cc6600"/>
                </a:solidFill>
                <a:uFillTx/>
                <a:latin typeface="Georgia"/>
                <a:hlinkClick r:id="rId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Мальчик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Учениц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1916280"/>
            <a:ext cx="331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Учитель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Ребят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Дежурный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Класс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Georgia"/>
              </a:rPr>
              <a:t>Библиотека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">
            <a:hlinkClick r:id="rId3"/>
          </p:cNvPr>
          <p:cNvSpPr/>
          <p:nvPr/>
        </p:nvSpPr>
        <p:spPr>
          <a:xfrm>
            <a:off x="38512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9966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7d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2195640" y="62064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«Школа»</a:t>
            </a: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091280" y="4076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cc00">
                  <a:alpha val="61176"/>
                </a:srgbClr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7d25"/>
            </a:solidFill>
            <a:miter/>
          </a:ln>
          <a:effectLst>
            <a:outerShdw dist="153753" dir="2700000" blurRad="0" rotWithShape="0">
              <a:srgbClr val="984a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7091280" y="191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cc00">
                  <a:alpha val="61176"/>
                </a:srgbClr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7d25"/>
            </a:solidFill>
            <a:miter/>
          </a:ln>
          <a:effectLst>
            <a:outerShdw dist="153753" dir="2700000" blurRad="0" rotWithShape="0">
              <a:srgbClr val="984a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2124000" y="476280"/>
            <a:ext cx="55468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c00"/>
                </a:solidFill>
                <a:latin typeface="Georgia"/>
              </a:rPr>
              <a:t>т   традь</a:t>
            </a:r>
            <a:endParaRPr b="0" lang="en-US" sz="8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7020000" y="198900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7091280" y="299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cc00">
                  <a:alpha val="61176"/>
                </a:srgbClr>
              </a:gs>
              <a:gs pos="100000">
                <a:srgbClr val="cc6600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7d25"/>
            </a:solidFill>
            <a:miter/>
          </a:ln>
          <a:effectLst>
            <a:outerShdw dist="153753" dir="2700000" blurRad="0" rotWithShape="0">
              <a:srgbClr val="984a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7020000" y="4221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7020000" y="299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12536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03640" y="1052640"/>
            <a:ext cx="64764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71680" y="1859040"/>
            <a:ext cx="3736800" cy="3736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339228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Тетради в портфеле шуршали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Что в жизни важнее, решали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Тетрадка в линейку бормочет: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- Грамматика!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А в клетку тетрадка ворчит: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- Математика!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На чем примирились тетрадка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с </a:t>
            </a: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тетрадкой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Для нас до сих пор остается загадкой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064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Сшитые листы чистой бумаги в обложке.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124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11280" y="3284640"/>
            <a:ext cx="8208720" cy="3313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924360" y="4149720"/>
            <a:ext cx="1585800" cy="1582920"/>
            <a:chOff x="3924360" y="4149720"/>
            <a:chExt cx="1585800" cy="1582920"/>
          </a:xfrm>
        </p:grpSpPr>
        <p:sp>
          <p:nvSpPr>
            <p:cNvPr id="130" name=""/>
            <p:cNvSpPr/>
            <p:nvPr/>
          </p:nvSpPr>
          <p:spPr>
            <a:xfrm>
              <a:off x="3924360" y="41497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400" y="42674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29080" y="48326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57600" y="44848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7d25"/>
              </a:gs>
              <a:gs pos="100000">
                <a:srgbClr val="ffff00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75640" y="414828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687564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549360"/>
            <a:ext cx="7128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c00"/>
                </a:solidFill>
                <a:latin typeface="Georgia"/>
              </a:rPr>
              <a:t>к   р </a:t>
            </a:r>
            <a:r>
              <a:rPr b="1" lang="ru-RU" sz="8800" spc="-1" strike="noStrike">
                <a:solidFill>
                  <a:srgbClr val="ffcc00"/>
                </a:solidFill>
                <a:latin typeface="Georgia"/>
                <a:ea typeface="Arial"/>
              </a:rPr>
              <a:t> </a:t>
            </a:r>
            <a:r>
              <a:rPr b="1" lang="ru-RU" sz="8800" spc="-1" strike="noStrike">
                <a:solidFill>
                  <a:srgbClr val="ffcc00"/>
                </a:solidFill>
                <a:latin typeface="Georgia"/>
              </a:rPr>
              <a:t> ндаш</a:t>
            </a:r>
            <a:endParaRPr b="0" lang="en-US" sz="8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">
            <a:hlinkClick r:id="rId2"/>
          </p:cNvPr>
          <p:cNvSpPr/>
          <p:nvPr/>
        </p:nvSpPr>
        <p:spPr>
          <a:xfrm>
            <a:off x="6804000" y="2060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6875640" y="3068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66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6804000" y="429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">
            <a:hlinkClick r:id="rId4"/>
          </p:cNvPr>
          <p:cNvSpPr/>
          <p:nvPr/>
        </p:nvSpPr>
        <p:spPr>
          <a:xfrm>
            <a:off x="6804000" y="306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119700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1125360"/>
            <a:ext cx="503280" cy="50508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11640" y="112536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627280" y="1052640"/>
            <a:ext cx="647640" cy="7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а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24000" y="162864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68200" y="3370680"/>
            <a:ext cx="472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Я - малютка-карандашик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Исписал я сто бумажек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А когда я начинал,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То с трудом влезал в пенал.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Школьник пишет. И растёт!</a:t>
            </a:r>
            <a:br>
              <a:rPr sz="2400"/>
            </a:br>
            <a:r>
              <a:rPr b="1" lang="pl-PL" sz="2400" spc="-1" strike="noStrike">
                <a:solidFill>
                  <a:srgbClr val="ffff00"/>
                </a:solidFill>
                <a:latin typeface="Georgia"/>
              </a:rPr>
              <a:t>Ну а я - наоборот!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981000"/>
            <a:ext cx="7669440" cy="1800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Письменная принадлежность – деревянная палочка с графитовым стержнем, употребляемые для письма, рисования, черчения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2064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780000" y="979560"/>
            <a:ext cx="1585800" cy="1582560"/>
            <a:chOff x="3780000" y="979560"/>
            <a:chExt cx="1585800" cy="1582560"/>
          </a:xfrm>
        </p:grpSpPr>
        <p:sp>
          <p:nvSpPr>
            <p:cNvPr id="151" name=""/>
            <p:cNvSpPr/>
            <p:nvPr/>
          </p:nvSpPr>
          <p:spPr>
            <a:xfrm>
              <a:off x="3780000" y="979560"/>
              <a:ext cx="1585800" cy="158256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02040" y="1096920"/>
              <a:ext cx="1371600" cy="136944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84720" y="1662120"/>
              <a:ext cx="606240" cy="62496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3240" y="1314360"/>
              <a:ext cx="322200" cy="32040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9640" y="3355920"/>
            <a:ext cx="820908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780000" y="3716280"/>
            <a:ext cx="1585800" cy="1582920"/>
            <a:chOff x="3780000" y="3716280"/>
            <a:chExt cx="1585800" cy="1582920"/>
          </a:xfrm>
        </p:grpSpPr>
        <p:sp>
          <p:nvSpPr>
            <p:cNvPr id="157" name=""/>
            <p:cNvSpPr/>
            <p:nvPr/>
          </p:nvSpPr>
          <p:spPr>
            <a:xfrm>
              <a:off x="3780000" y="371628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02040" y="383400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84720" y="439920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3240" y="405144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7d25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p:transition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020000" y="429264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020000" y="19875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404640"/>
            <a:ext cx="52563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п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  <a:ea typeface="Arial"/>
              </a:rPr>
              <a:t> </a:t>
            </a:r>
            <a:r>
              <a:rPr b="1" lang="ru-RU" sz="9600" spc="-1" strike="noStrike">
                <a:solidFill>
                  <a:srgbClr val="ffcc00"/>
                </a:solidFill>
                <a:latin typeface="Georgia"/>
              </a:rPr>
              <a:t> нал</a:t>
            </a:r>
            <a:endParaRPr b="0" lang="en-US" sz="9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6948360" y="2060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6948360" y="44355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7020000" y="3139920"/>
            <a:ext cx="165564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ffff00"/>
              </a:gs>
              <a:gs pos="100000">
                <a:srgbClr val="ff7d25">
                  <a:alpha val="61176"/>
                </a:srgbClr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ff9966"/>
            </a:solidFill>
            <a:miter/>
          </a:ln>
          <a:effectLst>
            <a:outerShdw dist="153753" dir="2700000" blurRad="0" rotWithShape="0">
              <a:srgbClr val="985b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1197000"/>
            <a:ext cx="503280" cy="504720"/>
          </a:xfrm>
          <a:prstGeom prst="ellipse">
            <a:avLst/>
          </a:prstGeom>
          <a:solidFill>
            <a:srgbClr val="2c2c42"/>
          </a:solidFill>
          <a:ln w="9360">
            <a:solidFill>
              <a:srgbClr val="2c2c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24360" y="98100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66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е</a:t>
            </a:r>
            <a:endParaRPr b="1" lang="en-US" sz="2400" spc="1" strike="noStrike">
              <a:ln w="9360">
                <a:solidFill>
                  <a:srgbClr val="ff9966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6948360" y="313992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684360" y="1844640"/>
            <a:ext cx="3958920" cy="39592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50000">
              <a:srgbClr val="5f5f5f"/>
            </a:gs>
            <a:gs pos="100000">
              <a:srgbClr val="3f3f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72880" y="3643920"/>
            <a:ext cx="614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Georgia"/>
              </a:rPr>
              <a:t>Карандаш в пенале мается,</a:t>
            </a:r>
            <a:br>
              <a:rPr sz="3200"/>
            </a:br>
            <a:r>
              <a:rPr b="1" lang="pl-PL" sz="3200" spc="-1" strike="noStrike">
                <a:solidFill>
                  <a:srgbClr val="ffff00"/>
                </a:solidFill>
                <a:latin typeface="Georgia"/>
              </a:rPr>
              <a:t>Но зато он не ломается,</a:t>
            </a:r>
            <a:br>
              <a:rPr sz="3200"/>
            </a:br>
            <a:r>
              <a:rPr b="1" lang="pl-PL" sz="3200" spc="-1" strike="noStrike">
                <a:solidFill>
                  <a:srgbClr val="ffff00"/>
                </a:solidFill>
                <a:latin typeface="Georgia"/>
              </a:rPr>
              <a:t>Ручка в тесноте находится,</a:t>
            </a:r>
            <a:br>
              <a:rPr sz="3200"/>
            </a:br>
            <a:r>
              <a:rPr b="1" lang="pl-PL" sz="3200" spc="-1" strike="noStrike">
                <a:solidFill>
                  <a:srgbClr val="ffff00"/>
                </a:solidFill>
                <a:latin typeface="Georgia"/>
              </a:rPr>
              <a:t>Но зато легко находится. 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900000" y="620640"/>
            <a:ext cx="7777440" cy="2013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Длинная коробочка, футляр для хранения  ручек, карандашей, перьев и других письменных принадлежностей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Georgia"/>
              </a:rPr>
              <a:t>Вообще вместилище такой формы.</a:t>
            </a:r>
            <a:endParaRPr b="0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101080" y="630864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50000">
                <a:srgbClr val="ff7d25"/>
              </a:gs>
              <a:gs pos="100000">
                <a:srgbClr val="ffff66"/>
              </a:gs>
            </a:gsLst>
            <a:lin ang="5400000"/>
          </a:gradFill>
          <a:ln w="349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549360"/>
            <a:ext cx="8208720" cy="2374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780000" y="907920"/>
            <a:ext cx="1585800" cy="1582920"/>
            <a:chOff x="3780000" y="907920"/>
            <a:chExt cx="1585800" cy="1582920"/>
          </a:xfrm>
        </p:grpSpPr>
        <p:sp>
          <p:nvSpPr>
            <p:cNvPr id="177" name=""/>
            <p:cNvSpPr/>
            <p:nvPr/>
          </p:nvSpPr>
          <p:spPr>
            <a:xfrm>
              <a:off x="3780000" y="9079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2040" y="10256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84720" y="15908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3240" y="12430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11280" y="3357720"/>
            <a:ext cx="8208720" cy="280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708360" y="3933720"/>
            <a:ext cx="1585800" cy="1582920"/>
            <a:chOff x="3708360" y="3933720"/>
            <a:chExt cx="1585800" cy="1582920"/>
          </a:xfrm>
        </p:grpSpPr>
        <p:sp>
          <p:nvSpPr>
            <p:cNvPr id="183" name=""/>
            <p:cNvSpPr/>
            <p:nvPr/>
          </p:nvSpPr>
          <p:spPr>
            <a:xfrm>
              <a:off x="3708360" y="3933720"/>
              <a:ext cx="1585800" cy="1582920"/>
            </a:xfrm>
            <a:custGeom>
              <a:avLst/>
              <a:gdLst/>
              <a:ahLst/>
              <a:rect l="l" t="t" r="r" b="b"/>
              <a:pathLst>
                <a:path w="999" h="997">
                  <a:moveTo>
                    <a:pt x="919" y="997"/>
                  </a:moveTo>
                  <a:lnTo>
                    <a:pt x="936" y="995"/>
                  </a:lnTo>
                  <a:lnTo>
                    <a:pt x="951" y="990"/>
                  </a:lnTo>
                  <a:lnTo>
                    <a:pt x="963" y="983"/>
                  </a:lnTo>
                  <a:lnTo>
                    <a:pt x="975" y="973"/>
                  </a:lnTo>
                  <a:lnTo>
                    <a:pt x="984" y="961"/>
                  </a:lnTo>
                  <a:lnTo>
                    <a:pt x="992" y="949"/>
                  </a:lnTo>
                  <a:lnTo>
                    <a:pt x="996" y="935"/>
                  </a:lnTo>
                  <a:lnTo>
                    <a:pt x="999" y="918"/>
                  </a:lnTo>
                  <a:lnTo>
                    <a:pt x="999" y="79"/>
                  </a:lnTo>
                  <a:lnTo>
                    <a:pt x="996" y="65"/>
                  </a:lnTo>
                  <a:lnTo>
                    <a:pt x="992" y="51"/>
                  </a:lnTo>
                  <a:lnTo>
                    <a:pt x="984" y="36"/>
                  </a:lnTo>
                  <a:lnTo>
                    <a:pt x="975" y="24"/>
                  </a:lnTo>
                  <a:lnTo>
                    <a:pt x="963" y="15"/>
                  </a:lnTo>
                  <a:lnTo>
                    <a:pt x="951" y="7"/>
                  </a:lnTo>
                  <a:lnTo>
                    <a:pt x="936" y="3"/>
                  </a:lnTo>
                  <a:lnTo>
                    <a:pt x="919" y="0"/>
                  </a:lnTo>
                  <a:lnTo>
                    <a:pt x="80" y="0"/>
                  </a:lnTo>
                  <a:lnTo>
                    <a:pt x="65" y="3"/>
                  </a:lnTo>
                  <a:lnTo>
                    <a:pt x="51" y="7"/>
                  </a:lnTo>
                  <a:lnTo>
                    <a:pt x="36" y="15"/>
                  </a:lnTo>
                  <a:lnTo>
                    <a:pt x="24" y="24"/>
                  </a:lnTo>
                  <a:lnTo>
                    <a:pt x="15" y="36"/>
                  </a:lnTo>
                  <a:lnTo>
                    <a:pt x="7" y="51"/>
                  </a:lnTo>
                  <a:lnTo>
                    <a:pt x="3" y="65"/>
                  </a:lnTo>
                  <a:lnTo>
                    <a:pt x="0" y="79"/>
                  </a:lnTo>
                  <a:lnTo>
                    <a:pt x="0" y="918"/>
                  </a:lnTo>
                  <a:lnTo>
                    <a:pt x="3" y="935"/>
                  </a:lnTo>
                  <a:lnTo>
                    <a:pt x="7" y="949"/>
                  </a:lnTo>
                  <a:lnTo>
                    <a:pt x="15" y="961"/>
                  </a:lnTo>
                  <a:lnTo>
                    <a:pt x="24" y="973"/>
                  </a:lnTo>
                  <a:lnTo>
                    <a:pt x="36" y="983"/>
                  </a:lnTo>
                  <a:lnTo>
                    <a:pt x="51" y="990"/>
                  </a:lnTo>
                  <a:lnTo>
                    <a:pt x="65" y="995"/>
                  </a:lnTo>
                  <a:lnTo>
                    <a:pt x="80" y="997"/>
                  </a:lnTo>
                  <a:lnTo>
                    <a:pt x="919" y="99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30400" y="4051440"/>
              <a:ext cx="1371600" cy="1369800"/>
            </a:xfrm>
            <a:custGeom>
              <a:avLst/>
              <a:gdLst/>
              <a:ahLst/>
              <a:rect l="l" t="t" r="r" b="b"/>
              <a:pathLst>
                <a:path w="864" h="863">
                  <a:moveTo>
                    <a:pt x="0" y="0"/>
                  </a:moveTo>
                  <a:lnTo>
                    <a:pt x="0" y="863"/>
                  </a:lnTo>
                  <a:lnTo>
                    <a:pt x="864" y="863"/>
                  </a:lnTo>
                  <a:lnTo>
                    <a:pt x="864" y="0"/>
                  </a:lnTo>
                  <a:lnTo>
                    <a:pt x="0" y="0"/>
                  </a:lnTo>
                  <a:close/>
                  <a:moveTo>
                    <a:pt x="782" y="779"/>
                  </a:moveTo>
                  <a:lnTo>
                    <a:pt x="79" y="779"/>
                  </a:lnTo>
                  <a:lnTo>
                    <a:pt x="79" y="87"/>
                  </a:lnTo>
                  <a:lnTo>
                    <a:pt x="782" y="87"/>
                  </a:lnTo>
                  <a:lnTo>
                    <a:pt x="782" y="77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3080" y="4616640"/>
              <a:ext cx="606240" cy="625320"/>
            </a:xfrm>
            <a:custGeom>
              <a:avLst/>
              <a:gdLst/>
              <a:ahLst/>
              <a:rect l="l" t="t" r="r" b="b"/>
              <a:pathLst>
                <a:path w="382" h="394">
                  <a:moveTo>
                    <a:pt x="0" y="0"/>
                  </a:moveTo>
                  <a:lnTo>
                    <a:pt x="284" y="0"/>
                  </a:lnTo>
                  <a:lnTo>
                    <a:pt x="284" y="12"/>
                  </a:lnTo>
                  <a:lnTo>
                    <a:pt x="284" y="41"/>
                  </a:lnTo>
                  <a:lnTo>
                    <a:pt x="284" y="84"/>
                  </a:lnTo>
                  <a:lnTo>
                    <a:pt x="284" y="134"/>
                  </a:lnTo>
                  <a:lnTo>
                    <a:pt x="284" y="185"/>
                  </a:lnTo>
                  <a:lnTo>
                    <a:pt x="284" y="233"/>
                  </a:lnTo>
                  <a:lnTo>
                    <a:pt x="284" y="269"/>
                  </a:lnTo>
                  <a:lnTo>
                    <a:pt x="284" y="291"/>
                  </a:lnTo>
                  <a:lnTo>
                    <a:pt x="284" y="303"/>
                  </a:lnTo>
                  <a:lnTo>
                    <a:pt x="288" y="317"/>
                  </a:lnTo>
                  <a:lnTo>
                    <a:pt x="293" y="331"/>
                  </a:lnTo>
                  <a:lnTo>
                    <a:pt x="303" y="343"/>
                  </a:lnTo>
                  <a:lnTo>
                    <a:pt x="312" y="355"/>
                  </a:lnTo>
                  <a:lnTo>
                    <a:pt x="327" y="365"/>
                  </a:lnTo>
                  <a:lnTo>
                    <a:pt x="344" y="372"/>
                  </a:lnTo>
                  <a:lnTo>
                    <a:pt x="363" y="375"/>
                  </a:lnTo>
                  <a:lnTo>
                    <a:pt x="363" y="375"/>
                  </a:lnTo>
                  <a:lnTo>
                    <a:pt x="365" y="375"/>
                  </a:lnTo>
                  <a:lnTo>
                    <a:pt x="368" y="375"/>
                  </a:lnTo>
                  <a:lnTo>
                    <a:pt x="373" y="375"/>
                  </a:lnTo>
                  <a:lnTo>
                    <a:pt x="375" y="377"/>
                  </a:lnTo>
                  <a:lnTo>
                    <a:pt x="377" y="379"/>
                  </a:lnTo>
                  <a:lnTo>
                    <a:pt x="380" y="382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80" y="391"/>
                  </a:lnTo>
                  <a:lnTo>
                    <a:pt x="380" y="394"/>
                  </a:lnTo>
                  <a:lnTo>
                    <a:pt x="377" y="394"/>
                  </a:lnTo>
                  <a:lnTo>
                    <a:pt x="375" y="394"/>
                  </a:lnTo>
                  <a:lnTo>
                    <a:pt x="373" y="394"/>
                  </a:lnTo>
                  <a:lnTo>
                    <a:pt x="368" y="394"/>
                  </a:lnTo>
                  <a:lnTo>
                    <a:pt x="363" y="394"/>
                  </a:lnTo>
                  <a:lnTo>
                    <a:pt x="344" y="394"/>
                  </a:lnTo>
                  <a:lnTo>
                    <a:pt x="303" y="394"/>
                  </a:lnTo>
                  <a:lnTo>
                    <a:pt x="250" y="394"/>
                  </a:lnTo>
                  <a:lnTo>
                    <a:pt x="187" y="394"/>
                  </a:lnTo>
                  <a:lnTo>
                    <a:pt x="127" y="394"/>
                  </a:lnTo>
                  <a:lnTo>
                    <a:pt x="72" y="394"/>
                  </a:lnTo>
                  <a:lnTo>
                    <a:pt x="33" y="394"/>
                  </a:lnTo>
                  <a:lnTo>
                    <a:pt x="16" y="394"/>
                  </a:lnTo>
                  <a:lnTo>
                    <a:pt x="12" y="394"/>
                  </a:lnTo>
                  <a:lnTo>
                    <a:pt x="9" y="391"/>
                  </a:lnTo>
                  <a:lnTo>
                    <a:pt x="7" y="389"/>
                  </a:lnTo>
                  <a:lnTo>
                    <a:pt x="4" y="387"/>
                  </a:lnTo>
                  <a:lnTo>
                    <a:pt x="4" y="384"/>
                  </a:lnTo>
                  <a:lnTo>
                    <a:pt x="7" y="382"/>
                  </a:lnTo>
                  <a:lnTo>
                    <a:pt x="12" y="379"/>
                  </a:lnTo>
                  <a:lnTo>
                    <a:pt x="16" y="379"/>
                  </a:lnTo>
                  <a:lnTo>
                    <a:pt x="19" y="379"/>
                  </a:lnTo>
                  <a:lnTo>
                    <a:pt x="29" y="377"/>
                  </a:lnTo>
                  <a:lnTo>
                    <a:pt x="41" y="372"/>
                  </a:lnTo>
                  <a:lnTo>
                    <a:pt x="57" y="365"/>
                  </a:lnTo>
                  <a:lnTo>
                    <a:pt x="72" y="353"/>
                  </a:lnTo>
                  <a:lnTo>
                    <a:pt x="84" y="336"/>
                  </a:lnTo>
                  <a:lnTo>
                    <a:pt x="91" y="327"/>
                  </a:lnTo>
                  <a:lnTo>
                    <a:pt x="94" y="315"/>
                  </a:lnTo>
                  <a:lnTo>
                    <a:pt x="96" y="300"/>
                  </a:lnTo>
                  <a:lnTo>
                    <a:pt x="98" y="286"/>
                  </a:lnTo>
                  <a:lnTo>
                    <a:pt x="98" y="255"/>
                  </a:lnTo>
                  <a:lnTo>
                    <a:pt x="98" y="221"/>
                  </a:lnTo>
                  <a:lnTo>
                    <a:pt x="98" y="192"/>
                  </a:lnTo>
                  <a:lnTo>
                    <a:pt x="98" y="163"/>
                  </a:lnTo>
                  <a:lnTo>
                    <a:pt x="98" y="139"/>
                  </a:lnTo>
                  <a:lnTo>
                    <a:pt x="98" y="120"/>
                  </a:lnTo>
                  <a:lnTo>
                    <a:pt x="98" y="106"/>
                  </a:lnTo>
                  <a:lnTo>
                    <a:pt x="98" y="96"/>
                  </a:lnTo>
                  <a:lnTo>
                    <a:pt x="96" y="91"/>
                  </a:lnTo>
                  <a:lnTo>
                    <a:pt x="94" y="79"/>
                  </a:lnTo>
                  <a:lnTo>
                    <a:pt x="89" y="67"/>
                  </a:lnTo>
                  <a:lnTo>
                    <a:pt x="81" y="53"/>
                  </a:lnTo>
                  <a:lnTo>
                    <a:pt x="69" y="38"/>
                  </a:lnTo>
                  <a:lnTo>
                    <a:pt x="53" y="29"/>
                  </a:lnTo>
                  <a:lnTo>
                    <a:pt x="41" y="24"/>
                  </a:lnTo>
                  <a:lnTo>
                    <a:pt x="31" y="19"/>
                  </a:lnTo>
                  <a:lnTo>
                    <a:pt x="16" y="17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41600" y="4268880"/>
              <a:ext cx="322200" cy="320760"/>
            </a:xfrm>
            <a:custGeom>
              <a:avLst/>
              <a:gdLst/>
              <a:ahLst/>
              <a:rect l="l" t="t" r="r" b="b"/>
              <a:pathLst>
                <a:path w="203" h="202">
                  <a:moveTo>
                    <a:pt x="102" y="202"/>
                  </a:moveTo>
                  <a:lnTo>
                    <a:pt x="123" y="200"/>
                  </a:lnTo>
                  <a:lnTo>
                    <a:pt x="142" y="195"/>
                  </a:lnTo>
                  <a:lnTo>
                    <a:pt x="159" y="185"/>
                  </a:lnTo>
                  <a:lnTo>
                    <a:pt x="174" y="173"/>
                  </a:lnTo>
                  <a:lnTo>
                    <a:pt x="186" y="159"/>
                  </a:lnTo>
                  <a:lnTo>
                    <a:pt x="195" y="140"/>
                  </a:lnTo>
                  <a:lnTo>
                    <a:pt x="200" y="120"/>
                  </a:lnTo>
                  <a:lnTo>
                    <a:pt x="203" y="101"/>
                  </a:lnTo>
                  <a:lnTo>
                    <a:pt x="200" y="80"/>
                  </a:lnTo>
                  <a:lnTo>
                    <a:pt x="195" y="63"/>
                  </a:lnTo>
                  <a:lnTo>
                    <a:pt x="186" y="44"/>
                  </a:lnTo>
                  <a:lnTo>
                    <a:pt x="174" y="29"/>
                  </a:lnTo>
                  <a:lnTo>
                    <a:pt x="159" y="17"/>
                  </a:lnTo>
                  <a:lnTo>
                    <a:pt x="142" y="8"/>
                  </a:lnTo>
                  <a:lnTo>
                    <a:pt x="123" y="3"/>
                  </a:lnTo>
                  <a:lnTo>
                    <a:pt x="102" y="0"/>
                  </a:lnTo>
                  <a:lnTo>
                    <a:pt x="82" y="3"/>
                  </a:lnTo>
                  <a:lnTo>
                    <a:pt x="63" y="8"/>
                  </a:lnTo>
                  <a:lnTo>
                    <a:pt x="46" y="17"/>
                  </a:lnTo>
                  <a:lnTo>
                    <a:pt x="29" y="29"/>
                  </a:lnTo>
                  <a:lnTo>
                    <a:pt x="17" y="44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0" y="101"/>
                  </a:lnTo>
                  <a:lnTo>
                    <a:pt x="3" y="120"/>
                  </a:lnTo>
                  <a:lnTo>
                    <a:pt x="8" y="140"/>
                  </a:lnTo>
                  <a:lnTo>
                    <a:pt x="17" y="159"/>
                  </a:lnTo>
                  <a:lnTo>
                    <a:pt x="29" y="173"/>
                  </a:lnTo>
                  <a:lnTo>
                    <a:pt x="46" y="185"/>
                  </a:lnTo>
                  <a:lnTo>
                    <a:pt x="63" y="195"/>
                  </a:lnTo>
                  <a:lnTo>
                    <a:pt x="82" y="200"/>
                  </a:lnTo>
                  <a:lnTo>
                    <a:pt x="102" y="2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 Narrow"/>
              </a:endParaRPr>
            </a:p>
          </p:txBody>
        </p:sp>
      </p:grpSp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7:12:26Z</dcterms:created>
  <dc:creator>Admin</dc:creator>
  <dc:description/>
  <dc:language>en-US</dc:language>
  <cp:lastModifiedBy>Admin</cp:lastModifiedBy>
  <dcterms:modified xsi:type="dcterms:W3CDTF">2012-06-12T14:07:47Z</dcterms:modified>
  <cp:revision>9</cp:revision>
  <dc:subject/>
  <dc:title>Словарный диктант №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241</vt:lpwstr>
  </property>
  <property fmtid="{D5CDD505-2E9C-101B-9397-08002B2CF9AE}" pid="3" name="APEditor">
    <vt:lpwstr>103</vt:lpwstr>
  </property>
  <property fmtid="{D5CDD505-2E9C-101B-9397-08002B2CF9AE}" pid="4" name="Applications">
    <vt:lpwstr>172;#Office 2000;#-1;#TBD;#-1;#TBD;#-1;#TBD;#-1;#TBD;#-1;#TBD;#-1;#TBD</vt:lpwstr>
  </property>
  <property fmtid="{D5CDD505-2E9C-101B-9397-08002B2CF9AE}" pid="5" name="AssetId">
    <vt:lpwstr>TS001068975</vt:lpwstr>
  </property>
  <property fmtid="{D5CDD505-2E9C-101B-9397-08002B2CF9AE}" pid="6" name="AssetType">
    <vt:lpwstr>TP</vt:lpwstr>
  </property>
  <property fmtid="{D5CDD505-2E9C-101B-9397-08002B2CF9AE}" pid="7" name="AuthoringAssetId">
    <vt:lpwstr>TP001068975</vt:lpwstr>
  </property>
  <property fmtid="{D5CDD505-2E9C-101B-9397-08002B2CF9AE}" pid="8" name="CHMName">
    <vt:lpwstr/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1F9DE411C1B38343BE78B0080F632418</vt:lpwstr>
  </property>
  <property fmtid="{D5CDD505-2E9C-101B-9397-08002B2CF9AE}" pid="11" name="DirectSourceMarket">
    <vt:lpwstr>english</vt:lpwstr>
  </property>
  <property fmtid="{D5CDD505-2E9C-101B-9397-08002B2CF9AE}" pid="12" name="EditorialStatus">
    <vt:lpwstr/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LCID">
    <vt:lpwstr>1049</vt:lpwstr>
  </property>
  <property fmtid="{D5CDD505-2E9C-101B-9397-08002B2CF9AE}" pid="16" name="Markets">
    <vt:lpwstr/>
  </property>
  <property fmtid="{D5CDD505-2E9C-101B-9397-08002B2CF9AE}" pid="17" name="Milestone">
    <vt:lpwstr>Continuous</vt:lpwstr>
  </property>
  <property fmtid="{D5CDD505-2E9C-101B-9397-08002B2CF9AE}" pid="18" name="NumericId">
    <vt:lpwstr>-1.00000000000000</vt:lpwstr>
  </property>
  <property fmtid="{D5CDD505-2E9C-101B-9397-08002B2CF9AE}" pid="19" name="OriginalSourceMarket">
    <vt:lpwstr>english</vt:lpwstr>
  </property>
  <property fmtid="{D5CDD505-2E9C-101B-9397-08002B2CF9AE}" pid="20" name="ParentAssetId">
    <vt:lpwstr/>
  </property>
  <property fmtid="{D5CDD505-2E9C-101B-9397-08002B2CF9AE}" pid="21" name="PrimaryImageGen">
    <vt:lpwstr>1</vt:lpwstr>
  </property>
  <property fmtid="{D5CDD505-2E9C-101B-9397-08002B2CF9AE}" pid="22" name="PublishTargets">
    <vt:lpwstr>OfficeOnline</vt:lpwstr>
  </property>
  <property fmtid="{D5CDD505-2E9C-101B-9397-08002B2CF9AE}" pid="23" name="ShowIn">
    <vt:lpwstr>Show everywhere</vt:lpwstr>
  </property>
  <property fmtid="{D5CDD505-2E9C-101B-9397-08002B2CF9AE}" pid="24" name="SourceTitle">
    <vt:lpwstr>Artsy design template</vt:lpwstr>
  </property>
  <property fmtid="{D5CDD505-2E9C-101B-9397-08002B2CF9AE}" pid="25" name="UACurrentWords">
    <vt:lpwstr>0</vt:lpwstr>
  </property>
  <property fmtid="{D5CDD505-2E9C-101B-9397-08002B2CF9AE}" pid="26" name="UALocComments">
    <vt:lpwstr/>
  </property>
  <property fmtid="{D5CDD505-2E9C-101B-9397-08002B2CF9AE}" pid="27" name="UALocRecommendation">
    <vt:lpwstr>Localize</vt:lpwstr>
  </property>
  <property fmtid="{D5CDD505-2E9C-101B-9397-08002B2CF9AE}" pid="28" name="UANotes">
    <vt:lpwstr>LEGACY PPTDT. 421488L. June 2003 retrofit</vt:lpwstr>
  </property>
  <property fmtid="{D5CDD505-2E9C-101B-9397-08002B2CF9AE}" pid="29" name="Version">
    <vt:r8>1</vt:r8>
  </property>
  <property fmtid="{D5CDD505-2E9C-101B-9397-08002B2CF9AE}" pid="30" name="display_urn:schemas-microsoft-com:office:office#APAuthor">
    <vt:lpwstr>REDMOND\cynvey</vt:lpwstr>
  </property>
  <property fmtid="{D5CDD505-2E9C-101B-9397-08002B2CF9AE}" pid="31" name="display_urn:schemas-microsoft-com:office:office#APEditor">
    <vt:lpwstr>REDMOND\v-luannv</vt:lpwstr>
  </property>
</Properties>
</file>