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gif" ContentType="image/gif"/>
  <Override PartName="/ppt/media/image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E55-708C-415F-9B73-29254CC7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BA2-4C3E-452F-AFDC-883DF6D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E91-25EF-4CED-A72A-7EF045F4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70A-DED8-4A7C-B057-2F1A5B7B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5EED-4DEA-40F0-8D2D-7DF3196A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4FBD-3DEC-4702-A7BA-6856253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6AE4-3357-44B4-9DF9-31CC5600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AFE1-AA43-4484-A078-BF69A0E1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F760-5AC3-46D9-89C4-5B009E9E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1FBE-54BD-4608-941C-0DA63FC3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DF6A-7864-4267-B895-5870D8C4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66F-FF97-4771-93F3-801E1503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6C49-297A-497E-A3DC-6A9B7FC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1D59-ED9E-4093-BAD2-FC4C8EB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18CF-2E1B-4BD5-AA92-18C497FD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586D-9791-4243-AED5-F4C7B413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F239-EE1B-4AFF-A959-980675A7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A66-D7C4-494B-AA1F-C4D0DA33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ED2-4737-4617-8FF0-69A09753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04B-A03A-461A-ADBE-89432D3D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5DD-B8E7-4178-970C-885033B2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A55-259A-498E-82D7-C704A71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882-7ABB-4170-B8EC-DE433B47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003-2F72-42BB-90DA-2F78E2DF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8839080" y="1828800"/>
              <a:ext cx="304920" cy="5029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90920" y="1828800"/>
              <a:ext cx="6248160" cy="50292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pic>
          <p:nvPicPr>
            <p:cNvPr id="4" name="ARTBANNA" descr=""/>
            <p:cNvPicPr/>
            <p:nvPr/>
          </p:nvPicPr>
          <p:blipFill>
            <a:blip r:embed="rId2"/>
            <a:stretch/>
          </p:blipFill>
          <p:spPr>
            <a:xfrm>
              <a:off x="2743200" y="0"/>
              <a:ext cx="5715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ARTBANND" descr="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ARTHSEPA" descr=""/>
            <p:cNvPicPr/>
            <p:nvPr/>
          </p:nvPicPr>
          <p:blipFill>
            <a:blip r:embed="rId4"/>
            <a:stretch/>
          </p:blipFill>
          <p:spPr>
            <a:xfrm>
              <a:off x="228600" y="175248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B28F-2768-4CB6-BEA8-7F0F27EEBDCF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"/>
            <p:cNvSpPr/>
            <p:nvPr/>
          </p:nvSpPr>
          <p:spPr>
            <a:xfrm>
              <a:off x="8839080" y="3429000"/>
              <a:ext cx="304920" cy="34290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0920" y="3429000"/>
              <a:ext cx="6248160" cy="34290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pic>
          <p:nvPicPr>
            <p:cNvPr id="53" name="ARTBANNA" descr=""/>
            <p:cNvPicPr/>
            <p:nvPr/>
          </p:nvPicPr>
          <p:blipFill>
            <a:blip r:embed="rId2"/>
            <a:srcRect l="0" t="0" r="58457" b="0"/>
            <a:stretch/>
          </p:blipFill>
          <p:spPr>
            <a:xfrm>
              <a:off x="2590920" y="0"/>
              <a:ext cx="655308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ARTBANND" descr="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ARTHSEPA" descr=""/>
            <p:cNvPicPr/>
            <p:nvPr/>
          </p:nvPicPr>
          <p:blipFill>
            <a:blip r:embed="rId4"/>
            <a:stretch/>
          </p:blipFill>
          <p:spPr>
            <a:xfrm>
              <a:off x="380880" y="320040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4ECA-971D-41D8-ACAB-E310A378A24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slide" Target="slide26.xml"/><Relationship Id="rId4" Type="http://schemas.openxmlformats.org/officeDocument/2006/relationships/slide" Target="slide1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3.xml"/><Relationship Id="rId3" Type="http://schemas.openxmlformats.org/officeDocument/2006/relationships/slide" Target="slide26.xml"/><Relationship Id="rId4" Type="http://schemas.openxmlformats.org/officeDocument/2006/relationships/slide" Target="slide13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5.xml"/><Relationship Id="rId3" Type="http://schemas.openxmlformats.org/officeDocument/2006/relationships/slide" Target="slide26.xml"/><Relationship Id="rId4" Type="http://schemas.openxmlformats.org/officeDocument/2006/relationships/slide" Target="slide15.xml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7.xml"/><Relationship Id="rId3" Type="http://schemas.openxmlformats.org/officeDocument/2006/relationships/slide" Target="slide26.xml"/><Relationship Id="rId4" Type="http://schemas.openxmlformats.org/officeDocument/2006/relationships/slide" Target="slide17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9.xml"/><Relationship Id="rId3" Type="http://schemas.openxmlformats.org/officeDocument/2006/relationships/slide" Target="slide26.xml"/><Relationship Id="rId4" Type="http://schemas.openxmlformats.org/officeDocument/2006/relationships/slide" Target="slide19.xml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7;&#1083;&#1086;&#1074;&#1072;&#1088;&#1100;%20&#1064;&#1082;&#1086;&#1083;&#1072;%20.ppt#4. &#1057;&#1083;&#1072;&#1081;&#1076; 4" TargetMode="External"/><Relationship Id="rId2" Type="http://schemas.openxmlformats.org/officeDocument/2006/relationships/hyperlink" Target="file:///&#1057;&#1083;&#1086;&#1074;&#1072;&#1088;&#1100;%202&#1082;&#1083;.%20&#1046;&#1080;&#1074;&#1086;&#1090;&#1085;&#1099;&#1077;.ppt#2. &#1057;&#1083;&#1072;&#1081;&#1076; 2" TargetMode="External"/><Relationship Id="rId3" Type="http://schemas.openxmlformats.org/officeDocument/2006/relationships/hyperlink" Target="file:///&#1057;&#1083;&#1086;&#1074;&#1072;&#1088;&#1100;%20&#1064;&#1082;&#1086;&#1083;&#1072;%20.ppt#6. &#1057;&#1083;&#1072;&#1081;&#1076; 6" TargetMode="External"/><Relationship Id="rId4" Type="http://schemas.openxmlformats.org/officeDocument/2006/relationships/hyperlink" Target="file:///&#1057;&#1083;&#1086;&#1074;&#1072;&#1088;&#1100;%20&#1064;&#1082;&#1086;&#1083;&#1072;%20.ppt#8. &#1057;&#1083;&#1072;&#1081;&#1076; 8" TargetMode="External"/><Relationship Id="rId5" Type="http://schemas.openxmlformats.org/officeDocument/2006/relationships/hyperlink" Target="file:///&#1057;&#1083;&#1086;&#1074;&#1072;&#1088;&#1100;%20&#1064;&#1082;&#1086;&#1083;&#1072;%20.ppt#10. &#1057;&#1083;&#1072;&#1081;&#1076; 10" TargetMode="External"/><Relationship Id="rId6" Type="http://schemas.openxmlformats.org/officeDocument/2006/relationships/hyperlink" Target="file:///&#1057;&#1083;&#1086;&#1074;&#1072;&#1088;&#1100;%202&#1082;&#1083;.%20&#1046;&#1080;&#1074;&#1086;&#1090;&#1085;&#1099;&#1077;.ppt#10. &#1057;&#1083;&#1072;&#1081;&#1076; 10" TargetMode="External"/><Relationship Id="rId7" Type="http://schemas.openxmlformats.org/officeDocument/2006/relationships/hyperlink" Target="file:///&#1057;&#1083;&#1086;&#1074;&#1072;&#1088;&#1100;%20&#1064;&#1082;&#1086;&#1083;&#1072;%20.ppt#12. &#1057;&#1083;&#1072;&#1081;&#1076; 12" TargetMode="External"/><Relationship Id="rId8" Type="http://schemas.openxmlformats.org/officeDocument/2006/relationships/hyperlink" Target="file:///&#1057;&#1083;&#1086;&#1074;&#1072;&#1088;&#1100;%20&#1064;&#1082;&#1086;&#1083;&#1072;%20.ppt#14. &#1057;&#1083;&#1072;&#1081;&#1076; 14" TargetMode="External"/><Relationship Id="rId9" Type="http://schemas.openxmlformats.org/officeDocument/2006/relationships/hyperlink" Target="file:///&#1057;&#1083;&#1086;&#1074;&#1072;&#1088;&#1100;%20&#1064;&#1082;&#1086;&#1083;&#1072;%20.ppt#16. &#1057;&#1083;&#1072;&#1081;&#1076; 16" TargetMode="External"/><Relationship Id="rId10" Type="http://schemas.openxmlformats.org/officeDocument/2006/relationships/hyperlink" Target="file:///&#1057;&#1083;&#1086;&#1074;&#1072;&#1088;&#1100;%20&#1064;&#1082;&#1086;&#1083;&#1072;%20.ppt#18. &#1057;&#1083;&#1072;&#1081;&#1076; 18" TargetMode="External"/><Relationship Id="rId11" Type="http://schemas.openxmlformats.org/officeDocument/2006/relationships/hyperlink" Target="file:///&#1057;&#1083;&#1086;&#1074;&#1072;&#1088;&#1100;%20&#1064;&#1082;&#1086;&#1083;&#1072;%20.ppt#20. &#1057;&#1083;&#1072;&#1081;&#1076; 20" TargetMode="External"/><Relationship Id="rId12" Type="http://schemas.openxmlformats.org/officeDocument/2006/relationships/hyperlink" Target="file:///&#1057;&#1083;&#1086;&#1074;&#1072;&#1088;&#1100;%20&#1064;&#1082;&#1086;&#1083;&#1072;%20.ppt#22. &#1057;&#1083;&#1072;&#1081;&#1076; 22" TargetMode="External"/><Relationship Id="rId13" Type="http://schemas.openxmlformats.org/officeDocument/2006/relationships/hyperlink" Target="file:///&#1057;&#1083;&#1086;&#1074;&#1072;&#1088;&#1100;%20&#1064;&#1082;&#1086;&#1083;&#1072;%20.ppt#24. &#1057;&#1083;&#1072;&#1081;&#1076; 24" TargetMode="External"/><Relationship Id="rId14" Type="http://schemas.openxmlformats.org/officeDocument/2006/relationships/hyperlink" Target="file:///&#1057;&#1083;&#1086;&#1074;&#1072;&#1088;&#1100;%20&#1064;&#1082;&#1086;&#1083;&#1072;%20.ppt#24. &#1057;&#1083;&#1072;&#1081;&#1076; 24" TargetMode="External"/><Relationship Id="rId15" Type="http://schemas.openxmlformats.org/officeDocument/2006/relationships/hyperlink" Target="file:///&#1057;&#1083;&#1086;&#1074;&#1072;&#1088;&#1100;%20&#1064;&#1082;&#1086;&#1083;&#1072;%20.ppt#24. &#1057;&#1083;&#1072;&#1081;&#1076; 24" TargetMode="External"/><Relationship Id="rId16" Type="http://schemas.openxmlformats.org/officeDocument/2006/relationships/slide" Target=""/><Relationship Id="rId17" Type="http://schemas.openxmlformats.org/officeDocument/2006/relationships/hyperlink" Target="file:///&#1057;&#1083;&#1086;&#1074;&#1072;&#1088;&#1100;%20&#1064;&#1082;&#1086;&#1083;&#1072;%20.ppt" TargetMode="External"/><Relationship Id="rId18" Type="http://schemas.openxmlformats.org/officeDocument/2006/relationships/slide" Target="slide13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21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" Target="slide23.xm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hyperlink" Target="file:///&#1057;&#1083;&#1086;&#1074;&#1072;&#1088;&#1100;%20&#1064;&#1082;&#1086;&#1083;&#1072;%20.ppt" TargetMode="External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nmenso.ru/components/com_virtuemart/shop_image/product/289826.jpg" TargetMode="External"/><Relationship Id="rId2" Type="http://schemas.openxmlformats.org/officeDocument/2006/relationships/hyperlink" Target="http://magie.com.ua/images/upload/Image/&#1050;&#1072;&#1088;&#1072;&#1085;&#1076;&#1072;&#1096;%20&#1076;&#1083;&#1103;%20&#1075;&#1083;&#1072;&#1079;%20&#1080;%20&#1075;&#1091;&#1073;.jpg" TargetMode="External"/><Relationship Id="rId3" Type="http://schemas.openxmlformats.org/officeDocument/2006/relationships/hyperlink" Target="http://t0.gstatic.com/images?q=tbn:ANd9GcSa5-w9eSny9S6wQBl2F7-zdKkBaoN1yrY6HLSj5KW1GGVrdsp_Jw&amp;t=1" TargetMode="External"/><Relationship Id="rId4" Type="http://schemas.openxmlformats.org/officeDocument/2006/relationships/hyperlink" Target="http://www.tvoyrebenok.ru/school-accs.shtml" TargetMode="External"/><Relationship Id="rId5" Type="http://schemas.openxmlformats.org/officeDocument/2006/relationships/hyperlink" Target="http://oraznom.net/index.php?option=com_content&amp;view=article&amp;id=54%3Astihi&amp;catid=35%3Aklass-&amp;Itemid=1" TargetMode="External"/><Relationship Id="rId6" Type="http://schemas.openxmlformats.org/officeDocument/2006/relationships/hyperlink" Target="http://www.fun4child.ru/detskie-stihi/prazdnichnye-stikhi/page/2/" TargetMode="External"/><Relationship Id="rId7" Type="http://schemas.openxmlformats.org/officeDocument/2006/relationships/hyperlink" Target="http://www.det-sad.com/detskie_stixi_k23_fevralia_malchikam-papam-dedushka" TargetMode="External"/><Relationship Id="rId8" Type="http://schemas.openxmlformats.org/officeDocument/2006/relationships/hyperlink" Target="http://blogs.mail.ru/mail/rina.65/4D27B34B0BB32A25.html" TargetMode="External"/><Relationship Id="rId9" Type="http://schemas.openxmlformats.org/officeDocument/2006/relationships/hyperlink" Target="http://s41.radikal.ru/i091/0811/a6/c941500be00a.png" TargetMode="External"/><Relationship Id="rId10" Type="http://schemas.openxmlformats.org/officeDocument/2006/relationships/hyperlink" Target="http://s39.radikal.ru/i085/1005/24/11bab8d57c7f.png" TargetMode="External"/><Relationship Id="rId11" Type="http://schemas.openxmlformats.org/officeDocument/2006/relationships/hyperlink" Target="http://img1.liveinternet.ru/images/attach/c/2//69/490/69490770_07.png" TargetMode="External"/><Relationship Id="rId12" Type="http://schemas.openxmlformats.org/officeDocument/2006/relationships/hyperlink" Target="http://planetashkol.ru/upload/iblock/3e0/denu4itelya.jpg" TargetMode="External"/><Relationship Id="rId13" Type="http://schemas.openxmlformats.org/officeDocument/2006/relationships/hyperlink" Target="http://www.infokniga.ru/wp-content/gallery/181bibl/dhdhdhdh-181.jpg" TargetMode="External"/><Relationship Id="rId14" Type="http://schemas.openxmlformats.org/officeDocument/2006/relationships/hyperlink" Target="http://doshkolnik.info/klass/slova.htm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7;&#1083;&#1086;&#1074;&#1072;&#1088;&#1100;%202&#1082;&#1083;.%20&#1046;&#1080;&#1074;&#1086;&#1090;&#1085;&#1099;&#1077;.ppt#2. &#1057;&#1083;&#1072;&#1081;&#1076; 2" TargetMode="External"/><Relationship Id="rId2" Type="http://schemas.openxmlformats.org/officeDocument/2006/relationships/hyperlink" Target="file:///&#1057;&#1083;&#1086;&#1074;&#1072;&#1088;&#1100;%202&#1082;&#1083;.%20&#1046;&#1080;&#1074;&#1086;&#1090;&#1085;&#1099;&#1077;.ppt#10. &#1057;&#1083;&#1072;&#1081;&#1076; 10" TargetMode="External"/><Relationship Id="rId3" Type="http://schemas.openxmlformats.org/officeDocument/2006/relationships/hyperlink" Target="file:///&#1057;&#1083;&#1086;&#1074;&#1072;&#1088;&#1100;%20&#1064;&#1082;&#1086;&#1083;&#1072;%20.ppt" TargetMode="Externa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26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file:///&#1057;&#1083;&#1086;&#1074;&#1072;&#1088;&#1100;%20&#1064;&#1082;&#1086;&#1083;&#1072;%20.ppt" TargetMode="External"/><Relationship Id="rId3" Type="http://schemas.openxmlformats.org/officeDocument/2006/relationships/slide" Target="slide26.xml"/><Relationship Id="rId4" Type="http://schemas.openxmlformats.org/officeDocument/2006/relationships/hyperlink" Target="file:///&#1057;&#1083;&#1086;&#1074;&#1072;&#1088;&#1100;%20&#1064;&#1082;&#1086;&#1083;&#1072;%20.ppt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9.xml"/><Relationship Id="rId3" Type="http://schemas.openxmlformats.org/officeDocument/2006/relationships/slide" Target="slide26.xml"/><Relationship Id="rId4" Type="http://schemas.openxmlformats.org/officeDocument/2006/relationships/slide" Target="slide9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eorgia"/>
              </a:rPr>
              <a:t>Словарный диктант №2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6668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«Школа»</a:t>
            </a: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566748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948360" y="4219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6948360" y="1987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2158920" y="3333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дев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 чка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687708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948360" y="306864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6877080" y="436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687708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12536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292720" y="9079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900000" y="1628640"/>
            <a:ext cx="2264040" cy="5013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47640" y="2709000"/>
            <a:ext cx="66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- Ах ты, девочка чумазая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где ты руки так измазала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Чёрные ладошки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на локтях - дорожки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Я на солнышк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лежала, руки кверху держала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ВОТ ОНИ И ЗАГОРЕЛИ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           (Барто А., Барто П.)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Ребёнок женского пола. 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549360"/>
            <a:ext cx="8208720" cy="1800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851280" y="907920"/>
            <a:ext cx="1368360" cy="1152720"/>
            <a:chOff x="3851280" y="907920"/>
            <a:chExt cx="1368360" cy="1152720"/>
          </a:xfrm>
        </p:grpSpPr>
        <p:sp>
          <p:nvSpPr>
            <p:cNvPr id="201" name=""/>
            <p:cNvSpPr/>
            <p:nvPr/>
          </p:nvSpPr>
          <p:spPr>
            <a:xfrm>
              <a:off x="3851280" y="907920"/>
              <a:ext cx="1368360" cy="11527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56400" y="993600"/>
              <a:ext cx="1183320" cy="99756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86520" y="1405080"/>
              <a:ext cx="523080" cy="45540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97400" y="1152000"/>
              <a:ext cx="277920" cy="23328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11280" y="2852640"/>
            <a:ext cx="8208720" cy="3241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780000" y="3716280"/>
            <a:ext cx="1585800" cy="1582920"/>
            <a:chOff x="3780000" y="3716280"/>
            <a:chExt cx="1585800" cy="1582920"/>
          </a:xfrm>
        </p:grpSpPr>
        <p:sp>
          <p:nvSpPr>
            <p:cNvPr id="207" name=""/>
            <p:cNvSpPr/>
            <p:nvPr/>
          </p:nvSpPr>
          <p:spPr>
            <a:xfrm>
              <a:off x="3780000" y="371628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2040" y="383400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84720" y="439920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3240" y="405144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75640" y="422100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6875640" y="198900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404640"/>
            <a:ext cx="6769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мальч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 к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804000" y="2062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6875640" y="307008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804000" y="4365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">
            <a:hlinkClick r:id="rId4" action="ppaction://hlinksldjump"/>
          </p:cNvPr>
          <p:cNvSpPr/>
          <p:nvPr/>
        </p:nvSpPr>
        <p:spPr>
          <a:xfrm>
            <a:off x="6804000" y="3070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300720" y="1052640"/>
            <a:ext cx="64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826920" y="1916280"/>
            <a:ext cx="3367080" cy="4535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84800" y="3716280"/>
            <a:ext cx="810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Месяц февраль – он как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мальчики наши</a:t>
            </a: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 –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Строгий, спокойный и радостный он!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То ляжет снег на заборы и крыши,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То вдруг капели послышится звон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Ребёнок мужского пола. 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708360" y="907920"/>
            <a:ext cx="1585800" cy="1582920"/>
            <a:chOff x="3708360" y="907920"/>
            <a:chExt cx="1585800" cy="1582920"/>
          </a:xfrm>
        </p:grpSpPr>
        <p:sp>
          <p:nvSpPr>
            <p:cNvPr id="226" name=""/>
            <p:cNvSpPr/>
            <p:nvPr/>
          </p:nvSpPr>
          <p:spPr>
            <a:xfrm>
              <a:off x="370836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3040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308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4160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11280" y="3573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51280" y="3860640"/>
            <a:ext cx="1585800" cy="1582920"/>
            <a:chOff x="3851280" y="3860640"/>
            <a:chExt cx="1585800" cy="1582920"/>
          </a:xfrm>
        </p:grpSpPr>
        <p:sp>
          <p:nvSpPr>
            <p:cNvPr id="232" name=""/>
            <p:cNvSpPr/>
            <p:nvPr/>
          </p:nvSpPr>
          <p:spPr>
            <a:xfrm>
              <a:off x="3851280" y="386064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73320" y="397836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6000" y="454356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84520" y="419580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7d25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7564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687564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1979640" y="33336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уч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 ница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680400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687564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680400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680400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3924360" y="98100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51280" y="9079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539640" y="1916280"/>
            <a:ext cx="4537080" cy="3423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92120" y="3789360"/>
            <a:ext cx="558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Я на уроке в первый раз.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Теперь я ученица. 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Вошла учительница в класс,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- Вставать или садиться?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62064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Учащаяся средней школы, профессионально-технического училища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3573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24360" y="4005360"/>
            <a:ext cx="1585800" cy="1582560"/>
            <a:chOff x="3924360" y="4005360"/>
            <a:chExt cx="1585800" cy="1582560"/>
          </a:xfrm>
        </p:grpSpPr>
        <p:sp>
          <p:nvSpPr>
            <p:cNvPr id="253" name=""/>
            <p:cNvSpPr/>
            <p:nvPr/>
          </p:nvSpPr>
          <p:spPr>
            <a:xfrm>
              <a:off x="3924360" y="4005360"/>
              <a:ext cx="1585800" cy="158256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46400" y="4122720"/>
              <a:ext cx="1371600" cy="136944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29080" y="4687920"/>
              <a:ext cx="606240" cy="62496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57600" y="4340160"/>
              <a:ext cx="322200" cy="320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84360" y="476280"/>
            <a:ext cx="8208720" cy="2087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924360" y="907920"/>
            <a:ext cx="1439640" cy="1225800"/>
            <a:chOff x="3924360" y="907920"/>
            <a:chExt cx="1439640" cy="1225800"/>
          </a:xfrm>
        </p:grpSpPr>
        <p:sp>
          <p:nvSpPr>
            <p:cNvPr id="259" name=""/>
            <p:cNvSpPr/>
            <p:nvPr/>
          </p:nvSpPr>
          <p:spPr>
            <a:xfrm>
              <a:off x="3924360" y="907920"/>
              <a:ext cx="1439640" cy="122580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4880" y="999000"/>
              <a:ext cx="1244880" cy="106056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82280" y="1436760"/>
              <a:ext cx="550080" cy="48420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98920" y="1167480"/>
              <a:ext cx="292320" cy="248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04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6804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549360"/>
            <a:ext cx="6121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учит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 ль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673272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8" name="">
            <a:hlinkClick r:id="rId3" action="ppaction://hlinksldjump"/>
          </p:cNvPr>
          <p:cNvSpPr/>
          <p:nvPr/>
        </p:nvSpPr>
        <p:spPr>
          <a:xfrm>
            <a:off x="6732720" y="4292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">
            <a:hlinkClick r:id="rId4" action="ppaction://hlinksldjump"/>
          </p:cNvPr>
          <p:cNvSpPr/>
          <p:nvPr/>
        </p:nvSpPr>
        <p:spPr>
          <a:xfrm>
            <a:off x="673272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5435640" y="119700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64000" y="112536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611280" y="1989000"/>
            <a:ext cx="391788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55640" y="3213360"/>
            <a:ext cx="77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Не смейте забывать учителей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Ведь лучшее всё в нас от их усилий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Учителями славится Россия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Ученики приносят славу ей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Не смейте забывать учителей!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(Дементьев А.)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62064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Лицо, которое обучает чему-нибудь, преподаватель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335772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708360" y="3787920"/>
            <a:ext cx="1585800" cy="1582560"/>
            <a:chOff x="3708360" y="3787920"/>
            <a:chExt cx="1585800" cy="1582560"/>
          </a:xfrm>
        </p:grpSpPr>
        <p:sp>
          <p:nvSpPr>
            <p:cNvPr id="278" name=""/>
            <p:cNvSpPr/>
            <p:nvPr/>
          </p:nvSpPr>
          <p:spPr>
            <a:xfrm>
              <a:off x="3708360" y="3787920"/>
              <a:ext cx="1585800" cy="158256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30400" y="3905280"/>
              <a:ext cx="1371600" cy="136944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13080" y="4470480"/>
              <a:ext cx="606240" cy="62496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41600" y="4122720"/>
              <a:ext cx="322200" cy="320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284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948360" y="414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6948360" y="1987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1979640" y="476280"/>
            <a:ext cx="6443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р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 бята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687708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6948360" y="306864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687708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687708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684360" y="2349360"/>
            <a:ext cx="3671640" cy="3629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780000" y="1125360"/>
            <a:ext cx="50292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780000" y="1052640"/>
            <a:ext cx="64764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comb dir="vert"/>
  </p:transition>
  <p:timing>
    <p:tnLst>
      <p:par>
        <p:cTn id="238" dur="indefinite" restart="never" nodeType="tmRoot">
          <p:childTnLst>
            <p:seq>
              <p:cTn id="23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340000" y="357408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Я, ребята, старый дед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Мне, ребята, много лет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В январе и феврал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Я гуляю по земле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(Дед Мороз.)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2340000" y="54936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Молодые люди, парни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Georgia"/>
              </a:rPr>
              <a:t>Мн.ч. от ребёнок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303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39640" y="3500280"/>
            <a:ext cx="820908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708360" y="3859200"/>
            <a:ext cx="1585800" cy="1582920"/>
            <a:chOff x="3708360" y="3859200"/>
            <a:chExt cx="1585800" cy="1582920"/>
          </a:xfrm>
        </p:grpSpPr>
        <p:sp>
          <p:nvSpPr>
            <p:cNvPr id="309" name=""/>
            <p:cNvSpPr/>
            <p:nvPr/>
          </p:nvSpPr>
          <p:spPr>
            <a:xfrm>
              <a:off x="3708360" y="385920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30400" y="397692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3080" y="454212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1600" y="419436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6920" y="1916280"/>
            <a:ext cx="2808360" cy="49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"/>
              </a:rPr>
              <a:t>Т.традь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3"/>
              </a:rPr>
              <a:t>К.р.ндаш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4"/>
              </a:rPr>
              <a:t>П.нал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5"/>
              </a:rPr>
              <a:t>Дев.чка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6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7"/>
              </a:rPr>
              <a:t>Мальч.к</a:t>
            </a: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8"/>
              </a:rPr>
              <a:t>Уч.ниц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1916280"/>
            <a:ext cx="33116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9"/>
              </a:rPr>
              <a:t>Учит.ль</a:t>
            </a: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0"/>
              </a:rPr>
              <a:t>Р.бят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1"/>
              </a:rPr>
              <a:t>Д.журный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2"/>
              </a:rPr>
              <a:t>Кла</a:t>
            </a: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3"/>
              </a:rPr>
              <a:t>Б.бл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4"/>
              </a:rPr>
              <a:t>…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5"/>
              </a:rPr>
              <a:t>тек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87640" y="5589720"/>
            <a:ext cx="1944720" cy="1079280"/>
            <a:chOff x="2987640" y="5589720"/>
            <a:chExt cx="1944720" cy="1079280"/>
          </a:xfrm>
        </p:grpSpPr>
        <p:sp>
          <p:nvSpPr>
            <p:cNvPr id="104" name="">
              <a:hlinkClick r:id="rId16" action="ppaction://hlinksldjump"/>
            </p:cNvPr>
            <p:cNvSpPr/>
            <p:nvPr/>
          </p:nvSpPr>
          <p:spPr>
            <a:xfrm>
              <a:off x="2987640" y="5589720"/>
              <a:ext cx="1944720" cy="1079280"/>
            </a:xfrm>
            <a:prstGeom prst="ellipse">
              <a:avLst/>
            </a:prstGeom>
            <a:solidFill>
              <a:srgbClr val="969696"/>
            </a:solidFill>
            <a:ln w="152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05" name="">
              <a:hlinkClick r:id="rId17"/>
            </p:cNvPr>
            <p:cNvSpPr/>
            <p:nvPr/>
          </p:nvSpPr>
          <p:spPr>
            <a:xfrm>
              <a:off x="3058920" y="573372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оверь </a:t>
              </a:r>
              <a:r>
                <a:rPr b="0" lang="ru-RU" sz="2400" spc="-1" strike="noStrike" u="sng">
                  <a:solidFill>
                    <a:srgbClr val="cc6600"/>
                  </a:solidFill>
                  <a:uFillTx/>
                  <a:latin typeface="Arial"/>
                  <a:hlinkClick r:id="rId18" action="ppaction://hlinksldjump"/>
                </a:rPr>
                <a:t>себя</a:t>
              </a:r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020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40464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Georgia"/>
              </a:rPr>
              <a:t>д </a:t>
            </a:r>
            <a:r>
              <a:rPr b="1" lang="ru-RU" sz="8800" spc="-1" strike="noStrike">
                <a:solidFill>
                  <a:srgbClr val="ffff00"/>
                </a:solidFill>
                <a:latin typeface="Georgia"/>
                <a:ea typeface="Arial"/>
              </a:rPr>
              <a:t> </a:t>
            </a:r>
            <a:r>
              <a:rPr b="1" lang="ru-RU" sz="8800" spc="-1" strike="noStrike">
                <a:solidFill>
                  <a:srgbClr val="ffff00"/>
                </a:solidFill>
                <a:latin typeface="Georgia"/>
              </a:rPr>
              <a:t> журный</a:t>
            </a:r>
            <a:endParaRPr b="0" lang="en-US" sz="8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6" name="">
            <a:hlinkClick r:id="rId2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7" name=""/>
          <p:cNvSpPr/>
          <p:nvPr/>
        </p:nvSpPr>
        <p:spPr>
          <a:xfrm>
            <a:off x="7020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694836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">
            <a:hlinkClick r:id="rId4" action="ppaction://hlinksldjump"/>
          </p:cNvPr>
          <p:cNvSpPr/>
          <p:nvPr/>
        </p:nvSpPr>
        <p:spPr>
          <a:xfrm>
            <a:off x="6948360" y="306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105264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556000" y="98100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11280" y="2133720"/>
            <a:ext cx="2682720" cy="3743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42920" y="3645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Школьный дежурный стоит на посту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Хранит свою школу и её чистоту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В глазах его грусть, а в сердце любов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Грудью стоять он за школу готов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Человек, который несёт дежурство. Тот, кто дежурит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350028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851280" y="3860640"/>
            <a:ext cx="1585800" cy="1582920"/>
            <a:chOff x="3851280" y="3860640"/>
            <a:chExt cx="1585800" cy="1582920"/>
          </a:xfrm>
        </p:grpSpPr>
        <p:sp>
          <p:nvSpPr>
            <p:cNvPr id="328" name=""/>
            <p:cNvSpPr/>
            <p:nvPr/>
          </p:nvSpPr>
          <p:spPr>
            <a:xfrm>
              <a:off x="3851280" y="386064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3320" y="397836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56000" y="454356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84520" y="419580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334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279" dur="indefinite" restart="never" nodeType="tmRoot">
          <p:childTnLst>
            <p:seq>
              <p:cTn id="28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948360" y="414972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6948360" y="198900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2124000" y="33336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кла 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1" name="">
            <a:hlinkClick r:id="rId2" action="ppaction://hlinksldjump"/>
          </p:cNvPr>
          <p:cNvSpPr/>
          <p:nvPr/>
        </p:nvSpPr>
        <p:spPr>
          <a:xfrm>
            <a:off x="6877080" y="2062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6948360" y="307008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6877080" y="4294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">
            <a:hlinkClick r:id="rId4" action="ppaction://hlinksldjump"/>
          </p:cNvPr>
          <p:cNvSpPr/>
          <p:nvPr/>
        </p:nvSpPr>
        <p:spPr>
          <a:xfrm>
            <a:off x="6877080" y="3070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11280" y="1916280"/>
            <a:ext cx="4103640" cy="39686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364000" y="105264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219640" y="907920"/>
            <a:ext cx="136836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comb dir="vert"/>
  </p:transition>
  <p:timing>
    <p:tnLst>
      <p:par>
        <p:cTn id="298" dur="indefinite" restart="never" nodeType="tmRoot">
          <p:childTnLst>
            <p:seq>
              <p:cTn id="29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722600" y="3860640"/>
            <a:ext cx="59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Писать о школе очень трудно,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О классе тоже нелегко.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Писать о перемене чудно!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Легко, забавно и смешно!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1587960" y="907200"/>
            <a:ext cx="638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Школьная комната для занятий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1116000" y="1411560"/>
            <a:ext cx="7675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Группа учеников, учащихся одного и того же года обучения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1" name=""/>
          <p:cNvSpPr/>
          <p:nvPr/>
        </p:nvSpPr>
        <p:spPr>
          <a:xfrm>
            <a:off x="1220400" y="2132640"/>
            <a:ext cx="6612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Степень, уровень чего-нибудь, ранг N1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371628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62064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067280" y="981000"/>
            <a:ext cx="1585800" cy="1582920"/>
            <a:chOff x="4067280" y="981000"/>
            <a:chExt cx="1585800" cy="1582920"/>
          </a:xfrm>
        </p:grpSpPr>
        <p:sp>
          <p:nvSpPr>
            <p:cNvPr id="356" name=""/>
            <p:cNvSpPr/>
            <p:nvPr/>
          </p:nvSpPr>
          <p:spPr>
            <a:xfrm>
              <a:off x="4067280" y="98100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89320" y="109872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72000" y="166392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00520" y="131616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95640" y="4149720"/>
            <a:ext cx="1585800" cy="1582920"/>
            <a:chOff x="3995640" y="4149720"/>
            <a:chExt cx="1585800" cy="1582920"/>
          </a:xfrm>
        </p:grpSpPr>
        <p:sp>
          <p:nvSpPr>
            <p:cNvPr id="361" name=""/>
            <p:cNvSpPr/>
            <p:nvPr/>
          </p:nvSpPr>
          <p:spPr>
            <a:xfrm>
              <a:off x="3995640" y="41497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7680" y="42674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00360" y="48326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8880" y="44848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402200" y="284040"/>
            <a:ext cx="7319160" cy="1434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Georgia"/>
              </a:rPr>
              <a:t>Б   бл     тека</a:t>
            </a:r>
            <a:endParaRPr b="0" lang="en-US" sz="8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411280" y="836640"/>
            <a:ext cx="6480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43280" y="836640"/>
            <a:ext cx="6480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64000" y="836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369" name=""/>
          <p:cNvSpPr/>
          <p:nvPr/>
        </p:nvSpPr>
        <p:spPr>
          <a:xfrm>
            <a:off x="2484360" y="90792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0" name=""/>
          <p:cNvSpPr/>
          <p:nvPr/>
        </p:nvSpPr>
        <p:spPr>
          <a:xfrm>
            <a:off x="4643280" y="90792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1" name=""/>
          <p:cNvSpPr/>
          <p:nvPr/>
        </p:nvSpPr>
        <p:spPr>
          <a:xfrm>
            <a:off x="5364000" y="90792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7020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4" name="">
            <a:hlinkClick r:id="rId2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6" name="">
            <a:hlinkClick r:id="rId3" action="ppaction://hlinksldjump"/>
          </p:cNvPr>
          <p:cNvSpPr/>
          <p:nvPr/>
        </p:nvSpPr>
        <p:spPr>
          <a:xfrm>
            <a:off x="694836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7" name="">
            <a:hlinkClick r:id="rId4" action="ppaction://hlinksldjump"/>
          </p:cNvPr>
          <p:cNvSpPr/>
          <p:nvPr/>
        </p:nvSpPr>
        <p:spPr>
          <a:xfrm>
            <a:off x="6948360" y="306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755640" y="1916280"/>
            <a:ext cx="5394240" cy="4046400"/>
          </a:xfrm>
          <a:prstGeom prst="rect">
            <a:avLst/>
          </a:prstGeom>
          <a:ln w="76320">
            <a:solidFill>
              <a:srgbClr val="ff7d25"/>
            </a:solidFill>
            <a:miter/>
          </a:ln>
        </p:spPr>
      </p:pic>
    </p:spTree>
  </p:cSld>
  <p:transition>
    <p:comb dir="vert"/>
  </p:transition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5280" y="335412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Не понятно человеку - он идёт в библиотеку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Интересно человеку - он идёт в библиотеку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Что-то важно человеку - он идёт в библиотеку..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Он задумчивый мечтатель или будущий поэт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Афоризмов собиратель или жаждущий эстет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Здесь встречают всех радушно,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Объясняют если нужно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И за свой умнейший труд золотых наград не ждут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0" name=""/>
          <p:cNvSpPr/>
          <p:nvPr/>
        </p:nvSpPr>
        <p:spPr>
          <a:xfrm>
            <a:off x="250920" y="9054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Учреждение, собирающее и хранящее произведения печати и письменности для общественного пользования, а также осуществляющее справочно-библиографическую работу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"/>
          <p:cNvSpPr/>
          <p:nvPr/>
        </p:nvSpPr>
        <p:spPr>
          <a:xfrm>
            <a:off x="501480" y="620640"/>
            <a:ext cx="86425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383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50920" y="3500280"/>
            <a:ext cx="8604000" cy="280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995640" y="4005360"/>
            <a:ext cx="1585800" cy="1582560"/>
            <a:chOff x="3995640" y="4005360"/>
            <a:chExt cx="1585800" cy="1582560"/>
          </a:xfrm>
        </p:grpSpPr>
        <p:sp>
          <p:nvSpPr>
            <p:cNvPr id="389" name=""/>
            <p:cNvSpPr/>
            <p:nvPr/>
          </p:nvSpPr>
          <p:spPr>
            <a:xfrm>
              <a:off x="3995640" y="4005360"/>
              <a:ext cx="1585800" cy="158256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17680" y="4122720"/>
              <a:ext cx="1371600" cy="136944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0360" y="4687920"/>
              <a:ext cx="606240" cy="62496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28880" y="4340160"/>
              <a:ext cx="322200" cy="320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7d25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84360" y="54396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 Поставь  в слове знак ударения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Раздели слово для переноса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дели слово на слоги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4. Подбери к слову однокоренные слова, запиши их, выдели корень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5. Подбери к слову однокоренные слова, разбери их по составу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6. Запиши транскрипцию слова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7. Составь и запиши предложение с данным словом, сделай синтаксический разбор предложения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8. Сделай фонетический разбор слова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9. Составь и напиши с данным словом словосочетания (прил. +  сущ.)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324000" y="198900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324000" y="263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324000" y="3429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324000" y="3789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324000" y="4508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9"/>
          <a:stretch/>
        </p:blipFill>
        <p:spPr>
          <a:xfrm>
            <a:off x="324000" y="4869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rId10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76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4869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"/>
          <p:cNvSpPr/>
          <p:nvPr/>
        </p:nvSpPr>
        <p:spPr>
          <a:xfrm>
            <a:off x="324000" y="4437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3789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3357720"/>
            <a:ext cx="288720" cy="288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>
            <a:off x="324000" y="2637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32400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378" dur="indefinite" restart="never" nodeType="tmRoot">
          <p:childTnLst>
            <p:seq>
              <p:cTn id="379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500040" y="2365200"/>
            <a:ext cx="81439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МОЛОДЦЫ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37920" y="198900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"/>
              </a:rPr>
              <a:t>http://inmenso.ru/components/com_virtuemart/shop_image/product/289826.jp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тетрадь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263700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2"/>
              </a:rPr>
              <a:t>http://magie.com.ua/images/upload/Image/%D0%9A%D0%B0%D1%80%D0%B0%D0%BD%D0%B4%D0%B0%D1%88%20%D0%B4%D0%BB%D1%8F%20%D0%B3%D0%BB%D0%B0%D0%B7%20%D0%B8%20%D0%B3%D1%83%D0%B1.jp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карандаши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5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3"/>
              </a:rPr>
              <a:t>http://t0.gstatic.com/images?q=tbn:ANd9GcSa5-w9eSny9S6wQBl2F7-zdKkBaoN1yrY6HLSj5KW1GGVrdsp_Jw&amp;t=1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пенал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8" name=""/>
          <p:cNvSpPr/>
          <p:nvPr/>
        </p:nvSpPr>
        <p:spPr>
          <a:xfrm>
            <a:off x="14400" y="4149720"/>
            <a:ext cx="72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4"/>
              </a:rPr>
              <a:t>http://www.tvoyrebenok.ru/school-accs.shtml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стихи о тетради, карандаше, пенале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437000"/>
            <a:ext cx="90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5"/>
              </a:rPr>
              <a:t>http://oraznom.net/index.php?option=com_content&amp;view=article&amp;id=54%3Astihi&amp;catid=35%3Aklass-&amp;Itemid=1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– стихи о классе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18000" y="4941720"/>
            <a:ext cx="70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6"/>
              </a:rPr>
              <a:t>http://www.fun4child.ru/detskie-stihi/prazdnichnye-stikhi/page/2/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стих. об ученице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1" name=""/>
          <p:cNvSpPr/>
          <p:nvPr/>
        </p:nvSpPr>
        <p:spPr>
          <a:xfrm>
            <a:off x="18720" y="515772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7"/>
              </a:rPr>
              <a:t>http://www.det-sad.com/detskie_stixi_k23_fevralia_malchikam-papam-dedushka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стих. о мальчиках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>
            <a:off x="22680" y="5373720"/>
            <a:ext cx="67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8"/>
              </a:rPr>
              <a:t>http://blogs.mail.ru/mail/rina.65/4D27B34B0BB32A25.html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стих. о библиотеке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>
            <a:off x="21960" y="5661000"/>
            <a:ext cx="54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9"/>
              </a:rPr>
              <a:t>http://s41.radikal.ru/i091/0811/a6/c941500be00a.pn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мальчик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23760" y="5950080"/>
            <a:ext cx="53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0"/>
              </a:rPr>
              <a:t>http://s39.radikal.ru/i085/1005/24/11bab8d57c7f.pn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девочк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7720" y="623736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1"/>
              </a:rPr>
              <a:t>http://img1.liveinternet.ru/images/attach/c/2//69/490/69490770_07.pn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учениц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6" name=""/>
          <p:cNvSpPr/>
          <p:nvPr/>
        </p:nvSpPr>
        <p:spPr>
          <a:xfrm>
            <a:off x="21240" y="6491160"/>
            <a:ext cx="55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2"/>
              </a:rPr>
              <a:t>http://planetashkol.ru/upload/iblock/3e0/denu4itelya.jp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учитель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709560" y="2349360"/>
            <a:ext cx="70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3"/>
              </a:rPr>
              <a:t>http://www.infokniga.ru/wp-content/gallery/181bibl/dhdhdhdh-181.jp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библиотек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"/>
          <p:cNvSpPr/>
          <p:nvPr/>
        </p:nvSpPr>
        <p:spPr>
          <a:xfrm>
            <a:off x="1833120" y="836640"/>
            <a:ext cx="617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Интернет-ресурсы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9" name=""/>
          <p:cNvSpPr/>
          <p:nvPr/>
        </p:nvSpPr>
        <p:spPr>
          <a:xfrm>
            <a:off x="616320" y="1700280"/>
            <a:ext cx="68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"/>
                <a:hlinkClick r:id="rId14"/>
              </a:rPr>
              <a:t>http://doshkolnik.info/klass/slova.htm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- стихотворение Берестов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1916280"/>
            <a:ext cx="280836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Тетрадь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Карандаш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Пенал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Девочка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Мальчик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Учениц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1916280"/>
            <a:ext cx="331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Учитель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Ребят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Дежурный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Класс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Библиотек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">
            <a:hlinkClick r:id="rId3"/>
          </p:cNvPr>
          <p:cNvSpPr/>
          <p:nvPr/>
        </p:nvSpPr>
        <p:spPr>
          <a:xfrm>
            <a:off x="38512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9966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7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2195640" y="62064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«Школа»</a:t>
            </a: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091280" y="4076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cc00">
                  <a:alpha val="61176"/>
                </a:srgbClr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7d25"/>
            </a:solidFill>
            <a:miter/>
          </a:ln>
          <a:effectLst>
            <a:outerShdw dist="153753" dir="2700000" blurRad="0" rotWithShape="0">
              <a:srgbClr val="984a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091280" y="191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cc00">
                  <a:alpha val="61176"/>
                </a:srgbClr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7d25"/>
            </a:solidFill>
            <a:miter/>
          </a:ln>
          <a:effectLst>
            <a:outerShdw dist="153753" dir="2700000" blurRad="0" rotWithShape="0">
              <a:srgbClr val="984a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476280"/>
            <a:ext cx="55468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c00"/>
                </a:solidFill>
                <a:latin typeface="Georgia"/>
              </a:rPr>
              <a:t>т   традь</a:t>
            </a:r>
            <a:endParaRPr b="0" lang="en-US" sz="8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7020000" y="198900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7091280" y="299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cc00">
                  <a:alpha val="61176"/>
                </a:srgbClr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7d25"/>
            </a:solidFill>
            <a:miter/>
          </a:ln>
          <a:effectLst>
            <a:outerShdw dist="153753" dir="2700000" blurRad="0" rotWithShape="0">
              <a:srgbClr val="984a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7020000" y="4221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7020000" y="299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12536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03640" y="1052640"/>
            <a:ext cx="64764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71680" y="1859040"/>
            <a:ext cx="3736800" cy="3736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339228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Тетради в портфеле шуршали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Что в жизни важнее, решали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Тетрадка в линейку бормочет: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- Грамматика!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А в клетку тетрадка ворчит: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- Математика!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На чем примирились тетрадка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с </a:t>
            </a: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тетрадкой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Для нас до сих пор остается загадкой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Сшитые листы чистой бумаги в обложке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124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11280" y="3284640"/>
            <a:ext cx="8208720" cy="3313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924360" y="4149720"/>
            <a:ext cx="1585800" cy="1582920"/>
            <a:chOff x="3924360" y="4149720"/>
            <a:chExt cx="1585800" cy="1582920"/>
          </a:xfrm>
        </p:grpSpPr>
        <p:sp>
          <p:nvSpPr>
            <p:cNvPr id="130" name=""/>
            <p:cNvSpPr/>
            <p:nvPr/>
          </p:nvSpPr>
          <p:spPr>
            <a:xfrm>
              <a:off x="3924360" y="41497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400" y="42674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9080" y="48326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57600" y="44848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7564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687564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549360"/>
            <a:ext cx="7128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c00"/>
                </a:solidFill>
                <a:latin typeface="Georgia"/>
              </a:rPr>
              <a:t>к   р </a:t>
            </a:r>
            <a:r>
              <a:rPr b="1" lang="ru-RU" sz="8800" spc="-1" strike="noStrike">
                <a:solidFill>
                  <a:srgbClr val="ffcc00"/>
                </a:solidFill>
                <a:latin typeface="Georgia"/>
                <a:ea typeface="Arial"/>
              </a:rPr>
              <a:t> </a:t>
            </a:r>
            <a:r>
              <a:rPr b="1" lang="ru-RU" sz="8800" spc="-1" strike="noStrike">
                <a:solidFill>
                  <a:srgbClr val="ffcc00"/>
                </a:solidFill>
                <a:latin typeface="Georgia"/>
              </a:rPr>
              <a:t> ндаш</a:t>
            </a:r>
            <a:endParaRPr b="0" lang="en-US" sz="8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">
            <a:hlinkClick r:id="rId2"/>
          </p:cNvPr>
          <p:cNvSpPr/>
          <p:nvPr/>
        </p:nvSpPr>
        <p:spPr>
          <a:xfrm>
            <a:off x="680400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687564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680400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">
            <a:hlinkClick r:id="rId4"/>
          </p:cNvPr>
          <p:cNvSpPr/>
          <p:nvPr/>
        </p:nvSpPr>
        <p:spPr>
          <a:xfrm>
            <a:off x="680400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119700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112536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11640" y="112536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627280" y="1052640"/>
            <a:ext cx="64764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24000" y="162864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68200" y="3370680"/>
            <a:ext cx="472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Я - малютка-карандашик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Исписал я сто бумажек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А когда я начинал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То с трудом влезал в пенал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Школьник пишет. И растёт!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Ну а я - наоборот!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981000"/>
            <a:ext cx="7669440" cy="1800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Письменная принадлежность – деревянная палочка с графитовым стержнем, употребляемые для письма, рисования, черчения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2064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780000" y="979560"/>
            <a:ext cx="1585800" cy="1582560"/>
            <a:chOff x="3780000" y="979560"/>
            <a:chExt cx="1585800" cy="1582560"/>
          </a:xfrm>
        </p:grpSpPr>
        <p:sp>
          <p:nvSpPr>
            <p:cNvPr id="151" name=""/>
            <p:cNvSpPr/>
            <p:nvPr/>
          </p:nvSpPr>
          <p:spPr>
            <a:xfrm>
              <a:off x="3780000" y="979560"/>
              <a:ext cx="1585800" cy="158256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02040" y="1096920"/>
              <a:ext cx="1371600" cy="136944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84720" y="1662120"/>
              <a:ext cx="606240" cy="62496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3240" y="1314360"/>
              <a:ext cx="322200" cy="320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355920"/>
            <a:ext cx="820908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780000" y="3716280"/>
            <a:ext cx="1585800" cy="1582920"/>
            <a:chOff x="3780000" y="3716280"/>
            <a:chExt cx="1585800" cy="1582920"/>
          </a:xfrm>
        </p:grpSpPr>
        <p:sp>
          <p:nvSpPr>
            <p:cNvPr id="157" name=""/>
            <p:cNvSpPr/>
            <p:nvPr/>
          </p:nvSpPr>
          <p:spPr>
            <a:xfrm>
              <a:off x="3780000" y="371628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02040" y="383400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84720" y="439920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3240" y="405144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7d25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020000" y="4292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404640"/>
            <a:ext cx="52563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п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 нал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6948360" y="44355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7020000" y="313992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119700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24360" y="98100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66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9966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6948360" y="313992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84360" y="1844640"/>
            <a:ext cx="3958920" cy="3959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72880" y="3643920"/>
            <a:ext cx="614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Georgia"/>
              </a:rPr>
              <a:t>Карандаш в пенале мается,</a:t>
            </a:r>
            <a:br>
              <a:rPr sz="3200"/>
            </a:br>
            <a:r>
              <a:rPr b="1" lang="pl-PL" sz="3200" spc="-1" strike="noStrike">
                <a:solidFill>
                  <a:srgbClr val="ffff00"/>
                </a:solidFill>
                <a:latin typeface="Georgia"/>
              </a:rPr>
              <a:t>Но зато он не ломается,</a:t>
            </a:r>
            <a:br>
              <a:rPr sz="3200"/>
            </a:br>
            <a:r>
              <a:rPr b="1" lang="pl-PL" sz="3200" spc="-1" strike="noStrike">
                <a:solidFill>
                  <a:srgbClr val="ffff00"/>
                </a:solidFill>
                <a:latin typeface="Georgia"/>
              </a:rPr>
              <a:t>Ручка в тесноте находится,</a:t>
            </a:r>
            <a:br>
              <a:rPr sz="3200"/>
            </a:br>
            <a:r>
              <a:rPr b="1" lang="pl-PL" sz="3200" spc="-1" strike="noStrike">
                <a:solidFill>
                  <a:srgbClr val="ffff00"/>
                </a:solidFill>
                <a:latin typeface="Georgia"/>
              </a:rPr>
              <a:t>Но зато легко находится.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900000" y="620640"/>
            <a:ext cx="7777440" cy="2013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Длинная коробочка, футляр для хранения  ручек, карандашей, перьев и других письменных принадлежностей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Georgia"/>
              </a:rPr>
              <a:t>Вообще вместилище такой формы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7d25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177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11280" y="3357720"/>
            <a:ext cx="8208720" cy="280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708360" y="3933720"/>
            <a:ext cx="1585800" cy="1582920"/>
            <a:chOff x="3708360" y="3933720"/>
            <a:chExt cx="1585800" cy="1582920"/>
          </a:xfrm>
        </p:grpSpPr>
        <p:sp>
          <p:nvSpPr>
            <p:cNvPr id="183" name=""/>
            <p:cNvSpPr/>
            <p:nvPr/>
          </p:nvSpPr>
          <p:spPr>
            <a:xfrm>
              <a:off x="3708360" y="39337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30400" y="40514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3080" y="46166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1600" y="42688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7:12:26Z</dcterms:created>
  <dc:creator>Admin</dc:creator>
  <dc:description/>
  <dc:language>en-US</dc:language>
  <cp:lastModifiedBy>Admin</cp:lastModifiedBy>
  <dcterms:modified xsi:type="dcterms:W3CDTF">2012-06-12T14:07:47Z</dcterms:modified>
  <cp:revision>9</cp:revision>
  <dc:subject/>
  <dc:title>Словарный диктант №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068975</vt:lpwstr>
  </property>
  <property fmtid="{D5CDD505-2E9C-101B-9397-08002B2CF9AE}" pid="6" name="AssetType">
    <vt:lpwstr>TP</vt:lpwstr>
  </property>
  <property fmtid="{D5CDD505-2E9C-101B-9397-08002B2CF9AE}" pid="7" name="AuthoringAssetId">
    <vt:lpwstr>TP001068975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riginalSourceMarket">
    <vt:lpwstr>english</vt:lpwstr>
  </property>
  <property fmtid="{D5CDD505-2E9C-101B-9397-08002B2CF9AE}" pid="20" name="ParentAssetId">
    <vt:lpwstr/>
  </property>
  <property fmtid="{D5CDD505-2E9C-101B-9397-08002B2CF9AE}" pid="21" name="PrimaryImageGen">
    <vt:lpwstr>1</vt:lpwstr>
  </property>
  <property fmtid="{D5CDD505-2E9C-101B-9397-08002B2CF9AE}" pid="22" name="PublishTargets">
    <vt:lpwstr>OfficeOnline</vt:lpwstr>
  </property>
  <property fmtid="{D5CDD505-2E9C-101B-9397-08002B2CF9AE}" pid="23" name="ShowIn">
    <vt:lpwstr>Show everywhere</vt:lpwstr>
  </property>
  <property fmtid="{D5CDD505-2E9C-101B-9397-08002B2CF9AE}" pid="24" name="SourceTitle">
    <vt:lpwstr>Artsy design template</vt:lpwstr>
  </property>
  <property fmtid="{D5CDD505-2E9C-101B-9397-08002B2CF9AE}" pid="25" name="UACurrentWords">
    <vt:lpwstr>0</vt:lpwstr>
  </property>
  <property fmtid="{D5CDD505-2E9C-101B-9397-08002B2CF9AE}" pid="26" name="UALocComments">
    <vt:lpwstr/>
  </property>
  <property fmtid="{D5CDD505-2E9C-101B-9397-08002B2CF9AE}" pid="27" name="UALocRecommendation">
    <vt:lpwstr>Localize</vt:lpwstr>
  </property>
  <property fmtid="{D5CDD505-2E9C-101B-9397-08002B2CF9AE}" pid="28" name="UANotes">
    <vt:lpwstr>LEGACY PPTDT. 421488L. June 2003 retrofit</vt:lpwstr>
  </property>
  <property fmtid="{D5CDD505-2E9C-101B-9397-08002B2CF9AE}" pid="29" name="Version">
    <vt:r8>1</vt:r8>
  </property>
  <property fmtid="{D5CDD505-2E9C-101B-9397-08002B2CF9AE}" pid="30" name="display_urn:schemas-microsoft-com:office:office#APAuthor">
    <vt:lpwstr>REDMOND\cynvey</vt:lpwstr>
  </property>
  <property fmtid="{D5CDD505-2E9C-101B-9397-08002B2CF9AE}" pid="31" name="display_urn:schemas-microsoft-com:office:office#APEditor">
    <vt:lpwstr>REDMOND\v-luannv</vt:lpwstr>
  </property>
</Properties>
</file>