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AB8-DFC1-4867-9E24-CA2AA995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8F3-EE34-4892-890A-B056A6EA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538-60F1-48EB-BC87-E4518E73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C99-53AD-4501-9285-9366C2E7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21B-53CC-45CF-B9B2-1C70F809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830-7E46-4E6F-BD2B-BF29CC2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0A1-342A-4758-8466-BB7BD580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6B4-E0A4-4CB3-85E5-D091081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5D1-45FD-4C04-8CAC-5DC8D789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FC5-5586-403B-BB63-1718C3A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FB6-5794-4591-8B5B-EBEBCFD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0F2-A3D5-4CD4-AC7D-19E16E3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42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04D-2219-4D07-BEBA-F086112A090B}" type="datetime">
              <a:rPr b="0" lang="en-US" sz="1200" spc="-1" strike="noStrike">
                <a:solidFill>
                  <a:srgbClr val="9e8c8c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CBA3-EE56-46BB-BCF4-6E3DD516BF72}" type="slidenum">
              <a:rPr b="0" lang="en-US" sz="1200" spc="-1" strike="noStrike">
                <a:solidFill>
                  <a:srgbClr val="9e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71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14a15"/>
                </a:solidFill>
                <a:latin typeface="Georgia"/>
              </a:rPr>
              <a:t>Во времена древней Руси.</a:t>
            </a:r>
            <a:endParaRPr b="0" lang="en-US" sz="80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42" name="Picture 3" descr="H:\Documents and Settings\Aida\Рабочий стол\клипарты рамки фончики\karty\karty\map03.jpg"/>
          <p:cNvPicPr/>
          <p:nvPr/>
        </p:nvPicPr>
        <p:blipFill>
          <a:blip r:embed="rId2"/>
          <a:stretch/>
        </p:blipFill>
        <p:spPr>
          <a:xfrm>
            <a:off x="2189160" y="566640"/>
            <a:ext cx="4552920" cy="2889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0" t="0" r="36172" b="0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76320">
            <a:solidFill>
              <a:srgbClr val="29473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987640" y="0"/>
            <a:ext cx="6156360" cy="6497280"/>
          </a:xfrm>
          <a:prstGeom prst="rect">
            <a:avLst/>
          </a:prstGeom>
          <a:solidFill>
            <a:srgbClr val="cddab8"/>
          </a:solidFill>
          <a:ln w="76320">
            <a:solidFill>
              <a:srgbClr val="294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511f"/>
                </a:solidFill>
                <a:latin typeface="Georgia"/>
              </a:rPr>
              <a:t>Возвратившись в Киев, Владимир прежде всего предложил креститься своим двенадцати сыновьям, и они крестились в одном источнике, известном в Киеве под именем Крещатика. Вслед за ними крестились многие бояре. Между тем, Владимир приступил к истреблению идолов, и главный из них идол Перун был привязан к конскому хвосту, с поруганием совлечен с горы и брошен в Днепр. За низвержением идолов последовало оглашение народа евангельской проповедью. Христианские священники собирали народ и наставляли его в святой вере. Наконец, святой Владимир объявил в Киеве, чтобы все жители, богатые и убогие, явились в определенный день на реку для принятия крешения. Киевляне спешили исполнить волю князя, рассуждая так: «Если бы новая вера не была лучше, то князь и бояре ее бы не приняли».</a:t>
            </a:r>
            <a:endParaRPr b="0" lang="en-US" sz="20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0760" y="404640"/>
            <a:ext cx="875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После Киева и его окрестностей святая 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вера была насаждена в Новгороде. 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В 992 г. святая вера была насаждена в 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Суздальском крае.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4679" t="0" r="0" b="2158"/>
          <a:stretch/>
        </p:blipFill>
        <p:spPr>
          <a:xfrm>
            <a:off x="3780000" y="2708280"/>
            <a:ext cx="4752720" cy="326880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2814480" cy="3960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4552920" cy="571500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924360" cy="389088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749-9DBB-44D0-A3B6-8A85AB8EDF2D}" type="datetime">
              <a:rPr b="0" lang="en-US" sz="1200" spc="-1" strike="noStrike">
                <a:solidFill>
                  <a:srgbClr val="9e8c8c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8E6-FDE0-4FDA-802B-0F7A2DA7CA27}" type="slidenum">
              <a:rPr b="0" lang="en-US" sz="1200" spc="-1" strike="noStrike">
                <a:solidFill>
                  <a:srgbClr val="9e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925" t="9776" r="5516" b="5254"/>
          <a:stretch/>
        </p:blipFill>
        <p:spPr>
          <a:xfrm>
            <a:off x="179280" y="260280"/>
            <a:ext cx="4824360" cy="626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43840" y="692280"/>
            <a:ext cx="344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423"/>
                </a:solidFill>
                <a:latin typeface="Georgia"/>
              </a:rPr>
              <a:t>Карты </a:t>
            </a:r>
            <a:endParaRPr b="0" lang="en-US" sz="5400" spc="-1" strike="noStrike">
              <a:solidFill>
                <a:srgbClr val="632423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423"/>
                </a:solidFill>
                <a:latin typeface="Georgia"/>
              </a:rPr>
              <a:t>Древней </a:t>
            </a:r>
            <a:endParaRPr b="0" lang="en-US" sz="5400" spc="-1" strike="noStrike">
              <a:solidFill>
                <a:srgbClr val="632423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423"/>
                </a:solidFill>
                <a:latin typeface="Georgia"/>
              </a:rPr>
              <a:t>Руси.</a:t>
            </a:r>
            <a:endParaRPr b="0" lang="en-US" sz="54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156360" cy="486864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462120" cy="5373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061280" y="5433840"/>
            <a:ext cx="307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Georgia"/>
              </a:rPr>
              <a:t>Богатыри</a:t>
            </a: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899480" cy="516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33880" y="260280"/>
            <a:ext cx="64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b3937"/>
                </a:solidFill>
                <a:latin typeface="Georgia"/>
              </a:rPr>
              <a:t>Боевые топоры</a:t>
            </a:r>
            <a:endParaRPr b="0" lang="en-US" sz="60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946600" cy="410400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5400720" cy="6497280"/>
          </a:xfrm>
          <a:prstGeom prst="rect">
            <a:avLst/>
          </a:prstGeom>
          <a:solidFill>
            <a:srgbClr val="f3e2a3"/>
          </a:solidFill>
          <a:ln w="57240">
            <a:solidFill>
              <a:srgbClr val="632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Князь Владимир был сыном Святослава от древлянской княжны Малуши. Родился он в 963 году. Воспитывал Владимира брат его матери язычник Добрыня. В 972 году князь Владимир стал править Новгородом. В 980 г. в разгар войны между братьями Владимир пошел на Киев, в котором княжил его старший брат Ярополк. Победив брата, Владимир стал править в Киеве. У него было пять жен и многочисленные наложницы. На Киевских горах он установил идолов, которым стали приносить человеческие жертвы. Тогда погибли за Христа варяги Феодор и Иоанн. Обстоятельства их смерти произвели на Владимира сильное впечатление, и он начал сомневаться в истинности языческой веры.</a:t>
            </a:r>
            <a:endParaRPr b="0" lang="en-US" sz="20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5796000" cy="6403320"/>
          </a:xfrm>
          <a:prstGeom prst="rect">
            <a:avLst/>
          </a:prstGeom>
          <a:solidFill>
            <a:srgbClr val="d9e8fb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Georgia"/>
              </a:rPr>
              <a:t>По приглашению князя в Киев приходили проповедники из разных стран: послы от болгар-мусульман, живших за Волгой, немцы-латиняне, иудеи и греки. Князь расспрашивал об их вере, и каждый предлагал ему свою веру. Но самое сильное впечатление произвел на него православный греческий проповедник, который в заключение своей беседы показал ему картину Страшного суда. По совету бояр, Владимир отправил десять мудрых мужей, чтобы испытать на месте, чья вера лучше. Когда эти русские послы прибыли в Константинополь, то великолепие Софийского храма, стройное пение придворных певчих и торжественность патриаршей службы тронули их до глубины души: «Мы не знали, — говорили они потом Владимиру, — на земле мы стояли или на небе». А бояре тут же ему заметили: «Если бы вера греческая не была лучше других вер, не приняла бы ее бабка твоя Ольга — мудрейшая из людей».</a:t>
            </a: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2928960" cy="37436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Владимир решил креститься, но не хотел подчинять Русь грекам. Поэтому вскоре после возвращения послов Владимир пошел войной на греков и взял Херсонес. Отсюда он отправил послов в Константино-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поль к императорам Василию и Константину с требо-ванием руки сестры их, царевны Анны. Те отвечали ему, что царевна может быть женой только христиа-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нина. Тогда Владимир объявил, что желает принять христианскую веру. Но прежде, чем невеста прибыла в Херсонес, Владимир был поражен слепотой.В таком состоянии, подобно апостолу Павлу, он познал свою духовную немощь и приготовился к великому таин-ству возрождения. Царевна, прибывшая в Херсонес, посоветовала ему поспешить с крещением. Владимир крестился (988 г.) и был наименован Василием. При выходе из купели, он прозрел душевными и телесны-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ми очами и в избытке радости воскликнул: 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«Теперь я познал истинного Бога!»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45:02Z</dcterms:created>
  <dc:creator>XTreme</dc:creator>
  <dc:description>http://aida.ucoz.ru</dc:description>
  <dc:language>en-US</dc:language>
  <cp:lastModifiedBy>Admin</cp:lastModifiedBy>
  <dcterms:modified xsi:type="dcterms:W3CDTF">2012-06-12T11:51:13Z</dcterms:modified>
  <cp:revision>8</cp:revision>
  <dc:subject/>
  <dc:title>Во времена древней Руси.</dc:title>
</cp:coreProperties>
</file>