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1D7-E29D-4CC0-9B7B-8D678728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EA0-4199-49BA-9EC1-5F83A4D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261-FEB5-43C4-AB21-2363E553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099-1200-4F01-A75A-BCAF6E78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7CA-A4E6-4B0D-8689-E36B180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AF9-0417-4D5C-9A1C-7FDAF07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6FD-9346-4D0E-82ED-4AD9D2AC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C14-7768-4D45-9911-1464D57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A36-D63D-41D3-978C-6010F92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200-99F3-42A5-91A2-C4FAC60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989-375D-4D90-BF7D-0F0B13D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7DF-4EA8-404D-BA00-14DDDEDA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661E-164C-473C-85D0-15E58D60F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21420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Дополни текст недостающими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14200" y="119700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 … с поверхности водоёмов и в виде … поднимается высоко вверх. Воздух высоко над землёй всегда … 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boloto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116000" y="1484280"/>
            <a:ext cx="47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ириною широ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убиною глубо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нь и ночь о берег бь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з него воды не пь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тому что не вкус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горька, и со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654600" y="150012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М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boloto.jpg"/>
          <p:cNvPicPr/>
          <p:nvPr/>
        </p:nvPicPr>
        <p:blipFill>
          <a:blip r:embed="rId1"/>
          <a:stretch/>
        </p:blipFill>
        <p:spPr>
          <a:xfrm>
            <a:off x="468360" y="357120"/>
            <a:ext cx="8209080" cy="6243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1571760" y="500040"/>
            <a:ext cx="496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олодые бе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вои перед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правляют пр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месяц, и звезд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нем все отражается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это зеркало назы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6292080" y="1285920"/>
            <a:ext cx="166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Пр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boloto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364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571840" y="28584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 маме-речке бе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молчать не 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ее сын род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родился –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939000" y="2143080"/>
            <a:ext cx="19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Руч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boloto.jpg"/>
          <p:cNvPicPr/>
          <p:nvPr/>
        </p:nvPicPr>
        <p:blipFill>
          <a:blip r:embed="rId1"/>
          <a:srcRect l="0" t="1293" r="0" b="0"/>
          <a:stretch/>
        </p:blipFill>
        <p:spPr>
          <a:xfrm>
            <a:off x="357120" y="357120"/>
            <a:ext cx="8429760" cy="6338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785880" y="500040"/>
            <a:ext cx="479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проедешь, не пройдеш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ойдешь сторо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водицы не попь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синеватой пле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654160" y="1357200"/>
            <a:ext cx="25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Боло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28760" y="2071800"/>
            <a:ext cx="8286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>
                <a:solidFill>
                  <a:srgbClr val="002060"/>
                </a:solidFill>
                <a:latin typeface="Calibri"/>
              </a:rPr>
              <a:t>Водоёмы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28880" y="285840"/>
            <a:ext cx="5000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водоё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"/>
          <p:cNvCxnSpPr/>
          <p:nvPr/>
        </p:nvCxnSpPr>
        <p:spPr>
          <a:xfrm flipH="1">
            <a:off x="2285280" y="1357200"/>
            <a:ext cx="207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7"/>
          <p:cNvCxnSpPr/>
          <p:nvPr/>
        </p:nvCxnSpPr>
        <p:spPr>
          <a:xfrm>
            <a:off x="4428720" y="1356840"/>
            <a:ext cx="20725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рямоугольник 9"/>
          <p:cNvSpPr/>
          <p:nvPr/>
        </p:nvSpPr>
        <p:spPr>
          <a:xfrm>
            <a:off x="1071720" y="2071800"/>
            <a:ext cx="25635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пр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5357880" y="214308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солё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785880" y="3071880"/>
            <a:ext cx="32097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429160" y="32148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928880" y="285840"/>
            <a:ext cx="5000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водоё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"/>
          <p:cNvCxnSpPr/>
          <p:nvPr/>
        </p:nvCxnSpPr>
        <p:spPr>
          <a:xfrm flipH="1">
            <a:off x="2285280" y="1357200"/>
            <a:ext cx="207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7"/>
          <p:cNvCxnSpPr/>
          <p:nvPr/>
        </p:nvCxnSpPr>
        <p:spPr>
          <a:xfrm>
            <a:off x="4429080" y="1357200"/>
            <a:ext cx="19296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Прямоугольник 9"/>
          <p:cNvSpPr/>
          <p:nvPr/>
        </p:nvSpPr>
        <p:spPr>
          <a:xfrm>
            <a:off x="285840" y="2071800"/>
            <a:ext cx="37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4500720" y="2071800"/>
            <a:ext cx="43192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785880" y="3071880"/>
            <a:ext cx="300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5429160" y="321480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64296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Кто живёт в водоём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21420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Особенности внешнего вида и жизни рыб</a:t>
            </a:r>
            <a:r>
              <a:rPr b="0" lang="en-US" sz="5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85716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бота по учебнику: стр. 94-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21420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Особенности внешнего вида и жизни рыб</a:t>
            </a: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00040" y="192888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4200" y="191628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м покрыто тело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является основой тела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де находятся плав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ое значение имеют плав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 дышат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м рыбы пит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 рыбы размнож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14200" y="112536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… 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Чем рыбы похожи на других животных и чем отличаютс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214200" y="47628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/>
          <p:cNvSpPr/>
          <p:nvPr/>
        </p:nvSpPr>
        <p:spPr>
          <a:xfrm>
            <a:off x="214200" y="404640"/>
            <a:ext cx="8715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14200" y="33336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42960" y="214200"/>
            <a:ext cx="792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4200" y="62064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214200" y="1890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дожд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/>
          <p:cNvSpPr/>
          <p:nvPr/>
        </p:nvSpPr>
        <p:spPr>
          <a:xfrm>
            <a:off x="214200" y="1890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дожд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Этот процесс называе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руговорот воды в природ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boloto.jpg"/>
          <p:cNvPicPr/>
          <p:nvPr/>
        </p:nvPicPr>
        <p:blipFill>
          <a:blip r:embed="rId1"/>
          <a:stretch/>
        </p:blipFill>
        <p:spPr>
          <a:xfrm>
            <a:off x="214200" y="428760"/>
            <a:ext cx="8713800" cy="6072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2000160" y="42876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уть дрожит на вете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нта на прост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зкий кончик в родн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широкий – в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572160" y="1428840"/>
            <a:ext cx="20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Р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8:05:26Z</dcterms:created>
  <dc:creator>Еремин Антон Витальевич</dc:creator>
  <dc:description/>
  <dc:language>en-US</dc:language>
  <cp:lastModifiedBy>Ноme</cp:lastModifiedBy>
  <dcterms:modified xsi:type="dcterms:W3CDTF">2012-06-11T10:19:27Z</dcterms:modified>
  <cp:revision>13</cp:revision>
  <dc:subject/>
  <dc:title>Слайд 1</dc:title>
</cp:coreProperties>
</file>