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F79-9A88-4696-AF8B-8FAEF0C8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156-A451-4E40-B55B-6DA6A0A0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337-FBD9-4933-BC7C-0D9FA7A8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8A6-8B3E-4CFC-8D84-45E5D15E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D960-39E1-40A6-8135-83BE5FFC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C0C-2E05-4759-B8F0-E092539E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AE4-9180-4CA2-A5B5-E72912D5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56A-3D08-4D61-A52B-DFF5A2BB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3C5-430B-473F-A489-CD0D9FC0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F90-FF49-4E42-89C9-A634217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A70-C98A-473C-880D-727F6C05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5AD-891E-4A8F-86FD-72500B24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7C87-1DB1-4677-982E-F7B503430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42960" y="21420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Дополни текст недостающими слов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14200" y="1197000"/>
            <a:ext cx="8715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 … с поверхности водоёмов и в виде … поднимается высоко вверх. Воздух высоко над землёй всегда … . Пар там … и превращается в множество водяных … или … . Из этих … или … образуются … .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boloto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TextBox 8"/>
          <p:cNvSpPr/>
          <p:nvPr/>
        </p:nvSpPr>
        <p:spPr>
          <a:xfrm>
            <a:off x="1116000" y="1484280"/>
            <a:ext cx="47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Шириною широ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Глубиною глубо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ень и ночь о берег бь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з него воды не пь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тому что не вкусн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горька, и сол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6654600" y="150012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Мо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boloto.jpg"/>
          <p:cNvPicPr/>
          <p:nvPr/>
        </p:nvPicPr>
        <p:blipFill>
          <a:blip r:embed="rId1"/>
          <a:stretch/>
        </p:blipFill>
        <p:spPr>
          <a:xfrm>
            <a:off x="468360" y="357120"/>
            <a:ext cx="8209080" cy="6243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1571760" y="500040"/>
            <a:ext cx="496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Молодые бере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вои перед 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правляют приче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месяц, и звезд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нем все отражается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ак это зеркало называ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6292080" y="1285920"/>
            <a:ext cx="166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Пру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boloto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36408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571840" y="285840"/>
            <a:ext cx="47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 маме-речке бе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молчать не 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Я ее сын род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 родился – в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939000" y="2143080"/>
            <a:ext cx="190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Руч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boloto.jpg"/>
          <p:cNvPicPr/>
          <p:nvPr/>
        </p:nvPicPr>
        <p:blipFill>
          <a:blip r:embed="rId1"/>
          <a:srcRect l="0" t="1293" r="0" b="0"/>
          <a:stretch/>
        </p:blipFill>
        <p:spPr>
          <a:xfrm>
            <a:off x="357120" y="357120"/>
            <a:ext cx="8429760" cy="6338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785880" y="500040"/>
            <a:ext cx="479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 проедешь, не пройдеш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ойдешь сторон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И водицы не попь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 синеватой плен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654160" y="1357200"/>
            <a:ext cx="25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"/>
              </a:rPr>
              <a:t>Болот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428760" y="2071800"/>
            <a:ext cx="8286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0" spc="-1" strike="noStrike">
                <a:solidFill>
                  <a:srgbClr val="002060"/>
                </a:solidFill>
                <a:latin typeface="Calibri"/>
              </a:rPr>
              <a:t>Водоёмы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928880" y="285840"/>
            <a:ext cx="5000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Calibri"/>
              </a:rPr>
              <a:t>водоё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3"/>
          <p:cNvCxnSpPr/>
          <p:nvPr/>
        </p:nvCxnSpPr>
        <p:spPr>
          <a:xfrm flipH="1">
            <a:off x="2285280" y="1357200"/>
            <a:ext cx="207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7"/>
          <p:cNvCxnSpPr/>
          <p:nvPr/>
        </p:nvCxnSpPr>
        <p:spPr>
          <a:xfrm>
            <a:off x="4428720" y="1356840"/>
            <a:ext cx="207252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рямоугольник 9"/>
          <p:cNvSpPr/>
          <p:nvPr/>
        </p:nvSpPr>
        <p:spPr>
          <a:xfrm>
            <a:off x="1071720" y="2071800"/>
            <a:ext cx="256356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пре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5357880" y="2143080"/>
            <a:ext cx="25002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солё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785880" y="3071880"/>
            <a:ext cx="32097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п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ка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водохран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б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5429160" y="3214800"/>
            <a:ext cx="242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928880" y="285840"/>
            <a:ext cx="5000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Calibri"/>
              </a:rPr>
              <a:t>водоё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3"/>
          <p:cNvCxnSpPr/>
          <p:nvPr/>
        </p:nvCxnSpPr>
        <p:spPr>
          <a:xfrm flipH="1">
            <a:off x="2285280" y="1357200"/>
            <a:ext cx="20725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7"/>
          <p:cNvCxnSpPr/>
          <p:nvPr/>
        </p:nvCxnSpPr>
        <p:spPr>
          <a:xfrm>
            <a:off x="4429080" y="1357200"/>
            <a:ext cx="19296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Прямоугольник 9"/>
          <p:cNvSpPr/>
          <p:nvPr/>
        </p:nvSpPr>
        <p:spPr>
          <a:xfrm>
            <a:off x="285840" y="2071800"/>
            <a:ext cx="37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ест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4500720" y="2071800"/>
            <a:ext cx="43192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Calibri"/>
              </a:rPr>
              <a:t>искус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785880" y="3071880"/>
            <a:ext cx="300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бол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5429160" y="321480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п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ка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водохран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571680" y="64296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Кто живёт в водоём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21420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Особенности внешнего вида и жизни рыб</a:t>
            </a:r>
            <a:r>
              <a:rPr b="0" lang="en-US" sz="5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857160" y="30002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Работа по учебнику: стр. 94-9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0" y="214200"/>
            <a:ext cx="871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Особенности внешнего вида и жизни рыб</a:t>
            </a:r>
            <a:r>
              <a:rPr b="0" lang="en-US" sz="4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500040" y="192888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14200" y="191628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ем покрыто тело рыб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то является основой тела рыб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де находятся плавн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акое значение имеют плавн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ак дышат рыб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Чем рыбы пит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ак рыбы размнож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214200" y="1125360"/>
            <a:ext cx="8715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… . Пар там … и превращается в множество водяных … или … . Из этих … или … образуются … .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642960" y="28584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Чем рыбы похожи на других животных и чем отличаютс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/>
          <p:cNvSpPr/>
          <p:nvPr/>
        </p:nvSpPr>
        <p:spPr>
          <a:xfrm>
            <a:off x="214200" y="476280"/>
            <a:ext cx="8715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… и превращается в множество водяных … или … . Из этих … или … образуются … .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/>
          <p:cNvSpPr/>
          <p:nvPr/>
        </p:nvSpPr>
        <p:spPr>
          <a:xfrm>
            <a:off x="214200" y="404640"/>
            <a:ext cx="8715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… или … образуются … .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214200" y="33336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снежино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разую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блак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Облака лёгкие, и … 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642960" y="214200"/>
            <a:ext cx="792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14200" y="62064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снежино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разую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блак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Облака лёгкие, 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вете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носит их порой на очень большие расстояния. Из облака вода возвращается на землю в виде … или … 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5"/>
          <p:cNvSpPr/>
          <p:nvPr/>
        </p:nvSpPr>
        <p:spPr>
          <a:xfrm>
            <a:off x="214200" y="18900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снежино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разую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блак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Облака лёгкие, 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вете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носит их порой на очень большие расстояния. Из облака вода возвращается на землю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дожд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г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Этот процесс называется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>
            <a:alpha val="9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5"/>
          <p:cNvSpPr/>
          <p:nvPr/>
        </p:nvSpPr>
        <p:spPr>
          <a:xfrm>
            <a:off x="214200" y="189000"/>
            <a:ext cx="8715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ода постоянно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испаря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 поверхности водоёмов и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пар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поднимается высоко вверх. Воздух высоко над землёй всегда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холод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Пар там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хлаждаетс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 превращается в множество водяны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жино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Из этих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апеле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снежинок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разую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облак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Облака лёгкие, 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вете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носит их порой на очень большие расстояния. Из облака вода возвращается на землю в виде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дожд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снег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Этот процесс называется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круговорот воды в природ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boloto.jpg"/>
          <p:cNvPicPr/>
          <p:nvPr/>
        </p:nvPicPr>
        <p:blipFill>
          <a:blip r:embed="rId1"/>
          <a:stretch/>
        </p:blipFill>
        <p:spPr>
          <a:xfrm>
            <a:off x="214200" y="428760"/>
            <a:ext cx="8713800" cy="6072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2000160" y="42876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уть дрожит на ветер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нта на прост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зкий кончик в родни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 широкий – в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572160" y="1428840"/>
            <a:ext cx="200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Calibri"/>
              </a:rPr>
              <a:t>Р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8:05:26Z</dcterms:created>
  <dc:creator>Еремин Антон Витальевич</dc:creator>
  <dc:description/>
  <dc:language>en-US</dc:language>
  <cp:lastModifiedBy>Ноme</cp:lastModifiedBy>
  <dcterms:modified xsi:type="dcterms:W3CDTF">2012-06-11T10:19:27Z</dcterms:modified>
  <cp:revision>13</cp:revision>
  <dc:subject/>
  <dc:title>Слайд 1</dc:title>
</cp:coreProperties>
</file>