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7.jpeg" ContentType="image/jpeg"/>
  <Override PartName="/ppt/media/image15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1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048-BCB9-4792-8883-9EB79CD7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BB0-B55A-4FAA-93DD-7943F1A1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5B9-72B2-440A-96F0-32C8D183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317-4EFD-4CAD-823A-C1416D6C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7B6-93FE-4A55-95BA-7FEFA248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9CA-6BEE-411C-A25A-2234F4FF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A34-6536-4C80-8639-3389FC9B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5D8-89FC-4822-8B73-A6F38402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664-3ED2-460A-AE14-AE06C6B8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867-16C5-4EA4-996D-EC8B1C66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B9E-76A6-49FF-A332-3C641F36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6AA-8265-42B9-AD8D-3E13CD62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B96E-B3DC-4C8A-9BCE-0C5EA9051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00"/>
                </a:solidFill>
                <a:latin typeface="Monotype Corsiva"/>
              </a:rPr>
              <a:t>Забота о родителях – дело совести каждог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67280" y="-222120"/>
            <a:ext cx="10476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1906560" cy="187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0360" y="0"/>
            <a:ext cx="2303640" cy="2225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195640" y="4076640"/>
            <a:ext cx="1752480" cy="189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647040" y="4076640"/>
            <a:ext cx="2496960" cy="2075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708360" y="0"/>
            <a:ext cx="2808360" cy="1965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284720" y="4076640"/>
            <a:ext cx="2089080" cy="2781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179280" y="4076640"/>
            <a:ext cx="171288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5119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28000" y="-2862360"/>
            <a:ext cx="658800" cy="61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…Сестра моя маленькая. Ну, а я чего – я учусь в пятом классе.  У меня есть друг, он самый лучший друг. Мама моя очень хорошая, мералюбивая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Носиков Алек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…Бабуля, когда была в молодости, работала в детском саду. Ее навыки воспитывать детей и сейчас не забыты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рутюнян Ди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«…Еще у нас есть дача. Там у нас большой дом, огород. Летом мы там живем. На даче у меня есть небольшой бассейн. Семья у нас очень милая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Муравлева М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Синквейн о  сем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1 строка –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2 строка – дет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3 строка – фам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4 строка – 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5 строка -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rot="1735800">
            <a:off x="6300360" y="4508640"/>
            <a:ext cx="2171880" cy="206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71640" y="1268280"/>
            <a:ext cx="3810240" cy="590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9640" y="551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22336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18394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459280" y="-512064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956720" y="5805000"/>
            <a:ext cx="7300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553080" cy="2060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1906920" cy="1872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732720" y="4986360"/>
            <a:ext cx="1906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8000" y="-5193000"/>
            <a:ext cx="298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imes New Roman"/>
              </a:rPr>
              <a:t>В семейном кругу мы с вами растем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imes New Roman"/>
              </a:rPr>
              <a:t>Основа основ – родительский дом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imes New Roman"/>
              </a:rPr>
              <a:t>В семейном кругу все корни тво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imes New Roman"/>
              </a:rPr>
              <a:t>И в жизнь ты выходишь из семьи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5445000"/>
            <a:ext cx="1028520" cy="1038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100008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9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583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55640" y="2491920"/>
            <a:ext cx="388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Castellar"/>
              </a:rPr>
              <a:t>Сем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17008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08360" y="620640"/>
            <a:ext cx="17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9080" y="620640"/>
            <a:ext cx="950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720" y="1916280"/>
            <a:ext cx="1549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81440" y="3068640"/>
            <a:ext cx="1035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16360" y="5292720"/>
            <a:ext cx="133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З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000" y="4149720"/>
            <a:ext cx="158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Чи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9480" y="4437000"/>
            <a:ext cx="312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9080" y="2852640"/>
            <a:ext cx="91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2000" y="573408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Терп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19387800">
            <a:off x="7000560" y="5381280"/>
            <a:ext cx="2143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Правила заботливого отношения детей к родителя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Если мои родители трудятся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ак должны вести себя дети во время разговора со своими родителя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Что вы должны делать, если у вас нет той или иной вещи, а вам ее очень хочется приобре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Семья садится обедать за стол. Как вы будете вести себя по отношению к родител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ужно ли просить разрешения у старших, выходя из дома на прогул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Как необходимо вести себя во время отдыха родите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74072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80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604000" y="-51206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льзя бездельничать, когда родители труд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астоящий сын/дочь бережет покой своих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астоящий сын/дочь заботится о благе своей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 вступай в пререкания со взрослыми, не гру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 выражай недовольство тем, что  у тебя нет той или иной ве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 допускай, чтобы мама давала тебе то, что она не дает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 делай того, что осуждают старшие – ни на глазах, ни где-то в стор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 уходи никуда, не спросив разрешения и совета у старш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Уважай труд своих родителей, помогай 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Нельзя садиться обедать, не пригласив старш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40000" y="6165720"/>
            <a:ext cx="504036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е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28920" y="2147760"/>
            <a:ext cx="4286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0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Felix Titling"/>
              </a:rPr>
              <a:t>Мы пише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«…Мама и папа все время работают, но у них есть время, чтобы заниматься с нами урок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Липатова Дар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«…Всей семьей в хорошую погоду мы любим выезжать на природу. Особенно на родник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Хлюпт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…Когда я прихожу домой, сестра хочет со мной поиграть, но я отказываю ей. Я делаю уроки и немного с ней погуляю, а потом и поиграю в какую-нибудь игру дом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Кутырев Анд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 rot="19932000">
            <a:off x="7451280" y="189000"/>
            <a:ext cx="1332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43640" y="-4321800"/>
            <a:ext cx="45396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«…Если  папа и мама что-нибудь делают, я им помогаю. Я каждый день хожу гулять . Мне все разрешают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Чернявко Вячес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«…Моя семья мирная, спокойная. Живу я хорошо. Я обыкновенная пятиклассница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Коромыслова Анаста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«…Она со мной играет, будит меня в школу. Мама очень очень-очень любит цветы. А когда кошка играет с цветами, мама ее ругает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Жуков Анд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77080" y="54291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59280" y="-515664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«…Когда мама готовит, я ей помогаю. Моя мама научила меня готовить щи, суп, борщ и разные салатики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Конькова М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«…Папа у меня добрый, ему  43 года. Я очень рад за такую добрую, умную семью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Бурганутдинов  Ег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оя семья самая лучшая. Моя мама очень хорошая, я – хороши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ижин Эдуа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037360" y="3357720"/>
            <a:ext cx="11066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14:45Z</dcterms:created>
  <dc:creator>Пользователь</dc:creator>
  <dc:description/>
  <dc:language>en-US</dc:language>
  <cp:lastModifiedBy>rectorat5</cp:lastModifiedBy>
  <dcterms:modified xsi:type="dcterms:W3CDTF">2012-06-12T14:34:06Z</dcterms:modified>
  <cp:revision>30</cp:revision>
  <dc:subject/>
  <dc:title>Забота о родителях – дело совести каждого.</dc:title>
</cp:coreProperties>
</file>