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0.png" ContentType="image/png"/>
  <Override PartName="/ppt/media/image28.wmf" ContentType="image/x-wmf"/>
  <Override PartName="/ppt/media/image45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49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50.png" ContentType="image/png"/>
  <Override PartName="/ppt/media/image44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4EF-C26A-454B-A6E4-2CC831D7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4FC-FE02-44FF-94B4-A1ECCC1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3A6-91CF-45F4-A14B-A56823AA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24A-A2B9-43C6-BCF6-EC57EE44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8A74-7AD3-40E2-8E02-03B18DFA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03C-268A-4EFA-835D-436D7BA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8051-588B-4693-9D5C-44330DFF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3163-449A-4585-A2AB-6E66CE69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ADF1-07C2-43F6-A153-B2083F32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D2FA-30A6-4BDC-9658-83A47D3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2241-DBD6-4A5C-B584-1124AA7A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016-70CC-40C9-84CE-B632BF77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8E3C-F9E6-4138-BF16-E80BE899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B225-588B-41BE-8CC6-1916BFF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E22E-3DC4-4017-8F6C-EFBF0735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5E4-378D-4F8A-9E71-555FACE2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607B-2199-46AA-91B5-4D201606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96CB-361B-4851-9A1D-32BE95B6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58D-8551-41C3-A6AB-DB098E6C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32B-2CBE-4D09-87A9-B94BD216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53D-95F8-4D3A-802A-D90EEBB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6B0-DC75-48C4-BA0B-A3DDCF13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E13-DD5F-4733-A052-348080BA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8D53-3B60-4310-91B4-45E0BE56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D13A-BCB4-4E38-8360-8826D7E74D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40CE-3124-4536-B9AD-A9C8FB10E8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2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2421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идактическ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методическ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ходки на уроках 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созданию успех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651280" y="4723920"/>
            <a:ext cx="29718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читель технолог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льник Елена Владимиро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708360" y="57340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684360" y="476280"/>
            <a:ext cx="81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ниципальное казенное учебное заве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редняя общеобразовательная школа №1 с.п. «Село Пивань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Виды обучающих игр, применяемых на уроках технологи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c0000"/>
                </a:solidFill>
                <a:latin typeface="Verdana"/>
              </a:rPr>
              <a:t>Организационно - деятельностные игры</a:t>
            </a: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пользую на уроках - соревнования, конкурсы, викторины и т.п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например, составление кроссворда или соревнование двух групп учащихся при взаимной постановке вопросов или выполнения практических заданий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Игра соревнование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учеников 6 класс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Рисунок 4" descr="C:\Documents and Settings\Полина\Рабочий стол\IMG.jpg"/>
          <p:cNvPicPr/>
          <p:nvPr/>
        </p:nvPicPr>
        <p:blipFill>
          <a:blip r:embed="rId1"/>
          <a:stretch/>
        </p:blipFill>
        <p:spPr>
          <a:xfrm>
            <a:off x="285840" y="1571760"/>
            <a:ext cx="4535280" cy="45115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-281160" y="11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4384080" y="1785960"/>
            <a:ext cx="4786200" cy="28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i="1" lang="ru-RU" sz="2400" spc="-1" strike="noStrike">
                <a:solidFill>
                  <a:srgbClr val="00b0f0"/>
                </a:solidFill>
                <a:latin typeface="Cambria"/>
                <a:ea typeface="Times New Roman"/>
              </a:rPr>
              <a:t>Игровая програм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« Разговор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о правильном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Cambria"/>
                <a:ea typeface="Times New Roman"/>
              </a:rPr>
              <a:t>питании»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Занятие в форме дебатов по теме Мы и мода  7 класс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игре участвуют 3 группы: защита, отрицания и эксперты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ступления по темам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 Мода и косметик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Мода и культур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Мода и здоровье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Мода и экономик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уппа экспертов участвует в споре команд и подсчитывает результаты.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588000" y="2349360"/>
            <a:ext cx="14493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Игра «Пазлы»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ртеж изделия, сервировка стола,  составление меню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ю проверки знаний при помощи игры в пазлы является не только закрепление материала, но и тренировка зрительной пространственной памяти, развитие внимания и логического мышления, а также воспитание аккуратности и усидчивост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Тема «Плечевые изделия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140652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179280" y="429264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3"/>
          <a:srcRect l="0" t="75756" r="60666" b="0"/>
          <a:stretch/>
        </p:blipFill>
        <p:spPr>
          <a:xfrm>
            <a:off x="7093080" y="1916280"/>
            <a:ext cx="1726920" cy="1064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4"/>
          <a:srcRect l="0" t="42427" r="57587" b="27254"/>
          <a:stretch/>
        </p:blipFill>
        <p:spPr>
          <a:xfrm>
            <a:off x="2268360" y="1989000"/>
            <a:ext cx="1800360" cy="12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5"/>
          <a:srcRect l="0" t="0" r="60666" b="57587"/>
          <a:stretch/>
        </p:blipFill>
        <p:spPr>
          <a:xfrm>
            <a:off x="2987640" y="3789360"/>
            <a:ext cx="1870200" cy="201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6"/>
          <a:srcRect l="51582" t="0" r="3010" b="57587"/>
          <a:stretch/>
        </p:blipFill>
        <p:spPr>
          <a:xfrm>
            <a:off x="7093080" y="321300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7"/>
          <a:srcRect l="51512" t="42427" r="0" b="24258"/>
          <a:stretch/>
        </p:blipFill>
        <p:spPr>
          <a:xfrm>
            <a:off x="4643280" y="2276640"/>
            <a:ext cx="2017800" cy="1387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"/>
          <p:cNvPicPr/>
          <p:nvPr/>
        </p:nvPicPr>
        <p:blipFill>
          <a:blip r:embed="rId8"/>
          <a:srcRect l="42497" t="78835" r="0" b="0"/>
          <a:stretch/>
        </p:blipFill>
        <p:spPr>
          <a:xfrm>
            <a:off x="5435640" y="5084640"/>
            <a:ext cx="244800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россворд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шение кроссвордов – это своеобразная гимнастика ума. Они развивают и тренируют память, обостряют сообразительность, вырабатывают настойчивость, способность логически мыслить, анализировать, сопоставлять, отбирать нужные знания.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     В зависимости от возраста учащихся, уровня их подготовки и цели урока можно предлагать им для решения различные виды кроссвордов. При проверке знаний по определенной теме – тематические кроссворды, включающие в себя 6 – 8 определений, при обобщающей проверке – более расширенные, охватывающие понятия и определения по всему разделу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зучение темы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струкционные материалы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13522" b="70282"/>
          <a:stretch/>
        </p:blipFill>
        <p:spPr>
          <a:xfrm>
            <a:off x="395280" y="1844640"/>
            <a:ext cx="4871880" cy="29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rcRect l="0" t="26235" r="12386" b="49992"/>
          <a:stretch/>
        </p:blipFill>
        <p:spPr>
          <a:xfrm>
            <a:off x="3857760" y="4643280"/>
            <a:ext cx="3671640" cy="180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rcRect l="0" t="46189" r="-1574" b="0"/>
          <a:stretch/>
        </p:blipFill>
        <p:spPr>
          <a:xfrm>
            <a:off x="5580000" y="1628640"/>
            <a:ext cx="3384720" cy="291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7"/>
          <p:cNvSpPr/>
          <p:nvPr/>
        </p:nvSpPr>
        <p:spPr>
          <a:xfrm>
            <a:off x="4714920" y="4643280"/>
            <a:ext cx="157176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6000840" y="6072120"/>
            <a:ext cx="1143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оугольник 10"/>
          <p:cNvSpPr/>
          <p:nvPr/>
        </p:nvSpPr>
        <p:spPr>
          <a:xfrm>
            <a:off x="3929040" y="4429080"/>
            <a:ext cx="1143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6215040" y="1643040"/>
            <a:ext cx="1143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Головоломки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Тема «Электротехника и электроник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Задание 2. «Шифровка».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пишите вместо чисел буквы русского алфавита, соответствующие номерам этих букв, и вы прочтете названия основных понятий электрони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1,13, 6, 12, 20,18,16,17,1, 33,13, 30, 15,10,12;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2, 13,32, 19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, 29, 17, 18, 33, 14, 10, 20, б, 13, 3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0, 21, 14,2,13,6, 18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8, 6, 9, 10, 19, 20, 16, 18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  а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2, 16, 15, 5, 6, 15, 19, 1, 20, 16, 18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)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0, 15, 5, 21, 12, 20, 10, 3, 15, 16, 19, 20, 3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)   20, 6, 13,6, 22, 16, 15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)   14, 10, 12, 18, 16, 22, 16, 15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)   4,18,16,14,12,16, 4,16, 3,16,18,10, 20, 6,13, 30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)   20, 18, 1, 15, 19, 22, 16, 18, 14, 1, 20, 16, 18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ставление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россвор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47280" y="1916280"/>
            <a:ext cx="32403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чень хороший результат дает задание учащимся составить кроссворд самим во внеурочное врем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76360" y="1752480"/>
            <a:ext cx="3490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этом случае они не только подбирают слова, но дают правильное определение, характеристику того или иного понят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6" descr="j0299125"/>
          <p:cNvPicPr/>
          <p:nvPr/>
        </p:nvPicPr>
        <p:blipFill>
          <a:blip r:embed="rId1"/>
          <a:stretch/>
        </p:blipFill>
        <p:spPr>
          <a:xfrm>
            <a:off x="324000" y="3137040"/>
            <a:ext cx="1100160" cy="1804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j0199805"/>
          <p:cNvPicPr/>
          <p:nvPr/>
        </p:nvPicPr>
        <p:blipFill>
          <a:blip r:embed="rId2"/>
          <a:stretch/>
        </p:blipFill>
        <p:spPr>
          <a:xfrm>
            <a:off x="7093080" y="0"/>
            <a:ext cx="1788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каз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92360" y="1773000"/>
            <a:ext cx="352908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запомнить сложные названия инструментов таких как киянка, стамеска, зубило, резец, наперсток, болт, челнок, верстак, лобзик, рейсмус  и т. д.</a:t>
            </a:r>
            <a:br>
              <a:rPr sz="17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днако такое задание, как придумать сказку, да еще с определенными условиями, достаточно сложно: не у всех учащихся развиты фантазия, игра воображения, да и способность излагать свои мысли на бумаге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44280"/>
            <a:ext cx="4790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казки и поныне обладают огромным обаянием для всех нас, детей и взросл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щимся 5-6 классов предлагается  придумать сказки, где главными действующими лицами являются те предметы или правила, которые они изучают на уроке технолог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пример, сложно запомнить правила безопасности –дети обычно не понимают важности их усвоения, но  если в сказке ее герой попадает в различные сложные ситуации и спасти его может знание этих правил, то ученик надолго запомнит их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7" descr="j0217698"/>
          <p:cNvPicPr/>
          <p:nvPr/>
        </p:nvPicPr>
        <p:blipFill>
          <a:blip r:embed="rId1"/>
          <a:stretch/>
        </p:blipFill>
        <p:spPr>
          <a:xfrm>
            <a:off x="7164360" y="333360"/>
            <a:ext cx="10796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бота с устными и письменными текстами на уро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радиционные формы проведения занятий, на которых учитель устно излагается учебный материал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лекция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беседа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ссказ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бъяснение нового материала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 таких занятиях активность учащихся достигается за счет введения в содержание материала различного рода противоречий, преднамеренных ошибок, приемов проблемного обучения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движение и последующее обоснование предложений (гипотез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становка проблемных вопросов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рганизация дискуссионного рассмотрения нового материала и др.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Ролевые игр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Характеризуются наличием задачи или проблемы и распределением ролей между участниками ее реш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зыгрывание ролей создает на уроке взаимозависимость учащихся и тем самым активизирует их познавательно-творческую деятельност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10-11 классах использование ролевых игр позволило ученикам на практике  проявить себя в качестве руководителя, работодателя, соискателя.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6" descr="j0291984"/>
          <p:cNvPicPr/>
          <p:nvPr/>
        </p:nvPicPr>
        <p:blipFill>
          <a:blip r:embed="rId1"/>
          <a:stretch/>
        </p:blipFill>
        <p:spPr>
          <a:xfrm>
            <a:off x="1476360" y="393372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j0149481"/>
          <p:cNvPicPr/>
          <p:nvPr/>
        </p:nvPicPr>
        <p:blipFill>
          <a:blip r:embed="rId2"/>
          <a:stretch/>
        </p:blipFill>
        <p:spPr>
          <a:xfrm>
            <a:off x="7020000" y="115920"/>
            <a:ext cx="1293840" cy="13161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3780000" y="3789360"/>
            <a:ext cx="4392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ие ролевых игр таких ка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Контракт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бери профессию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Я - руководитель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Текуч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Устройство на работу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50007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спользование игровых методов на уроке технологии в неделимых 5-8 классах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зволяет задействовать всех учеников класса, не зависимо от изучаемой темы урока.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еники как девочки так и мальчики смогут проявить себя, применить на практике смекалку, деловитость, активность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ловые игры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24000" y="2924280"/>
            <a:ext cx="3600360" cy="2838240"/>
          </a:xfrm>
          <a:prstGeom prst="rect">
            <a:avLst/>
          </a:prstGeom>
          <a:noFill/>
          <a:ln w="1908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Я - механик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Электромонтажник- изобретател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Конструкторское буро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Мастер по оказанию услуг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Дизайне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Фирма – конструкто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Домашний менеджер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«Изобретатель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3924360" y="3284640"/>
            <a:ext cx="5000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уроках технологии в  неделимых классах особенно трудно заинтересовать всех учащихся при изучении таких тем как «Машины и механизмы», «Электротехнические работы», «Технология изготовления швейных изделий» использование тематических – деловых игр, позволяющих задействовать на уроке девочек и мальчиков дают положительный результа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5143680" y="928800"/>
            <a:ext cx="37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Познавательно-дидактические иг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торых создаются ситуации характеризующиеся включением изучаемого материала в необычный игровой контекст. Например,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“Путешествие льняного волокна”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 балу у принцес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” и д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8" descr="j0252349"/>
          <p:cNvPicPr/>
          <p:nvPr/>
        </p:nvPicPr>
        <p:blipFill>
          <a:blip r:embed="rId1"/>
          <a:stretch/>
        </p:blipFill>
        <p:spPr>
          <a:xfrm>
            <a:off x="7093080" y="189000"/>
            <a:ext cx="115236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спользование информационных технологии на уроках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меры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Объяснение новой темы, сопровождаемое презентацие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Работа с устными упражнениям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Использование презентации при повторении пройденного материала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Демонстрация условия и решения задач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Демонстрация геометрических чертежей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Взаимопроверка самостоятельных работ с помощью ответов на слайд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Проведение тестов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- Создание учащимися компьютерных презентаций к урокам обобщения и систематизации знаний и способов деятельност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Урок презентац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2822400" cy="21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Text Box 6"/>
          <p:cNvSpPr/>
          <p:nvPr/>
        </p:nvSpPr>
        <p:spPr>
          <a:xfrm>
            <a:off x="539640" y="2421000"/>
            <a:ext cx="2592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 окружающая среда 10 клас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Рисунок1"/>
          <p:cNvPicPr/>
          <p:nvPr/>
        </p:nvPicPr>
        <p:blipFill>
          <a:blip r:embed="rId2"/>
          <a:stretch/>
        </p:blipFill>
        <p:spPr>
          <a:xfrm>
            <a:off x="5694480" y="1279440"/>
            <a:ext cx="3284280" cy="48531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6159240" y="134064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ШИН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5867280" y="1844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овая швейная маш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020000" y="306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11" descr=""/>
          <p:cNvPicPr/>
          <p:nvPr/>
        </p:nvPicPr>
        <p:blipFill>
          <a:blip r:embed="rId3"/>
          <a:stretch/>
        </p:blipFill>
        <p:spPr>
          <a:xfrm>
            <a:off x="262080" y="3780000"/>
            <a:ext cx="2859120" cy="4254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"/>
          <p:cNvPicPr/>
          <p:nvPr/>
        </p:nvPicPr>
        <p:blipFill>
          <a:blip r:embed="rId4"/>
          <a:stretch/>
        </p:blipFill>
        <p:spPr>
          <a:xfrm>
            <a:off x="2895480" y="944640"/>
            <a:ext cx="3297240" cy="2725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"/>
          <p:cNvPicPr/>
          <p:nvPr/>
        </p:nvPicPr>
        <p:blipFill>
          <a:blip r:embed="rId5"/>
          <a:stretch/>
        </p:blipFill>
        <p:spPr>
          <a:xfrm>
            <a:off x="6004080" y="3943440"/>
            <a:ext cx="2639880" cy="3957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6" descr=""/>
          <p:cNvPicPr/>
          <p:nvPr/>
        </p:nvPicPr>
        <p:blipFill>
          <a:blip r:embed="rId6"/>
          <a:stretch/>
        </p:blipFill>
        <p:spPr>
          <a:xfrm>
            <a:off x="3706920" y="4614840"/>
            <a:ext cx="2597040" cy="2023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"/>
          <p:cNvPicPr/>
          <p:nvPr/>
        </p:nvPicPr>
        <p:blipFill>
          <a:blip r:embed="rId7"/>
          <a:stretch/>
        </p:blipFill>
        <p:spPr>
          <a:xfrm>
            <a:off x="2567160" y="3286080"/>
            <a:ext cx="2357280" cy="1768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оекты учеников 8 класс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6012000" y="3716280"/>
            <a:ext cx="2663640" cy="1997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4"/>
          <a:stretch/>
        </p:blipFill>
        <p:spPr>
          <a:xfrm>
            <a:off x="611280" y="3429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5"/>
          <a:stretch/>
        </p:blipFill>
        <p:spPr>
          <a:xfrm>
            <a:off x="3276720" y="184464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6"/>
          <a:stretch/>
        </p:blipFill>
        <p:spPr>
          <a:xfrm>
            <a:off x="1908000" y="479736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7"/>
          <a:stretch/>
        </p:blipFill>
        <p:spPr>
          <a:xfrm>
            <a:off x="3492360" y="3357720"/>
            <a:ext cx="23767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4400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троение схем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ля выши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6" descr="967141764_Image_Embroidery"/>
          <p:cNvPicPr/>
          <p:nvPr/>
        </p:nvPicPr>
        <p:blipFill>
          <a:blip r:embed="rId1"/>
          <a:stretch/>
        </p:blipFill>
        <p:spPr>
          <a:xfrm>
            <a:off x="5357880" y="214200"/>
            <a:ext cx="2489040" cy="1731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1293144193_02"/>
          <p:cNvPicPr/>
          <p:nvPr/>
        </p:nvPicPr>
        <p:blipFill>
          <a:blip r:embed="rId2"/>
          <a:stretch/>
        </p:blipFill>
        <p:spPr>
          <a:xfrm>
            <a:off x="4500720" y="1700280"/>
            <a:ext cx="3097080" cy="21733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4786200" y="3929040"/>
            <a:ext cx="3571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остроение схемы орнамент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15"/>
          <p:cNvPicPr/>
          <p:nvPr/>
        </p:nvPicPr>
        <p:blipFill>
          <a:blip r:embed="rId3"/>
          <a:stretch/>
        </p:blipFill>
        <p:spPr>
          <a:xfrm>
            <a:off x="357120" y="3786120"/>
            <a:ext cx="4554720" cy="242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4"/>
          <a:stretch/>
        </p:blipFill>
        <p:spPr>
          <a:xfrm>
            <a:off x="2643120" y="2286000"/>
            <a:ext cx="1214640" cy="1263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5"/>
          <a:stretch/>
        </p:blipFill>
        <p:spPr>
          <a:xfrm>
            <a:off x="714240" y="2357280"/>
            <a:ext cx="14907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ворческие проект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39243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Verdana"/>
              </a:rPr>
              <a:t>Успе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мостоятельная деятельность учени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явление интереса в конечном результате своей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тремление сделать что то новое придуманное сами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392436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Verdana"/>
              </a:rPr>
              <a:t>Неудач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ученик не способен работать самостоятельн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ыстро пропадает интерес в процессе работы над проект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т творческих иде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т желания выполнить работу своими рукам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 хватает терпения до делать работ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ему и метод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вышающие активность трудовой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 большой объем работы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доставление банка идей возможных проек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ллективная работа над проектом- модульное выполнение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амостоятельное проектировани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ист критерии оценки творческого проек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этапная оценка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бор информаци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нкурс проект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изуальное представление о конечном результате работ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ые зада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856880"/>
            <a:ext cx="8229600" cy="45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ния исследовательского характер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ания по поиску новых технологий, оптимизации последовательности операций, подбору приспособлений, приборов, организации работ и т.п.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итационные упражнения, которые могут носить двигательный и умственный характе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умственным – разбор или построение конкретных ситуаций. Такие ситуации помогают касаться разработки структуры технологического процес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Убери лишнее!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305080" cy="181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2735280" cy="2043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3924360" y="1484280"/>
            <a:ext cx="2736720" cy="20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4"/>
          <a:stretch/>
        </p:blipFill>
        <p:spPr>
          <a:xfrm>
            <a:off x="7380360" y="1268280"/>
            <a:ext cx="1452600" cy="270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5"/>
          <a:stretch/>
        </p:blipFill>
        <p:spPr>
          <a:xfrm>
            <a:off x="3851280" y="4076640"/>
            <a:ext cx="2879640" cy="182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6"/>
          <a:stretch/>
        </p:blipFill>
        <p:spPr>
          <a:xfrm>
            <a:off x="7164360" y="4437000"/>
            <a:ext cx="16448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арточки -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2252160"/>
            <a:ext cx="45003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ыпьте в чайник чай из расчета 1 чайная ложка на чашк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кройте чайник салфеткой или кухонным полотенц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лить чайник  кипятко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олнить чайник кипятком на 2/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олоснуть кипятком заварной чайник Настоять 5-7 мину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ипятить в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ть по чашка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042920" y="1484280"/>
            <a:ext cx="727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95280" y="1197000"/>
            <a:ext cx="6048360" cy="7855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сставьте в правильной последовательност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ехнологию «Приготовления ча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7380360" y="134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6372360" y="549360"/>
            <a:ext cx="1428480" cy="1066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5796000" y="3141720"/>
            <a:ext cx="2663640" cy="2705760"/>
          </a:xfrm>
          <a:prstGeom prst="rect">
            <a:avLst/>
          </a:prstGeom>
          <a:blipFill rotWithShape="0">
            <a:blip r:embed="rId3">
              <a:alphaModFix amt="52000"/>
            </a:blip>
            <a:srcRect/>
            <a:tile tx="0" ty="0" sx="100000" sy="100000" algn="ctr"/>
          </a:blip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e2e45"/>
                </a:solidFill>
                <a:latin typeface="Verdana"/>
              </a:rPr>
              <a:t>Игровое проектир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быть связано с решением конструкторской задачи или разработкой технолог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Задание карточки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по машиноведению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768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e2e45"/>
                </a:solidFill>
                <a:latin typeface="Verdana"/>
              </a:rPr>
              <a:t>Задание 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ссмотрите устройство машинной иглы, про­ставляя номер каждой детали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) острие; 2) ушко; 3) стержень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) колба; 5) длинный жело­бок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) короткий желобок; 7) лыс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900000" y="4000680"/>
            <a:ext cx="4176720" cy="210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580000" y="1773360"/>
            <a:ext cx="302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2e45"/>
                </a:solidFill>
                <a:latin typeface="Arial"/>
              </a:rPr>
              <a:t>Задание 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шите назначение частей игл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ие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ко - __________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ба- __________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ый желобок -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й желобок - 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ржень - ____________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гровые моменты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темы «Бытовые приборы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2" descr="zagadki-dlya-detej-o-bytovoj-texnike-1"/>
          <p:cNvPicPr/>
          <p:nvPr/>
        </p:nvPicPr>
        <p:blipFill>
          <a:blip r:embed="rId1"/>
          <a:srcRect l="37343" t="-84" r="37825" b="67451"/>
          <a:stretch/>
        </p:blipFill>
        <p:spPr>
          <a:xfrm>
            <a:off x="179280" y="3141720"/>
            <a:ext cx="1297080" cy="119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zagadki-dlya-detej-o-bytovoj-texnike-6"/>
          <p:cNvPicPr/>
          <p:nvPr/>
        </p:nvPicPr>
        <p:blipFill>
          <a:blip r:embed="rId2"/>
          <a:stretch/>
        </p:blipFill>
        <p:spPr>
          <a:xfrm>
            <a:off x="324000" y="1773360"/>
            <a:ext cx="1144440" cy="96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zagadki-dlya-detej-o-bytovoj-texnike-3"/>
          <p:cNvPicPr/>
          <p:nvPr/>
        </p:nvPicPr>
        <p:blipFill>
          <a:blip r:embed="rId3"/>
          <a:stretch/>
        </p:blipFill>
        <p:spPr>
          <a:xfrm>
            <a:off x="1763640" y="1773360"/>
            <a:ext cx="1224000" cy="98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zagadki-dlya-detej-o-bytovoj-texnike-3"/>
          <p:cNvPicPr/>
          <p:nvPr/>
        </p:nvPicPr>
        <p:blipFill>
          <a:blip r:embed="rId4"/>
          <a:stretch/>
        </p:blipFill>
        <p:spPr>
          <a:xfrm>
            <a:off x="3419640" y="1785960"/>
            <a:ext cx="1223640" cy="10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zagadki-dlya-detej-o-bytovoj-texnike-4"/>
          <p:cNvPicPr/>
          <p:nvPr/>
        </p:nvPicPr>
        <p:blipFill>
          <a:blip r:embed="rId5"/>
          <a:stretch/>
        </p:blipFill>
        <p:spPr>
          <a:xfrm>
            <a:off x="1714680" y="3143160"/>
            <a:ext cx="1500120" cy="121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zagadki-dlya-detej-o-bytovoj-texnike-1"/>
          <p:cNvPicPr/>
          <p:nvPr/>
        </p:nvPicPr>
        <p:blipFill>
          <a:blip r:embed="rId6"/>
          <a:srcRect l="39154" t="67493" r="37776" b="3329"/>
          <a:stretch/>
        </p:blipFill>
        <p:spPr>
          <a:xfrm>
            <a:off x="3348000" y="3143160"/>
            <a:ext cx="1366920" cy="1211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5364000" y="1484280"/>
            <a:ext cx="35053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серый сундуч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не тронешь - он молч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 стоит ручку повертеть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 будет говорить и п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214960" y="3143160"/>
            <a:ext cx="2895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 и ночь стою на крыш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ушей, но я все слышу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даль гляжу, хотя без глаз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экране мой рассказ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114480" y="-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5"/>
          <p:cNvSpPr/>
          <p:nvPr/>
        </p:nvSpPr>
        <p:spPr>
          <a:xfrm>
            <a:off x="11448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zagadki-dlya-detej-o-bytovoj-texnike-6"/>
          <p:cNvPicPr/>
          <p:nvPr/>
        </p:nvPicPr>
        <p:blipFill>
          <a:blip r:embed="rId7"/>
          <a:srcRect l="33179" t="35153" r="35541" b="35320"/>
          <a:stretch/>
        </p:blipFill>
        <p:spPr>
          <a:xfrm>
            <a:off x="3571920" y="4786200"/>
            <a:ext cx="1682640" cy="1131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zagadki-dlya-detej-o-bytovoj-texnike-6"/>
          <p:cNvPicPr/>
          <p:nvPr/>
        </p:nvPicPr>
        <p:blipFill>
          <a:blip r:embed="rId8"/>
          <a:srcRect l="33179" t="-181" r="36299" b="68844"/>
          <a:stretch/>
        </p:blipFill>
        <p:spPr>
          <a:xfrm>
            <a:off x="1857240" y="47862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zagadki-dlya-detej-o-bytovoj-texnike-5"/>
          <p:cNvPicPr/>
          <p:nvPr/>
        </p:nvPicPr>
        <p:blipFill>
          <a:blip r:embed="rId9"/>
          <a:srcRect l="35413" t="-84" r="34577" b="70000"/>
          <a:stretch/>
        </p:blipFill>
        <p:spPr>
          <a:xfrm>
            <a:off x="142920" y="4786200"/>
            <a:ext cx="1584360" cy="11145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9"/>
          <p:cNvSpPr/>
          <p:nvPr/>
        </p:nvSpPr>
        <p:spPr>
          <a:xfrm>
            <a:off x="5580000" y="4797360"/>
            <a:ext cx="32068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порою одиноко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друг в тишину ворвется звон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голос друга издал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бе подарит…….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1448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зад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2e45"/>
                </a:solidFill>
                <a:latin typeface="Verdana"/>
              </a:rPr>
              <a:t>Дорисуй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 доске нарисованы определенные линии, под каждой из которых вписываются названия нескольких инструментов или материал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пример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Геометрическая резьба «Розетка»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   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2e45"/>
                </a:solidFill>
                <a:latin typeface="Verdana"/>
              </a:rPr>
              <a:t>Правильно расставь слова.</a:t>
            </a:r>
            <a:r>
              <a:rPr b="0" lang="ru-RU" sz="1500" spc="-1" strike="noStrike">
                <a:solidFill>
                  <a:srgbClr val="2e2e45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итель пишет на доске несколько предложений по изученной теме, в которых произвольно переставлены слова. Учащиеся вписывают их в рабочие тетради в нужном порядке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1500" spc="-1" strike="noStrike">
                <a:solidFill>
                  <a:srgbClr val="2e2e45"/>
                </a:solidFill>
                <a:latin typeface="Verdana"/>
              </a:rPr>
              <a:t>волокна для изготовления используются текстильные швейных изделий натурального и химического происхождения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     </a:t>
            </a:r>
            <a:r>
              <a:rPr b="1" lang="ru-RU" sz="1500" spc="-1" strike="noStrike">
                <a:solidFill>
                  <a:srgbClr val="2e2e45"/>
                </a:solidFill>
                <a:latin typeface="Verdana"/>
              </a:rPr>
              <a:t>Без сантиметра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читель предлагает учащимся проверить, умеют ли они на глаз производить замеры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         Определить длину карандаша в см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         Сколько раз карандаш уложиться на гладильной доске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         Определить длину, ширину, толщину той или иной заготовки,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зделия и т.п.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5148360" y="2344680"/>
            <a:ext cx="1941480" cy="101304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12"/>
          <p:cNvSpPr/>
          <p:nvPr/>
        </p:nvSpPr>
        <p:spPr>
          <a:xfrm>
            <a:off x="1714680" y="2428920"/>
            <a:ext cx="1143000" cy="92880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494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4"/>
          <p:cNvSpPr/>
          <p:nvPr/>
        </p:nvSpPr>
        <p:spPr>
          <a:xfrm>
            <a:off x="1881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ая соединительная линия 16"/>
          <p:cNvSpPr/>
          <p:nvPr/>
        </p:nvSpPr>
        <p:spPr>
          <a:xfrm>
            <a:off x="2286000" y="2416320"/>
            <a:ext cx="0" cy="95400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ая соединительная линия 18"/>
          <p:cNvSpPr/>
          <p:nvPr/>
        </p:nvSpPr>
        <p:spPr>
          <a:xfrm>
            <a:off x="1701720" y="2894040"/>
            <a:ext cx="1168560" cy="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 flipH="1">
            <a:off x="1881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Овал 21"/>
          <p:cNvSpPr/>
          <p:nvPr/>
        </p:nvSpPr>
        <p:spPr>
          <a:xfrm>
            <a:off x="2857680" y="2428920"/>
            <a:ext cx="1143000" cy="928800"/>
          </a:xfrm>
          <a:prstGeom prst="ellipse">
            <a:avLst/>
          </a:prstGeom>
          <a:solidFill>
            <a:srgbClr val="dddddd"/>
          </a:solidFill>
          <a:ln w="25560">
            <a:solidFill>
              <a:srgbClr val="4949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Прямая соединительная линия 23"/>
          <p:cNvSpPr/>
          <p:nvPr/>
        </p:nvSpPr>
        <p:spPr>
          <a:xfrm>
            <a:off x="3024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Прямая соединительная линия 25"/>
          <p:cNvSpPr/>
          <p:nvPr/>
        </p:nvSpPr>
        <p:spPr>
          <a:xfrm>
            <a:off x="3429000" y="2416320"/>
            <a:ext cx="0" cy="95400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рямая соединительная линия 27"/>
          <p:cNvSpPr/>
          <p:nvPr/>
        </p:nvSpPr>
        <p:spPr>
          <a:xfrm flipV="1">
            <a:off x="3024360" y="2552760"/>
            <a:ext cx="809280" cy="68112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ая соединительная линия 29"/>
          <p:cNvSpPr/>
          <p:nvPr/>
        </p:nvSpPr>
        <p:spPr>
          <a:xfrm>
            <a:off x="2844720" y="2894040"/>
            <a:ext cx="1168560" cy="0"/>
          </a:xfrm>
          <a:prstGeom prst="line">
            <a:avLst/>
          </a:prstGeom>
          <a:ln w="9360">
            <a:solidFill>
              <a:srgbClr val="6060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7259760" y="2060640"/>
            <a:ext cx="18842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Verdana"/>
              </a:rPr>
              <a:t>Найди пар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2786040"/>
          <a:ext cx="4287600" cy="3170160"/>
        </p:xfrm>
        <a:graphic>
          <a:graphicData uri="http://schemas.openxmlformats.org/drawingml/2006/table">
            <a:tbl>
              <a:tblPr/>
              <a:tblGrid>
                <a:gridCol w="1633320"/>
                <a:gridCol w="2654280"/>
              </a:tblGrid>
              <a:tr h="792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мет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единить две или несколько деталей, а также два среза одной детали сметочной строч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ча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ображение стачного ш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крепить подогнутые края детали сметочной строч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зображ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единить детали машинной строчкой путем накладывания одной на другу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единение накладных карманов с нижней частью фарту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571680" y="1197000"/>
            <a:ext cx="81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за 2 мин подобрать к каждой карточке пар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и оценивание производятся в форме взаимоконтроля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11280" y="2276640"/>
            <a:ext cx="400032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готовление швейного издел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219640" y="2852640"/>
          <a:ext cx="3600360" cy="3254400"/>
        </p:xfrm>
        <a:graphic>
          <a:graphicData uri="http://schemas.openxmlformats.org/drawingml/2006/table">
            <a:tbl>
              <a:tblPr/>
              <a:tblGrid>
                <a:gridCol w="930240"/>
                <a:gridCol w="267012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меты (обстановка) квартиры (до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ь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ческий материал для отделки стен кухни и ван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нутренняя обстановка и оформление кварти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и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е рабочее место на кух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Box 7"/>
          <p:cNvSpPr/>
          <p:nvPr/>
        </p:nvSpPr>
        <p:spPr>
          <a:xfrm>
            <a:off x="5435640" y="2286000"/>
            <a:ext cx="324000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льтура до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09:31:38Z</dcterms:created>
  <dc:creator>Vert</dc:creator>
  <dc:description/>
  <dc:language>en-US</dc:language>
  <cp:lastModifiedBy>Vert</cp:lastModifiedBy>
  <dcterms:modified xsi:type="dcterms:W3CDTF">2012-06-13T06:15:36Z</dcterms:modified>
  <cp:revision>52</cp:revision>
  <dc:subject/>
  <dc:title>Слайд 1</dc:title>
</cp:coreProperties>
</file>