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5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31.png" ContentType="image/pn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C8F1-2A8B-4FA5-A6D3-7093CE297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21FD-D6EC-4941-BABB-0235BE850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CBE2-CF38-4D43-B336-73E8DA50B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CDA0-C9B2-4E1B-ADDB-2B8571565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573C8-A362-4E29-AC0F-8F445FE74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BF460-E40A-48A5-81F7-1753FADF5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54D6F-A976-45B4-9E92-044CC7AAE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45F44-966E-425C-8CC2-3BB7DD4D2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D8423-04AB-47E5-92F9-3AB9C4CBF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D0706-668E-4D38-A7CA-B6A8A4D33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E72EC-2DE0-4752-B020-09A04250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286B-61CB-4BF7-9F83-2E6E86A8E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86E63-BF56-462E-8E02-D72A0B89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CCC7F-3E7E-4304-9E78-EFD1D085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43615-ABCC-480C-98B8-0C29FFA86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F3923-6A91-4C51-B731-FBC14CD9A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7EEA8-B483-4622-92BB-04BF272A8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ECD3-7B70-4239-9833-9D64793B8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6199-3614-490C-A6D8-D46F57B0A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72AA-9B70-4268-8926-A23B6C28A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370A-0A22-45D5-9B71-5885AAC85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FB84-FEEA-45D8-9E17-8DCCEC09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1C80-170E-43D3-971F-5213B91C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A8AE-747C-475D-82E1-7AC9DD4B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840" y="4054320"/>
                <a:ext cx="1833480" cy="1664640"/>
                <a:chOff x="852840" y="4054320"/>
                <a:chExt cx="183348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5040" y="3942720"/>
                  <a:ext cx="475560" cy="12211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6040" y="4975200"/>
                  <a:ext cx="109800" cy="5011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8EF31-74D1-48B3-8F5D-5A1BF6DAB72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9360" y="60120"/>
              <a:ext cx="3621240" cy="6132240"/>
              <a:chOff x="5409360" y="60120"/>
              <a:chExt cx="3621240" cy="613224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5600"/>
                <a:ext cx="211500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58040"/>
                <a:ext cx="906120" cy="8427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4880" y="2589840"/>
                <a:ext cx="43956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760" y="671760"/>
                <a:ext cx="388800" cy="551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4280" y="2644920"/>
                <a:ext cx="16308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988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400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0560" y="295200"/>
              <a:ext cx="892800" cy="825840"/>
              <a:chOff x="5650560" y="295200"/>
              <a:chExt cx="892800" cy="8258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2160" y="790200"/>
                <a:ext cx="17928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1400" y="469800"/>
                <a:ext cx="30528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3920" y="394920"/>
                <a:ext cx="31932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400" y="5259960"/>
              <a:ext cx="1059480" cy="830880"/>
              <a:chOff x="968400" y="5259960"/>
              <a:chExt cx="1059480" cy="83088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4920"/>
                <a:ext cx="25092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4120" y="5736240"/>
                <a:ext cx="42948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4160"/>
                <a:ext cx="448920" cy="127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4960"/>
              <a:ext cx="1690200" cy="1146600"/>
              <a:chOff x="375840" y="44496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344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8860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232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3960" y="3712320"/>
              <a:ext cx="1155600" cy="1607760"/>
              <a:chOff x="738396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868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940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196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1B568-B592-4240-8D20-F2201DECB920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424720" cy="15112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99"/>
                </a:solidFill>
                <a:latin typeface="Tahoma"/>
                <a:ea typeface="Tahoma"/>
              </a:rPr>
              <a:t>Экспериментирование – метод формирования познавательной активности </a:t>
            </a:r>
            <a:br>
              <a:rPr sz="3200"/>
            </a:br>
            <a:r>
              <a:rPr b="0" i="1" lang="en-US" sz="3200" spc="-1" strike="noStrike">
                <a:solidFill>
                  <a:srgbClr val="006699"/>
                </a:solidFill>
                <a:latin typeface="Tahoma"/>
                <a:ea typeface="Tahoma"/>
              </a:rPr>
              <a:t>у детей раннего возраста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TextBox 4"/>
          <p:cNvSpPr/>
          <p:nvPr/>
        </p:nvSpPr>
        <p:spPr>
          <a:xfrm>
            <a:off x="1071720" y="5572080"/>
            <a:ext cx="735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Tahoma"/>
                <a:ea typeface="Tahoma"/>
              </a:rPr>
              <a:t>Королёва Анжелика Валерьевн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Tahoma"/>
                <a:ea typeface="Tahoma"/>
              </a:rPr>
              <a:t>МДОУ №54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1"/>
          <a:stretch/>
        </p:blipFill>
        <p:spPr>
          <a:xfrm>
            <a:off x="2286000" y="1928880"/>
            <a:ext cx="481500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13" descr=""/>
          <p:cNvPicPr/>
          <p:nvPr/>
        </p:nvPicPr>
        <p:blipFill>
          <a:blip r:embed="rId1"/>
          <a:stretch/>
        </p:blipFill>
        <p:spPr>
          <a:xfrm>
            <a:off x="4572000" y="4005360"/>
            <a:ext cx="3887640" cy="264168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11"/>
          <p:cNvSpPr/>
          <p:nvPr/>
        </p:nvSpPr>
        <p:spPr>
          <a:xfrm>
            <a:off x="250920" y="153720"/>
            <a:ext cx="853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            </a:t>
            </a:r>
            <a:r>
              <a:rPr b="0" i="1" lang="en-US" sz="2400" spc="-1" strike="noStrike">
                <a:solidFill>
                  <a:srgbClr val="006699"/>
                </a:solidFill>
                <a:latin typeface="Tahoma"/>
              </a:rPr>
              <a:t>Во  время экспериментирования  с предметам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99"/>
                </a:solidFill>
                <a:latin typeface="Tahoma"/>
              </a:rPr>
              <a:t>постепенно формируются умственные (интеллектуальные) действия.</a:t>
            </a: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4" name="Picture 14" descr=""/>
          <p:cNvPicPr/>
          <p:nvPr/>
        </p:nvPicPr>
        <p:blipFill>
          <a:blip r:embed="rId2"/>
          <a:stretch/>
        </p:blipFill>
        <p:spPr>
          <a:xfrm>
            <a:off x="539640" y="1413000"/>
            <a:ext cx="3264120" cy="25207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7" descr=""/>
          <p:cNvPicPr/>
          <p:nvPr/>
        </p:nvPicPr>
        <p:blipFill>
          <a:blip r:embed="rId3"/>
          <a:stretch/>
        </p:blipFill>
        <p:spPr>
          <a:xfrm>
            <a:off x="4211640" y="1484280"/>
            <a:ext cx="1441440" cy="25876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8" descr=""/>
          <p:cNvPicPr/>
          <p:nvPr/>
        </p:nvPicPr>
        <p:blipFill>
          <a:blip r:embed="rId4"/>
          <a:stretch/>
        </p:blipFill>
        <p:spPr>
          <a:xfrm>
            <a:off x="6084720" y="1484280"/>
            <a:ext cx="2664000" cy="26035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0" descr=""/>
          <p:cNvPicPr/>
          <p:nvPr/>
        </p:nvPicPr>
        <p:blipFill>
          <a:blip r:embed="rId5"/>
          <a:stretch/>
        </p:blipFill>
        <p:spPr>
          <a:xfrm>
            <a:off x="324000" y="4292640"/>
            <a:ext cx="349236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44000" cy="66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99"/>
                </a:solidFill>
                <a:latin typeface="Tahoma"/>
              </a:rPr>
              <a:t>Этапы формирования умственных действий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br>
              <a:rPr sz="2400"/>
            </a:br>
            <a:r>
              <a:rPr b="0" i="1" lang="en-US" sz="2400" spc="-1" strike="noStrike">
                <a:solidFill>
                  <a:srgbClr val="006699"/>
                </a:solidFill>
                <a:latin typeface="Tahoma"/>
              </a:rPr>
              <a:t>(Гальперин П. Я., Талызина Н. Ф.):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250920" y="995400"/>
            <a:ext cx="5184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66680" indent="-166680">
              <a:buClr>
                <a:srgbClr val="006699"/>
              </a:buClr>
              <a:buFont typeface="Verdana"/>
              <a:buAutoNum type="arabicPeriod"/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    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Ориентировочный       этап –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166680" indent="-166680"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            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основополагающий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166680" indent="-166680"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На данном этапе воспитатель знакомит детей  с  тем,  как и  в  каком порядке надо действовать, что надо делать, с чего начинать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166680" indent="-166680"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Основной акцент ставится на методы  и    способы     выполнения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166680" indent="-166680"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Педагог показывает    и     объясняет 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166680" indent="-166680"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           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последовательность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166680" indent="-166680"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250920" y="4005360"/>
            <a:ext cx="5182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2. Этап выполнения действий в материальной форме связан с практическим освоением действия с реальными предметами или их заместителями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Для детей раннего возраста  этот этап основной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1"/>
          <a:stretch/>
        </p:blipFill>
        <p:spPr>
          <a:xfrm>
            <a:off x="5857920" y="1571760"/>
            <a:ext cx="292896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4"/>
          <p:cNvSpPr/>
          <p:nvPr/>
        </p:nvSpPr>
        <p:spPr>
          <a:xfrm>
            <a:off x="250920" y="981000"/>
            <a:ext cx="4681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3. Этап   выполнения    действий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в форме внешней (громкой) речи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На этом этапе действие выполняется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без  опоры   на  реальные предметы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Последовательность и способы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выполнения проговариваются вслух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Громкая  (внешняя)  речь  заменяе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манипулирование     предметами,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т. е. осуществляется речевое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выполнение определённого предметного действия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4. Этап формирования внутренней речи:   действие   не   озвучивается, а   выполняется   «про     себя»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  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5. Собственно умственное действие – максимально   быстрое    и 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результативное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250920" y="11592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99"/>
                </a:solidFill>
                <a:latin typeface="Tahoma"/>
              </a:rPr>
              <a:t>Этапы формирования умственных действий </a:t>
            </a:r>
            <a:br>
              <a:rPr sz="2400"/>
            </a:br>
            <a:r>
              <a:rPr b="0" i="1" lang="en-US" sz="2400" spc="-1" strike="noStrike">
                <a:solidFill>
                  <a:srgbClr val="006699"/>
                </a:solidFill>
                <a:latin typeface="Tahoma"/>
              </a:rPr>
              <a:t>(Гальперин П. Я., Талызина Н. Ф.)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4" name="Picture 6" descr=""/>
          <p:cNvPicPr/>
          <p:nvPr/>
        </p:nvPicPr>
        <p:blipFill>
          <a:blip r:embed="rId1"/>
          <a:stretch/>
        </p:blipFill>
        <p:spPr>
          <a:xfrm>
            <a:off x="5364000" y="1052640"/>
            <a:ext cx="3456000" cy="23018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7" descr=""/>
          <p:cNvPicPr/>
          <p:nvPr/>
        </p:nvPicPr>
        <p:blipFill>
          <a:blip r:embed="rId2"/>
          <a:stretch/>
        </p:blipFill>
        <p:spPr>
          <a:xfrm>
            <a:off x="5219640" y="3500280"/>
            <a:ext cx="379404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85840" y="356760"/>
            <a:ext cx="8315280" cy="98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99"/>
                </a:solidFill>
                <a:latin typeface="Tahoma"/>
                <a:ea typeface="Tahoma"/>
              </a:rPr>
              <a:t>Справедливая оценка взрослого – важный мотив освоения  действий с предметами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500076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  <a:ea typeface="Tahoma"/>
              </a:rPr>
              <a:t>        </a:t>
            </a:r>
            <a:r>
              <a:rPr b="0" lang="en-US" sz="2400" spc="-1" strike="noStrike">
                <a:solidFill>
                  <a:srgbClr val="006699"/>
                </a:solidFill>
                <a:latin typeface="Tahoma"/>
                <a:ea typeface="Tahoma"/>
              </a:rPr>
              <a:t>Если усилия  ребёнка не замечаются, а промахи критикуются,  то малыш обижается, замыкается в своих переживаниях, развитие его останавливается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8" name="Picture 4" descr=""/>
          <p:cNvPicPr/>
          <p:nvPr/>
        </p:nvPicPr>
        <p:blipFill>
          <a:blip r:embed="rId1"/>
          <a:stretch/>
        </p:blipFill>
        <p:spPr>
          <a:xfrm>
            <a:off x="2268360" y="1628640"/>
            <a:ext cx="468180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5" descr="F:\фото2\Дети\leto-10.jpg"/>
          <p:cNvPicPr/>
          <p:nvPr/>
        </p:nvPicPr>
        <p:blipFill>
          <a:blip r:embed="rId1"/>
          <a:stretch/>
        </p:blipFill>
        <p:spPr>
          <a:xfrm>
            <a:off x="6072120" y="1428840"/>
            <a:ext cx="2428920" cy="3929040"/>
          </a:xfrm>
          <a:prstGeom prst="rect">
            <a:avLst/>
          </a:prstGeom>
          <a:ln w="0">
            <a:noFill/>
          </a:ln>
        </p:spPr>
      </p:pic>
      <p:sp>
        <p:nvSpPr>
          <p:cNvPr id="240" name="TextBox 8"/>
          <p:cNvSpPr/>
          <p:nvPr/>
        </p:nvSpPr>
        <p:spPr>
          <a:xfrm>
            <a:off x="571680" y="428760"/>
            <a:ext cx="76276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  <a:ea typeface="Tahoma"/>
              </a:rPr>
              <a:t>Опыты с предметами пробуждают у детей любознательность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Прямоугольник 9"/>
          <p:cNvSpPr/>
          <p:nvPr/>
        </p:nvSpPr>
        <p:spPr>
          <a:xfrm>
            <a:off x="429480" y="1500120"/>
            <a:ext cx="54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Tahoma"/>
                <a:ea typeface="Tahoma"/>
              </a:rPr>
              <a:t>Ребёнок    учится     наблюдать,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  <a:ea typeface="Tahoma"/>
              </a:rPr>
              <a:t>сравнивать, отвечать на вопросы,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  <a:ea typeface="Tahoma"/>
              </a:rPr>
              <a:t>соблюдать правила безопасност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" name="TextBox 10"/>
          <p:cNvSpPr/>
          <p:nvPr/>
        </p:nvSpPr>
        <p:spPr>
          <a:xfrm>
            <a:off x="642960" y="2928960"/>
            <a:ext cx="4857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Tahoma"/>
                <a:ea typeface="Tahoma"/>
              </a:rPr>
              <a:t>Чем больше новой информации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  <a:ea typeface="Tahoma"/>
              </a:rPr>
              <a:t>он   получает   тем     быстрее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Tahoma"/>
                <a:ea typeface="Tahoma"/>
              </a:rPr>
              <a:t>и  полноценнее   развивается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TextBox 11"/>
          <p:cNvSpPr/>
          <p:nvPr/>
        </p:nvSpPr>
        <p:spPr>
          <a:xfrm>
            <a:off x="642960" y="4500720"/>
            <a:ext cx="498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  <a:ea typeface="Tahoma"/>
              </a:rPr>
              <a:t>  </a:t>
            </a:r>
            <a:r>
              <a:rPr b="0" lang="en-US" sz="2400" spc="-1" strike="noStrike">
                <a:solidFill>
                  <a:srgbClr val="006699"/>
                </a:solidFill>
                <a:latin typeface="Tahoma"/>
                <a:ea typeface="Tahoma"/>
              </a:rPr>
              <a:t>Малыш становится более находчивым  в достижении поставленной    цел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44000" cy="50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99"/>
                </a:solidFill>
                <a:latin typeface="Tahoma"/>
              </a:rPr>
              <a:t>Ребёнок раннего возраста: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9280" y="928800"/>
            <a:ext cx="43894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Инициативен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по   отношению      к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взрослому -  стремится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привлечь его внимание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к    своим    действиям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обращается      з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помощью   и   оценкой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своих     действий,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настойчиво    требуе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от   него   соучастия в 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своих     делах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46" name="Picture 7" descr=""/>
          <p:cNvPicPr/>
          <p:nvPr/>
        </p:nvPicPr>
        <p:blipFill>
          <a:blip r:embed="rId1"/>
          <a:stretch/>
        </p:blipFill>
        <p:spPr>
          <a:xfrm>
            <a:off x="5143680" y="1071720"/>
            <a:ext cx="340668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44000" cy="4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99"/>
                </a:solidFill>
                <a:latin typeface="Tahoma"/>
              </a:rPr>
              <a:t>Ребёнок раннего возраста: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68720" y="857160"/>
            <a:ext cx="8218440" cy="24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Чувствителен к отношению взрослого, к  его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2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оценке.    Он  умеет   перестраивать     своё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2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поведение  в   зависимости    от    поведения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2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взрослого,  тонко различает   похвалу   и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2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порицание,   охотно   подражает   взрослому,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2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выполняет    его   просьбы   и   инструкции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49" name="Picture 5" descr=""/>
          <p:cNvPicPr/>
          <p:nvPr/>
        </p:nvPicPr>
        <p:blipFill>
          <a:blip r:embed="rId1"/>
          <a:stretch/>
        </p:blipFill>
        <p:spPr>
          <a:xfrm>
            <a:off x="2000160" y="3357720"/>
            <a:ext cx="493236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44000" cy="4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99"/>
                </a:solidFill>
                <a:latin typeface="Tahoma"/>
              </a:rPr>
              <a:t>Ребёнок раннего возраста: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14200" y="836280"/>
            <a:ext cx="5786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Доверчиво и открыто относитс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к     посторонним       взрослым;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проявляет   ярко   выраженную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любознательность,     умее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найти   себе   занятие,  играе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разнообразно  и    увлечённо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настойчив   в    достижении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поставленной цели, преодолени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трудностей     в    действиях с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предметами,       своевременно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2" name="Picture 4" descr=""/>
          <p:cNvPicPr/>
          <p:nvPr/>
        </p:nvPicPr>
        <p:blipFill>
          <a:blip r:embed="rId1"/>
          <a:stretch/>
        </p:blipFill>
        <p:spPr>
          <a:xfrm>
            <a:off x="6107040" y="1341360"/>
            <a:ext cx="2784600" cy="4016520"/>
          </a:xfrm>
          <a:prstGeom prst="rect">
            <a:avLst/>
          </a:prstGeom>
          <a:ln w="0">
            <a:noFill/>
          </a:ln>
        </p:spPr>
      </p:pic>
      <p:sp>
        <p:nvSpPr>
          <p:cNvPr id="253" name="Прямоугольник 4"/>
          <p:cNvSpPr/>
          <p:nvPr/>
        </p:nvSpPr>
        <p:spPr>
          <a:xfrm>
            <a:off x="285840" y="5904000"/>
            <a:ext cx="850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активной речью, пользуется ею в целях общения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4" name="Прямоугольник 5"/>
          <p:cNvSpPr/>
          <p:nvPr/>
        </p:nvSpPr>
        <p:spPr>
          <a:xfrm>
            <a:off x="5500800" y="5357880"/>
            <a:ext cx="35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овладевае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5" name="Прямоугольник 6"/>
          <p:cNvSpPr/>
          <p:nvPr/>
        </p:nvSpPr>
        <p:spPr>
          <a:xfrm>
            <a:off x="1437120" y="55720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2017800" cy="36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99"/>
                </a:solidFill>
                <a:latin typeface="Tahoma"/>
              </a:rPr>
              <a:t>Выводы: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23640" y="907560"/>
            <a:ext cx="8569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268200" algn="just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В раннем возрасте дети активно стремятся к новым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60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впечатлениям, с интересом включаются в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60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предложенные взрослым игры и эксперименты, подолгу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60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с увлечением экспериментируют сами, подражая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60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взрослому и изобретая новые действия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60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60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2. Экспериментирование    как     основной     способ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60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познавательной   активности  в   раннем   возрасте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60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стимулирует   развитие   таких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60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личностных качеств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60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как     инициативность,   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60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самостоятельность,  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60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целеустремлённость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8" name="Picture 2" descr="F:\фото2\Дети\leto-70.jpg"/>
          <p:cNvPicPr/>
          <p:nvPr/>
        </p:nvPicPr>
        <p:blipFill>
          <a:blip r:embed="rId1"/>
          <a:stretch/>
        </p:blipFill>
        <p:spPr>
          <a:xfrm>
            <a:off x="5214960" y="4357800"/>
            <a:ext cx="3643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5"/>
          <p:cNvSpPr/>
          <p:nvPr/>
        </p:nvSpPr>
        <p:spPr>
          <a:xfrm>
            <a:off x="395280" y="5229360"/>
            <a:ext cx="482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buClr>
                <a:srgbClr val="006699"/>
              </a:buClr>
              <a:buFont typeface="Tahoma"/>
              <a:buChar char="•"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ahoma"/>
              </a:rPr>
              <a:t>Частота    повтора   определяется содержанием      дидактических  задач   и    степенью    усвоения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6699"/>
                </a:solidFill>
                <a:latin typeface="Tahoma"/>
              </a:rPr>
              <a:t>программного     материал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87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99"/>
                </a:solidFill>
                <a:latin typeface="Tahoma"/>
              </a:rPr>
              <a:t>Рекомендации для воспитателей по обучению детей предметным действиям (ПД)</a:t>
            </a:r>
            <a:r>
              <a:rPr b="0" i="1" lang="en-US" sz="3200" spc="-1" strike="noStrike">
                <a:solidFill>
                  <a:srgbClr val="0066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42472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117720" indent="-11772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ahoma"/>
              </a:rPr>
              <a:t>Организация обучения преимущественно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117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6699"/>
                </a:solidFill>
                <a:latin typeface="Tahoma"/>
              </a:rPr>
              <a:t>индивидуальная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117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117720" indent="-11772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ahoma"/>
              </a:rPr>
              <a:t>Организация предметной деятельности должна строго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117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6699"/>
                </a:solidFill>
                <a:latin typeface="Tahoma"/>
              </a:rPr>
              <a:t>соответствовать алгоритму: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117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ahoma"/>
              </a:rPr>
              <a:t>- Обучение новым действиям с предметом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117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ahoma"/>
              </a:rPr>
              <a:t>- Обучение усложнениям с предметом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117720" indent="-11772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ahoma"/>
              </a:rPr>
              <a:t>Переключение на другие виды деятельности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117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117720" indent="-11772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ahoma"/>
              </a:rPr>
              <a:t>Повторять одни и те же занятия 5-8 раз,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117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6699"/>
                </a:solidFill>
                <a:latin typeface="Tahoma"/>
              </a:rPr>
              <a:t>из-за слабо развитой координации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117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6699"/>
                </a:solidFill>
                <a:latin typeface="Tahoma"/>
              </a:rPr>
              <a:t>движений, низкого сенсорного и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117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6699"/>
                </a:solidFill>
                <a:latin typeface="Tahoma"/>
              </a:rPr>
              <a:t>моторного опыт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117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62" name="Picture 6" descr=""/>
          <p:cNvPicPr/>
          <p:nvPr/>
        </p:nvPicPr>
        <p:blipFill>
          <a:blip r:embed="rId1"/>
          <a:stretch/>
        </p:blipFill>
        <p:spPr>
          <a:xfrm>
            <a:off x="7236000" y="907920"/>
            <a:ext cx="1672920" cy="2880000"/>
          </a:xfrm>
          <a:prstGeom prst="rect">
            <a:avLst/>
          </a:prstGeom>
          <a:ln w="9360">
            <a:solidFill>
              <a:srgbClr val="99ccff"/>
            </a:solidFill>
            <a:miter/>
          </a:ln>
        </p:spPr>
      </p:pic>
      <p:pic>
        <p:nvPicPr>
          <p:cNvPr id="263" name="Picture 7" descr=""/>
          <p:cNvPicPr/>
          <p:nvPr/>
        </p:nvPicPr>
        <p:blipFill>
          <a:blip r:embed="rId2"/>
          <a:stretch/>
        </p:blipFill>
        <p:spPr>
          <a:xfrm>
            <a:off x="5292720" y="4149720"/>
            <a:ext cx="368784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410364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Актуальность</a:t>
            </a: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24000" y="980640"/>
            <a:ext cx="5176800" cy="15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>
              <a:lnSpc>
                <a:spcPct val="100000"/>
              </a:lnSpc>
              <a:tabLst>
                <a:tab algn="l" pos="0"/>
                <a:tab algn="l" pos="5475240"/>
                <a:tab algn="l" pos="556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Ранний     возраст    –   период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75240"/>
                <a:tab algn="l" pos="556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активного познания окружающего  мира  и  экспериментирования         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75240"/>
                <a:tab algn="l" pos="556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ребёнка с   предметами</a:t>
            </a: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475240"/>
                <a:tab algn="l" pos="556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475240"/>
                <a:tab algn="l" pos="556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Ребёнок,   исследуя     различные предметы и их свойства, проводит простые причинно – следственные связи, изучает характер движений   и соотношение предметов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" name="Прямоугольник 5"/>
          <p:cNvSpPr/>
          <p:nvPr/>
        </p:nvSpPr>
        <p:spPr>
          <a:xfrm>
            <a:off x="179280" y="535788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560920"/>
                <a:tab algn="l" pos="556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Тем   самым   он   формирует свой интеллектуальный и 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560920"/>
                <a:tab algn="l" pos="556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                       </a:t>
            </a: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творческий   потенциал. 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3" name="Picture 6" descr=""/>
          <p:cNvPicPr/>
          <p:nvPr/>
        </p:nvPicPr>
        <p:blipFill>
          <a:blip r:embed="rId1"/>
          <a:stretch/>
        </p:blipFill>
        <p:spPr>
          <a:xfrm>
            <a:off x="5592600" y="928800"/>
            <a:ext cx="35514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178920" y="1125360"/>
            <a:ext cx="864252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154800" indent="-15480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ahoma"/>
              </a:rPr>
              <a:t>Организуя   предметную   деятельность детей,   надо   следить  за   тем, чтобы каждый  вид   дидактического  пособия использовался по назначению. В случае  отсутствия у ребёнка умения действовать с игрушкой, воспитатель обучает его, пользуясь методом пассивных движений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468000" y="620640"/>
            <a:ext cx="821844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99"/>
                </a:solidFill>
                <a:latin typeface="Tahoma"/>
              </a:rPr>
              <a:t>Рекомендации для воспитателей по обучению детей предметным действиям (ПД)</a:t>
            </a: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66" name="Picture 6" descr=""/>
          <p:cNvPicPr/>
          <p:nvPr/>
        </p:nvPicPr>
        <p:blipFill>
          <a:blip r:embed="rId1"/>
          <a:stretch/>
        </p:blipFill>
        <p:spPr>
          <a:xfrm>
            <a:off x="5651640" y="3068640"/>
            <a:ext cx="3276360" cy="245916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7"/>
          <p:cNvSpPr/>
          <p:nvPr/>
        </p:nvSpPr>
        <p:spPr>
          <a:xfrm>
            <a:off x="179280" y="2781360"/>
            <a:ext cx="5184720" cy="45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6699"/>
                </a:solidFill>
                <a:latin typeface="Tahoma"/>
              </a:rPr>
              <a:t>Во     избежание     утомления       детей, длительность   занимающихся  одной  и той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ahoma"/>
              </a:rPr>
              <a:t>же   игрушкой   и  выполняя    их   при  этом  одни   и   те     же     заученные     действия,   следует переключить   их   на  деятельность с другими игрушками. 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6699"/>
                </a:solidFill>
                <a:latin typeface="Tahoma"/>
              </a:rPr>
              <a:t>Все   действия    должны   сопровождаться речью  воспитателя. Существенное значение имеет объяснение взрослого, называние   им   предметов,  действий,  качеств,   отношений. Вопросы    должны    быть     конкретные 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ahoma"/>
              </a:rPr>
              <a:t>                </a:t>
            </a:r>
            <a:r>
              <a:rPr b="0" lang="en-US" sz="1800" spc="-1" strike="noStrike">
                <a:solidFill>
                  <a:srgbClr val="006699"/>
                </a:solidFill>
                <a:latin typeface="Tahoma"/>
              </a:rPr>
              <a:t>«Что? Какой, Где? Как?»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243640" cy="63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99"/>
                </a:solidFill>
                <a:latin typeface="Tahoma"/>
                <a:ea typeface="Tahoma"/>
              </a:rPr>
              <a:t>Литература</a:t>
            </a:r>
            <a:r>
              <a:rPr b="0" i="1" lang="en-US" sz="3200" spc="-1" strike="noStrike">
                <a:solidFill>
                  <a:srgbClr val="006699"/>
                </a:solidFill>
                <a:latin typeface="Tahoma"/>
                <a:ea typeface="Tahoma"/>
              </a:rPr>
              <a:t>: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50920" y="907560"/>
            <a:ext cx="84009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 algn="just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ahoma"/>
                <a:ea typeface="Tahoma"/>
              </a:rPr>
              <a:t>Веракса  Н. Е. Особенности преобразования противоречивых проблемных ситуаций дошкольниками </a:t>
            </a:r>
            <a:r>
              <a:rPr b="0" lang="en-US" sz="2000" spc="-1" strike="noStrike">
                <a:solidFill>
                  <a:srgbClr val="006699"/>
                </a:solidFill>
                <a:latin typeface="Tahoma"/>
                <a:ea typeface="Tahoma"/>
              </a:rPr>
              <a:t>// </a:t>
            </a:r>
            <a:r>
              <a:rPr b="0" lang="ru-RU" sz="2000" spc="-1" strike="noStrike">
                <a:solidFill>
                  <a:srgbClr val="006699"/>
                </a:solidFill>
                <a:latin typeface="Tahoma"/>
                <a:ea typeface="Tahoma"/>
              </a:rPr>
              <a:t>Вопросы психологии, 1981, № 3, с.: 123 - 127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70000" indent="-270000" algn="just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ahoma"/>
                <a:ea typeface="Tahoma"/>
              </a:rPr>
              <a:t>Крулехт М. В. Ребёнок познаёт предметный мир, приобщается к труду </a:t>
            </a:r>
            <a:r>
              <a:rPr b="0" lang="en-US" sz="2000" spc="-1" strike="noStrike">
                <a:solidFill>
                  <a:srgbClr val="006699"/>
                </a:solidFill>
                <a:latin typeface="Tahoma"/>
                <a:ea typeface="Tahoma"/>
              </a:rPr>
              <a:t>// </a:t>
            </a:r>
            <a:r>
              <a:rPr b="0" lang="ru-RU" sz="2000" spc="-1" strike="noStrike">
                <a:solidFill>
                  <a:srgbClr val="006699"/>
                </a:solidFill>
                <a:latin typeface="Tahoma"/>
                <a:ea typeface="Tahoma"/>
              </a:rPr>
              <a:t>Младший дошкольник в детском саду. Как работать по программе «Детство»: Учебно–методическое пособие </a:t>
            </a:r>
            <a:r>
              <a:rPr b="0" lang="en-US" sz="2000" spc="-1" strike="noStrike">
                <a:solidFill>
                  <a:srgbClr val="006699"/>
                </a:solidFill>
                <a:latin typeface="Tahoma"/>
                <a:ea typeface="Tahoma"/>
              </a:rPr>
              <a:t>/</a:t>
            </a:r>
            <a:r>
              <a:rPr b="0" lang="ru-RU" sz="2000" spc="-1" strike="noStrike">
                <a:solidFill>
                  <a:srgbClr val="006699"/>
                </a:solidFill>
                <a:latin typeface="Tahoma"/>
                <a:ea typeface="Tahoma"/>
              </a:rPr>
              <a:t> Сост. Т. И. Бабаева, СПб, «ДЕТСВО – ПРЕСС», с.: 126 – 128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70000" indent="-270000" algn="just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ahoma"/>
                <a:ea typeface="Tahoma"/>
              </a:rPr>
              <a:t>Поддьяков Н. Н. Новый подход к развитию творчества дошкольников </a:t>
            </a:r>
            <a:r>
              <a:rPr b="0" lang="en-US" sz="2000" spc="-1" strike="noStrike">
                <a:solidFill>
                  <a:srgbClr val="006699"/>
                </a:solidFill>
                <a:latin typeface="Tahoma"/>
                <a:ea typeface="Tahoma"/>
              </a:rPr>
              <a:t>// </a:t>
            </a:r>
            <a:r>
              <a:rPr b="0" lang="ru-RU" sz="2000" spc="-1" strike="noStrike">
                <a:solidFill>
                  <a:srgbClr val="006699"/>
                </a:solidFill>
                <a:latin typeface="Tahoma"/>
                <a:ea typeface="Tahoma"/>
              </a:rPr>
              <a:t>Вопросы психологии, </a:t>
            </a:r>
            <a:r>
              <a:rPr b="0" lang="en-US" sz="2000" spc="-1" strike="noStrike">
                <a:solidFill>
                  <a:srgbClr val="006699"/>
                </a:solidFill>
                <a:latin typeface="Tahoma"/>
                <a:ea typeface="Tahoma"/>
              </a:rPr>
              <a:t>1990</a:t>
            </a:r>
            <a:r>
              <a:rPr b="0" lang="ru-RU" sz="2000" spc="-1" strike="noStrike">
                <a:solidFill>
                  <a:srgbClr val="006699"/>
                </a:solidFill>
                <a:latin typeface="Tahoma"/>
                <a:ea typeface="Tahoma"/>
              </a:rPr>
              <a:t>, №1 с.: 16 – 19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70000" indent="-270000" algn="just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ahoma"/>
                <a:ea typeface="Tahoma"/>
              </a:rPr>
              <a:t>Поддьяков Н. Н. Закономерности психического развития ребёнка. – Краснодар, 1997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70000" indent="-270000" algn="just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ahoma"/>
                <a:ea typeface="Tahoma"/>
              </a:rPr>
              <a:t>Ребёнок в мире поиска. Программа по организации поисковой деятельности детей дошкольного возраста</a:t>
            </a:r>
            <a:r>
              <a:rPr b="0" lang="en-US" sz="2000" spc="-1" strike="noStrike">
                <a:solidFill>
                  <a:srgbClr val="006699"/>
                </a:solidFill>
                <a:latin typeface="Tahoma"/>
                <a:ea typeface="Tahoma"/>
              </a:rPr>
              <a:t>/</a:t>
            </a:r>
            <a:r>
              <a:rPr b="0" lang="ru-RU" sz="2000" spc="-1" strike="noStrike">
                <a:solidFill>
                  <a:srgbClr val="006699"/>
                </a:solidFill>
                <a:latin typeface="Tahoma"/>
                <a:ea typeface="Tahoma"/>
              </a:rPr>
              <a:t>под ред. О. В. Дыбиной.-  М.: ТЦ «Сфера», 2005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70000" indent="-270000" algn="just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ahoma"/>
                <a:ea typeface="Tahoma"/>
              </a:rPr>
              <a:t>Щетинина А. М. Учим дошкольника думать: игры, занятия, диагностика.- М.: ТЦ Сфера., 2011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64000" y="2349000"/>
            <a:ext cx="3168720" cy="65268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Спасибо</a:t>
            </a:r>
            <a:br>
              <a:rPr sz="4000"/>
            </a:b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 за</a:t>
            </a:r>
            <a:br>
              <a:rPr sz="4000"/>
            </a:b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 внимание!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71" name="Picture 6" descr=""/>
          <p:cNvPicPr/>
          <p:nvPr/>
        </p:nvPicPr>
        <p:blipFill>
          <a:blip r:embed="rId1"/>
          <a:srcRect l="0" t="0" r="8950" b="0"/>
          <a:stretch/>
        </p:blipFill>
        <p:spPr>
          <a:xfrm>
            <a:off x="1403280" y="333360"/>
            <a:ext cx="33116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99"/>
                </a:solidFill>
                <a:latin typeface="Tahoma"/>
              </a:rPr>
              <a:t>Физиологическая основа</a:t>
            </a:r>
            <a:br>
              <a:rPr sz="3200"/>
            </a:br>
            <a:r>
              <a:rPr b="0" i="1" lang="en-US" sz="3200" spc="-1" strike="noStrike">
                <a:solidFill>
                  <a:srgbClr val="006699"/>
                </a:solidFill>
                <a:latin typeface="Tahoma"/>
              </a:rPr>
              <a:t> познавательной активности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599840"/>
            <a:ext cx="829152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Познавательная     активность   возникает   на основе   рефлекса  «что такое?»,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а проявляется она в бесконечных детских «почему?»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4716360" y="3573360"/>
            <a:ext cx="3996000" cy="2941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"/>
          <p:cNvPicPr/>
          <p:nvPr/>
        </p:nvPicPr>
        <p:blipFill>
          <a:blip r:embed="rId2"/>
          <a:stretch/>
        </p:blipFill>
        <p:spPr>
          <a:xfrm>
            <a:off x="468360" y="3573360"/>
            <a:ext cx="40323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2"/>
          <p:cNvSpPr/>
          <p:nvPr/>
        </p:nvSpPr>
        <p:spPr>
          <a:xfrm>
            <a:off x="131040" y="357120"/>
            <a:ext cx="912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  <a:ea typeface="Tahoma"/>
              </a:rPr>
              <a:t>Познавательная    активность    успешно       формируется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Tahoma"/>
                <a:ea typeface="Tahoma"/>
              </a:rPr>
              <a:t>в процессе взаимодействия, когда воспитатель используя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  <a:ea typeface="Tahoma"/>
              </a:rPr>
              <a:t>           </a:t>
            </a:r>
            <a:r>
              <a:rPr b="0" lang="en-US" sz="2400" spc="-1" strike="noStrike">
                <a:solidFill>
                  <a:srgbClr val="006699"/>
                </a:solidFill>
                <a:latin typeface="Tahoma"/>
                <a:ea typeface="Tahoma"/>
              </a:rPr>
              <a:t>разнообразные методы и приёмы,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Прямоугольник 3"/>
          <p:cNvSpPr/>
          <p:nvPr/>
        </p:nvSpPr>
        <p:spPr>
          <a:xfrm>
            <a:off x="357120" y="5429160"/>
            <a:ext cx="7929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  <a:ea typeface="Tahoma"/>
              </a:rPr>
              <a:t>побуждает   детей   к   исследовательскому  подходу -  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  <a:ea typeface="Tahoma"/>
              </a:rPr>
              <a:t>               </a:t>
            </a:r>
            <a:r>
              <a:rPr b="0" lang="en-US" sz="2400" spc="-1" strike="noStrike">
                <a:solidFill>
                  <a:srgbClr val="006699"/>
                </a:solidFill>
                <a:latin typeface="Tahoma"/>
                <a:ea typeface="Tahoma"/>
              </a:rPr>
              <a:t>самостоятельному  и   творческому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  <a:ea typeface="Tahoma"/>
              </a:rPr>
              <a:t>поиску  ответов  на  постоянно возникающие вопрос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1"/>
          <a:stretch/>
        </p:blipFill>
        <p:spPr>
          <a:xfrm>
            <a:off x="2428920" y="1643040"/>
            <a:ext cx="442908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44000" cy="65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Tahoma"/>
              </a:rPr>
              <a:t>Типы познавательной активности ребёнка</a:t>
            </a:r>
            <a:br>
              <a:rPr sz="2400"/>
            </a:br>
            <a:r>
              <a:rPr b="0" i="1" lang="ru-RU" sz="2400" spc="-1" strike="noStrike">
                <a:solidFill>
                  <a:srgbClr val="006699"/>
                </a:solidFill>
                <a:latin typeface="Tahoma"/>
              </a:rPr>
              <a:t>(Д. Б. Эльконин, А. В. Запорожец, Н. Н. Поддьяков)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AutoShape 7"/>
          <p:cNvSpPr/>
          <p:nvPr/>
        </p:nvSpPr>
        <p:spPr>
          <a:xfrm>
            <a:off x="395280" y="1197000"/>
            <a:ext cx="3384720" cy="93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Tahoma"/>
              </a:rPr>
              <a:t>Собственная активность,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6699"/>
                </a:solidFill>
                <a:latin typeface="Tahoma"/>
              </a:rPr>
              <a:t>определяется самим ребёнком,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Tahoma"/>
              </a:rPr>
              <a:t>его внутренним состоянием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AutoShape 8"/>
          <p:cNvSpPr/>
          <p:nvPr/>
        </p:nvSpPr>
        <p:spPr>
          <a:xfrm>
            <a:off x="4788000" y="1197000"/>
            <a:ext cx="3384360" cy="792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Tahoma"/>
              </a:rPr>
              <a:t>Активность, 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Tahoma"/>
              </a:rPr>
              <a:t>стимулируемая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6699"/>
                </a:solidFill>
                <a:latin typeface="Tahoma"/>
              </a:rPr>
              <a:t>взрослым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4479840" y="3244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AutoShape 10"/>
          <p:cNvSpPr/>
          <p:nvPr/>
        </p:nvSpPr>
        <p:spPr>
          <a:xfrm>
            <a:off x="468360" y="2349360"/>
            <a:ext cx="3311640" cy="719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Tahoma"/>
              </a:rPr>
              <a:t>Ребёнок –  творец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Tahoma"/>
              </a:rPr>
              <a:t>собственной деятельности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AutoShape 11"/>
          <p:cNvSpPr/>
          <p:nvPr/>
        </p:nvSpPr>
        <p:spPr>
          <a:xfrm>
            <a:off x="468360" y="3284640"/>
            <a:ext cx="3311640" cy="64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Tahoma"/>
              </a:rPr>
              <a:t>Сам ставит цель,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Tahoma"/>
              </a:rPr>
              <a:t>ищет  пути и способы достижения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AutoShape 12"/>
          <p:cNvSpPr/>
          <p:nvPr/>
        </p:nvSpPr>
        <p:spPr>
          <a:xfrm>
            <a:off x="468360" y="4221000"/>
            <a:ext cx="3311640" cy="576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Tahoma"/>
              </a:rPr>
              <a:t>Реализует свою волю,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Tahoma"/>
              </a:rPr>
              <a:t>свои интересы, потребности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AutoShape 13"/>
          <p:cNvSpPr/>
          <p:nvPr/>
        </p:nvSpPr>
        <p:spPr>
          <a:xfrm>
            <a:off x="4932360" y="3213000"/>
            <a:ext cx="3241800" cy="719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Tahoma"/>
              </a:rPr>
              <a:t>Взрослый задаёт параметры, 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Tahoma"/>
              </a:rPr>
              <a:t>обучает определённому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Tahoma"/>
              </a:rPr>
              <a:t>алгоритму действий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AutoShape 14"/>
          <p:cNvSpPr/>
          <p:nvPr/>
        </p:nvSpPr>
        <p:spPr>
          <a:xfrm>
            <a:off x="4859280" y="2205000"/>
            <a:ext cx="3314880" cy="719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Tahoma"/>
              </a:rPr>
              <a:t>Взрослый  организует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Tahoma"/>
              </a:rPr>
              <a:t>и направляет деятельность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AutoShape 19"/>
          <p:cNvSpPr/>
          <p:nvPr/>
        </p:nvSpPr>
        <p:spPr>
          <a:xfrm>
            <a:off x="4859280" y="4221000"/>
            <a:ext cx="3313080" cy="503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Tahoma"/>
              </a:rPr>
              <a:t>Реализует замысел взрослого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Line 20"/>
          <p:cNvSpPr/>
          <p:nvPr/>
        </p:nvSpPr>
        <p:spPr>
          <a:xfrm>
            <a:off x="1835280" y="2133720"/>
            <a:ext cx="0" cy="21564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Line 21"/>
          <p:cNvSpPr/>
          <p:nvPr/>
        </p:nvSpPr>
        <p:spPr>
          <a:xfrm>
            <a:off x="1908000" y="3068640"/>
            <a:ext cx="0" cy="21600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Line 22"/>
          <p:cNvSpPr/>
          <p:nvPr/>
        </p:nvSpPr>
        <p:spPr>
          <a:xfrm>
            <a:off x="1979640" y="3933720"/>
            <a:ext cx="0" cy="28728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Line 23"/>
          <p:cNvSpPr/>
          <p:nvPr/>
        </p:nvSpPr>
        <p:spPr>
          <a:xfrm>
            <a:off x="6372360" y="1916280"/>
            <a:ext cx="0" cy="28872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Line 24"/>
          <p:cNvSpPr/>
          <p:nvPr/>
        </p:nvSpPr>
        <p:spPr>
          <a:xfrm>
            <a:off x="6443640" y="2924280"/>
            <a:ext cx="0" cy="28872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Line 25"/>
          <p:cNvSpPr/>
          <p:nvPr/>
        </p:nvSpPr>
        <p:spPr>
          <a:xfrm>
            <a:off x="6443640" y="3933720"/>
            <a:ext cx="0" cy="28728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AutoShape 26"/>
          <p:cNvSpPr/>
          <p:nvPr/>
        </p:nvSpPr>
        <p:spPr>
          <a:xfrm>
            <a:off x="468360" y="5013360"/>
            <a:ext cx="3240000" cy="503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Tahoma"/>
              </a:rPr>
              <a:t>Основа детского творчества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AutoShape 27"/>
          <p:cNvSpPr/>
          <p:nvPr/>
        </p:nvSpPr>
        <p:spPr>
          <a:xfrm>
            <a:off x="4859280" y="5013360"/>
            <a:ext cx="3311640" cy="503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Tahoma"/>
              </a:rPr>
              <a:t>Основа совместного творчества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AutoShape 28"/>
          <p:cNvSpPr/>
          <p:nvPr/>
        </p:nvSpPr>
        <p:spPr>
          <a:xfrm>
            <a:off x="1692360" y="5877000"/>
            <a:ext cx="5543640" cy="503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Tahoma"/>
              </a:rPr>
              <a:t>Совместное творчество, основанное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Tahoma"/>
              </a:rPr>
              <a:t>на  взаимодействии ребёнка и взрослого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Line 30"/>
          <p:cNvSpPr/>
          <p:nvPr/>
        </p:nvSpPr>
        <p:spPr>
          <a:xfrm>
            <a:off x="1979640" y="4797360"/>
            <a:ext cx="0" cy="14436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Line 31"/>
          <p:cNvSpPr/>
          <p:nvPr/>
        </p:nvSpPr>
        <p:spPr>
          <a:xfrm>
            <a:off x="6443640" y="4724280"/>
            <a:ext cx="0" cy="28908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Line 32"/>
          <p:cNvSpPr/>
          <p:nvPr/>
        </p:nvSpPr>
        <p:spPr>
          <a:xfrm>
            <a:off x="3635280" y="5516640"/>
            <a:ext cx="649440" cy="36036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Line 33"/>
          <p:cNvSpPr/>
          <p:nvPr/>
        </p:nvSpPr>
        <p:spPr>
          <a:xfrm flipH="1">
            <a:off x="4284720" y="5516640"/>
            <a:ext cx="574560" cy="36036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Line 34"/>
          <p:cNvSpPr/>
          <p:nvPr/>
        </p:nvSpPr>
        <p:spPr>
          <a:xfrm>
            <a:off x="3780000" y="1484280"/>
            <a:ext cx="100800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Line 35"/>
          <p:cNvSpPr/>
          <p:nvPr/>
        </p:nvSpPr>
        <p:spPr>
          <a:xfrm flipH="1">
            <a:off x="3780000" y="1628640"/>
            <a:ext cx="100800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24000" y="356760"/>
            <a:ext cx="8177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В раннем возрасте познавательная активность детей –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это   экспериментирование с  различными предметами  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                 </a:t>
            </a: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или орудийные действия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7" name="Picture 5" descr=""/>
          <p:cNvPicPr/>
          <p:nvPr/>
        </p:nvPicPr>
        <p:blipFill>
          <a:blip r:embed="rId1"/>
          <a:stretch/>
        </p:blipFill>
        <p:spPr>
          <a:xfrm>
            <a:off x="2143080" y="1643040"/>
            <a:ext cx="4429080" cy="3322800"/>
          </a:xfrm>
          <a:prstGeom prst="rect">
            <a:avLst/>
          </a:prstGeom>
          <a:ln w="0">
            <a:noFill/>
          </a:ln>
        </p:spPr>
      </p:pic>
      <p:sp>
        <p:nvSpPr>
          <p:cNvPr id="208" name="Прямоугольник 5"/>
          <p:cNvSpPr/>
          <p:nvPr/>
        </p:nvSpPr>
        <p:spPr>
          <a:xfrm>
            <a:off x="285840" y="5072040"/>
            <a:ext cx="821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Смысл действий открывает для ребёнка взрослый.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Он – соучастник, помогающий малышу освоить какое –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либо действие, образец того,  как нужно делать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                                   </a:t>
            </a: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правильно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"/>
          <p:cNvSpPr/>
          <p:nvPr/>
        </p:nvSpPr>
        <p:spPr>
          <a:xfrm>
            <a:off x="250920" y="199440"/>
            <a:ext cx="871380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ahoma"/>
                <a:ea typeface="Calibri"/>
              </a:rPr>
              <a:t>  </a:t>
            </a:r>
            <a:r>
              <a:rPr b="0" lang="ru-RU" sz="2400" spc="-1" strike="noStrike">
                <a:solidFill>
                  <a:srgbClr val="006699"/>
                </a:solidFill>
                <a:latin typeface="Tahoma"/>
                <a:ea typeface="Calibri"/>
              </a:rPr>
              <a:t>Главное     достоинство экспериментирования заключается в том, что оно дает детям реальные представления</a:t>
            </a:r>
            <a:r>
              <a:rPr b="0" lang="en-US" sz="2400" spc="-1" strike="noStrike">
                <a:solidFill>
                  <a:srgbClr val="006699"/>
                </a:solidFill>
                <a:latin typeface="Tahoma"/>
                <a:ea typeface="Calibri"/>
              </a:rPr>
              <a:t> </a:t>
            </a:r>
            <a:r>
              <a:rPr b="0" lang="ru-RU" sz="2400" spc="-1" strike="noStrike">
                <a:solidFill>
                  <a:srgbClr val="006699"/>
                </a:solidFill>
                <a:latin typeface="Tahoma"/>
                <a:ea typeface="Calibri"/>
              </a:rPr>
              <a:t>о различных сторонах</a:t>
            </a:r>
            <a:r>
              <a:rPr b="0" lang="en-US" sz="2400" spc="-1" strike="noStrike">
                <a:solidFill>
                  <a:srgbClr val="006699"/>
                </a:solidFill>
                <a:latin typeface="Tahoma"/>
                <a:ea typeface="Calibri"/>
              </a:rPr>
              <a:t> </a:t>
            </a:r>
            <a:r>
              <a:rPr b="0" lang="ru-RU" sz="2400" spc="-1" strike="noStrike">
                <a:solidFill>
                  <a:srgbClr val="006699"/>
                </a:solidFill>
                <a:latin typeface="Tahoma"/>
                <a:ea typeface="Calibri"/>
              </a:rPr>
              <a:t>изучаемого объекта, о его взаимоотношениях</a:t>
            </a:r>
            <a:r>
              <a:rPr b="0" lang="en-US" sz="2400" spc="-1" strike="noStrike">
                <a:solidFill>
                  <a:srgbClr val="006699"/>
                </a:solidFill>
                <a:latin typeface="Tahoma"/>
                <a:ea typeface="Calibri"/>
              </a:rPr>
              <a:t> </a:t>
            </a:r>
            <a:r>
              <a:rPr b="0" lang="ru-RU" sz="2400" spc="-1" strike="noStrike">
                <a:solidFill>
                  <a:srgbClr val="006699"/>
                </a:solidFill>
                <a:latin typeface="Tahoma"/>
                <a:ea typeface="Calibri"/>
              </a:rPr>
              <a:t>с другими объектами и со средой обитания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  <a:ea typeface="Calibri"/>
              </a:rPr>
              <a:t>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0" name="Picture 12" descr=""/>
          <p:cNvPicPr/>
          <p:nvPr/>
        </p:nvPicPr>
        <p:blipFill>
          <a:blip r:embed="rId1"/>
          <a:stretch/>
        </p:blipFill>
        <p:spPr>
          <a:xfrm>
            <a:off x="179280" y="2205000"/>
            <a:ext cx="3024360" cy="40323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3" descr=""/>
          <p:cNvPicPr/>
          <p:nvPr/>
        </p:nvPicPr>
        <p:blipFill>
          <a:blip r:embed="rId2"/>
          <a:stretch/>
        </p:blipFill>
        <p:spPr>
          <a:xfrm>
            <a:off x="6084720" y="2205000"/>
            <a:ext cx="2845080" cy="4259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" descr=""/>
          <p:cNvPicPr/>
          <p:nvPr/>
        </p:nvPicPr>
        <p:blipFill>
          <a:blip r:embed="rId3"/>
          <a:stretch/>
        </p:blipFill>
        <p:spPr>
          <a:xfrm>
            <a:off x="3276720" y="2205000"/>
            <a:ext cx="27082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44000" cy="73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99"/>
                </a:solidFill>
                <a:latin typeface="Tahoma"/>
              </a:rPr>
              <a:t>Условия создания оптимальной предметно - развивающей среды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13840" y="1000080"/>
            <a:ext cx="8929800" cy="15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67040" indent="-167040">
              <a:lnSpc>
                <a:spcPct val="80000"/>
              </a:lnSpc>
              <a:spcBef>
                <a:spcPts val="550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Tahoma"/>
              </a:rPr>
              <a:t>разнообразие и  насыщенность, неординарность и сменяемость    предметной среды,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167040" indent="-167040">
              <a:lnSpc>
                <a:spcPct val="80000"/>
              </a:lnSpc>
              <a:spcBef>
                <a:spcPts val="550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Tahoma"/>
              </a:rPr>
              <a:t>включение в неё максимального количества предметов взрослого обихода,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167040" indent="-167040">
              <a:lnSpc>
                <a:spcPct val="80000"/>
              </a:lnSpc>
              <a:spcBef>
                <a:spcPts val="550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6699"/>
                </a:solidFill>
                <a:latin typeface="Tahoma"/>
              </a:rPr>
              <a:t>предоставление свободы исследования («ломания» предметов),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5" name="Picture 6" descr=""/>
          <p:cNvPicPr/>
          <p:nvPr/>
        </p:nvPicPr>
        <p:blipFill>
          <a:blip r:embed="rId1"/>
          <a:stretch/>
        </p:blipFill>
        <p:spPr>
          <a:xfrm>
            <a:off x="5929200" y="2643120"/>
            <a:ext cx="3000600" cy="3857760"/>
          </a:xfrm>
          <a:prstGeom prst="rect">
            <a:avLst/>
          </a:prstGeom>
          <a:ln w="0">
            <a:noFill/>
          </a:ln>
        </p:spPr>
      </p:pic>
      <p:sp>
        <p:nvSpPr>
          <p:cNvPr id="216" name="Прямоугольник 7"/>
          <p:cNvSpPr/>
          <p:nvPr/>
        </p:nvSpPr>
        <p:spPr>
          <a:xfrm>
            <a:off x="214200" y="2500200"/>
            <a:ext cx="5857920" cy="43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80000"/>
              </a:lnSpc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Tahoma"/>
              </a:rPr>
              <a:t>резерв свободного места и времени для разворачивания игр,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176040" indent="-176040">
              <a:lnSpc>
                <a:spcPct val="80000"/>
              </a:lnSpc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Tahoma"/>
              </a:rPr>
              <a:t>возможность брать любые игрушки и действовать с ними по собственному усмотрению,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176040" indent="-176040">
              <a:lnSpc>
                <a:spcPct val="80000"/>
              </a:lnSpc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Tahoma"/>
              </a:rPr>
              <a:t>определение максимального уровня размещения игрушек  и материалов согласно росту,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176040" indent="-176040">
              <a:lnSpc>
                <a:spcPct val="80000"/>
              </a:lnSpc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Tahoma"/>
              </a:rPr>
              <a:t>универсальность предметно - игровой среды, позволяющей играть совместно, трансформировать её в соответствии  с видом игры и содержанием,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176040" indent="-176040">
              <a:lnSpc>
                <a:spcPct val="80000"/>
              </a:lnSpc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Tahoma"/>
              </a:rPr>
              <a:t>учёт опыта детей, способности к комбинированию, созданию нового.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176040" indent="-176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440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99"/>
                </a:solidFill>
                <a:latin typeface="Tahoma"/>
              </a:rPr>
              <a:t>Способы стимулирования экспериментальных действий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85840" y="1071720"/>
            <a:ext cx="585792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обогащение окружающей среды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79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предметами,   объектами     и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79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стимулами,       максимально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79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усиливающих любознательность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79280" indent="-1792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поддержка и поощрение идей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79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и  замыслов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79280" indent="-1792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создание условий для реализации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79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творческих   идей   на    практике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79280" indent="-1792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использование вопросов проблемного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79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характера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79280" indent="-1792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использование личного примера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79280" indent="-1792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создание проблемно – поисковых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79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                        </a:t>
            </a: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ситуаций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9" name="Picture 5" descr=""/>
          <p:cNvPicPr/>
          <p:nvPr/>
        </p:nvPicPr>
        <p:blipFill>
          <a:blip r:embed="rId1"/>
          <a:stretch/>
        </p:blipFill>
        <p:spPr>
          <a:xfrm>
            <a:off x="6143760" y="714240"/>
            <a:ext cx="2786040" cy="18986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"/>
          <p:cNvPicPr/>
          <p:nvPr/>
        </p:nvPicPr>
        <p:blipFill>
          <a:blip r:embed="rId2"/>
          <a:stretch/>
        </p:blipFill>
        <p:spPr>
          <a:xfrm>
            <a:off x="6143760" y="2571840"/>
            <a:ext cx="2806560" cy="19288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"/>
          <p:cNvPicPr/>
          <p:nvPr/>
        </p:nvPicPr>
        <p:blipFill>
          <a:blip r:embed="rId3"/>
          <a:stretch/>
        </p:blipFill>
        <p:spPr>
          <a:xfrm>
            <a:off x="6143760" y="4500720"/>
            <a:ext cx="277632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8T08:51:22Z</dcterms:created>
  <dc:creator>********</dc:creator>
  <dc:description/>
  <dc:language>en-US</dc:language>
  <cp:lastModifiedBy>User</cp:lastModifiedBy>
  <dcterms:modified xsi:type="dcterms:W3CDTF">2012-06-13T03:48:43Z</dcterms:modified>
  <cp:revision>40</cp:revision>
  <dc:subject/>
  <dc:title>Экспериментирование как важное условие полноценного развития дошкольника</dc:title>
</cp:coreProperties>
</file>