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5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B3F5-57F0-468F-BB21-4A9C87AA8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AC3-EDFB-44B2-A669-BA872888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DF2-6464-4D77-84B1-0F6EC985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EF64-6291-43C3-9BEE-813F5F3D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52BE-F2CC-4CB5-9CA6-92E06C6C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B911-9342-4602-B631-1D1F095E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D3C5-21DF-4835-B618-8B7237CE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034B-3129-426B-B3CC-007B2D45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329B-5EA0-4F39-A83C-9AD0F5F4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641D-AAC9-4D0C-B874-0BCDAC08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97EF-87C0-4349-BA68-EA349EA6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A07-792A-4FC6-90A6-FD1DD031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38D1-717F-4D50-9F63-1FE3E8E3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CF89-62DE-485D-B87E-0B553D22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EEA1-1C09-48BE-9F6D-9598BFCD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BCF3-21A3-459A-913F-897D077A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A27B-8B13-4379-B5FD-3EE48FB4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A85-1A06-4E2C-A4A2-4389C869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8B4-4DA4-4396-A542-0D9E32F6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2A0-110B-4EE4-9C39-66DD84FF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26B9-7830-4F8A-9291-676A4D3D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EEE-4A58-4946-A41F-436FA637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E5C-D8BD-45C4-BF2D-04457DD3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AA1-FAFC-42B2-9497-EA8A8BE0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A303-AF79-40DA-91FA-5C58ED8D365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0120"/>
              <a:ext cx="3621240" cy="6132240"/>
              <a:chOff x="5409360" y="60120"/>
              <a:chExt cx="3621240" cy="61322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5600"/>
                <a:ext cx="211500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04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880" y="258984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71760"/>
                <a:ext cx="388800" cy="551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88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5200"/>
              <a:ext cx="892800" cy="825840"/>
              <a:chOff x="5650560" y="29520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400" y="469800"/>
                <a:ext cx="30528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920" y="39492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400" y="5259960"/>
              <a:ext cx="1059480" cy="830880"/>
              <a:chOff x="968400" y="5259960"/>
              <a:chExt cx="105948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624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160"/>
                <a:ext cx="448920" cy="127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3F51-F196-494B-9C51-C1A7229C501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424720" cy="1511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Экспериментирование – метод формирования познавательной активности </a:t>
            </a:r>
            <a:br>
              <a:rPr sz="3200"/>
            </a:br>
            <a:r>
              <a:rPr b="0" i="1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у детей раннего возраста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071720" y="557208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Tahoma"/>
                <a:ea typeface="Tahoma"/>
              </a:rPr>
              <a:t>Королёва Анжелика Валерьевн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Tahoma"/>
                <a:ea typeface="Tahoma"/>
              </a:rPr>
              <a:t>МДОУ №54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2286000" y="1928880"/>
            <a:ext cx="48150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3" descr=""/>
          <p:cNvPicPr/>
          <p:nvPr/>
        </p:nvPicPr>
        <p:blipFill>
          <a:blip r:embed="rId1"/>
          <a:stretch/>
        </p:blipFill>
        <p:spPr>
          <a:xfrm>
            <a:off x="4572000" y="4005360"/>
            <a:ext cx="3887640" cy="26416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1"/>
          <p:cNvSpPr/>
          <p:nvPr/>
        </p:nvSpPr>
        <p:spPr>
          <a:xfrm>
            <a:off x="250920" y="153720"/>
            <a:ext cx="85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i="1" lang="en-US" sz="2400" spc="-1" strike="noStrike">
                <a:solidFill>
                  <a:srgbClr val="006699"/>
                </a:solidFill>
                <a:latin typeface="Tahoma"/>
              </a:rPr>
              <a:t>Во  время экспериментирования  с предметам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Tahoma"/>
              </a:rPr>
              <a:t>постепенно формируются умственные (интеллектуальные) действия.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4" name="Picture 14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3264120" cy="2520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/>
          <p:cNvPicPr/>
          <p:nvPr/>
        </p:nvPicPr>
        <p:blipFill>
          <a:blip r:embed="rId3"/>
          <a:stretch/>
        </p:blipFill>
        <p:spPr>
          <a:xfrm>
            <a:off x="4211640" y="1484280"/>
            <a:ext cx="1441440" cy="2587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"/>
          <p:cNvPicPr/>
          <p:nvPr/>
        </p:nvPicPr>
        <p:blipFill>
          <a:blip r:embed="rId4"/>
          <a:stretch/>
        </p:blipFill>
        <p:spPr>
          <a:xfrm>
            <a:off x="6084720" y="1484280"/>
            <a:ext cx="2664000" cy="2603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"/>
          <p:cNvPicPr/>
          <p:nvPr/>
        </p:nvPicPr>
        <p:blipFill>
          <a:blip r:embed="rId5"/>
          <a:stretch/>
        </p:blipFill>
        <p:spPr>
          <a:xfrm>
            <a:off x="324000" y="4292640"/>
            <a:ext cx="34923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Tahoma"/>
              </a:rPr>
              <a:t>Этапы формирования умственных действий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6699"/>
                </a:solidFill>
                <a:latin typeface="Tahoma"/>
              </a:rPr>
              <a:t>(Гальперин П. Я., Талызина Н. Ф.)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250920" y="995400"/>
            <a:ext cx="518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66680" indent="-166680">
              <a:buClr>
                <a:srgbClr val="006699"/>
              </a:buClr>
              <a:buFont typeface="Verdana"/>
              <a:buAutoNum type="arabicPeriod"/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риентировочный       этап –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сновополагающий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а данном этапе воспитатель знакомит детей  с  тем,  как и  в  каком порядке надо действовать, что надо делать, с чего начинать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Основной акцент ставится на методы  и    способы     выполне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едагог показывает    и     объясняет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следовательность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66680" indent="-166680"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250920" y="4005360"/>
            <a:ext cx="518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2. Этап выполнения действий в материальной форме связан с практическим освоением действия с реальными предметами или их заместителями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ля детей раннего возраста  этот этап основной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5857920" y="1571760"/>
            <a:ext cx="2928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250920" y="981000"/>
            <a:ext cx="468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3. Этап   выполнения    действий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 форме внешней (громкой) речи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а этом этапе действие выполняется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без  опоры   на  реальные предметы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следовательность и способы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ыполнения проговариваются вслух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Громкая  (внешняя)  речь  заменяе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манипулирование     предметами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т. е. осуществляется речево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ыполнение определённого предметного действ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4. Этап формирования внутренней речи:   действие   не   озвучивается, а   выполняется   «про     себя»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5. Собственно умственное действие – максимально   быстрое    и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результативное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50920" y="1159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Tahoma"/>
              </a:rPr>
              <a:t>Этапы формирования умственных действий </a:t>
            </a:r>
            <a:br>
              <a:rPr sz="2400"/>
            </a:br>
            <a:r>
              <a:rPr b="0" i="1" lang="en-US" sz="2400" spc="-1" strike="noStrike">
                <a:solidFill>
                  <a:srgbClr val="006699"/>
                </a:solidFill>
                <a:latin typeface="Tahoma"/>
              </a:rPr>
              <a:t>(Гальперин П. Я., Талызина Н. Ф.)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5364000" y="1052640"/>
            <a:ext cx="3456000" cy="2301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79404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315280" cy="98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Справедливая оценка взрослого – важный мотив освоения  действий с предметами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5000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     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Если усилия  ребёнка не замечаются, а промахи критикуются,  то малыш обижается, замыкается в своих переживаниях, развитие его останавливаетс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6818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F:\фото2\Дети\leto-10.jpg"/>
          <p:cNvPicPr/>
          <p:nvPr/>
        </p:nvPicPr>
        <p:blipFill>
          <a:blip r:embed="rId1"/>
          <a:stretch/>
        </p:blipFill>
        <p:spPr>
          <a:xfrm>
            <a:off x="6072120" y="1428840"/>
            <a:ext cx="2428920" cy="39290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8"/>
          <p:cNvSpPr/>
          <p:nvPr/>
        </p:nvSpPr>
        <p:spPr>
          <a:xfrm>
            <a:off x="571680" y="428760"/>
            <a:ext cx="7627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Опыты с предметами пробуждают у детей любознательност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Прямоугольник 9"/>
          <p:cNvSpPr/>
          <p:nvPr/>
        </p:nvSpPr>
        <p:spPr>
          <a:xfrm>
            <a:off x="429480" y="150012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Ребёнок    учится     наблюдать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сравнивать, отвечать на вопросы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соблюдать правила безопасно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TextBox 10"/>
          <p:cNvSpPr/>
          <p:nvPr/>
        </p:nvSpPr>
        <p:spPr>
          <a:xfrm>
            <a:off x="642960" y="2928960"/>
            <a:ext cx="485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Чем больше новой информаци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он   получает   тем     быстрее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и  полноценнее   развиваетс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642960" y="4500720"/>
            <a:ext cx="49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Малыш становится более находчивым  в достижении поставленной    цел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44000" cy="50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Tahoma"/>
              </a:rPr>
              <a:t>Ребёнок раннего возраста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280" y="928800"/>
            <a:ext cx="4389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Инициативен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по   отношению      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взрослому -  стремится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привлечь его внимание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к    своим    действиям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обращается      з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помощью   и   оценкой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своих     действий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настойчиво    требуе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от   него   соучастия в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своих     дела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1"/>
          <a:stretch/>
        </p:blipFill>
        <p:spPr>
          <a:xfrm>
            <a:off x="5143680" y="1071720"/>
            <a:ext cx="340668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44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Tahoma"/>
              </a:rPr>
              <a:t>Ребёнок раннего возраста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720" y="857160"/>
            <a:ext cx="821844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Чувствителен к отношению взрослого, к  его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оценке.    Он  умеет   перестраивать     своё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поведение  в   зависимости    от    поведения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взрослого,  тонко различает   похвалу   и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порицание,   охотно   подражает   взрослому,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выполняет    его   просьбы   и   инструкци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2000160" y="3357720"/>
            <a:ext cx="4932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4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Tahoma"/>
              </a:rPr>
              <a:t>Ребёнок раннего возраста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14200" y="836280"/>
            <a:ext cx="5786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Доверчиво и открыто относитс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к     посторонним       взрослым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проявляет   ярко   выраженную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любознательность,     умее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найти   себе   занятие,  играе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разнообразно  и    увлечённо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настойчив   в    достижении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поставленной цели, преодолен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трудностей     в    действиях с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предметами,       своевременно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6107040" y="1341360"/>
            <a:ext cx="2784600" cy="401652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4"/>
          <p:cNvSpPr/>
          <p:nvPr/>
        </p:nvSpPr>
        <p:spPr>
          <a:xfrm>
            <a:off x="285840" y="590400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активной речью, пользуется ею в целях общ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Прямоугольник 5"/>
          <p:cNvSpPr/>
          <p:nvPr/>
        </p:nvSpPr>
        <p:spPr>
          <a:xfrm>
            <a:off x="5500800" y="535788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овладевае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1437120" y="55720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2017800" cy="36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99"/>
                </a:solidFill>
                <a:latin typeface="Tahoma"/>
              </a:rPr>
              <a:t>Выводы: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856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268200" algn="just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В раннем возрасте дети активно стремятся к новым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впечатлениям, с интересом включаются в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предложенные взрослым игры и эксперименты, подолгу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с увлечением экспериментируют сами, подраж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взрослому и изобретая новые действ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2. Экспериментирование    как     основной     способ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познавательной   активности  в   раннем   возрасте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стимулирует   развитие   таких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личностных качеств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как     инициативность,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самостоятельность,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6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целеустремлённос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8" name="Picture 2" descr="F:\фото2\Дети\leto-70.jpg"/>
          <p:cNvPicPr/>
          <p:nvPr/>
        </p:nvPicPr>
        <p:blipFill>
          <a:blip r:embed="rId1"/>
          <a:stretch/>
        </p:blipFill>
        <p:spPr>
          <a:xfrm>
            <a:off x="5214960" y="4357800"/>
            <a:ext cx="3643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5"/>
          <p:cNvSpPr/>
          <p:nvPr/>
        </p:nvSpPr>
        <p:spPr>
          <a:xfrm>
            <a:off x="395280" y="5229360"/>
            <a:ext cx="48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buClr>
                <a:srgbClr val="006699"/>
              </a:buClr>
              <a:buFont typeface="Tahoma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Частота    повтора   определяется содержанием      дидактических  задач   и    степенью    усвоения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программного     материал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Tahoma"/>
              </a:rPr>
              <a:t>Рекомендации для воспитателей по обучению детей предметным действиям (ПД)</a:t>
            </a:r>
            <a:r>
              <a:rPr b="0" i="1" lang="en-US" sz="32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424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117720" indent="-1177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Организация обучения преимущественно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индивидуальная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-1177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Организация предметной деятельности должна строго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соответствовать алгоритму: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- Обучение новым действиям с предмето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- Обучение усложнениям с предмето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-1177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Переключение на другие виды деятельност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-11772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Повторять одни и те же занятия 5-8 раз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из-за слабо развитой координаци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движений, низкого сенсорного 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моторного опыт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7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1"/>
          <a:stretch/>
        </p:blipFill>
        <p:spPr>
          <a:xfrm>
            <a:off x="7236000" y="907920"/>
            <a:ext cx="1672920" cy="28800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pic>
        <p:nvPicPr>
          <p:cNvPr id="263" name="Picture 7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68784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410364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Актуальность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24000" y="980640"/>
            <a:ext cx="5176800" cy="15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>
              <a:lnSpc>
                <a:spcPct val="100000"/>
              </a:lnSpc>
              <a:tabLst>
                <a:tab algn="l" pos="0"/>
                <a:tab algn="l" pos="547524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Ранний     возраст    –   период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7524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активного познания окружающего  мира  и  экспериментирования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7524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ребёнка с   предметами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47524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47524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Ребёнок,   исследуя     различные предметы и их свойства, проводит простые причинно – следственные связи, изучает характер движений   и соотношение предметов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Прямоугольник 5"/>
          <p:cNvSpPr/>
          <p:nvPr/>
        </p:nvSpPr>
        <p:spPr>
          <a:xfrm>
            <a:off x="179280" y="53578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6092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Тем   самым   он   формирует свой интеллектуальный и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56092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творческий   потенциал.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5592600" y="928800"/>
            <a:ext cx="3551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6425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54800" indent="-15480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Организуя   предметную   деятельность детей,   надо   следить  за   тем, чтобы каждый  вид   дидактического  пособия использовался по назначению. В случае  отсутствия у ребёнка умения действовать с игрушкой, воспитатель обучает его, пользуясь методом пассивных движений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Tahoma"/>
              </a:rPr>
              <a:t>Рекомендации для воспитателей по обучению детей предметным действиям (ПД)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tretch/>
        </p:blipFill>
        <p:spPr>
          <a:xfrm>
            <a:off x="5651640" y="3068640"/>
            <a:ext cx="3276360" cy="245916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7"/>
          <p:cNvSpPr/>
          <p:nvPr/>
        </p:nvSpPr>
        <p:spPr>
          <a:xfrm>
            <a:off x="179280" y="2781360"/>
            <a:ext cx="518472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Во     избежание     утомления       детей, длительность   занимающихся  одной  и той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же   игрушкой   и  выполняя    их   при  этом  одни   и   те     же     заученные     действия,   следует переключить   их   на  деятельность с другими игрушками.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Все   действия    должны   сопровождаться речью  воспитателя. Существенное значение имеет объяснение взрослого, называние   им   предметов,  действий,  качеств,   отношений. Вопросы    должны    быть     конкретные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                </a:t>
            </a: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«Что? Какой, Где? Как?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243640" cy="63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Tahoma"/>
                <a:ea typeface="Tahoma"/>
              </a:rPr>
              <a:t>Литература</a:t>
            </a:r>
            <a:r>
              <a:rPr b="0" i="1" lang="en-US" sz="3200" spc="-1" strike="noStrike">
                <a:solidFill>
                  <a:srgbClr val="006699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0920" y="907560"/>
            <a:ext cx="8400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Веракса  Н. Е. Особенности преобразования противоречивых проблемных ситуаций дошкольниками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  <a:ea typeface="Tahoma"/>
              </a:rPr>
              <a:t>// </a:t>
            </a: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Вопросы психологии, 1981, № 3, с.: 123 - 127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Крулехт М. В. Ребёнок познаёт предметный мир, приобщается к труду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  <a:ea typeface="Tahoma"/>
              </a:rPr>
              <a:t>// </a:t>
            </a: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Младший дошкольник в детском саду. Как работать по программе «Детство»: Учебно–методическое пособие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  <a:ea typeface="Tahoma"/>
              </a:rPr>
              <a:t>/</a:t>
            </a: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 Сост. Т. И. Бабаева, СПб, «ДЕТСВО – ПРЕСС», с.: 126 – 128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Поддьяков Н. Н. Новый подход к развитию творчества дошкольников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  <a:ea typeface="Tahoma"/>
              </a:rPr>
              <a:t>// </a:t>
            </a: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Вопросы психологии,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  <a:ea typeface="Tahoma"/>
              </a:rPr>
              <a:t>1990</a:t>
            </a: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, №1 с.: 16 – 19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Поддьяков Н. Н. Закономерности психического развития ребёнка. – Краснодар, 1997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Ребёнок в мире поиска. Программа по организации поисковой деятельности детей дошкольного возраста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  <a:ea typeface="Tahoma"/>
              </a:rPr>
              <a:t>/</a:t>
            </a: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под ред. О. В. Дыбиной.-  М.: ТЦ «Сфера», 2005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70000" indent="-270000" algn="just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ahoma"/>
                <a:ea typeface="Tahoma"/>
              </a:rPr>
              <a:t>Щетинина А. М. Учим дошкольника думать: игры, занятия, диагностика.- М.: ТЦ Сфера., 2011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64000" y="2349000"/>
            <a:ext cx="3168720" cy="6526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Спасибо</a:t>
            </a:r>
            <a:br>
              <a:rPr sz="4000"/>
            </a:b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за</a:t>
            </a:r>
            <a:br>
              <a:rPr sz="4000"/>
            </a:b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внимание!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1"/>
          <a:srcRect l="0" t="0" r="8950" b="0"/>
          <a:stretch/>
        </p:blipFill>
        <p:spPr>
          <a:xfrm>
            <a:off x="1403280" y="333360"/>
            <a:ext cx="3311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Tahoma"/>
              </a:rPr>
              <a:t>Физиологическая основа</a:t>
            </a:r>
            <a:br>
              <a:rPr sz="3200"/>
            </a:br>
            <a:r>
              <a:rPr b="0" i="1" lang="en-US" sz="3200" spc="-1" strike="noStrike">
                <a:solidFill>
                  <a:srgbClr val="006699"/>
                </a:solidFill>
                <a:latin typeface="Tahoma"/>
              </a:rPr>
              <a:t> познавательной активности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9152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Познавательная     активность   возникает   на основе   рефлекса  «что такое?»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а проявляется она в бесконечных детских «почему?»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4716360" y="3573360"/>
            <a:ext cx="3996000" cy="2941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4032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2"/>
          <p:cNvSpPr/>
          <p:nvPr/>
        </p:nvSpPr>
        <p:spPr>
          <a:xfrm>
            <a:off x="131040" y="357120"/>
            <a:ext cx="912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Познавательная    активность    успешно       формируетс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в процессе взаимодействия, когда воспитатель использу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        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разнообразные методы и приёмы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357120" y="5429160"/>
            <a:ext cx="792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побуждает   детей   к   исследовательскому  подходу -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            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самостоятельному  и   творческому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Tahoma"/>
              </a:rPr>
              <a:t>поиску  ответов  на  постоянно возникающие вопро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2428920" y="1643040"/>
            <a:ext cx="4429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Tahoma"/>
              </a:rPr>
              <a:t>Типы познавательной активности ребёнка</a:t>
            </a:r>
            <a:br>
              <a:rPr sz="2400"/>
            </a:br>
            <a:r>
              <a:rPr b="0" i="1" lang="ru-RU" sz="2400" spc="-1" strike="noStrike">
                <a:solidFill>
                  <a:srgbClr val="006699"/>
                </a:solidFill>
                <a:latin typeface="Tahoma"/>
              </a:rPr>
              <a:t>(Д. Б. Эльконин, А. В. Запорожец, Н. Н. Поддьяков)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395280" y="1197000"/>
            <a:ext cx="3384720" cy="93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Собственная активность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определяется самим ребёнком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его внутренним состоянием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4788000" y="1197000"/>
            <a:ext cx="338436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Активность,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стимулируема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взрослым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468360" y="2349360"/>
            <a:ext cx="3311640" cy="719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Ребёнок –  творец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собственной деятельност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468360" y="3284640"/>
            <a:ext cx="3311640" cy="64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Сам ставит цель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ищет  пути и способы достижения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AutoShape 12"/>
          <p:cNvSpPr/>
          <p:nvPr/>
        </p:nvSpPr>
        <p:spPr>
          <a:xfrm>
            <a:off x="468360" y="4221000"/>
            <a:ext cx="3311640" cy="57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Реализует свою волю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свои интересы, потребност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AutoShape 13"/>
          <p:cNvSpPr/>
          <p:nvPr/>
        </p:nvSpPr>
        <p:spPr>
          <a:xfrm>
            <a:off x="4932360" y="3213000"/>
            <a:ext cx="3241800" cy="719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Взрослый задаёт параметры,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обучает определённому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алгоритму действи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AutoShape 14"/>
          <p:cNvSpPr/>
          <p:nvPr/>
        </p:nvSpPr>
        <p:spPr>
          <a:xfrm>
            <a:off x="4859280" y="2205000"/>
            <a:ext cx="3314880" cy="719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Взрослый  организует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и направляет деятельность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AutoShape 19"/>
          <p:cNvSpPr/>
          <p:nvPr/>
        </p:nvSpPr>
        <p:spPr>
          <a:xfrm>
            <a:off x="4859280" y="4221000"/>
            <a:ext cx="3313080" cy="5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Реализует замысел взрослого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Line 20"/>
          <p:cNvSpPr/>
          <p:nvPr/>
        </p:nvSpPr>
        <p:spPr>
          <a:xfrm>
            <a:off x="1835280" y="2133720"/>
            <a:ext cx="0" cy="215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Line 21"/>
          <p:cNvSpPr/>
          <p:nvPr/>
        </p:nvSpPr>
        <p:spPr>
          <a:xfrm>
            <a:off x="1908000" y="3068640"/>
            <a:ext cx="0" cy="2160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Line 22"/>
          <p:cNvSpPr/>
          <p:nvPr/>
        </p:nvSpPr>
        <p:spPr>
          <a:xfrm>
            <a:off x="1979640" y="3933720"/>
            <a:ext cx="0" cy="287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Line 23"/>
          <p:cNvSpPr/>
          <p:nvPr/>
        </p:nvSpPr>
        <p:spPr>
          <a:xfrm>
            <a:off x="6372360" y="1916280"/>
            <a:ext cx="0" cy="288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Line 24"/>
          <p:cNvSpPr/>
          <p:nvPr/>
        </p:nvSpPr>
        <p:spPr>
          <a:xfrm>
            <a:off x="6443640" y="2924280"/>
            <a:ext cx="0" cy="28872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Line 25"/>
          <p:cNvSpPr/>
          <p:nvPr/>
        </p:nvSpPr>
        <p:spPr>
          <a:xfrm>
            <a:off x="6443640" y="3933720"/>
            <a:ext cx="0" cy="287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AutoShape 26"/>
          <p:cNvSpPr/>
          <p:nvPr/>
        </p:nvSpPr>
        <p:spPr>
          <a:xfrm>
            <a:off x="468360" y="5013360"/>
            <a:ext cx="3240000" cy="5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Основа детского творчеств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AutoShape 27"/>
          <p:cNvSpPr/>
          <p:nvPr/>
        </p:nvSpPr>
        <p:spPr>
          <a:xfrm>
            <a:off x="4859280" y="5013360"/>
            <a:ext cx="3311640" cy="5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Основа совместного творчеств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AutoShape 28"/>
          <p:cNvSpPr/>
          <p:nvPr/>
        </p:nvSpPr>
        <p:spPr>
          <a:xfrm>
            <a:off x="1692360" y="5877000"/>
            <a:ext cx="5543640" cy="5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Совместное творчество, основанно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на  взаимодействии ребёнка и взрослого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Line 30"/>
          <p:cNvSpPr/>
          <p:nvPr/>
        </p:nvSpPr>
        <p:spPr>
          <a:xfrm>
            <a:off x="1979640" y="4797360"/>
            <a:ext cx="0" cy="144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Line 31"/>
          <p:cNvSpPr/>
          <p:nvPr/>
        </p:nvSpPr>
        <p:spPr>
          <a:xfrm>
            <a:off x="6443640" y="4724280"/>
            <a:ext cx="0" cy="2890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Line 32"/>
          <p:cNvSpPr/>
          <p:nvPr/>
        </p:nvSpPr>
        <p:spPr>
          <a:xfrm>
            <a:off x="3635280" y="5516640"/>
            <a:ext cx="649440" cy="360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Line 33"/>
          <p:cNvSpPr/>
          <p:nvPr/>
        </p:nvSpPr>
        <p:spPr>
          <a:xfrm flipH="1">
            <a:off x="4284720" y="5516640"/>
            <a:ext cx="574560" cy="360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34"/>
          <p:cNvSpPr/>
          <p:nvPr/>
        </p:nvSpPr>
        <p:spPr>
          <a:xfrm>
            <a:off x="3780000" y="1484280"/>
            <a:ext cx="1008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35"/>
          <p:cNvSpPr/>
          <p:nvPr/>
        </p:nvSpPr>
        <p:spPr>
          <a:xfrm flipH="1">
            <a:off x="3780000" y="1628640"/>
            <a:ext cx="1008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24000" y="356760"/>
            <a:ext cx="8177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В раннем возрасте познавательная активность детей –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это   экспериментирование с  различными предметами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           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или орудийные действ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2143080" y="1643040"/>
            <a:ext cx="4429080" cy="332280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5"/>
          <p:cNvSpPr/>
          <p:nvPr/>
        </p:nvSpPr>
        <p:spPr>
          <a:xfrm>
            <a:off x="285840" y="5072040"/>
            <a:ext cx="82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Смысл действий открывает для ребёнка взрослый.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Он – соучастник, помогающий малышу освоить какое –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либо действие, образец того,  как нужно делать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                             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правильн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250920" y="199440"/>
            <a:ext cx="87138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ahoma"/>
                <a:ea typeface="Calibri"/>
              </a:rPr>
              <a:t>  </a:t>
            </a:r>
            <a:r>
              <a:rPr b="0" lang="ru-RU" sz="2400" spc="-1" strike="noStrike">
                <a:solidFill>
                  <a:srgbClr val="006699"/>
                </a:solidFill>
                <a:latin typeface="Tahoma"/>
                <a:ea typeface="Calibri"/>
              </a:rPr>
              <a:t>Главное     достоинство экспериментирования заключается в том, что оно дает детям реальные представления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Calibri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ahoma"/>
                <a:ea typeface="Calibri"/>
              </a:rPr>
              <a:t>о различных сторонах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Calibri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ahoma"/>
                <a:ea typeface="Calibri"/>
              </a:rPr>
              <a:t>изучаемого объекта, о его взаимоотношениях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Calibri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Tahoma"/>
                <a:ea typeface="Calibri"/>
              </a:rPr>
              <a:t>с другими объектами и со средой обитан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  <a:ea typeface="Calibri"/>
              </a:rPr>
              <a:t>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3024360" cy="4032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"/>
          <p:cNvPicPr/>
          <p:nvPr/>
        </p:nvPicPr>
        <p:blipFill>
          <a:blip r:embed="rId2"/>
          <a:stretch/>
        </p:blipFill>
        <p:spPr>
          <a:xfrm>
            <a:off x="6084720" y="2205000"/>
            <a:ext cx="2845080" cy="425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3276720" y="2205000"/>
            <a:ext cx="2708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4400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Tahoma"/>
              </a:rPr>
              <a:t>Условия создания оптимальной предметно - развивающей среды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13840" y="1000080"/>
            <a:ext cx="8929800" cy="15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7040" indent="-16704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Tahoma"/>
              </a:rPr>
              <a:t>разнообразие и  насыщенность, неординарность и сменяемость    предметной среды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167040" indent="-16704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Tahoma"/>
              </a:rPr>
              <a:t>включение в неё максимального количества предметов взрослого обихода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167040" indent="-16704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6699"/>
                </a:solidFill>
                <a:latin typeface="Tahoma"/>
              </a:rPr>
              <a:t>предоставление свободы исследования («ломания» предметов)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5929200" y="2643120"/>
            <a:ext cx="3000600" cy="385776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7"/>
          <p:cNvSpPr/>
          <p:nvPr/>
        </p:nvSpPr>
        <p:spPr>
          <a:xfrm>
            <a:off x="214200" y="2500200"/>
            <a:ext cx="585792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8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Tahoma"/>
              </a:rPr>
              <a:t>резерв свободного места и времени для разворачивания игр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8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Tahoma"/>
              </a:rPr>
              <a:t>возможность брать любые игрушки и действовать с ними по собственному усмотрению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8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Tahoma"/>
              </a:rPr>
              <a:t>определение максимального уровня размещения игрушек  и материалов согласно росту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8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Tahoma"/>
              </a:rPr>
              <a:t>универсальность предметно - игровой среды, позволяющей играть совместно, трансформировать её в соответствии  с видом игры и содержанием,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8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Tahoma"/>
              </a:rPr>
              <a:t>учёт опыта детей, способности к комбинированию, созданию нового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176040" indent="-176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Tahoma"/>
              </a:rPr>
              <a:t>Способы стимулирования экспериментальных действий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85840" y="1071720"/>
            <a:ext cx="58579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обогащение окружающей среды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предметами,   объектами     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стимулами,       максимально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усиливающих любознательность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-1792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поддержка и поощрение иде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и  замыслов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-1792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создание условий для реализаци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творческих   идей   на    практике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-1792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использование вопросов проблемного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характер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-1792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использование личного примера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-1792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создание проблемно – поисковых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                        </a:t>
            </a:r>
            <a:r>
              <a:rPr b="0" lang="en-US" sz="2400" spc="-1" strike="noStrike">
                <a:solidFill>
                  <a:srgbClr val="006699"/>
                </a:solidFill>
                <a:latin typeface="Tahoma"/>
              </a:rPr>
              <a:t>ситуац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6143760" y="714240"/>
            <a:ext cx="2786040" cy="1898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6143760" y="2571840"/>
            <a:ext cx="2806560" cy="1928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6143760" y="4500720"/>
            <a:ext cx="27763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08:51:22Z</dcterms:created>
  <dc:creator>********</dc:creator>
  <dc:description/>
  <dc:language>en-US</dc:language>
  <cp:lastModifiedBy>User</cp:lastModifiedBy>
  <dcterms:modified xsi:type="dcterms:W3CDTF">2012-06-13T03:48:43Z</dcterms:modified>
  <cp:revision>40</cp:revision>
  <dc:subject/>
  <dc:title>Экспериментирование как важное условие полноценного развития дошкольника</dc:title>
</cp:coreProperties>
</file>