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EF1-66FB-49A5-96C2-B1759513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286-74D0-4D42-A93F-6746C4CF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C73-DEF4-4D07-83F3-A6241712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DBC-719C-41CE-807E-82BC06C1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29470-1CD9-417C-9FCE-011A8615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2ADD0-5336-40F5-AD7A-11AD1E5B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0D33A-56E4-43C3-A283-3DCEF9B7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44097-A2D6-46ED-9E06-AAB53884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24CDC-F78F-416A-A94C-853173AF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2E0E9-457E-4792-B702-B685F981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C8945-5DCE-473C-9104-69C2E72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DEC-E7C0-4D5E-B3B2-D6ED8BC7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A2058-D457-4FB4-B992-7805AD3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5534D-1E71-41B0-AF67-25CAD772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19D87-10AA-4382-994E-60FF4593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252FA-7E1A-4FB0-B7BD-E4090A31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282D2-7E65-4FBF-A84E-C32AEFCF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161-8356-4578-A6E9-548EFAC1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3CF-969E-4B57-A8D0-9605D60C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31E-A852-4502-9907-A4403A8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FED-7670-447C-B380-AB625B5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93C-C0B2-4DDF-8E98-C718CE5F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A5D-AD4D-4AAD-83F2-561D9E8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1B1-79FD-4C0B-BAF6-56CC4F9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D394-C687-4EB9-8346-E84874103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40A-8B90-476C-89C8-BC0AAAB16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КРЫТЫЙ УРОК ПО НЕМЕЦКОМУ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ЗЫК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: Григорьева Ольга Александр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1.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Фонетическая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заря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ischer Fritz fischt frische Fische,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rische Fische fischt Fischer Fritz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2.Речевая заря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s, zwei, drei, du bist fre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er, 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ünf, sechs, du bist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ieben, acht, neue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u muß̕ se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Грамматическая табли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1523880"/>
          <a:ext cx="8005320" cy="4227120"/>
        </p:xfrm>
        <a:graphic>
          <a:graphicData uri="http://schemas.openxmlformats.org/drawingml/2006/table">
            <a:tbl>
              <a:tblPr/>
              <a:tblGrid>
                <a:gridCol w="769680"/>
                <a:gridCol w="2464200"/>
                <a:gridCol w="2463840"/>
                <a:gridCol w="230760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h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hrer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u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genieur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c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neid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ankenschwe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kauf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terneh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chitek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n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the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lmschauspie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or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ffiz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rona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ward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iru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u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nei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sik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bei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chani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lker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0" y="57139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ispiel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A – Fahrer- der Fahrer – ein Fah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1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hrerin – die Lehrerin – eine Lehrer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2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2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4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Физкультминут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m Kopfchen nick, nick, n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n Fingern tick, tick, t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n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ä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en klapp, klapp, kla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n 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ü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trapp, trapp, tra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m 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fchen nick, nick, n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n Fingern tick, tick, t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mal hin, einmal 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dherum das ist nicht sch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. Berufe. Was passt zusammen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as m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ö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htest du werde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Beru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s passt zusamme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tronaut(i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el reisen und Leute kennen ler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mschauspieler(in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nell fah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ward(ess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chts le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nfahrer(i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e Welt kennen ler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lot(in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ik mach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orter(in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den Weltraum flie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nger(i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el Geld verdie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r(in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me mach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chtwachter(i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tiker kennen ler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. Fussballspiel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test du einmal wer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llspieler naturli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um denn d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, da kann man viel Geld verdiene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 es macht Sp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487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7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Das will ich ward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8.Картинки, обозначающие професси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3600" y="1676520"/>
            <a:ext cx="5697720" cy="472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86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100"/>
                            </p:stCondLst>
                            <p:childTnLst>
                              <p:par>
                                <p:cTn id="2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07-11-30T08:40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