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601-39D7-482B-B764-29365FF9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95F-AAD6-499D-860D-176C26B3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4EA-6FEA-4A00-95E9-C2589620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3D6-DBCE-4D77-B4C6-EC6ABC42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77CA1-8909-443D-8C11-D1AEC645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FF3DD-8A3A-492A-A278-6AFAF2ED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3F1E3-19BF-4C11-BF04-044EF601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40052-D4E9-456C-88AB-64D08A58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59F87-1708-468B-93A7-D5B61087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EA2B2-673C-456C-AFF1-5A0D79B8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DB0B2-88B9-4612-AC9C-FB2389AF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B24-FE00-4206-8C3A-5AF9F015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1455D-6E8D-4B8F-9F1D-1434D984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F593B-6161-44C4-AA24-3DB78900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083FB-7BC2-4DF2-B030-FF82F742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1BBFE-543F-4CCA-837B-B90AAD27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0DE56-8158-4EC0-994F-F8E91E2E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979-F501-44E8-8BBA-09D7A259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720-21B6-4A88-9AFF-5637DDA2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F04-AF17-4B5D-BB14-3F4B7A38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347-959D-4949-AA32-E3E2A1CB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115-47CD-4868-8539-28D0517A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834-BFB1-4993-8CFD-BA4F703B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7BA2-DEC5-4C29-8B38-E5004B63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51DA-B789-45D4-9B8D-71E1D67582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8064-98F7-4705-917C-5FF0B7485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КРЫТЫЙ УРОК ПО НЕМЕЦКОМУ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ЯЗЫК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: Григорьева Ольга Александров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1.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Фонетическая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заряд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ischer Fritz fischt frische Fische,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rische Fische fischt Fischer Fritz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2.Речевая заряд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ns, zwei, drei, du bist fre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er, 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ünf, sechs, du bist n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Sieben, acht, neue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Du muß̕ se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3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Грамматическая табли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1523880"/>
          <a:ext cx="8005320" cy="4227120"/>
        </p:xfrm>
        <a:graphic>
          <a:graphicData uri="http://schemas.openxmlformats.org/drawingml/2006/table">
            <a:tbl>
              <a:tblPr/>
              <a:tblGrid>
                <a:gridCol w="769680"/>
                <a:gridCol w="2464200"/>
                <a:gridCol w="2463840"/>
                <a:gridCol w="230760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h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hrer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u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genieur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ac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neid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ankenschwe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kauf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nternehm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chitek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n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othe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lmschauspie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nag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or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ffiz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trona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ward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iru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u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neid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usika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bei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chani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lker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0" y="571392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ispiel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A – Fahrer- der Fahrer – ein Fah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1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hrerin – die Lehrerin – eine Lehrer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2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2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4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. 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Физкультминутк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m Kopfchen nick, nick, n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n Fingern tick, tick, t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n 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ä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en klapp, klapp, klap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n 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ü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trapp, trapp, trap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m 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ö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fchen nick, nick, n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den Fingern tick, tick, t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mal hin, einmal 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dherum das ist nicht sch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5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. Berufe. Was passt zusammen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Was m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ö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htest du werde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Beru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s passt zusamme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tronaut(i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el reisen und Leute kennen ler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mschauspieler(in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nell fah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ward(ess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chts le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nnfahrer(i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e Welt kennen ler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lot(in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ik mach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orter(in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den Weltraum flie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nger(i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el Geld verdie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r(in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me mach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chtwachter(in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tiker kennen ler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5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6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. Fussballspiel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ö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test du einmal wer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llspieler naturli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um denn d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, da kann man viel Geld verdienen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 es macht Sp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4876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7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Das will ich ward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8.Картинки, обозначающие професси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33600" y="1676520"/>
            <a:ext cx="5697720" cy="4724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862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100"/>
                            </p:stCondLst>
                            <p:childTnLst>
                              <p:par>
                                <p:cTn id="2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2007-11-30T08:40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