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D2CB5-1431-40CD-81AE-FDE32B331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B2300-55E5-4C2A-8F3E-D80EB1940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100BC-DF8B-40C1-B006-8D4977452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66A7C-A56D-4E41-9C69-0B5D46983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D7E28-AED1-4057-A6E2-D76D3D451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FFBE7-4721-40B9-B586-8D6CA6579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DC4EE-E34F-4EB9-B708-3632BE3B4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6E822-9861-4804-A4B5-663F0E69C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E929B-F59B-4ECB-AA65-3BA7BA439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9651C-C8C4-4266-BCA1-056E1B602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8A4D3-82D3-4CB3-8949-58F28E698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A1A33-0796-49B6-9912-12AD07A11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8A30E-3F5F-42D2-B9A3-8D0B3299D9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Групповая работа воспитателя,направленная на повышение коммуникативной компетентности детей с глубокой умственной отсталость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431640" y="1585800"/>
            <a:ext cx="8208360" cy="4462560"/>
            <a:chOff x="431640" y="1585800"/>
            <a:chExt cx="8208360" cy="4462560"/>
          </a:xfrm>
        </p:grpSpPr>
        <p:cxnSp>
          <p:nvCxnSpPr>
            <p:cNvPr id="45" name="_s15386"/>
            <p:cNvCxnSpPr>
              <a:stCxn id="46" idx="0"/>
              <a:endCxn id="47" idx="2"/>
            </p:cNvCxnSpPr>
            <p:nvPr/>
          </p:nvCxnSpPr>
          <p:spPr>
            <a:xfrm flipV="1" rot="16200000">
              <a:off x="5525640" y="2379600"/>
              <a:ext cx="893160" cy="2873520"/>
            </a:xfrm>
            <a:prstGeom prst="bentConnector3">
              <a:avLst>
                <a:gd name="adj1" fmla="val 127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8" name="_s15385"/>
            <p:cNvCxnSpPr>
              <a:stCxn id="49" idx="0"/>
              <a:endCxn id="47" idx="2"/>
            </p:cNvCxnSpPr>
            <p:nvPr/>
          </p:nvCxnSpPr>
          <p:spPr>
            <a:xfrm flipV="1">
              <a:off x="4536000" y="3369960"/>
              <a:ext cx="3600" cy="8931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0" name="_s15384"/>
            <p:cNvCxnSpPr>
              <a:stCxn id="51" idx="0"/>
              <a:endCxn id="47" idx="2"/>
            </p:cNvCxnSpPr>
            <p:nvPr/>
          </p:nvCxnSpPr>
          <p:spPr>
            <a:xfrm flipH="1" flipV="1" rot="5400000">
              <a:off x="2652840" y="2379960"/>
              <a:ext cx="893160" cy="2873520"/>
            </a:xfrm>
            <a:prstGeom prst="bentConnector3">
              <a:avLst>
                <a:gd name="adj1" fmla="val 127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47" name="_s15380"/>
            <p:cNvSpPr/>
            <p:nvPr/>
          </p:nvSpPr>
          <p:spPr>
            <a:xfrm>
              <a:off x="3304440" y="1585800"/>
              <a:ext cx="2462400" cy="17848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Коммуникативные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умения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_s15381"/>
            <p:cNvSpPr/>
            <p:nvPr/>
          </p:nvSpPr>
          <p:spPr>
            <a:xfrm>
              <a:off x="431640" y="4263480"/>
              <a:ext cx="2462400" cy="17848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Умение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принимать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информацию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_s15382"/>
            <p:cNvSpPr/>
            <p:nvPr/>
          </p:nvSpPr>
          <p:spPr>
            <a:xfrm>
              <a:off x="3304440" y="4263480"/>
              <a:ext cx="2462400" cy="17848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Умение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передавать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информацию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_s15383"/>
            <p:cNvSpPr/>
            <p:nvPr/>
          </p:nvSpPr>
          <p:spPr>
            <a:xfrm>
              <a:off x="6177600" y="4263480"/>
              <a:ext cx="2462400" cy="17848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Умение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взаимодействовать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с партнером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 advTm="7000"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южетно-ролевая иг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 rot="20848200">
            <a:off x="468000" y="2060640"/>
            <a:ext cx="4135320" cy="31017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 rot="1314600">
            <a:off x="4716000" y="2491920"/>
            <a:ext cx="3816360" cy="286236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Жесты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это возможность научить детей общаться без сл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 rot="16947600">
            <a:off x="4098240" y="2029320"/>
            <a:ext cx="4397400" cy="35226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867280" y="1600200"/>
            <a:ext cx="2819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Игры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в которых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используются движе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пальце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 rot="20994600">
            <a:off x="395280" y="1844280"/>
            <a:ext cx="4978440" cy="403236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Театрализованная иг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76360" y="1341360"/>
            <a:ext cx="6120000" cy="459108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4000" y="3938400"/>
            <a:ext cx="8002440" cy="85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2000"/>
          </a:bodyPr>
          <a:p>
            <a:pPr marL="178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8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8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чевые игры с элементами куклотерап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68360" y="1197000"/>
            <a:ext cx="4174920" cy="3311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4788000" y="1197000"/>
            <a:ext cx="3898800" cy="331956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Групповая музыкотерап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 rot="21323400">
            <a:off x="539280" y="1628280"/>
            <a:ext cx="4038840" cy="32418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 rot="21357000">
            <a:off x="4716000" y="3068280"/>
            <a:ext cx="4038840" cy="32418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 advTm="7000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7T14:24:57Z</dcterms:created>
  <dc:creator>Юзер</dc:creator>
  <dc:description/>
  <dc:language>en-US</dc:language>
  <cp:lastModifiedBy>Юзер</cp:lastModifiedBy>
  <dcterms:modified xsi:type="dcterms:W3CDTF">2012-05-17T15:43:32Z</dcterms:modified>
  <cp:revision>3</cp:revision>
  <dc:subject/>
  <dc:title>Групповая работа воспитателя,направленная на повышение коммуникативной компетентности детей с глубокой умственной отсталостью</dc:title>
</cp:coreProperties>
</file>