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B53-E162-4736-9D26-FE7059D7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8E9-2D1B-4321-BCBF-36667609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2D1-BD50-458B-80BA-6580569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F70-8C84-4FAE-B043-1BB6819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ADF-8A1E-4B1D-96AD-61F37D2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3B9-F888-4AA3-87E8-C2E842E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D04-0C97-4A8F-A812-7CA200DD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BB2-8611-4F48-A6FF-739AEB6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CB1-86F8-4093-926C-5486D5F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C65-4C37-456D-8840-0CAC7F57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19F-E98A-4A8C-861C-18D2C3F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C9A-F014-4689-BAB6-50F22CCC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42B-B186-493C-8E6A-10C650D9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упповая работа воспитателя,направленная на повышение коммуникативной компетентности детей с глубокой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45" name="_s15386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5385"/>
            <p:cNvCxnSpPr>
              <a:stCxn id="49" idx="0"/>
              <a:endCxn id="47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5384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5380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5381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нима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5382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редава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5383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заимодействова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 партнер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южетно-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20848200">
            <a:off x="468000" y="2060640"/>
            <a:ext cx="4135320" cy="310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1314600">
            <a:off x="4716000" y="24919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ест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возможность научить детей общаться без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6947600">
            <a:off x="4098240" y="2029320"/>
            <a:ext cx="4397400" cy="3522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котор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ользуются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ль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0994600">
            <a:off x="395280" y="1844280"/>
            <a:ext cx="497844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Театрализованн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3938400"/>
            <a:ext cx="800244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ые игры с элементами кукл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17492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3319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пповая музык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21323400">
            <a:off x="539280" y="1628280"/>
            <a:ext cx="4038840" cy="324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357000">
            <a:off x="4716000" y="3068280"/>
            <a:ext cx="4038840" cy="3241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24:57Z</dcterms:created>
  <dc:creator>Юзер</dc:creator>
  <dc:description/>
  <dc:language>en-US</dc:language>
  <cp:lastModifiedBy>Юзер</cp:lastModifiedBy>
  <dcterms:modified xsi:type="dcterms:W3CDTF">2012-05-17T15:43:32Z</dcterms:modified>
  <cp:revision>3</cp:revision>
  <dc:subject/>
  <dc:title>Групповая работа воспитателя,направленная на повышение коммуникативной компетентности детей с глубокой умственной отсталостью</dc:title>
</cp:coreProperties>
</file>