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9A5-317C-4F6A-943E-46D5B518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63A-6F4C-4C9F-B9D8-113BF90B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C96-9D52-4FE4-BE2C-50D075E7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E22-7E41-4955-A5FB-B56E30AF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644E-F14B-4E26-941E-B7A472C4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EF7D-F195-4B80-A56F-124469CD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D946-D11F-48D0-A4E6-C7882D50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017D-E674-40D6-98E8-5783A4B0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3857-AD98-47B3-B4FD-53F88108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D6FF-4D22-482F-8871-0B7852AE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9C75-3D26-4F45-A6BA-412E77F6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CEE-578F-4787-932F-90A20E18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FFF2-790B-4172-A958-C68918C8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CD5D-DD82-4CA3-B7AE-45FFDB55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A631-408A-4CDA-9472-9670C1B6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F74A-8795-4D93-BBDC-0C72BE9A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D5A1-436F-4EA5-A253-63E09BFE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570-D970-4C69-A8EB-1A43CE01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0853-5C0C-469F-A3FC-4BD739BA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3875-A8C4-41A0-9F37-7CCEDC8E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8CF-7DC9-4D5E-BDC2-98AD53C4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6BF-C969-4090-B8EA-B2A92B58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4C6-719E-458C-8286-72058613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F88-A84B-4A37-93E8-812DBA82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D426-6E89-4956-B6EE-44C5A934302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Comic Sans MS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17BB-E376-4167-8DCF-C26C39E4058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1332000" y="189000"/>
            <a:ext cx="64818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Игровая деятельность как средство </a:t>
            </a:r>
            <a:endParaRPr b="0" lang="en-US" sz="2400" spc="1" strike="noStrike">
              <a:ln w="93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оциализации младшего дошкльника</a:t>
            </a:r>
            <a:endParaRPr b="0" lang="en-US" sz="2400" spc="1" strike="noStrike">
              <a:ln w="93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8" name="Picture 5" descr="DSC01772"/>
          <p:cNvPicPr/>
          <p:nvPr/>
        </p:nvPicPr>
        <p:blipFill>
          <a:blip r:embed="rId1"/>
          <a:stretch/>
        </p:blipFill>
        <p:spPr>
          <a:xfrm>
            <a:off x="1619280" y="1989000"/>
            <a:ext cx="5184720" cy="3457800"/>
          </a:xfrm>
          <a:prstGeom prst="rect">
            <a:avLst/>
          </a:prstGeom>
          <a:ln w="12600">
            <a:solidFill>
              <a:srgbClr val="cc99ff"/>
            </a:solidFill>
            <a:miter/>
          </a:ln>
        </p:spPr>
      </p:pic>
      <p:sp>
        <p:nvSpPr>
          <p:cNvPr id="169" name="Rectangle 7"/>
          <p:cNvSpPr/>
          <p:nvPr/>
        </p:nvSpPr>
        <p:spPr>
          <a:xfrm>
            <a:off x="179280" y="585072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Comic Sans MS"/>
              </a:rPr>
              <a:t>Королёва Анжелика Валерьевна, </a:t>
            </a:r>
            <a:r>
              <a:rPr b="0" lang="en-US" sz="1600" spc="-1" strike="noStrike">
                <a:solidFill>
                  <a:srgbClr val="6600ff"/>
                </a:solidFill>
                <a:latin typeface="Comic Sans MS"/>
              </a:rPr>
              <a:t>I</a:t>
            </a:r>
            <a:r>
              <a:rPr b="0" lang="ru-RU" sz="1600" spc="-1" strike="noStrike">
                <a:solidFill>
                  <a:srgbClr val="6600ff"/>
                </a:solidFill>
                <a:latin typeface="Comic Sans MS"/>
              </a:rPr>
              <a:t> квалификационная категория,</a:t>
            </a: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Comic Sans MS"/>
              </a:rPr>
              <a:t>2 младшая группа «Дружная семейка», МДОУ «Детский сад № 5</a:t>
            </a:r>
            <a:r>
              <a:rPr b="0" lang="en-US" sz="1600" spc="-1" strike="noStrike">
                <a:solidFill>
                  <a:srgbClr val="6600ff"/>
                </a:solidFill>
                <a:latin typeface="Comic Sans MS"/>
              </a:rPr>
              <a:t>4</a:t>
            </a:r>
            <a:r>
              <a:rPr b="0" lang="ru-RU" sz="1600" spc="-1" strike="noStrike">
                <a:solidFill>
                  <a:srgbClr val="6600ff"/>
                </a:solidFill>
                <a:latin typeface="Comic Sans MS"/>
              </a:rPr>
              <a:t>”</a:t>
            </a: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ff"/>
                </a:solidFill>
                <a:latin typeface="Comic Sans MS"/>
              </a:rPr>
              <a:t>г.Кировск, Мурманская область</a:t>
            </a:r>
            <a:endParaRPr b="0" lang="en-US" sz="16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Изображение 101"/>
          <p:cNvPicPr/>
          <p:nvPr/>
        </p:nvPicPr>
        <p:blipFill>
          <a:blip r:embed="rId1"/>
          <a:stretch/>
        </p:blipFill>
        <p:spPr>
          <a:xfrm>
            <a:off x="826920" y="620640"/>
            <a:ext cx="7490160" cy="619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44000" cy="5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Условия обеспечения социальной активности в игре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Comic Sans MS"/>
              </a:rPr>
              <a:t>Воспитатель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редваряя игру, знакомит детей с доступной деятельностью взрослых, как образцом нравственных отношений (врач – лечит, он вежливый, добрый, много знает о болезнях и т.д.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одбирает игрушки, игровую среду, атрибуты побуждает детей играть коллективно, отображать в игровых ролях нравственные отноше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Обращаясь к исполнителям ролей, активизирует нравственные мотивы в поведени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Опираясь на правила коллективной игры, учит соблюдать очерёдность при распределении ролей – регулирует организационные отношения дете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обуждает детей объединяться в такие группы, в которых положительное влияние оказывают ребята с высоким уровнем развития игры и общения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Изображение 078"/>
          <p:cNvPicPr/>
          <p:nvPr/>
        </p:nvPicPr>
        <p:blipFill>
          <a:blip r:embed="rId1"/>
          <a:stretch/>
        </p:blipFill>
        <p:spPr>
          <a:xfrm>
            <a:off x="468360" y="765000"/>
            <a:ext cx="8281800" cy="552168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DSC0177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549360"/>
            <a:ext cx="8488440" cy="56577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ЭТАПЫ РАЗВИТИЯ ИГРЫ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1 ЭТАП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Verdana"/>
              </a:rPr>
              <a:t>–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ОЯВЛЕНРИЕ ЖЕЛАНИЯ У РЕБЁНКА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    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ИГРАТЬ, АКТИВНО ДЕЙСТВОВАТ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ПРИЁМЫ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БЕСЕДЫ, ЗАГАДКИ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ЧИТАЛКИ О ПЕРСОНАЖАХ,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ВНЕСЕНИЕ НОВОЙ ИГРУШКИ,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ЮРПРИЗНЫЕ МОМЕНТ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ПРОЦЕСС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СТАНОВЛЕНИЕ ВЗАИМООТНОШЕНИЙ ПО ПОВОДУ ВЫБОРА  ТЕМЫ,ПАРТНЁРОВ, РАСПРЕДЕЛЕНИЯ РОЛЕЙ, АТРИБУТОВ, МЕСТА ИГР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РУКОВОДСТВО ИГРОЙ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ЧИТЫВАЮ ПОЛ РЕБЁНКА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ЧУ ВЫРАЖАТЬ СВОИ ПОТРЕБНОСТИ, ДОГОВАРИВАТЬСЯ, ПОМОГАТЬ ДРУГ ДРУГУ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РАЗРЕШАЮ КОНФЛИКТЫ ПО ПОВОДУ РАСПРЕДЕЛЕНИЯ РОЛЕЙ, АТРИБУРО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DSC01766"/>
          <p:cNvPicPr/>
          <p:nvPr/>
        </p:nvPicPr>
        <p:blipFill>
          <a:blip r:embed="rId1"/>
          <a:stretch/>
        </p:blipFill>
        <p:spPr>
          <a:xfrm>
            <a:off x="900000" y="981000"/>
            <a:ext cx="7551720" cy="5035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243640" cy="5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ЭТАПЫ РАЗВИТИЯ ИГРЫ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738000"/>
            <a:ext cx="86421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2 ЭТАП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 –   </a:t>
            </a:r>
            <a:r>
              <a:rPr b="0" lang="en-US" sz="1800" spc="-1" strike="noStrike">
                <a:solidFill>
                  <a:srgbClr val="0066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РЕБЁНОК УЧИТСЯ ИГРАТЬ ПО ПРАВИЛАМ,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    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ВЫПОЛНЯТЬ ИГРОВУЮ ЗАДАЧУ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ПРИЁМЫ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ЭКСКУРСИИ ПО Д/С, В КАБИНЕТ М/С, НА КУХНЮ К ПОВАРУ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НАБЛЮДЕНИЕ ЗА ТРАНСПОРТОМ, ТРУДОМ ВЗРОСЛЫХ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ИГРАМИ И РАЗВЛЕЧЕНИЧМИ СТАРШИХ ДЕТЕЙ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ОСЕЩЕНИЕ ТЕАТРАЛЬНЫХ И ЦИРКОВЫХ ПРЕДСТАВЛЕНИЙ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ОВМЕСТНЫЕ НАБЛЮДЕНИЯ И БЕСЕДЫ ДЕТЕЙ С РОДИТЕЛЯМИ ПРИ ПОСЕЩЕНИИ АПТЕКИ, МАГАЗИНА, ПАРИКМАХЕРСКОЙ, КАФЕ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РАССМАТРИВАНИЕ ИЛЛЮСТРАЦИЙ, СЕМЕЙНЫХ И ГРУППОВЫХ ФОТОГРАФИЙ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ЧТЕНИЕ ДОПОЛНИТЕЛЬНОЙ ХУДОЖЕСТВЕННОЙ ЛИТЕРАТУРЫ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РИВЛЕЧЕНИЕ СТАРШИХ ДЕТЕЙ К СОВМЕСТНЫМ ИГРАМ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ЭТАПЫ РАЗВИТИЯ ИГРЫ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691920"/>
            <a:ext cx="820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2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ЭТАП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: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ПРОЦЕСС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ФОРМИРОВАНИЕ СОЦИАЛЬНО ЗНАЧИМЫХ КАЧЕСТВ: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ЧЕСТНОСТИ, ЦЕЛЕУСТРЕМЛЁННОСТИ, НАСТОЙЧИВОСТИ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ВАЖЕНИЮ, ТЕРПИМОСТИ, СОЧУВСТВИЯ ДРУГ К ДРУГУ, УМЕНИЯ    РАДОВАТЬСЯ СВОЕМУ УСПЕХУ И УСПЕХУ  ТОВАРИЩ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ФОРМИРОВАНИЕПОЗНАВАТЕЛЬНОЙ, УМСТВЕННОЙ, НРАВСТВЕННОЙ, ДВИГАТЕЛЬНОЙ АКТИВНОСТИ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1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ЭТАПЫ РАЗВИТИЯ ИГРЫ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ЭТАП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РУКОВОДСТВО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ИГРОЙ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ЧУ ПРИНИМАТЬ РОЛЬ НА СЕБЯ,ОБОЗНАЧАЯ ЕЁ СЛОВОМ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ЧУ РАЗВОРАЧИВАТЬ СПЕЦИФИЧЕСКИЙ РОЛЕВОЙ ДИАЛОГ – ОБЩЕНИЕ ПО ХОДУ ИГРЫ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ЧУ СОГЛАСОВЫВАТЬ ДЕЙСТВИЯ С ПАРТНЁРОМ ПО ИГРЕ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ДИАГНОСТИРУЮ АКТУАЛЬНЫЙ УРОВЕНЬ ИГРОВЫХ НАВЫКОВ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РЕДЛАГАЮ ВОЗМОЖНЫЕ ВАРИАНТЫ РАЗВИТИЯ ИГРЫ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ИСПОЛЬЗУЮ СОВРЕМЕННУЮ ТЕМАТИКУ, ВВОЖУ СОВРЕМЕННЫХ ГЕРОЕ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ЭТАПЫ РАЗВИТИЯ ИГРЫ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3 ЭТАП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       –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РЕБЁНОК ЗНАКОМ С ПРАВИЛАМИ, ОН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 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ИГРАЕТ, ОХОТНО ВСТУПАЕТ ВО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 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ВЗАИМОДЕЙСТВИЕ, ПРОЯВЛЯЯ АКТИВНОСТЬ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 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АМОСТОЯТЕЛЬНОСТЬ, ТВОРЧЕСТВ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ПРИЁМЫ</a:t>
            </a:r>
            <a:r>
              <a:rPr b="1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ВВЕДЕНИЕ «ПРОБЛЕМНЫХ СИТУАЦИЙ»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ВВЕДЕНИЕ НОВЫХ ПЕРСОНАЖЕЙ, РОЛЕЙ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ОЕДИНЕНИЕ 2 – 3 СЮЖЕТОВ В ОДНОЙ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ИГРЕ,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Comic Sans MS"/>
              </a:rPr>
              <a:t>ПРОЦЕСС :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ФОРМИРОВАНИЕ СОЦИАЛЬНОЗНАЧИМЫХ КАЧЕСТВ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КОЛЛЕКТИВИЗМ, БЕРЕЖНОЕ ОТНОШЕНИЕ К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ОКРУЖАЮЩИМ, ЗАБОТА, ВНИМАНИЕ К ПАРТНЁРАМ ПО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ИГРЕ, ВЗАИМОПОМОЩ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24364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Социализация – процесс, результат усвоения и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активного воспроизводства социального опыта, прежде всего системы социальных ролей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4920" y="501300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В рамках социализации происходит усвоение социальных норм, умений, стереотипов, социальных установок, принятых в обществе форм поведения и общения, вариантов жизненного стил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Picture 5" descr="Изображение 117"/>
          <p:cNvPicPr/>
          <p:nvPr/>
        </p:nvPicPr>
        <p:blipFill>
          <a:blip r:embed="rId1"/>
          <a:stretch/>
        </p:blipFill>
        <p:spPr>
          <a:xfrm>
            <a:off x="1979640" y="1557360"/>
            <a:ext cx="5105520" cy="34020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50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ЭТАПЫ РАЗВИТИЯ ИГРЫ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66"/>
                </a:solidFill>
                <a:uFillTx/>
                <a:latin typeface="Comic Sans MS"/>
              </a:rPr>
              <a:t>3 ЭТАП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66"/>
                </a:solidFill>
                <a:uFillTx/>
                <a:latin typeface="Comic Sans MS"/>
              </a:rPr>
              <a:t>РУКОВОДСТВО</a:t>
            </a:r>
            <a:r>
              <a:rPr b="1" lang="en-US" sz="1800" spc="-1" strike="noStrike" u="sng">
                <a:solidFill>
                  <a:srgbClr val="ff0066"/>
                </a:solidFill>
                <a:uFillTx/>
                <a:latin typeface="Comic Sans MS"/>
              </a:rPr>
              <a:t>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ЧУ ВЫПОЛНЯТЬ ОСНОВНУЮ И ДОПОЛНИТЕЛЬНУЮ РОЛЬ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ФОРМИРУЮ УМЕНИЕ ИЗМЕНЯТЬ В ХОДЕ ИГРЫ РОЛЕВО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ОВЕДЕНИЕ В ЗАВИСИМОСТИ ОТ РОЛИ ПАРТНЁРА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ФОРМИРУЮ УМЕНИЕ МЕНЯТЬ СВОЮ ИГРОВУЮ РОЛЬ В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ЗАВИСИМОСТИ ОТ РАЗВЁРТЫВАЮЩЕГОСЯ СЮЖЕТА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ВЫСТУПАЯ КАК РАВНОПРАВНЫЙ ПАРТНЁР, ПРИНИМАЮ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ТОТ УРОВЕНЬ ИГРЫ, КОТОРЫЙ ИГРАЮТДЕТИ, ИХ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РАВИЛА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РИВЛЕКАЮ ЗАСТЕНЧИВЫХ, «ИЗОЛИРОВАННЫХ» ДЕТЕЙ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В ИГРУ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ФОРМИРУЮ УМЕНИЕ РАЗВВЁРТЫВАТЬ РОЛЕВОЙ ДИАЛОГ С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АРТНЁРОМ – СВЕРСТНИКОМ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ПОСОБСТВУЮ РАЗВИТИЮ САМОСТОЯТЕЛЬНОСТИ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ОДСКАЗЫВАЮ ЛОГИЧЕСКОЕ ЗАВЕРШЕНИЕ ИГРЫ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АНАЛИЗИРУЮ И ПОЛОЖИТЕЛЬНО ОЦЕНИВАЮИГРУ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ОСЛЕ ЗАВЕРШЕ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Показатели игровых навыков</a:t>
            </a: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 на апрель 2008года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539640" y="1484280"/>
          <a:ext cx="8136000" cy="496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13600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49016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Показатели успешной сформированности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ролевого поведения у детей четвертого года жизни следующие</a:t>
            </a: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: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Развертывание детьми в самостоятельной деятельности специфических ролевых действий и ролевой речи, направленной на персонаже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Парное ролевое взаимодействие со сверстником включающее называние своей рол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Ролевое обращение, короткий диалог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Ролевое поведение сразу ориентируется на партнера (сначала взрослого, затем – сверстника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УЗЕЛКИ НА ПАМЯТЬ 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28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оздавайте в группе благоприятные социально-психологические условия для активной и творческой деятельности дошкольник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овместно с детьми пополняйте атрибуты и оборудование для игровой деятельност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чите детей использовать разные материалы, содержащиеся в предметно-игровой сред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Развивайте у детей игровые умения и навыки, способы игрового обще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Учите детей придумывать игровой замысел, искать различные способы их реализации в процессе построения сюжета и создании игровых образ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оздавайте положительный эмоциональный фон для общения дошкольник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УЗЕЛКИ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НА ПАМЯТЬ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Обучайте детей учитывать интересы сверстников, проявлять сочувствие к ни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Помогайте детям овладевать планирующими, поясняющими, обозначающими действиями, направленными на согласование замысла игры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Старайтесь найти индивидуальный подход к детям “разрушителям”, “сочинителям” и детям “наблюдателям”, активизируйте “исполнителей”, обеспечивая комфортность в игре каждому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Изучайте и выявляйте особенности развития игровой деятельности детей, корректируйте и направляйте её в продуктивное русл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ЛИТЕРАТУРА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Алёшина Н. В. Ознакомление дошкольников с окружающим и социальной действительностью. Младшая группа.- М.: ЦГЛ, 2005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Детский сад и семья/ под ред. Т. А. Марковой.- М.-Просвещение.-1986.-с. 93 – 95; 100 – 101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Зворыгина Е. В. Первые сюжетные игры малышей.-М.-Просвещение.-1988.- 85 – 87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Игра дошкольника./ С. Л. Новоселовой.- М.- Просвещение.- 1989.- с.3 – 4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Игра – это серьезно.//Дошкольное воспитание.- 2003.- № 6.- с. 86 – 89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Калиниченко А. В. Микляева Ю. В. Сидоренко В. Н. Развитие игровой деятельности дошкольников: Методическое пособие. – М.: Айрис – пресс, 2004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Меленко В. Нужно ли учить ребенка играть.//Дошкольное воспитание.-2005.-№ 4.- с.119 – 121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Солнцева О. Играем в сюжетно – ролевые игры.//Дошкольное воспитание.- 2005.-№ 4.- с.33 – 37;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Петрова  Театр игры в детском саду.// Игра и дети.-2006.- № 5.- с. 7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Развивающие игры.//Обруч.-2003.-№5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omic Sans MS"/>
              </a:rPr>
              <a:t>Шкатова Л. Игрушки – океан детских желаний.//Дошкольное воспитание .-2005.-№ 4.-с. 52 –53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Прямоугольник 1" descr=""/>
          <p:cNvPicPr/>
          <p:nvPr/>
        </p:nvPicPr>
        <p:blipFill>
          <a:blip r:embed="rId1"/>
          <a:stretch/>
        </p:blipFill>
        <p:spPr>
          <a:xfrm>
            <a:off x="993600" y="2749680"/>
            <a:ext cx="7016760" cy="203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Умение ориентироваться в социальных ситуациях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Умение общаться и взаимодействовать, ставить себя на место другого челове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Умение определять эмоциональные состояния других люде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285840" y="214200"/>
            <a:ext cx="8858160" cy="2500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Социальная компетентность –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 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способность взаимодействовать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с окружающими людьми. Формируется в ходе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общения и совместной деятельности.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Включает в себя: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79930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ЦЕЛЬ – содействовать накоплению игрового опыта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детей, предлагая им различные сюжеты и способы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      взаимодействия со сверстникам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Picture 4" descr="DSC01746"/>
          <p:cNvPicPr/>
          <p:nvPr/>
        </p:nvPicPr>
        <p:blipFill>
          <a:blip r:embed="rId1"/>
          <a:stretch/>
        </p:blipFill>
        <p:spPr>
          <a:xfrm>
            <a:off x="1332000" y="1916280"/>
            <a:ext cx="6769080" cy="4512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388944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ЗАДАЧИ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82803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Постоянно изучать, развивать и обогащать игровой опыт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Определить уровень игровых навыков и умений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Учить детей отражать в играх несложный сюжет, выполнять действия в определённой последовательности, поддерживать ролевой диалог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Развивать доброжелательное отношение к взрослым и сверстникам – партнёрам по игре, побуждая к проявлению эмоциональной отзывчивости на их состояние в процессе игры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Обогащать речь детей, содействуя развертыванию ролевого диалога в играх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Развивать самостоятельность, инициативность, воображение и творчество в играх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Показатели игровых навыков</a:t>
            </a:r>
            <a:br>
              <a:rPr sz="2400"/>
            </a:b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 на начало учебного года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0" name="Object 6"/>
          <p:cNvGraphicFramePr/>
          <p:nvPr/>
        </p:nvGraphicFramePr>
        <p:xfrm>
          <a:off x="539640" y="1628640"/>
          <a:ext cx="831708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28640"/>
                    <a:ext cx="831708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2"/>
          <p:cNvSpPr/>
          <p:nvPr/>
        </p:nvSpPr>
        <p:spPr>
          <a:xfrm>
            <a:off x="3486240" y="3110040"/>
            <a:ext cx="2514600" cy="685800"/>
          </a:xfrm>
          <a:prstGeom prst="flowChartAlternateProcess">
            <a:avLst/>
          </a:prstGeom>
          <a:gradFill rotWithShape="0">
            <a:gsLst>
              <a:gs pos="0">
                <a:srgbClr val="ff3399">
                  <a:alpha val="13333"/>
                </a:srgbClr>
              </a:gs>
              <a:gs pos="100000">
                <a:srgbClr val="3366ff">
                  <a:alpha val="13333"/>
                </a:srgbClr>
              </a:gs>
            </a:gsLst>
            <a:lin ang="2700000"/>
          </a:gra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игры</a:t>
            </a:r>
            <a:endParaRPr b="0" lang="en-US" sz="24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3371760" y="109440"/>
            <a:ext cx="2857680" cy="1619280"/>
          </a:xfrm>
          <a:prstGeom prst="cloudCallout">
            <a:avLst>
              <a:gd name="adj1" fmla="val -2712"/>
              <a:gd name="adj2" fmla="val 133449"/>
            </a:avLst>
          </a:prstGeom>
          <a:solidFill>
            <a:srgbClr val="ffcc99">
              <a:alpha val="1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дидактические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0" y="2421000"/>
            <a:ext cx="2513160" cy="1152360"/>
          </a:xfrm>
          <a:prstGeom prst="cloudCallout">
            <a:avLst>
              <a:gd name="adj1" fmla="val 85500"/>
              <a:gd name="adj2" fmla="val 37467"/>
            </a:avLst>
          </a:prstGeom>
          <a:solidFill>
            <a:srgbClr val="00ffff">
              <a:alpha val="4000"/>
            </a:srgbClr>
          </a:solid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cc"/>
                </a:solidFill>
                <a:latin typeface="Comic Sans MS"/>
                <a:ea typeface="Times New Roman"/>
              </a:rPr>
              <a:t>подвижные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0" y="0"/>
            <a:ext cx="2857680" cy="1600200"/>
          </a:xfrm>
          <a:prstGeom prst="cloudCallout">
            <a:avLst>
              <a:gd name="adj1" fmla="val 64166"/>
              <a:gd name="adj2" fmla="val 108731"/>
            </a:avLst>
          </a:prstGeom>
          <a:solidFill>
            <a:srgbClr val="ccffff">
              <a:alpha val="10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с предметами - заместителями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6515280" y="260280"/>
            <a:ext cx="2628720" cy="1484280"/>
          </a:xfrm>
          <a:prstGeom prst="cloudCallout">
            <a:avLst>
              <a:gd name="adj1" fmla="val -83092"/>
              <a:gd name="adj2" fmla="val 133527"/>
            </a:avLst>
          </a:prstGeom>
          <a:solidFill>
            <a:srgbClr val="cc99ff">
              <a:alpha val="10000"/>
            </a:srgbClr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mic Sans MS"/>
                <a:ea typeface="Times New Roman"/>
              </a:rPr>
              <a:t>настольно - печатные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6910560" y="2492280"/>
            <a:ext cx="2233440" cy="1079640"/>
          </a:xfrm>
          <a:prstGeom prst="cloudCallout">
            <a:avLst>
              <a:gd name="adj1" fmla="val -91791"/>
              <a:gd name="adj2" fmla="val 36763"/>
            </a:avLst>
          </a:prstGeom>
          <a:solidFill>
            <a:srgbClr val="00ff00">
              <a:alpha val="10000"/>
            </a:srgbClr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словесные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250920" y="4365720"/>
            <a:ext cx="3063960" cy="1485720"/>
          </a:xfrm>
          <a:prstGeom prst="cloudCallout">
            <a:avLst>
              <a:gd name="adj1" fmla="val 55388"/>
              <a:gd name="adj2" fmla="val -83652"/>
            </a:avLst>
          </a:prstGeom>
          <a:solidFill>
            <a:srgbClr val="ff6600">
              <a:alpha val="10000"/>
            </a:srgbClr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строительные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2771640" y="5373720"/>
            <a:ext cx="3529080" cy="1125360"/>
          </a:xfrm>
          <a:prstGeom prst="cloudCallout">
            <a:avLst>
              <a:gd name="adj1" fmla="val 2722"/>
              <a:gd name="adj2" fmla="val -189069"/>
            </a:avLst>
          </a:prstGeom>
          <a:solidFill>
            <a:srgbClr val="ff99cc">
              <a:alpha val="10000"/>
            </a:srgbClr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Comic Sans MS"/>
                <a:ea typeface="Times New Roman"/>
              </a:rPr>
              <a:t>театрализованные</a:t>
            </a:r>
            <a:endParaRPr b="0" lang="en-US" sz="20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6515280" y="4869000"/>
            <a:ext cx="2628720" cy="1485720"/>
          </a:xfrm>
          <a:prstGeom prst="cloudCallout">
            <a:avLst>
              <a:gd name="adj1" fmla="val -67560"/>
              <a:gd name="adj2" fmla="val -121194"/>
            </a:avLst>
          </a:prstGeom>
          <a:solidFill>
            <a:srgbClr val="ff3399">
              <a:alpha val="10000"/>
            </a:srgbClr>
          </a:solidFill>
          <a:ln w="1260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Лого-</a:t>
            </a:r>
            <a:endParaRPr b="0" lang="en-US" sz="1800" spc="-1" strike="noStrike">
              <a:solidFill>
                <a:srgbClr val="0066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ритмические</a:t>
            </a:r>
            <a:endParaRPr b="0" lang="en-US" sz="1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-57240" y="10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Comic Sans MS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-57240" y="10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СХЕМА ВВЕДЕНИЯ СЮЖЕТОВ ИГР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94" name="Organization Chart 5"/>
          <p:cNvGrpSpPr/>
          <p:nvPr/>
        </p:nvGrpSpPr>
        <p:grpSpPr>
          <a:xfrm>
            <a:off x="468360" y="1197000"/>
            <a:ext cx="8394480" cy="5373000"/>
            <a:chOff x="468360" y="1197000"/>
            <a:chExt cx="8394480" cy="5373000"/>
          </a:xfrm>
        </p:grpSpPr>
        <p:cxnSp>
          <p:nvCxnSpPr>
            <p:cNvPr id="195" name="_s2052"/>
            <p:cNvCxnSpPr>
              <a:stCxn id="196" idx="0"/>
            </p:cNvCxnSpPr>
            <p:nvPr/>
          </p:nvCxnSpPr>
          <p:spPr>
            <a:xfrm flipH="1" flipV="1" rot="5400000">
              <a:off x="1720800" y="5069160"/>
              <a:ext cx="433800" cy="175680"/>
            </a:xfrm>
            <a:prstGeom prst="bentConnector3">
              <a:avLst>
                <a:gd name="adj1" fmla="val 26245"/>
              </a:avLst>
            </a:prstGeom>
            <a:ln w="9360">
              <a:solidFill>
                <a:srgbClr val="006699"/>
              </a:solidFill>
              <a:miter/>
            </a:ln>
          </p:spPr>
        </p:cxnSp>
        <p:cxnSp>
          <p:nvCxnSpPr>
            <p:cNvPr id="197" name="_s2053"/>
            <p:cNvCxnSpPr>
              <a:stCxn id="198" idx="0"/>
            </p:cNvCxnSpPr>
            <p:nvPr/>
          </p:nvCxnSpPr>
          <p:spPr>
            <a:xfrm rot="10800000">
              <a:off x="5291280" y="5082120"/>
              <a:ext cx="934200" cy="996840"/>
            </a:xfrm>
            <a:prstGeom prst="bentConnector2">
              <a:avLst/>
            </a:prstGeom>
            <a:ln w="9360">
              <a:solidFill>
                <a:srgbClr val="006699"/>
              </a:solidFill>
              <a:miter/>
            </a:ln>
          </p:spPr>
        </p:cxnSp>
        <p:cxnSp>
          <p:nvCxnSpPr>
            <p:cNvPr id="199" name="_s2054"/>
            <p:cNvCxnSpPr/>
            <p:nvPr/>
          </p:nvCxnSpPr>
          <p:spPr>
            <a:xfrm flipV="1">
              <a:off x="5723640" y="2348280"/>
              <a:ext cx="793440" cy="506160"/>
            </a:xfrm>
            <a:prstGeom prst="bentConnector3">
              <a:avLst>
                <a:gd name="adj1" fmla="val 14389"/>
              </a:avLst>
            </a:prstGeom>
            <a:ln w="9360">
              <a:solidFill>
                <a:srgbClr val="006699"/>
              </a:solidFill>
              <a:miter/>
            </a:ln>
          </p:spPr>
        </p:cxnSp>
        <p:cxnSp>
          <p:nvCxnSpPr>
            <p:cNvPr id="200" name="_s2055"/>
            <p:cNvCxnSpPr>
              <a:endCxn id="201" idx="0"/>
            </p:cNvCxnSpPr>
            <p:nvPr/>
          </p:nvCxnSpPr>
          <p:spPr>
            <a:xfrm flipV="1">
              <a:off x="4857840" y="1684080"/>
              <a:ext cx="1563480" cy="1271160"/>
            </a:xfrm>
            <a:prstGeom prst="bentConnector3">
              <a:avLst>
                <a:gd name="adj1" fmla="val 7300"/>
              </a:avLst>
            </a:prstGeom>
            <a:ln w="9360">
              <a:solidFill>
                <a:srgbClr val="006699"/>
              </a:solidFill>
              <a:miter/>
            </a:ln>
          </p:spPr>
        </p:cxnSp>
        <p:cxnSp>
          <p:nvCxnSpPr>
            <p:cNvPr id="202" name="_s2056"/>
            <p:cNvCxnSpPr>
              <a:stCxn id="203" idx="2"/>
              <a:endCxn id="204" idx="0"/>
            </p:cNvCxnSpPr>
            <p:nvPr/>
          </p:nvCxnSpPr>
          <p:spPr>
            <a:xfrm flipV="1" rot="10800000">
              <a:off x="2941200" y="3966840"/>
              <a:ext cx="405720" cy="525960"/>
            </a:xfrm>
            <a:prstGeom prst="bentConnector3">
              <a:avLst>
                <a:gd name="adj1" fmla="val 28063"/>
              </a:avLst>
            </a:prstGeom>
            <a:ln w="9360">
              <a:solidFill>
                <a:srgbClr val="006699"/>
              </a:solidFill>
              <a:miter/>
            </a:ln>
          </p:spPr>
        </p:cxnSp>
        <p:cxnSp>
          <p:nvCxnSpPr>
            <p:cNvPr id="205" name="_s2057"/>
            <p:cNvCxnSpPr>
              <a:stCxn id="206" idx="0"/>
              <a:endCxn id="203" idx="1"/>
            </p:cNvCxnSpPr>
            <p:nvPr/>
          </p:nvCxnSpPr>
          <p:spPr>
            <a:xfrm>
              <a:off x="2947680" y="2975040"/>
              <a:ext cx="399960" cy="993240"/>
            </a:xfrm>
            <a:prstGeom prst="bentConnector3">
              <a:avLst>
                <a:gd name="adj1" fmla="val 28558"/>
              </a:avLst>
            </a:prstGeom>
            <a:ln w="9360">
              <a:solidFill>
                <a:srgbClr val="006699"/>
              </a:solidFill>
              <a:miter/>
            </a:ln>
          </p:spPr>
        </p:cxnSp>
        <p:cxnSp>
          <p:nvCxnSpPr>
            <p:cNvPr id="207" name="_s2058"/>
            <p:cNvCxnSpPr>
              <a:stCxn id="208" idx="0"/>
            </p:cNvCxnSpPr>
            <p:nvPr/>
          </p:nvCxnSpPr>
          <p:spPr>
            <a:xfrm flipV="1" rot="16200000">
              <a:off x="6526080" y="2914200"/>
              <a:ext cx="360000" cy="1822320"/>
            </a:xfrm>
            <a:prstGeom prst="bentConnector2">
              <a:avLst/>
            </a:prstGeom>
            <a:ln w="15840">
              <a:solidFill>
                <a:srgbClr val="006699"/>
              </a:solidFill>
              <a:miter/>
            </a:ln>
          </p:spPr>
        </p:cxnSp>
        <p:cxnSp>
          <p:nvCxnSpPr>
            <p:cNvPr id="209" name="_s2059"/>
            <p:cNvCxnSpPr>
              <a:endCxn id="203" idx="0"/>
            </p:cNvCxnSpPr>
            <p:nvPr/>
          </p:nvCxnSpPr>
          <p:spPr>
            <a:xfrm>
              <a:off x="2988360" y="1701360"/>
              <a:ext cx="1600560" cy="1223640"/>
            </a:xfrm>
            <a:prstGeom prst="bentConnector2">
              <a:avLst/>
            </a:prstGeom>
            <a:ln w="15840">
              <a:solidFill>
                <a:srgbClr val="006699"/>
              </a:solidFill>
              <a:miter/>
            </a:ln>
          </p:spPr>
        </p:cxnSp>
        <p:sp>
          <p:nvSpPr>
            <p:cNvPr id="203" name="_s2060"/>
            <p:cNvSpPr/>
            <p:nvPr/>
          </p:nvSpPr>
          <p:spPr>
            <a:xfrm>
              <a:off x="3347280" y="2924640"/>
              <a:ext cx="2482200" cy="2087280"/>
            </a:xfrm>
            <a:prstGeom prst="bevel">
              <a:avLst>
                <a:gd name="adj" fmla="val 12500"/>
              </a:avLst>
            </a:prstGeom>
            <a:solidFill>
              <a:srgbClr val="edfad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Comic Sans MS"/>
                </a:rPr>
                <a:t>СЕМЬЯ</a:t>
              </a:r>
              <a:endParaRPr b="0" lang="en-US" sz="24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210" name="_s2061"/>
            <p:cNvSpPr/>
            <p:nvPr/>
          </p:nvSpPr>
          <p:spPr>
            <a:xfrm>
              <a:off x="468360" y="1197000"/>
              <a:ext cx="2482200" cy="975600"/>
            </a:xfrm>
            <a:prstGeom prst="bevel">
              <a:avLst>
                <a:gd name="adj" fmla="val 125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Comic Sans MS"/>
                </a:rPr>
                <a:t>СТРОИТЕЛИ</a:t>
              </a:r>
              <a:endParaRPr b="0" lang="en-US" sz="20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201" name="_s2062"/>
            <p:cNvSpPr/>
            <p:nvPr/>
          </p:nvSpPr>
          <p:spPr>
            <a:xfrm>
              <a:off x="6300720" y="1197000"/>
              <a:ext cx="2487960" cy="975600"/>
            </a:xfrm>
            <a:prstGeom prst="bevel">
              <a:avLst>
                <a:gd name="adj" fmla="val 125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Comic Sans MS"/>
                </a:rPr>
                <a:t>МАГАЗИН</a:t>
              </a:r>
              <a:endParaRPr b="0" lang="en-US" sz="20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206" name="_s2063"/>
            <p:cNvSpPr/>
            <p:nvPr/>
          </p:nvSpPr>
          <p:spPr>
            <a:xfrm>
              <a:off x="468360" y="2491560"/>
              <a:ext cx="2479680" cy="968760"/>
            </a:xfrm>
            <a:prstGeom prst="bevel">
              <a:avLst>
                <a:gd name="adj" fmla="val 125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99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Comic Sans MS"/>
                </a:rPr>
                <a:t>ШОФЁРЫ</a:t>
              </a:r>
              <a:endParaRPr b="0" lang="en-US" sz="2000" spc="-1" strike="noStrike">
                <a:solidFill>
                  <a:srgbClr val="006699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204" name="_s2064"/>
            <p:cNvSpPr/>
            <p:nvPr/>
          </p:nvSpPr>
          <p:spPr>
            <a:xfrm>
              <a:off x="468360" y="4005720"/>
              <a:ext cx="2473560" cy="975600"/>
            </a:xfrm>
            <a:prstGeom prst="bevel">
              <a:avLst>
                <a:gd name="adj" fmla="val 125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Comic Sans MS"/>
                </a:rPr>
                <a:t>МОРЯКИ</a:t>
              </a:r>
              <a:endParaRPr b="0" lang="en-US" sz="20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211" name="_s2065"/>
            <p:cNvSpPr/>
            <p:nvPr/>
          </p:nvSpPr>
          <p:spPr>
            <a:xfrm>
              <a:off x="6225840" y="2491560"/>
              <a:ext cx="2485440" cy="975600"/>
            </a:xfrm>
            <a:prstGeom prst="bevel">
              <a:avLst>
                <a:gd name="adj" fmla="val 125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Comic Sans MS"/>
                </a:rPr>
                <a:t>БОЛЬНИЦА</a:t>
              </a:r>
              <a:endParaRPr b="0" lang="en-US" sz="20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208" name="_s2066"/>
            <p:cNvSpPr/>
            <p:nvPr/>
          </p:nvSpPr>
          <p:spPr>
            <a:xfrm>
              <a:off x="6372360" y="4005720"/>
              <a:ext cx="2490480" cy="978480"/>
            </a:xfrm>
            <a:prstGeom prst="bevel">
              <a:avLst>
                <a:gd name="adj" fmla="val 125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Comic Sans MS"/>
                </a:rPr>
                <a:t>ПАРИКМАХЕРСКАЯ</a:t>
              </a:r>
              <a:endParaRPr b="0" lang="en-US" sz="18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98" name="_s2067"/>
            <p:cNvSpPr/>
            <p:nvPr/>
          </p:nvSpPr>
          <p:spPr>
            <a:xfrm>
              <a:off x="6225840" y="5587560"/>
              <a:ext cx="2491200" cy="982440"/>
            </a:xfrm>
            <a:prstGeom prst="bevel">
              <a:avLst>
                <a:gd name="adj" fmla="val 125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Comic Sans MS"/>
                </a:rPr>
                <a:t>ДЕТСКИЙ САД</a:t>
              </a:r>
              <a:endParaRPr b="0" lang="en-US" sz="20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  <p:sp>
          <p:nvSpPr>
            <p:cNvPr id="196" name="_s2068"/>
            <p:cNvSpPr/>
            <p:nvPr/>
          </p:nvSpPr>
          <p:spPr>
            <a:xfrm>
              <a:off x="612000" y="5374080"/>
              <a:ext cx="2473200" cy="982440"/>
            </a:xfrm>
            <a:prstGeom prst="bevel">
              <a:avLst>
                <a:gd name="adj" fmla="val 12500"/>
              </a:avLst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Comic Sans MS"/>
                </a:rPr>
                <a:t>СПАСАТЕЛИ</a:t>
              </a:r>
              <a:endParaRPr b="0" lang="en-US" sz="2000" spc="-1" strike="noStrike">
                <a:solidFill>
                  <a:srgbClr val="006699"/>
                </a:solidFill>
                <a:latin typeface="Comic Sans MS"/>
              </a:endParaRPr>
            </a:p>
          </p:txBody>
        </p:sp>
      </p:grp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Изображение 041"/>
          <p:cNvPicPr/>
          <p:nvPr/>
        </p:nvPicPr>
        <p:blipFill>
          <a:blip r:embed="rId1"/>
          <a:stretch/>
        </p:blipFill>
        <p:spPr>
          <a:xfrm>
            <a:off x="611280" y="476280"/>
            <a:ext cx="7848360" cy="590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09:51:01Z</dcterms:created>
  <dc:creator>Анжела</dc:creator>
  <dc:description/>
  <dc:language>en-US</dc:language>
  <cp:lastModifiedBy>User</cp:lastModifiedBy>
  <dcterms:modified xsi:type="dcterms:W3CDTF">2012-06-13T04:04:35Z</dcterms:modified>
  <cp:revision>17</cp:revision>
  <dc:subject/>
  <dc:title>    </dc:title>
</cp:coreProperties>
</file>