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media/image8.jpeg" ContentType="image/jpeg"/>
  <Override PartName="/ppt/media/image9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A5B9-A7C3-4022-AB3E-33610CE8F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61DC-D91E-4070-B38E-0D9F9F61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D0BE-3F29-4773-A871-DD249B0E6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A4E8-1565-4764-980F-738BE3EAD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67BF-20BE-4AFB-A881-D95269B35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6FBD2-5739-4E64-AD51-8A6DFF49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7139-3102-4CAB-BE14-0861569C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552A7-FDF1-4E61-91BD-8ED1DC09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8A3F-BFD1-4500-8272-4264EADF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A98F-7A66-4C15-A4D0-FE3B0D10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B86A7-D050-4A9A-9E23-866DAE1E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B70A-2DD5-4A58-B8A2-B10E44C3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86C4-0C9E-441C-B6C0-73A1ED9B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60A2-FEE0-4D03-9692-1B61B886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5BDAB-EF42-45C1-A4D3-7E16D383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D1DA-E06B-401A-A7D4-106091201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34A6-B914-4735-9E88-071F14436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4C48-09EF-4776-BF16-B05A7F6A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FEC0-CD44-44F7-95D4-45C07304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65B6-4D86-4123-892F-79EDDACE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38FF-B2D0-41C4-9102-E609E07A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83D7-5374-40D0-9BE8-D2CEFC4A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387C-B491-4A08-BEC7-069747C2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67AE-5D82-4DA0-BC0E-B6B96681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1760" y="4054320"/>
                <a:ext cx="1834200" cy="1664640"/>
                <a:chOff x="851760" y="4054320"/>
                <a:chExt cx="183420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4680" y="3942720"/>
                  <a:ext cx="476280" cy="12232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Comic Sans MS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7480" y="4976640"/>
                  <a:ext cx="110160" cy="5022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Comic Sans MS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920" y="5568120"/>
                  <a:ext cx="199800" cy="85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F7EC-2B6D-4CF4-90FA-38F6B2D38FA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920" y="58680"/>
              <a:ext cx="3623040" cy="6133680"/>
              <a:chOff x="5407920" y="58680"/>
              <a:chExt cx="3623040" cy="613368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416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400" y="195660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3800" y="258912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400" y="67068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248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844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56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9120" y="293040"/>
              <a:ext cx="893160" cy="824760"/>
              <a:chOff x="5649120" y="293040"/>
              <a:chExt cx="893160" cy="824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0720" y="78696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9600" y="46728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2840" y="39276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8880"/>
              <a:ext cx="1059120" cy="829800"/>
              <a:chOff x="968760" y="525888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348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400" y="573408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34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1720"/>
              <a:ext cx="1690200" cy="1146600"/>
              <a:chOff x="375840" y="44172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020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9908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7200" y="3712320"/>
              <a:ext cx="1155600" cy="1607760"/>
              <a:chOff x="738720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192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264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520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DB6A-342C-4B20-A032-4138052CB308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4"/>
          <p:cNvSpPr txBox="1"/>
          <p:nvPr/>
        </p:nvSpPr>
        <p:spPr>
          <a:xfrm>
            <a:off x="1332000" y="189000"/>
            <a:ext cx="648180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Игровая деятельность как средство </a:t>
            </a:r>
            <a:endParaRPr b="0" lang="en-US" sz="2400" spc="1" strike="noStrike">
              <a:ln w="936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социализации младшего дошкльника</a:t>
            </a:r>
            <a:endParaRPr b="0" lang="en-US" sz="2400" spc="1" strike="noStrike">
              <a:ln w="936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68" name="Picture 5" descr="DSC01772"/>
          <p:cNvPicPr/>
          <p:nvPr/>
        </p:nvPicPr>
        <p:blipFill>
          <a:blip r:embed="rId1"/>
          <a:stretch/>
        </p:blipFill>
        <p:spPr>
          <a:xfrm>
            <a:off x="1619280" y="1989000"/>
            <a:ext cx="5184720" cy="3457800"/>
          </a:xfrm>
          <a:prstGeom prst="rect">
            <a:avLst/>
          </a:prstGeom>
          <a:ln w="12600">
            <a:solidFill>
              <a:srgbClr val="cc99ff"/>
            </a:solidFill>
            <a:miter/>
          </a:ln>
        </p:spPr>
      </p:pic>
      <p:sp>
        <p:nvSpPr>
          <p:cNvPr id="169" name="Rectangle 7"/>
          <p:cNvSpPr/>
          <p:nvPr/>
        </p:nvSpPr>
        <p:spPr>
          <a:xfrm>
            <a:off x="179280" y="5850720"/>
            <a:ext cx="871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ff"/>
                </a:solidFill>
                <a:latin typeface="Comic Sans MS"/>
              </a:rPr>
              <a:t>Королёва Анжелика Валерьевна, </a:t>
            </a:r>
            <a:r>
              <a:rPr b="0" lang="en-US" sz="1600" spc="-1" strike="noStrike">
                <a:solidFill>
                  <a:srgbClr val="6600ff"/>
                </a:solidFill>
                <a:latin typeface="Comic Sans MS"/>
              </a:rPr>
              <a:t>I</a:t>
            </a:r>
            <a:r>
              <a:rPr b="0" lang="ru-RU" sz="1600" spc="-1" strike="noStrike">
                <a:solidFill>
                  <a:srgbClr val="6600ff"/>
                </a:solidFill>
                <a:latin typeface="Comic Sans MS"/>
              </a:rPr>
              <a:t> квалификационная категория,</a:t>
            </a:r>
            <a:endParaRPr b="0" lang="en-US" sz="1600" spc="-1" strike="noStrike">
              <a:solidFill>
                <a:srgbClr val="006699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ff"/>
                </a:solidFill>
                <a:latin typeface="Comic Sans MS"/>
              </a:rPr>
              <a:t>2 младшая группа «Дружная семейка», МДОУ «Детский сад № 5</a:t>
            </a:r>
            <a:r>
              <a:rPr b="0" lang="en-US" sz="1600" spc="-1" strike="noStrike">
                <a:solidFill>
                  <a:srgbClr val="6600ff"/>
                </a:solidFill>
                <a:latin typeface="Comic Sans MS"/>
              </a:rPr>
              <a:t>4</a:t>
            </a:r>
            <a:r>
              <a:rPr b="0" lang="ru-RU" sz="1600" spc="-1" strike="noStrike">
                <a:solidFill>
                  <a:srgbClr val="6600ff"/>
                </a:solidFill>
                <a:latin typeface="Comic Sans MS"/>
              </a:rPr>
              <a:t>”</a:t>
            </a:r>
            <a:endParaRPr b="0" lang="en-US" sz="1600" spc="-1" strike="noStrike">
              <a:solidFill>
                <a:srgbClr val="006699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ff"/>
                </a:solidFill>
                <a:latin typeface="Comic Sans MS"/>
              </a:rPr>
              <a:t>г.Кировск, Мурманская область</a:t>
            </a:r>
            <a:endParaRPr b="0" lang="en-US" sz="1600" spc="-1" strike="noStrike">
              <a:solidFill>
                <a:srgbClr val="006699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Изображение 101"/>
          <p:cNvPicPr/>
          <p:nvPr/>
        </p:nvPicPr>
        <p:blipFill>
          <a:blip r:embed="rId1"/>
          <a:stretch/>
        </p:blipFill>
        <p:spPr>
          <a:xfrm>
            <a:off x="826920" y="620640"/>
            <a:ext cx="7490160" cy="6195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44000" cy="50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Условия обеспечения социальной активности в игре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1280" y="83664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cc"/>
                </a:solidFill>
                <a:uFillTx/>
                <a:latin typeface="Comic Sans MS"/>
              </a:rPr>
              <a:t>Воспитатель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Предваряя игру, знакомит детей с доступной деятельностью взрослых, как образцом нравственных отношений (врач – лечит, он вежливый, добрый, много знает о болезнях и т.д.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Подбирает игрушки, игровую среду, атрибуты побуждает детей играть коллективно, отображать в игровых ролях нравственные отношения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Обращаясь к исполнителям ролей, активизирует нравственные мотивы в поведени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Опираясь на правила коллективной игры, учит соблюдать очерёдность при распределении ролей – регулирует организационные отношения детей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Побуждает детей объединяться в такие группы, в которых положительное влияние оказывают ребята с высоким уровнем развития игры и общения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Изображение 078"/>
          <p:cNvPicPr/>
          <p:nvPr/>
        </p:nvPicPr>
        <p:blipFill>
          <a:blip r:embed="rId1"/>
          <a:stretch/>
        </p:blipFill>
        <p:spPr>
          <a:xfrm>
            <a:off x="468360" y="765000"/>
            <a:ext cx="8281800" cy="552168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5" descr="DSC01771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95280" y="549360"/>
            <a:ext cx="8488440" cy="565776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66"/>
                </a:solidFill>
                <a:uFillTx/>
                <a:latin typeface="Comic Sans MS"/>
              </a:rPr>
              <a:t>ЭТАПЫ РАЗВИТИЯ ИГРЫ: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83664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66"/>
                </a:solidFill>
                <a:uFillTx/>
                <a:latin typeface="Comic Sans MS"/>
              </a:rPr>
              <a:t>1 ЭТАП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Verdana"/>
              </a:rPr>
              <a:t>–    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ПОЯВЛЕНРИЕ ЖЕЛАНИЯ У РЕБЁНКА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                          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ИГРАТЬ, АКТИВНО ДЕЙСТВОВАТЬ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Comic Sans MS"/>
              </a:rPr>
              <a:t>ПРИЁМЫ</a:t>
            </a: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  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БЕСЕДЫ, ЗАГАДКИ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СЧИТАЛКИ О ПЕРСОНАЖАХ,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ВНЕСЕНИЕ НОВОЙ ИГРУШКИ,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СЮРПРИЗНЫЕ МОМЕНТЫ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Comic Sans MS"/>
              </a:rPr>
              <a:t>ПРОЦЕСС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УСТАНОВЛЕНИЕ ВЗАИМООТНОШЕНИЙ ПО ПОВОДУ ВЫБОРА  ТЕМЫ,ПАРТНЁРОВ, РАСПРЕДЕЛЕНИЯ РОЛЕЙ, АТРИБУТОВ, МЕСТА ИГРЫ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Comic Sans MS"/>
              </a:rPr>
              <a:t>РУКОВОДСТВО ИГРОЙ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УЧИТЫВАЮ ПОЛ РЕБЁНКА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УЧУ ВЫРАЖАТЬ СВОИ ПОТРЕБНОСТИ, ДОГОВАРИВАТЬСЯ, ПОМОГАТЬ ДРУГ ДРУГУ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РАЗРЕШАЮ КОНФЛИКТЫ ПО ПОВОДУ РАСПРЕДЕЛЕНИЯ РОЛЕЙ, АТРИБУРОВ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5" descr="DSC01766"/>
          <p:cNvPicPr/>
          <p:nvPr/>
        </p:nvPicPr>
        <p:blipFill>
          <a:blip r:embed="rId1"/>
          <a:stretch/>
        </p:blipFill>
        <p:spPr>
          <a:xfrm>
            <a:off x="900000" y="981000"/>
            <a:ext cx="7551720" cy="5035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243640" cy="50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66"/>
                </a:solidFill>
                <a:uFillTx/>
                <a:latin typeface="Comic Sans MS"/>
              </a:rPr>
              <a:t>ЭТАПЫ РАЗВИТИЯ ИГРЫ: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738000"/>
            <a:ext cx="864216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Comic Sans MS"/>
              </a:rPr>
              <a:t>2 ЭТАП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 –   </a:t>
            </a:r>
            <a:r>
              <a:rPr b="0" lang="en-US" sz="1800" spc="-1" strike="noStrike">
                <a:solidFill>
                  <a:srgbClr val="006699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РЕБЁНОК УЧИТСЯ ИГРАТЬ ПО ПРАВИЛАМ,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                          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ВЫПОЛНЯТЬ ИГРОВУЮ ЗАДАЧУ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66"/>
                </a:solidFill>
                <a:uFillTx/>
                <a:latin typeface="Comic Sans MS"/>
              </a:rPr>
              <a:t>ПРИЁМЫ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ЭКСКУРСИИ ПО Д/С, В КАБИНЕТ М/С, НА КУХНЮ К ПОВАРУ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НАБЛЮДЕНИЕ ЗА ТРАНСПОРТОМ, ТРУДОМ ВЗРОСЛЫХ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ИГРАМИ И РАЗВЛЕЧЕНИЧМИ СТАРШИХ ДЕТЕЙ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ПОСЕЩЕНИЕ ТЕАТРАЛЬНЫХ И ЦИРКОВЫХ ПРЕДСТАВЛЕНИЙ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СОВМЕСТНЫЕ НАБЛЮДЕНИЯ И БЕСЕДЫ ДЕТЕЙ С РОДИТЕЛЯМИ ПРИ ПОСЕЩЕНИИ АПТЕКИ, МАГАЗИНА, ПАРИКМАХЕРСКОЙ, КАФЕ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РАССМАТРИВАНИЕ ИЛЛЮСТРАЦИЙ, СЕМЕЙНЫХ И ГРУППОВЫХ ФОТОГРАФИЙ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ЧТЕНИЕ ДОПОЛНИТЕЛЬНОЙ ХУДОЖЕСТВЕННОЙ ЛИТЕРАТУРЫ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ПРИВЛЕЧЕНИЕ СТАРШИХ ДЕТЕЙ К СОВМЕСТНЫМ ИГРАМ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4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66"/>
                </a:solidFill>
                <a:uFillTx/>
                <a:latin typeface="Comic Sans MS"/>
              </a:rPr>
              <a:t>ЭТАПЫ РАЗВИТИЯ ИГРЫ: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9280" y="691920"/>
            <a:ext cx="8209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66"/>
                </a:solidFill>
                <a:uFillTx/>
                <a:latin typeface="Comic Sans MS"/>
              </a:rPr>
              <a:t>2</a:t>
            </a:r>
            <a:r>
              <a:rPr b="0" lang="en-US" sz="3600" spc="-1" strike="noStrike" u="sng">
                <a:solidFill>
                  <a:srgbClr val="ff0066"/>
                </a:solidFill>
                <a:uFillTx/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Comic Sans MS"/>
              </a:rPr>
              <a:t>ЭТАП</a:t>
            </a:r>
            <a:r>
              <a:rPr b="0" lang="en-US" sz="3600" spc="-1" strike="noStrike" u="sng">
                <a:solidFill>
                  <a:srgbClr val="ff0066"/>
                </a:solidFill>
                <a:uFillTx/>
                <a:latin typeface="Comic Sans MS"/>
              </a:rPr>
              <a:t>:</a:t>
            </a:r>
            <a:r>
              <a:rPr b="0" lang="en-US" sz="3200" spc="-1" strike="noStrike" u="sng">
                <a:solidFill>
                  <a:srgbClr val="ff0066"/>
                </a:solidFill>
                <a:uFillTx/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Comic Sans MS"/>
              </a:rPr>
              <a:t>ПРОЦЕСС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ФОРМИРОВАНИЕ СОЦИАЛЬНО ЗНАЧИМЫХ КАЧЕСТВ: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ЧЕСТНОСТИ, ЦЕЛЕУСТРЕМЛЁННОСТИ, НАСТОЙЧИВОСТИ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УВАЖЕНИЮ, ТЕРПИМОСТИ, СОЧУВСТВИЯ ДРУГ К ДРУГУ, УМЕНИЯ    РАДОВАТЬСЯ СВОЕМУ УСПЕХУ И УСПЕХУ  ТОВАРИЩ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ФОРМИРОВАНИЕПОЗНАВАТЕЛЬНОЙ, УМСТВЕННОЙ, НРАВСТВЕННОЙ, ДВИГАТЕЛЬНОЙ АКТИВНОСТИ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51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66"/>
                </a:solidFill>
                <a:uFillTx/>
                <a:latin typeface="Comic Sans MS"/>
              </a:rPr>
              <a:t>ЭТАПЫ РАЗВИТИЯ ИГРЫ: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50560" y="620640"/>
            <a:ext cx="889308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66"/>
                </a:solidFill>
                <a:uFillTx/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ff0066"/>
                </a:solidFill>
                <a:uFillTx/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Comic Sans MS"/>
              </a:rPr>
              <a:t>ЭТАП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66"/>
                </a:solidFill>
                <a:uFillTx/>
                <a:latin typeface="Comic Sans MS"/>
              </a:rPr>
              <a:t>РУКОВОДСТВО</a:t>
            </a:r>
            <a:r>
              <a:rPr b="0" lang="en-US" sz="2800" spc="-1" strike="noStrike" u="sng">
                <a:solidFill>
                  <a:srgbClr val="ff0066"/>
                </a:solidFill>
                <a:uFillTx/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Comic Sans MS"/>
              </a:rPr>
              <a:t>ИГРОЙ</a:t>
            </a:r>
            <a:r>
              <a:rPr b="0" lang="en-US" sz="2800" spc="-1" strike="noStrike" u="sng">
                <a:solidFill>
                  <a:srgbClr val="ff0066"/>
                </a:solidFill>
                <a:uFillTx/>
                <a:latin typeface="Comic Sans MS"/>
              </a:rPr>
              <a:t>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УЧУ ПРИНИМАТЬ РОЛЬ НА СЕБЯ,ОБОЗНАЧАЯ ЕЁ СЛОВОМ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УЧУ РАЗВОРАЧИВАТЬ СПЕЦИФИЧЕСКИЙ РОЛЕВОЙ ДИАЛОГ – ОБЩЕНИЕ ПО ХОДУ ИГРЫ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УЧУ СОГЛАСОВЫВАТЬ ДЕЙСТВИЯ С ПАРТНЁРОМ ПО ИГРЕ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ДИАГНОСТИРУЮ АКТУАЛЬНЫЙ УРОВЕНЬ ИГРОВЫХ НАВЫКОВ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ПРЕДЛАГАЮ ВОЗМОЖНЫЕ ВАРИАНТЫ РАЗВИТИЯ ИГРЫ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ИСПОЛЬЗУЮ СОВРЕМЕННУЮ ТЕМАТИКУ, ВВОЖУ СОВРЕМЕННЫХ ГЕРОЕВ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44000" cy="58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66"/>
                </a:solidFill>
                <a:uFillTx/>
                <a:latin typeface="Comic Sans MS"/>
              </a:rPr>
              <a:t>ЭТАПЫ РАЗВИТИЯ ИГРЫ: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Comic Sans MS"/>
              </a:rPr>
              <a:t>3 ЭТАП</a:t>
            </a: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       – 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РЕБЁНОК ЗНАКОМ С ПРАВИЛАМИ, ОН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                       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ИГРАЕТ, ОХОТНО ВСТУПАЕТ ВО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                       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ВЗАИМОДЕЙСТВИЕ, ПРОЯВЛЯЯ АКТИВНОСТЬ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                       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САМОСТОЯТЕЛЬНОСТЬ, ТВОРЧЕСТВО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Comic Sans MS"/>
              </a:rPr>
              <a:t>ПРИЁМЫ</a:t>
            </a:r>
            <a:r>
              <a:rPr b="1" lang="en-US" sz="2000" spc="-1" strike="noStrike" u="sng">
                <a:solidFill>
                  <a:srgbClr val="ff0066"/>
                </a:solidFill>
                <a:uFillTx/>
                <a:latin typeface="Comic Sans MS"/>
              </a:rPr>
              <a:t>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ВВЕДЕНИЕ «ПРОБЛЕМНЫХ СИТУАЦИЙ»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ВВЕДЕНИЕ НОВЫХ ПЕРСОНАЖЕЙ, РОЛЕЙ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СОЕДИНЕНИЕ 2 – 3 СЮЖЕТОВ В ОДНОЙ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ИГРЕ,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Comic Sans MS"/>
              </a:rPr>
              <a:t>ПРОЦЕСС :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ФОРМИРОВАНИЕ СОЦИАЛЬНОЗНАЧИМЫХ КАЧЕСТВ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КОЛЛЕКТИВИЗМ, БЕРЕЖНОЕ ОТНОШЕНИЕ К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ОКРУЖАЮЩИМ, ЗАБОТА, ВНИМАНИЕ К ПАРТНЁРАМ ПО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ИГРЕ, ВЗАИМОПОМОЩЬ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824364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Социализация – процесс, результат усвоения и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активного воспроизводства социального опыта, прежде всего системы социальных ролей</a:t>
            </a: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4920" y="5013000"/>
            <a:ext cx="82090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В рамках социализации происходит усвоение социальных норм, умений, стереотипов, социальных установок, принятых в обществе форм поведения и общения, вариантов жизненного стиля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2" name="Picture 5" descr="Изображение 117"/>
          <p:cNvPicPr/>
          <p:nvPr/>
        </p:nvPicPr>
        <p:blipFill>
          <a:blip r:embed="rId1"/>
          <a:stretch/>
        </p:blipFill>
        <p:spPr>
          <a:xfrm>
            <a:off x="1979640" y="1557360"/>
            <a:ext cx="5105520" cy="340200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50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66"/>
                </a:solidFill>
                <a:uFillTx/>
                <a:latin typeface="Comic Sans MS"/>
              </a:rPr>
              <a:t>ЭТАПЫ РАЗВИТИЯ ИГРЫ: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66"/>
                </a:solidFill>
                <a:uFillTx/>
                <a:latin typeface="Comic Sans MS"/>
              </a:rPr>
              <a:t>3 ЭТАП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66"/>
                </a:solidFill>
                <a:uFillTx/>
                <a:latin typeface="Comic Sans MS"/>
              </a:rPr>
              <a:t>РУКОВОДСТВО</a:t>
            </a:r>
            <a:r>
              <a:rPr b="1" lang="en-US" sz="1800" spc="-1" strike="noStrike" u="sng">
                <a:solidFill>
                  <a:srgbClr val="ff0066"/>
                </a:solidFill>
                <a:uFillTx/>
                <a:latin typeface="Comic Sans MS"/>
              </a:rPr>
              <a:t>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УЧУ ВЫПОЛНЯТЬ ОСНОВНУЮ И ДОПОЛНИТЕЛЬНУЮ РОЛЬ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ФОРМИРУЮ УМЕНИЕ ИЗМЕНЯТЬ В ХОДЕ ИГРЫ РОЛЕВОЕ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ПОВЕДЕНИЕ В ЗАВИСИМОСТИ ОТ РОЛИ ПАРТНЁРА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ФОРМИРУЮ УМЕНИЕ МЕНЯТЬ СВОЮ ИГРОВУЮ РОЛЬ В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ЗАВИСИМОСТИ ОТ РАЗВЁРТЫВАЮЩЕГОСЯ СЮЖЕТА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ВЫСТУПАЯ КАК РАВНОПРАВНЫЙ ПАРТНЁР, ПРИНИМАЮ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ТОТ УРОВЕНЬ ИГРЫ, КОТОРЫЙ ИГРАЮТДЕТИ, ИХ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ПРАВИЛА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ПРИВЛЕКАЮ ЗАСТЕНЧИВЫХ, «ИЗОЛИРОВАННЫХ» ДЕТЕЙ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В ИГРУ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ФОРМИРУЮ УМЕНИЕ РАЗВВЁРТЫВАТЬ РОЛЕВОЙ ДИАЛОГ С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ПАРТНЁРОМ – СВЕРСТНИКОМ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СПОСОБСТВУЮ РАЗВИТИЮ САМОСТОЯТЕЛЬНОСТИ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ПОДСКАЗЫВАЮ ЛОГИЧЕСКОЕ ЗАВЕРШЕНИЕ ИГРЫ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АНАЛИЗИРУЮ И ПОЛОЖИТЕЛЬНО ОЦЕНИВАЮИГРУ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ПОСЛЕ ЗАВЕРШЕНИЯ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Показатели игровых навыков</a:t>
            </a:r>
            <a:br>
              <a:rPr sz="2800"/>
            </a:b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 на апрель 2008года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32" name="Object 4"/>
          <p:cNvGraphicFramePr/>
          <p:nvPr/>
        </p:nvGraphicFramePr>
        <p:xfrm>
          <a:off x="539640" y="1484280"/>
          <a:ext cx="8136000" cy="4965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4280"/>
                    <a:ext cx="8136000" cy="49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490160" cy="108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Показатели успешной сформированности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ролевого поведения у детей четвертого года жизни следующие</a:t>
            </a:r>
            <a:r>
              <a:rPr b="1" lang="en-US" sz="2000" spc="-1" strike="noStrike">
                <a:solidFill>
                  <a:srgbClr val="ff0066"/>
                </a:solidFill>
                <a:latin typeface="Comic Sans MS"/>
              </a:rPr>
              <a:t>: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Развертывание детьми в самостоятельной деятельности специфических ролевых действий и ролевой речи, направленной на персонажей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Парное ролевое взаимодействие со сверстником включающее называние своей рол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Ролевое обращение, короткий диалог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Ролевое поведение сразу ориентируется на партнера (сначала взрослого, затем – сверстника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УЗЕЛКИ НА ПАМЯТЬ 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2803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Создавайте в группе благоприятные социально-психологические условия для активной и творческой деятельности дошкольников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Совместно с детьми пополняйте атрибуты и оборудование для игровой деятельност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Учите детей использовать разные материалы, содержащиеся в предметно-игровой среде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Развивайте у детей игровые умения и навыки, способы игрового общения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Учите детей придумывать игровой замысел, искать различные способы их реализации в процессе построения сюжета и создании игровых образов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Создавайте положительный эмоциональный фон для общения дошкольников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44000" cy="58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УЗЕЛКИ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НА ПАМЯТЬ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Обучайте детей учитывать интересы сверстников, проявлять сочувствие к ним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Помогайте детям овладевать планирующими, поясняющими, обозначающими действиями, направленными на согласование замысла игры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Старайтесь найти индивидуальный подход к детям “разрушителям”, “сочинителям” и детям “наблюдателям”, активизируйте “исполнителей”, обеспечивая комфортность в игре каждому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Изучайте и выявляйте особенности развития игровой деятельности детей, корректируйте и направляйте её в продуктивное русло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ЛИТЕРАТУРА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360" y="54900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Comic Sans MS"/>
              </a:rPr>
              <a:t>Алёшина Н. В. Ознакомление дошкольников с окружающим и социальной действительностью. Младшая группа.- М.: ЦГЛ, 2005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Comic Sans MS"/>
              </a:rPr>
              <a:t>Детский сад и семья/ под ред. Т. А. Марковой.- М.-Просвещение.-1986.-с. 93 – 95; 100 – 101;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Comic Sans MS"/>
              </a:rPr>
              <a:t>Зворыгина Е. В. Первые сюжетные игры малышей.-М.-Просвещение.-1988.- 85 – 87;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33cc"/>
                </a:solidFill>
                <a:latin typeface="Comic Sans MS"/>
              </a:rPr>
              <a:t>Игра дошкольника./ С. Л. Новоселовой.- М.- Просвещение.- 1989.- с.3 – 4;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Comic Sans MS"/>
              </a:rPr>
              <a:t>Игра – это серьезно.//Дошкольное воспитание.- 2003.- № 6.- с. 86 – 89;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Comic Sans MS"/>
              </a:rPr>
              <a:t>Калиниченко А. В. Микляева Ю. В. Сидоренко В. Н. Развитие игровой деятельности дошкольников: Методическое пособие. – М.: Айрис – пресс, 2004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Comic Sans MS"/>
              </a:rPr>
              <a:t>Меленко В. Нужно ли учить ребенка играть.//Дошкольное воспитание.-2005.-№ 4.- с.119 – 121;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Comic Sans MS"/>
              </a:rPr>
              <a:t>Солнцева О. Играем в сюжетно – ролевые игры.//Дошкольное воспитание.- 2005.-№ 4.- с.33 – 37;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Comic Sans MS"/>
              </a:rPr>
              <a:t>Петрова  Театр игры в детском саду.// Игра и дети.-2006.- № 5.- с. 7;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Comic Sans MS"/>
              </a:rPr>
              <a:t>Развивающие игры.//Обруч.-2003.-№5;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Comic Sans MS"/>
              </a:rPr>
              <a:t>Шкатова Л. Игрушки – океан детских желаний.//Дошкольное воспитание .-2005.-№ 4.-с. 52 –53;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Прямоугольник 1" descr=""/>
          <p:cNvPicPr/>
          <p:nvPr/>
        </p:nvPicPr>
        <p:blipFill>
          <a:blip r:embed="rId1"/>
          <a:stretch/>
        </p:blipFill>
        <p:spPr>
          <a:xfrm>
            <a:off x="993600" y="2749680"/>
            <a:ext cx="7016760" cy="2035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39640" y="2349360"/>
            <a:ext cx="82296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Умение ориентироваться в социальных ситуациях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Умение общаться и взаимодействовать, ставить себя на место другого человек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Умение определять эмоциональные состояния других людей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285840" y="214200"/>
            <a:ext cx="8858160" cy="25005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Социальная компетентность –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                       </a:t>
            </a: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способность взаимодействовать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с окружающими людьми. Формируется в ходе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общения и совместной деятельности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Включает в себя: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333360"/>
            <a:ext cx="799308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Comic Sans MS"/>
              </a:rPr>
              <a:t>ЦЕЛЬ – содействовать накоплению игрового опыта </a:t>
            </a: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Comic Sans MS"/>
              </a:rPr>
              <a:t>детей, предлагая им различные сюжеты и способы </a:t>
            </a: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Comic Sans MS"/>
              </a:rPr>
              <a:t>      взаимодействия со сверстниками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6" name="Picture 4" descr="DSC01746"/>
          <p:cNvPicPr/>
          <p:nvPr/>
        </p:nvPicPr>
        <p:blipFill>
          <a:blip r:embed="rId1"/>
          <a:stretch/>
        </p:blipFill>
        <p:spPr>
          <a:xfrm>
            <a:off x="1332000" y="1916280"/>
            <a:ext cx="6769080" cy="4512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19280" y="333360"/>
            <a:ext cx="388944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ЗАДАЧИ: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9280" y="907560"/>
            <a:ext cx="828036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Постоянно изучать, развивать и обогащать игровой опыт детей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Определить уровень игровых навыков и умений детей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Учить детей отражать в играх несложный сюжет, выполнять действия в определённой последовательности, поддерживать ролевой диалог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Развивать доброжелательное отношение к взрослым и сверстникам – партнёрам по игре, побуждая к проявлению эмоциональной отзывчивости на их состояние в процессе игры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Обогащать речь детей, содействуя развертыванию ролевого диалога в играх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Развивать самостоятельность, инициативность, воображение и творчество в играх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Показатели игровых навыков</a:t>
            </a:r>
            <a:br>
              <a:rPr sz="2400"/>
            </a:b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 на начало учебного года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0" name="Object 6"/>
          <p:cNvGraphicFramePr/>
          <p:nvPr/>
        </p:nvGraphicFramePr>
        <p:xfrm>
          <a:off x="539640" y="1628640"/>
          <a:ext cx="8317080" cy="46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28640"/>
                    <a:ext cx="831708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2"/>
          <p:cNvSpPr/>
          <p:nvPr/>
        </p:nvSpPr>
        <p:spPr>
          <a:xfrm>
            <a:off x="3486240" y="3110040"/>
            <a:ext cx="2514600" cy="685800"/>
          </a:xfrm>
          <a:prstGeom prst="flowChartAlternateProcess">
            <a:avLst/>
          </a:prstGeom>
          <a:gradFill rotWithShape="0">
            <a:gsLst>
              <a:gs pos="0">
                <a:srgbClr val="ff3399">
                  <a:alpha val="13333"/>
                </a:srgbClr>
              </a:gs>
              <a:gs pos="100000">
                <a:srgbClr val="3366ff">
                  <a:alpha val="13333"/>
                </a:srgbClr>
              </a:gs>
            </a:gsLst>
            <a:lin ang="2700000"/>
          </a:gradFill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игры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3371760" y="109440"/>
            <a:ext cx="2857680" cy="1619280"/>
          </a:xfrm>
          <a:prstGeom prst="cloudCallout">
            <a:avLst>
              <a:gd name="adj1" fmla="val -2712"/>
              <a:gd name="adj2" fmla="val 133449"/>
            </a:avLst>
          </a:prstGeom>
          <a:solidFill>
            <a:srgbClr val="ffcc99">
              <a:alpha val="1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дидактические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84" name="AutoShape 10"/>
          <p:cNvSpPr/>
          <p:nvPr/>
        </p:nvSpPr>
        <p:spPr>
          <a:xfrm>
            <a:off x="0" y="2421000"/>
            <a:ext cx="2513160" cy="1152360"/>
          </a:xfrm>
          <a:prstGeom prst="cloudCallout">
            <a:avLst>
              <a:gd name="adj1" fmla="val 85500"/>
              <a:gd name="adj2" fmla="val 37467"/>
            </a:avLst>
          </a:prstGeom>
          <a:solidFill>
            <a:srgbClr val="00ffff">
              <a:alpha val="4000"/>
            </a:srgbClr>
          </a:solidFill>
          <a:ln w="1260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cc"/>
                </a:solidFill>
                <a:latin typeface="Comic Sans MS"/>
                <a:ea typeface="Times New Roman"/>
              </a:rPr>
              <a:t>подвижные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85" name="AutoShape 9"/>
          <p:cNvSpPr/>
          <p:nvPr/>
        </p:nvSpPr>
        <p:spPr>
          <a:xfrm>
            <a:off x="0" y="0"/>
            <a:ext cx="2857680" cy="1600200"/>
          </a:xfrm>
          <a:prstGeom prst="cloudCallout">
            <a:avLst>
              <a:gd name="adj1" fmla="val 64166"/>
              <a:gd name="adj2" fmla="val 108731"/>
            </a:avLst>
          </a:prstGeom>
          <a:solidFill>
            <a:srgbClr val="ccffff">
              <a:alpha val="10000"/>
            </a:srgbClr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с предметами - заместителями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86" name="AutoShape 8"/>
          <p:cNvSpPr/>
          <p:nvPr/>
        </p:nvSpPr>
        <p:spPr>
          <a:xfrm>
            <a:off x="6515280" y="260280"/>
            <a:ext cx="2628720" cy="1484280"/>
          </a:xfrm>
          <a:prstGeom prst="cloudCallout">
            <a:avLst>
              <a:gd name="adj1" fmla="val -83092"/>
              <a:gd name="adj2" fmla="val 133527"/>
            </a:avLst>
          </a:prstGeom>
          <a:solidFill>
            <a:srgbClr val="cc99ff">
              <a:alpha val="10000"/>
            </a:srgbClr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Comic Sans MS"/>
                <a:ea typeface="Times New Roman"/>
              </a:rPr>
              <a:t>настольно - печатные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87" name="AutoShape 7"/>
          <p:cNvSpPr/>
          <p:nvPr/>
        </p:nvSpPr>
        <p:spPr>
          <a:xfrm>
            <a:off x="6910560" y="2492280"/>
            <a:ext cx="2233440" cy="1079640"/>
          </a:xfrm>
          <a:prstGeom prst="cloudCallout">
            <a:avLst>
              <a:gd name="adj1" fmla="val -91791"/>
              <a:gd name="adj2" fmla="val 36763"/>
            </a:avLst>
          </a:prstGeom>
          <a:solidFill>
            <a:srgbClr val="00ff00">
              <a:alpha val="10000"/>
            </a:srgbClr>
          </a:solidFill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словесные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250920" y="4365720"/>
            <a:ext cx="3063960" cy="1485720"/>
          </a:xfrm>
          <a:prstGeom prst="cloudCallout">
            <a:avLst>
              <a:gd name="adj1" fmla="val 55388"/>
              <a:gd name="adj2" fmla="val -83652"/>
            </a:avLst>
          </a:prstGeom>
          <a:solidFill>
            <a:srgbClr val="ff6600">
              <a:alpha val="10000"/>
            </a:srgbClr>
          </a:solidFill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строительные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2771640" y="5373720"/>
            <a:ext cx="3529080" cy="1125360"/>
          </a:xfrm>
          <a:prstGeom prst="cloudCallout">
            <a:avLst>
              <a:gd name="adj1" fmla="val 2722"/>
              <a:gd name="adj2" fmla="val -189069"/>
            </a:avLst>
          </a:prstGeom>
          <a:solidFill>
            <a:srgbClr val="ff99cc">
              <a:alpha val="10000"/>
            </a:srgbClr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Comic Sans MS"/>
                <a:ea typeface="Times New Roman"/>
              </a:rPr>
              <a:t>театрализованные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90" name="AutoShape 4"/>
          <p:cNvSpPr/>
          <p:nvPr/>
        </p:nvSpPr>
        <p:spPr>
          <a:xfrm>
            <a:off x="6515280" y="4869000"/>
            <a:ext cx="2628720" cy="1485720"/>
          </a:xfrm>
          <a:prstGeom prst="cloudCallout">
            <a:avLst>
              <a:gd name="adj1" fmla="val -67560"/>
              <a:gd name="adj2" fmla="val -121194"/>
            </a:avLst>
          </a:prstGeom>
          <a:solidFill>
            <a:srgbClr val="ff3399">
              <a:alpha val="10000"/>
            </a:srgbClr>
          </a:solidFill>
          <a:ln w="1260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Лого-</a:t>
            </a:r>
            <a:endParaRPr b="0" lang="en-US" sz="1800" spc="-1" strike="noStrike">
              <a:solidFill>
                <a:srgbClr val="006699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ритмические</a:t>
            </a:r>
            <a:endParaRPr b="0" lang="en-US" sz="1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-57240" y="10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92" name="Rectangle 23"/>
          <p:cNvSpPr/>
          <p:nvPr/>
        </p:nvSpPr>
        <p:spPr>
          <a:xfrm>
            <a:off x="-57240" y="10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Comic Sans MS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440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СХЕМА ВВЕДЕНИЯ СЮЖЕТОВ ИГР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grpSp>
        <p:nvGrpSpPr>
          <p:cNvPr id="194" name="Organization Chart 5"/>
          <p:cNvGrpSpPr/>
          <p:nvPr/>
        </p:nvGrpSpPr>
        <p:grpSpPr>
          <a:xfrm>
            <a:off x="468360" y="1197000"/>
            <a:ext cx="8394480" cy="5373000"/>
            <a:chOff x="468360" y="1197000"/>
            <a:chExt cx="8394480" cy="5373000"/>
          </a:xfrm>
        </p:grpSpPr>
        <p:cxnSp>
          <p:nvCxnSpPr>
            <p:cNvPr id="195" name="_s2052"/>
            <p:cNvCxnSpPr>
              <a:stCxn id="196" idx="0"/>
            </p:cNvCxnSpPr>
            <p:nvPr/>
          </p:nvCxnSpPr>
          <p:spPr>
            <a:xfrm flipH="1" flipV="1" rot="5400000">
              <a:off x="1720800" y="5069160"/>
              <a:ext cx="433800" cy="175680"/>
            </a:xfrm>
            <a:prstGeom prst="bentConnector3">
              <a:avLst>
                <a:gd name="adj1" fmla="val 26245"/>
              </a:avLst>
            </a:prstGeom>
            <a:ln w="9360">
              <a:solidFill>
                <a:srgbClr val="006699"/>
              </a:solidFill>
              <a:miter/>
            </a:ln>
          </p:spPr>
        </p:cxnSp>
        <p:cxnSp>
          <p:nvCxnSpPr>
            <p:cNvPr id="197" name="_s2053"/>
            <p:cNvCxnSpPr>
              <a:stCxn id="198" idx="0"/>
            </p:cNvCxnSpPr>
            <p:nvPr/>
          </p:nvCxnSpPr>
          <p:spPr>
            <a:xfrm rot="10800000">
              <a:off x="5291280" y="5082120"/>
              <a:ext cx="934200" cy="996840"/>
            </a:xfrm>
            <a:prstGeom prst="bentConnector2">
              <a:avLst/>
            </a:prstGeom>
            <a:ln w="9360">
              <a:solidFill>
                <a:srgbClr val="006699"/>
              </a:solidFill>
              <a:miter/>
            </a:ln>
          </p:spPr>
        </p:cxnSp>
        <p:cxnSp>
          <p:nvCxnSpPr>
            <p:cNvPr id="199" name="_s2054"/>
            <p:cNvCxnSpPr/>
            <p:nvPr/>
          </p:nvCxnSpPr>
          <p:spPr>
            <a:xfrm flipV="1">
              <a:off x="5723640" y="2348280"/>
              <a:ext cx="793440" cy="506160"/>
            </a:xfrm>
            <a:prstGeom prst="bentConnector3">
              <a:avLst>
                <a:gd name="adj1" fmla="val 14389"/>
              </a:avLst>
            </a:prstGeom>
            <a:ln w="9360">
              <a:solidFill>
                <a:srgbClr val="006699"/>
              </a:solidFill>
              <a:miter/>
            </a:ln>
          </p:spPr>
        </p:cxnSp>
        <p:cxnSp>
          <p:nvCxnSpPr>
            <p:cNvPr id="200" name="_s2055"/>
            <p:cNvCxnSpPr>
              <a:endCxn id="201" idx="0"/>
            </p:cNvCxnSpPr>
            <p:nvPr/>
          </p:nvCxnSpPr>
          <p:spPr>
            <a:xfrm flipV="1">
              <a:off x="4857840" y="1684080"/>
              <a:ext cx="1563480" cy="1271160"/>
            </a:xfrm>
            <a:prstGeom prst="bentConnector3">
              <a:avLst>
                <a:gd name="adj1" fmla="val 7300"/>
              </a:avLst>
            </a:prstGeom>
            <a:ln w="9360">
              <a:solidFill>
                <a:srgbClr val="006699"/>
              </a:solidFill>
              <a:miter/>
            </a:ln>
          </p:spPr>
        </p:cxnSp>
        <p:cxnSp>
          <p:nvCxnSpPr>
            <p:cNvPr id="202" name="_s2056"/>
            <p:cNvCxnSpPr>
              <a:stCxn id="203" idx="2"/>
              <a:endCxn id="204" idx="0"/>
            </p:cNvCxnSpPr>
            <p:nvPr/>
          </p:nvCxnSpPr>
          <p:spPr>
            <a:xfrm flipV="1" rot="10800000">
              <a:off x="2941200" y="3966840"/>
              <a:ext cx="405720" cy="525960"/>
            </a:xfrm>
            <a:prstGeom prst="bentConnector3">
              <a:avLst>
                <a:gd name="adj1" fmla="val 28063"/>
              </a:avLst>
            </a:prstGeom>
            <a:ln w="9360">
              <a:solidFill>
                <a:srgbClr val="006699"/>
              </a:solidFill>
              <a:miter/>
            </a:ln>
          </p:spPr>
        </p:cxnSp>
        <p:cxnSp>
          <p:nvCxnSpPr>
            <p:cNvPr id="205" name="_s2057"/>
            <p:cNvCxnSpPr>
              <a:stCxn id="206" idx="0"/>
              <a:endCxn id="203" idx="1"/>
            </p:cNvCxnSpPr>
            <p:nvPr/>
          </p:nvCxnSpPr>
          <p:spPr>
            <a:xfrm>
              <a:off x="2947680" y="2975040"/>
              <a:ext cx="399960" cy="993240"/>
            </a:xfrm>
            <a:prstGeom prst="bentConnector3">
              <a:avLst>
                <a:gd name="adj1" fmla="val 28558"/>
              </a:avLst>
            </a:prstGeom>
            <a:ln w="9360">
              <a:solidFill>
                <a:srgbClr val="006699"/>
              </a:solidFill>
              <a:miter/>
            </a:ln>
          </p:spPr>
        </p:cxnSp>
        <p:cxnSp>
          <p:nvCxnSpPr>
            <p:cNvPr id="207" name="_s2058"/>
            <p:cNvCxnSpPr>
              <a:stCxn id="208" idx="0"/>
            </p:cNvCxnSpPr>
            <p:nvPr/>
          </p:nvCxnSpPr>
          <p:spPr>
            <a:xfrm flipV="1" rot="16200000">
              <a:off x="6526080" y="2914200"/>
              <a:ext cx="360000" cy="1822320"/>
            </a:xfrm>
            <a:prstGeom prst="bentConnector2">
              <a:avLst/>
            </a:prstGeom>
            <a:ln w="15840">
              <a:solidFill>
                <a:srgbClr val="006699"/>
              </a:solidFill>
              <a:miter/>
            </a:ln>
          </p:spPr>
        </p:cxnSp>
        <p:cxnSp>
          <p:nvCxnSpPr>
            <p:cNvPr id="209" name="_s2059"/>
            <p:cNvCxnSpPr>
              <a:endCxn id="203" idx="0"/>
            </p:cNvCxnSpPr>
            <p:nvPr/>
          </p:nvCxnSpPr>
          <p:spPr>
            <a:xfrm>
              <a:off x="2988360" y="1701360"/>
              <a:ext cx="1600560" cy="1223640"/>
            </a:xfrm>
            <a:prstGeom prst="bentConnector2">
              <a:avLst/>
            </a:prstGeom>
            <a:ln w="15840">
              <a:solidFill>
                <a:srgbClr val="006699"/>
              </a:solidFill>
              <a:miter/>
            </a:ln>
          </p:spPr>
        </p:cxnSp>
        <p:sp>
          <p:nvSpPr>
            <p:cNvPr id="203" name="_s2060"/>
            <p:cNvSpPr/>
            <p:nvPr/>
          </p:nvSpPr>
          <p:spPr>
            <a:xfrm>
              <a:off x="3347280" y="2924640"/>
              <a:ext cx="2482200" cy="2087280"/>
            </a:xfrm>
            <a:prstGeom prst="bevel">
              <a:avLst>
                <a:gd name="adj" fmla="val 12500"/>
              </a:avLst>
            </a:prstGeom>
            <a:solidFill>
              <a:srgbClr val="edfad2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Comic Sans MS"/>
                </a:rPr>
                <a:t>СЕМЬЯ</a:t>
              </a:r>
              <a:endParaRPr b="0" lang="en-US" sz="24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210" name="_s2061"/>
            <p:cNvSpPr/>
            <p:nvPr/>
          </p:nvSpPr>
          <p:spPr>
            <a:xfrm>
              <a:off x="468360" y="1197000"/>
              <a:ext cx="2482200" cy="975600"/>
            </a:xfrm>
            <a:prstGeom prst="bevel">
              <a:avLst>
                <a:gd name="adj" fmla="val 12500"/>
              </a:avLst>
            </a:prstGeom>
            <a:solidFill>
              <a:srgbClr val="cc99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Comic Sans MS"/>
                </a:rPr>
                <a:t>СТРОИТЕЛИ</a:t>
              </a:r>
              <a:endParaRPr b="0" lang="en-US" sz="20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201" name="_s2062"/>
            <p:cNvSpPr/>
            <p:nvPr/>
          </p:nvSpPr>
          <p:spPr>
            <a:xfrm>
              <a:off x="6300720" y="1197000"/>
              <a:ext cx="2487960" cy="975600"/>
            </a:xfrm>
            <a:prstGeom prst="bevel">
              <a:avLst>
                <a:gd name="adj" fmla="val 12500"/>
              </a:avLst>
            </a:prstGeom>
            <a:solidFill>
              <a:srgbClr val="cc99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Comic Sans MS"/>
                </a:rPr>
                <a:t>МАГАЗИН</a:t>
              </a:r>
              <a:endParaRPr b="0" lang="en-US" sz="20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206" name="_s2063"/>
            <p:cNvSpPr/>
            <p:nvPr/>
          </p:nvSpPr>
          <p:spPr>
            <a:xfrm>
              <a:off x="468360" y="2491560"/>
              <a:ext cx="2479680" cy="968760"/>
            </a:xfrm>
            <a:prstGeom prst="bevel">
              <a:avLst>
                <a:gd name="adj" fmla="val 12500"/>
              </a:avLst>
            </a:prstGeom>
            <a:solidFill>
              <a:srgbClr val="cc99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Comic Sans MS"/>
                </a:rPr>
                <a:t>ШОФЁРЫ</a:t>
              </a:r>
              <a:endParaRPr b="0" lang="en-US" sz="2000" spc="-1" strike="noStrike">
                <a:solidFill>
                  <a:srgbClr val="006699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204" name="_s2064"/>
            <p:cNvSpPr/>
            <p:nvPr/>
          </p:nvSpPr>
          <p:spPr>
            <a:xfrm>
              <a:off x="468360" y="4005720"/>
              <a:ext cx="2473560" cy="975600"/>
            </a:xfrm>
            <a:prstGeom prst="bevel">
              <a:avLst>
                <a:gd name="adj" fmla="val 12500"/>
              </a:avLst>
            </a:prstGeom>
            <a:solidFill>
              <a:srgbClr val="cc99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Comic Sans MS"/>
                </a:rPr>
                <a:t>МОРЯКИ</a:t>
              </a:r>
              <a:endParaRPr b="0" lang="en-US" sz="20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211" name="_s2065"/>
            <p:cNvSpPr/>
            <p:nvPr/>
          </p:nvSpPr>
          <p:spPr>
            <a:xfrm>
              <a:off x="6225840" y="2491560"/>
              <a:ext cx="2485440" cy="975600"/>
            </a:xfrm>
            <a:prstGeom prst="bevel">
              <a:avLst>
                <a:gd name="adj" fmla="val 12500"/>
              </a:avLst>
            </a:prstGeom>
            <a:solidFill>
              <a:srgbClr val="cc99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Comic Sans MS"/>
                </a:rPr>
                <a:t>БОЛЬНИЦА</a:t>
              </a:r>
              <a:endParaRPr b="0" lang="en-US" sz="20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208" name="_s2066"/>
            <p:cNvSpPr/>
            <p:nvPr/>
          </p:nvSpPr>
          <p:spPr>
            <a:xfrm>
              <a:off x="6372360" y="4005720"/>
              <a:ext cx="2490480" cy="978480"/>
            </a:xfrm>
            <a:prstGeom prst="bevel">
              <a:avLst>
                <a:gd name="adj" fmla="val 12500"/>
              </a:avLst>
            </a:prstGeom>
            <a:solidFill>
              <a:srgbClr val="cc99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cc"/>
                  </a:solidFill>
                  <a:latin typeface="Comic Sans MS"/>
                </a:rPr>
                <a:t>ПАРИКМАХЕРСКАЯ</a:t>
              </a: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198" name="_s2067"/>
            <p:cNvSpPr/>
            <p:nvPr/>
          </p:nvSpPr>
          <p:spPr>
            <a:xfrm>
              <a:off x="6225840" y="5587560"/>
              <a:ext cx="2491200" cy="982440"/>
            </a:xfrm>
            <a:prstGeom prst="bevel">
              <a:avLst>
                <a:gd name="adj" fmla="val 12500"/>
              </a:avLst>
            </a:prstGeom>
            <a:solidFill>
              <a:srgbClr val="cc99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Comic Sans MS"/>
                </a:rPr>
                <a:t>ДЕТСКИЙ САД</a:t>
              </a:r>
              <a:endParaRPr b="0" lang="en-US" sz="20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196" name="_s2068"/>
            <p:cNvSpPr/>
            <p:nvPr/>
          </p:nvSpPr>
          <p:spPr>
            <a:xfrm>
              <a:off x="612000" y="5374080"/>
              <a:ext cx="2473200" cy="982440"/>
            </a:xfrm>
            <a:prstGeom prst="bevel">
              <a:avLst>
                <a:gd name="adj" fmla="val 12500"/>
              </a:avLst>
            </a:prstGeom>
            <a:solidFill>
              <a:srgbClr val="cc99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Comic Sans MS"/>
                </a:rPr>
                <a:t>СПАСАТЕЛИ</a:t>
              </a:r>
              <a:endParaRPr b="0" lang="en-US" sz="20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</p:grp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Изображение 041"/>
          <p:cNvPicPr/>
          <p:nvPr/>
        </p:nvPicPr>
        <p:blipFill>
          <a:blip r:embed="rId1"/>
          <a:stretch/>
        </p:blipFill>
        <p:spPr>
          <a:xfrm>
            <a:off x="611280" y="476280"/>
            <a:ext cx="7848360" cy="5905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3T09:51:01Z</dcterms:created>
  <dc:creator>Анжела</dc:creator>
  <dc:description/>
  <dc:language>en-US</dc:language>
  <cp:lastModifiedBy>User</cp:lastModifiedBy>
  <dcterms:modified xsi:type="dcterms:W3CDTF">2012-06-13T04:04:35Z</dcterms:modified>
  <cp:revision>17</cp:revision>
  <dc:subject/>
  <dc:title>    </dc:title>
</cp:coreProperties>
</file>