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2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B0E3-A23F-4680-8466-3F0DC1EFE9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63FB-D93E-4CBC-9215-9AC85EA65D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86D6-F2F2-4F1D-BBB9-51635FBA1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4A3-08B6-4861-AA1B-16353517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82F-B186-45C4-AE34-0D811D74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F89-4CDF-44B9-B4A1-E1C3A715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218-1A45-44EA-95E3-C2435898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911-6559-4225-BB21-486C139C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305-1055-4001-A0AB-47CE9E54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09D-011A-475F-9A94-533519F4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1B3-2534-4FA5-97DD-D2F0A45E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483-7DF5-40C4-8ABF-D3E4D139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40E-85C0-44A0-BA8E-B38D0269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CEC-CECA-4256-816F-029DF15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BE7-20E4-4F42-92ED-5FE6A2F4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FB6F-4B26-43B4-9A80-5CEBB39946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F72-88F2-4C72-87D6-5047A6555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нутый угол 8"/>
          <p:cNvGrpSpPr/>
          <p:nvPr/>
        </p:nvGrpSpPr>
        <p:grpSpPr>
          <a:xfrm>
            <a:off x="353880" y="281160"/>
            <a:ext cx="8508960" cy="6443640"/>
            <a:chOff x="353880" y="281160"/>
            <a:chExt cx="8508960" cy="6443640"/>
          </a:xfrm>
        </p:grpSpPr>
        <p:pic>
          <p:nvPicPr>
            <p:cNvPr id="49" name="Загнутый угол 8" descr=""/>
            <p:cNvPicPr/>
            <p:nvPr/>
          </p:nvPicPr>
          <p:blipFill>
            <a:blip r:embed="rId1"/>
            <a:stretch/>
          </p:blipFill>
          <p:spPr>
            <a:xfrm>
              <a:off x="353880" y="281160"/>
              <a:ext cx="8508960" cy="64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57120" y="28584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2"/>
          <a:stretch/>
        </p:blipFill>
        <p:spPr>
          <a:xfrm>
            <a:off x="0" y="6000840"/>
            <a:ext cx="471492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3"/>
          <a:stretch/>
        </p:blipFill>
        <p:spPr>
          <a:xfrm>
            <a:off x="4643280" y="6000840"/>
            <a:ext cx="4500720" cy="61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Documents and Settings\1\Рабочий стол\ежики\74324901_ezhik14.png"/>
          <p:cNvPicPr/>
          <p:nvPr/>
        </p:nvPicPr>
        <p:blipFill>
          <a:blip r:embed="rId4"/>
          <a:stretch/>
        </p:blipFill>
        <p:spPr>
          <a:xfrm>
            <a:off x="285840" y="2023920"/>
            <a:ext cx="5214960" cy="46357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2" descr=""/>
          <p:cNvPicPr/>
          <p:nvPr/>
        </p:nvPicPr>
        <p:blipFill>
          <a:blip r:embed="rId5"/>
          <a:stretch/>
        </p:blipFill>
        <p:spPr>
          <a:xfrm>
            <a:off x="-6480" y="-231840"/>
            <a:ext cx="9259920" cy="1451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5214960" y="3571920"/>
            <a:ext cx="3571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 выполн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-гимназии №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Белг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А ДАРЬ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ШНИКОВА С. 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6"/>
          <a:stretch/>
        </p:blipFill>
        <p:spPr>
          <a:xfrm>
            <a:off x="176040" y="682560"/>
            <a:ext cx="89377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4"/>
          <p:cNvGrpSpPr/>
          <p:nvPr/>
        </p:nvGrpSpPr>
        <p:grpSpPr>
          <a:xfrm>
            <a:off x="0" y="142920"/>
            <a:ext cx="9144000" cy="642960"/>
            <a:chOff x="0" y="142920"/>
            <a:chExt cx="9144000" cy="642960"/>
          </a:xfrm>
        </p:grpSpPr>
        <p:sp>
          <p:nvSpPr>
            <p:cNvPr id="58" name="Скругленный прямоугольник 5"/>
            <p:cNvSpPr/>
            <p:nvPr/>
          </p:nvSpPr>
          <p:spPr>
            <a:xfrm>
              <a:off x="0" y="254520"/>
              <a:ext cx="9144000" cy="507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53520" y="142920"/>
              <a:ext cx="835776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Прямоугольник 7"/>
          <p:cNvSpPr/>
          <p:nvPr/>
        </p:nvSpPr>
        <p:spPr>
          <a:xfrm>
            <a:off x="285840" y="8571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:  ДЛЯ ЧЕГО ЁЖИКУ НУЖНЫ ИГ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9"/>
          <p:cNvGrpSpPr/>
          <p:nvPr/>
        </p:nvGrpSpPr>
        <p:grpSpPr>
          <a:xfrm>
            <a:off x="0" y="3214800"/>
            <a:ext cx="9144000" cy="571320"/>
            <a:chOff x="0" y="3214800"/>
            <a:chExt cx="9144000" cy="571320"/>
          </a:xfrm>
        </p:grpSpPr>
        <p:sp>
          <p:nvSpPr>
            <p:cNvPr id="62" name="Скругленный прямоугольник 10"/>
            <p:cNvSpPr/>
            <p:nvPr/>
          </p:nvSpPr>
          <p:spPr>
            <a:xfrm>
              <a:off x="0" y="3391920"/>
              <a:ext cx="9144000" cy="37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07000" y="3214800"/>
              <a:ext cx="84920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Прямоугольник 12"/>
          <p:cNvSpPr/>
          <p:nvPr/>
        </p:nvSpPr>
        <p:spPr>
          <a:xfrm>
            <a:off x="285840" y="19288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Ь ВНЕШНИЙ ВИД ЕЖЕЙ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НРАВ И ПОВАДКИ ЕЖЕЙ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ЗАЧЕМ ЕЖАМ ИГ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ЗАИМООТНОШЕНИЯ  ЕЖЕЙ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13"/>
          <p:cNvGrpSpPr/>
          <p:nvPr/>
        </p:nvGrpSpPr>
        <p:grpSpPr>
          <a:xfrm>
            <a:off x="0" y="1285920"/>
            <a:ext cx="9144000" cy="571320"/>
            <a:chOff x="0" y="1285920"/>
            <a:chExt cx="9144000" cy="571320"/>
          </a:xfrm>
        </p:grpSpPr>
        <p:sp>
          <p:nvSpPr>
            <p:cNvPr id="66" name="Скругленный прямоугольник 14"/>
            <p:cNvSpPr/>
            <p:nvPr/>
          </p:nvSpPr>
          <p:spPr>
            <a:xfrm>
              <a:off x="0" y="1421280"/>
              <a:ext cx="9144000" cy="37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8600" y="1285920"/>
              <a:ext cx="8650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Прямоугольник 16"/>
          <p:cNvSpPr/>
          <p:nvPr/>
        </p:nvSpPr>
        <p:spPr>
          <a:xfrm>
            <a:off x="0" y="40006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,  ЧТО ЁЖИКУ ИГОЛКИ НЕ НУ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1\Рабочий стол\ежики\74324879_ezhik2.png"/>
          <p:cNvPicPr/>
          <p:nvPr/>
        </p:nvPicPr>
        <p:blipFill>
          <a:blip r:embed="rId4"/>
          <a:stretch/>
        </p:blipFill>
        <p:spPr>
          <a:xfrm>
            <a:off x="3429000" y="4357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3"/>
          <p:cNvGrpSpPr/>
          <p:nvPr/>
        </p:nvGrpSpPr>
        <p:grpSpPr>
          <a:xfrm>
            <a:off x="142920" y="142920"/>
            <a:ext cx="8858160" cy="642960"/>
            <a:chOff x="142920" y="142920"/>
            <a:chExt cx="8858160" cy="642960"/>
          </a:xfrm>
        </p:grpSpPr>
        <p:sp>
          <p:nvSpPr>
            <p:cNvPr id="71" name="Скругленный прямоугольник 4"/>
            <p:cNvSpPr/>
            <p:nvPr/>
          </p:nvSpPr>
          <p:spPr>
            <a:xfrm>
              <a:off x="142920" y="282960"/>
              <a:ext cx="8858160" cy="50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96000" y="142920"/>
              <a:ext cx="8187120" cy="61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Скругленный прямоугольник 11"/>
          <p:cNvSpPr/>
          <p:nvPr/>
        </p:nvSpPr>
        <p:spPr>
          <a:xfrm>
            <a:off x="214200" y="1285920"/>
            <a:ext cx="4000680" cy="36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ОРЕТИЧЕСКИЕ МЕТО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художественную  и научно-популярную   литер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татьи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еть мультфильм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2"/>
          <p:cNvSpPr/>
          <p:nvPr/>
        </p:nvSpPr>
        <p:spPr>
          <a:xfrm>
            <a:off x="4857840" y="1285920"/>
            <a:ext cx="3929040" cy="357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ИЕ МЕТО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431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блюдать за домашним питомц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431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со специалистами зо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431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прос одно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2560" y="642600"/>
            <a:ext cx="8715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питающее отряда насекомоядных семейства ежовых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вида ежей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и распространенными на территории нашей страны считают два вида ежей: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 европейский            Ёж ушас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руппа 4"/>
          <p:cNvGrpSpPr/>
          <p:nvPr/>
        </p:nvGrpSpPr>
        <p:grpSpPr>
          <a:xfrm>
            <a:off x="142920" y="142920"/>
            <a:ext cx="8786880" cy="530280"/>
            <a:chOff x="142920" y="142920"/>
            <a:chExt cx="8786880" cy="530280"/>
          </a:xfrm>
        </p:grpSpPr>
        <p:sp>
          <p:nvSpPr>
            <p:cNvPr id="77" name="Скругленный прямоугольник 5"/>
            <p:cNvSpPr/>
            <p:nvPr/>
          </p:nvSpPr>
          <p:spPr>
            <a:xfrm>
              <a:off x="175680" y="262800"/>
              <a:ext cx="8722800" cy="371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2920" y="142920"/>
              <a:ext cx="8786880" cy="53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3" descr="Животный мир :: Ежики фото 22"/>
          <p:cNvPicPr/>
          <p:nvPr/>
        </p:nvPicPr>
        <p:blipFill>
          <a:blip r:embed="rId2"/>
          <a:stretch/>
        </p:blipFill>
        <p:spPr>
          <a:xfrm>
            <a:off x="1071720" y="2286000"/>
            <a:ext cx="2840040" cy="22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Животный мир :: Ежики фото 20"/>
          <p:cNvPicPr/>
          <p:nvPr/>
        </p:nvPicPr>
        <p:blipFill>
          <a:blip r:embed="rId3"/>
          <a:stretch/>
        </p:blipFill>
        <p:spPr>
          <a:xfrm>
            <a:off x="5000760" y="2322360"/>
            <a:ext cx="2960640" cy="22496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571680" y="4735440"/>
            <a:ext cx="8215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ЁЖИК – ХИЩ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и, мухи, личинки, лягушки, даже змеи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ые лакомства ежа. Обычно за ночь он съедает столько пищи, сколько весит са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Группа 3"/>
          <p:cNvGrpSpPr/>
          <p:nvPr/>
        </p:nvGrpSpPr>
        <p:grpSpPr>
          <a:xfrm>
            <a:off x="142920" y="142920"/>
            <a:ext cx="8786880" cy="671400"/>
            <a:chOff x="142920" y="142920"/>
            <a:chExt cx="8786880" cy="671400"/>
          </a:xfrm>
        </p:grpSpPr>
        <p:sp>
          <p:nvSpPr>
            <p:cNvPr id="83" name="Скругленный прямоугольник 4"/>
            <p:cNvSpPr/>
            <p:nvPr/>
          </p:nvSpPr>
          <p:spPr>
            <a:xfrm>
              <a:off x="142920" y="234720"/>
              <a:ext cx="8786880" cy="579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89000" y="142920"/>
              <a:ext cx="869328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 txBox="1"/>
          <p:nvPr/>
        </p:nvSpPr>
        <p:spPr>
          <a:xfrm>
            <a:off x="214200" y="928440"/>
            <a:ext cx="38577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И  ОБЛАДАЮ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 быстро бег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осходным слух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м обоняни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лав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м порог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имчивости к яд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Мои документы\мои рисунки\6177d15598d0.jpg"/>
          <p:cNvPicPr/>
          <p:nvPr/>
        </p:nvPicPr>
        <p:blipFill>
          <a:blip r:embed="rId2"/>
          <a:stretch/>
        </p:blipFill>
        <p:spPr>
          <a:xfrm>
            <a:off x="4500720" y="1714680"/>
            <a:ext cx="4324320" cy="3555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8"/>
          <p:cNvSpPr/>
          <p:nvPr/>
        </p:nvSpPr>
        <p:spPr>
          <a:xfrm>
            <a:off x="214200" y="3143160"/>
            <a:ext cx="41436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 ВЫГЛЯДИТ ЕЖ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ч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жа вытянутая, подвиж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ый и постоянно влаж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е че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ленькие, закругле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апка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ять пальцев с острыми ког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жа покрыто густой жесткой  шер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наконец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Л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65687396_2009_0509Erinaceus_europaeus2001.jpg"/>
          <p:cNvPicPr/>
          <p:nvPr/>
        </p:nvPicPr>
        <p:blipFill>
          <a:blip r:embed="rId1"/>
          <a:stretch/>
        </p:blipFill>
        <p:spPr>
          <a:xfrm>
            <a:off x="1928880" y="3357720"/>
            <a:ext cx="5072040" cy="3214440"/>
          </a:xfrm>
          <a:prstGeom prst="rect">
            <a:avLst/>
          </a:prstGeom>
          <a:ln w="0">
            <a:noFill/>
          </a:ln>
        </p:spPr>
      </p:pic>
      <p:pic>
        <p:nvPicPr>
          <p:cNvPr id="89" name="Схема 13" descr=""/>
          <p:cNvPicPr/>
          <p:nvPr/>
        </p:nvPicPr>
        <p:blipFill>
          <a:blip r:embed="rId2"/>
          <a:stretch/>
        </p:blipFill>
        <p:spPr>
          <a:xfrm>
            <a:off x="122400" y="195120"/>
            <a:ext cx="8832600" cy="109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57120" y="135720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рачиваться ежу в клуб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специальные мышцы на спине. При встрече с опасностью он замирает и прячет незащищенную мордочку, выставля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Группа 4"/>
          <p:cNvGrpSpPr/>
          <p:nvPr/>
        </p:nvGrpSpPr>
        <p:grpSpPr>
          <a:xfrm>
            <a:off x="142920" y="142920"/>
            <a:ext cx="8786880" cy="530280"/>
            <a:chOff x="142920" y="142920"/>
            <a:chExt cx="8786880" cy="530280"/>
          </a:xfrm>
        </p:grpSpPr>
        <p:sp>
          <p:nvSpPr>
            <p:cNvPr id="92" name="Скругленный прямоугольник 5"/>
            <p:cNvSpPr/>
            <p:nvPr/>
          </p:nvSpPr>
          <p:spPr>
            <a:xfrm>
              <a:off x="175680" y="262800"/>
              <a:ext cx="8722800" cy="371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2920" y="142920"/>
              <a:ext cx="878688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8"/>
          <p:cNvSpPr/>
          <p:nvPr/>
        </p:nvSpPr>
        <p:spPr>
          <a:xfrm>
            <a:off x="285840" y="785880"/>
            <a:ext cx="414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 ловко лазает по деревь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 ту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ючки ему помогаю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, взобравшись на дерево, он упадет оттуда, то не разобьется, потому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ы пружинят, смягчая па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4acd613a.jpg"/>
          <p:cNvPicPr/>
          <p:nvPr/>
        </p:nvPicPr>
        <p:blipFill>
          <a:blip r:embed="rId2"/>
          <a:srcRect l="0" t="0" r="0" b="6812"/>
          <a:stretch/>
        </p:blipFill>
        <p:spPr>
          <a:xfrm>
            <a:off x="190440" y="2857680"/>
            <a:ext cx="4238640" cy="3643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2c55af29eced.jpg"/>
          <p:cNvPicPr/>
          <p:nvPr/>
        </p:nvPicPr>
        <p:blipFill>
          <a:blip r:embed="rId3"/>
          <a:stretch/>
        </p:blipFill>
        <p:spPr>
          <a:xfrm>
            <a:off x="4572000" y="2500200"/>
            <a:ext cx="4286160" cy="40449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6"/>
          <p:cNvSpPr/>
          <p:nvPr/>
        </p:nvSpPr>
        <p:spPr>
          <a:xfrm>
            <a:off x="4572000" y="785880"/>
            <a:ext cx="43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НИТАР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на один час пускают ёжика в траву, а потом считают сколько клещей он успел собрать на свои иго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4"/>
          <p:cNvGrpSpPr/>
          <p:nvPr/>
        </p:nvGrpSpPr>
        <p:grpSpPr>
          <a:xfrm>
            <a:off x="142920" y="0"/>
            <a:ext cx="8786880" cy="857160"/>
            <a:chOff x="142920" y="0"/>
            <a:chExt cx="8786880" cy="857160"/>
          </a:xfrm>
        </p:grpSpPr>
        <p:sp>
          <p:nvSpPr>
            <p:cNvPr id="99" name="Скругленный прямоугольник 5"/>
            <p:cNvSpPr/>
            <p:nvPr/>
          </p:nvSpPr>
          <p:spPr>
            <a:xfrm>
              <a:off x="142920" y="225720"/>
              <a:ext cx="8786880" cy="436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89000" y="0"/>
              <a:ext cx="869328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Содержимое 12" descr=""/>
          <p:cNvPicPr/>
          <p:nvPr/>
        </p:nvPicPr>
        <p:blipFill>
          <a:blip r:embed="rId2"/>
          <a:stretch/>
        </p:blipFill>
        <p:spPr>
          <a:xfrm>
            <a:off x="55440" y="615960"/>
            <a:ext cx="90280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46:57Z</dcterms:created>
  <dc:creator>Ostrikova S.A.</dc:creator>
  <dc:description>http://aida.ucoz.ru</dc:description>
  <dc:language>en-US</dc:language>
  <cp:lastModifiedBy>Ostrikova S.A.</cp:lastModifiedBy>
  <dcterms:modified xsi:type="dcterms:W3CDTF">2012-06-13T15:58:54Z</dcterms:modified>
  <cp:revision>57</cp:revision>
  <dc:subject/>
  <dc:title>Слайд 1</dc:title>
</cp:coreProperties>
</file>