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34D-A088-4BDB-9C6D-D57A320A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837-ECBA-4810-9C3E-2A5A3C7A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90C-04F4-4D23-AC34-CF1C7739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BAD-BB4D-4B04-AC4B-CDD04B51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1D0-C93F-4E1E-BC51-77D3EA4F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ED25-0EBC-48B1-92EE-76082FB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C71B-938F-4A6D-8072-119F9B2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65E-3377-46EB-B9B4-618B2BF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90A8-74F5-4924-9464-AB24599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88FA-B532-4FA5-B472-04E62A0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28D-B70B-4DBA-A45A-5356DDF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05A-5BAB-4639-83F8-5D892CBF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7B61-6CD6-4F04-8808-6095EEB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25E8-A855-4765-8C05-0DBCFEC0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2AB8-7A38-4FA1-BCDE-ECADC68F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9C16-07D2-4E35-9E42-53C9F988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80AA-99F1-4248-8B64-BEEA8506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762-25D3-48DE-86E3-BB1B4C61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EF4-0C4E-4B3E-82A6-93D5DF46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C5B-74F1-4EA9-9F70-F1DF4016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6FB-ABD6-4C4F-92C7-3A132A8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A36-F587-4361-B002-65691AE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244-03B0-4949-BCA4-0BB66B29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344-8EFF-4807-8C8F-32CF57A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920-8BFA-4DDB-AD80-9F5B9EAEBD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9D8C-0B51-42D5-A6D2-9905003767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аречие-это самостоятельная часть речи, которая обозначае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560" y="2565000"/>
            <a:ext cx="856908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 действия- спорить(как?) горяч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 предмета- танец (какой)вприсяд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знак другого признака-   медлительный(в какой степени?) немно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шипящих  в наречиях под ударением пишется О, без ударения Е, исключение- ЕЩ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ячО, пахуч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нце наречий после шипящих всегда пишется Ь знак, исключения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Ж, ЗАМУЖ, НЕВТЕРПЕ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качЬ , прочЬ , сплошЬ , настеж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фис в наречия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Есть приставка ПО и суффиксы ОМУ-ЕМУ-КИ-И- ПО-немецКИ, ПО-волчЬ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Есть приставки ВО-В и суффиксы ЫХ-ИХ- ВО-первЫХ, В-третьИ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При повторении слов: точь-в-точь, еле-еле , исключение- БОК О Б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Есть приставка КОЕ и суффиксы ТО,ЛИБО,НИБУДЬ, ТАКИ –КОЕ- кто,   где-ТО,все-Т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МНИ слитное написание нареч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горяча       Повсюду          Напропал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лепу       Доныне           Вкрут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пусту       Извне              Вдов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ела        Послезавтра    Вдребезг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глухо       Вдвое              Взап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высока       Вничью           Враспло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авчера    Надвое           Изнут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всегда      Зачастую        Ная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обум    НО!!! НА УРА   ПО ДВ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МНИ раздельное  написание нареч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просыпу     НА бегу          До зарез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остановки  На вкус           ДО отк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спросу       НА веки веков  До отв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удержу      На глаз            До смер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умолку       На износ         До свид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З устали        На дыб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ходу  С разбегу С боку на бок  С вид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маху  С разгону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АПОМНИ раздельное  написание нареч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цыпочки          НА совесть    НА попятн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цыпочках         НА страже     НА попя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 спуд              НА редкость   НЕ по  вкус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рточки          НА память      НЕ проч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рточках         В обхват        НЕ к добр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рез                  В насмешку    НИ за гро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тяжку              На боковую    НИ ра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упор                   НА мировую    НЕ ра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ткрыту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-НН в наречиях на О-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речиях на О-Е пишется столько Н, сколько и в прилагательных , от которых они образова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есНый-интерес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вереННый- увер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жествеННый –мужеств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стНый- груст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ремеННый-врем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таНый-пута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ЛИЧА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28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ткие причастия     от          НАРЕЧ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В предложении                 являются обстоятель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вляются сказуемым,          вом,отвечают на вопрос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вечают на вопросы          где?как?куд?когд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в?какова?как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Можно заменить              2. Относятся к глаго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лаго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Всегда пишется –Н-         3. Пишется столько Н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ре (каково?)                  сколько и в прилаг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зволноваНо штормом.       ном,от которого образо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но-отвечал увереН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5"/>
          <p:cNvSpPr/>
          <p:nvPr/>
        </p:nvSpPr>
        <p:spPr>
          <a:xfrm flipH="1">
            <a:off x="2484000" y="981000"/>
            <a:ext cx="792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5580000" y="98100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изнаки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Не склоня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спряг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зменяются ,поэтому не имеет оконч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В предложении чаще всего бывают обстоятельством, реже- сказуем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зряды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Образа действия- как? каким образ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Места -где? куда? отку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Цели- зачем ? с какой целью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Времени- когда? Как долго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Причины- почему ? По какой причи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Меры и степени- в какой мере? в какой степе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епени сравн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ТАЯ-ЕЕ-ЕЙ- смелый - смелЕ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НАЯ- БОЛЕЕ,МЕНЕЕ- БОЛЕЕ тих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ОСХОДНАЯ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авнительная степень + ВСЕХ – громче ВСЕ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ЛИЧАЙ !!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лагательные в сравнительной и превосходной степени поясняют существительные ( в предложении явдяются сказуемыми и отвечают на вопрос каков? какова?)-эта доска тоньше 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ечия  в сравнительной и превосходной степени поясняют глаголы ( в предложении являются обстоятельствами и отвечают на вопрос как?) Говорить громче все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е с наречиям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И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Без НЕ не употребляются -невзрачно, нелепо,негодующе,неожиданно,неизбе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Можно заменить синонимом без НЕ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хорошо- плох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ть слова:совсем,крайне,совершен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чень,весьма- очень неинтерес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Есть союз НО- негромко, но вырази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авописание Не с наречиям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аздельн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сгда раздельно: НЕ случайно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напрас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Есть союз А- НЕ весело, а груст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ть слова : НИСКОЛЬКО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ГДА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ЧУТЬ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НЮДЬ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ЕКО 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сколько НЕ убедите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авописание нареч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нце наречий пишется А, если есть приставки ИЗ-ДО-С- справА, досухА, издал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конце наречий пишется О, если е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тавки В- НА-ЗА-вправО, налевО, засвет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МНИ 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наречие образовано от приставочного прилагательного, пишется О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начальнО-ИЗначаль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- НИ в  отрицательных наречия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отрицательных наречиях под ударением пишется приставка НЕ- Некогда, Негде, Не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 отрицательных наречиях без ударения пишется приставка НИ- Никогда, Нигде, Нику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-НИ в отрицательных наречиях всегда пишутся слит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9:27:01Z</dcterms:created>
  <dc:creator>Директор</dc:creator>
  <dc:description/>
  <dc:language>en-US</dc:language>
  <cp:lastModifiedBy>Фисюк</cp:lastModifiedBy>
  <dcterms:modified xsi:type="dcterms:W3CDTF">2011-12-26T12:21:48Z</dcterms:modified>
  <cp:revision>14</cp:revision>
  <dc:subject/>
  <dc:title>Наречие-это самостоятельная часть речи, которая обозначает</dc:title>
</cp:coreProperties>
</file>