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E42-3E2B-48F1-9B84-367F6EAA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52E-2A8E-4DA5-B4FB-48425316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FBC-AE89-48CA-AB9F-29FF3349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CDC-8393-4FCC-8D54-DF7D0763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1D5F-3E6D-4F00-A497-2BC3AB6B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4E0D-7D22-4A1F-BDEB-FB94716E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B0E8-A368-427A-BF4F-995640A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FDA2-8A90-433C-AAE1-DEFD08B5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F60E-1F51-48F4-8E7D-21598CE6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BB62-BBB6-447C-A07A-1C15813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3FAB-276B-4DC1-B6EB-2B44F5A9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B79-7B11-4A24-A8B4-031FC78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8A88-8CEF-4C18-B1A1-818BD13C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DD00-5C9C-411E-9C44-62625BB7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1A60-1221-4754-825A-7D4426C8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617F-7812-4A65-920E-9D03BB7B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1D0B-5157-4105-A437-BC1D25DB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05A-46F8-4F6E-940D-6DA9872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8B0-77E7-48CE-8B98-B5E3F689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A1E-3E4D-4148-A5B7-EADD2B58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407-E03C-414D-B9C6-C7DB5FD0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01B-82F4-4EFE-BE06-82357D9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6AD-DA91-4682-AA83-69FFDC7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D8E-DC69-4123-91A7-5850BFA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95BF-89B1-4F90-B20E-9DB1DFB20C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91E2-C1AE-4F20-B08F-D3DBF430F1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речие-это самостоятельная часть речи, которая обозначае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560" y="2565000"/>
            <a:ext cx="856908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 действия- спорить(как?) горяч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 предмета- танец (какой)вприсяд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 другого признака-   медлительный(в какой степени?) немн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писание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шипящих  в наречиях под ударением пишется О, без ударения Е, исключение- Е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ячО, пахуч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писание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онце наречий после шипящих всегда пишется Ь знак, исключ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Ж, ЗАМУЖ, НЕВТЕРПЕ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качЬ , прочЬ , сплошЬ , настеж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ефис в наречия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Есть приставка ПО и суффиксы ОМУ-ЕМУ-КИ-И- ПО-немецКИ, ПО-волчЬ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Есть приставки ВО-В и суффиксы ЫХ-ИХ- ВО-первЫХ, В-треть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ри повторении слов: точь-в-точь, еле-еле , исключение- БОК О Б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Есть приставка КОЕ и суффиксы ТО,ЛИБО,НИБУДЬ, ТАКИ –КОЕ- кто,   где-ТО,все-ТА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ПОМНИ слитное написание нареч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горяча       Повсюду          Напропал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лепу       Доныне           Вкрут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усту       Извне              Вдов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ела        Послезавтра    Вдребез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глухо       Вдвое              Взапер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ысока       Вничью           Враспло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авчера    Надвое           Изнут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всегда      Зачастую        Ная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обум    НО!!! НА УРА   ПО Д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ПОМНИ раздельное  написание нареч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просыпу     НА бегу          До зарез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остановки  На вкус           ДО отк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спросу       НА веки веков  До отв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удержу      На глаз            До смер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умолку       На износ         До свид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устали        На дыб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ходу  С разбегу С боку на бок  С вид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маху  С разгон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ПОМНИ раздельное  написание нареч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цыпочки          НА совесть    НА попятн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цыпочках         НА страже     НА попя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 спуд              НА редкость   НЕ по  вкус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орточки          НА память      НЕ проч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орточках         В обхват        НЕ к доб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рез                  В насмешку    НИ за гро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тяжку              На боковую    НИ раз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упор                   НА мировую    НЕ р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крыт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-НН в наречиях на О-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речиях на О-Е пишется столько Н, сколько и в прилагательных , от которых они образов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есНый-интерес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ереННый- увере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жествеННый –мужестве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стНый- груст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меННый-време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таНый-пута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ЛИЧА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28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ткие причастия     от          НАРЕЧ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В предложении                 являются обстоятель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вляются сказуемым,          вом,отвечают на вопро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чают на вопросы          где?как?куд?ког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в?какова?как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Можно заменить              2. Относятся к глаго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го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Всегда пишется –Н-         3. Пишется столько Н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ре (каково?)                  сколько и в прилаг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волноваНо штормом.       ном,от которого образо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но-отвечал увере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5"/>
          <p:cNvSpPr/>
          <p:nvPr/>
        </p:nvSpPr>
        <p:spPr>
          <a:xfrm flipH="1">
            <a:off x="2484000" y="981000"/>
            <a:ext cx="792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580000" y="98100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знаки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Не склоня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пряг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зменяются ,поэтому не имеет оконч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В предложении чаще всего бывают обстоятельством, реже- сказуем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зряды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браза действия- как? каким образ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Места -где? куда? отку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Цели- зачем ? с какой цель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Времени- когда? Как долго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Причины- почему ? По какой причи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Меры и степени- в какой мере? в какой степе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епени сравн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ВНИТЕ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ТАЯ-ЕЕ-ЕЙ- смелый - смелЕ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НАЯ- БОЛЕЕ,МЕНЕЕ- БОЛЕЕ тих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ВОСХОДНАЯ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внительная степень + ВСЕХ – громче ВСЕ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ЛИЧАЙ 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лагательные в сравнительной и превосходной степени поясняют существительные ( в предложении явдяются сказуемыми и отвечают на вопрос каков? какова?)-эта доска тоньше 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ечия  в сравнительной и превосходной степени поясняют глаголы ( в предложении являются обстоятельствами и отвечают на вопрос как?) Говорить громче все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писание Не с наречия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И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Без НЕ не употребляются -невзрачно, нелепо,негодующе,неожиданно,неизбе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Можно заменить синонимом без НЕ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хорошо- плох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ть слова:совсем,крайне,совершен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чень,весьма- очень неинтерес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Есть союз НО- негромко, но вырази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вописание Не с наречиям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здельн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сгда раздельно: НЕ случай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напрас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Есть союз А- НЕ весело, а груст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ть слова : НИСКОЛЬКО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ГДА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ЧУТЬ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ЮДЬ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ЕКО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сколько НЕ убеди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писание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онце наречий пишется А, если есть приставки ИЗ-ДО-С- справА, досухА, издал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онце наречий пишется О, если е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тавки В- НА-ЗА-вправО, налевО, засвет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ОМНИ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аречие образовано от приставочного прилагательного, пишется О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начальнО-ИЗнача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- НИ в  отрицательных наречия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 отрицательных наречиях под ударением пишется приставка НЕ- Некогда, Негде, Нек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 отрицательных наречиях без ударения пишется приставка НИ- Никогда, Нигде, Ник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-НИ в отрицательных наречиях всегда пишутся сли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9:27:01Z</dcterms:created>
  <dc:creator>Директор</dc:creator>
  <dc:description/>
  <dc:language>en-US</dc:language>
  <cp:lastModifiedBy>Фисюк</cp:lastModifiedBy>
  <dcterms:modified xsi:type="dcterms:W3CDTF">2011-12-26T12:21:48Z</dcterms:modified>
  <cp:revision>14</cp:revision>
  <dc:subject/>
  <dc:title>Наречие-это самостоятельная часть речи, которая обозначает</dc:title>
</cp:coreProperties>
</file>