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7C7-E962-44AE-A204-E99AC199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B61-356A-4EAF-AEF1-4DC7EBD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C03-AD0D-4105-A564-9D2EAB5C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E46-92B9-47E2-A347-A6C1FD87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E4B-57CD-4E48-A8D9-E94D8D48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FE0-8911-4CDD-9E31-A46534F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A8D-4793-4C07-9160-6C4673C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042-B5C4-4D72-83AA-A190EFA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2B3-28AB-41C6-B932-C6AA6A2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B0E-65D3-4B00-B7AB-10254C0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58B-984C-49AD-A0FC-DF7F7B0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2DD-8C93-49C2-B758-F7B2757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2FA-26F6-469F-B35E-FD66DA71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Bookman Old Style"/>
              </a:rPr>
              <a:t>Агитбригада </a:t>
            </a: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«Светоф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825"/>
                </a:solidFill>
                <a:latin typeface="Bookman Old Style"/>
              </a:rPr>
              <a:t>Учащиеся 7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825"/>
                </a:solidFill>
                <a:latin typeface="Bookman Old Style"/>
              </a:rPr>
              <a:t>Классный руководитель: Ачилди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23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Bookman Old Style"/>
              </a:rPr>
              <a:t>ГБОУ №548 с углубленным изучением английского языка Красносель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3313080" cy="28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3648240" cy="36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13352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741680" cy="216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189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Пересечение равнозначных дор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5715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7413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«Подача звукового сигнала запреще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700360" y="1628640"/>
            <a:ext cx="5373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3848040" cy="499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9280" y="3141720"/>
            <a:ext cx="4753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3031" t="10089" r="3235" b="9292"/>
          <a:stretch/>
        </p:blipFill>
        <p:spPr>
          <a:xfrm>
            <a:off x="4500720" y="33336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73480" cy="583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40100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I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часть: Поговорим о зн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341360"/>
            <a:ext cx="66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Bookman Old Style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Bookman Old Style"/>
              </a:rPr>
              <a:t>Пропаганда знаний Правил дорожного движения среди учащихся начальной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Bookman Old Style"/>
              </a:rPr>
              <a:t>В игровой форме напомнить детям после летних каникул об основных знаках, встречающихся на дорогах и необходимости их со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2093760" cy="209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7665" t="0" r="4646" b="13474"/>
          <a:stretch/>
        </p:blipFill>
        <p:spPr>
          <a:xfrm>
            <a:off x="5867280" y="907920"/>
            <a:ext cx="3095640" cy="244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32080" y="4869000"/>
            <a:ext cx="1449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2602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Азбуку города помни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чтоб не случилась с тобою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897360" cy="532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3101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404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Пешеходный переход»</a:t>
            </a:r>
            <a:r>
              <a:rPr b="1" i="1" lang="en-US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19760" y="981000"/>
            <a:ext cx="217512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5977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1928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Bookman Old Style"/>
              </a:rPr>
              <a:t>«Неровная дорог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6507360" cy="487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7413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Железнодорожный переезд без шлагбау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411280" y="1609560"/>
            <a:ext cx="62200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Bookman Old Style"/>
              </a:rPr>
              <a:t>«Движение велосипедов запрещен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1741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720" y="4149720"/>
            <a:ext cx="174132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4562280" cy="343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rcRect l="0" t="0" r="51841" b="0"/>
          <a:stretch/>
        </p:blipFill>
        <p:spPr>
          <a:xfrm>
            <a:off x="250920" y="260280"/>
            <a:ext cx="3770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41680" cy="216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1128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Bookman Old Style"/>
              </a:rPr>
              <a:t>«Ремонт дорог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5770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5:38:23Z</dcterms:created>
  <dc:creator>Home</dc:creator>
  <dc:description/>
  <dc:language>en-US</dc:language>
  <cp:lastModifiedBy>Алишер</cp:lastModifiedBy>
  <dcterms:modified xsi:type="dcterms:W3CDTF">2012-06-14T09:39:25Z</dcterms:modified>
  <cp:revision>4</cp:revision>
  <dc:subject/>
  <dc:title>Агитбригада «Светофор»</dc:title>
</cp:coreProperties>
</file>