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7A5-3763-4B70-8073-325E3F5E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8A4-9238-464D-8842-DFA68C82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EBE-FC13-4E5D-AF8C-D54D02ED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95D-EF82-4CA3-98CD-29973D01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6E9-7422-4C1E-BCDB-E2B1FB2C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657-9FF8-473D-B1F6-D0F11C14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E54-F7AC-4252-A738-9795207B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FD6-0795-4472-B7B9-6C4288DC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11F-40BE-4CC0-AF41-2CAFB0BC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550-6650-4B7B-ACF5-1EF2859C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710-C370-4F6B-AC78-7327AAB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D4B-85D2-4B9F-AFCB-89BBC34D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D316-5E3A-42F2-93B8-1D8217B1C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Bookman Old Style"/>
              </a:rPr>
              <a:t>Агитбригада </a:t>
            </a:r>
            <a:r>
              <a:rPr b="1" i="1" lang="en-US" sz="4400" spc="-1" strike="noStrike">
                <a:solidFill>
                  <a:srgbClr val="ff0000"/>
                </a:solidFill>
                <a:latin typeface="Bookman Old Style"/>
              </a:rPr>
              <a:t>«Светофо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86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825"/>
                </a:solidFill>
                <a:latin typeface="Bookman Old Style"/>
              </a:rPr>
              <a:t>Учащиеся 7Б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bb825"/>
                </a:solidFill>
                <a:latin typeface="Bookman Old Style"/>
              </a:rPr>
              <a:t>Классный руководитель: Ачилдиева Татьяна Александ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23736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00"/>
                </a:solidFill>
                <a:latin typeface="Bookman Old Style"/>
              </a:rPr>
              <a:t>ГБОУ №548 с углубленным изучением английского языка Красносель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3313080" cy="286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92720" y="1052640"/>
            <a:ext cx="3648240" cy="36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79280" y="1125360"/>
            <a:ext cx="13352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1741680" cy="2160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8360" y="189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«Пересечение равнозначных дорог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987640" y="1197000"/>
            <a:ext cx="5715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1741320" cy="2160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333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«Подача звукового сигнала запреще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700360" y="1628640"/>
            <a:ext cx="537372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1566720" cy="1944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148360" y="189000"/>
            <a:ext cx="3848040" cy="4991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79280" y="3141720"/>
            <a:ext cx="47530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3031" t="10089" r="3235" b="9292"/>
          <a:stretch/>
        </p:blipFill>
        <p:spPr>
          <a:xfrm>
            <a:off x="4500720" y="333360"/>
            <a:ext cx="4464000" cy="2879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4173480" cy="583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859280" y="3284640"/>
            <a:ext cx="40100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3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man Old Style"/>
              </a:rPr>
              <a:t>I </a:t>
            </a: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часть: Поговорим о зна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341360"/>
            <a:ext cx="665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Bookman Old Style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00"/>
                </a:solidFill>
                <a:latin typeface="Bookman Old Style"/>
              </a:rPr>
              <a:t>Пропаганда знаний Правил дорожного движения среди учащихся начальной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Bookman Old Style"/>
              </a:rPr>
              <a:t>В игровой форме напомнить детям после летних каникул об основных знаках, встречающихся на дорогах и необходимости их соблю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81360"/>
            <a:ext cx="2093760" cy="209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7665" t="0" r="4646" b="13474"/>
          <a:stretch/>
        </p:blipFill>
        <p:spPr>
          <a:xfrm>
            <a:off x="5867280" y="907920"/>
            <a:ext cx="3095640" cy="2443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232080" y="4869000"/>
            <a:ext cx="1449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7280" y="26028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ff"/>
                </a:solidFill>
                <a:latin typeface="Bookman Old Style"/>
              </a:rPr>
              <a:t>Азбуку города помни всег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ff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Bookman Old Style"/>
              </a:rPr>
              <a:t>чтоб не случилась с тобою б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897360" cy="5327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96000" y="1268280"/>
            <a:ext cx="3101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404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«Пешеходный переход»</a:t>
            </a:r>
            <a:r>
              <a:rPr b="1" i="1" lang="en-US" sz="2800" spc="-1" strike="noStrike">
                <a:solidFill>
                  <a:srgbClr val="333399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19760" y="981000"/>
            <a:ext cx="2175120" cy="338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59770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19280" y="333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Bookman Old Style"/>
              </a:rPr>
              <a:t>«Неровная дорог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6507360" cy="4879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17413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33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Bookman Old Style"/>
              </a:rPr>
              <a:t>«Железнодорожный переезд без шлагбаум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1741680" cy="216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411280" y="1609560"/>
            <a:ext cx="622008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9528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Bookman Old Style"/>
              </a:rPr>
              <a:t>«Движение велосипедов запрещено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419640" y="170028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17416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32720" y="4149720"/>
            <a:ext cx="1741320" cy="216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427640" y="404640"/>
            <a:ext cx="4562280" cy="343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rcRect l="0" t="0" r="51841" b="0"/>
          <a:stretch/>
        </p:blipFill>
        <p:spPr>
          <a:xfrm>
            <a:off x="250920" y="260280"/>
            <a:ext cx="3770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741680" cy="2160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411280" y="26028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Bookman Old Style"/>
              </a:rPr>
              <a:t>«Ремонт дорог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916360" y="1125360"/>
            <a:ext cx="57704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15:38:23Z</dcterms:created>
  <dc:creator>Home</dc:creator>
  <dc:description/>
  <dc:language>en-US</dc:language>
  <cp:lastModifiedBy>Алишер</cp:lastModifiedBy>
  <dcterms:modified xsi:type="dcterms:W3CDTF">2012-06-14T09:39:25Z</dcterms:modified>
  <cp:revision>4</cp:revision>
  <dc:subject/>
  <dc:title>Агитбригада «Светофор»</dc:title>
</cp:coreProperties>
</file>