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EAD-B976-4E59-8086-C8D228C6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E06-16C0-4117-877C-B1786730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B9B-CD99-447F-8DCA-032AA42B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DA0-D593-435D-9CFA-3AC7EDB3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4F51-8CC6-47E9-A32F-66E59718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1148-9D13-4277-924E-EEDE5814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A7DE-8D2B-4DA4-A35E-2D22A27E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D65E-9FFF-4341-937A-89C2EF41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44F3-C323-4713-8443-BF527133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7E6C-987E-45FD-95E5-AC0E55CC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2DE5-E7CB-4FF3-86A6-116CE16F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1C0-1688-41F6-8755-12B6FB2E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C83A-729A-453D-80F1-01E6C8BB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A889-2EC5-405C-A522-180638BF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52B6-AE25-4DC7-A0DF-B2B7CBC0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91DC-435D-4796-82BE-7E85863C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26F9-CE49-4592-8643-D8B4C9CA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844F-4D0B-4414-B7DB-233F7FF6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B402-D7C9-4FAE-8F84-66108FC5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895DB-EC0C-4ACA-B221-EBA5247A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85004-C555-4186-87F8-B4AF9F30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E0FA6-CC9C-48CF-9A5D-62603643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C1C-86A7-423A-9192-1258AF00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E889-27FB-4241-923D-19FBF4C7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3B96-9ED2-48ED-9C15-4B13F0B1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BF4B1-6AAC-419C-9757-EAFFD269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6AB04-EDB1-4FFB-ACA9-11A71136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5406C-9C1B-4FB4-A55B-C61B74C2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37296-CF88-4A2F-8CF0-8C6B17AF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1144-2468-4874-841F-6F715AAA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7D4AB-A6F3-487F-A07C-D6B4E28E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6F3D2-CEF9-4AD7-ACB5-F0F76552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65026-3194-476E-885B-EC7CC30C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9189-CD37-496B-BA3B-645E6E70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9655E-9C35-4C6B-8623-73610F49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46BE3-578C-439D-AB7D-7B3801F1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27E6F-922C-4082-8A1E-8C7E693C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873FC-91CF-485A-B7B9-6026F2A2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5AA93-C234-4EE5-B72E-E925AACB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705F4-B9AF-45EE-890D-D5A0FA44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B09CB-E5A2-4559-84C3-2D92B675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495F8-123A-4639-A529-B5DBC18C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DF0B3-81EB-48D2-8DE3-DE8EEA3C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3F3DA-2EC2-47F0-BBE6-8081A214A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3D6-CB53-46FB-9026-7FE848F3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1E6DD-6870-4526-AE73-ED0B613C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1350A-D219-4458-8B52-3BBCE455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2D0E7-4FD1-4890-B14A-5CC77DC1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6B114-ECCF-464C-B004-3EA8D203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93348-EEDF-4B3A-9A73-C8D4448D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1962F-8095-4F8C-8966-0574A7B0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271BB-DF54-416D-B771-8B788149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56773-2C88-4D50-A58D-2E37CD61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8549B-D618-4A25-BDF0-7FFADAC8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44361-9B61-4E15-B86B-F56B2063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F9E-4739-4A61-8EF5-D576A3BE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EFDDD-6BE7-4617-B50F-44FEDA77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C4DAC-70D1-49F4-894A-CA8E6365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9853C-1F71-4DE0-882E-E6D1BA53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2C69E-0A93-4640-B97D-38F1304E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7E572-E848-4578-907C-B5E85215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E0642-1F22-4144-B006-5A1F6224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5C371-F02E-4AF9-8F96-3832BF76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1C31F-350B-40B8-B3E5-B69D0CF7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AE1EB-3A2B-425D-B393-7717A781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C28DB-6185-426C-99F8-D67A4962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63E-3A06-4D73-BA33-580E7A29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C1422-2EF9-4DA8-AEC4-0E6FB3B4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17072-7D5C-490A-8A69-2E39397E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07F3E-34A0-4DB1-AEF9-321E21CD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1CB17-E5E3-46A4-84D1-74C650B1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A876C-50F8-4472-9EA9-21497634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2B86F-734E-48A7-B86B-217D0402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61067-7E26-4B25-8B18-3E24BBA4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C52E5-5A23-4DF8-9EF3-2DA0D267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4BE3F-4C2F-40B8-B913-8758CAC3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AC6A8-D177-47E9-BB29-EADEC083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944-55E6-43EF-BD3F-B53DDAFA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115DF-0889-4DC3-9512-D68B91E9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C2F83-8416-4E57-BE42-E5347902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599FB-E999-4261-9819-C95622BD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8F910-53CE-4C07-9EC4-A0D19EDA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DFAFC-A94E-417D-B1E2-19F4145A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CBC-3C67-495E-9F58-15855E5F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E43D-95EF-47D1-ACCD-0FE3DB90F4B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EA08-6B2A-4FB9-892A-D8B8984CC8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5D68-0608-4E69-8404-FBD8D1C9490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C43E-0076-4306-BC57-7A8BB34DBC4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14BF-C0A1-44BB-A219-39C30177EA0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7CDC-F8B6-4002-AF39-763D5338A1C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4B71-4D21-4660-913B-BDB93E2788B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Corbel"/>
              </a:rPr>
              <a:t>Анализ ситуаци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99760" y="4500360"/>
            <a:ext cx="73580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rbel"/>
              </a:rPr>
              <a:t>Обсуждение и поиск выхода из кризисной ситуации во взаимодействии </a:t>
            </a: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Corbel"/>
              </a:rPr>
              <a:t>«Учитель – ученик – родитель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5643720" y="614376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orbel"/>
              </a:rPr>
              <a:t>Педсовет 28 марта 2012 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Corbel"/>
              </a:rPr>
              <a:t>Ситуация 1 - 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5 класс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Picture 2" descr="C:\Documents and Settings\второй\Мои документы\Мои результаты сканировани\сканирование0084.jpg"/>
          <p:cNvPicPr/>
          <p:nvPr/>
        </p:nvPicPr>
        <p:blipFill>
          <a:blip r:embed="rId1"/>
          <a:srcRect l="0" t="6156" r="0" b="0"/>
          <a:stretch/>
        </p:blipFill>
        <p:spPr>
          <a:xfrm>
            <a:off x="1071720" y="1428840"/>
            <a:ext cx="8001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Corbel"/>
              </a:rPr>
              <a:t>Ситуация 3 –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6 класс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4" name="Picture 2" descr="C:\Documents and Settings\второй\Мои документы\Мои результаты сканировани\сканирование0085.jpg"/>
          <p:cNvPicPr/>
          <p:nvPr/>
        </p:nvPicPr>
        <p:blipFill>
          <a:blip r:embed="rId1"/>
          <a:stretch/>
        </p:blipFill>
        <p:spPr>
          <a:xfrm>
            <a:off x="1130400" y="1785960"/>
            <a:ext cx="7013520" cy="2286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Documents and Settings\второй\Мои документы\Мои результаты сканировани\сканирование0091.jpg"/>
          <p:cNvPicPr/>
          <p:nvPr/>
        </p:nvPicPr>
        <p:blipFill>
          <a:blip r:embed="rId2"/>
          <a:stretch/>
        </p:blipFill>
        <p:spPr>
          <a:xfrm>
            <a:off x="1000080" y="3643200"/>
            <a:ext cx="7284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Corbel"/>
              </a:rPr>
              <a:t>Ситуация 4 –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7 класс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4" descr="C:\Documents and Settings\второй\Мои документы\Мои результаты сканировани\сканирование0094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71720" y="1785960"/>
            <a:ext cx="79293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Corbel"/>
              </a:rPr>
              <a:t>Ситуация 2 –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8 класс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Picture 3" descr="C:\Documents and Settings\второй\Мои документы\Мои результаты сканировани\сканирование0093.jpg"/>
          <p:cNvPicPr/>
          <p:nvPr/>
        </p:nvPicPr>
        <p:blipFill>
          <a:blip r:embed="rId1"/>
          <a:srcRect l="0" t="1349" r="0" b="2899"/>
          <a:stretch/>
        </p:blipFill>
        <p:spPr>
          <a:xfrm>
            <a:off x="1071720" y="1285920"/>
            <a:ext cx="78580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2060"/>
                </a:solidFill>
                <a:latin typeface="Corbel"/>
              </a:rPr>
              <a:t>Ситуация 5 – </a:t>
            </a:r>
            <a:r>
              <a:rPr b="0" lang="ru-RU" sz="2000" spc="-1" strike="noStrike">
                <a:solidFill>
                  <a:srgbClr val="002060"/>
                </a:solidFill>
                <a:latin typeface="Corbel"/>
              </a:rPr>
              <a:t>9 класс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Picture 2" descr="C:\Documents and Settings\второй\Мои документы\Мои результаты сканировани\сканирование0092.jpg"/>
          <p:cNvPicPr/>
          <p:nvPr/>
        </p:nvPicPr>
        <p:blipFill>
          <a:blip r:embed="rId1"/>
          <a:srcRect l="3736" t="0" r="0" b="15390"/>
          <a:stretch/>
        </p:blipFill>
        <p:spPr>
          <a:xfrm>
            <a:off x="1246320" y="2000160"/>
            <a:ext cx="7468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8:04:56Z</dcterms:created>
  <dc:creator>second</dc:creator>
  <dc:description/>
  <dc:language>en-US</dc:language>
  <cp:lastModifiedBy>second</cp:lastModifiedBy>
  <dcterms:modified xsi:type="dcterms:W3CDTF">2012-03-23T08:45:31Z</dcterms:modified>
  <cp:revision>5</cp:revision>
  <dc:subject/>
  <dc:title>Анализ ситуаций</dc:title>
</cp:coreProperties>
</file>