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EC4-908A-42A9-80B1-A9A51322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9C6-7448-4B32-A94D-33175007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33F-CAF7-4850-ABE8-A851866E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F98-F0CE-4806-B6C1-D6AF907A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492A-E152-4336-9AA4-0CF5062D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4F00-114E-4982-A1C3-1F911AEE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3F6E-1A19-4408-BF9C-3A1CDC09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93B6-EF5D-4E95-8E80-3E232C63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1805-99D2-4618-954C-FD383773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DB19-2D93-46E9-981D-ED4C36FE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7133-D56E-480E-BA04-FCDD50D4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703-1988-45BE-BCF3-B2B919C1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F3A9-D394-4EF7-A712-CA45566B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A8D4-466E-4789-9816-79F7C502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C59C-357C-43E1-A68E-DBE90177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FB73-354A-455E-A340-3E491CE4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108C-C96E-4B91-9FA8-4CDEC5E5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D538-30AE-4315-A15F-04900CE3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DBF8-CB5A-4DAC-8983-BFB53FF2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E24B-8F00-4D64-BE83-E8C14924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D03F-CEBE-41D3-B346-E37CAB3E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66C3-4E50-4C8E-92DC-F5C79338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0E6-3102-4000-A1E8-ED530B90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00899-B06A-479D-BCAE-36B1A3F6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2CB4-1BCE-4AEC-A9C0-D442FB44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44DC4-7273-4784-BA82-A3EC9906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078A-B434-4B02-A2C9-67239E51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7C249-BEE0-430B-BCB2-EFAD70D8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0FAB-21BE-480E-A4BA-CF7C5371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5155-E0BF-429B-9E74-83DA686E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A2734-1F74-4E8A-B5ED-9378167E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D9E98-E2E1-4AAC-B817-CEAF27F4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79D4-E057-4A47-8DBA-CFF700A1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DFC-35BE-4DB4-B133-153B8364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DFA9D-809F-4DF8-A05B-1D9E2A23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661DD-4A6F-43CF-A18C-C587AE9D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4650E-453B-4A71-9743-81C4AEF3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989F7-B378-475E-B5B4-28212D8B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0B9B2-6758-4045-B878-FCF13E2B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272F1-2965-4B69-8626-CA6CFE32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40D05-096A-4260-A4DB-B6B55AB5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84996-3A45-4A21-BB7A-2B5E3262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1569-5945-45E9-9EB0-20FE963C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A210C-DCF9-4567-8556-1593F1B1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315-E99A-4354-9E84-458A261B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FAF92-840D-403D-B6DA-D0788BCB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12CA8-84CD-49A9-89D3-5F7E1627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8C55E-8F7F-46EB-BE4A-E4AF1363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D60C5-6AD5-4ABD-A536-CEC47813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13A40-3B0A-4DF8-855F-85A91E70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9AD69-E93C-40B5-97F1-2D1A5130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4368B-E615-46A6-9FDF-CD055A5E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0102A-7E78-48C3-8886-52463A3E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5211A-DEDD-441B-A8EB-9B411E88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ABEE1-7BAE-402A-A22F-B6ACFF71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2DA-3E82-4B5C-B6A5-E804CD63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CB188-0C3D-4F6E-A45F-E296FE1A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25960-5E6B-4A27-AB39-D942221B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92C10-8EAD-4EB3-AC3A-0E413051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9ED40-CA25-423F-9E66-1D5A44B7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BFD5D-5A2A-48DF-AD7C-1EE25F56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E02A4-72CD-4FE2-AEC2-FCA7AB1D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8B514-F78E-4D0D-A1FE-0EE21BFC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7F4B5-01B1-4AEF-94A0-102F34A9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14EE4-CD51-47EA-80F8-7AC7F85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A0838-84F7-4EEA-B788-20E2122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85F-66F5-485C-83B6-ED8D604B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7BF04-E601-4F24-B6BE-216ED170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B3D2E-04E0-40F2-9CE8-C4DEC85B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8F8D8-A8C2-4D7C-8EA4-636C3725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C7F27-D2D4-4919-ABE2-D68BD034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58774-FD7C-44D0-BF6E-F7A28565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A366B-6BED-4632-9A26-8BF0C095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93ADA-9994-4C17-BB2F-A2A431B2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DBBEA-02A2-49A2-A79B-C684B401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A4257-2E75-4199-9ADD-149828F2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28FD6-6E93-4DFB-AB55-28230219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FEF-BB6F-4128-9F7E-1A0DBE2D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FBCAC-FB6C-4888-89D2-B8E6341A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9E1C2-00E8-4D25-A1CB-81912A39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588EC-C4DB-468D-B2C0-DAAFC97F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308E7-3197-411F-90E7-2F3DC523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94970-2FF3-46E9-A4B8-EA2BE959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A8B-9613-4ABF-89F6-CB0C65E5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EB8A-A851-4509-80FA-29B17CA6FD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C044-1B21-45E1-BB83-03BF30FE4EF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D213-24CB-4B99-8E59-981B66B4EF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7682-94E7-4532-93DB-C4B065EBD3C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50BA-A004-4E2B-B711-6B79F77403E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BF2B-F278-4927-AE81-E37B6D0463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4C9D-63F2-4B71-AFE2-1B743241F8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Corbel"/>
              </a:rPr>
              <a:t>Анализ ситуац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99760" y="4500360"/>
            <a:ext cx="73580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Обсуждение и поиск выхода из кризисной ситуации во взаимодействии </a:t>
            </a: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Corbel"/>
              </a:rPr>
              <a:t>«Учитель – ученик – родитель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5643720" y="614376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Педсовет 28 марта 2012 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Corbel"/>
              </a:rPr>
              <a:t>Ситуация 1 - 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5 класс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Picture 2" descr="C:\Documents and Settings\второй\Мои документы\Мои результаты сканировани\сканирование0084.jpg"/>
          <p:cNvPicPr/>
          <p:nvPr/>
        </p:nvPicPr>
        <p:blipFill>
          <a:blip r:embed="rId1"/>
          <a:srcRect l="0" t="6156" r="0" b="0"/>
          <a:stretch/>
        </p:blipFill>
        <p:spPr>
          <a:xfrm>
            <a:off x="1071720" y="1428840"/>
            <a:ext cx="8001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Corbel"/>
              </a:rPr>
              <a:t>Ситуация 3 –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6 класс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Picture 2" descr="C:\Documents and Settings\второй\Мои документы\Мои результаты сканировани\сканирование0085.jpg"/>
          <p:cNvPicPr/>
          <p:nvPr/>
        </p:nvPicPr>
        <p:blipFill>
          <a:blip r:embed="rId1"/>
          <a:stretch/>
        </p:blipFill>
        <p:spPr>
          <a:xfrm>
            <a:off x="1130400" y="1785960"/>
            <a:ext cx="7013520" cy="2286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Documents and Settings\второй\Мои документы\Мои результаты сканировани\сканирование0091.jpg"/>
          <p:cNvPicPr/>
          <p:nvPr/>
        </p:nvPicPr>
        <p:blipFill>
          <a:blip r:embed="rId2"/>
          <a:stretch/>
        </p:blipFill>
        <p:spPr>
          <a:xfrm>
            <a:off x="1000080" y="3643200"/>
            <a:ext cx="7284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Corbel"/>
              </a:rPr>
              <a:t>Ситуация 4 –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7 класс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4" descr="C:\Documents and Settings\второй\Мои документы\Мои результаты сканировани\сканирование0094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71720" y="1785960"/>
            <a:ext cx="79293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Corbel"/>
              </a:rPr>
              <a:t>Ситуация 2 –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8 класс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3" descr="C:\Documents and Settings\второй\Мои документы\Мои результаты сканировани\сканирование0093.jpg"/>
          <p:cNvPicPr/>
          <p:nvPr/>
        </p:nvPicPr>
        <p:blipFill>
          <a:blip r:embed="rId1"/>
          <a:srcRect l="0" t="1349" r="0" b="2899"/>
          <a:stretch/>
        </p:blipFill>
        <p:spPr>
          <a:xfrm>
            <a:off x="1071720" y="1285920"/>
            <a:ext cx="7858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Corbel"/>
              </a:rPr>
              <a:t>Ситуация 5 –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9 класс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Picture 2" descr="C:\Documents and Settings\второй\Мои документы\Мои результаты сканировани\сканирование0092.jpg"/>
          <p:cNvPicPr/>
          <p:nvPr/>
        </p:nvPicPr>
        <p:blipFill>
          <a:blip r:embed="rId1"/>
          <a:srcRect l="3736" t="0" r="0" b="15390"/>
          <a:stretch/>
        </p:blipFill>
        <p:spPr>
          <a:xfrm>
            <a:off x="1246320" y="2000160"/>
            <a:ext cx="7468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8:04:56Z</dcterms:created>
  <dc:creator>second</dc:creator>
  <dc:description/>
  <dc:language>en-US</dc:language>
  <cp:lastModifiedBy>second</cp:lastModifiedBy>
  <dcterms:modified xsi:type="dcterms:W3CDTF">2012-03-23T08:45:31Z</dcterms:modified>
  <cp:revision>5</cp:revision>
  <dc:subject/>
  <dc:title>Анализ ситуаций</dc:title>
</cp:coreProperties>
</file>