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drumroll.wav" ContentType="audio/x-wav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1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BFF1-6795-423C-B75A-EB1911367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A58E-8AFC-418F-91BB-BB4954380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0C02-7310-479C-8A76-F8A3C486D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1ECF-B457-4129-AC86-969A21876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F1869-746F-48BB-AD3B-CDC50BD4C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29216-F737-4AE0-B956-6F43F552C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4E65E-BF75-48EE-86F7-B36F88A00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281A1-5DC0-400F-8718-475279CD7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19492-70DA-4167-9678-CCCD28C96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CC29B-91EB-4BEF-BBFC-4547F96A5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FC266-5E84-417A-B4B7-0D38615F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E4BC-73C1-4924-B95D-448B7F531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0592C-E459-4500-A7B6-A307658B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2359F-3AD0-4D46-BD94-7DE37609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2A26C-73EA-4E57-A6CD-C86E2F6E4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B25DE-3A20-4357-B6BA-950C52D57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3E902-5DBD-475A-95BC-207E337CE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9BBD-F3F9-42C4-B46D-B3B657A33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586C-18D2-46A1-B2DB-4A28A3A64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EAA2-242D-4BDD-8C29-31321FECC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9C9F-77C7-4EDA-8885-216CB75B0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EA15-B9DE-4509-9D25-882BC9E5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5B69-13F0-44B9-B41A-E229F5A7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0445-F89B-4BC7-9722-471A6FA1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80398-C231-43B5-A8D6-9011F062F0E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96911-0A0E-43EB-A165-179494AD8F2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i40.beon.ru/80/30/293080/29/10350129/DSC08970.jpeg" TargetMode="External"/><Relationship Id="rId3" Type="http://schemas.openxmlformats.org/officeDocument/2006/relationships/image" Target="../media/image12.jpe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40.beon.ru/80/30/293080/33/10350133/DSC08972.jpeg" TargetMode="External"/><Relationship Id="rId2" Type="http://schemas.openxmlformats.org/officeDocument/2006/relationships/image" Target="../media/image16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14972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cccc"/>
                </a:solidFill>
                <a:latin typeface="Arial"/>
              </a:rPr>
              <a:t>Цимлянское водохранилище –рукотворное чудо природы!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5280" y="189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95280" y="189000"/>
            <a:ext cx="8209080" cy="396072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  <p:sndAc>
      <p:stSnd>
        <p:snd r:embed="rId3" name="drumroll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450864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Водохранилище – замечательная рекреационная зона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360" y="18864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8207280" cy="360036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2" name="drumroll.wav"/>
      </p:stSnd>
    </p:sndAc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5280" y="472392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Водохранилище образовано плотиной Цимлянского ГЭС на реке Дон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9640" y="188640"/>
            <a:ext cx="79200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39640" y="189000"/>
            <a:ext cx="792000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  <p:sndAc>
      <p:stSnd>
        <p:snd r:embed="rId3" name="drumroll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640" y="3933720"/>
            <a:ext cx="8229600" cy="25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ff"/>
                </a:solidFill>
                <a:latin typeface="Arial"/>
              </a:rPr>
              <a:t>Водохранилище имеет площадь 2700 км</a:t>
            </a:r>
            <a:r>
              <a:rPr b="0" lang="ru-RU" sz="4000" spc="-1" strike="noStrike" baseline="30000">
                <a:solidFill>
                  <a:srgbClr val="0066ff"/>
                </a:solidFill>
                <a:latin typeface="Arial"/>
              </a:rPr>
              <a:t>2  </a:t>
            </a:r>
            <a:r>
              <a:rPr b="0" lang="ru-RU" sz="4000" spc="-1" strike="noStrike">
                <a:solidFill>
                  <a:srgbClr val="0066ff"/>
                </a:solidFill>
                <a:latin typeface="Arial"/>
              </a:rPr>
              <a:t>На его берегах находятся города: Калач -на- Дону, Цимлянск, Волгодонск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.  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26560" y="115560"/>
            <a:ext cx="779796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826920" y="115920"/>
            <a:ext cx="777744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65300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Средняя ширина водоёма около 12 км, наибольшая – 30км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820728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5280" y="400536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Цимлянское море имеет общую длину 250км и большая его часть находится в пределах Волгоградской област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95280" y="18900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395280" y="189000"/>
            <a:ext cx="8209080" cy="3527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  <p:sndAc>
      <p:stSnd>
        <p:snd r:embed="rId3" name="drumroll.wav"/>
      </p:stSnd>
    </p:sndAc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5280" y="3573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Цимлянское водохранилище находится в системе Волго - Донского канала наряду с Карповским, Бериславским и Варваровским водохранилищами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890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189000"/>
            <a:ext cx="8207280" cy="3311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  <p:sndAc>
      <p:stSnd>
        <p:snd r:embed="rId4" name="drumroll.wav"/>
      </p:stSnd>
    </p:sndAc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2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11280" y="3068640"/>
            <a:ext cx="8229600" cy="37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ff"/>
                </a:solidFill>
                <a:latin typeface="Arial"/>
              </a:rPr>
              <a:t>Водохранилище делится на 4 плеса: </a:t>
            </a:r>
            <a:br>
              <a:rPr sz="4000"/>
            </a:br>
            <a:r>
              <a:rPr b="0" lang="ru-RU" sz="4000" spc="-1" strike="noStrike">
                <a:solidFill>
                  <a:srgbClr val="6600ff"/>
                </a:solidFill>
                <a:latin typeface="Arial"/>
              </a:rPr>
              <a:t>- Приплотинный;</a:t>
            </a:r>
            <a:br>
              <a:rPr sz="4000"/>
            </a:br>
            <a:r>
              <a:rPr b="0" lang="ru-RU" sz="4000" spc="-1" strike="noStrike">
                <a:solidFill>
                  <a:srgbClr val="6600ff"/>
                </a:solidFill>
                <a:latin typeface="Arial"/>
              </a:rPr>
              <a:t>- Потемкинский;</a:t>
            </a:r>
            <a:br>
              <a:rPr sz="4000"/>
            </a:br>
            <a:r>
              <a:rPr b="0" lang="ru-RU" sz="4000" spc="-1" strike="noStrike">
                <a:solidFill>
                  <a:srgbClr val="6600ff"/>
                </a:solidFill>
                <a:latin typeface="Arial"/>
              </a:rPr>
              <a:t>- Чирский;</a:t>
            </a:r>
            <a:br>
              <a:rPr sz="4000"/>
            </a:br>
            <a:r>
              <a:rPr b="0" lang="ru-RU" sz="4000" spc="-1" strike="noStrike">
                <a:solidFill>
                  <a:srgbClr val="6600ff"/>
                </a:solidFill>
                <a:latin typeface="Arial"/>
              </a:rPr>
              <a:t>-Верхний;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640" y="18900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8280360" cy="2735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  <p:sndAc>
      <p:stSnd>
        <p:snd r:embed="rId2" name="drumroll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98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436572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Arial"/>
              </a:rPr>
              <a:t>При ветрах Цимлянское водохранилище бывает очень бурным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1592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95280" y="115920"/>
            <a:ext cx="8209080" cy="38829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  <p:sndAc>
      <p:stSnd>
        <p:snd r:embed="rId3" name="drumroll.wav"/>
      </p:stSnd>
    </p:sndAc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941720"/>
            <a:ext cx="8229600" cy="14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Шторм здесь не редкость, а высота волн достигает 2,5 – 8,5 м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9640" y="189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89000"/>
            <a:ext cx="820908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17:39:24Z</dcterms:created>
  <dc:creator>XTreme</dc:creator>
  <dc:description/>
  <dc:language>en-US</dc:language>
  <cp:lastModifiedBy>XTreme</cp:lastModifiedBy>
  <dcterms:modified xsi:type="dcterms:W3CDTF">2009-02-19T18:45:02Z</dcterms:modified>
  <cp:revision>2</cp:revision>
  <dc:subject/>
  <dc:title>Цимлянское водохранилище –рукотворное чудо природы!</dc:title>
</cp:coreProperties>
</file>