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B47-5E8E-4CC0-AD46-5C911728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698-F03D-4260-9787-6B14C6B1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CFA-2D42-4CAB-A2AF-564FB2C5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1EC-16C7-4DA0-BF7D-C1BC5A0D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5A0D-ACFE-4F5B-AF25-D02B180E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B633-AAA6-4E71-9A8E-10CEBCDD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992D-84AC-42F9-BBC7-7F1CB469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A65C-F1C0-493A-9A5B-04ED41B6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CB9C-5EC6-4C8C-82B5-F28E020D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1933-9879-422F-B58C-5ACEDA81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6622-1F64-4FA4-B4C3-E80ADD30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297-38A8-4EC1-B2AE-42E2D800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E957-6C9F-4A2F-81BB-5D04613F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0332-79AA-4CF1-B0DB-2A7CC89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DAD0-F1E1-4A8E-BBF1-0166A8E5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6A40-9324-40EC-99B1-20CF1A38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4D40-1819-4519-9951-99C1B585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06D-B57E-4396-97B2-3867EB5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B35-AE13-4CDF-9454-C606CD09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EFC-E42A-4148-9627-E818BB25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C06-F132-4A92-8D0C-C3FCD89D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75A-C837-42FB-9198-C916D16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6ED-F021-41CE-9F8C-41EEEC6B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3A3-6134-4EA6-B9B5-ED27A483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6090-0B7C-41D3-B672-27F145C366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5FD-A12D-4DD1-9A42-E4CA3B2D70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i40.beon.ru/80/30/293080/29/10350129/DSC08970.jpe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40.beon.ru/80/30/293080/33/10350133/DSC08972.jpeg" TargetMode="External"/><Relationship Id="rId2" Type="http://schemas.openxmlformats.org/officeDocument/2006/relationships/image" Target="../media/image16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149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cc"/>
                </a:solidFill>
                <a:latin typeface="Arial"/>
              </a:rPr>
              <a:t>Цимлянское водохранилище –рукотворное чудо природы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09080" cy="39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508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одохранилище – замечательная рекреационная зон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88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36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drumroll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Водохранилище образовано плотиной Цимлянского ГЭС на реке До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88640"/>
            <a:ext cx="792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79200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3" name="drumroll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933720"/>
            <a:ext cx="8229600" cy="25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Водохранилище имеет площадь 2700 км</a:t>
            </a:r>
            <a:r>
              <a:rPr b="0" lang="ru-RU" sz="4000" spc="-1" strike="noStrike" baseline="30000">
                <a:solidFill>
                  <a:srgbClr val="0066ff"/>
                </a:solidFill>
                <a:latin typeface="Arial"/>
              </a:rPr>
              <a:t>2  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На его берегах находятся города: Калач -на- Дону, Цимлянск, Волгодонск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.  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115560"/>
            <a:ext cx="77979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77774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65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Средняя ширина водоёма около 12 км, наибольшая – 30к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2072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00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Цимлянское море имеет общую длину 250км и большая его часть находится в пределах Волгоградской обла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20908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3" name="drumroll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573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Цимлянское водохранилище находится в системе Волго - Донского канала наряду с Карповским, Бериславским и Варваровским водохранилища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89000"/>
            <a:ext cx="8207280" cy="331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4" name="drumroll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306864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Водохранилище делится на 4 плеса: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- Приплотинный;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- Потемкинский;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- Чирский;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-Верхний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2" name="drumroll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При ветрах Цимлянское водохранилище бывает очень бурны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1592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115920"/>
            <a:ext cx="8209080" cy="3882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3" name="drumroll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94172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Шторм здесь не редкость, а высота волн достигает 2,5 – 8,5 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89000"/>
            <a:ext cx="82090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7:39:24Z</dcterms:created>
  <dc:creator>XTreme</dc:creator>
  <dc:description/>
  <dc:language>en-US</dc:language>
  <cp:lastModifiedBy>XTreme</cp:lastModifiedBy>
  <dcterms:modified xsi:type="dcterms:W3CDTF">2009-02-19T18:45:02Z</dcterms:modified>
  <cp:revision>2</cp:revision>
  <dc:subject/>
  <dc:title>Цимлянское водохранилище –рукотворное чудо природы!</dc:title>
</cp:coreProperties>
</file>