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27F-702E-4784-AEEE-FEB9423E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235-42D9-4D4A-B0CF-1B8091C0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BF1-598D-408F-A3B0-AF857D86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B8E-F29B-4D26-A846-EA70790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E78-1E06-4C37-B7B2-F3D5524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0E14-7DBB-4461-BE97-3889681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EE24-54EC-4472-8712-E8B6014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A295-7FAE-4E5B-89F6-2957ADE0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C5DC-7810-4C48-BF45-91CA1F7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5B9-DBDA-4919-B024-4558202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E1C2-8025-45C9-897E-8641030A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338-9FD6-455D-8656-7367A668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C28-48AC-4131-B401-C914707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0239-C29B-4435-9AAD-357FA50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BEEB-D203-4B12-BB56-8FB45EC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4F7A-3FF6-4694-8B33-9DFBFBDD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A418-604E-410C-AD8E-579BC46D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020-2C7F-4607-96D8-B3D8645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0DF-9D03-4DF7-9C4A-D8171B0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59-9C42-4812-93EC-77E9F88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385-FACB-4875-8C65-FECA1B74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133-FC56-431A-AD25-02920B1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1FB-ACD6-4350-A4BE-8ECACCC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9B3-67E4-4878-A73E-93E7A25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CDE-67CA-41AB-843C-B74CBE9F0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E2FC-9236-4E5C-B41C-B43D38E2CF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eec94"/>
                </a:solidFill>
                <a:latin typeface="Monotype Corsiva"/>
              </a:rPr>
              <a:t>Основы экологического воспитания старших дошкольников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Monotype Corsiva"/>
              </a:rPr>
              <a:t>В огороде и в цветнике дети выращивают растения, участвуют в перекопке земли и разделке грядок и клумб, сеют семена, высаживают рассаду, а затем поливают, пропалывают, рыхлят землю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7" descr="экология 051"/>
          <p:cNvPicPr/>
          <p:nvPr/>
        </p:nvPicPr>
        <p:blipFill>
          <a:blip r:embed="rId1"/>
          <a:stretch/>
        </p:blipFill>
        <p:spPr>
          <a:xfrm>
            <a:off x="0" y="4267080"/>
            <a:ext cx="3451320" cy="2590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экология 040.jpg"/>
          <p:cNvPicPr/>
          <p:nvPr/>
        </p:nvPicPr>
        <p:blipFill>
          <a:blip r:embed="rId2"/>
          <a:stretch/>
        </p:blipFill>
        <p:spPr>
          <a:xfrm>
            <a:off x="5181480" y="3352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экология 093"/>
          <p:cNvPicPr/>
          <p:nvPr/>
        </p:nvPicPr>
        <p:blipFill>
          <a:blip r:embed="rId3"/>
          <a:stretch/>
        </p:blipFill>
        <p:spPr>
          <a:xfrm>
            <a:off x="2362320" y="19051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Monotype Corsiva"/>
              </a:rPr>
              <a:t>Дети выполняют разнообразные трудовые задания. С 6 – 7 лет доступны довольно сложные способы ухода за животным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7" descr="экология 071"/>
          <p:cNvPicPr/>
          <p:nvPr/>
        </p:nvPicPr>
        <p:blipFill>
          <a:blip r:embed="rId1"/>
          <a:stretch/>
        </p:blipFill>
        <p:spPr>
          <a:xfrm>
            <a:off x="0" y="205740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экология 074.jpg"/>
          <p:cNvPicPr/>
          <p:nvPr/>
        </p:nvPicPr>
        <p:blipFill>
          <a:blip r:embed="rId2"/>
          <a:stretch/>
        </p:blipFill>
        <p:spPr>
          <a:xfrm rot="1074600">
            <a:off x="5264280" y="2006640"/>
            <a:ext cx="3555720" cy="26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экология 082"/>
          <p:cNvPicPr/>
          <p:nvPr/>
        </p:nvPicPr>
        <p:blipFill>
          <a:blip r:embed="rId3"/>
          <a:stretch/>
        </p:blipFill>
        <p:spPr>
          <a:xfrm>
            <a:off x="327672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5" descr="экология 075.jpg"/>
          <p:cNvPicPr/>
          <p:nvPr/>
        </p:nvPicPr>
        <p:blipFill>
          <a:blip r:embed="rId1"/>
          <a:stretch/>
        </p:blipFill>
        <p:spPr>
          <a:xfrm rot="477600">
            <a:off x="5603760" y="2432160"/>
            <a:ext cx="3381480" cy="253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MG_1267"/>
          <p:cNvPicPr/>
          <p:nvPr/>
        </p:nvPicPr>
        <p:blipFill>
          <a:blip r:embed="rId2"/>
          <a:stretch/>
        </p:blipFill>
        <p:spPr>
          <a:xfrm rot="20767800">
            <a:off x="231840" y="2238120"/>
            <a:ext cx="3068640" cy="2305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Во время циклических наблюдений дети научились видеть вокруг себя интересное, наблюдать за растениями и животными, делать простейшие умозаключения, различать живые и неживые объекты природы, понимать их  взаимосвяз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Рисунок 6" descr="IMG_1294.jpg"/>
          <p:cNvPicPr/>
          <p:nvPr/>
        </p:nvPicPr>
        <p:blipFill>
          <a:blip r:embed="rId3"/>
          <a:stretch/>
        </p:blipFill>
        <p:spPr>
          <a:xfrm>
            <a:off x="685800" y="4495680"/>
            <a:ext cx="347184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экология 040.jpg"/>
          <p:cNvPicPr/>
          <p:nvPr/>
        </p:nvPicPr>
        <p:blipFill>
          <a:blip r:embed="rId4"/>
          <a:stretch/>
        </p:blipFill>
        <p:spPr>
          <a:xfrm>
            <a:off x="4343400" y="464832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3" descr="экология 084.jpg"/>
          <p:cNvPicPr/>
          <p:nvPr/>
        </p:nvPicPr>
        <p:blipFill>
          <a:blip r:embed="rId5"/>
          <a:stretch/>
        </p:blipFill>
        <p:spPr>
          <a:xfrm>
            <a:off x="3124080" y="2514600"/>
            <a:ext cx="294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MD User</cp:lastModifiedBy>
  <dcterms:modified xsi:type="dcterms:W3CDTF">2012-06-14T19:33:0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