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9C0-BA74-48E7-9D1C-FB557384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B53-CDF8-40C3-86DB-A34D23AE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E2E-ACAA-4635-8A46-EB6D04FE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FB1-5AE1-4D18-B1C1-3E674A5D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E8E7-DCEF-465E-9189-7F35AE21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2BC0-8E57-43F2-99D7-3BE27B1D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8EF8-C098-479F-9EFD-4A48E79F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5DD1-0D4B-4680-B6C6-BD75200C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8BA7-ADF0-4C10-BD84-A3FCC670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D1B1-3619-4D16-8AA6-D76D92D0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51D2-E875-4D3D-90B8-685CBF0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C71-FB01-454F-B81E-8E1DAEB2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CFFA-C056-4ACE-92FF-0900C218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F6BA-D44A-4FD9-AE22-97182F1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8B8F-199F-4B53-BD39-147BAB91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1070-2742-4785-A41B-065D1CCE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32B2-7409-4EC2-A71E-ACF65E71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BD6-C0D6-4812-88BC-C2022326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F5C-9940-40C7-A277-A40AFF8A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47D-FC60-486A-A591-CB6C9EED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E26-7C3F-4840-9E1F-483B46F2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3DF-D856-444F-B967-7CE767F7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78A-8BD1-4D44-B2CB-793C40D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7E13-9216-4B1E-8680-70343262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8220-809D-4D3F-80D3-0087716609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A693-5FF3-47A8-A912-B322E57F5F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eec94"/>
                </a:solidFill>
                <a:latin typeface="Monotype Corsiva"/>
              </a:rPr>
              <a:t>Основы экологического воспитания старших дошкольников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Monotype Corsiva"/>
              </a:rPr>
              <a:t>В огороде и в цветнике дети выращивают растения, участвуют в перекопке земли и разделке грядок и клумб, сеют семена, высаживают рассаду, а затем поливают, пропалывают, рыхлят землю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2" name="Picture 7" descr="экология 051"/>
          <p:cNvPicPr/>
          <p:nvPr/>
        </p:nvPicPr>
        <p:blipFill>
          <a:blip r:embed="rId1"/>
          <a:stretch/>
        </p:blipFill>
        <p:spPr>
          <a:xfrm>
            <a:off x="0" y="4267080"/>
            <a:ext cx="3451320" cy="2590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экология 040.jpg"/>
          <p:cNvPicPr/>
          <p:nvPr/>
        </p:nvPicPr>
        <p:blipFill>
          <a:blip r:embed="rId2"/>
          <a:stretch/>
        </p:blipFill>
        <p:spPr>
          <a:xfrm>
            <a:off x="5181480" y="33526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экология 093"/>
          <p:cNvPicPr/>
          <p:nvPr/>
        </p:nvPicPr>
        <p:blipFill>
          <a:blip r:embed="rId3"/>
          <a:stretch/>
        </p:blipFill>
        <p:spPr>
          <a:xfrm>
            <a:off x="2362320" y="19051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3059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Monotype Corsiva"/>
              </a:rPr>
              <a:t>Дети выполняют разнообразные трудовые задания. С 6 – 7 лет доступны довольно сложные способы ухода за животными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Picture 7" descr="экология 071"/>
          <p:cNvPicPr/>
          <p:nvPr/>
        </p:nvPicPr>
        <p:blipFill>
          <a:blip r:embed="rId1"/>
          <a:stretch/>
        </p:blipFill>
        <p:spPr>
          <a:xfrm>
            <a:off x="0" y="205740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экология 074.jpg"/>
          <p:cNvPicPr/>
          <p:nvPr/>
        </p:nvPicPr>
        <p:blipFill>
          <a:blip r:embed="rId2"/>
          <a:stretch/>
        </p:blipFill>
        <p:spPr>
          <a:xfrm rot="1074600">
            <a:off x="5264280" y="2006640"/>
            <a:ext cx="3555720" cy="266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экология 082"/>
          <p:cNvPicPr/>
          <p:nvPr/>
        </p:nvPicPr>
        <p:blipFill>
          <a:blip r:embed="rId3"/>
          <a:stretch/>
        </p:blipFill>
        <p:spPr>
          <a:xfrm>
            <a:off x="3276720" y="3828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5" descr="экология 075.jpg"/>
          <p:cNvPicPr/>
          <p:nvPr/>
        </p:nvPicPr>
        <p:blipFill>
          <a:blip r:embed="rId1"/>
          <a:stretch/>
        </p:blipFill>
        <p:spPr>
          <a:xfrm rot="477600">
            <a:off x="5603760" y="2432160"/>
            <a:ext cx="3381480" cy="253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MG_1267"/>
          <p:cNvPicPr/>
          <p:nvPr/>
        </p:nvPicPr>
        <p:blipFill>
          <a:blip r:embed="rId2"/>
          <a:stretch/>
        </p:blipFill>
        <p:spPr>
          <a:xfrm rot="20767800">
            <a:off x="231840" y="2238120"/>
            <a:ext cx="3068640" cy="2305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Monotype Corsiva"/>
              </a:rPr>
              <a:t>Во время циклических наблюдений дети научились видеть вокруг себя интересное, наблюдать за растениями и животными, делать простейшие умозаключения, различать живые и неживые объекты природы, понимать их  взаимосвязь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Рисунок 6" descr="IMG_1294.jpg"/>
          <p:cNvPicPr/>
          <p:nvPr/>
        </p:nvPicPr>
        <p:blipFill>
          <a:blip r:embed="rId3"/>
          <a:stretch/>
        </p:blipFill>
        <p:spPr>
          <a:xfrm>
            <a:off x="685800" y="4495680"/>
            <a:ext cx="3471840" cy="236232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1" descr="экология 040.jpg"/>
          <p:cNvPicPr/>
          <p:nvPr/>
        </p:nvPicPr>
        <p:blipFill>
          <a:blip r:embed="rId4"/>
          <a:stretch/>
        </p:blipFill>
        <p:spPr>
          <a:xfrm>
            <a:off x="4343400" y="464832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3" descr="экология 084.jpg"/>
          <p:cNvPicPr/>
          <p:nvPr/>
        </p:nvPicPr>
        <p:blipFill>
          <a:blip r:embed="rId5"/>
          <a:stretch/>
        </p:blipFill>
        <p:spPr>
          <a:xfrm>
            <a:off x="3124080" y="2514600"/>
            <a:ext cx="2946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MD User</cp:lastModifiedBy>
  <dcterms:modified xsi:type="dcterms:W3CDTF">2012-06-14T19:33:04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