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C97-8029-47E4-AF38-D76BA6E7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B6B-D063-444D-9687-C2E84911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9D6-EF07-419A-A8E7-503B9DF5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DD9-47A7-4A9A-879A-FC8720C8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E756-7328-46A5-B621-2FE28965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536B-44DB-4CE2-AA53-7EF13D87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49B1-240A-4B65-AB26-BD18AA3A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594B-B54B-4158-B2DE-4AE61452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52C4-263B-4ECA-92D4-864005CA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8563-8B52-46CB-820B-C42433CA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04FD-0678-457A-BC9D-9FE128FF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A03-A5D9-486A-BD46-B588FC71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CD38-41D7-4A1D-A950-95979EDD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283D-BB06-41D5-8B5E-962934B1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7321-2AE4-4088-B02F-E6190A5C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0FA5-3ACA-4149-9F99-537754DB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0E60-BFA8-4585-9456-9022B05C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A76-BC70-43F0-AB69-846B4798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0FF-DD61-46F9-8D74-55775D59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196C-770C-4603-88AF-BF4DFA09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DD7F-0076-47BA-803A-EFECFE36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A54-0E80-443F-AA3F-2D74A70C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73A-FE82-4443-A0C1-78A2B11E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51B-D887-489D-89D7-643B0A59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EF46-FF1B-4622-9143-A51DF4118B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5DBD-A883-4010-843B-FEEA1450AF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РОДИТЕЛЬСКОЕ СОБРАНИЕ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Идеальные родители глазами детей, идеальный ребенок глазами родите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можно меньше злиться и ворчать друг на друг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поводу и без пов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" descr="2161739[1]"/>
          <p:cNvPicPr/>
          <p:nvPr/>
        </p:nvPicPr>
        <p:blipFill>
          <a:blip r:embed="rId1"/>
          <a:stretch/>
        </p:blipFill>
        <p:spPr>
          <a:xfrm>
            <a:off x="5003640" y="1628640"/>
            <a:ext cx="33894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5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е увлекаться критикой;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енькому и большому человеку гораздо приятнее узнавать о себе как о хорошем человеке, чем как о плох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7" descr="23140157[1]"/>
          <p:cNvPicPr/>
          <p:nvPr/>
        </p:nvPicPr>
        <p:blipFill>
          <a:blip r:embed="rId1"/>
          <a:stretch/>
        </p:blipFill>
        <p:spPr>
          <a:xfrm>
            <a:off x="900000" y="1484280"/>
            <a:ext cx="31640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стоянно демонстрировать внимание своим родным и близким людям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лько в таком случае можно рассчитывать на ответное вним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LOGO050"/>
          <p:cNvPicPr/>
          <p:nvPr/>
        </p:nvPicPr>
        <p:blipFill>
          <a:blip r:embed="rId1"/>
          <a:stretch/>
        </p:blipFill>
        <p:spPr>
          <a:xfrm>
            <a:off x="900000" y="2133720"/>
            <a:ext cx="32464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олько добрый пример отца и матери может дать добрые всходы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6" descr="006ic[1]"/>
          <p:cNvPicPr/>
          <p:nvPr/>
        </p:nvPicPr>
        <p:blipFill>
          <a:blip r:embed="rId1"/>
          <a:stretch/>
        </p:blipFill>
        <p:spPr>
          <a:xfrm>
            <a:off x="3059280" y="2276640"/>
            <a:ext cx="2644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доровья Вам и удачи в воспитании ваших детей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Picture 5" descr="Облако"/>
          <p:cNvPicPr/>
          <p:nvPr/>
        </p:nvPicPr>
        <p:blipFill>
          <a:blip r:embed="rId1"/>
          <a:stretch/>
        </p:blipFill>
        <p:spPr>
          <a:xfrm>
            <a:off x="2195640" y="2060640"/>
            <a:ext cx="496224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 первыми осенними каникулам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Picture 5" descr="IMG_2109"/>
          <p:cNvPicPr/>
          <p:nvPr/>
        </p:nvPicPr>
        <p:blipFill>
          <a:blip r:embed="rId1"/>
          <a:stretch/>
        </p:blipFill>
        <p:spPr>
          <a:xfrm>
            <a:off x="0" y="1557360"/>
            <a:ext cx="4325760" cy="3244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IMG_2110"/>
          <p:cNvPicPr/>
          <p:nvPr/>
        </p:nvPicPr>
        <p:blipFill>
          <a:blip r:embed="rId2"/>
          <a:stretch/>
        </p:blipFill>
        <p:spPr>
          <a:xfrm>
            <a:off x="4500720" y="3213000"/>
            <a:ext cx="44226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одительское собрание подготовлено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ем математики МОУ Львовская СОШ № 4 Подольского райо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летовой Надеждой Викторов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мья – один из шедевров природы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     Д.И. Писаре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5" descr="x_1c1eedc7"/>
          <p:cNvPicPr/>
          <p:nvPr/>
        </p:nvPicPr>
        <p:blipFill>
          <a:blip r:embed="rId1"/>
          <a:stretch/>
        </p:blipFill>
        <p:spPr>
          <a:xfrm>
            <a:off x="1979640" y="1916280"/>
            <a:ext cx="499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редко ребенок бывает таким, как нам хочется…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         Януш Корчак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5" descr="x_a549993e"/>
          <p:cNvPicPr/>
          <p:nvPr/>
        </p:nvPicPr>
        <p:blipFill>
          <a:blip r:embed="rId1"/>
          <a:stretch/>
        </p:blipFill>
        <p:spPr>
          <a:xfrm>
            <a:off x="1835280" y="1989000"/>
            <a:ext cx="57528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eec94"/>
                </a:solidFill>
                <a:latin typeface="Times New Roman"/>
              </a:rPr>
              <a:t>Тест «Какие мы родители»</a:t>
            </a:r>
            <a:br>
              <a:rPr sz="16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Часто ли вы задумываетесь над тем, хорошие ли вы родители </a:t>
            </a:r>
            <a:br>
              <a:rPr sz="16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для наших детей и справляетесь ли вы со своими обязанностями воспитателей?</a:t>
            </a:r>
            <a:br>
              <a:rPr sz="1600"/>
            </a:br>
            <a:r>
              <a:rPr b="1" i="1" lang="ru-RU" sz="1600" spc="-1" strike="noStrike">
                <a:solidFill>
                  <a:srgbClr val="feec94"/>
                </a:solidFill>
                <a:latin typeface="Times New Roman"/>
              </a:rPr>
              <a:t>Итак, какие вы родители? Проверьте себя, ответив на вопросы:</a:t>
            </a: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feec94"/>
                </a:solidFill>
                <a:uFillTx/>
                <a:latin typeface="Times New Roman"/>
              </a:rPr>
              <a:t>да, нет, иногда.</a:t>
            </a:r>
            <a:endParaRPr b="1" lang="en-US" sz="1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. Следите ли вы за статьями в журналах, программами по телевидению и радио на эту тему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. Единодушны ли вы с вашим супругом в воспитании детей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. Если ребенок предлагает вам помощь, примите ли вы ее, даже если при этом дело может задержаться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. Ваш ребенок совершил проступок. Задумаетесь ли вы в таком случае, не является ли его поведение результатом вашего воспитания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. Используете ли вы формулу запрета или приказа только тогда, когда это действительно необходимо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Считаете ли вы что последовательность, есть один из педагогических принципов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7. Сознаете ли вы, что среда, окружающая ребенка, оказывает на него существенное влияни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8. Признаете ли вы, что спорт и физкультура имеют большое значение для гармоничного развития ребенка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9. Сумеете ли вы не приказать, а попросить о чем-либо своего ребенка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0. Неприятно ли вам «отделываться» от ребенка фразой типа: «У меня нет времени» или «Подожди, пока я закончу работу»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eec94"/>
                </a:solidFill>
                <a:latin typeface="Times New Roman"/>
              </a:rPr>
              <a:t>Ключ к тесту.</a:t>
            </a:r>
            <a:br>
              <a:rPr sz="2000"/>
            </a:br>
            <a:r>
              <a:rPr b="1" i="1" lang="ru-RU" sz="2000" spc="-1" strike="noStrike">
                <a:solidFill>
                  <a:srgbClr val="feec94"/>
                </a:solidFill>
                <a:latin typeface="Times New Roman"/>
              </a:rPr>
              <a:t>За каждый положительный ответ припишите себе 2 очка, за ответ «Иногда» и отрицательный – 0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Менее 6 оч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 настоящем воспитании вы имеете довольно смутное представление. И хотя говорят, что начать ни когда не поздно, советуем вам не уповать на эту поговорку и не мешкая заняться повышением образования в этой обла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т 7 до 14 оч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 не делаете крупны ошибок в воспитании, но все же кое в чем над собой и своими итогами в этой области следовало бы задумать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начать можно с того, что ближайший выходной полностью посвятить детям, забыв на время приятелей и производственные пробл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будьте уверены, дети вас за это полностью вознаградя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Более 15 оч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 вполне справляетесь со своими родительскими обязанностями. И тем не менее не останавливайтесь на достигнут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Идеальный ребенок (по мнению опрошенных родителей)– это ребенок, который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ушается во всем своих родителе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полняет все то, что ему поручают в школе и дом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могает старшим братьям и сестрам и взрослым, не обижает младши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меет отвечать за свои поступ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мостоятелен и активен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еет друзей и дорожит им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любой ситуации всегда говорит правд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рожит своей семьей , родными и близкими ему людьми, бережно относится к своим родителям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еет в доме свои обязанности и ответственно к ним относитс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ет материальные возможности семьи и старается их придерживатьс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меет и хочет трудиться, с раннего детства определяет, чего он хочет добиться в жиз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деальными родителями (из 100 опрошенных учащихся) считают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имают своих детей (78 учащихс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ят своих детей (60 учащихс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могают решать проблемы (23 учащихс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кричат на своих детей (60 учащихс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товы к тому, чтобы всегда выслушать и поддержать своих детей (82 учащихс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читают нотации (20 учащихс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пьют (18 учащихся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то исследование показало,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зачастую то, что значимо для взрослых в воспитании их детей, совершенно не значимо в понимании ребе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thumb_Img_404[1]"/>
          <p:cNvPicPr/>
          <p:nvPr/>
        </p:nvPicPr>
        <p:blipFill>
          <a:blip r:embed="rId1"/>
          <a:stretch/>
        </p:blipFill>
        <p:spPr>
          <a:xfrm>
            <a:off x="4572000" y="1628640"/>
            <a:ext cx="438624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ля этого достаточно всем членам семьи выполнят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едующие очень простые правила, которые, однако, требуют определенных усилий от всех членов семь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10" descr="1254827454_demotivator067[1]"/>
          <p:cNvPicPr/>
          <p:nvPr/>
        </p:nvPicPr>
        <p:blipFill>
          <a:blip r:embed="rId1"/>
          <a:stretch/>
        </p:blipFill>
        <p:spPr>
          <a:xfrm>
            <a:off x="4500720" y="1557360"/>
            <a:ext cx="440676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7:11:34Z</dcterms:created>
  <dc:creator>Головко (Астанаева)</dc:creator>
  <dc:description/>
  <dc:language>en-US</dc:language>
  <cp:lastModifiedBy>Денис</cp:lastModifiedBy>
  <dcterms:modified xsi:type="dcterms:W3CDTF">2011-03-12T14:46:13Z</dcterms:modified>
  <cp:revision>22</cp:revision>
  <dc:subject/>
  <dc:title>РОДИТЕЛЬСКОЕ СОБРАНИЕ</dc:title>
</cp:coreProperties>
</file>