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327-7449-45D1-9BA8-45F7A166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7ED-4261-4A89-BECD-53650DA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5A1-DBC7-4082-AB56-B3D4F26B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E4D-9A09-4F0C-AEC7-1160449B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6B26-1093-42D7-9392-A17739CA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1368-0EC2-42CC-9AD0-867A183C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16B6-233A-4CF1-A1AC-6BF5BF52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5475-5279-4C1B-A63E-3890BD50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AE1-223E-4DB7-98DC-D06C6926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20F3-30C3-4AEE-ACB5-6FEC670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2AC-12B0-4EFF-9B4D-5230ED9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49A2-E72F-4048-A76E-518CD68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096-53C1-4396-97D8-DDF623CA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6DBC-5C8A-4011-9965-88F8258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977C-9DD1-4EC9-9681-DF0668ED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8665-B17E-4FDE-B733-A676D47C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9205-FE7C-4686-8691-3F80F0B0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81A-5DA3-4CF7-B03C-E70ADDDF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80E-6AE7-4079-99FD-EF1CBAF4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0B8-1B79-4B88-BD0A-CE62BEDA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D8C-CBBB-43BA-A510-B5C74D9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E27-4E0E-4B71-A3FA-3850100A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42A-D773-4ED1-87FD-041529D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10A-52BC-42F5-9916-F287FDC1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FFFA-F198-43C9-A8E3-49CA8B1AC5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FA4B-0206-4CB0-99B9-B557EEC0F2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РОДИТЕЛЬСКОЕ СОБРАНИЕ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Times New Roman"/>
              </a:rPr>
              <a:t>Идеальные родители глазами детей, идеальный ребенок глазами роди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можно меньше злиться и ворчать друг на друг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поводу и без пов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2161739[1]"/>
          <p:cNvPicPr/>
          <p:nvPr/>
        </p:nvPicPr>
        <p:blipFill>
          <a:blip r:embed="rId1"/>
          <a:stretch/>
        </p:blipFill>
        <p:spPr>
          <a:xfrm>
            <a:off x="5003640" y="1628640"/>
            <a:ext cx="33894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е увлекаться критикой;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нькому и большому человеку гораздо приятнее узнавать о себе как о хорошем человеке, чем как о плох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7" descr="23140157[1]"/>
          <p:cNvPicPr/>
          <p:nvPr/>
        </p:nvPicPr>
        <p:blipFill>
          <a:blip r:embed="rId1"/>
          <a:stretch/>
        </p:blipFill>
        <p:spPr>
          <a:xfrm>
            <a:off x="900000" y="1484280"/>
            <a:ext cx="31640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стоянно демонстрировать внимание своим родным и близким людям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лько в таком случае можно рассчитывать на ответное вним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LOGO050"/>
          <p:cNvPicPr/>
          <p:nvPr/>
        </p:nvPicPr>
        <p:blipFill>
          <a:blip r:embed="rId1"/>
          <a:stretch/>
        </p:blipFill>
        <p:spPr>
          <a:xfrm>
            <a:off x="900000" y="2133720"/>
            <a:ext cx="3246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олько добрый пример отца и матери может дать добрые всходы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006ic[1]"/>
          <p:cNvPicPr/>
          <p:nvPr/>
        </p:nvPicPr>
        <p:blipFill>
          <a:blip r:embed="rId1"/>
          <a:stretch/>
        </p:blipFill>
        <p:spPr>
          <a:xfrm>
            <a:off x="3059280" y="2276640"/>
            <a:ext cx="26445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доровья Вам и удачи в воспитании ваших детей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5" descr="Облако"/>
          <p:cNvPicPr/>
          <p:nvPr/>
        </p:nvPicPr>
        <p:blipFill>
          <a:blip r:embed="rId1"/>
          <a:stretch/>
        </p:blipFill>
        <p:spPr>
          <a:xfrm>
            <a:off x="2195640" y="2060640"/>
            <a:ext cx="49622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 первыми осенними каникулам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5" descr="IMG_2109"/>
          <p:cNvPicPr/>
          <p:nvPr/>
        </p:nvPicPr>
        <p:blipFill>
          <a:blip r:embed="rId1"/>
          <a:stretch/>
        </p:blipFill>
        <p:spPr>
          <a:xfrm>
            <a:off x="0" y="1557360"/>
            <a:ext cx="4325760" cy="324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MG_2110"/>
          <p:cNvPicPr/>
          <p:nvPr/>
        </p:nvPicPr>
        <p:blipFill>
          <a:blip r:embed="rId2"/>
          <a:stretch/>
        </p:blipFill>
        <p:spPr>
          <a:xfrm>
            <a:off x="4500720" y="3213000"/>
            <a:ext cx="442260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одительское собрание подготовлено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ем математики МОУ Львовская СОШ № 4 Подольского райо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летовой Надеждой Викторов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ья – один из шедевров природы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Д.И. Писаре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5" descr="x_1c1eedc7"/>
          <p:cNvPicPr/>
          <p:nvPr/>
        </p:nvPicPr>
        <p:blipFill>
          <a:blip r:embed="rId1"/>
          <a:stretch/>
        </p:blipFill>
        <p:spPr>
          <a:xfrm>
            <a:off x="1979640" y="1916280"/>
            <a:ext cx="499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редко ребенок бывает таким, как нам хочется…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                      Януш Корчак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5" descr="x_a549993e"/>
          <p:cNvPicPr/>
          <p:nvPr/>
        </p:nvPicPr>
        <p:blipFill>
          <a:blip r:embed="rId1"/>
          <a:stretch/>
        </p:blipFill>
        <p:spPr>
          <a:xfrm>
            <a:off x="1835280" y="1989000"/>
            <a:ext cx="57528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eec94"/>
                </a:solidFill>
                <a:latin typeface="Times New Roman"/>
              </a:rPr>
              <a:t>Тест «Какие мы родители»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Часто ли вы задумываетесь над тем, хорошие ли вы родители </a:t>
            </a:r>
            <a:br>
              <a:rPr sz="1600"/>
            </a:b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для наших детей и справляетесь ли вы со своими обязанностями воспитателей?</a:t>
            </a:r>
            <a:br>
              <a:rPr sz="1600"/>
            </a:br>
            <a:r>
              <a:rPr b="1" i="1" lang="ru-RU" sz="1600" spc="-1" strike="noStrike">
                <a:solidFill>
                  <a:srgbClr val="feec94"/>
                </a:solidFill>
                <a:latin typeface="Times New Roman"/>
              </a:rPr>
              <a:t>Итак, какие вы родители? Проверьте себя, ответив на вопросы:</a:t>
            </a:r>
            <a:r>
              <a:rPr b="1" lang="ru-RU" sz="1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feec94"/>
                </a:solidFill>
                <a:uFillTx/>
                <a:latin typeface="Times New Roman"/>
              </a:rPr>
              <a:t>да, нет, иногда.</a:t>
            </a:r>
            <a:endParaRPr b="1" lang="en-US" sz="1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. Следите ли вы за статьями в журналах, программами по телевидению и радио на эту тему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Единодушны ли вы с вашим супругом в воспитании детей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Если ребенок предлагает вам помощь, примите ли вы ее, даже если при этом дело может задержаться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. Ваш ребенок совершил проступок. Задумаетесь ли вы в таком случае, не является ли его поведение результатом вашего воспитания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Используете ли вы формулу запрета или приказа только тогда, когда это действительно необходимо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Считаете ли вы что последовательность, есть один из педагогических принципов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Сознаете ли вы, что среда, окружающая ребенка, оказывает на него существенное влияние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8. Признаете ли вы, что спорт и физкультура имеют большое значение для гармоничного развития ребен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9. Сумеете ли вы не приказать, а попросить о чем-либо своего ребенка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0. Неприятно ли вам «отделываться» от ребенка фразой типа: «У меня нет времени» или «Подожди, пока я закончу работу»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Ключ к тесту.</a:t>
            </a:r>
            <a:br>
              <a:rPr sz="2000"/>
            </a:br>
            <a:r>
              <a:rPr b="1" i="1" lang="ru-RU" sz="2000" spc="-1" strike="noStrike">
                <a:solidFill>
                  <a:srgbClr val="feec94"/>
                </a:solidFill>
                <a:latin typeface="Times New Roman"/>
              </a:rPr>
              <a:t>За каждый положительный ответ припишите себе 2 очка, за ответ «Иногда» и отрицательный – 0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Менее 6 оч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 настоящем воспитании вы имеете довольно смутное представление. И хотя говорят, что начать ни когда не поздно, советуем вам не уповать на эту поговорку и не мешкая заняться повышением образования в этой обла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От 7 до 14 оч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 не делаете крупны ошибок в воспитании, но все же кое в чем над собой и своими итогами в этой области следовало бы задумать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 начать можно с того, что ближайший выходной полностью посвятить детям, забыв на время приятелей и производственные пробл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будьте уверены, дети вас за это полностью вознаградя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Более 15 оч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 вполне справляетесь со своими родительскими обязанностями. И тем не менее не останавливайтесь на достигнут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деальный ребенок (по мнению опрошенных родителей)– это ребенок, который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ушается во всем своих родителе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олняет все то, что ему поручают в школе и дом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могает старшим братьям и сестрам и взрослым, не обижает младши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ет отвечать за свои поступ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мостоятелен и активен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ет друзей и дорожит и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любой ситуации всегда говорит правду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ожит своей семьей , родными и близкими ему людьми, бережно относится к своим родителям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еет в доме свои обязанности и ответственно к ним относит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ет материальные возможности семьи и старается их придерживатьс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меет и хочет трудиться, с раннего детства определяет, чего он хочет добиться в жиз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деальными родителями (из 100 опрошенных учащихся) считаю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имают своих детей (78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ят своих детей (60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гают решать проблемы (23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кричат на своих детей (60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ы к тому, чтобы всегда выслушать и поддержать своих детей (82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читают нотации (20 учащихся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пьют (18 учащихся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о исследование показало,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зачастую то, что значимо для взрослых в воспитании их детей, совершенно не значимо в понимании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7" descr="thumb_Img_404[1]"/>
          <p:cNvPicPr/>
          <p:nvPr/>
        </p:nvPicPr>
        <p:blipFill>
          <a:blip r:embed="rId1"/>
          <a:stretch/>
        </p:blipFill>
        <p:spPr>
          <a:xfrm>
            <a:off x="4572000" y="1628640"/>
            <a:ext cx="438624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ля этого достаточно всем членам семьи выполнят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едующие очень простые правила, которые, однако, требуют определенных усилий от всех членов семь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10" descr="1254827454_demotivator067[1]"/>
          <p:cNvPicPr/>
          <p:nvPr/>
        </p:nvPicPr>
        <p:blipFill>
          <a:blip r:embed="rId1"/>
          <a:stretch/>
        </p:blipFill>
        <p:spPr>
          <a:xfrm>
            <a:off x="4500720" y="1557360"/>
            <a:ext cx="440676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7:11:34Z</dcterms:created>
  <dc:creator>Головко (Астанаева)</dc:creator>
  <dc:description/>
  <dc:language>en-US</dc:language>
  <cp:lastModifiedBy>Денис</cp:lastModifiedBy>
  <dcterms:modified xsi:type="dcterms:W3CDTF">2011-03-12T14:46:13Z</dcterms:modified>
  <cp:revision>22</cp:revision>
  <dc:subject/>
  <dc:title>РОДИТЕЛЬСКОЕ СОБРАНИЕ</dc:title>
</cp:coreProperties>
</file>