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4CC-931F-4920-A381-20419459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F85-0591-4E89-A0CB-80D0BA2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277-354B-4E59-960D-6AF6814A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2E4-AEF8-41A0-BB78-67FBAE01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827-7EF5-4DBC-A25D-04E6392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EC7-EF6A-4F23-A42B-46AA16E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69E-75DB-42A0-A113-6174BDE3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6DC-F89C-4739-A69C-C938C329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5DB-85E5-4E85-A654-BBB4FB85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ECA-4988-465D-AD2F-93B5800A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F46-C2A1-4A30-B7F0-88513D03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7D3-FC69-47D8-847F-7CBD4D2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C7E4-33D5-4E8F-969A-40AF0D475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ISOCTEUR"/>
              </a:rPr>
              <a:t>Игра «Звездный ча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600" y="2786040"/>
            <a:ext cx="8072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ISOCTEUR"/>
              </a:rPr>
              <a:t>Тема: «Линейная функц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ISOCTEUR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14720" y="578628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ISOCTEUR"/>
              </a:rPr>
              <a:t>Учитель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математики Львовской СОШ №4 Подоль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осковской области: Билет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Ноябрь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ие точки принадлежат графику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 0,5 Х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. А (-1; 0)                  2. В (-2; 2,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3. С (-2; 0)                  4.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(0;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6215040" y="57150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040" y="1643040"/>
            <a:ext cx="8229600" cy="30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и каком значении Х значение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 0,5 Х + 1                 равно 5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 =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 = -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 = - 9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715000" y="500076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твет: 2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6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2142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азовите функции, графики которы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) параллель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б) пересекаются в одной точке?  Каковы ее координа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 2Х – 1, У = - 2Х – 3,5, У = - 2Х +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2. У = - 0,5Х, У = 0,5Х – 3, У = 1,5Х +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⅓Х – 4, У = ⅓Х – 4, У = 3Х 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500720" y="5288040"/>
            <a:ext cx="43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) 1;     б) 3 (0; 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Задайте формулой линейную функцию, график которой параллелен прям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 8Х + 1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 проходит через начало координ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3714840" y="47862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твет: У = - 8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ФИН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ставьте наибольшее количество слов из букв, образующих сл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КООРДИНА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71680" y="435780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р, ад, корт, кора, картина, кордон, код, крот, дата, дина, док, рок, рада, рак, рака, род, родина, тина, тор, тон, ор, орда, ординат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одведение итог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Прямоугольник 3" descr=""/>
          <p:cNvPicPr/>
          <p:nvPr/>
        </p:nvPicPr>
        <p:blipFill>
          <a:blip r:embed="rId1"/>
          <a:stretch/>
        </p:blipFill>
        <p:spPr>
          <a:xfrm>
            <a:off x="2919240" y="1517760"/>
            <a:ext cx="473724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общение знаний учащихся по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Оборудован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исунки с граф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Цифры 1,2,3,4,5 у каждого учас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убики с буквами            К, Ф, А, Т, Р, И, Г,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узыкальное  сопровожд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71680" y="2071440"/>
            <a:ext cx="7929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ISOCTEUR"/>
              </a:rPr>
              <a:t>«ДА ПУТЬ ПОЗНАНИЯ НЕ ГЛАД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ISOCTEUR"/>
              </a:rPr>
              <a:t>НО ЗНАЕМ МЫ СО ШКОЛЬНЫХ Л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ISOCTEUR"/>
              </a:rPr>
              <a:t>ЗАГАДОК  БОЛЬШЕ ЧЕМ РАЗГАД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ISOCTEUR"/>
              </a:rPr>
              <a:t>И ПОИСКАМ ПРЕДЕЛА НЕТ!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ISOCTEUR"/>
              </a:rPr>
              <a:t>1 ту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ISOCTE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За правильный ответ – 5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ISOCTE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При ошибке помощника – 4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ISOCTE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при ошибке участника – 3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00040" y="507204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Ответьте на вопросы по рису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782640" y="1184400"/>
          <a:ext cx="2860560" cy="310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118440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3500280" y="1112760"/>
          <a:ext cx="2860920" cy="3102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1112760"/>
                    <a:ext cx="286092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4"/>
          <p:cNvGraphicFramePr/>
          <p:nvPr/>
        </p:nvGraphicFramePr>
        <p:xfrm>
          <a:off x="6215040" y="1184400"/>
          <a:ext cx="2860560" cy="3101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5040" y="118440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5"/>
          <p:cNvGraphicFramePr/>
          <p:nvPr/>
        </p:nvGraphicFramePr>
        <p:xfrm>
          <a:off x="1357200" y="3728880"/>
          <a:ext cx="2814840" cy="305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7200" y="3728880"/>
                    <a:ext cx="2814840" cy="30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7"/>
          <p:cNvGraphicFramePr/>
          <p:nvPr/>
        </p:nvGraphicFramePr>
        <p:xfrm>
          <a:off x="3857760" y="3643200"/>
          <a:ext cx="2957400" cy="3014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7760" y="3643200"/>
                    <a:ext cx="29574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Box 20"/>
          <p:cNvSpPr/>
          <p:nvPr/>
        </p:nvSpPr>
        <p:spPr>
          <a:xfrm>
            <a:off x="857160" y="170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5786280" y="164304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8429760" y="1643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1285920" y="4572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6786720" y="4572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143160" y="5572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3214800" y="2643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8572680" y="2643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5929200" y="2643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3786120" y="54165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6858000" y="5345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6929280" y="150012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1571760" y="14875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2286000" y="3844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4214880" y="1500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5072040" y="3857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График какой функции лишний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каком рисунке изображен график прямой пропорциональности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каком рисунке показано лишнее условие постро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каком рисунке у графика линейной функции отрицательный коэффици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6"/>
          <p:cNvSpPr/>
          <p:nvPr/>
        </p:nvSpPr>
        <p:spPr>
          <a:xfrm>
            <a:off x="7786800" y="5143680"/>
            <a:ext cx="114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ISOCTEUR"/>
              </a:rPr>
              <a:t>2 ту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ISOCTEUR"/>
              </a:rPr>
              <a:t>Из предложенных букв составьте длинное слово по тем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Рамка 3"/>
          <p:cNvSpPr/>
          <p:nvPr/>
        </p:nvSpPr>
        <p:spPr>
          <a:xfrm>
            <a:off x="1000080" y="3143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мка 5"/>
          <p:cNvSpPr/>
          <p:nvPr/>
        </p:nvSpPr>
        <p:spPr>
          <a:xfrm>
            <a:off x="2871720" y="3143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амка 6"/>
          <p:cNvSpPr/>
          <p:nvPr/>
        </p:nvSpPr>
        <p:spPr>
          <a:xfrm>
            <a:off x="2928960" y="47862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амка 7"/>
          <p:cNvSpPr/>
          <p:nvPr/>
        </p:nvSpPr>
        <p:spPr>
          <a:xfrm>
            <a:off x="5014800" y="47862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мка 8"/>
          <p:cNvSpPr/>
          <p:nvPr/>
        </p:nvSpPr>
        <p:spPr>
          <a:xfrm>
            <a:off x="6943680" y="47862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мка 9"/>
          <p:cNvSpPr/>
          <p:nvPr/>
        </p:nvSpPr>
        <p:spPr>
          <a:xfrm>
            <a:off x="4943520" y="31575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мка 10"/>
          <p:cNvSpPr/>
          <p:nvPr/>
        </p:nvSpPr>
        <p:spPr>
          <a:xfrm>
            <a:off x="6943680" y="3143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мка 11"/>
          <p:cNvSpPr/>
          <p:nvPr/>
        </p:nvSpPr>
        <p:spPr>
          <a:xfrm>
            <a:off x="1085760" y="47862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1143000" y="32860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143000" y="4929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7153200" y="4956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072040" y="4929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3000240" y="4857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2928960" y="3357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5072040" y="32860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9"/>
          <p:cNvSpPr/>
          <p:nvPr/>
        </p:nvSpPr>
        <p:spPr>
          <a:xfrm>
            <a:off x="7072200" y="32860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6143760" y="60721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ISOCTEUR"/>
              </a:rPr>
              <a:t>3 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71440"/>
            <a:ext cx="822960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опрос № 1. Какие из рисунков нужно переставить, чтобы последовательность изучения функций не нарушала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3143160" y="3214800"/>
          <a:ext cx="2860920" cy="310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3214800"/>
                    <a:ext cx="286092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285840" y="3286080"/>
          <a:ext cx="2814480" cy="3057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3286080"/>
                    <a:ext cx="28144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2"/>
          <p:cNvGraphicFramePr/>
          <p:nvPr/>
        </p:nvGraphicFramePr>
        <p:xfrm>
          <a:off x="6143760" y="3214800"/>
          <a:ext cx="2860560" cy="3101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321480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Box 20"/>
          <p:cNvSpPr/>
          <p:nvPr/>
        </p:nvSpPr>
        <p:spPr>
          <a:xfrm>
            <a:off x="200016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4929120" y="3487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8072280" y="350028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14960" y="585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№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859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ченик допустил ошибку при построении графика одной из функций. На каком рисунке эта ошиб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285840" y="3286080"/>
          <a:ext cx="2814480" cy="30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3286080"/>
                    <a:ext cx="28144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3143160" y="3214800"/>
          <a:ext cx="2860920" cy="3101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3214800"/>
                    <a:ext cx="286092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2"/>
          <p:cNvGraphicFramePr/>
          <p:nvPr/>
        </p:nvGraphicFramePr>
        <p:xfrm>
          <a:off x="6143760" y="3214800"/>
          <a:ext cx="2860560" cy="3101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321480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Box 20"/>
          <p:cNvSpPr/>
          <p:nvPr/>
        </p:nvSpPr>
        <p:spPr>
          <a:xfrm>
            <a:off x="200016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542916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8215200" y="36306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357120" y="61437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 = -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3429000" y="61437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 = ½ Х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358040" y="61437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 = 1,5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7072200" y="24289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857680" y="2357280"/>
          <a:ext cx="609912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2357280"/>
                    <a:ext cx="6099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Box 2"/>
          <p:cNvSpPr/>
          <p:nvPr/>
        </p:nvSpPr>
        <p:spPr>
          <a:xfrm>
            <a:off x="357120" y="1428840"/>
            <a:ext cx="2714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На рисунке изображены графики следующих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3 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- 3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Х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Под каким номером расположен график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- 3 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6000840" y="592920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Ответ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143000" y="285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Вопрос №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1:31:44Z</dcterms:created>
  <dc:creator>Денис</dc:creator>
  <dc:description/>
  <dc:language>en-US</dc:language>
  <cp:lastModifiedBy>Денис</cp:lastModifiedBy>
  <dcterms:modified xsi:type="dcterms:W3CDTF">2010-11-07T10:45:57Z</dcterms:modified>
  <cp:revision>13</cp:revision>
  <dc:subject/>
  <dc:title>Игра «Звездный час»</dc:title>
</cp:coreProperties>
</file>