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EBF-286E-46D8-AA6A-2257A2A1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66F-632F-4612-95D7-1235415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FB5-28A6-48D0-9B5D-3182A3B7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357-76C0-424D-89F7-454B9D53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08D-5640-46B3-8243-4B659555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93A-662E-45A7-B75E-49DCFFA8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F33-7A01-46E4-8A48-94506CBE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111-268B-44FA-82E7-D6610C4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8BD-1BAB-4521-9BFA-9A09D648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BFA-4C63-4C25-A06F-70280A0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4A7-6327-4C1E-BD9D-A3A7475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FA1-93D5-4F67-9739-2F25264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2210-BDDB-4F62-BB49-12893495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122560" cy="212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295360" cy="28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235584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20732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6:58:55Z</dcterms:created>
  <dc:creator>Алишер</dc:creator>
  <dc:description/>
  <dc:language>en-US</dc:language>
  <cp:lastModifiedBy>Алишер</cp:lastModifiedBy>
  <dcterms:modified xsi:type="dcterms:W3CDTF">2012-05-06T17:28:54Z</dcterms:modified>
  <cp:revision>2</cp:revision>
  <dc:subject/>
  <dc:title>Слайд 1</dc:title>
</cp:coreProperties>
</file>