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1F9-A25B-41BE-A721-92344E20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BCA-3EAA-4FF6-8056-3734D58A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4D1-099A-4B7E-A4D7-37E21CDF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1004-D389-4668-A068-F183FDF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989-20F6-4BE4-A274-878E9F38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091-8165-4FEA-91A3-B95C4A9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CF8-5D60-42C6-9F26-AB686B1B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F27-927E-42BD-8DC4-6A095EE8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AF3-2E49-4524-95CC-22DBF1D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20B-EA2B-4D91-80AB-0DB72354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90C-3812-4C67-9A12-C02D293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696-0EC6-4FDF-87BC-1C5CC309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21E2-4385-43BA-9AC8-723073A28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2122560" cy="2122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295360" cy="2881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235584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3645000"/>
            <a:ext cx="20732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6:58:55Z</dcterms:created>
  <dc:creator>Алишер</dc:creator>
  <dc:description/>
  <dc:language>en-US</dc:language>
  <cp:lastModifiedBy>Алишер</cp:lastModifiedBy>
  <dcterms:modified xsi:type="dcterms:W3CDTF">2012-05-06T17:28:54Z</dcterms:modified>
  <cp:revision>2</cp:revision>
  <dc:subject/>
  <dc:title>Слайд 1</dc:title>
</cp:coreProperties>
</file>