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07B-A9E0-447C-8E47-FC88653A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63A-701F-461B-8BD7-D1BC62BF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758-FB29-4005-B6E1-8698AD58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D66-CD72-42BD-B79A-0683E112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8FE5-1DF9-441B-961E-BE8A6180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7B36-F85D-4B85-BDE4-7CEB5B1F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DD78-9FF2-490D-A2E0-F0CB786D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82BE-3C3B-4EF9-9EDF-425788FD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8C47-69E9-4BB4-BAA2-1FFFAFE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0F71-71A4-43B7-B730-F5938CA9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0E4E-3B75-45C9-9017-C6E28A0B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9B88-A63B-42B0-A236-12049DF9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F42-63D5-4185-8883-685B567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C2E-CA7E-4A9D-985E-DC8757B4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6CD2-01F0-4B3D-B892-1B057B7D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5B97-B7E4-47D7-86E0-AD161A6B6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CFEA-4AAC-43E3-B7B0-DDA37D0B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BB5-D9B0-43EE-8530-0E50D06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12E-C054-432F-B1F7-5C0FC5A9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3D4-8B76-4793-983D-8585E893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47C-34BB-43BA-A8F0-0566C8BC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B0B-06B9-4EBC-9E31-E87D468F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019-1A1B-4FFB-B19A-D2467B62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4F0-2594-4A35-93F4-493C26FA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0FC-CF5F-4B20-B6D2-51BFA72BB60D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5EDB-27CE-40A1-88E0-CB1851FD155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85480" y="142560"/>
            <a:ext cx="84294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МУНИЦИПАЛЬНОЕ  БЮДЖЕТНОЕ  ДОШКОЛЬНОЕ  ОБРАЗОВАТЕЛЬНОЕ  УЧРЕЖДЕНИЕ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«ДЕТСКИЙ  САД№29 «РЯБИНУШКА»  КОМБИНИРОВАННОГО  ВИДА».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ПРОЕКТ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« ИГРУШ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(2  младшая  группа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Глазунова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Татьяна  Николаевн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Воспитатель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  квалификационной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        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категории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г.  Инта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4617b"/>
                </a:solidFill>
                <a:latin typeface="Tahoma"/>
              </a:rPr>
              <a:t>2012г.</a:t>
            </a: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Работа  с родителями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дбор игрушек для НОД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Анкетирование родителей по теме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Игровая  деятельность детей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0" name="Рисунок 3" descr="DSCN0365.JPG"/>
          <p:cNvPicPr/>
          <p:nvPr/>
        </p:nvPicPr>
        <p:blipFill>
          <a:blip r:embed="rId1"/>
          <a:stretch/>
        </p:blipFill>
        <p:spPr>
          <a:xfrm>
            <a:off x="2357280" y="2500200"/>
            <a:ext cx="47865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2. Практический этап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Образовательная  область   «Чтение  художественной  литературы»   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«Коммуникация»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1 .Развивать у детей интерес при рассматривании картин и иллюстраций. чтении стихов, бесед  об  игрушках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2 .Вовлекать детей в разговор во время рассматривания предметов, картин и иллюстраций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3 .Формировать умение вести диалог с педагогом, побуждать детей отвечать на вопросы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4.  Продолжать расширять и активизировать словарный запас детей.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5.  Знакомить детей с настольным театром Развивать умение  действовать с игрушкой при чтении стихов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6.  Учить детей читать наизусть  потешки и небольшие стихи  об  игрушках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7.  Воспитывать интонационную выразительность речи, умение сопереживать , проявлять сочувствие к проблемам героев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«Познание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Развивать у детей познавательно – исследовательский интерес, поощрять проведение  простейших  наблюдени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Знакомить детей со свойствами , качествами и функциональном назначении игрушек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 Учить сооружать и обыгрывать  постройки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объединять их  по сюжету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4. Развивать  умение с помощью воспитателя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инсценировать  и драматизировать   по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роизведениям  об игрушках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«Художественное  творчество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Развивать творческие способности детей в продуктивной деятельности (лепке, аппликации, рисовании.)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Обучать и закреплять навыки и умения   с детьми в художественном творчестве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Развивать эстетический вкус и мелкую моторику.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«Социализация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Поощрять участие детей в совместных играх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 Формировать ролевое взаимодействие в игре, развивать у детей умение включаться в игру сверстников, взаимодействовать в игре в соответствии с сюжетом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Поощрять попытки детей подбирать атрибуты и заместители для театрализованных игр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Образовательная  область  «Труд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Продолжать воспитывать желание участвовать в трудовой деятельност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Побуждать  детей к  самостоятельному выполнению поручений: убирать  после  игр  игрушки, строительный материа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Побуждать оказывать помощь взрослым, воспитывать бережное отношение к результатам их труда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42560"/>
            <a:ext cx="82296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Tahoma"/>
              </a:rPr>
              <a:t>Совместная деятельность с детьми:</a:t>
            </a:r>
            <a:endParaRPr b="0" lang="en-US" sz="1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Рассматривание  картин  из  серии «Мы  играем»: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Дети  играют  в кубики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Едем  в  автобусе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Едем  на  лошадке.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Чтение книг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стихи  А. Барто «Игруш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З.Александрова «Мой  ми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В.Сутеев «Кораблик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С. Капутикян «Маша  обедает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потешки  и др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астольный  театр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по  мотивам  детских  стихотворений  про игрушки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-Игра-инсценировка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«Матрёшкино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новоселье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Беседы: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оя  любимая  игру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Беседа  о  членах  семь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8" name="Рисунок 3" descr="DSCN0378.JPG"/>
          <p:cNvPicPr/>
          <p:nvPr/>
        </p:nvPicPr>
        <p:blipFill>
          <a:blip r:embed="rId1"/>
          <a:stretch/>
        </p:blipFill>
        <p:spPr>
          <a:xfrm>
            <a:off x="5286240" y="928800"/>
            <a:ext cx="2928960" cy="20714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DSCN0321.JPG"/>
          <p:cNvPicPr/>
          <p:nvPr/>
        </p:nvPicPr>
        <p:blipFill>
          <a:blip r:embed="rId2"/>
          <a:stretch/>
        </p:blipFill>
        <p:spPr>
          <a:xfrm>
            <a:off x="5214960" y="3786120"/>
            <a:ext cx="335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11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Игры  с  водой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«Из  чего же  сделаны  наши игруш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(опытно-исследовательская  деятельность)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- конструирование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о мотивам  стихотворений  А. Барто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( «Бычок» и « Самолёт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Зайка» и « Кораблик»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Игра-драматизация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о  произведению З. Александровой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ой  ми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 -  лепка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огрему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ирамид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аленькая  кукол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Самолёт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- рисование: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«Летят  самолёты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1" name="Рисунок 3" descr="DSCN0386.JPG"/>
          <p:cNvPicPr/>
          <p:nvPr/>
        </p:nvPicPr>
        <p:blipFill>
          <a:blip r:embed="rId1"/>
          <a:stretch/>
        </p:blipFill>
        <p:spPr>
          <a:xfrm>
            <a:off x="5929200" y="500040"/>
            <a:ext cx="3000600" cy="25002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DSCN0395.JPG"/>
          <p:cNvPicPr/>
          <p:nvPr/>
        </p:nvPicPr>
        <p:blipFill>
          <a:blip r:embed="rId2"/>
          <a:stretch/>
        </p:blipFill>
        <p:spPr>
          <a:xfrm>
            <a:off x="5143680" y="3143160"/>
            <a:ext cx="3571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-36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НОД- аппликация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Мячи  большие  и   маленькие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Башен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Неваля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Выставка  рисунков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Любимая  игрушк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Сюжетная  игра 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Кукла  заболела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оездка  на поезде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Подвижная  игра: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Лохматый  пёс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Самолёты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Хороводная  игра: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«Флажок» «Заинька…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«Подарки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Уборка игрушек в  игровом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уголке после совместных игр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Стирка  кукольного  белья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Мытьё  игрушек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4" name="Рисунок 3" descr="DSCN0451.JPG"/>
          <p:cNvPicPr/>
          <p:nvPr/>
        </p:nvPicPr>
        <p:blipFill>
          <a:blip r:embed="rId1"/>
          <a:stretch/>
        </p:blipFill>
        <p:spPr>
          <a:xfrm>
            <a:off x="3714840" y="857160"/>
            <a:ext cx="4000320" cy="3357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DSCN0409.JPG"/>
          <p:cNvPicPr/>
          <p:nvPr/>
        </p:nvPicPr>
        <p:blipFill>
          <a:blip r:embed="rId2"/>
          <a:stretch/>
        </p:blipFill>
        <p:spPr>
          <a:xfrm>
            <a:off x="4643280" y="4786200"/>
            <a:ext cx="3357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Развивающая среда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южетные  картины из  серии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«Мы  играем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Книги об  игрушках, иллюстрации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Набор  игрушек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троительный  материал,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матрёшки, музыка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хема  по  описанию  игрушки.    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8" name="Рисунок 3" descr="DSCN0418.JPG"/>
          <p:cNvPicPr/>
          <p:nvPr/>
        </p:nvPicPr>
        <p:blipFill>
          <a:blip r:embed="rId1"/>
          <a:stretch/>
        </p:blipFill>
        <p:spPr>
          <a:xfrm>
            <a:off x="5643720" y="2000160"/>
            <a:ext cx="2857320" cy="25005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DSCN0424.JPG"/>
          <p:cNvPicPr/>
          <p:nvPr/>
        </p:nvPicPr>
        <p:blipFill>
          <a:blip r:embed="rId2"/>
          <a:stretch/>
        </p:blipFill>
        <p:spPr>
          <a:xfrm>
            <a:off x="5357880" y="4643280"/>
            <a:ext cx="31431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Тип проекта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: воспитательны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Длительность проекта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: длительный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Проблема: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Ориентировать родителей на выбор игрушки и взаимодействие с ребенком в процессе игры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Цель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: Развивать интерес к различным видам игрушек, самостоятельность в  выборе игрушек, осуществлении задуманного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28760" y="35712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Таз  с  водой, стаканчики,  лейки, палочки ,  игрушки  из  разнообразного  материала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Игрушки:  деревянные, резиновые,  металлические, пластмассовые,  меховые, бумажные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Строительный  материал, иллюстрации к  стихам,  мелкие  игрушки(бычок, самолёт;  зайка и кораблик)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Игрушки  по тексту  произведения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Заместители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00040" y="4996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Пластилин, доски,  игрушки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Светло-серая  краска,   лист голубой  бумаги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грушки, заготовки  из  бумаги,  альбомные  листы.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Атрибуты  к  играм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грушка  собачки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Игрушки по тексту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хороводной игры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Фартуки, тряпочки, 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Таз  водой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2" name="Рисунок 3" descr="DSCN0456.JPG"/>
          <p:cNvPicPr/>
          <p:nvPr/>
        </p:nvPicPr>
        <p:blipFill>
          <a:blip r:embed="rId1"/>
          <a:stretch/>
        </p:blipFill>
        <p:spPr>
          <a:xfrm>
            <a:off x="4000680" y="2571840"/>
            <a:ext cx="36432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Работа  со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специалистам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Хореография: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Упр. «Скачем  на лошадке»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Пляска «Мишка  с куклой…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Песня  о  матрёшках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«Танец  матрёшек»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Игра  на деревянных  кубиках,  палочках,  ложках  для  развития  чувства  ритма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(  «Шумовой  оркестр»)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Хореография: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«Танец с  погремушками» 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Музыкальное: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Слушание  Чайковского «Болезнь куклы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Колыбельная Песня «Паровоз»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А. Филиппенко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Работа  с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родителям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9285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Памятка «Поговорите  с ребёнком».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Пополнить  групповую  библиотеку 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3. Помощь в подборе  иллюстраций  с изображением  игрушек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4. Приобрести  3-4х. местные  матрёшк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5. Анкетирование  родителе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6. Принести  семейные  фотографии.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-429120"/>
            <a:ext cx="822960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7. Создавать  дома  условия  для  экспериментирования  с игрушками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8. Пополнить  групповую  библиотеку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9. В  повседневной  жизни  использовать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игры  с  предметами  и  игрушками  разной  формы и величины.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0. Участие  в  выставке  рисунков «Любимая  игрушка»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1. Рекомендации «Играйте вместе с ребёнком»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2. Привлечь  к  оснащению  игровой  зоны(одежда  для  кукол)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3. Выполнять поручения взрослых. 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3.Заключительный этап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оздание в семье благоприятных  условий для игр детей, учитывая возраст и опыт  ребёнка, разделение по гендерному признаку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Совместная деятельность с детьми</a:t>
            </a: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Выставка «Игрушка своими руками»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одительское собрание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Игра- не забава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2" name="Рисунок 3" descr="DSCN0293.JPG"/>
          <p:cNvPicPr/>
          <p:nvPr/>
        </p:nvPicPr>
        <p:blipFill>
          <a:blip r:embed="rId1"/>
          <a:stretch/>
        </p:blipFill>
        <p:spPr>
          <a:xfrm>
            <a:off x="285840" y="3643200"/>
            <a:ext cx="3929040" cy="2500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4" descr="DSCN0292.JPG"/>
          <p:cNvPicPr/>
          <p:nvPr/>
        </p:nvPicPr>
        <p:blipFill>
          <a:blip r:embed="rId2"/>
          <a:stretch/>
        </p:blipFill>
        <p:spPr>
          <a:xfrm>
            <a:off x="4357800" y="3643200"/>
            <a:ext cx="414324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Работа с родителями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285560"/>
            <a:ext cx="7848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1. Изготовление игрушек .Участие в оформлении выставки  в группе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2. Работа в «мини-группах» (разбор ситуаций)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6" name="Рисунок 3" descr="DSC01709.JPG"/>
          <p:cNvPicPr/>
          <p:nvPr/>
        </p:nvPicPr>
        <p:blipFill>
          <a:blip r:embed="rId1"/>
          <a:stretch/>
        </p:blipFill>
        <p:spPr>
          <a:xfrm>
            <a:off x="1714680" y="3214800"/>
            <a:ext cx="57229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Задачи: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вать игровые умения детей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вать у детей познавательный интерес к окружающему, развивать творчество и воображение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Учить вести игровой диалог в соответствии с сюжетом, уметь довариватьс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Формировать у ребенка бережное отношение к игрушкам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омочь родителям создать условия для игр и расширять знания по руководству игровой деятельностью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ahoma"/>
              </a:rPr>
              <a:t>Актуальность</a:t>
            </a: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: анализ исследований Д.В. Менджерицкой, А.П. Усовой, С. Л.Новоселовой показал, что игрушкам принадлежит особая роль в развитии детей, помогает решать задачи всестороннего развития детей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Одним из основных средств воспитания является создание такой образовательной среды, которая позволит осуществить полноценное развитие личности и приобщить ребенка к общечеловеческим ценностям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Игрушки способны вызвать у ребенка эмоциональный отклик, стимулировать его развитие, активизировать игру, способствовать гармоничному развитию детей. Таким образом, проблема использования игрушек для решения задач развития детей в  настоящее время является актуальной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ahoma"/>
              </a:rPr>
              <a:t>Для  успешной  реализации поставленных задач  данного  проекта  за основу  взята  модель  взаимодействия  педагог- дети- родители.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ahoma"/>
              </a:rPr>
              <a:t>1.Подготовительный  этап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ahoma"/>
              </a:rPr>
              <a:t>Задачи: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1.Изучение методической литературы по теме: 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«Игровая  деятельность детей»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2.Определить уровень  знаний детей об игрушках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3.Получить  представление о степени игровой инициативы  взрослого в общении с ребёнком дома,  желании взрослого  признать ценность  игровых  интересов ребёнка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4.Подобрать и предложить родителям изучить познавательную  и художественную литературу по теме:  «Игры и игрушки детей». 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5.Создать  оптимальные условия, необходимые для 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Tahoma"/>
              </a:rPr>
              <a:t>реализации проекта.</a:t>
            </a: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Совместная деятельность  с детьми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Игровая образовательная деятельность «Какие бывают  игрушки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0" name="Рисунок 3" descr="DSCN0312.JPG"/>
          <p:cNvPicPr/>
          <p:nvPr/>
        </p:nvPicPr>
        <p:blipFill>
          <a:blip r:embed="rId1"/>
          <a:stretch/>
        </p:blipFill>
        <p:spPr>
          <a:xfrm>
            <a:off x="1000080" y="2643120"/>
            <a:ext cx="192888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SCN0313.JPG"/>
          <p:cNvPicPr/>
          <p:nvPr/>
        </p:nvPicPr>
        <p:blipFill>
          <a:blip r:embed="rId2"/>
          <a:stretch/>
        </p:blipFill>
        <p:spPr>
          <a:xfrm>
            <a:off x="3500280" y="3286080"/>
            <a:ext cx="192888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DSCN0314.JPG"/>
          <p:cNvPicPr/>
          <p:nvPr/>
        </p:nvPicPr>
        <p:blipFill>
          <a:blip r:embed="rId3"/>
          <a:stretch/>
        </p:blipFill>
        <p:spPr>
          <a:xfrm>
            <a:off x="6286680" y="392904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Развивающая среда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Н.Я.Михайленко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Как играть с ребёнком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Мелкие игрушки  из разного материала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Г.Н.Гришина «Любимая игрушка»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журналы: «Обруч»,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«Учимся играя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Худ. литература об игрушках: А.Барто, Е.Благинина, В. Берестов и др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нообразные игрушки,  красочные книги и иллюстрации об игрушках.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DSCN0420.JPG"/>
          <p:cNvPicPr/>
          <p:nvPr/>
        </p:nvPicPr>
        <p:blipFill>
          <a:blip r:embed="rId1"/>
          <a:stretch/>
        </p:blipFill>
        <p:spPr>
          <a:xfrm>
            <a:off x="428760" y="35712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DSCN0419.JPG"/>
          <p:cNvPicPr/>
          <p:nvPr/>
        </p:nvPicPr>
        <p:blipFill>
          <a:blip r:embed="rId2"/>
          <a:stretch/>
        </p:blipFill>
        <p:spPr>
          <a:xfrm>
            <a:off x="4786200" y="1571760"/>
            <a:ext cx="3714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Работа  со  специалистами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7" name="Рисунок 3" descr="DSCN0369.JPG"/>
          <p:cNvPicPr/>
          <p:nvPr/>
        </p:nvPicPr>
        <p:blipFill>
          <a:blip r:embed="rId1"/>
          <a:stretch/>
        </p:blipFill>
        <p:spPr>
          <a:xfrm>
            <a:off x="357120" y="857160"/>
            <a:ext cx="4143600" cy="3143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100_1967.JPG"/>
          <p:cNvPicPr/>
          <p:nvPr/>
        </p:nvPicPr>
        <p:blipFill>
          <a:blip r:embed="rId2"/>
          <a:stretch/>
        </p:blipFill>
        <p:spPr>
          <a:xfrm>
            <a:off x="4572000" y="300024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4:15:27Z</dcterms:created>
  <dc:creator>Татьяна</dc:creator>
  <dc:description/>
  <dc:language>en-US</dc:language>
  <cp:lastModifiedBy>Татьяна</cp:lastModifiedBy>
  <dcterms:modified xsi:type="dcterms:W3CDTF">2012-06-14T16:49:33Z</dcterms:modified>
  <cp:revision>28</cp:revision>
  <dc:subject/>
  <dc:title>Слайд 1</dc:title>
</cp:coreProperties>
</file>