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1AEB-EF0F-4A68-A619-875F21192D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D241-D9CB-4C94-9F56-A1520A0999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E4F-C296-4575-A163-591AFAD7D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BF27-14B7-4247-92D5-15588204C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EFAE-F705-4144-9EC4-87652E5C29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E297-CE3F-4808-BB77-AC4750A46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07BE-D796-41AE-97C6-14B1A72B5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E4EE-3992-4CB1-A0C5-2D2829A2C0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4288-FFF6-4C67-B158-4274E4E1C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7B80-3297-45D8-B900-9371CEB16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151-6351-4C71-AF1A-B9EFA1D9F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2790-D49F-47ED-8FC5-31BC9AADD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2E13-2DE0-4A15-9214-EBA7AEEE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7AB-E0E0-40FB-B4EB-D21B824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787AE-7E4A-4C7A-91CE-D93EFA31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5ABF9-DF11-424E-96BA-FE4B5F40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492B1-5187-40B5-B8AE-4E653190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12BDB-55E1-48F9-A27B-BBEBEC12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C61EF-7B06-4F88-BA85-C0918BD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4CCF3-5E19-4DF2-A52F-DB4577C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B3C83-6FF5-4B3C-B1A3-45200D80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BD9E-722D-479A-8A35-E23841C1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2A1FE-3349-4063-A0A3-E40BAC98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45146-12BF-4E1E-99C7-B1B6D33A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C23-26E0-4B02-85DE-AF68E776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09421-3273-4C0D-8E8F-BF7FC1D4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62D90-DED4-48ED-B045-B0152184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33E52-2215-42BE-93B0-BF35E97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1281F-EA39-43F2-B30C-7E03A59C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A1ED0-25CB-47A2-A4BF-A41F584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ACB6E-F6BE-415E-AA35-3C92995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60557-DF72-4951-B8E3-707B539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D8F55-76ED-4B53-B755-18E1591A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8856E-90F2-440E-A283-2B36B2FE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F995C-173A-4640-86BD-0D3A3782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C1C-6F02-4323-AFDF-83CF10C9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1B336-2CB7-43B7-9D2E-30BECA1D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01C05-2D58-49CB-AE36-45AEF914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231B6-FD5F-44BE-8E8E-EEBFB2A5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FEDE3-9240-4F06-A86D-5EAA0681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D7D9-3433-4B85-BB55-ABA7F60D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D08A4-5559-4861-ABBC-DEDA5102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6A35A-860C-4F6B-99F2-AB12A91A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4DC4E-4C16-46FF-8602-F0ED6D2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6725A-7289-4675-8FA4-FA7F1583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1F5A3-65C9-4F58-BC1D-D1FB5D1F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67B6-E780-46D5-A2D4-1155543D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33F21-9FD0-4531-8B6E-6022C81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E6163-03AB-4D53-8951-3C1E36A0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6B195-824B-4935-B781-A085B794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4FE56-9FC4-416C-94F4-4668F4E7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80AD1-7AAC-4237-8CA4-03E5AA1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BC513-C534-45DC-80E5-3D2D4708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24E49-8E5A-4894-95F9-6E49E2F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2CFDE-FC2B-4A07-A3D2-1AAA83C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4B8A5-F17B-4F41-802B-8CCD846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3BF24-B5C3-444E-8FFA-9DC851A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DB58-0992-4890-AAA2-2A9F56F9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4912-8412-4FE4-9EFF-8B87023D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F4F3E-6F92-476E-BBE4-A3AA1305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16C99-925B-4185-BD70-F82A240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B28CD-15EF-452E-BDD8-ACB01204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49C88-7031-4CE6-96A7-EF40E484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77932E-D6FC-41EB-83BD-8F26361D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7CDD-F19C-4F83-9D21-33ADC04E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E7C31-EFCD-4AAC-99AA-49D5E9AF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93DE9-FACC-466C-9900-CA628FB8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BAD51-D909-41BF-AE56-92FDC82C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576-E89B-4C13-BA07-7DC5BAC1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84ED3-180C-4B31-A440-1F2DBE46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57540-60DE-4C09-A33C-25CAA455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B020E-3D12-4EFB-972F-AD749D2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C87E8-B1C0-499A-B821-F00D240A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56669-6ECB-4628-9512-448B5B6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6F9CDD-6421-48CE-865F-B66930A3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0A3D8-8ADC-45ED-88A8-2C8C6353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31FA8-7D69-4731-A441-1FFB0548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48321-07BC-4EB3-BC3F-7781ADF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0DBC9-F8C1-4703-BE26-CCE841EA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F07-BAC8-4393-B2CF-333CF19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0B4C5-23DC-4D59-A4CF-59C8DE0C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E554B-7EC9-40DA-B948-98128B35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6540A-19D4-44D5-A2FE-AFBDB874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A9002-2F66-4F65-B18B-84E42BC4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01219-BABD-4259-85C7-096B7365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3F0A3-1339-449C-8D8E-385C8BB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E91DA-30A0-4DBB-AA13-092834E2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FBC9E-45D3-47AF-ABE2-9D3E7A71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FEA66-7E03-4EBB-BE4D-ACD0919D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AAD66-819E-4FBD-BCDE-8C1288F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5F42-8114-4E10-A996-B1E72F9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1CF9A-4D0E-4A01-87BD-E3D06AF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1CC04-4113-41DC-B23E-EBB9DF33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04103-C839-4733-8640-8F687EE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48FCB-5CF0-40E9-B7C6-9ECB6C2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D04CE-3DF1-48F1-9A3E-AC9520D3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E4CB1A-71B9-4C8D-ADBD-29E551A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6E929-D277-4CBD-B956-E411A74F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A0B2D-982A-47C1-A7EB-46DC416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EB974-EDAD-4884-9307-FA98E469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A414F-FF88-4FFB-8D66-5489D523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5033-BAD3-4483-8150-7578AA2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23E3F-2C55-4E61-ADE3-BE79976E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3AD4A-35C6-4C29-A880-0C06ACD2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E17CC-D295-40EB-90FD-9F3E4D25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1DD3F-9585-4096-B617-EDA2861B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75B0D-B4D4-4694-8826-B8A9AB9A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B0456-FDDD-4256-8BD2-3F3D1076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3C428-D79A-4495-993A-FAEF74F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AE8642-F7CF-4282-A4E2-6A0B2BE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84DAE-03E8-4A9E-8C4F-EDE9AA44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FD314-A917-4ACE-8418-0F70DC23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312E-A777-461D-9603-280E4CA2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24703-E73D-4F10-A7C9-D4210CFB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FF63D-BFA7-4CB7-A8C8-32346CBE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5DE776-98E3-4975-9B48-A646E8A3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F732F-9091-4A57-BB67-509B21A0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1D2C9-6844-46F9-9495-6FFC8FCB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AA95B-58F7-4B21-AAF0-70C062F1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AF149-B627-45A9-82F7-1513F496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582CE-4C9C-418B-86FE-22E92C31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B251B-5D1C-45B9-991F-B90F6D9D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78111-8CCB-4B11-AE0B-DEBFEC72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3C8-9ED6-4F19-A621-01849F5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BC0-7E98-4E6E-AA62-072F3CCF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5AC35-0F22-437A-93BC-E47A54D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C75823-ED72-48D9-8A16-BDC0EC5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8E95C-723D-40C2-8408-6468612F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70A53-5B3B-4CFF-87EB-A20048C6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32BF9-EF27-4661-BBD2-428C804C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1F9D85-166E-4DD2-9D4C-ACA34497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08906-21FE-4268-9466-9FD48A05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27FAE-B46C-4EEE-ACFC-75EC753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07E6B-C1C6-4586-9D80-ECCF998B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DA9A1-8C09-473A-80E5-59750B1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4231-5133-4498-AD6B-EBE9FA8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5B7FC-380B-4DAE-8588-C5E5B99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7FBB4-301B-42CA-A8F7-97519D12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31FB7-AE0B-417C-8A58-9E0AA5D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90234B-AB5A-4DF7-94E3-C75B1E92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0CEA0-0416-4276-953D-C037110D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5D45C-54A1-4908-A3D1-D5B1D87F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BD4DA6-A0F5-4AF2-81AC-71407534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6786C-B4A9-45B6-806A-272AE044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0A32B-13FF-4F00-9751-A8C3FB2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C9445C-5BE6-46BE-B5D4-7964ADBF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E832-2C91-489E-9263-EE6EDFCB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33DAE-FC88-43BF-9205-8FC2ECA1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EA899-0404-413B-B771-C3B7E153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66567-D578-4F49-A2BA-57992116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BEB676-B853-42A9-A702-EF2FD51D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A85FF-69E6-4773-A001-66D2E142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1814F-D0DC-4800-9CB5-80BD20ED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EE8E9-DA02-4B21-A4DF-6CFE2F4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68171-B0F6-49B0-A13E-E76C3E6E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B8DB1-9C28-40AC-9248-C81B1754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EB251D-10E1-4A47-BB5D-1C20CC8A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1A87-F56F-476A-9E18-DF7732DD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F04979-9AC8-4661-9FC2-0D90231F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6B6B07-121B-4956-BCEF-13F8D1D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0834FC-E7FB-499C-87E5-FEDB39B1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6A194-FDA0-4B19-B5A1-010AF7FA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BC960A-8C8D-4A07-B649-3416E1E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A20D1-B685-4068-ADE0-1BDD6CB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461AA-A8CD-4CC6-ADDA-B772E1CD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F9ED0-FBC9-4301-95D8-78FB3C2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2A7B2-BFD3-47FB-93A3-16ABADEF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0F79E-3488-4974-94C9-E62E47DD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E2DC-E221-461E-9832-73FA462F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BA137-6E8C-48A5-ACBF-7F6AE1B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935A0-690E-46E2-BC17-B7C1592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7C1972-DA0C-403C-9353-40F78C3F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1444D-D6ED-42BD-969C-D22BD411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C675C1-7144-483E-9948-EFB9076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DE60F-507A-42B6-A751-316FA77F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231B8-466E-4E47-9E36-48BA7617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9A8E78-732B-40B6-997A-8CD54AC6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EA155-60BB-494E-9CB7-AEE12F2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EF0C91-D6FB-458B-8032-73756FB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3B69-0988-4CD8-A3B1-481EB4E2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BAB79-7DF0-4184-A30B-FDC5CA7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24AF9-F240-4708-8E8F-BB0B7E9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40F36A-39C1-45F4-A0C5-2F4325E7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7778C8-C832-4EC4-983D-D95890C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1468D5-F50A-44A7-973D-9A637E63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CE0E09-D2CE-4CC5-8D54-7DE9D556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EBA8E-A933-479A-B3B3-5C79DE61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27A78E-4EE6-4704-BB94-A2C1EDA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FBF3D6-F6ED-4BC0-B2FE-129F3A8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940E7-F1EB-4003-80EA-561AF30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40CB9-DE53-4C12-8EE1-A35588A8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E2EFBD-6323-4641-A293-DBE88766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2A070-8F3B-42F9-86F4-F927241E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BC185-EECA-4DDA-B622-B5CFC8E8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1D96A7-9EB5-4F37-8E0A-74E95549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453D3-7DBF-47CA-B438-097AF91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17B1A-3808-461F-9913-D560FDBF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AE8830-462A-45EC-B459-D569A4F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C6464C-A58C-4568-A11D-D0529963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9C7F37-619E-4B93-AC8C-0FE5B453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F02F29-6028-4267-A769-9D87D94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19BA1-F037-4EA8-81C8-D7B0CCB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DE0B2-E2E5-4D59-990A-3BD97D60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0BE80F-4BF2-4612-B297-5891169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5AA374-6F0E-418C-8991-E8AE7885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576E3-C933-44C8-AA82-0987C61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449C2E-AFE9-4D57-8BD5-521F16B5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9E2438-F594-4B88-B526-4AEAF19D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ABF35A-A938-49AD-BA26-C7E98CE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12AEF5-8FE6-4688-80B4-28FE1F61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799B99-A985-41F4-BB50-4F50EDBF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36DB63-B919-421D-B827-005A45C4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A705C-CB82-4981-852E-69D9B6C3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21B65B-88F8-434E-A233-678FA73B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F6839B-998F-494E-84D0-20C2D1F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258134-6949-4B05-BC8F-DF35FFAA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406C8A-F7F2-43E0-8CE2-06B80DC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CF3FEE-3654-4BFC-9F19-902881ED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ACF9C8-88C3-41C5-957A-5938CFE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C5BC36-1121-40C9-A790-8D0A1C27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B23D74-BD11-415C-B0C4-6BEE7307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9191E-CD95-4152-8365-C412F4D9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2B343C-74A8-4D5C-92F8-4B2882F6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4F49-74BF-41E7-B7E2-441B6BF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70471B-D37D-4A16-88EE-E8AC4FE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48084-E05E-417E-84DB-60BFCB3B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C49A42-F4E0-4FCB-840B-23CC902F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268318-6BA0-4798-97BD-F10D0A2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63E740-7EA3-48BE-8271-AB9D446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DBF002-7F9F-4F2A-B0F2-18D2C73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98825F-A8A5-40D6-96A7-5F207FD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E2AEC4-911B-42BD-A7FF-A25C260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AFA050-65D5-4186-9D4A-DEBE8FBB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DB8704-2F18-49A4-823F-566B2AD2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0DD-7FE6-45CB-9B16-89967E7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FB966-C39C-4576-BAB7-3621203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472A3C-69EE-4CC5-9935-AF08C5F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A8C448-0DAE-4347-8BD5-484E8ADC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044BD8-D1DE-45C2-9128-70496AC2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3BC23-43F2-4A9F-86C3-1223780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D90A1E-5722-489B-87C8-AC2523F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C022D-8EDF-4C5A-B67C-3E69DB10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55F05F-881C-4D52-AB9C-01F9AE9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421B02-7A0A-4FEB-9F18-8CC4C03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9050A-F8E8-415A-A34E-4D42B7D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5AB0B0-A7DB-43CA-957A-CE9658F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9968D-1DC1-4527-83DA-992CCA6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75E085-F2F6-4453-845F-B0749198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40A9E0-EA86-4330-95CE-3B9BFDCC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4DA82D-6777-4E8D-9541-8DCF0CB9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6A85A4-AD5F-4E0A-9C27-DDE663C0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CE4A29-F5B1-48BD-A4BA-D705AE4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75D643-204E-4A9A-B167-05C117C7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31DE04-3618-455A-AE4B-0B66E68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60682E-D75E-4928-A4E2-CA1709D4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E090D98-DCED-43AF-824B-FB1B9C76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7277A2-21A4-495C-9473-B60AD811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4E18-3075-4AF3-A28A-06D2218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901BC0-706C-46C7-B9CE-66C1CC1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598019-CD9E-49DA-8AE8-BACECA9E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B084D2-F4FF-4ADA-AC3D-CEB660D0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BCA025-68E6-4856-8937-B7B4E56D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490026-828A-4B78-989B-34E1C46A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BAFE8D-4F34-40C5-805C-9033238D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C9C57F-783C-4A6A-8A9F-2DCB88F9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CE343B-7282-4611-ADDF-1695BE6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ED0CF2-8F75-4DCF-B50C-3C6D0B1F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E5EF40-B123-40A7-B4E7-4471A0A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3C83-BA37-4ACB-B4BA-87CAF34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7BA484-BC24-4D9F-8198-564E3115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ECB94A-231A-4625-BF07-16B5B62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7D4AFC-B352-4F96-88B6-F843CA3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09EC2D-4ACA-4BC1-BC68-DE4BFED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B75E30-B6D8-4B60-8A06-8372F1C5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CAC186-4C68-4AE4-9790-D78A3E1C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EF00A5-03F8-458D-84DD-DE334A42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788822-955C-4686-BD36-4D85672F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87FBE1-5E94-445A-B9EC-9E5A8BA0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8A34EC-52A9-4A2D-B4B7-C515A969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6841-981E-48F4-9930-D79DC88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7E8672-8B13-4C53-880C-7D69D6BE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72E77D-6C44-4B3E-907D-A8E6504E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101D67-2D7C-4B6F-B03D-FADB4ADB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8F6C37-C876-4DB1-BEC6-6F462B2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E372D1-4DB5-4299-BB14-E027003F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8D9259-4BAD-49DB-B37E-4932903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024833-3C5E-4D4B-91BC-3F4FC33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03026F-B908-4C62-B70B-696D56CD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0A1E17-8852-40EB-B3E7-AD1DA18B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13A203-F7F6-459D-B5E8-4D359EF8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F471-1004-43E1-808E-D5F03585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5BC6FB-BE90-4834-B707-E98E6532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946449-E5C9-45AC-9309-1DD0ECF0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2101AC-0024-4CA6-80F7-A9CD576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1C9E2A-39C7-4CF1-A181-0056DE6A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16DA1-C8E8-4E3F-9F50-17A995D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B42438-0B31-44C7-A826-ACE9D09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679018-936E-42C9-95B7-3EB0C380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7AC9A-10B2-49B0-BE9A-0AC53DC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BF6844-0F0D-4636-B0B5-2480080E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C02D0A-2A88-4D8B-B7EE-4FD7A92C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F076-5CBF-42E8-8177-4956FF92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A934E9-E812-4BB1-889E-2CFF8807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BD4456-5317-4C9F-B3D2-3EAE7700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C50A0F-2919-4E11-A23A-76D4D379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BCFFB2-B8BD-4793-910F-5962C65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4FAFC2-6E03-40B6-8F39-8EBFA833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1CD077-9ED2-4EDF-9B4F-E7802CBB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599DD5-B1BE-4BBB-8554-CF03B340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2C90F7-4A02-4639-B0E4-1443F93D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6A3B06-CA17-4023-83D1-06F966B9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F22958-2985-4E66-8895-12B2225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ED4C8-9896-4C91-BB9D-BE3F26F8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ACF036-DAF9-4A41-B9A6-3C187BD3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38E7EB-E50E-4F44-A6D2-B77E6639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A7BC35-2F17-41D8-815F-02939F1E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B67A60-2031-4807-9DB2-B921C476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5AEC25-E56E-4A08-ADC9-ADD800B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CEDC9E-90B0-403F-996F-9D247031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DA4E71-E224-4ADC-9F63-5FBE7049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E10BCF-B9F6-42EC-AFC1-871146E6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BC6401-BC75-4238-98E1-AAED19AB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C42642-A3C3-4B29-8AB4-3823138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086E3-B996-4C7E-A53B-87B51C44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C94B28-2962-4673-A15E-90868255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76FD17-4F9E-4FE3-BEDF-169F2F8C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E5B620-987A-4145-8A62-6B466061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AD9A11-C9BE-4742-A715-EE1A8EB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6A025B-5E57-405A-B31B-7F16EAA4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13E80D-8B06-4061-A10B-FA8593DF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0FC90D-BF31-49B5-B41D-729098D7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D6B0DA-0F19-4011-9919-E57AE697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961767-5B8E-48A0-86CC-0D6BAB53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E1C576-451B-4225-98A1-2AC01BCC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8C05-40A0-4BE2-97C1-A32E8E4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FB9A3D7-69A6-465C-8BBC-E804F41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59F40C-DE78-4C30-BB27-03CFA28D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0A7385-B5FF-45FD-99E8-993FE0F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980B0B-7B29-4F72-8D1E-B3CB4492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1990AA-03F1-4663-92B5-180464BD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620113-2601-46BC-8EA6-76642E42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9C7EFA-4617-411A-8614-5620CE6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F000CB-89FD-430C-AB1B-D526F4AB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341820-C5DE-4795-A6A7-07C96790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3F891C-C86D-423D-A227-A6A316F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DE0A-21FC-4889-9F1B-74CAA5AC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ED4C-0CDC-46FC-B72A-E5186265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2BD8B4-8163-4D30-AA7A-EA1717BC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529F60-FCD6-4E74-A961-C4A0B163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ABA42C-8D78-4A7E-B740-F6E4056B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6A8A32-7D0C-49B8-BC6F-F6B7E437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EA4ACA-B644-4587-A245-8025AEE8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DB91E24-A2E1-404C-867A-242B81CB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7664A6-55D2-4D5C-8013-49020C2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A0E14A-CA77-4671-9747-0CC95C7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5B8B23-3741-440B-9739-3519184D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A1B9D8-B78F-4937-8C73-49308F13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518F4-D2CA-4914-9FDA-7DD84913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7B1081-9DA7-4EB2-80B0-AFAED8B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7E57D9-5F17-4BC4-AE4B-85A1843E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BF0C66-3278-4CD9-8C74-D21E571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0013D3-A685-4817-A489-604A99A9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6033C8-F2BD-4637-8821-1369C188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C67D32-5A2B-4D26-96F7-1ECC1785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366AC6-CFD1-4C57-8AA7-9613F105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082617-567B-4325-B0DA-3F82F73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A3435D-DE0C-463A-9E74-9C86696D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8E7DD7-A034-404F-8212-1B4B747F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00AB-FC67-449E-B545-3DB3064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F2D12A-8101-446F-8E0A-33CD2726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715090-41BC-413E-A0F8-F57C49F7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D80D78-434F-47FB-A5BD-E58D2186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2435421-7777-45AC-B673-6EDF17A8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D7A5E6-292F-4DCC-B07F-FF994E64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33D2E5-9349-4D16-B730-0D682ABF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9A9290-EBEF-4827-9D8D-E799F009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839796-59E4-4D5E-8ADF-791D0BDA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449B34-4782-40F5-BCA6-471FAA7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0FCC36-3118-41C5-B779-43D4D871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BAC3-79C5-4CC2-AF3C-11FB1E9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0B3F7A-A428-4328-973C-2F349D7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A344FD-166C-4191-B66C-5313441C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FB2D61-ACDA-4E29-87F3-FD3318C8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E4626D-6FA8-439C-A163-35F59DDB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5F9175E-E289-47A1-B260-FCD3ABF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75E4D5-CD98-4FB4-8DDA-9D116944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1E76EC-394D-4483-AF48-977D7E40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23942E-E49A-4617-A782-DC63AED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5CA5EF9-5B56-4F88-9F18-B53C443E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7E88A3-7E06-426E-B7D2-8D8288F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27ED-1076-4230-8846-DC559ECB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F97002-0D65-44C3-A67C-2F5DDC0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961C9D-7E62-4DAE-8FFC-95B78306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EC84F8-6601-40C6-B115-88BBC9A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2C4CC5-2222-4EC0-B953-7351296D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0F0DB1-90FD-47DD-96C1-97186BD5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13F2-6B1D-4727-AA60-31A0262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7044-E81B-42A0-89CF-5ECB04E8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672E-2BF9-4E12-ACC7-C1F76B83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8DDCB-5175-4A88-A9F6-912938A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1A32-C321-4C85-BA67-92A94B26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1AE-5197-4EA3-A4A5-A7AF388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22983-7325-406B-BF1C-CA7ED53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F5945-52B0-4264-97BF-61C3BCE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2CFE3-B4AC-49D9-B1A4-A8BB3A14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58AD9-23B1-40E8-BDA2-4D38BBB1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E9A2-F38C-4861-87E4-A06619E7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B194-65BD-4908-BF53-39C140D7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F7C6-90E2-457A-A8F0-A2CF249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D4E7B-B855-42F4-8BD7-5FB7DF9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6018E-C675-45AB-B2C3-751208A1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450D-BDF0-4E2E-9C2B-1B1B97C8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30D-92E0-4F81-A96D-97A6766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7FCDA-EF38-4880-B0B4-2E0BF8DD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BF18-2D48-43E4-8499-5335DB6A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C0B2-82D6-4A95-9501-7CD5D9EE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5869-54A8-4E33-A0E4-3D8F5BC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9B37-1F34-4878-9877-25128AAF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A5513-89D2-4058-AAA9-9600A15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87E14-01E1-4444-A0BE-264D0773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B5B60-DDB8-4817-9374-2CA11B3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A0A5D-D913-4EA9-A348-1CA2CF5B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4008-D172-4133-9010-79616BA1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590-ECDB-4BA6-BA58-6AC5A74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B0DC-E9B9-4551-B03D-83FBBDF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2FBBA-9C0C-44AD-83C8-C4660CA9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2CFA7-0520-48B1-BF22-222402E7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3235-739E-4FFE-8BC3-02A6C5C5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C78D8-42F2-4781-9914-8555CD39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1D5FB-6BE7-46DE-8D18-7D7EB8E1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B5862-C38B-4C1F-8042-1D1051F6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7B4E-46CC-4455-81A4-29E347B5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6EA5-24E8-41B5-974C-CC59DA20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04720-B581-4831-BF25-FEF67FF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BE3-86D3-45E8-8CAB-CB283CA1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6DD29-446E-47D7-AA47-12C9F233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B92B-77BF-4DDE-998E-5D99D00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5EA6-E8BA-4767-815F-7427FB6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E9D7-0A84-44D7-B57D-C061577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30C8F-5D12-455B-B918-BC2CD717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4E77-C899-4950-B4A5-0DAA90A9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7B08-E2E7-4531-B85E-8364C05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9054E-A83F-41B9-93CC-09A747FA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6D922-9359-4FFE-BAB0-0632F67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F6CF3-57E4-47B6-B2C8-01B16D38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62E-CCF3-44BC-A3A7-82DF347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8C7A4-7F90-4C38-A0B1-3532683F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FA420-139D-4C94-A04E-1E12B955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476C3-67FF-4497-B329-24C9093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DCAB-6A12-43F3-BDCB-CB438773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3114-882C-46C4-A4D5-8743E6D8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F06DB-32CD-4216-A0DC-C91968378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64EE1-B958-422D-8978-16AACC81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98CCA-CF44-41DE-AF53-F3E37F1A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2308-BF0E-4986-8B48-FF95763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37D1B-97B3-4E1D-B5CD-20C49481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F48-238B-48F9-BCCC-E71B46A452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B14-4CE6-41A5-8D4F-DC2003B6B3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E45-697F-482A-990A-2C22621C33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36EE-DAEA-4B7E-A497-16FF6C0F04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A50F-84F0-42BB-BF78-710D51CB19C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14D-5369-4441-8677-F183481426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28B-E8AF-482B-BA02-05DD824807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2C53-7FC2-469A-8CDB-F5461C699F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2DD-4C3C-4988-9023-B3FB4A4736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CCF8-0801-46E1-963C-26E6A3ABCD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309D-0FEE-4B0B-893F-F2FB544997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FC86-19D3-4109-B579-658ED71039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5C88-4616-4D08-B048-DDDDDD4BD0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640F-08C6-4F97-B444-8036F9795F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719-DB8D-4581-9813-07C2A517E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E8B1-D783-456A-9539-9318EDFBDD8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E505-982B-47E3-BE61-2195F8766BA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F23-7842-4ED3-AF74-A430ABF543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a3b3"/>
            </a:gs>
            <a:gs pos="100000">
              <a:srgbClr val="befc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ABD6-5311-4EC3-98B1-85F3A0926EDA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EA35-3800-4F4A-AF2D-3E6DE6038FF6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a3b3"/>
            </a:gs>
            <a:gs pos="100000">
              <a:srgbClr val="befcff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B80-6B30-4E4C-BE78-7299809C1872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D3CD-2A1F-4ED3-AE5A-911773DA3E46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605F-2426-4DAC-BF55-1D1DAAC1704B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9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DA70-19A4-4207-B7B3-033073BACF62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9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9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9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621-155B-479F-AF0D-56E62589C094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9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9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9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332C-2A2D-4B3C-AD6C-737BC750225A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9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9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2FA-9EB5-423D-AA97-8D57F569CD94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10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10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10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BB76-D875-44B5-94CB-D5595CDC1B81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10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10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10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F5F3-6FE4-4B87-AB95-80B46433BE46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283D-AA7C-462A-A3FC-FE9226BFB846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9a67d3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8708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5fffa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45fff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5fffa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45fffa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9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80b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9754-A1C7-4FEB-923D-555B4C710CEA}" type="slidenum">
              <a:rPr b="0" lang="ru-RU" sz="1000" spc="-1" strike="noStrike">
                <a:solidFill>
                  <a:srgbClr val="0080b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0E6E-7405-4F95-8529-DF22AD642A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900E-993C-4043-A90B-387DA9BE6CE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21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A9D3-0B0E-40CF-869B-762BA6783E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F5B7-4913-4CB6-A6FE-6D8368E950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7178-2E7D-4FB0-88C0-24FA128BD0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1A98-2989-432E-ABE9-F3BF6A34FE9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3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Муниципальное казённое общеобразовательное учреждение 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Волчихинская средняя школа № 2»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4300" spc="-1" strike="noStrike">
                <a:solidFill>
                  <a:srgbClr val="ad1707"/>
                </a:solidFill>
                <a:latin typeface="Arial Black"/>
              </a:rPr>
              <a:t>Методическое объединение учителей иностранного языка</a:t>
            </a:r>
            <a:r>
              <a:rPr b="1" i="1" lang="ru-RU" sz="2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/>
          </p:nvPr>
        </p:nvSpPr>
        <p:spPr>
          <a:xfrm>
            <a:off x="856800" y="12855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Чтобы было легче детк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Иностранный изучать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Обучение ранне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Поможет им умнее ст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9" name="Picture 19" descr="P1010561"/>
          <p:cNvPicPr/>
          <p:nvPr/>
        </p:nvPicPr>
        <p:blipFill>
          <a:blip r:embed="rId1"/>
          <a:stretch/>
        </p:blipFill>
        <p:spPr>
          <a:xfrm>
            <a:off x="139680" y="1932120"/>
            <a:ext cx="157968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/>
          </p:nvPr>
        </p:nvSpPr>
        <p:spPr>
          <a:xfrm>
            <a:off x="285840" y="-3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А без метода проект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ет успеха в нашем деле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Без него работа буд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Двигаться лишь еле-е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1" name="Picture 6" descr="P1010622"/>
          <p:cNvPicPr/>
          <p:nvPr/>
        </p:nvPicPr>
        <p:blipFill>
          <a:blip r:embed="rId1"/>
          <a:stretch/>
        </p:blipFill>
        <p:spPr>
          <a:xfrm>
            <a:off x="6004080" y="5157720"/>
            <a:ext cx="1457280" cy="206532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3" descr="P1010550"/>
          <p:cNvPicPr/>
          <p:nvPr/>
        </p:nvPicPr>
        <p:blipFill>
          <a:blip r:embed="rId2"/>
          <a:stretch/>
        </p:blipFill>
        <p:spPr>
          <a:xfrm>
            <a:off x="1785960" y="4784760"/>
            <a:ext cx="187812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ровести срез знаний над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Победить в олимпиад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Хоть проект  презентова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Все мы сделаем на "5"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4"/>
          <p:cNvSpPr/>
          <p:nvPr/>
        </p:nvSpPr>
        <p:spPr>
          <a:xfrm>
            <a:off x="-17640" y="1281600"/>
            <a:ext cx="917928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к будем и дальше по жизни шаг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ь и  учиться, творить, созид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всё, что мы знаем,  детям дар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 школу родную не подвод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Есть в нашей школе МО ин. яза, 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На фото увидеть можно всех сразу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Мы умные, добрые и симпатичные,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Arial Narrow"/>
              </a:rPr>
              <a:t>Трудолюбивые и энергичные</a:t>
            </a:r>
            <a:r>
              <a:rPr b="1" lang="ru-RU" sz="2500" spc="-1" strike="noStrike">
                <a:solidFill>
                  <a:srgbClr val="c00000"/>
                </a:solidFill>
                <a:latin typeface="Arial Narrow"/>
              </a:rPr>
              <a:t>.</a:t>
            </a:r>
            <a:br>
              <a:rPr sz="2500"/>
            </a:br>
            <a:endParaRPr b="0" lang="en-US" sz="2500" spc="-1" strike="noStrike">
              <a:solidFill>
                <a:srgbClr val="45fffa"/>
              </a:solidFill>
              <a:latin typeface="Franklin Gothic Book"/>
            </a:endParaRPr>
          </a:p>
        </p:txBody>
      </p:sp>
      <p:sp>
        <p:nvSpPr>
          <p:cNvPr id="1586" name="Rectangle 13"/>
          <p:cNvSpPr/>
          <p:nvPr/>
        </p:nvSpPr>
        <p:spPr>
          <a:xfrm>
            <a:off x="180360" y="184464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Arial"/>
              </a:rPr>
              <a:t> 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213840" y="2435040"/>
            <a:ext cx="419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Конушкина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Ирина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еннадьевна,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категория</a:t>
            </a: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  <a:p>
            <a:pPr marL="41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5fffa"/>
              </a:solidFill>
              <a:latin typeface="Arial"/>
            </a:endParaRPr>
          </a:p>
        </p:txBody>
      </p:sp>
      <p:pic>
        <p:nvPicPr>
          <p:cNvPr id="1588" name="Picture 7" descr="P1010589"/>
          <p:cNvPicPr/>
          <p:nvPr/>
        </p:nvPicPr>
        <p:blipFill>
          <a:blip r:embed="rId1"/>
          <a:stretch/>
        </p:blipFill>
        <p:spPr>
          <a:xfrm>
            <a:off x="1566720" y="2419200"/>
            <a:ext cx="1298880" cy="1006560"/>
          </a:xfrm>
          <a:prstGeom prst="rect">
            <a:avLst/>
          </a:prstGeom>
          <a:ln w="0">
            <a:noFill/>
          </a:ln>
        </p:spPr>
      </p:pic>
      <p:sp>
        <p:nvSpPr>
          <p:cNvPr id="1589" name="Прямоугольник 6"/>
          <p:cNvSpPr/>
          <p:nvPr/>
        </p:nvSpPr>
        <p:spPr>
          <a:xfrm>
            <a:off x="285840" y="4071960"/>
            <a:ext cx="307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Бути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аталь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икторо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 языка,</a:t>
            </a:r>
            <a:r>
              <a:rPr b="0" lang="ru-RU" sz="1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 категор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7" descr="P1010586"/>
          <p:cNvPicPr/>
          <p:nvPr/>
        </p:nvPicPr>
        <p:blipFill>
          <a:blip r:embed="rId2"/>
          <a:stretch/>
        </p:blipFill>
        <p:spPr>
          <a:xfrm>
            <a:off x="1706400" y="4280040"/>
            <a:ext cx="1086120" cy="815760"/>
          </a:xfrm>
          <a:prstGeom prst="rect">
            <a:avLst/>
          </a:prstGeom>
          <a:ln w="0">
            <a:noFill/>
          </a:ln>
        </p:spPr>
      </p:pic>
      <p:sp>
        <p:nvSpPr>
          <p:cNvPr id="1591" name="Прямоугольник 8"/>
          <p:cNvSpPr/>
          <p:nvPr/>
        </p:nvSpPr>
        <p:spPr>
          <a:xfrm>
            <a:off x="3429000" y="2357280"/>
            <a:ext cx="4572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ладыше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Свет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икола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английск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торая катег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2" name="Picture 16" descr="P1010652"/>
          <p:cNvPicPr/>
          <p:nvPr/>
        </p:nvPicPr>
        <p:blipFill>
          <a:blip r:embed="rId3"/>
          <a:stretch/>
        </p:blipFill>
        <p:spPr>
          <a:xfrm>
            <a:off x="4780080" y="2419200"/>
            <a:ext cx="1176120" cy="946440"/>
          </a:xfrm>
          <a:prstGeom prst="rect">
            <a:avLst/>
          </a:prstGeom>
          <a:ln w="0">
            <a:noFill/>
          </a:ln>
        </p:spPr>
      </p:pic>
      <p:sp>
        <p:nvSpPr>
          <p:cNvPr id="1593" name="Прямоугольник 10"/>
          <p:cNvSpPr/>
          <p:nvPr/>
        </p:nvSpPr>
        <p:spPr>
          <a:xfrm>
            <a:off x="3429000" y="3929040"/>
            <a:ext cx="4572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Кузи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Эльвир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Георгиев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учител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немецког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язык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высшая категор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4" name="Picture 7" descr="P1010592"/>
          <p:cNvPicPr/>
          <p:nvPr/>
        </p:nvPicPr>
        <p:blipFill>
          <a:blip r:embed="rId4"/>
          <a:stretch/>
        </p:blipFill>
        <p:spPr>
          <a:xfrm>
            <a:off x="4705200" y="3925800"/>
            <a:ext cx="1231920" cy="10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Rectangle 4"/>
          <p:cNvSpPr/>
          <p:nvPr/>
        </p:nvSpPr>
        <p:spPr>
          <a:xfrm>
            <a:off x="324000" y="409680"/>
            <a:ext cx="8327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с творческой жилкой, открытой душ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патриоты школы р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Мы учим детей иностранной культу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бычаям, традициям, литерату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тараемся максимум  знаний им 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 учим на деле их  применять.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4"/>
          <p:cNvSpPr/>
          <p:nvPr/>
        </p:nvSpPr>
        <p:spPr>
          <a:xfrm>
            <a:off x="1187280" y="2411640"/>
            <a:ext cx="744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5"/>
          <p:cNvSpPr/>
          <p:nvPr/>
        </p:nvSpPr>
        <p:spPr>
          <a:xfrm>
            <a:off x="534960" y="354600"/>
            <a:ext cx="80787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Мы обсуждаем, как лучше уч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ндивидуальный подход нахо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Какие ещё придумать зад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Чтоб у детей наших были бы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Мы смело шагаем все вместе впере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От жизни МО не отстаё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Компьютер осваиваем и Интер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С </a:t>
            </a:r>
            <a:r>
              <a:rPr b="1" i="1" lang="en-US" sz="2800" spc="-1" strike="noStrike">
                <a:solidFill>
                  <a:srgbClr val="17375e"/>
                </a:solidFill>
                <a:latin typeface="Arial"/>
              </a:rPr>
              <a:t>Power Point </a:t>
            </a: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проблем у нас 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4"/>
          <p:cNvSpPr/>
          <p:nvPr/>
        </p:nvSpPr>
        <p:spPr>
          <a:xfrm>
            <a:off x="-252360" y="-111600"/>
            <a:ext cx="9963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Много в школе трудов наши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Сразу все не перечесть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Мы расскажем по порядк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Обо всем, что у нас е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Прямоугольник 2"/>
          <p:cNvSpPr/>
          <p:nvPr/>
        </p:nvSpPr>
        <p:spPr>
          <a:xfrm>
            <a:off x="2857680" y="785880"/>
            <a:ext cx="58575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В лингафонном кабин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Будем знать мы все на све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Будем с языком д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На английском гов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0" name="Picture 2" descr="H:\Documents and Settings\учитель\Рабочий стол\102MSDCF\DSC00756.JPG"/>
          <p:cNvPicPr/>
          <p:nvPr/>
        </p:nvPicPr>
        <p:blipFill>
          <a:blip r:embed="rId1"/>
          <a:stretch/>
        </p:blipFill>
        <p:spPr>
          <a:xfrm>
            <a:off x="189000" y="420840"/>
            <a:ext cx="123804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1"/>
          <p:cNvSpPr/>
          <p:nvPr/>
        </p:nvSpPr>
        <p:spPr>
          <a:xfrm>
            <a:off x="1928880" y="1175040"/>
            <a:ext cx="750096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о слова расслыши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транскрипции напиш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с доской интерактив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узнаем мир обшир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омощь нам нужна 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ученье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оске мы все проч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 в словарик занес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2" descr="H:\Documents and Settings\учитель\Рабочий стол\102MSDCF\DSC00770.JPG"/>
          <p:cNvPicPr/>
          <p:nvPr/>
        </p:nvPicPr>
        <p:blipFill>
          <a:blip r:embed="rId1"/>
          <a:stretch/>
        </p:blipFill>
        <p:spPr>
          <a:xfrm>
            <a:off x="590400" y="506520"/>
            <a:ext cx="1330560" cy="103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854064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 наше непро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се хотят быть бизнесмен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Но для этого он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Business English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» знать долж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Наша школа предлаг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Этот элективный к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И кто хочет выбир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Деловой англий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Может в будущем он ста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Финансовым министром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4" name="Picture 13" descr="P1010546"/>
          <p:cNvPicPr/>
          <p:nvPr/>
        </p:nvPicPr>
        <p:blipFill>
          <a:blip r:embed="rId1"/>
          <a:stretch/>
        </p:blipFill>
        <p:spPr>
          <a:xfrm>
            <a:off x="878040" y="5005440"/>
            <a:ext cx="1474560" cy="118260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2" descr="P1010547"/>
          <p:cNvPicPr/>
          <p:nvPr/>
        </p:nvPicPr>
        <p:blipFill>
          <a:blip r:embed="rId2"/>
          <a:stretch/>
        </p:blipFill>
        <p:spPr>
          <a:xfrm>
            <a:off x="6492960" y="5065560"/>
            <a:ext cx="1492200" cy="12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/>
          </p:nvPr>
        </p:nvSpPr>
        <p:spPr>
          <a:xfrm>
            <a:off x="357120" y="142560"/>
            <a:ext cx="854064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Любят дети в «Полиглот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Раз в неделю приходить,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Нравится кружок им этот,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Интересно им язык учи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Picture 6" descr="H:\Documents and Settings\учитель\Рабочий стол\102MSDCF\DSC00741.JPG"/>
          <p:cNvPicPr/>
          <p:nvPr/>
        </p:nvPicPr>
        <p:blipFill>
          <a:blip r:embed="rId1"/>
          <a:stretch/>
        </p:blipFill>
        <p:spPr>
          <a:xfrm>
            <a:off x="3992400" y="3633840"/>
            <a:ext cx="1322640" cy="1334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0:12:01Z</dcterms:created>
  <dc:creator>Зарубкина Р.И.</dc:creator>
  <dc:description/>
  <dc:language>en-US</dc:language>
  <cp:lastModifiedBy>Admin</cp:lastModifiedBy>
  <dcterms:modified xsi:type="dcterms:W3CDTF">2012-06-14T10:45:00Z</dcterms:modified>
  <cp:revision>48</cp:revision>
  <dc:subject/>
  <dc:title>Методическое объединение учителей иностранного языка</dc:title>
</cp:coreProperties>
</file>