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8AAD-B290-4E49-84E6-F3C897431F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725-B221-445D-918A-05F13A87C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8397-0881-4DFB-8198-3038C3B47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8D29-DA20-42F9-9E09-81B0C15D9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0637-E213-450E-BCD6-326E7D47A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4179-5FA1-4DC0-9499-F3E7E0923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597D-C767-4E92-87EA-99E520FD2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4A2C-7223-42FB-8713-CA0D3DFA1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CE3-FBE5-4ED9-BDDD-2D6860266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B98-A7A9-412F-A8AB-5755E0E2C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926E-867A-4BDB-8111-636842D02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DBE4-466A-4F16-A547-EDCF1C6C1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C96-D7FD-44C7-A80C-3725348F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C88-FD21-40D6-A1CB-C6F60B79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1C01D-B8A8-44D9-B803-5006AB3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20998-E17B-4052-BE75-70F06721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C2EDC-66A4-4F14-B142-4DC2C673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35000-419A-49A2-9D80-F473990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C38E2-CFAC-4546-9A73-061A8EA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B82DE-5C7D-4ECA-A325-E4593B44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8544-F454-4BE0-A4CF-4E0B71B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03354-B2ED-489C-859C-21629189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E76D8-9C73-4CAB-A7A6-B4C1503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D2CB4-5BF1-435C-8D01-5BCB8C69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F32-0370-4176-89BB-EA56E1F2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4276D-7335-437C-A71D-064FFE56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0B6D6-9AB6-4BCB-A523-14AAAB70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45E78-1E7D-4E08-9B24-BD0B2E36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669FD-52AE-4DDD-B869-F6CDFB4D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65583-4F59-415C-9EB1-C7A9E65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6808B-25D3-499B-80EC-190BD76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D2A47-0E2C-4697-AEB8-52461C0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4EFF-9180-47DC-93ED-7726447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95AF-6ECA-4BF2-BCE4-5F502A2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5C794-5160-46BD-B6D4-4B9F5F86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402-08AB-4683-B0BF-8950977F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7444B-30C2-4BE5-981B-A246847D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6FCDB-CB44-41D2-8058-B20A23ED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1F26B-3FCE-4A79-B925-A5C0AE6F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9F28F-BBD1-4580-A9B5-E123D448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6BD36-41A3-4302-8894-2E478A5F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E7AB6-53A1-4366-82A2-F23D3D58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B7672-5777-48EC-9FFC-4329610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4589E-1A9A-40A3-9D5B-23AC729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D7D63-F301-490A-9F86-3F26FBA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1035E-5EE4-424E-8DEF-EA26E95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BE4A-2FD1-4BEC-A302-3F820871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A5BB-89FA-430F-84A7-A79B7430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2E9AC-617C-438B-B63B-E9D804B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051C0-04B6-42C4-AF5B-122F1955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1F9D3-EB8E-4564-AFE6-246487BE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7E85E-3164-4FFD-B406-5E7717C4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82C2E-8EA0-4253-9922-50AC2167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14BFD-4CB3-4E97-A5D4-6DCA7AFD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A00B6-1EAF-4681-99CA-369CE1B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B588B-BA97-420D-AE85-D729F04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FCEAD-3DFC-4D4E-A889-BB1B42ED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13DD-CD02-45DA-82FD-F5DDBF37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5B88E-4482-46AF-8A75-78F10B6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EF244-7D81-427C-AE0C-123DFCB9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09B2B-0E8F-4FE2-945C-271DCC77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D2702-5669-4FAE-B9EF-B4A8F99C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D6FC4-FD67-4717-A26D-0FBEF7A9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012B8-7BED-4D1F-8F4C-9AB56E4D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47FFA-90E4-4EBA-B1EB-89287D63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98568-E8DF-41E3-A756-9399F499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00694-C7E7-45B1-A266-F9013A4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18720-B755-4902-957D-64F7EBAC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C761-5740-4AF2-B477-550D8CF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E7652-029A-4938-A0A9-4AEFA95E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D2D2C-F963-46B6-BFDA-5099F58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D3E3D-E14D-4CED-A839-CAF05A7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1A4CC-9060-49D6-B246-428B9400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3C885-479C-4C94-9139-92C922E0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AB5E3-94D7-4753-B767-915FCD46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B085E-F27D-4FD3-A30F-B6BC17D3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092CB-E6B6-445A-A16F-6B96D3FE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6D1B1-E12C-48FE-B222-564AB43D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73202-611C-4BEA-BC8D-B3AEB116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EC17-93AB-42C1-9603-F5FBE2A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0DD7E-2946-434E-80FF-F65FB5D5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2E4F3-6031-4280-A5B2-72AFD01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42B64-512F-44BE-926B-5DC56F92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D6FA4-6C1F-4B16-89AF-8E1E7AAB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CFD28-8EEA-4DE8-B4BE-4754149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11623-C4AA-4B8E-900C-2EBE4AE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EA76D-D8B4-4A03-B1D0-7415A17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A6699-69CF-40B9-991C-47F8C9F3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3F968-FB47-42A6-B1BE-50B8D395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BC5A4-46D0-4B0E-B780-D85C9BB6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C0F8-BA39-413E-B68A-5BA3B94D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EA84C-8802-430B-982D-B57C0FB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C9885-4EC9-4FA1-ACCC-0249E7B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18BAB-DF3C-4252-9355-C35A73C6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07A08-EC80-41DF-A606-325B554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7C496-FAFF-4B60-AF5E-FF5B82D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89D99-CC46-467B-962A-5B70160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12190-F535-4D9A-A094-0A5E0BA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F9B2F-7A5D-4C28-BFF2-9D04C824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33AE3-FD23-428D-A1F4-31CFCB3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05301-ED27-4A21-8ABB-EE749830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3581-ECCE-493E-84BB-120B8EB8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33DB0-86CA-4E3F-A03C-810469A0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52DF0-9B6A-44C6-8B9B-054152FA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1F962-6807-413E-AF32-9EB1192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4EF34-0FA8-43DB-AFBE-A59A3B8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90BEC-29C3-46CD-8490-BEF0DB9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2DE15-72D4-4020-8AAA-C363712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776D6-4BBD-4B4F-863A-1578C30A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D4CED-889A-401E-8DBE-52C79690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A4336-383C-4800-B6B8-713C5B2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958F2-2902-42F1-A6D9-6113089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2228-DB71-42CB-A120-F63432DC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FB31B-AFCC-49F3-AA34-32287B4D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2FB58-7493-416E-8994-DB2C0DF2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756CF-6385-4B32-8767-B9D406CB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FE139-B0B7-4D85-83C9-1DF67AE6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7DADA-03A2-48EC-AEE9-24950F92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2BA22-7B14-4736-AD16-BFBB3858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4E23F-B188-47BE-BAA0-8B0F8DAC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DD7BC-D8CE-473D-8256-DD8D7872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E3D33-C97E-4063-8D30-84C6E8F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CBAD6-CF56-40F7-93FB-5E14B29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B76-A77B-4802-936A-380301A3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DC9-D5CF-45F1-BEAE-C405AB0F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C225D-AADD-4080-B1BD-41C5213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767AC-10D9-4D7D-ABC3-A30B63FA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7FA5A-4668-49A8-9C0B-FD49115A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B8523-8CC2-4760-BFFB-7707B464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538A0-4B81-4866-B821-86B62111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C3944-4737-49F0-ABAF-948A00CA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F5C59-535F-4579-89B1-5E637172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BAC36-9AAA-4434-BE77-F7A924E5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81D10-2E99-4078-B3CE-94658DAD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2A821-206E-44B8-9BD2-56EF82DF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AB7C-0882-4E71-9570-DA1B400D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D9A9C-BB20-4CAD-8627-14D7694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51532-3E6C-4E12-9C4D-27437B54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AFA71-5225-4978-9C0B-8BFC13F5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24529-0691-405B-8585-FABB19E0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190A5-ACDC-431C-8F02-222E9019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7F2E6-7C01-4CAB-A441-43F3CC2D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5C187-46E2-4F37-87C8-CB6ADFF2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8F51C4-8795-4004-8660-3F302187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D6AC8-7719-4317-8006-F4658D14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09B70-36FA-4B53-81D6-1836E717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FBB-035C-4468-9102-16092E05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C0FD39-1836-4947-88EC-EE4D087A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5817A-D09B-43B7-9AE1-059C221F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E2800-E59F-497F-943B-E259B1C5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D387B-3889-4303-8E7F-A85EE11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5AABD-5A50-45F9-BC41-FF82C72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8898B-9C17-4AF0-BE7B-E173B2AF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3060B-CE28-4E56-BEEF-33525337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42D12-906F-4BD4-97F7-157F1B9A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4BDB9-C30C-4D95-A3BE-1B094A00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567365-95E4-4911-8EAB-2C0F1B5C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0F7E-D168-4D1B-AE61-6FEC5077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779FB-8BD4-4447-87C1-5AF4894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D9B3D-D25D-4DBB-BA23-817CAB0E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2B00C-83AA-467A-A782-E91F8D70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5A358E-2177-41E7-A03C-EE74D4E9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951F5F-B859-41B9-8569-6751D5F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81562-323B-4E05-B84F-837222A0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DD2BE-96DF-4AA6-93E1-9980F37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E79F6-F79C-4047-868B-84CA075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B57F2-6077-46C5-A6FD-8B1308C3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A3546-D42D-4E75-9F77-46411E14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5E74-D1B1-4B6F-8C01-79F1352C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D654B-3E2D-4E49-9807-DB5123DF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A646A-146D-4043-9B60-FBA481E1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C434B-2BD7-43AD-9C37-7B2064C0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3E5BE-1ABD-452C-BAFA-598766BE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7C2D1-8DDC-44D3-A9AC-BB511DF0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4CD65-4FDF-4288-BB98-2D582655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A3D65-291C-476C-9584-1AA5A6A4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DA01C-DD2A-40D6-9DF2-CB38A8A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4EF4DF-CAB1-4329-8139-5781E56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B6DCE-1501-4776-A135-3AA70E9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E0B8-81B7-457D-AAA9-523E0F5D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79DBB-308C-4355-9446-712F0CCA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E9A8F-D19E-4BCA-808A-3A2CCEA9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F5763-42C7-4CAA-955C-BA778D0B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FC2A4C-5016-4B4F-A2F6-C7C4F8CB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96311F-69D6-46B5-B802-B0E7A5E4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D20428-F9BB-4DFD-B636-A4BC3CEC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28B9F-07EB-42A9-8DDF-49131AEA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2FCF3-CCC0-4338-BF57-51F90210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3C853-E290-400E-B07F-220666B2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005996-A561-49A4-AA60-A1D20813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2767-36AE-40D9-8B5E-7F34B275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0E8C1E-CE7F-491F-9D4E-0672AE3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7490D-535F-4B01-B6EF-48423E8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9A7F20-7CC7-473E-B2B3-9E77E20A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D6E2D1-E8A3-47C4-B8B2-C0E15664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80F8B7-AF22-446B-B5FA-17F4B5B5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7507B1-9D64-4733-BBCA-96D1D469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21398C-B2D1-4B0F-A64C-755BCA97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FA9776-F944-45FF-BBA8-DB99C756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679B7C-6596-4146-8F7D-8BA69EF6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10AF2-DF3A-455C-8263-4C6B6951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2720-F396-4168-9CA3-BDEEBD35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B1B60-1ED6-456B-94B5-3FC4CF1D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CA68F-946D-46C6-8D2B-B46C495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A2E01B-86E5-4580-A053-9A0C3DC1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E8EB5C-4BA2-46A5-86BF-31B7F22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BBC8C-F7AC-4020-BB4F-B834F79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CC4A74-D75D-428A-96DD-9776659A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98D791-55EB-4520-9108-504C85AD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4AA70B-60C9-4ED3-B1DB-FC8484FB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E80FCD-F43C-412A-89A5-994693F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3FA365-12B1-4EB8-AD59-EAA5A84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EE2B-3998-4483-9058-6FFAA377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67A78C-EE66-49DA-81B6-B449BA7E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223430-8425-47AE-AAAC-1611690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D03683-A816-42A4-B8DC-D76CC71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42ADC-4D67-4DE6-98D7-9AFE70AB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AB922-5FB4-4728-A5E7-BD2F1AE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DAD937-26EC-4B56-9DA1-7A84045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3825D-FA35-4F53-B9D5-527607A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034101-B3FA-4E62-AC7F-09C25097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3F0EC2-62E2-42D3-A037-713DF1F7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D45C07-0BA5-4F2B-A016-9C0E914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6997-04C3-4953-926E-D3E9D7FE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AF4C90-3B37-422E-A249-11650543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849D69-8E89-40CC-AE76-761D052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137BCD-6805-4FFE-AE9B-84564C2E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9C048E-7E49-4A53-8DE6-3AFB310A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9EFE38-69B2-451F-85B0-34AB3A82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46B2D5-DF4E-47D0-9027-30E9763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4F626C-B583-4DBC-93CD-3E0495C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B59662-E2D1-4010-9478-22DB033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A0FAAE-57CC-41E6-9445-BA627316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B688D9-9428-4601-B7AD-E3A3FB33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1BC-1486-471D-B158-A32F0E15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80B9-D01F-4E79-9C26-3D6F37D3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1A4C9F-83D5-4C23-8A65-0CD50BD3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4BBE3F-2F83-4F45-9A28-639F1E57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F8566E-704E-447B-A3D3-66C3BB3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E8A3FA-509D-4C9F-82DB-AE35D8C3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3B81A8-F335-4E99-B782-3ADC089C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074D76-2FDD-4473-AD6D-9E56422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B11C21-706D-4005-B974-13D91406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222129-531F-48C3-B276-47CB947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06E7D1-19D7-48FF-8468-BB6758A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E71C44-D7AF-42EB-8E25-4E86F49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44D3-BF38-4A3A-A864-85DC11E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F634B3-CC45-4ECC-9248-06183B67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CA9BA9-7C8C-425C-B770-3F2A7F08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A3ED12-BE9D-41BF-A39A-7C0683E9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C7A9AF-B1E9-476B-AC4A-8249FEA6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331AA9-5392-481E-BBE3-B8154690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F1D327-19E1-4BB4-9E0E-0507216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A88ADC-9917-45EC-B729-C40FCD4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F4B9B5-DB1C-4C66-BB2F-C0ED4644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BF8606-478F-46A3-9286-9534E648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15974-BC24-4005-AC4B-0FAC8A7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453A-3F8B-4533-A742-41CF7FB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1FE36F-FC69-4869-9840-DD8C2D8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B75C6D-9AB0-4497-AA19-2D8DEEF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542F1B-DC38-4113-971B-5DC8AE6A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8E4944-0C31-4D54-9B15-CD9E60E5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234203-8502-4993-BF4B-B0CE880B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82EBAC-FB64-4E78-8BD7-A25F00CC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7BB661-C0B0-4BEA-AA62-873C0085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441CE0-419E-4085-B093-D192B8E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54D9A2-64D5-40A6-873B-582E5AA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B0500B-5046-44F0-B42B-DDD6FEC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11B2-C7DB-404D-B38A-C7F8FAB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3F0F43-A82E-4D99-A4A8-8B615276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B10925-9FEB-48B8-A507-C9CCC4E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EDF940-36FA-487B-8BC9-26926062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BD7E3C-5BE7-401A-B147-9DDACAE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2D3099-1312-4669-9BD5-30AB818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4F8835-A503-431A-B22C-97284298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B0641-53B3-434F-95F8-1D841C86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9CB8FB-9888-4430-BEC2-9549E4D8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AC7B4E-962D-453E-BE2F-2F02A105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E08E35-A6BF-4BB0-8E63-A1A7B283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999B-8FAF-4888-B0C5-26543CC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C3E7A2-C3BF-4302-A1C5-FE505062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A50BF3-D49D-4278-91B7-A39AAB80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500988-B03C-48CE-8DA1-CE19AB4D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BD87D0-28FD-43F9-8ACC-F1E1A926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1F1E1C-CB64-4494-94DE-DCBA655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B1D966-D423-445C-A884-6EB5881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34381C-3DF8-40CA-A3FB-B9D1128D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12A6DF-72E7-48D0-9762-A3EDD5EF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1006DF-9F36-441B-9545-FFF38A44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02B44B-E7BC-4038-B246-B5850A2C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7175-6068-43F3-9D39-30C07C62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149EAE-7C8C-44C8-B178-4F1DC3B1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F81E6C-2776-4ECF-B108-DF121D9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EFA051-21E3-4E00-957E-E75A1ED3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E8BB33-1B85-417F-A650-9571BE0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A1D7C7-658E-4C68-8785-A1DC0C03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9EA830-10AA-4C77-97F7-C037B63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8FC241-A816-4A30-A495-961F5E9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B70D5F-6AAE-4E00-8889-9EDE162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E81D63-B3D6-47B5-A84F-CFAB6457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C02148-4339-4DAF-A5DD-5CF6F5C8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EABE-0F0F-4BDE-BDED-CB3372F3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B0E83E-414A-4016-A37E-C27F5677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3997F9-FBC9-424F-90FA-65A587F9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DDE39D-D551-4158-A95B-B861F856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990A51-F8F7-4663-8F52-6EE439AE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021A13-7D88-4C50-9C9F-45F8F16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071DE8-1F94-4FEA-B509-33166638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D4F0E4-6090-4959-8652-3B1440B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AB429E-B84D-489D-A98D-397E3F2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CAECDE-58EE-47B8-8BF5-1D41692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CD9394-D791-4A64-8B94-F245778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CEC8-AE61-423C-B0FA-EEE39CCB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3E02AD-C57E-420F-9339-CCC7AAE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0AC6C0-636E-4046-83FF-B642C3FD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C5A839-DF7B-4B02-84C5-4566528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D06094-4FA5-4227-A5F0-5877A500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AC3CB-09B1-4903-91BB-3869CD1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5A2A0D-0526-4C7C-9C71-B28AD810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CBBFD6-65B2-4E78-B870-C26D998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7E02FE-DBDE-4B3A-AE0A-731CF087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1246AC-F37E-4C7C-ACA1-1BC288A3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00FBC0-8374-4241-A749-E70595B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B907-E928-459B-9A98-6260CEC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C38C6C-7CC0-4411-84BD-254D70C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E0B003-0F20-455A-9A4B-BD510599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0B4F22-D55F-436B-AAE3-B522AC0C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53CCEA-EF07-4289-AA80-BD388D2A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497CBB-5CCD-48B0-944A-BB983B3D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B9591D-9DFE-4CE0-9139-4DA3578A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E687E0-BBD7-4EFE-862E-89F85EB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756ECF-FB35-4DB6-8670-71661926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477E17-6CBD-4A14-8F83-4CBDEAFA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EA223C-DA09-4AC5-835D-24BD2AE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70CF-4544-4940-B7F4-7564214A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B2380E-06F3-4D85-8A3F-82CD6719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177DA4-F909-4564-A4FD-CFCE376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C0D60A-A85D-477F-A91C-4453D45F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B14864-F958-4948-A96B-FEFB4E8E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60D4DC-1DA3-4ECA-8632-460DAA68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BC1411-C869-4BD1-B32E-16BF56D9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E7AD0C-582C-4CCC-B285-D635F0AC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B9703F-3CB9-4205-B85F-748E7817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805BC0-9CEC-4AD6-AC41-2532ECF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D29C2E-68B7-4C9D-BB2C-C3186B50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65D-814E-4147-8992-A9F92637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7B6E-9E73-431A-97EE-7A978F5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D6BC38-A30E-442E-AA55-D09991C1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D4B2BD-A487-4D14-91BE-D35D856E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DEFDA4-DE98-4630-B1E8-228D8AC5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F56EFA-AFAB-4780-A2C7-E1B1699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0F57D5-2AE8-44FC-90FE-794EEFC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432923-EC75-4AAE-AF96-09C91D71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CB205E-AD9B-4C84-8F78-B99C24C2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7E60E9-5739-4CD0-97B4-0854D84C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F40DC8-5CFE-42E7-87EF-9D441DC4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52ED51-5C72-4136-A58D-0145F341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DE7D-92CB-4B0E-9468-68463FEE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7DDD2C-CA29-4E6B-A450-C422755D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D3710B-C71C-4F2E-9F24-3000D977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866FEB-7F58-4416-8AAF-37DFE9C8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1CA5EE-E774-4991-91E0-53834A8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E5FE33-1382-4CCD-A92D-422945C1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89C049-0E39-4392-9937-2303D9C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5A941E-1035-43F5-9B7C-FF0D5AC9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1D75D2-19FE-4F71-9E76-3493074A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77DA1F-BC71-478A-8134-6DFFD991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E770C7-8A63-4A08-86E9-B795A1A3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51625-3AC4-4DE5-B10E-833F6C7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BC38FA-1B54-470C-8770-3477E2E9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44060C-2269-4855-B300-195CD9DF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CB6AA0-BAAC-4ED0-A96F-96B04CAE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23DBD9-9027-460C-995A-104D2AE0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0B63EC-D726-4DCA-B5E8-FDF5CF32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D7D6BC-F329-4ED6-BA1A-8F13ECBE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E7EC2E-FB1E-4F1B-BF3F-2671383D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348C0D-E3A0-4BAF-86D0-305E5A36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A2EACF-687A-488B-9192-65E5955A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D01100-DB06-41B5-8A14-CEC9B4A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026F-6DE8-40E0-9029-61D8BE2F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8DDD0A-1D0D-4EEF-AD87-948FD371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FE5012-241E-4957-887B-EC14FE75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7C3AA4-7C41-4D0E-A72F-5769E951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586BE6-DFF0-4B06-AA95-E9B4401A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A2FC52-4B6E-4718-990E-49523F4A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999C3B-B03C-4E92-B1D9-6BFC4F9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835F3B-1F66-4EBF-8B0F-C2FF98E8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8721C3-4D96-4DDC-B078-670DF8A7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347F34-F8CD-4F89-A67C-CC1D8A1F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C090EB-26A4-451A-A464-C38E180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3713-2BED-4BD4-8EE0-FD91AD5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F2B96E-F8E2-46FC-BE4C-C8DD3F02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B29739-1A95-4092-930D-6C44A90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113E77-4B2F-42C9-AD49-FB750C32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3D76F0-CEE7-4B2F-AA8B-7C368649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01E7A3-1AD9-4956-A622-48E0B4E7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CEC1-5032-4633-9EA9-4561C477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DE0C-089E-42F1-95A8-79124F3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C599-05A4-4263-B507-8DC07D37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DC2A-2F6F-46C1-9EDD-3AD81A83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5DB6-84F1-4926-88DE-49196122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420-7566-4023-B12B-37C13F6B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FBA7B-DF3D-4C7D-B726-1EC3E99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8778-EDDD-4D66-B102-56F297C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5487-0A07-49F3-A6D8-8EE81BF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7B4A-5F8B-4B4A-ACF7-53B7AF4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7A179-3A59-4F2A-ADF3-10A563D6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D9A3A-1C06-4490-9DA2-E7EF5B5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9E59-B20A-479A-8B0F-45A40B70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06E3-1C09-4BA7-97E4-4982408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CD44-186D-4FE5-82BA-AF7C6D31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45C1-A577-44F5-8FB1-39F966D3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425-9D97-463B-9016-DDACE95D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9465-4D6D-438C-8CD2-B2BB6846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89410-CAFB-4091-8F1C-1AD92105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D8DAF-CAC4-49B4-ABFD-030D0B88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BA222-3C6C-429A-839C-2707B7CC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FCA0-AB6F-4EF9-8EB7-6578F7B2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DCF55-E833-483D-B868-8C8A0929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ED55-82A9-43A2-8B33-A757E6FB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5339-21FE-4338-AEDE-417BB6DC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4A2BD-04D2-4D6A-9788-255322D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58ED-6D2F-438A-92E7-A691193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E12-7609-4185-AC08-86217FF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BF3E-F0A2-4E91-9A44-6996407B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0AC7-B4A2-4ABB-BCC9-4BE24435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3FB71-3E38-4C85-8293-53222F91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2360-03A9-40E6-9D1B-B2F41B7A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31B63-39D5-469C-9BC7-3B5ADF3A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2D24-FB75-422D-B467-A079119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0625-A71F-4CFE-A9F7-DBD3834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C852-415C-4AE6-B01F-0E67E2D9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C90F-DAEC-4013-B045-81C76AF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CF98-3F7D-4909-989A-4E561C4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FA0-B141-401A-9F26-C075CAA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9771-F8D5-42D6-AF46-B37CC5E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374C-72EC-4470-A190-812FA22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2F77-2C4E-4ADD-8DBD-615788C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B2DD-3D73-441E-9525-DDB7C3E2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026C-CF09-44A3-B29D-73B1A6C1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1F4D8-368E-4749-AF32-52017D84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F131-6427-42F0-8B7B-CE7902C2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60B2D-A508-450B-9530-4312754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90F1-B613-4E5F-A9AB-792760D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BCA3-DA88-433E-AD34-AB0EF8EF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AE2-F0EF-4575-9158-5D9480B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59D4-A26A-42F6-A1D1-F45078A9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9BB7E-76B9-4336-8E6F-AB2A989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01684-4548-411F-87A0-88C15714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D4CEB-2FB2-4CE6-832A-6868DD12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6AE3F-6970-404A-9460-EB2E0EF4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5CB8-4559-4718-A9EA-013F7357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76FDD-A399-481E-87EE-D12035F9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83186-16B4-4A63-B608-E5718844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A2BE7-7A6B-4116-A282-38791021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99E9-E508-47C3-91B8-0E8C199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E3B-691B-4BF4-B238-8153E6F01E2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0DB8-EF89-4163-8264-2261F75F8E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2A2-7BB1-47C9-83A7-3995AFECA9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B8E4-224B-4A2C-87E1-099281C560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51E2-04CF-42BB-9C9C-6097891949F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8BB2-F80F-4631-ABB4-E34B0A6BB3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2866-17CD-4E22-8B89-1BA1410FA4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7C4-0FA7-456A-82CE-DBFA267452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23B-2C90-48F1-8BD3-F2C2CAA555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645-3B40-41FB-B86F-9316249687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586E-B4F0-4D7C-8F2A-A665523B58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C6EF-26C7-46EF-B992-769DE38C41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2F7E-0678-4078-8906-F15F2C2675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31B2-4F5F-450D-8CB2-FA75D14458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6F5-A66F-4717-AFEB-21D8B464FB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DD7-DE5F-4B1C-BFEC-B023FEC325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2BE-7E7F-4141-8870-713D322E3D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51A3-FBAD-4462-B13D-B4233786D2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a3b3"/>
            </a:gs>
            <a:gs pos="100000">
              <a:srgbClr val="befc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0D3B-FD92-4A95-BEA7-97E14A4A3C85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7361-4828-4365-80AC-F814681004F1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a3b3"/>
            </a:gs>
            <a:gs pos="100000">
              <a:srgbClr val="befc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02B6-42AD-43D1-B898-2F8459311F00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8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8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8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94A3-78CF-45A7-A165-F46C7674AC9C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B07C-6B4B-45D0-8A38-AFE64194A07E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9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C75-C681-4B99-B727-FED70AB26910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9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9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9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BACB-37CF-42CD-97ED-5E6DBFCD77C3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9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9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9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513C-F5E0-4D64-902A-193DC3EA8AD8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946-79E0-49DC-8070-950F5EA0C4C1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10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10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10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6550-9898-4A81-9072-24E4C030E458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10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10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10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88EC-1AAD-4E27-AE05-CF14E8CCC979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0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0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912-322D-4E53-B05D-968B0F261D88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38E-CF33-4178-9BA0-FF392CCA3981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939E-88F6-44F2-BDA8-1DF7BD1C41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1EE2-209C-406F-AD84-C9796B8EC4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21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FD48-AE9E-45D0-BA81-CE205B7AFB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4A5-F267-40A7-A9A1-58914A7F19D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ED15-498E-456E-AEFA-1A851E6C58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F643-675A-4C94-903E-304798E6AE5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3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Муниципальное казённое общеобразовательное учреждение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«Волчихинская средняя школа № 2»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4300" spc="-1" strike="noStrike">
                <a:solidFill>
                  <a:srgbClr val="ad1707"/>
                </a:solidFill>
                <a:latin typeface="Arial Black"/>
              </a:rPr>
              <a:t>Методическое объединение учителей иностранного языка</a:t>
            </a:r>
            <a:r>
              <a:rPr b="1" i="1" lang="ru-RU" sz="2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/>
          </p:nvPr>
        </p:nvSpPr>
        <p:spPr>
          <a:xfrm>
            <a:off x="856800" y="12855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Чтобы было легче детк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Иностранный изуча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Обучение ранне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оможет им умнее ст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19" descr="P1010561"/>
          <p:cNvPicPr/>
          <p:nvPr/>
        </p:nvPicPr>
        <p:blipFill>
          <a:blip r:embed="rId1"/>
          <a:stretch/>
        </p:blipFill>
        <p:spPr>
          <a:xfrm>
            <a:off x="139680" y="1932120"/>
            <a:ext cx="157968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/>
          </p:nvPr>
        </p:nvSpPr>
        <p:spPr>
          <a:xfrm>
            <a:off x="285840" y="-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А без метода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т успеха в нашем деле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Без него работа буд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вигаться лишь еле-е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1" name="Picture 6" descr="P1010622"/>
          <p:cNvPicPr/>
          <p:nvPr/>
        </p:nvPicPr>
        <p:blipFill>
          <a:blip r:embed="rId1"/>
          <a:stretch/>
        </p:blipFill>
        <p:spPr>
          <a:xfrm>
            <a:off x="6004080" y="5157720"/>
            <a:ext cx="1457280" cy="206532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13" descr="P1010550"/>
          <p:cNvPicPr/>
          <p:nvPr/>
        </p:nvPicPr>
        <p:blipFill>
          <a:blip r:embed="rId2"/>
          <a:stretch/>
        </p:blipFill>
        <p:spPr>
          <a:xfrm>
            <a:off x="1785960" y="4784760"/>
            <a:ext cx="187812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вести срез знаний над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обедить в олимпиад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Хоть проект  презентов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се мы сделаем на "5"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4"/>
          <p:cNvSpPr/>
          <p:nvPr/>
        </p:nvSpPr>
        <p:spPr>
          <a:xfrm>
            <a:off x="-17640" y="1281600"/>
            <a:ext cx="91792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ем и дальше по жизни ша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ь и  учиться, творить, соз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 всё, что мы знаем,  детям да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 школу родную не под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Есть в нашей школе МО ин. яза, 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На фото увидеть можно всех сразу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Мы умные, добрые и симпатичные,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Трудолюбивые и энергичные</a:t>
            </a:r>
            <a:r>
              <a:rPr b="1" lang="ru-RU" sz="2500" spc="-1" strike="noStrike">
                <a:solidFill>
                  <a:srgbClr val="c00000"/>
                </a:solidFill>
                <a:latin typeface="Arial Narrow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586" name="Rectangle 13"/>
          <p:cNvSpPr/>
          <p:nvPr/>
        </p:nvSpPr>
        <p:spPr>
          <a:xfrm>
            <a:off x="180360" y="184464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213840" y="243504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Конушкина 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Ирина 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Геннадьевна,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английского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языка,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ысшая категория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</p:txBody>
      </p:sp>
      <p:pic>
        <p:nvPicPr>
          <p:cNvPr id="1588" name="Picture 7" descr="P1010589"/>
          <p:cNvPicPr/>
          <p:nvPr/>
        </p:nvPicPr>
        <p:blipFill>
          <a:blip r:embed="rId1"/>
          <a:stretch/>
        </p:blipFill>
        <p:spPr>
          <a:xfrm>
            <a:off x="1566720" y="2419200"/>
            <a:ext cx="1298880" cy="1006560"/>
          </a:xfrm>
          <a:prstGeom prst="rect">
            <a:avLst/>
          </a:prstGeom>
          <a:ln w="0">
            <a:noFill/>
          </a:ln>
        </p:spPr>
      </p:pic>
      <p:sp>
        <p:nvSpPr>
          <p:cNvPr id="1589" name="Прямоугольник 6"/>
          <p:cNvSpPr/>
          <p:nvPr/>
        </p:nvSpPr>
        <p:spPr>
          <a:xfrm>
            <a:off x="285840" y="4071960"/>
            <a:ext cx="307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Бути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Наталь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икторо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английского языка,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ысшая  категор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Picture 7" descr="P1010586"/>
          <p:cNvPicPr/>
          <p:nvPr/>
        </p:nvPicPr>
        <p:blipFill>
          <a:blip r:embed="rId2"/>
          <a:stretch/>
        </p:blipFill>
        <p:spPr>
          <a:xfrm>
            <a:off x="1706400" y="4280040"/>
            <a:ext cx="1086120" cy="815760"/>
          </a:xfrm>
          <a:prstGeom prst="rect">
            <a:avLst/>
          </a:prstGeom>
          <a:ln w="0">
            <a:noFill/>
          </a:ln>
        </p:spPr>
      </p:pic>
      <p:sp>
        <p:nvSpPr>
          <p:cNvPr id="1591" name="Прямоугольник 8"/>
          <p:cNvSpPr/>
          <p:nvPr/>
        </p:nvSpPr>
        <p:spPr>
          <a:xfrm>
            <a:off x="3429000" y="2357280"/>
            <a:ext cx="4572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Гладыше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Светл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Николае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английск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язык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торая катег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16" descr="P1010652"/>
          <p:cNvPicPr/>
          <p:nvPr/>
        </p:nvPicPr>
        <p:blipFill>
          <a:blip r:embed="rId3"/>
          <a:stretch/>
        </p:blipFill>
        <p:spPr>
          <a:xfrm>
            <a:off x="4780080" y="2419200"/>
            <a:ext cx="1176120" cy="946440"/>
          </a:xfrm>
          <a:prstGeom prst="rect">
            <a:avLst/>
          </a:prstGeom>
          <a:ln w="0">
            <a:noFill/>
          </a:ln>
        </p:spPr>
      </p:pic>
      <p:sp>
        <p:nvSpPr>
          <p:cNvPr id="1593" name="Прямоугольник 10"/>
          <p:cNvSpPr/>
          <p:nvPr/>
        </p:nvSpPr>
        <p:spPr>
          <a:xfrm>
            <a:off x="3429000" y="3929040"/>
            <a:ext cx="4572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Кузи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Эльвир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Георгие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немецк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язык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ысшая катег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4" name="Picture 7" descr="P1010592"/>
          <p:cNvPicPr/>
          <p:nvPr/>
        </p:nvPicPr>
        <p:blipFill>
          <a:blip r:embed="rId4"/>
          <a:stretch/>
        </p:blipFill>
        <p:spPr>
          <a:xfrm>
            <a:off x="4705200" y="3925800"/>
            <a:ext cx="1231920" cy="10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Rectangle 4"/>
          <p:cNvSpPr/>
          <p:nvPr/>
        </p:nvSpPr>
        <p:spPr>
          <a:xfrm>
            <a:off x="324000" y="409680"/>
            <a:ext cx="8327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с творческой жилкой, открытой душ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патриоты школы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учим детей иностранной культу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бычаям, традициям, литерату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тараемся максимум  знаний им 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 учим на деле их  применять.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4"/>
          <p:cNvSpPr/>
          <p:nvPr/>
        </p:nvSpPr>
        <p:spPr>
          <a:xfrm>
            <a:off x="1187280" y="2411640"/>
            <a:ext cx="744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5"/>
          <p:cNvSpPr/>
          <p:nvPr/>
        </p:nvSpPr>
        <p:spPr>
          <a:xfrm>
            <a:off x="534960" y="354600"/>
            <a:ext cx="8078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Мы обсуждаем, как лучше у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ндивидуальный подход нахо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Какие ещё придумать зад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Чтоб у детей наших были бы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Мы смело шагаем все вместе впер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От жизни МО не отст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Компьютер осваиваем и Интер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 </a:t>
            </a:r>
            <a:r>
              <a:rPr b="1" i="1" lang="en-US" sz="2800" spc="-1" strike="noStrike">
                <a:solidFill>
                  <a:srgbClr val="17375e"/>
                </a:solidFill>
                <a:latin typeface="Arial"/>
              </a:rPr>
              <a:t>Power Point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проблем у нас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4"/>
          <p:cNvSpPr/>
          <p:nvPr/>
        </p:nvSpPr>
        <p:spPr>
          <a:xfrm>
            <a:off x="-252360" y="-111600"/>
            <a:ext cx="9963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Много в школе трудов наши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разу все не перечесть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Мы расскажем по порядк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Обо всем, что у нас 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Прямоугольник 2"/>
          <p:cNvSpPr/>
          <p:nvPr/>
        </p:nvSpPr>
        <p:spPr>
          <a:xfrm>
            <a:off x="2857680" y="785880"/>
            <a:ext cx="5857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В лингафонном каби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Будем знать мы все на све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Будем с языком д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На английском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2" descr="H:\Documents and Settings\учитель\Рабочий стол\102MSDCF\DSC00756.JPG"/>
          <p:cNvPicPr/>
          <p:nvPr/>
        </p:nvPicPr>
        <p:blipFill>
          <a:blip r:embed="rId1"/>
          <a:stretch/>
        </p:blipFill>
        <p:spPr>
          <a:xfrm>
            <a:off x="189000" y="420840"/>
            <a:ext cx="123804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1"/>
          <p:cNvSpPr/>
          <p:nvPr/>
        </p:nvSpPr>
        <p:spPr>
          <a:xfrm>
            <a:off x="1928880" y="1175040"/>
            <a:ext cx="750096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слова расслыш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транскрипции напиш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с доской интеракти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узнаем мир обши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мощь нам нужна 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ученье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оске мы все проч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словарик занес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2" descr="H:\Documents and Settings\учитель\Рабочий стол\102MSDCF\DSC00770.JPG"/>
          <p:cNvPicPr/>
          <p:nvPr/>
        </p:nvPicPr>
        <p:blipFill>
          <a:blip r:embed="rId1"/>
          <a:stretch/>
        </p:blipFill>
        <p:spPr>
          <a:xfrm>
            <a:off x="590400" y="506520"/>
            <a:ext cx="133056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54064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 наше непро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се хотят быть бизнесмен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Но для этого он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Business English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» знать долж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Наша школа предла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Этот элективный к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И кто хочет выбир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Деловой англий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Может в будущем он ста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Финансовым министром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4" name="Picture 13" descr="P1010546"/>
          <p:cNvPicPr/>
          <p:nvPr/>
        </p:nvPicPr>
        <p:blipFill>
          <a:blip r:embed="rId1"/>
          <a:stretch/>
        </p:blipFill>
        <p:spPr>
          <a:xfrm>
            <a:off x="878040" y="5005440"/>
            <a:ext cx="1474560" cy="118260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2" descr="P1010547"/>
          <p:cNvPicPr/>
          <p:nvPr/>
        </p:nvPicPr>
        <p:blipFill>
          <a:blip r:embed="rId2"/>
          <a:stretch/>
        </p:blipFill>
        <p:spPr>
          <a:xfrm>
            <a:off x="6492960" y="5065560"/>
            <a:ext cx="1492200" cy="12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/>
          </p:nvPr>
        </p:nvSpPr>
        <p:spPr>
          <a:xfrm>
            <a:off x="357120" y="142560"/>
            <a:ext cx="854064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Любят дети в «Полиглот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аз в неделю приходить,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равится кружок им этот,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нтересно им язык учи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Picture 6" descr="H:\Documents and Settings\учитель\Рабочий стол\102MSDCF\DSC00741.JPG"/>
          <p:cNvPicPr/>
          <p:nvPr/>
        </p:nvPicPr>
        <p:blipFill>
          <a:blip r:embed="rId1"/>
          <a:stretch/>
        </p:blipFill>
        <p:spPr>
          <a:xfrm>
            <a:off x="3992400" y="3633840"/>
            <a:ext cx="1322640" cy="133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0:12:01Z</dcterms:created>
  <dc:creator>Зарубкина Р.И.</dc:creator>
  <dc:description/>
  <dc:language>en-US</dc:language>
  <cp:lastModifiedBy>Admin</cp:lastModifiedBy>
  <dcterms:modified xsi:type="dcterms:W3CDTF">2012-06-14T10:45:00Z</dcterms:modified>
  <cp:revision>48</cp:revision>
  <dc:subject/>
  <dc:title>Методическое объединение учителей иностранного языка</dc:title>
</cp:coreProperties>
</file>