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4.png" ContentType="image/png"/>
  <Override PartName="/ppt/media/image7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C01-1CA3-4B43-8803-75DD3DDB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4E2-F66C-4DBA-8557-D08931F6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ACC-9EBE-46AD-B52E-944740D4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57F8-B9F1-4EF3-9FC6-36E2FBF5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A636-0DF9-496E-8DAF-D04863E6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C68-EC90-41C7-B1AD-19258FF6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258-30D1-4AE0-BB9C-47C9A46A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33D-BDF3-4AAA-B633-2BB95B0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AC9-DFB6-486B-9D98-D8D111E3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AE5-AA5F-4D2C-BC1A-C7F5534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6D9-729F-4A16-BAD4-29B3593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AD1-C0C6-43F4-9610-070DC8FC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17AD-9694-4613-8915-7ECE4DCFD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6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619280" cy="117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18920" cy="11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79280" y="5445000"/>
            <a:ext cx="128268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979640" y="2133720"/>
            <a:ext cx="1944720" cy="132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9306800">
            <a:off x="394920" y="1628280"/>
            <a:ext cx="417672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333399"/>
                    </a:gs>
                    <a:gs pos="100000">
                      <a:srgbClr val="ff0000"/>
                    </a:gs>
                  </a:gsLst>
                  <a:lin ang="7692000"/>
                </a:gradFill>
                <a:latin typeface="Arial"/>
              </a:rPr>
              <a:t>О ДРУЖБ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333399"/>
                  </a:gs>
                  <a:gs pos="100000">
                    <a:srgbClr val="ff0000"/>
                  </a:gs>
                </a:gsLst>
                <a:lin ang="7692000"/>
              </a:gra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 rot="19158600">
            <a:off x="3634920" y="4437000"/>
            <a:ext cx="50245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50000">
                      <a:srgbClr val="ff0000"/>
                    </a:gs>
                    <a:gs pos="100000">
                      <a:srgbClr val="000066"/>
                    </a:gs>
                  </a:gsLst>
                  <a:lin ang="7842000"/>
                </a:gradFill>
                <a:latin typeface="Times New Roman"/>
              </a:rPr>
              <a:t>К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50000">
                    <a:srgbClr val="ff0000"/>
                  </a:gs>
                  <a:gs pos="100000">
                    <a:srgbClr val="000066"/>
                  </a:gs>
                </a:gsLst>
                <a:lin ang="7842000"/>
              </a:gradFill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740720" y="5589720"/>
            <a:ext cx="961920" cy="106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300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42080" y="0"/>
            <a:ext cx="52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Eras Bold ITC"/>
              </a:rPr>
              <a:t>ЗАКОНЧИТЕ ФРАЗ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836640"/>
            <a:ext cx="844524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Все за одного, а один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Не имей сто рублей, а имей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Семеро одно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Один в пол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Одна ласточка весны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Старый друг лучше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Нет друга, так ищи, а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Goudy Stou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Goudy Stout"/>
              </a:rPr>
              <a:t>С кем поведешься, от тог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42200" y="1773360"/>
            <a:ext cx="2701800" cy="1646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47640" cy="90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383600" y="5716440"/>
            <a:ext cx="1760400" cy="1141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17080" y="83664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за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920" y="1773360"/>
            <a:ext cx="317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сто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440" y="2276640"/>
            <a:ext cx="18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 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9080" y="278136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7800" y="3284640"/>
            <a:ext cx="22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е дел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8720" y="378936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овых дв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920" y="4724280"/>
            <a:ext cx="40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нашел – бере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840" y="5661000"/>
            <a:ext cx="38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и набереш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65440" y="115920"/>
            <a:ext cx="549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Eras Bold ITC"/>
              </a:rPr>
              <a:t>ОТЛИЧАЙ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ДРУГ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, близкий вам по духу, по убеждениям, на которого можно во всем полож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0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ТОВАРИЩ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, близкий вам по роду занятий, деятельности, по условиям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ПРИЯТЕЛЬ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, с которым у вас сложились хорошие, простые, но не совсем близ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08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Goudy Stout"/>
              </a:rPr>
              <a:t>РОВЕСНИК –</a:t>
            </a:r>
            <a:r>
              <a:rPr b="1" lang="en-US" sz="3200" spc="-1" strike="noStrike">
                <a:solidFill>
                  <a:srgbClr val="333399"/>
                </a:solidFill>
                <a:latin typeface="Goudy Stout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Goudy Stout"/>
              </a:rPr>
              <a:t>человек одного с вами возраста, т.е. сверстник, одногодок, одно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846920" y="6014880"/>
            <a:ext cx="1297080" cy="84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39960" y="26028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 В ЗАКЛЮЧЕНИ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25360"/>
            <a:ext cx="842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У каждого человека не так много настоящих друзей. Берегите друзей! Бытует мнение, что друзья познаются в беде, в трудную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Однако существует еще одно мнение. Дружба познается не только бедами, но и обыденными мело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Выбирайте друзей не спеша, но и расставаться с ними не торопите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SzPct val="17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Stout"/>
              </a:rPr>
              <a:t>И помните, друзья создаются в детстве и юности, дальше становится все труднее и труднее подруж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031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1052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04000" y="5157720"/>
            <a:ext cx="2340000" cy="170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556000" y="5229360"/>
            <a:ext cx="4176720" cy="162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0" y="5229360"/>
            <a:ext cx="2411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21:33:01Z</dcterms:created>
  <dc:creator>User</dc:creator>
  <dc:description/>
  <dc:language>en-US</dc:language>
  <cp:lastModifiedBy>User</cp:lastModifiedBy>
  <dcterms:modified xsi:type="dcterms:W3CDTF">2012-06-14T16:41:30Z</dcterms:modified>
  <cp:revision>4</cp:revision>
  <dc:subject/>
  <dc:title>Слайд 1</dc:title>
</cp:coreProperties>
</file>