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.jpeg" ContentType="image/jpeg"/>
  <Override PartName="/ppt/media/image2.gif" ContentType="image/gif"/>
  <Override PartName="/ppt/media/image6.png" ContentType="image/png"/>
  <Override PartName="/ppt/media/image3.gif" ContentType="image/gif"/>
  <Override PartName="/ppt/media/image4.png" ContentType="image/png"/>
  <Override PartName="/ppt/media/image7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BFE-182D-40C8-8F76-FAC1FBC9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E17-610F-40FA-A270-641C8AF8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AFC-CDCE-4168-8B13-6DC83E95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818-1448-4E83-9E6F-65879534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7F3-CA4B-41E6-8A94-6F06D34C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2EE-4A38-4082-87A0-04165781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E55-0486-47F4-BFD8-66220669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C0E-768A-402A-AE13-E06F58C7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B84-0D55-4584-81CF-B6E1DADB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27E1-3B6B-4A00-B3B3-BB6C03C7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92F-E0F2-4C64-81CE-18AD4CBE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629-5BEA-499C-8044-B3847BF0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7DFC-DC19-4CF3-8654-55BC20E22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36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619280" cy="1171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618920" cy="11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79280" y="5445000"/>
            <a:ext cx="1282680" cy="141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979640" y="2133720"/>
            <a:ext cx="1944720" cy="132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19306800">
            <a:off x="394920" y="1628280"/>
            <a:ext cx="417672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333399"/>
                    </a:gs>
                    <a:gs pos="100000">
                      <a:srgbClr val="ff0000"/>
                    </a:gs>
                  </a:gsLst>
                  <a:lin ang="7692000"/>
                </a:gradFill>
                <a:latin typeface="Arial"/>
              </a:rPr>
              <a:t>О ДРУЖБ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333399"/>
                  </a:gs>
                  <a:gs pos="100000">
                    <a:srgbClr val="ff0000"/>
                  </a:gs>
                </a:gsLst>
                <a:lin ang="7692000"/>
              </a:gra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 rot="19158600">
            <a:off x="3634920" y="4437000"/>
            <a:ext cx="502452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50000">
                      <a:srgbClr val="ff0000"/>
                    </a:gs>
                    <a:gs pos="100000">
                      <a:srgbClr val="000066"/>
                    </a:gs>
                  </a:gsLst>
                  <a:lin ang="7842000"/>
                </a:gradFill>
                <a:latin typeface="Times New Roman"/>
              </a:rPr>
              <a:t>КЛАССНЫЙ Ч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50000">
                    <a:srgbClr val="ff0000"/>
                  </a:gs>
                  <a:gs pos="100000">
                    <a:srgbClr val="000066"/>
                  </a:gs>
                </a:gsLst>
                <a:lin ang="7842000"/>
              </a:gradFill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740720" y="5589720"/>
            <a:ext cx="961920" cy="1066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300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42080" y="0"/>
            <a:ext cx="52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Eras Bold ITC"/>
              </a:rPr>
              <a:t>ЗАКОНЧИТЕ ФРАЗ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836640"/>
            <a:ext cx="844524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Все за одного, а один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Не имей сто рублей, а имей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Семеро одног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Один в пол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Одна ласточка весны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Старый друг лучш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Нет друга, так ищи, 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С кем поведешься, от тог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42200" y="1773360"/>
            <a:ext cx="2701800" cy="164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47640" cy="907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383600" y="5716440"/>
            <a:ext cx="1760400" cy="1141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517080" y="83664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за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6920" y="1773360"/>
            <a:ext cx="31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сто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61440" y="227664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не ж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9080" y="2781360"/>
            <a:ext cx="18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не во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7800" y="3284640"/>
            <a:ext cx="22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не дел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8720" y="378936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новых дв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920" y="4724280"/>
            <a:ext cx="40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нашел – бере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840" y="5661000"/>
            <a:ext cx="38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и набереш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65440" y="115920"/>
            <a:ext cx="549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Eras Bold ITC"/>
              </a:rPr>
              <a:t>ОТЛИЧАЙ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76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oudy Stout"/>
              </a:rPr>
              <a:t>ДРУГ –</a:t>
            </a:r>
            <a:r>
              <a:rPr b="1" lang="en-US" sz="3200" spc="-1" strike="noStrike">
                <a:solidFill>
                  <a:srgbClr val="333399"/>
                </a:solidFill>
                <a:latin typeface="Goudy Stout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Goudy Stout"/>
              </a:rPr>
              <a:t>человек, близкий вам по духу, по убеждениям, на которого можно во всем полож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0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oudy Stout"/>
              </a:rPr>
              <a:t>ТОВАРИЩ –</a:t>
            </a:r>
            <a:r>
              <a:rPr b="1" lang="en-US" sz="3200" spc="-1" strike="noStrike">
                <a:solidFill>
                  <a:srgbClr val="333399"/>
                </a:solidFill>
                <a:latin typeface="Goudy Stout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Goudy Stout"/>
              </a:rPr>
              <a:t>человек, близкий вам по роду занятий, деятельности, по условиям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64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oudy Stout"/>
              </a:rPr>
              <a:t>ПРИЯТЕЛЬ –</a:t>
            </a:r>
            <a:r>
              <a:rPr b="1" lang="en-US" sz="3200" spc="-1" strike="noStrike">
                <a:solidFill>
                  <a:srgbClr val="333399"/>
                </a:solidFill>
                <a:latin typeface="Goudy Stout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Goudy Stout"/>
              </a:rPr>
              <a:t>человек, с которым у вас сложились хорошие, простые, но не совсем близкие отно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084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oudy Stout"/>
              </a:rPr>
              <a:t>РОВЕСНИК –</a:t>
            </a:r>
            <a:r>
              <a:rPr b="1" lang="en-US" sz="3200" spc="-1" strike="noStrike">
                <a:solidFill>
                  <a:srgbClr val="333399"/>
                </a:solidFill>
                <a:latin typeface="Goudy Stout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Goudy Stout"/>
              </a:rPr>
              <a:t>человек одного с вами возраста, т.е. сверстник, одногодок, одно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846920" y="6014880"/>
            <a:ext cx="1297080" cy="843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39960" y="260280"/>
            <a:ext cx="53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И В ЗАКЛЮЧЕНИ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12536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66"/>
              </a:buClr>
              <a:buSzPct val="17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Stout"/>
              </a:rPr>
              <a:t>У каждого человека не так много настоящих друзей. Берегите друзей! Бытует мнение, что друзья познаются в беде, в трудную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SzPct val="17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Stout"/>
              </a:rPr>
              <a:t>Однако существует еще одно мнение. Дружба познается не только бедами, но и обыденными мелоч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SzPct val="17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Stout"/>
              </a:rPr>
              <a:t>Выбирайте друзей не спеша, но и расставаться с ними не торопи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SzPct val="17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Stout"/>
              </a:rPr>
              <a:t>И помните, друзья создаются в детстве и юности, дальше становится все труднее и труднее подруж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47640" cy="1031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052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04000" y="5157720"/>
            <a:ext cx="2340000" cy="1700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556000" y="5229360"/>
            <a:ext cx="4176720" cy="1628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0" y="5229360"/>
            <a:ext cx="2411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21:33:01Z</dcterms:created>
  <dc:creator>User</dc:creator>
  <dc:description/>
  <dc:language>en-US</dc:language>
  <cp:lastModifiedBy>User</cp:lastModifiedBy>
  <dcterms:modified xsi:type="dcterms:W3CDTF">2012-06-14T16:41:30Z</dcterms:modified>
  <cp:revision>4</cp:revision>
  <dc:subject/>
  <dc:title>Слайд 1</dc:title>
</cp:coreProperties>
</file>