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64.jpeg" ContentType="image/jpeg"/>
  <Override PartName="/ppt/media/image32.png" ContentType="image/png"/>
  <Override PartName="/ppt/media/image31.png" ContentType="image/png"/>
  <Override PartName="/ppt/media/image2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9.png" ContentType="image/png"/>
  <Override PartName="/ppt/media/image65.jpeg" ContentType="image/jpeg"/>
  <Override PartName="/ppt/media/image100.png" ContentType="image/png"/>
  <Override PartName="/ppt/media/image12.png" ContentType="image/png"/>
  <Override PartName="/ppt/media/image13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8.jpeg" ContentType="image/jpeg"/>
  <Override PartName="/ppt/media/image11.jpeg" ContentType="image/jpeg"/>
  <Override PartName="/ppt/media/image92.wmf" ContentType="image/x-wmf"/>
  <Override PartName="/ppt/media/image6.png" ContentType="image/png"/>
  <Override PartName="/ppt/media/image83.png" ContentType="image/png"/>
  <Override PartName="/ppt/media/image29.png" ContentType="image/png"/>
  <Override PartName="/ppt/media/image63.jpeg" ContentType="image/jpeg"/>
  <Override PartName="/ppt/media/image9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6.png" ContentType="image/png"/>
  <Override PartName="/ppt/media/image77.png" ContentType="image/png"/>
  <Override PartName="/ppt/media/image84.gif" ContentType="image/gif"/>
  <Override PartName="/ppt/media/image78.png" ContentType="image/png"/>
  <Override PartName="/ppt/media/image69.jpeg" ContentType="image/jpeg"/>
  <Override PartName="/ppt/media/image75.png" ContentType="image/png"/>
  <Override PartName="/ppt/media/image80.jpeg" ContentType="image/jpeg"/>
  <Override PartName="/ppt/media/image79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109.jpeg" ContentType="image/jpeg"/>
  <Override PartName="/ppt/media/image87.gif" ContentType="image/gif"/>
  <Override PartName="/ppt/media/image101.png" ContentType="image/png"/>
  <Override PartName="/ppt/media/image85.jpeg" ContentType="image/jpeg"/>
  <Override PartName="/ppt/media/image108.png" ContentType="image/png"/>
  <Override PartName="/ppt/media/image93.png" ContentType="image/png"/>
  <Override PartName="/ppt/media/image88.jpeg" ContentType="image/jpeg"/>
  <Override PartName="/ppt/media/image14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19.png" ContentType="image/png"/>
  <Override PartName="/ppt/media/image104.png" ContentType="image/png"/>
  <Override PartName="/ppt/media/image97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82.jpeg" ContentType="image/jpeg"/>
  <Override PartName="/ppt/media/image89.gif" ContentType="image/gif"/>
  <Override PartName="/ppt/media/image70.png" ContentType="image/png"/>
  <Override PartName="/ppt/media/image68.png" ContentType="image/png"/>
  <Override PartName="/ppt/media/image67.jpeg" ContentType="image/jpeg"/>
  <Override PartName="/ppt/media/image58.png" ContentType="image/png"/>
  <Override PartName="/ppt/media/image66.png" ContentType="image/png"/>
  <Override PartName="/ppt/media/image61.jpeg" ContentType="image/jpeg"/>
  <Override PartName="/ppt/media/image74.png" ContentType="image/png"/>
  <Override PartName="/ppt/media/image90.jpeg" ContentType="image/jpeg"/>
  <Override PartName="/ppt/media/image60.png" ContentType="image/png"/>
  <Override PartName="/ppt/media/image110.jpeg" ContentType="image/jpeg"/>
  <Override PartName="/ppt/media/image25.png" ContentType="image/png"/>
  <Override PartName="/ppt/media/image86.jpeg" ContentType="image/jpeg"/>
  <Override PartName="/ppt/media/image10.jpeg" ContentType="image/jpeg"/>
  <Override PartName="/ppt/media/image11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7.png" ContentType="image/png"/>
  <Override PartName="/ppt/media/image36.jpeg" ContentType="image/jpe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3E7D-BFB0-46D2-A033-29EA51133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A81-AC34-4750-B000-CEA2096869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797-DEF2-4FB5-A48D-A1404A1A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141-7685-4543-BF0C-C30AC63F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D7A-4D32-4790-B0F8-EBE6904D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623-B6AA-4AF4-BA03-1716F1CE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F9E3A-E28D-498E-8256-87079E3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59C36-B0BD-436C-84AD-8694EDD3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29419-32B3-4981-82C1-01734507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2A594-B65D-4055-8899-51FCF807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33532-4AF5-4D95-9F67-45625BF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29980-D828-4171-91B8-D514551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015FA-7EEB-4601-AFEF-7FDAB85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CA8-6C73-40E5-A3A0-1C9252D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6E059-D6BE-412C-BCD5-D62F1D09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33381-6DC5-45D6-B4CD-EC8EEC9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2E869-9774-40E8-98C2-00D53E9D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46845-DAE5-4A83-A734-EF97861B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16703-2F7F-403B-8D04-46B17B78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62A-60CA-45AC-B9FA-C723B2F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091-9113-4A63-8A6A-13B6BC39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BE1-B067-4988-AB43-43C3D4B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775-16AF-490B-81F0-D982625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9E3-55D2-480C-8576-8B7D030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1F4-AD81-4E30-8B70-881A631E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D98-CC61-451A-8B29-FC88894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7C3-C0CA-4B40-84C6-0B9CCFA28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5B89-55EC-4EF9-B036-40E5B25BD2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jpe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103.png"/><Relationship Id="rId12" Type="http://schemas.openxmlformats.org/officeDocument/2006/relationships/image" Target="../media/image104.png"/><Relationship Id="rId13" Type="http://schemas.openxmlformats.org/officeDocument/2006/relationships/image" Target="../media/image105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8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image" Target="../media/image57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60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Картинка 6 из 15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6" descr=""/>
          <p:cNvPicPr/>
          <p:nvPr/>
        </p:nvPicPr>
        <p:blipFill>
          <a:blip r:embed="rId2"/>
          <a:stretch/>
        </p:blipFill>
        <p:spPr>
          <a:xfrm>
            <a:off x="1749600" y="0"/>
            <a:ext cx="73944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" descr=""/>
          <p:cNvPicPr/>
          <p:nvPr/>
        </p:nvPicPr>
        <p:blipFill>
          <a:blip r:embed="rId3"/>
          <a:stretch/>
        </p:blipFill>
        <p:spPr>
          <a:xfrm>
            <a:off x="0" y="5913360"/>
            <a:ext cx="4383000" cy="70020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6" descr=""/>
          <p:cNvPicPr/>
          <p:nvPr/>
        </p:nvPicPr>
        <p:blipFill>
          <a:blip r:embed="rId4"/>
          <a:stretch/>
        </p:blipFill>
        <p:spPr>
          <a:xfrm>
            <a:off x="2494080" y="3200400"/>
            <a:ext cx="3273480" cy="993600"/>
          </a:xfrm>
          <a:prstGeom prst="rect">
            <a:avLst/>
          </a:prstGeom>
          <a:ln w="0">
            <a:noFill/>
          </a:ln>
        </p:spPr>
      </p:pic>
      <p:pic>
        <p:nvPicPr>
          <p:cNvPr id="94" name="Al Di Meola - Azzura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Al Di Meola - Azzur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6040" y="72684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нежные облака белого цвета, волнистые или нитевидны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1359000" y="1932120"/>
            <a:ext cx="63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этих облаков никогда не выпадают осад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12" descr="Картинка 126 из 3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8" name="TextBox 6"/>
          <p:cNvGrpSpPr/>
          <p:nvPr/>
        </p:nvGrpSpPr>
        <p:grpSpPr>
          <a:xfrm>
            <a:off x="6662880" y="4718160"/>
            <a:ext cx="2305080" cy="1901880"/>
            <a:chOff x="6662880" y="4718160"/>
            <a:chExt cx="2305080" cy="1901880"/>
          </a:xfrm>
        </p:grpSpPr>
        <p:pic>
          <p:nvPicPr>
            <p:cNvPr id="229" name="TextBox 6" descr=""/>
            <p:cNvPicPr/>
            <p:nvPr/>
          </p:nvPicPr>
          <p:blipFill>
            <a:blip r:embed="rId2"/>
            <a:stretch/>
          </p:blipFill>
          <p:spPr>
            <a:xfrm>
              <a:off x="6662880" y="4718160"/>
              <a:ext cx="230508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726240" y="4780080"/>
              <a:ext cx="2154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о зато именно эти облака могут подсказать вам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что через сутки пройдут  долгие дожди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1" name="Picture 14" descr="Картинка 334 из 3019"/>
          <p:cNvPicPr/>
          <p:nvPr/>
        </p:nvPicPr>
        <p:blipFill>
          <a:blip r:embed="rId3"/>
          <a:stretch/>
        </p:blipFill>
        <p:spPr>
          <a:xfrm>
            <a:off x="-28440" y="6480"/>
            <a:ext cx="9172440" cy="685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Прямоугольник 8" descr=""/>
          <p:cNvPicPr/>
          <p:nvPr/>
        </p:nvPicPr>
        <p:blipFill>
          <a:blip r:embed="rId4"/>
          <a:stretch/>
        </p:blipFill>
        <p:spPr>
          <a:xfrm>
            <a:off x="2023920" y="407880"/>
            <a:ext cx="5351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233" name="Freeform 5"/>
          <p:cNvGrpSpPr/>
          <p:nvPr/>
        </p:nvGrpSpPr>
        <p:grpSpPr>
          <a:xfrm>
            <a:off x="3449520" y="5072040"/>
            <a:ext cx="5749560" cy="1882800"/>
            <a:chOff x="3449520" y="5072040"/>
            <a:chExt cx="5749560" cy="1882800"/>
          </a:xfrm>
        </p:grpSpPr>
        <p:pic>
          <p:nvPicPr>
            <p:cNvPr id="234" name="Freeform 5" descr=""/>
            <p:cNvPicPr/>
            <p:nvPr/>
          </p:nvPicPr>
          <p:blipFill>
            <a:blip r:embed="rId5"/>
            <a:stretch/>
          </p:blipFill>
          <p:spPr>
            <a:xfrm>
              <a:off x="3449520" y="5072040"/>
              <a:ext cx="55324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510720" y="5108400"/>
              <a:ext cx="56883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Freeform 8"/>
          <p:cNvSpPr/>
          <p:nvPr/>
        </p:nvSpPr>
        <p:spPr>
          <a:xfrm>
            <a:off x="5867280" y="1268280"/>
            <a:ext cx="1981440" cy="104940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869" h="571">
                <a:moveTo>
                  <a:pt x="0" y="571"/>
                </a:moveTo>
                <a:cubicBezTo>
                  <a:pt x="33" y="521"/>
                  <a:pt x="103" y="510"/>
                  <a:pt x="159" y="503"/>
                </a:cubicBezTo>
                <a:cubicBezTo>
                  <a:pt x="198" y="480"/>
                  <a:pt x="233" y="475"/>
                  <a:pt x="273" y="457"/>
                </a:cubicBezTo>
                <a:cubicBezTo>
                  <a:pt x="311" y="439"/>
                  <a:pt x="347" y="418"/>
                  <a:pt x="386" y="404"/>
                </a:cubicBezTo>
                <a:cubicBezTo>
                  <a:pt x="409" y="383"/>
                  <a:pt x="486" y="355"/>
                  <a:pt x="523" y="344"/>
                </a:cubicBezTo>
                <a:cubicBezTo>
                  <a:pt x="528" y="334"/>
                  <a:pt x="530" y="321"/>
                  <a:pt x="538" y="313"/>
                </a:cubicBezTo>
                <a:cubicBezTo>
                  <a:pt x="570" y="281"/>
                  <a:pt x="639" y="245"/>
                  <a:pt x="682" y="230"/>
                </a:cubicBezTo>
                <a:cubicBezTo>
                  <a:pt x="716" y="178"/>
                  <a:pt x="676" y="229"/>
                  <a:pt x="720" y="200"/>
                </a:cubicBezTo>
                <a:cubicBezTo>
                  <a:pt x="758" y="175"/>
                  <a:pt x="730" y="182"/>
                  <a:pt x="758" y="154"/>
                </a:cubicBezTo>
                <a:cubicBezTo>
                  <a:pt x="767" y="145"/>
                  <a:pt x="779" y="140"/>
                  <a:pt x="788" y="132"/>
                </a:cubicBezTo>
                <a:cubicBezTo>
                  <a:pt x="794" y="127"/>
                  <a:pt x="798" y="121"/>
                  <a:pt x="803" y="116"/>
                </a:cubicBezTo>
                <a:cubicBezTo>
                  <a:pt x="806" y="109"/>
                  <a:pt x="807" y="101"/>
                  <a:pt x="811" y="94"/>
                </a:cubicBezTo>
                <a:cubicBezTo>
                  <a:pt x="869" y="0"/>
                  <a:pt x="851" y="33"/>
                  <a:pt x="841" y="63"/>
                </a:cubicBezTo>
                <a:cubicBezTo>
                  <a:pt x="833" y="88"/>
                  <a:pt x="827" y="117"/>
                  <a:pt x="811" y="139"/>
                </a:cubicBezTo>
                <a:cubicBezTo>
                  <a:pt x="805" y="148"/>
                  <a:pt x="796" y="154"/>
                  <a:pt x="788" y="162"/>
                </a:cubicBezTo>
                <a:cubicBezTo>
                  <a:pt x="775" y="216"/>
                  <a:pt x="736" y="267"/>
                  <a:pt x="682" y="283"/>
                </a:cubicBezTo>
                <a:cubicBezTo>
                  <a:pt x="647" y="329"/>
                  <a:pt x="633" y="342"/>
                  <a:pt x="576" y="351"/>
                </a:cubicBezTo>
                <a:cubicBezTo>
                  <a:pt x="533" y="397"/>
                  <a:pt x="593" y="338"/>
                  <a:pt x="538" y="374"/>
                </a:cubicBezTo>
                <a:cubicBezTo>
                  <a:pt x="482" y="410"/>
                  <a:pt x="546" y="385"/>
                  <a:pt x="493" y="412"/>
                </a:cubicBezTo>
                <a:cubicBezTo>
                  <a:pt x="453" y="433"/>
                  <a:pt x="405" y="436"/>
                  <a:pt x="364" y="457"/>
                </a:cubicBezTo>
                <a:cubicBezTo>
                  <a:pt x="318" y="506"/>
                  <a:pt x="363" y="466"/>
                  <a:pt x="220" y="480"/>
                </a:cubicBezTo>
                <a:cubicBezTo>
                  <a:pt x="187" y="483"/>
                  <a:pt x="147" y="499"/>
                  <a:pt x="114" y="503"/>
                </a:cubicBezTo>
                <a:cubicBezTo>
                  <a:pt x="106" y="506"/>
                  <a:pt x="98" y="507"/>
                  <a:pt x="91" y="511"/>
                </a:cubicBezTo>
                <a:cubicBezTo>
                  <a:pt x="83" y="515"/>
                  <a:pt x="77" y="523"/>
                  <a:pt x="68" y="526"/>
                </a:cubicBezTo>
                <a:cubicBezTo>
                  <a:pt x="19" y="543"/>
                  <a:pt x="15" y="515"/>
                  <a:pt x="0" y="57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d5d5d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8028000" y="1844640"/>
            <a:ext cx="12600" cy="421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5940360" y="252900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ота более 6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5867280" y="1376280"/>
            <a:ext cx="1379520" cy="906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869" h="571">
                <a:moveTo>
                  <a:pt x="0" y="571"/>
                </a:moveTo>
                <a:cubicBezTo>
                  <a:pt x="33" y="521"/>
                  <a:pt x="103" y="510"/>
                  <a:pt x="159" y="503"/>
                </a:cubicBezTo>
                <a:cubicBezTo>
                  <a:pt x="198" y="480"/>
                  <a:pt x="233" y="475"/>
                  <a:pt x="273" y="457"/>
                </a:cubicBezTo>
                <a:cubicBezTo>
                  <a:pt x="311" y="439"/>
                  <a:pt x="347" y="418"/>
                  <a:pt x="386" y="404"/>
                </a:cubicBezTo>
                <a:cubicBezTo>
                  <a:pt x="409" y="383"/>
                  <a:pt x="486" y="355"/>
                  <a:pt x="523" y="344"/>
                </a:cubicBezTo>
                <a:cubicBezTo>
                  <a:pt x="528" y="334"/>
                  <a:pt x="530" y="321"/>
                  <a:pt x="538" y="313"/>
                </a:cubicBezTo>
                <a:cubicBezTo>
                  <a:pt x="570" y="281"/>
                  <a:pt x="639" y="245"/>
                  <a:pt x="682" y="230"/>
                </a:cubicBezTo>
                <a:cubicBezTo>
                  <a:pt x="716" y="178"/>
                  <a:pt x="676" y="229"/>
                  <a:pt x="720" y="200"/>
                </a:cubicBezTo>
                <a:cubicBezTo>
                  <a:pt x="758" y="175"/>
                  <a:pt x="730" y="182"/>
                  <a:pt x="758" y="154"/>
                </a:cubicBezTo>
                <a:cubicBezTo>
                  <a:pt x="767" y="145"/>
                  <a:pt x="779" y="140"/>
                  <a:pt x="788" y="132"/>
                </a:cubicBezTo>
                <a:cubicBezTo>
                  <a:pt x="794" y="127"/>
                  <a:pt x="798" y="121"/>
                  <a:pt x="803" y="116"/>
                </a:cubicBezTo>
                <a:cubicBezTo>
                  <a:pt x="806" y="109"/>
                  <a:pt x="807" y="101"/>
                  <a:pt x="811" y="94"/>
                </a:cubicBezTo>
                <a:cubicBezTo>
                  <a:pt x="869" y="0"/>
                  <a:pt x="851" y="33"/>
                  <a:pt x="841" y="63"/>
                </a:cubicBezTo>
                <a:cubicBezTo>
                  <a:pt x="833" y="88"/>
                  <a:pt x="827" y="117"/>
                  <a:pt x="811" y="139"/>
                </a:cubicBezTo>
                <a:cubicBezTo>
                  <a:pt x="805" y="148"/>
                  <a:pt x="796" y="154"/>
                  <a:pt x="788" y="162"/>
                </a:cubicBezTo>
                <a:cubicBezTo>
                  <a:pt x="775" y="216"/>
                  <a:pt x="736" y="267"/>
                  <a:pt x="682" y="283"/>
                </a:cubicBezTo>
                <a:cubicBezTo>
                  <a:pt x="647" y="329"/>
                  <a:pt x="633" y="342"/>
                  <a:pt x="576" y="351"/>
                </a:cubicBezTo>
                <a:cubicBezTo>
                  <a:pt x="533" y="397"/>
                  <a:pt x="593" y="338"/>
                  <a:pt x="538" y="374"/>
                </a:cubicBezTo>
                <a:cubicBezTo>
                  <a:pt x="482" y="410"/>
                  <a:pt x="546" y="385"/>
                  <a:pt x="493" y="412"/>
                </a:cubicBezTo>
                <a:cubicBezTo>
                  <a:pt x="453" y="433"/>
                  <a:pt x="405" y="436"/>
                  <a:pt x="364" y="457"/>
                </a:cubicBezTo>
                <a:cubicBezTo>
                  <a:pt x="318" y="506"/>
                  <a:pt x="363" y="466"/>
                  <a:pt x="220" y="480"/>
                </a:cubicBezTo>
                <a:cubicBezTo>
                  <a:pt x="187" y="483"/>
                  <a:pt x="147" y="499"/>
                  <a:pt x="114" y="503"/>
                </a:cubicBezTo>
                <a:cubicBezTo>
                  <a:pt x="106" y="506"/>
                  <a:pt x="98" y="507"/>
                  <a:pt x="91" y="511"/>
                </a:cubicBezTo>
                <a:cubicBezTo>
                  <a:pt x="83" y="515"/>
                  <a:pt x="77" y="523"/>
                  <a:pt x="68" y="526"/>
                </a:cubicBezTo>
                <a:cubicBezTo>
                  <a:pt x="19" y="543"/>
                  <a:pt x="15" y="515"/>
                  <a:pt x="0" y="57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d5d5d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Freeform 9"/>
          <p:cNvSpPr/>
          <p:nvPr/>
        </p:nvSpPr>
        <p:spPr>
          <a:xfrm>
            <a:off x="5832360" y="1341360"/>
            <a:ext cx="2627280" cy="1049400"/>
          </a:xfrm>
          <a:custGeom>
            <a:avLst/>
            <a:gdLst>
              <a:gd name="textAreaLeft" fmla="*/ 0 w 2627280"/>
              <a:gd name="textAreaRight" fmla="*/ 2627640 w 262728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869" h="571">
                <a:moveTo>
                  <a:pt x="0" y="571"/>
                </a:moveTo>
                <a:cubicBezTo>
                  <a:pt x="33" y="521"/>
                  <a:pt x="103" y="510"/>
                  <a:pt x="159" y="503"/>
                </a:cubicBezTo>
                <a:cubicBezTo>
                  <a:pt x="198" y="480"/>
                  <a:pt x="233" y="475"/>
                  <a:pt x="273" y="457"/>
                </a:cubicBezTo>
                <a:cubicBezTo>
                  <a:pt x="311" y="439"/>
                  <a:pt x="347" y="418"/>
                  <a:pt x="386" y="404"/>
                </a:cubicBezTo>
                <a:cubicBezTo>
                  <a:pt x="409" y="383"/>
                  <a:pt x="486" y="355"/>
                  <a:pt x="523" y="344"/>
                </a:cubicBezTo>
                <a:cubicBezTo>
                  <a:pt x="528" y="334"/>
                  <a:pt x="530" y="321"/>
                  <a:pt x="538" y="313"/>
                </a:cubicBezTo>
                <a:cubicBezTo>
                  <a:pt x="570" y="281"/>
                  <a:pt x="639" y="245"/>
                  <a:pt x="682" y="230"/>
                </a:cubicBezTo>
                <a:cubicBezTo>
                  <a:pt x="716" y="178"/>
                  <a:pt x="676" y="229"/>
                  <a:pt x="720" y="200"/>
                </a:cubicBezTo>
                <a:cubicBezTo>
                  <a:pt x="758" y="175"/>
                  <a:pt x="730" y="182"/>
                  <a:pt x="758" y="154"/>
                </a:cubicBezTo>
                <a:cubicBezTo>
                  <a:pt x="767" y="145"/>
                  <a:pt x="779" y="140"/>
                  <a:pt x="788" y="132"/>
                </a:cubicBezTo>
                <a:cubicBezTo>
                  <a:pt x="794" y="127"/>
                  <a:pt x="798" y="121"/>
                  <a:pt x="803" y="116"/>
                </a:cubicBezTo>
                <a:cubicBezTo>
                  <a:pt x="806" y="109"/>
                  <a:pt x="807" y="101"/>
                  <a:pt x="811" y="94"/>
                </a:cubicBezTo>
                <a:cubicBezTo>
                  <a:pt x="869" y="0"/>
                  <a:pt x="851" y="33"/>
                  <a:pt x="841" y="63"/>
                </a:cubicBezTo>
                <a:cubicBezTo>
                  <a:pt x="833" y="88"/>
                  <a:pt x="827" y="117"/>
                  <a:pt x="811" y="139"/>
                </a:cubicBezTo>
                <a:cubicBezTo>
                  <a:pt x="805" y="148"/>
                  <a:pt x="796" y="154"/>
                  <a:pt x="788" y="162"/>
                </a:cubicBezTo>
                <a:cubicBezTo>
                  <a:pt x="775" y="216"/>
                  <a:pt x="736" y="267"/>
                  <a:pt x="682" y="283"/>
                </a:cubicBezTo>
                <a:cubicBezTo>
                  <a:pt x="647" y="329"/>
                  <a:pt x="633" y="342"/>
                  <a:pt x="576" y="351"/>
                </a:cubicBezTo>
                <a:cubicBezTo>
                  <a:pt x="533" y="397"/>
                  <a:pt x="593" y="338"/>
                  <a:pt x="538" y="374"/>
                </a:cubicBezTo>
                <a:cubicBezTo>
                  <a:pt x="482" y="410"/>
                  <a:pt x="546" y="385"/>
                  <a:pt x="493" y="412"/>
                </a:cubicBezTo>
                <a:cubicBezTo>
                  <a:pt x="453" y="433"/>
                  <a:pt x="405" y="436"/>
                  <a:pt x="364" y="457"/>
                </a:cubicBezTo>
                <a:cubicBezTo>
                  <a:pt x="318" y="506"/>
                  <a:pt x="363" y="466"/>
                  <a:pt x="220" y="480"/>
                </a:cubicBezTo>
                <a:cubicBezTo>
                  <a:pt x="187" y="483"/>
                  <a:pt x="147" y="499"/>
                  <a:pt x="114" y="503"/>
                </a:cubicBezTo>
                <a:cubicBezTo>
                  <a:pt x="106" y="506"/>
                  <a:pt x="98" y="507"/>
                  <a:pt x="91" y="511"/>
                </a:cubicBezTo>
                <a:cubicBezTo>
                  <a:pt x="83" y="515"/>
                  <a:pt x="77" y="523"/>
                  <a:pt x="68" y="526"/>
                </a:cubicBezTo>
                <a:cubicBezTo>
                  <a:pt x="19" y="543"/>
                  <a:pt x="15" y="515"/>
                  <a:pt x="0" y="57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d5d5d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5000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9120" y="178920"/>
            <a:ext cx="822960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летние ясные дни эти облака причудливых форм появляются днём на небе, медленно куда-то плывут и всякий раз к вечеру где-то исчезают, чтобы на следующий день появиться внов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5" descr="Виды облаков"/>
          <p:cNvPicPr/>
          <p:nvPr/>
        </p:nvPicPr>
        <p:blipFill>
          <a:blip r:embed="rId1"/>
          <a:stretch/>
        </p:blipFill>
        <p:spPr>
          <a:xfrm>
            <a:off x="706320" y="1835280"/>
            <a:ext cx="7583760" cy="5022720"/>
          </a:xfrm>
          <a:prstGeom prst="rect">
            <a:avLst/>
          </a:prstGeom>
          <a:ln w="0">
            <a:noFill/>
          </a:ln>
        </p:spPr>
      </p:pic>
      <p:pic>
        <p:nvPicPr>
          <p:cNvPr id="243" name="TextBox 9" descr=""/>
          <p:cNvPicPr/>
          <p:nvPr/>
        </p:nvPicPr>
        <p:blipFill>
          <a:blip r:embed="rId2"/>
          <a:stretch/>
        </p:blipFill>
        <p:spPr>
          <a:xfrm>
            <a:off x="3425760" y="5645160"/>
            <a:ext cx="4438800" cy="676440"/>
          </a:xfrm>
          <a:prstGeom prst="rect">
            <a:avLst/>
          </a:prstGeom>
          <a:ln w="0">
            <a:noFill/>
          </a:ln>
        </p:spPr>
      </p:pic>
      <p:grpSp>
        <p:nvGrpSpPr>
          <p:cNvPr id="244" name="Cloud"/>
          <p:cNvGrpSpPr/>
          <p:nvPr/>
        </p:nvGrpSpPr>
        <p:grpSpPr>
          <a:xfrm>
            <a:off x="938160" y="2603520"/>
            <a:ext cx="2579760" cy="1352520"/>
            <a:chOff x="938160" y="2603520"/>
            <a:chExt cx="2579760" cy="1352520"/>
          </a:xfrm>
        </p:grpSpPr>
        <p:pic>
          <p:nvPicPr>
            <p:cNvPr id="245" name="Cloud" descr=""/>
            <p:cNvPicPr/>
            <p:nvPr/>
          </p:nvPicPr>
          <p:blipFill>
            <a:blip r:embed="rId3"/>
            <a:stretch/>
          </p:blipFill>
          <p:spPr>
            <a:xfrm>
              <a:off x="938160" y="2603520"/>
              <a:ext cx="2579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74920" y="2982960"/>
              <a:ext cx="1365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Line 17"/>
          <p:cNvSpPr/>
          <p:nvPr/>
        </p:nvSpPr>
        <p:spPr>
          <a:xfrm flipH="1">
            <a:off x="2125440" y="3611520"/>
            <a:ext cx="36360" cy="288468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454120" y="3976560"/>
            <a:ext cx="17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Высота в пределах от 2 до 6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6000">
    <p:randomBa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4608360" y="297000"/>
            <a:ext cx="4319640" cy="3095640"/>
          </a:xfrm>
          <a:prstGeom prst="flowChartAlternateProcess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31640" y="297000"/>
            <a:ext cx="3997440" cy="3095640"/>
          </a:xfrm>
          <a:prstGeom prst="flowChartAlternateProcess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11080" y="4670280"/>
            <a:ext cx="7594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и облака придает всему небу хмурый, пасмурный вид.  Загустев, они могут принести дож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5" descr="20090523-0-1"/>
          <p:cNvPicPr/>
          <p:nvPr/>
        </p:nvPicPr>
        <p:blipFill>
          <a:blip r:embed="rId1"/>
          <a:stretch/>
        </p:blipFill>
        <p:spPr>
          <a:xfrm>
            <a:off x="549360" y="390600"/>
            <a:ext cx="3827520" cy="5838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20090402-1-3"/>
          <p:cNvPicPr/>
          <p:nvPr/>
        </p:nvPicPr>
        <p:blipFill>
          <a:blip r:embed="rId2"/>
          <a:stretch/>
        </p:blipFill>
        <p:spPr>
          <a:xfrm>
            <a:off x="4694400" y="396720"/>
            <a:ext cx="4157640" cy="580248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6" descr=""/>
          <p:cNvPicPr/>
          <p:nvPr/>
        </p:nvPicPr>
        <p:blipFill>
          <a:blip r:embed="rId3"/>
          <a:stretch/>
        </p:blipFill>
        <p:spPr>
          <a:xfrm>
            <a:off x="2475000" y="3840120"/>
            <a:ext cx="36511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Freeform 10"/>
          <p:cNvGrpSpPr/>
          <p:nvPr/>
        </p:nvGrpSpPr>
        <p:grpSpPr>
          <a:xfrm>
            <a:off x="225360" y="549360"/>
            <a:ext cx="4743360" cy="1108080"/>
            <a:chOff x="225360" y="549360"/>
            <a:chExt cx="4743360" cy="1108080"/>
          </a:xfrm>
        </p:grpSpPr>
        <p:pic>
          <p:nvPicPr>
            <p:cNvPr id="256" name="Freeform 10" descr=""/>
            <p:cNvPicPr/>
            <p:nvPr/>
          </p:nvPicPr>
          <p:blipFill>
            <a:blip r:embed="rId4"/>
            <a:stretch/>
          </p:blipFill>
          <p:spPr>
            <a:xfrm>
              <a:off x="225360" y="549360"/>
              <a:ext cx="47433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19120" y="800280"/>
              <a:ext cx="4162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Freeform 11"/>
          <p:cNvGrpSpPr/>
          <p:nvPr/>
        </p:nvGrpSpPr>
        <p:grpSpPr>
          <a:xfrm>
            <a:off x="1316160" y="506520"/>
            <a:ext cx="2225520" cy="785880"/>
            <a:chOff x="1316160" y="506520"/>
            <a:chExt cx="2225520" cy="785880"/>
          </a:xfrm>
        </p:grpSpPr>
        <p:pic>
          <p:nvPicPr>
            <p:cNvPr id="259" name="Freeform 11" descr=""/>
            <p:cNvPicPr/>
            <p:nvPr/>
          </p:nvPicPr>
          <p:blipFill>
            <a:blip r:embed="rId5"/>
            <a:stretch/>
          </p:blipFill>
          <p:spPr>
            <a:xfrm>
              <a:off x="1316160" y="506520"/>
              <a:ext cx="22255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585800" y="723960"/>
              <a:ext cx="16779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1" name="Line 19"/>
          <p:cNvSpPr/>
          <p:nvPr/>
        </p:nvSpPr>
        <p:spPr>
          <a:xfrm flipH="1">
            <a:off x="1869840" y="946080"/>
            <a:ext cx="36360" cy="2343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162160" y="145728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ота до 2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randomBa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D:\Васятка\Проектная деятельность НШ\Проект ОБЛАКА\Фотографии\Облака интернет\Облака и челове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" descr=""/>
          <p:cNvPicPr/>
          <p:nvPr/>
        </p:nvPicPr>
        <p:blipFill>
          <a:blip r:embed="rId2"/>
          <a:stretch/>
        </p:blipFill>
        <p:spPr>
          <a:xfrm>
            <a:off x="0" y="487440"/>
            <a:ext cx="9144000" cy="55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D:\Васятка\Проектная деятельность НШ\Проект ОБЛАКА\Фотографии\Облака М и Подмосковья\IMG_22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79280" y="2844720"/>
            <a:ext cx="716436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Вы видите на небе кучевые облака, то вас ожидает хорошая по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если они начинают вытягиваться вверх наподобие башен, то жди гроз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Рисунок 4" descr="j0432589.png"/>
          <p:cNvPicPr/>
          <p:nvPr/>
        </p:nvPicPr>
        <p:blipFill>
          <a:blip r:embed="rId2"/>
          <a:stretch/>
        </p:blipFill>
        <p:spPr>
          <a:xfrm>
            <a:off x="372960" y="434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umbrela35.gif"/>
          <p:cNvPicPr/>
          <p:nvPr/>
        </p:nvPicPr>
        <p:blipFill>
          <a:blip r:embed="rId3"/>
          <a:stretch/>
        </p:blipFill>
        <p:spPr>
          <a:xfrm>
            <a:off x="7018200" y="5254560"/>
            <a:ext cx="1906560" cy="690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D:\Васятка\Проектная деятельность НШ\Проект ОБЛАКА\Фотографии\Облака М и Подмосковья\IMG_2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1322280" y="1092240"/>
            <a:ext cx="71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блака напоминают тонкую вуаль – то погода будет стабильной и яс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Рисунок 3" descr="j0432589.png"/>
          <p:cNvPicPr/>
          <p:nvPr/>
        </p:nvPicPr>
        <p:blipFill>
          <a:blip r:embed="rId2"/>
          <a:stretch/>
        </p:blipFill>
        <p:spPr>
          <a:xfrm>
            <a:off x="227160" y="3867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0.21198 -0.21203 C 0.25659 -0.25995 0.32309 -0.28657 0.39236 -0.28657 C 0.47135 -0.28657 0.53455 -0.25995 0.57916 -0.21203 L 0.79132 -2.22222E-006 E">
                                      <p:cBhvr>
                                        <p:cTn id="626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:\Васятка\Проектная деятельность НШ\Проект ОБЛАКА\Фотографии\Облака М и Подмосковья\IMG_22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701640" y="6904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вномерные серые слоистые облака, скрывающие солнце, часто дают осадки в виде мороси. Выходя из дома, не забудьте зонт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Рисунок 3" descr="RAINY_~134.GIF"/>
          <p:cNvPicPr/>
          <p:nvPr/>
        </p:nvPicPr>
        <p:blipFill>
          <a:blip r:embed="rId2"/>
          <a:stretch/>
        </p:blipFill>
        <p:spPr>
          <a:xfrm>
            <a:off x="4280040" y="2844720"/>
            <a:ext cx="1272960" cy="74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:\Васятка\Проектная деятельность НШ\Проект ОБЛАКА\Фотографии\Облака М и Подмосковья\IMG_23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1"/>
          <p:cNvSpPr/>
          <p:nvPr/>
        </p:nvSpPr>
        <p:spPr>
          <a:xfrm>
            <a:off x="4280040" y="252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Солнце садится в облака – то нужно ожидать ухудшения пог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Рисунок 3" descr="blizzard4.gif"/>
          <p:cNvPicPr/>
          <p:nvPr/>
        </p:nvPicPr>
        <p:blipFill>
          <a:blip r:embed="rId2"/>
          <a:stretch/>
        </p:blipFill>
        <p:spPr>
          <a:xfrm>
            <a:off x="6507000" y="4889520"/>
            <a:ext cx="1436760" cy="66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9" descr="http://i033.radikal.ru/0802/23/ec400264b760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2" descr=""/>
          <p:cNvPicPr/>
          <p:nvPr/>
        </p:nvPicPr>
        <p:blipFill>
          <a:blip r:embed="rId2"/>
          <a:stretch/>
        </p:blipFill>
        <p:spPr>
          <a:xfrm>
            <a:off x="1352520" y="407880"/>
            <a:ext cx="7096320" cy="1024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1066680" y="3940200"/>
            <a:ext cx="321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аблюдение проводилис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в март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в июле-авгус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2011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randomBar dir="ver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1"/>
          <p:cNvGraphicFramePr/>
          <p:nvPr/>
        </p:nvGraphicFramePr>
        <p:xfrm>
          <a:off x="0" y="325440"/>
          <a:ext cx="914400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5440"/>
                    <a:ext cx="91440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881600" y="2614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5776920" y="434880"/>
            <a:ext cx="317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Диаграмма соотношения облачных дней и пожарных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0440" y="5911920"/>
            <a:ext cx="877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облачных дней весной больше, чем ле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няя очень жаркая погода спровоцировала пожарную ситуа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5000">
    <p:randomBar dir="ver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227160" y="1165320"/>
            <a:ext cx="5184720" cy="45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13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227160" y="1128600"/>
            <a:ext cx="522108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8" descr="Картинка 15 из 15348"/>
          <p:cNvPicPr/>
          <p:nvPr/>
        </p:nvPicPr>
        <p:blipFill>
          <a:blip r:embed="rId3"/>
          <a:stretch/>
        </p:blipFill>
        <p:spPr>
          <a:xfrm>
            <a:off x="227160" y="1128600"/>
            <a:ext cx="5310000" cy="463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Прямоугольник 5"/>
          <p:cNvSpPr/>
          <p:nvPr/>
        </p:nvSpPr>
        <p:spPr>
          <a:xfrm>
            <a:off x="5784840" y="727200"/>
            <a:ext cx="335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сконечной веренице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ака плывут вдал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днебесье, словно птиц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ремляются он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ход свой не торопя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вышине, как шхуны ходя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движение ветер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няет их слегк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чистом небе проплыва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рывают солнца след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 прочь их отгоня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дать природе св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они плывут все дальш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ог их спокойный ве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, любуясь облакам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ихи пишет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10" descr="ocean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30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Скругленный прямоугольник 28"/>
          <p:cNvGrpSpPr/>
          <p:nvPr/>
        </p:nvGrpSpPr>
        <p:grpSpPr>
          <a:xfrm>
            <a:off x="4035600" y="725400"/>
            <a:ext cx="3620880" cy="4211640"/>
            <a:chOff x="4035600" y="725400"/>
            <a:chExt cx="3620880" cy="4211640"/>
          </a:xfrm>
        </p:grpSpPr>
        <p:pic>
          <p:nvPicPr>
            <p:cNvPr id="288" name="Скругленный 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4035600" y="725400"/>
              <a:ext cx="362088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268880" y="934920"/>
              <a:ext cx="316224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0" name="Скругленный прямоугольник 27"/>
          <p:cNvGrpSpPr/>
          <p:nvPr/>
        </p:nvGrpSpPr>
        <p:grpSpPr>
          <a:xfrm>
            <a:off x="165240" y="725400"/>
            <a:ext cx="3949560" cy="4175280"/>
            <a:chOff x="165240" y="725400"/>
            <a:chExt cx="3949560" cy="4175280"/>
          </a:xfrm>
        </p:grpSpPr>
        <p:pic>
          <p:nvPicPr>
            <p:cNvPr id="291" name="Скругленный прямоугольник 27" descr=""/>
            <p:cNvPicPr/>
            <p:nvPr/>
          </p:nvPicPr>
          <p:blipFill>
            <a:blip r:embed="rId2"/>
            <a:stretch/>
          </p:blipFill>
          <p:spPr>
            <a:xfrm>
              <a:off x="165240" y="725400"/>
              <a:ext cx="3949560" cy="41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14360" y="950760"/>
              <a:ext cx="3459240" cy="36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Диаграмма 16" descr=""/>
          <p:cNvPicPr/>
          <p:nvPr/>
        </p:nvPicPr>
        <p:blipFill>
          <a:blip r:embed="rId3"/>
          <a:stretch/>
        </p:blipFill>
        <p:spPr>
          <a:xfrm>
            <a:off x="304920" y="1128600"/>
            <a:ext cx="8839080" cy="38703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1285920" y="83664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арт 2011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4535640" y="8366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юль-август 2011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12"/>
          <p:cNvSpPr/>
          <p:nvPr/>
        </p:nvSpPr>
        <p:spPr>
          <a:xfrm>
            <a:off x="1212840" y="1859040"/>
            <a:ext cx="547560" cy="328680"/>
          </a:xfrm>
          <a:prstGeom prst="line">
            <a:avLst/>
          </a:prstGeom>
          <a:ln w="57240">
            <a:solidFill>
              <a:srgbClr val="aaa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ая соединительная линия 15"/>
          <p:cNvSpPr/>
          <p:nvPr/>
        </p:nvSpPr>
        <p:spPr>
          <a:xfrm flipV="1">
            <a:off x="1432080" y="2369880"/>
            <a:ext cx="365040" cy="40140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Прямая соединительная линия 18"/>
          <p:cNvSpPr/>
          <p:nvPr/>
        </p:nvSpPr>
        <p:spPr>
          <a:xfrm>
            <a:off x="1650960" y="2698920"/>
            <a:ext cx="474840" cy="328320"/>
          </a:xfrm>
          <a:prstGeom prst="line">
            <a:avLst/>
          </a:prstGeom>
          <a:ln w="5724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Прямая соединительная линия 23"/>
          <p:cNvSpPr/>
          <p:nvPr/>
        </p:nvSpPr>
        <p:spPr>
          <a:xfrm>
            <a:off x="5010120" y="2735280"/>
            <a:ext cx="766800" cy="328680"/>
          </a:xfrm>
          <a:prstGeom prst="line">
            <a:avLst/>
          </a:prstGeom>
          <a:ln w="5724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Прямая соединительная линия 24" descr=""/>
          <p:cNvPicPr/>
          <p:nvPr/>
        </p:nvPicPr>
        <p:blipFill>
          <a:blip r:embed="rId4"/>
          <a:stretch/>
        </p:blipFill>
        <p:spPr>
          <a:xfrm>
            <a:off x="4979880" y="3292560"/>
            <a:ext cx="1354320" cy="10047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2"/>
          <p:cNvSpPr/>
          <p:nvPr/>
        </p:nvSpPr>
        <p:spPr>
          <a:xfrm>
            <a:off x="409680" y="2523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аграмма соотношения видов облаков по сезонам и времени су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3" name="TextBox 25"/>
          <p:cNvGrpSpPr/>
          <p:nvPr/>
        </p:nvGrpSpPr>
        <p:grpSpPr>
          <a:xfrm>
            <a:off x="933480" y="4248000"/>
            <a:ext cx="1577880" cy="652680"/>
            <a:chOff x="933480" y="4248000"/>
            <a:chExt cx="1577880" cy="652680"/>
          </a:xfrm>
        </p:grpSpPr>
        <p:pic>
          <p:nvPicPr>
            <p:cNvPr id="304" name="TextBox 25" descr=""/>
            <p:cNvPicPr/>
            <p:nvPr/>
          </p:nvPicPr>
          <p:blipFill>
            <a:blip r:embed="rId5"/>
            <a:stretch/>
          </p:blipFill>
          <p:spPr>
            <a:xfrm>
              <a:off x="933480" y="4248000"/>
              <a:ext cx="15778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019160" y="433080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УТР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6" name="TextBox 26"/>
          <p:cNvGrpSpPr/>
          <p:nvPr/>
        </p:nvGrpSpPr>
        <p:grpSpPr>
          <a:xfrm>
            <a:off x="2395440" y="4248000"/>
            <a:ext cx="1683000" cy="652680"/>
            <a:chOff x="2395440" y="4248000"/>
            <a:chExt cx="1683000" cy="652680"/>
          </a:xfrm>
        </p:grpSpPr>
        <p:pic>
          <p:nvPicPr>
            <p:cNvPr id="307" name="TextBox 26" descr=""/>
            <p:cNvPicPr/>
            <p:nvPr/>
          </p:nvPicPr>
          <p:blipFill>
            <a:blip r:embed="rId6"/>
            <a:stretch/>
          </p:blipFill>
          <p:spPr>
            <a:xfrm>
              <a:off x="2395440" y="4248000"/>
              <a:ext cx="16830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479680" y="433080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ДЕН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TextBox 29"/>
          <p:cNvGrpSpPr/>
          <p:nvPr/>
        </p:nvGrpSpPr>
        <p:grpSpPr>
          <a:xfrm>
            <a:off x="4359240" y="4286160"/>
            <a:ext cx="1590840" cy="657360"/>
            <a:chOff x="4359240" y="4286160"/>
            <a:chExt cx="1590840" cy="657360"/>
          </a:xfrm>
        </p:grpSpPr>
        <p:pic>
          <p:nvPicPr>
            <p:cNvPr id="310" name="TextBox 29" descr=""/>
            <p:cNvPicPr/>
            <p:nvPr/>
          </p:nvPicPr>
          <p:blipFill>
            <a:blip r:embed="rId7"/>
            <a:stretch/>
          </p:blipFill>
          <p:spPr>
            <a:xfrm>
              <a:off x="4359240" y="4286160"/>
              <a:ext cx="159084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451400" y="436716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УТР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2" name="TextBox 30"/>
          <p:cNvGrpSpPr/>
          <p:nvPr/>
        </p:nvGrpSpPr>
        <p:grpSpPr>
          <a:xfrm>
            <a:off x="5821200" y="4286160"/>
            <a:ext cx="1586160" cy="657360"/>
            <a:chOff x="5821200" y="4286160"/>
            <a:chExt cx="1586160" cy="657360"/>
          </a:xfrm>
        </p:grpSpPr>
        <p:pic>
          <p:nvPicPr>
            <p:cNvPr id="313" name="TextBox 30" descr=""/>
            <p:cNvPicPr/>
            <p:nvPr/>
          </p:nvPicPr>
          <p:blipFill>
            <a:blip r:embed="rId8"/>
            <a:stretch/>
          </p:blipFill>
          <p:spPr>
            <a:xfrm>
              <a:off x="5821200" y="4286160"/>
              <a:ext cx="15861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11920" y="436716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ДЕН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Прямоугольник 34"/>
          <p:cNvGrpSpPr/>
          <p:nvPr/>
        </p:nvGrpSpPr>
        <p:grpSpPr>
          <a:xfrm>
            <a:off x="4363920" y="3975120"/>
            <a:ext cx="373320" cy="158760"/>
            <a:chOff x="4363920" y="3975120"/>
            <a:chExt cx="373320" cy="158760"/>
          </a:xfrm>
        </p:grpSpPr>
        <p:pic>
          <p:nvPicPr>
            <p:cNvPr id="316" name="Прямоугольник 34" descr=""/>
            <p:cNvPicPr/>
            <p:nvPr/>
          </p:nvPicPr>
          <p:blipFill>
            <a:blip r:embed="rId9"/>
            <a:stretch/>
          </p:blipFill>
          <p:spPr>
            <a:xfrm>
              <a:off x="4363920" y="3975120"/>
              <a:ext cx="37332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425840" y="4013280"/>
              <a:ext cx="2556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8" name="Прямоугольник 35"/>
          <p:cNvGrpSpPr/>
          <p:nvPr/>
        </p:nvGrpSpPr>
        <p:grpSpPr>
          <a:xfrm>
            <a:off x="6010200" y="3975120"/>
            <a:ext cx="403200" cy="158760"/>
            <a:chOff x="6010200" y="3975120"/>
            <a:chExt cx="403200" cy="158760"/>
          </a:xfrm>
        </p:grpSpPr>
        <p:pic>
          <p:nvPicPr>
            <p:cNvPr id="319" name="Прямоугольник 35" descr=""/>
            <p:cNvPicPr/>
            <p:nvPr/>
          </p:nvPicPr>
          <p:blipFill>
            <a:blip r:embed="rId10"/>
            <a:stretch/>
          </p:blipFill>
          <p:spPr>
            <a:xfrm>
              <a:off x="6010200" y="3975120"/>
              <a:ext cx="40320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068880" y="4013280"/>
              <a:ext cx="292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Прямая соединительная линия 21"/>
          <p:cNvSpPr/>
          <p:nvPr/>
        </p:nvSpPr>
        <p:spPr>
          <a:xfrm flipV="1">
            <a:off x="4791240" y="2588760"/>
            <a:ext cx="547560" cy="43812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2" name="Прямоугольник 39"/>
          <p:cNvGrpSpPr/>
          <p:nvPr/>
        </p:nvGrpSpPr>
        <p:grpSpPr>
          <a:xfrm>
            <a:off x="6845400" y="3975120"/>
            <a:ext cx="336600" cy="158760"/>
            <a:chOff x="6845400" y="3975120"/>
            <a:chExt cx="336600" cy="158760"/>
          </a:xfrm>
        </p:grpSpPr>
        <p:pic>
          <p:nvPicPr>
            <p:cNvPr id="323" name="Прямоугольник 39" descr=""/>
            <p:cNvPicPr/>
            <p:nvPr/>
          </p:nvPicPr>
          <p:blipFill>
            <a:blip r:embed="rId11"/>
            <a:stretch/>
          </p:blipFill>
          <p:spPr>
            <a:xfrm>
              <a:off x="6845400" y="3975120"/>
              <a:ext cx="33660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908760" y="4013280"/>
              <a:ext cx="219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5" name="TextBox 31"/>
          <p:cNvGrpSpPr/>
          <p:nvPr/>
        </p:nvGrpSpPr>
        <p:grpSpPr>
          <a:xfrm>
            <a:off x="128520" y="5108400"/>
            <a:ext cx="4022640" cy="1697040"/>
            <a:chOff x="128520" y="5108400"/>
            <a:chExt cx="4022640" cy="1697040"/>
          </a:xfrm>
        </p:grpSpPr>
        <p:pic>
          <p:nvPicPr>
            <p:cNvPr id="326" name="TextBox 31" descr=""/>
            <p:cNvPicPr/>
            <p:nvPr/>
          </p:nvPicPr>
          <p:blipFill>
            <a:blip r:embed="rId12"/>
            <a:stretch/>
          </p:blipFill>
          <p:spPr>
            <a:xfrm>
              <a:off x="128520" y="5108400"/>
              <a:ext cx="402264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64960" y="5219640"/>
              <a:ext cx="3757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1. В весенний период наблюдались все виды облаков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2. Слоистых и перистых облаков к обеду становилось меньше, а кучевых больше.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3. Были дни, когда на небе не наблюдалось облачных систем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8" name="TextBox 32"/>
          <p:cNvGrpSpPr/>
          <p:nvPr/>
        </p:nvGrpSpPr>
        <p:grpSpPr>
          <a:xfrm>
            <a:off x="4181400" y="4925880"/>
            <a:ext cx="4938840" cy="1895760"/>
            <a:chOff x="4181400" y="4925880"/>
            <a:chExt cx="4938840" cy="1895760"/>
          </a:xfrm>
        </p:grpSpPr>
        <p:pic>
          <p:nvPicPr>
            <p:cNvPr id="329" name="TextBox 32" descr=""/>
            <p:cNvPicPr/>
            <p:nvPr/>
          </p:nvPicPr>
          <p:blipFill>
            <a:blip r:embed="rId13"/>
            <a:stretch/>
          </p:blipFill>
          <p:spPr>
            <a:xfrm>
              <a:off x="4181400" y="4925880"/>
              <a:ext cx="493884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329000" y="5048280"/>
              <a:ext cx="46483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1. В летний период наблюдались все виды облаков, кроме слоистых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2. Перистых облаков к обеду становилось меньше, а кучевых больше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3. Наблюдались дни, когда утром было ясно небо, а к обеду оно покрывалось облаками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4. Наблюдались дни с большим задымлением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 advTm="50000">
    <p:randomBar dir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59759E-006 L 0.10521 0.04233 E">
                                      <p:cBhvr>
                                        <p:cTn id="75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7687E-006 L 0.13611 0.06683 E">
                                      <p:cBhvr>
                                        <p:cTn id="75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3164E-006 L 0.12274 -0.12141 E">
                                      <p:cBhvr>
                                        <p:cTn id="76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7.60407E-006 L 0.09843 0.04719 E">
                                      <p:cBhvr>
                                        <p:cTn id="787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334E-006 L 0.09983 -0.0932 E">
                                      <p:cBhvr>
                                        <p:cTn id="79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52451E-006 L 0.11823 0.03145 E">
                                      <p:cBhvr>
                                        <p:cTn id="80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Диаграмма 5" descr=""/>
          <p:cNvPicPr/>
          <p:nvPr/>
        </p:nvPicPr>
        <p:blipFill>
          <a:blip r:embed="rId1"/>
          <a:stretch/>
        </p:blipFill>
        <p:spPr>
          <a:xfrm>
            <a:off x="299880" y="763560"/>
            <a:ext cx="5221440" cy="2762280"/>
          </a:xfrm>
          <a:prstGeom prst="rect">
            <a:avLst/>
          </a:prstGeom>
          <a:ln w="0">
            <a:noFill/>
          </a:ln>
        </p:spPr>
      </p:pic>
      <p:pic>
        <p:nvPicPr>
          <p:cNvPr id="332" name="Диаграмма 6" descr=""/>
          <p:cNvPicPr/>
          <p:nvPr/>
        </p:nvPicPr>
        <p:blipFill>
          <a:blip r:embed="rId2"/>
          <a:stretch/>
        </p:blipFill>
        <p:spPr>
          <a:xfrm>
            <a:off x="3549600" y="3720960"/>
            <a:ext cx="5221440" cy="2762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2417760" y="17128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1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993600" y="22240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0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3257640" y="3867120"/>
            <a:ext cx="1168200" cy="397080"/>
          </a:xfrm>
          <a:prstGeom prst="wedgeRoundRectCallout">
            <a:avLst>
              <a:gd name="adj1" fmla="val 127171"/>
              <a:gd name="adj2" fmla="val 170467"/>
              <a:gd name="adj3" fmla="val 16667"/>
            </a:avLst>
          </a:prstGeom>
          <a:noFill/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 д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754520" y="54738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3 д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Рисунок 12" descr="RAINY_~134.GIF"/>
          <p:cNvPicPr/>
          <p:nvPr/>
        </p:nvPicPr>
        <p:blipFill>
          <a:blip r:embed="rId3"/>
          <a:stretch/>
        </p:blipFill>
        <p:spPr>
          <a:xfrm>
            <a:off x="5923080" y="2370240"/>
            <a:ext cx="1272960" cy="74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5"/>
          <p:cNvSpPr/>
          <p:nvPr/>
        </p:nvSpPr>
        <p:spPr>
          <a:xfrm>
            <a:off x="673200" y="252360"/>
            <a:ext cx="84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аграмма соотношения дней с осадками и дней без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701640" y="4853160"/>
            <a:ext cx="2081160" cy="101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a3ed"/>
              </a:gs>
              <a:gs pos="100000">
                <a:srgbClr val="e6e6fa"/>
              </a:gs>
            </a:gsLst>
            <a:lin ang="16200000"/>
          </a:gradFill>
          <a:ln w="936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есной осадков было больш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ем ле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2000">
    <p:randomBar dir="vert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37327 0.00046 E">
                                      <p:cBhvr>
                                        <p:cTn id="84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76280" y="0"/>
            <a:ext cx="8240760" cy="76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72600" y="726840"/>
            <a:ext cx="847116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В ходе работы над проектом я узнала, что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бразуются облака в результате различных причин, но главной причиной является деятельность Солнц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блака очень разные по форме, внутреннему состоянию и поэтому их объединяют в групп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В ходе исследования мира облаков я научилс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пределять облака по атлас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вести записи в полевом дневник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формлять презентации 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делать логические вывод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формлять материалы исследов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Изучая мир облаков я стала более внимательной и наблюдательной, чаще стала замечать всё красиво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5000">
    <p:randomBar dir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6" descr="Falling Up"/>
          <p:cNvPicPr/>
          <p:nvPr/>
        </p:nvPicPr>
        <p:blipFill>
          <a:blip r:embed="rId1"/>
          <a:stretch/>
        </p:blipFill>
        <p:spPr>
          <a:xfrm>
            <a:off x="0" y="0"/>
            <a:ext cx="66168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3" name=""/>
          <p:cNvSpPr txBox="1"/>
          <p:nvPr/>
        </p:nvSpPr>
        <p:spPr>
          <a:xfrm>
            <a:off x="6750360" y="823680"/>
            <a:ext cx="2471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прыгаю в морской прибой –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а мгновенье замираю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, что до этого со мной –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о, и после – забываю…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бъятьях волн, как в полусн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но в сапфировой корон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оре изменяет цве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зурно-синий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еленый…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50" descr="sun rise"/>
          <p:cNvPicPr/>
          <p:nvPr/>
        </p:nvPicPr>
        <p:blipFill>
          <a:blip r:embed="rId1"/>
          <a:stretch/>
        </p:blipFill>
        <p:spPr>
          <a:xfrm>
            <a:off x="-61920" y="0"/>
            <a:ext cx="920592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TextBox 2" descr=""/>
          <p:cNvPicPr/>
          <p:nvPr/>
        </p:nvPicPr>
        <p:blipFill>
          <a:blip r:embed="rId2"/>
          <a:stretch/>
        </p:blipFill>
        <p:spPr>
          <a:xfrm>
            <a:off x="0" y="5924520"/>
            <a:ext cx="5761080" cy="7509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3"/>
          <p:cNvSpPr/>
          <p:nvPr/>
        </p:nvSpPr>
        <p:spPr>
          <a:xfrm>
            <a:off x="5346720" y="0"/>
            <a:ext cx="379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 небе вижу: облака –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убятся и летят по неб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солнце тут же свысок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мазные швыряет стрел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сана Козоро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1000">
    <p:randomBar dir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24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TextBox 31" descr=""/>
          <p:cNvPicPr/>
          <p:nvPr/>
        </p:nvPicPr>
        <p:blipFill>
          <a:blip r:embed="rId2"/>
          <a:stretch/>
        </p:blipFill>
        <p:spPr>
          <a:xfrm>
            <a:off x="66600" y="5072040"/>
            <a:ext cx="9077400" cy="11700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33" descr=""/>
          <p:cNvPicPr/>
          <p:nvPr/>
        </p:nvPicPr>
        <p:blipFill>
          <a:blip r:embed="rId3"/>
          <a:stretch/>
        </p:blipFill>
        <p:spPr>
          <a:xfrm>
            <a:off x="701640" y="311040"/>
            <a:ext cx="7381800" cy="42732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34" descr=""/>
          <p:cNvPicPr/>
          <p:nvPr/>
        </p:nvPicPr>
        <p:blipFill>
          <a:blip r:embed="rId4"/>
          <a:stretch/>
        </p:blipFill>
        <p:spPr>
          <a:xfrm>
            <a:off x="701640" y="858960"/>
            <a:ext cx="7856640" cy="42696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35" descr=""/>
          <p:cNvPicPr/>
          <p:nvPr/>
        </p:nvPicPr>
        <p:blipFill>
          <a:blip r:embed="rId5"/>
          <a:stretch/>
        </p:blipFill>
        <p:spPr>
          <a:xfrm>
            <a:off x="701640" y="1438200"/>
            <a:ext cx="8077320" cy="70812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36" descr=""/>
          <p:cNvPicPr/>
          <p:nvPr/>
        </p:nvPicPr>
        <p:blipFill>
          <a:blip r:embed="rId6"/>
          <a:stretch/>
        </p:blipFill>
        <p:spPr>
          <a:xfrm>
            <a:off x="701640" y="2279520"/>
            <a:ext cx="7942320" cy="7081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37" descr=""/>
          <p:cNvPicPr/>
          <p:nvPr/>
        </p:nvPicPr>
        <p:blipFill>
          <a:blip r:embed="rId7"/>
          <a:stretch/>
        </p:blipFill>
        <p:spPr>
          <a:xfrm>
            <a:off x="701640" y="3048120"/>
            <a:ext cx="6284880" cy="4269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votrube.ru/uploads/posts/2010-05/1273875277_chudesa-prirody-(www.votrube.ru)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92200" y="503568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79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Прямоугольник 5" descr=""/>
          <p:cNvPicPr/>
          <p:nvPr/>
        </p:nvPicPr>
        <p:blipFill>
          <a:blip r:embed="rId2"/>
          <a:stretch/>
        </p:blipFill>
        <p:spPr>
          <a:xfrm>
            <a:off x="7527960" y="225360"/>
            <a:ext cx="1444680" cy="5922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6" descr=""/>
          <p:cNvPicPr/>
          <p:nvPr/>
        </p:nvPicPr>
        <p:blipFill>
          <a:blip r:embed="rId3"/>
          <a:stretch/>
        </p:blipFill>
        <p:spPr>
          <a:xfrm>
            <a:off x="4816440" y="1432080"/>
            <a:ext cx="1901880" cy="591840"/>
          </a:xfrm>
          <a:prstGeom prst="rect">
            <a:avLst/>
          </a:prstGeom>
          <a:ln w="0">
            <a:noFill/>
          </a:ln>
        </p:spPr>
      </p:pic>
      <p:grpSp>
        <p:nvGrpSpPr>
          <p:cNvPr id="112" name="Овал 7"/>
          <p:cNvGrpSpPr/>
          <p:nvPr/>
        </p:nvGrpSpPr>
        <p:grpSpPr>
          <a:xfrm>
            <a:off x="639720" y="2054160"/>
            <a:ext cx="744480" cy="744480"/>
            <a:chOff x="639720" y="2054160"/>
            <a:chExt cx="744480" cy="744480"/>
          </a:xfrm>
        </p:grpSpPr>
        <p:pic>
          <p:nvPicPr>
            <p:cNvPr id="113" name="Овал 7" descr=""/>
            <p:cNvPicPr/>
            <p:nvPr/>
          </p:nvPicPr>
          <p:blipFill>
            <a:blip r:embed="rId4"/>
            <a:stretch/>
          </p:blipFill>
          <p:spPr>
            <a:xfrm>
              <a:off x="639720" y="205416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922320" y="2335320"/>
              <a:ext cx="179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Овал 8"/>
          <p:cNvGrpSpPr/>
          <p:nvPr/>
        </p:nvGrpSpPr>
        <p:grpSpPr>
          <a:xfrm>
            <a:off x="639720" y="2530440"/>
            <a:ext cx="744480" cy="743040"/>
            <a:chOff x="639720" y="2530440"/>
            <a:chExt cx="744480" cy="743040"/>
          </a:xfrm>
        </p:grpSpPr>
        <p:pic>
          <p:nvPicPr>
            <p:cNvPr id="116" name="Овал 8" descr=""/>
            <p:cNvPicPr/>
            <p:nvPr/>
          </p:nvPicPr>
          <p:blipFill>
            <a:blip r:embed="rId5"/>
            <a:stretch/>
          </p:blipFill>
          <p:spPr>
            <a:xfrm>
              <a:off x="639720" y="2530440"/>
              <a:ext cx="7444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22320" y="2809800"/>
              <a:ext cx="17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Овал 9"/>
          <p:cNvGrpSpPr/>
          <p:nvPr/>
        </p:nvGrpSpPr>
        <p:grpSpPr>
          <a:xfrm>
            <a:off x="639720" y="2932200"/>
            <a:ext cx="744480" cy="744480"/>
            <a:chOff x="639720" y="2932200"/>
            <a:chExt cx="744480" cy="744480"/>
          </a:xfrm>
        </p:grpSpPr>
        <p:pic>
          <p:nvPicPr>
            <p:cNvPr id="119" name="Овал 9" descr=""/>
            <p:cNvPicPr/>
            <p:nvPr/>
          </p:nvPicPr>
          <p:blipFill>
            <a:blip r:embed="rId6"/>
            <a:stretch/>
          </p:blipFill>
          <p:spPr>
            <a:xfrm>
              <a:off x="639720" y="29322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22320" y="3211560"/>
              <a:ext cx="179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Овал 10"/>
          <p:cNvGrpSpPr/>
          <p:nvPr/>
        </p:nvGrpSpPr>
        <p:grpSpPr>
          <a:xfrm>
            <a:off x="639720" y="3402000"/>
            <a:ext cx="744480" cy="743040"/>
            <a:chOff x="639720" y="3402000"/>
            <a:chExt cx="744480" cy="743040"/>
          </a:xfrm>
        </p:grpSpPr>
        <p:pic>
          <p:nvPicPr>
            <p:cNvPr id="122" name="Овал 10" descr=""/>
            <p:cNvPicPr/>
            <p:nvPr/>
          </p:nvPicPr>
          <p:blipFill>
            <a:blip r:embed="rId7"/>
            <a:stretch/>
          </p:blipFill>
          <p:spPr>
            <a:xfrm>
              <a:off x="639720" y="3402000"/>
              <a:ext cx="7444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22320" y="3686040"/>
              <a:ext cx="17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4" name="TextBox 15" descr=""/>
          <p:cNvPicPr/>
          <p:nvPr/>
        </p:nvPicPr>
        <p:blipFill>
          <a:blip r:embed="rId8"/>
          <a:stretch/>
        </p:blipFill>
        <p:spPr>
          <a:xfrm>
            <a:off x="0" y="755640"/>
            <a:ext cx="879624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6" descr=""/>
          <p:cNvPicPr/>
          <p:nvPr/>
        </p:nvPicPr>
        <p:blipFill>
          <a:blip r:embed="rId9"/>
          <a:stretch/>
        </p:blipFill>
        <p:spPr>
          <a:xfrm>
            <a:off x="1152360" y="2163600"/>
            <a:ext cx="6589800" cy="46368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17" descr=""/>
          <p:cNvPicPr/>
          <p:nvPr/>
        </p:nvPicPr>
        <p:blipFill>
          <a:blip r:embed="rId10"/>
          <a:stretch/>
        </p:blipFill>
        <p:spPr>
          <a:xfrm>
            <a:off x="1189080" y="2639880"/>
            <a:ext cx="5724360" cy="46368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19" descr=""/>
          <p:cNvPicPr/>
          <p:nvPr/>
        </p:nvPicPr>
        <p:blipFill>
          <a:blip r:embed="rId11"/>
          <a:stretch/>
        </p:blipFill>
        <p:spPr>
          <a:xfrm>
            <a:off x="1189080" y="3041640"/>
            <a:ext cx="7296120" cy="4636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20" descr=""/>
          <p:cNvPicPr/>
          <p:nvPr/>
        </p:nvPicPr>
        <p:blipFill>
          <a:blip r:embed="rId12"/>
          <a:stretch/>
        </p:blipFill>
        <p:spPr>
          <a:xfrm>
            <a:off x="1146240" y="3481560"/>
            <a:ext cx="7924680" cy="4618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1809720" y="5614920"/>
            <a:ext cx="5511960" cy="828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504800" y="3282840"/>
            <a:ext cx="620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опление мельчайших капелек воды на определённой высо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7018200" y="83664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7456320" y="61740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1362240" y="617400"/>
            <a:ext cx="14580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2165400" y="83664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1581120" y="69048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Овал 10"/>
          <p:cNvSpPr/>
          <p:nvPr/>
        </p:nvSpPr>
        <p:spPr>
          <a:xfrm flipH="1">
            <a:off x="1799640" y="398520"/>
            <a:ext cx="182520" cy="18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1836720" y="87300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8186760" y="83664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Овал 13"/>
          <p:cNvSpPr/>
          <p:nvPr/>
        </p:nvSpPr>
        <p:spPr>
          <a:xfrm>
            <a:off x="6580080" y="982800"/>
            <a:ext cx="146160" cy="14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Овал 14"/>
          <p:cNvSpPr/>
          <p:nvPr/>
        </p:nvSpPr>
        <p:spPr>
          <a:xfrm>
            <a:off x="6324480" y="909720"/>
            <a:ext cx="146160" cy="14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Овал 15"/>
          <p:cNvSpPr/>
          <p:nvPr/>
        </p:nvSpPr>
        <p:spPr>
          <a:xfrm>
            <a:off x="6215040" y="112860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Овал 16"/>
          <p:cNvSpPr/>
          <p:nvPr/>
        </p:nvSpPr>
        <p:spPr>
          <a:xfrm>
            <a:off x="5886360" y="101916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Овал 17"/>
          <p:cNvSpPr/>
          <p:nvPr/>
        </p:nvSpPr>
        <p:spPr>
          <a:xfrm>
            <a:off x="5305320" y="289080"/>
            <a:ext cx="146160" cy="14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Выноска-облако 18"/>
          <p:cNvSpPr/>
          <p:nvPr/>
        </p:nvSpPr>
        <p:spPr>
          <a:xfrm>
            <a:off x="701640" y="325440"/>
            <a:ext cx="2592360" cy="1022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>
              <a:alpha val="3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Выноска-облако 19"/>
          <p:cNvSpPr/>
          <p:nvPr/>
        </p:nvSpPr>
        <p:spPr>
          <a:xfrm>
            <a:off x="4243320" y="69840"/>
            <a:ext cx="4454640" cy="1424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>
              <a:alpha val="3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randomBa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0746 -0.51297 E">
                                      <p:cBhvr>
                                        <p:cTn id="19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TextBox 5" descr=""/>
          <p:cNvPicPr/>
          <p:nvPr/>
        </p:nvPicPr>
        <p:blipFill>
          <a:blip r:embed="rId2"/>
          <a:stretch/>
        </p:blipFill>
        <p:spPr>
          <a:xfrm>
            <a:off x="463680" y="189000"/>
            <a:ext cx="831528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4" descr=""/>
          <p:cNvPicPr/>
          <p:nvPr/>
        </p:nvPicPr>
        <p:blipFill>
          <a:blip r:embed="rId3"/>
          <a:stretch/>
        </p:blipFill>
        <p:spPr>
          <a:xfrm>
            <a:off x="1573200" y="1579680"/>
            <a:ext cx="1700280" cy="108432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4"/>
          <a:stretch/>
        </p:blipFill>
        <p:spPr>
          <a:xfrm>
            <a:off x="4127400" y="1725480"/>
            <a:ext cx="1657440" cy="773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5"/>
          <a:stretch/>
        </p:blipFill>
        <p:spPr>
          <a:xfrm>
            <a:off x="6321600" y="1579680"/>
            <a:ext cx="1652400" cy="1084320"/>
          </a:xfrm>
          <a:prstGeom prst="rect">
            <a:avLst/>
          </a:prstGeom>
          <a:ln w="0">
            <a:noFill/>
          </a:ln>
        </p:spPr>
      </p:pic>
      <p:grpSp>
        <p:nvGrpSpPr>
          <p:cNvPr id="151" name="Стрелка вверх 8"/>
          <p:cNvGrpSpPr/>
          <p:nvPr/>
        </p:nvGrpSpPr>
        <p:grpSpPr>
          <a:xfrm>
            <a:off x="2249640" y="835200"/>
            <a:ext cx="334800" cy="804600"/>
            <a:chOff x="2249640" y="835200"/>
            <a:chExt cx="334800" cy="804600"/>
          </a:xfrm>
        </p:grpSpPr>
        <p:pic>
          <p:nvPicPr>
            <p:cNvPr id="152" name="Стрелка вверх 8" descr=""/>
            <p:cNvPicPr/>
            <p:nvPr/>
          </p:nvPicPr>
          <p:blipFill>
            <a:blip r:embed="rId6"/>
            <a:stretch/>
          </p:blipFill>
          <p:spPr>
            <a:xfrm>
              <a:off x="2249640" y="835200"/>
              <a:ext cx="3348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10800000">
              <a:off x="2362320" y="872640"/>
              <a:ext cx="109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4" name="Стрелка вверх 9"/>
          <p:cNvGrpSpPr/>
          <p:nvPr/>
        </p:nvGrpSpPr>
        <p:grpSpPr>
          <a:xfrm>
            <a:off x="4803840" y="835200"/>
            <a:ext cx="334800" cy="987120"/>
            <a:chOff x="4803840" y="835200"/>
            <a:chExt cx="334800" cy="987120"/>
          </a:xfrm>
        </p:grpSpPr>
        <p:pic>
          <p:nvPicPr>
            <p:cNvPr id="155" name="Стрелка вверх 9" descr=""/>
            <p:cNvPicPr/>
            <p:nvPr/>
          </p:nvPicPr>
          <p:blipFill>
            <a:blip r:embed="rId7"/>
            <a:stretch/>
          </p:blipFill>
          <p:spPr>
            <a:xfrm>
              <a:off x="4803840" y="835200"/>
              <a:ext cx="3348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 rot="10800000">
              <a:off x="4919760" y="873000"/>
              <a:ext cx="109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Стрелка вверх 10"/>
          <p:cNvGrpSpPr/>
          <p:nvPr/>
        </p:nvGrpSpPr>
        <p:grpSpPr>
          <a:xfrm>
            <a:off x="6954840" y="835200"/>
            <a:ext cx="336600" cy="841320"/>
            <a:chOff x="6954840" y="835200"/>
            <a:chExt cx="336600" cy="841320"/>
          </a:xfrm>
        </p:grpSpPr>
        <p:pic>
          <p:nvPicPr>
            <p:cNvPr id="158" name="Стрелка вверх 10" descr=""/>
            <p:cNvPicPr/>
            <p:nvPr/>
          </p:nvPicPr>
          <p:blipFill>
            <a:blip r:embed="rId8"/>
            <a:stretch/>
          </p:blipFill>
          <p:spPr>
            <a:xfrm>
              <a:off x="6954840" y="835200"/>
              <a:ext cx="336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0800000">
              <a:off x="7074000" y="873000"/>
              <a:ext cx="1094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0" name="Рисунок 13" descr="Dangerous Weather"/>
          <p:cNvPicPr/>
          <p:nvPr/>
        </p:nvPicPr>
        <p:blipFill>
          <a:blip r:embed="rId9"/>
          <a:stretch/>
        </p:blipFill>
        <p:spPr>
          <a:xfrm>
            <a:off x="5586480" y="2881440"/>
            <a:ext cx="3585960" cy="39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Picture 4" descr="http://95reg.taba.ru/fid/aW1hZ2U6MzIzODU5/original.jpg"/>
          <p:cNvPicPr/>
          <p:nvPr/>
        </p:nvPicPr>
        <p:blipFill>
          <a:blip r:embed="rId10"/>
          <a:stretch/>
        </p:blipFill>
        <p:spPr>
          <a:xfrm>
            <a:off x="0" y="2881440"/>
            <a:ext cx="5594400" cy="39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62" name="Выгнутая вниз стрелка 14"/>
          <p:cNvGrpSpPr/>
          <p:nvPr/>
        </p:nvGrpSpPr>
        <p:grpSpPr>
          <a:xfrm>
            <a:off x="2066760" y="2590920"/>
            <a:ext cx="5290920" cy="1163520"/>
            <a:chOff x="2066760" y="2590920"/>
            <a:chExt cx="5290920" cy="1163520"/>
          </a:xfrm>
        </p:grpSpPr>
        <p:pic>
          <p:nvPicPr>
            <p:cNvPr id="163" name="Выгнутая вниз стрелка 14" descr=""/>
            <p:cNvPicPr/>
            <p:nvPr/>
          </p:nvPicPr>
          <p:blipFill>
            <a:blip r:embed="rId11"/>
            <a:stretch/>
          </p:blipFill>
          <p:spPr>
            <a:xfrm>
              <a:off x="2066760" y="2590920"/>
              <a:ext cx="526572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125440" y="2625840"/>
              <a:ext cx="523224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5" name="Выгнутая вниз стрелка 15"/>
          <p:cNvGrpSpPr/>
          <p:nvPr/>
        </p:nvGrpSpPr>
        <p:grpSpPr>
          <a:xfrm>
            <a:off x="2103480" y="2590920"/>
            <a:ext cx="3133800" cy="877680"/>
            <a:chOff x="2103480" y="2590920"/>
            <a:chExt cx="3133800" cy="877680"/>
          </a:xfrm>
        </p:grpSpPr>
        <p:pic>
          <p:nvPicPr>
            <p:cNvPr id="166" name="Выгнутая вниз стрелка 15" descr=""/>
            <p:cNvPicPr/>
            <p:nvPr/>
          </p:nvPicPr>
          <p:blipFill>
            <a:blip r:embed="rId12"/>
            <a:stretch/>
          </p:blipFill>
          <p:spPr>
            <a:xfrm>
              <a:off x="2103480" y="2590920"/>
              <a:ext cx="313380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62160" y="2625840"/>
              <a:ext cx="306720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 advTm="20000">
    <p:randomBa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AutoShape 15"/>
          <p:cNvGrpSpPr/>
          <p:nvPr/>
        </p:nvGrpSpPr>
        <p:grpSpPr>
          <a:xfrm>
            <a:off x="2139840" y="4668840"/>
            <a:ext cx="1096920" cy="2274840"/>
            <a:chOff x="2139840" y="4668840"/>
            <a:chExt cx="1096920" cy="2274840"/>
          </a:xfrm>
        </p:grpSpPr>
        <p:pic>
          <p:nvPicPr>
            <p:cNvPr id="169" name="AutoShape 15" descr=""/>
            <p:cNvPicPr/>
            <p:nvPr/>
          </p:nvPicPr>
          <p:blipFill>
            <a:blip r:embed="rId1"/>
            <a:stretch/>
          </p:blipFill>
          <p:spPr>
            <a:xfrm>
              <a:off x="2139840" y="4668840"/>
              <a:ext cx="109692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444760" y="5059440"/>
              <a:ext cx="4935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AutoShape 16"/>
          <p:cNvGrpSpPr/>
          <p:nvPr/>
        </p:nvGrpSpPr>
        <p:grpSpPr>
          <a:xfrm>
            <a:off x="7753320" y="4559400"/>
            <a:ext cx="525600" cy="1365120"/>
            <a:chOff x="7753320" y="4559400"/>
            <a:chExt cx="525600" cy="1365120"/>
          </a:xfrm>
        </p:grpSpPr>
        <p:pic>
          <p:nvPicPr>
            <p:cNvPr id="172" name="AutoShape 16" descr=""/>
            <p:cNvPicPr/>
            <p:nvPr/>
          </p:nvPicPr>
          <p:blipFill>
            <a:blip r:embed="rId2"/>
            <a:stretch/>
          </p:blipFill>
          <p:spPr>
            <a:xfrm>
              <a:off x="7753320" y="4559400"/>
              <a:ext cx="525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15320" y="4915080"/>
              <a:ext cx="2048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4" name="Line 18"/>
          <p:cNvSpPr/>
          <p:nvPr/>
        </p:nvSpPr>
        <p:spPr>
          <a:xfrm>
            <a:off x="71280" y="3068640"/>
            <a:ext cx="8964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Oval 21"/>
          <p:cNvGrpSpPr/>
          <p:nvPr/>
        </p:nvGrpSpPr>
        <p:grpSpPr>
          <a:xfrm>
            <a:off x="-493560" y="-158760"/>
            <a:ext cx="2170080" cy="2017800"/>
            <a:chOff x="-493560" y="-158760"/>
            <a:chExt cx="2170080" cy="20178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-493560" y="-158760"/>
              <a:ext cx="2170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95200" y="266760"/>
              <a:ext cx="941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Line 22"/>
          <p:cNvGrpSpPr/>
          <p:nvPr/>
        </p:nvGrpSpPr>
        <p:grpSpPr>
          <a:xfrm>
            <a:off x="615960" y="1279440"/>
            <a:ext cx="1762200" cy="5670720"/>
            <a:chOff x="615960" y="1279440"/>
            <a:chExt cx="1762200" cy="5670720"/>
          </a:xfrm>
        </p:grpSpPr>
        <p:pic>
          <p:nvPicPr>
            <p:cNvPr id="179" name="Line 22" descr=""/>
            <p:cNvPicPr/>
            <p:nvPr/>
          </p:nvPicPr>
          <p:blipFill>
            <a:blip r:embed="rId4"/>
            <a:stretch/>
          </p:blipFill>
          <p:spPr>
            <a:xfrm>
              <a:off x="615960" y="1279440"/>
              <a:ext cx="1762200" cy="56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63640" y="1521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Line 23"/>
          <p:cNvGrpSpPr/>
          <p:nvPr/>
        </p:nvGrpSpPr>
        <p:grpSpPr>
          <a:xfrm>
            <a:off x="1450800" y="774720"/>
            <a:ext cx="6718320" cy="5205240"/>
            <a:chOff x="1450800" y="774720"/>
            <a:chExt cx="6718320" cy="5205240"/>
          </a:xfrm>
        </p:grpSpPr>
        <p:pic>
          <p:nvPicPr>
            <p:cNvPr id="182" name="Line 23" descr=""/>
            <p:cNvPicPr/>
            <p:nvPr/>
          </p:nvPicPr>
          <p:blipFill>
            <a:blip r:embed="rId5"/>
            <a:stretch/>
          </p:blipFill>
          <p:spPr>
            <a:xfrm>
              <a:off x="1450800" y="774720"/>
              <a:ext cx="6718320" cy="52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692360" y="1015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Line 24"/>
          <p:cNvGrpSpPr/>
          <p:nvPr/>
        </p:nvGrpSpPr>
        <p:grpSpPr>
          <a:xfrm>
            <a:off x="-414360" y="1189080"/>
            <a:ext cx="506520" cy="5546520"/>
            <a:chOff x="-414360" y="1189080"/>
            <a:chExt cx="506520" cy="5546520"/>
          </a:xfrm>
        </p:grpSpPr>
        <p:pic>
          <p:nvPicPr>
            <p:cNvPr id="185" name="Line 24" descr=""/>
            <p:cNvPicPr/>
            <p:nvPr/>
          </p:nvPicPr>
          <p:blipFill>
            <a:blip r:embed="rId6"/>
            <a:stretch/>
          </p:blipFill>
          <p:spPr>
            <a:xfrm>
              <a:off x="-414360" y="1189080"/>
              <a:ext cx="50652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-165240" y="142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Line 26"/>
          <p:cNvGrpSpPr/>
          <p:nvPr/>
        </p:nvGrpSpPr>
        <p:grpSpPr>
          <a:xfrm>
            <a:off x="1054080" y="1170000"/>
            <a:ext cx="4346640" cy="5462640"/>
            <a:chOff x="1054080" y="1170000"/>
            <a:chExt cx="4346640" cy="5462640"/>
          </a:xfrm>
        </p:grpSpPr>
        <p:pic>
          <p:nvPicPr>
            <p:cNvPr id="188" name="Line 26" descr=""/>
            <p:cNvPicPr/>
            <p:nvPr/>
          </p:nvPicPr>
          <p:blipFill>
            <a:blip r:embed="rId7"/>
            <a:stretch/>
          </p:blipFill>
          <p:spPr>
            <a:xfrm>
              <a:off x="1054080" y="1170000"/>
              <a:ext cx="434664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295280" y="1413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90" name="AutoShape 31" descr=""/>
          <p:cNvPicPr/>
          <p:nvPr/>
        </p:nvPicPr>
        <p:blipFill>
          <a:blip r:embed="rId8"/>
          <a:stretch/>
        </p:blipFill>
        <p:spPr>
          <a:xfrm>
            <a:off x="2286000" y="4389480"/>
            <a:ext cx="5522760" cy="2468520"/>
          </a:xfrm>
          <a:prstGeom prst="rect">
            <a:avLst/>
          </a:prstGeom>
          <a:ln w="0">
            <a:noFill/>
          </a:ln>
        </p:spPr>
      </p:pic>
      <p:grpSp>
        <p:nvGrpSpPr>
          <p:cNvPr id="191" name="Cloud"/>
          <p:cNvGrpSpPr/>
          <p:nvPr/>
        </p:nvGrpSpPr>
        <p:grpSpPr>
          <a:xfrm>
            <a:off x="262080" y="1268280"/>
            <a:ext cx="3517920" cy="2035440"/>
            <a:chOff x="262080" y="1268280"/>
            <a:chExt cx="3517920" cy="2035440"/>
          </a:xfrm>
        </p:grpSpPr>
        <p:pic>
          <p:nvPicPr>
            <p:cNvPr id="192" name="Cloud" descr=""/>
            <p:cNvPicPr/>
            <p:nvPr/>
          </p:nvPicPr>
          <p:blipFill>
            <a:blip r:embed="rId9"/>
            <a:stretch/>
          </p:blipFill>
          <p:spPr>
            <a:xfrm>
              <a:off x="262080" y="1268280"/>
              <a:ext cx="351792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28800" y="1754280"/>
              <a:ext cx="197964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4" name="Cloud"/>
          <p:cNvGrpSpPr/>
          <p:nvPr/>
        </p:nvGrpSpPr>
        <p:grpSpPr>
          <a:xfrm>
            <a:off x="4870440" y="549360"/>
            <a:ext cx="3693960" cy="1206360"/>
            <a:chOff x="4870440" y="549360"/>
            <a:chExt cx="3693960" cy="1206360"/>
          </a:xfrm>
        </p:grpSpPr>
        <p:pic>
          <p:nvPicPr>
            <p:cNvPr id="195" name="Cloud" descr=""/>
            <p:cNvPicPr/>
            <p:nvPr/>
          </p:nvPicPr>
          <p:blipFill>
            <a:blip r:embed="rId10"/>
            <a:stretch/>
          </p:blipFill>
          <p:spPr>
            <a:xfrm>
              <a:off x="4870440" y="549360"/>
              <a:ext cx="36939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60920" y="909720"/>
              <a:ext cx="2094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Oval 17"/>
          <p:cNvGrpSpPr/>
          <p:nvPr/>
        </p:nvGrpSpPr>
        <p:grpSpPr>
          <a:xfrm>
            <a:off x="2054160" y="2292480"/>
            <a:ext cx="804960" cy="785520"/>
            <a:chOff x="2054160" y="2292480"/>
            <a:chExt cx="804960" cy="785520"/>
          </a:xfrm>
        </p:grpSpPr>
        <p:pic>
          <p:nvPicPr>
            <p:cNvPr id="198" name="Oval 17" descr=""/>
            <p:cNvPicPr/>
            <p:nvPr/>
          </p:nvPicPr>
          <p:blipFill>
            <a:blip r:embed="rId11"/>
            <a:stretch/>
          </p:blipFill>
          <p:spPr>
            <a:xfrm>
              <a:off x="2054160" y="2292480"/>
              <a:ext cx="8049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475000" y="2378160"/>
              <a:ext cx="306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00" name="AutoShape 30" descr=""/>
          <p:cNvPicPr/>
          <p:nvPr/>
        </p:nvPicPr>
        <p:blipFill>
          <a:blip r:embed="rId12"/>
          <a:stretch/>
        </p:blipFill>
        <p:spPr>
          <a:xfrm>
            <a:off x="2365200" y="719280"/>
            <a:ext cx="27608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WordArt 35" descr=""/>
          <p:cNvPicPr/>
          <p:nvPr/>
        </p:nvPicPr>
        <p:blipFill>
          <a:blip r:embed="rId13"/>
          <a:stretch/>
        </p:blipFill>
        <p:spPr>
          <a:xfrm>
            <a:off x="0" y="208080"/>
            <a:ext cx="914400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WordArt 36" descr=""/>
          <p:cNvPicPr/>
          <p:nvPr/>
        </p:nvPicPr>
        <p:blipFill>
          <a:blip r:embed="rId14"/>
          <a:stretch/>
        </p:blipFill>
        <p:spPr>
          <a:xfrm>
            <a:off x="139680" y="6340320"/>
            <a:ext cx="2139840" cy="316080"/>
          </a:xfrm>
          <a:prstGeom prst="rect">
            <a:avLst/>
          </a:prstGeom>
          <a:ln w="0">
            <a:noFill/>
          </a:ln>
        </p:spPr>
      </p:pic>
      <p:pic>
        <p:nvPicPr>
          <p:cNvPr id="203" name="WordArt 37" descr=""/>
          <p:cNvPicPr/>
          <p:nvPr/>
        </p:nvPicPr>
        <p:blipFill>
          <a:blip r:embed="rId15"/>
          <a:stretch/>
        </p:blipFill>
        <p:spPr>
          <a:xfrm>
            <a:off x="7047000" y="6267600"/>
            <a:ext cx="1852560" cy="382320"/>
          </a:xfrm>
          <a:prstGeom prst="rect">
            <a:avLst/>
          </a:prstGeom>
          <a:ln w="0">
            <a:noFill/>
          </a:ln>
        </p:spPr>
      </p:pic>
      <p:grpSp>
        <p:nvGrpSpPr>
          <p:cNvPr id="204" name="Овал 20"/>
          <p:cNvGrpSpPr/>
          <p:nvPr/>
        </p:nvGrpSpPr>
        <p:grpSpPr>
          <a:xfrm>
            <a:off x="2651040" y="2481120"/>
            <a:ext cx="293760" cy="292320"/>
            <a:chOff x="2651040" y="2481120"/>
            <a:chExt cx="293760" cy="292320"/>
          </a:xfrm>
        </p:grpSpPr>
        <p:pic>
          <p:nvPicPr>
            <p:cNvPr id="205" name="Овал 20" descr=""/>
            <p:cNvPicPr/>
            <p:nvPr/>
          </p:nvPicPr>
          <p:blipFill>
            <a:blip r:embed="rId16"/>
            <a:stretch/>
          </p:blipFill>
          <p:spPr>
            <a:xfrm>
              <a:off x="2651040" y="2481120"/>
              <a:ext cx="2937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36720" y="2543040"/>
              <a:ext cx="1288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Овал 21"/>
          <p:cNvGrpSpPr/>
          <p:nvPr/>
        </p:nvGrpSpPr>
        <p:grpSpPr>
          <a:xfrm>
            <a:off x="2468520" y="2189160"/>
            <a:ext cx="298440" cy="291960"/>
            <a:chOff x="2468520" y="2189160"/>
            <a:chExt cx="298440" cy="291960"/>
          </a:xfrm>
        </p:grpSpPr>
        <p:pic>
          <p:nvPicPr>
            <p:cNvPr id="208" name="Овал 21" descr=""/>
            <p:cNvPicPr/>
            <p:nvPr/>
          </p:nvPicPr>
          <p:blipFill>
            <a:blip r:embed="rId17"/>
            <a:stretch/>
          </p:blipFill>
          <p:spPr>
            <a:xfrm>
              <a:off x="2468520" y="2189160"/>
              <a:ext cx="2984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554200" y="2251080"/>
              <a:ext cx="1285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0" name="Овал 22"/>
          <p:cNvGrpSpPr/>
          <p:nvPr/>
        </p:nvGrpSpPr>
        <p:grpSpPr>
          <a:xfrm>
            <a:off x="2322360" y="2517840"/>
            <a:ext cx="298440" cy="291960"/>
            <a:chOff x="2322360" y="2517840"/>
            <a:chExt cx="298440" cy="291960"/>
          </a:xfrm>
        </p:grpSpPr>
        <p:pic>
          <p:nvPicPr>
            <p:cNvPr id="211" name="Овал 22" descr=""/>
            <p:cNvPicPr/>
            <p:nvPr/>
          </p:nvPicPr>
          <p:blipFill>
            <a:blip r:embed="rId18"/>
            <a:stretch/>
          </p:blipFill>
          <p:spPr>
            <a:xfrm>
              <a:off x="2322360" y="2517840"/>
              <a:ext cx="2984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408400" y="2579760"/>
              <a:ext cx="128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Овал 23"/>
          <p:cNvGrpSpPr/>
          <p:nvPr/>
        </p:nvGrpSpPr>
        <p:grpSpPr>
          <a:xfrm>
            <a:off x="2322360" y="2335320"/>
            <a:ext cx="298440" cy="291960"/>
            <a:chOff x="2322360" y="2335320"/>
            <a:chExt cx="298440" cy="291960"/>
          </a:xfrm>
        </p:grpSpPr>
        <p:pic>
          <p:nvPicPr>
            <p:cNvPr id="214" name="Овал 23" descr=""/>
            <p:cNvPicPr/>
            <p:nvPr/>
          </p:nvPicPr>
          <p:blipFill>
            <a:blip r:embed="rId19"/>
            <a:stretch/>
          </p:blipFill>
          <p:spPr>
            <a:xfrm>
              <a:off x="2322360" y="2335320"/>
              <a:ext cx="2984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408400" y="2397240"/>
              <a:ext cx="128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16" name="Text Box 28" descr=""/>
          <p:cNvPicPr/>
          <p:nvPr/>
        </p:nvPicPr>
        <p:blipFill>
          <a:blip r:embed="rId20"/>
          <a:stretch/>
        </p:blipFill>
        <p:spPr>
          <a:xfrm>
            <a:off x="6559560" y="1316160"/>
            <a:ext cx="1974960" cy="1414440"/>
          </a:xfrm>
          <a:prstGeom prst="rect">
            <a:avLst/>
          </a:prstGeom>
          <a:ln w="0">
            <a:noFill/>
          </a:ln>
        </p:spPr>
      </p:pic>
      <p:pic>
        <p:nvPicPr>
          <p:cNvPr id="217" name="AutoShape 27" descr=""/>
          <p:cNvPicPr/>
          <p:nvPr/>
        </p:nvPicPr>
        <p:blipFill>
          <a:blip r:embed="rId21"/>
          <a:stretch/>
        </p:blipFill>
        <p:spPr>
          <a:xfrm>
            <a:off x="6066000" y="1212840"/>
            <a:ext cx="252864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Bar dir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5694 L 0.00486 -0.24329 E">
                                      <p:cBhvr>
                                        <p:cTn id="35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5 L 3.88889E-006 -0.22685 E">
                                      <p:cBhvr>
                                        <p:cTn id="36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0741E-007 L 0.46354 -0.00255 E">
                                      <p:cBhvr>
                                        <p:cTn id="4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6296E-006 L 0.46979 -2.96296E-006 E">
                                      <p:cBhvr>
                                        <p:cTn id="410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1" descr="Serenity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" descr=""/>
          <p:cNvPicPr/>
          <p:nvPr/>
        </p:nvPicPr>
        <p:blipFill>
          <a:blip r:embed="rId2"/>
          <a:stretch/>
        </p:blipFill>
        <p:spPr>
          <a:xfrm>
            <a:off x="1279440" y="171360"/>
            <a:ext cx="618192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7" descr="clouds&amp;reflections"/>
          <p:cNvPicPr/>
          <p:nvPr/>
        </p:nvPicPr>
        <p:blipFill>
          <a:blip r:embed="rId1"/>
          <a:stretch/>
        </p:blipFill>
        <p:spPr>
          <a:xfrm>
            <a:off x="0" y="0"/>
            <a:ext cx="9398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6" descr="sky crow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1" descr="clouds in arms"/>
          <p:cNvPicPr/>
          <p:nvPr/>
        </p:nvPicPr>
        <p:blipFill>
          <a:blip r:embed="rId3"/>
          <a:stretch/>
        </p:blipFill>
        <p:spPr>
          <a:xfrm>
            <a:off x="0" y="0"/>
            <a:ext cx="944388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6" descr=""/>
          <p:cNvPicPr/>
          <p:nvPr/>
        </p:nvPicPr>
        <p:blipFill>
          <a:blip r:embed="rId4"/>
          <a:stretch/>
        </p:blipFill>
        <p:spPr>
          <a:xfrm>
            <a:off x="517680" y="6066000"/>
            <a:ext cx="862632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4280" y="69840"/>
          <a:ext cx="9310680" cy="6691320"/>
        </p:xfrm>
        <a:graphic>
          <a:graphicData uri="http://schemas.openxmlformats.org/drawingml/2006/table">
            <a:tbl>
              <a:tblPr/>
              <a:tblGrid>
                <a:gridCol w="1409760"/>
                <a:gridCol w="747720"/>
                <a:gridCol w="1500120"/>
                <a:gridCol w="56530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з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ру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л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ы и разновид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х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ш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Пер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окнистые, нитевидные, когтевидные, хребтовидные, перепутанные, плотные, грозовые, хлопьевид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еристо-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нистые, чечевицеобразные, кучевообразные, хлопьевид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Перисто-сло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окнистые, туманообраз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Высоко-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нистые, просвечивающие, непросвечивающие плотные, чечевицеобразные, неоднородные, кучевообразные, хлопьевидные, башенковид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Высоко-сло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манообразные, волнистые, просвечивающие, непросвечивающие, дающие оса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4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ж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Слоисто-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нистые, просвечивающие, плотные, чечевицеобразные, кучевообразные, башенковидные, растекащиеся дневные, растекающиеся вечерние, вымеобраз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   Сло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манообразные, волнистые, разорванные, разорванно-дожд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Слоисто-дожд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тикального разви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ские, разорванные, средние, мощ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1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Кучево-дожд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Лысые», «лысые» с грозовым валом, «волосатые», «волосатые» с грозовым валом, с наковальней, плоск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p:transition spd="slow" advTm="40000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53:52Z</dcterms:created>
  <dc:creator>USER</dc:creator>
  <dc:description/>
  <dc:language>en-US</dc:language>
  <cp:lastModifiedBy>Admin</cp:lastModifiedBy>
  <dcterms:modified xsi:type="dcterms:W3CDTF">2011-09-12T12:51:13Z</dcterms:modified>
  <cp:revision>260</cp:revision>
  <dc:subject/>
  <dc:title>Слайд 1</dc:title>
</cp:coreProperties>
</file>