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9.png" ContentType="image/png"/>
  <Override PartName="/ppt/media/image64.jpeg" ContentType="image/jpeg"/>
  <Override PartName="/ppt/media/image32.png" ContentType="image/png"/>
  <Override PartName="/ppt/media/image31.png" ContentType="image/png"/>
  <Override PartName="/ppt/media/image2.jpeg" ContentType="image/jpeg"/>
  <Override PartName="/ppt/media/image37.jpeg" ContentType="image/jpeg"/>
  <Override PartName="/ppt/media/image20.png" ContentType="image/png"/>
  <Override PartName="/ppt/media/image30.png" ContentType="image/png"/>
  <Override PartName="/ppt/media/image49.png" ContentType="image/png"/>
  <Override PartName="/ppt/media/image65.jpeg" ContentType="image/jpeg"/>
  <Override PartName="/ppt/media/image100.png" ContentType="image/png"/>
  <Override PartName="/ppt/media/image12.png" ContentType="image/png"/>
  <Override PartName="/ppt/media/image13.png" ContentType="image/png"/>
  <Override PartName="/ppt/media/image48.png" ContentType="image/png"/>
  <Override PartName="/ppt/media/image9.jpeg" ContentType="image/jpeg"/>
  <Override PartName="/ppt/media/image38.png" ContentType="image/png"/>
  <Override PartName="/ppt/media/image8.jpeg" ContentType="image/jpeg"/>
  <Override PartName="/ppt/media/image26.png" ContentType="image/png"/>
  <Override PartName="/ppt/media/image91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7.jpeg" ContentType="image/jpeg"/>
  <Override PartName="/ppt/media/image4.png" ContentType="image/png"/>
  <Override PartName="/ppt/media/image16.png" ContentType="image/png"/>
  <Override PartName="/ppt/media/image81.png" ContentType="image/png"/>
  <Override PartName="/ppt/media/image28.jpeg" ContentType="image/jpeg"/>
  <Override PartName="/ppt/media/image11.jpeg" ContentType="image/jpeg"/>
  <Override PartName="/ppt/media/image92.wmf" ContentType="image/x-wmf"/>
  <Override PartName="/ppt/media/image6.png" ContentType="image/png"/>
  <Override PartName="/ppt/media/image83.png" ContentType="image/png"/>
  <Override PartName="/ppt/media/image29.png" ContentType="image/png"/>
  <Override PartName="/ppt/media/image63.jpeg" ContentType="image/jpeg"/>
  <Override PartName="/ppt/media/image94.png" ContentType="image/png"/>
  <Override PartName="/ppt/media/image34.png" ContentType="image/png"/>
  <Override PartName="/ppt/media/image27.png" ContentType="image/png"/>
  <Override PartName="/ppt/media/image33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6.png" ContentType="image/png"/>
  <Override PartName="/ppt/media/image77.png" ContentType="image/png"/>
  <Override PartName="/ppt/media/image84.gif" ContentType="image/gif"/>
  <Override PartName="/ppt/media/image78.png" ContentType="image/png"/>
  <Override PartName="/ppt/media/image69.jpeg" ContentType="image/jpeg"/>
  <Override PartName="/ppt/media/image75.png" ContentType="image/png"/>
  <Override PartName="/ppt/media/image80.jpeg" ContentType="image/jpeg"/>
  <Override PartName="/ppt/media/image79.png" ContentType="image/png"/>
  <Override PartName="/ppt/media/image18.jpeg" ContentType="image/jpeg"/>
  <Override PartName="/ppt/media/image3.png" ContentType="image/png"/>
  <Override PartName="/ppt/media/image15.png" ContentType="image/png"/>
  <Override PartName="/ppt/media/image109.jpeg" ContentType="image/jpeg"/>
  <Override PartName="/ppt/media/image87.gif" ContentType="image/gif"/>
  <Override PartName="/ppt/media/image101.png" ContentType="image/png"/>
  <Override PartName="/ppt/media/image85.jpeg" ContentType="image/jpeg"/>
  <Override PartName="/ppt/media/image108.png" ContentType="image/png"/>
  <Override PartName="/ppt/media/image93.png" ContentType="image/png"/>
  <Override PartName="/ppt/media/image88.jpeg" ContentType="image/jpeg"/>
  <Override PartName="/ppt/media/image14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19.png" ContentType="image/png"/>
  <Override PartName="/ppt/media/image104.png" ContentType="image/png"/>
  <Override PartName="/ppt/media/image97.png" ContentType="image/png"/>
  <Override PartName="/ppt/media/image103.png" ContentType="image/png"/>
  <Override PartName="/ppt/media/image96.png" ContentType="image/png"/>
  <Override PartName="/ppt/media/image102.png" ContentType="image/png"/>
  <Override PartName="/ppt/media/image95.png" ContentType="image/png"/>
  <Override PartName="/ppt/media/image82.jpeg" ContentType="image/jpeg"/>
  <Override PartName="/ppt/media/image89.gif" ContentType="image/gif"/>
  <Override PartName="/ppt/media/image70.png" ContentType="image/png"/>
  <Override PartName="/ppt/media/image68.png" ContentType="image/png"/>
  <Override PartName="/ppt/media/image67.jpeg" ContentType="image/jpeg"/>
  <Override PartName="/ppt/media/image58.png" ContentType="image/png"/>
  <Override PartName="/ppt/media/image66.png" ContentType="image/png"/>
  <Override PartName="/ppt/media/image61.jpeg" ContentType="image/jpeg"/>
  <Override PartName="/ppt/media/image74.png" ContentType="image/png"/>
  <Override PartName="/ppt/media/image90.jpeg" ContentType="image/jpeg"/>
  <Override PartName="/ppt/media/image60.png" ContentType="image/png"/>
  <Override PartName="/ppt/media/image110.jpeg" ContentType="image/jpeg"/>
  <Override PartName="/ppt/media/image25.png" ContentType="image/png"/>
  <Override PartName="/ppt/media/image86.jpeg" ContentType="image/jpeg"/>
  <Override PartName="/ppt/media/image10.jpeg" ContentType="image/jpeg"/>
  <Override PartName="/ppt/media/image111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107.png" ContentType="image/png"/>
  <Override PartName="/ppt/media/image36.jpeg" ContentType="image/jpeg"/>
  <Override PartName="/ppt/media/image5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15BC2-9FDC-4461-8360-5FEBDD38ABC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0709F-EE04-44EA-8CFF-EAA8B5453AF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C71F-E712-4C12-A77C-B92D95199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B624-0FF7-4767-B395-07F7885E6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CBF3-BE1A-4B40-84A8-592E068B1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98A2-7490-4DC1-AECD-DE50402BF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711CA2-78E4-43B2-A13B-789C8D3D9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E310CD-F8B1-4D69-8449-4728748F7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697C30-3D89-4B5F-90DC-AE1290435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DDD4AB-F7D8-4C83-94E2-4D13E76B9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D63B1C-6683-497C-B160-0F45454BF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C695C0-EF67-4BCE-8A5B-847A63434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692650-6133-4989-9BC0-93ABB3B2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712C-F9F2-4BBD-966A-4707E6D44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D7C279-7F14-474B-B133-D073106F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298FB8-63B0-4D70-9476-2056427C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188977-256D-45A1-8F8E-167789109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C5B7C3-CF20-4439-8E1F-F0AE07AEE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8C711C-BEF2-402F-AF58-084B4A996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03ED-744C-40B1-984C-67EB791B2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2734-A0F4-4F35-B7A2-8B77EAD18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A759-D686-4BEA-8A43-2975CF4FE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C920-7528-4BF2-9C90-60FF1C28B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79E6-5775-4EF6-A317-0F05C227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72A4-490E-453F-82B2-0B966674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7C78-B4C5-480E-8093-E199C96C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40F31-0A6F-4D60-AAB6-C729FAD09E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A1125-52DF-4800-A54E-7D49A79126A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png"/><Relationship Id="rId3" Type="http://schemas.openxmlformats.org/officeDocument/2006/relationships/image" Target="../media/image69.jpeg"/><Relationship Id="rId4" Type="http://schemas.openxmlformats.org/officeDocument/2006/relationships/image" Target="../media/image70.png"/><Relationship Id="rId5" Type="http://schemas.openxmlformats.org/officeDocument/2006/relationships/image" Target="../media/image7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image" Target="../media/image77.png"/><Relationship Id="rId4" Type="http://schemas.openxmlformats.org/officeDocument/2006/relationships/image" Target="../media/image78.png"/><Relationship Id="rId5" Type="http://schemas.openxmlformats.org/officeDocument/2006/relationships/image" Target="../media/image79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png"/><Relationship Id="rId3" Type="http://schemas.openxmlformats.org/officeDocument/2006/relationships/image" Target="../media/image84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image" Target="../media/image8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image" Target="../media/image87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image" Target="../media/image89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image" Target="../media/image9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96.png"/><Relationship Id="rId5" Type="http://schemas.openxmlformats.org/officeDocument/2006/relationships/image" Target="../media/image97.png"/><Relationship Id="rId6" Type="http://schemas.openxmlformats.org/officeDocument/2006/relationships/image" Target="../media/image98.png"/><Relationship Id="rId7" Type="http://schemas.openxmlformats.org/officeDocument/2006/relationships/image" Target="../media/image99.png"/><Relationship Id="rId8" Type="http://schemas.openxmlformats.org/officeDocument/2006/relationships/image" Target="../media/image100.png"/><Relationship Id="rId9" Type="http://schemas.openxmlformats.org/officeDocument/2006/relationships/image" Target="../media/image101.png"/><Relationship Id="rId10" Type="http://schemas.openxmlformats.org/officeDocument/2006/relationships/image" Target="../media/image102.png"/><Relationship Id="rId11" Type="http://schemas.openxmlformats.org/officeDocument/2006/relationships/image" Target="../media/image103.png"/><Relationship Id="rId12" Type="http://schemas.openxmlformats.org/officeDocument/2006/relationships/image" Target="../media/image104.png"/><Relationship Id="rId13" Type="http://schemas.openxmlformats.org/officeDocument/2006/relationships/image" Target="../media/image105.png"/><Relationship Id="rId1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107.png"/><Relationship Id="rId3" Type="http://schemas.openxmlformats.org/officeDocument/2006/relationships/image" Target="../media/image87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0.jpeg"/><Relationship Id="rId2" Type="http://schemas.openxmlformats.org/officeDocument/2006/relationships/image" Target="../media/image1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image" Target="../media/image36.jpeg"/><Relationship Id="rId10" Type="http://schemas.openxmlformats.org/officeDocument/2006/relationships/image" Target="../media/image37.jpe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image" Target="../media/image49.png"/><Relationship Id="rId11" Type="http://schemas.openxmlformats.org/officeDocument/2006/relationships/image" Target="../media/image50.png"/><Relationship Id="rId12" Type="http://schemas.openxmlformats.org/officeDocument/2006/relationships/image" Target="../media/image51.png"/><Relationship Id="rId13" Type="http://schemas.openxmlformats.org/officeDocument/2006/relationships/image" Target="../media/image52.png"/><Relationship Id="rId14" Type="http://schemas.openxmlformats.org/officeDocument/2006/relationships/image" Target="../media/image53.png"/><Relationship Id="rId15" Type="http://schemas.openxmlformats.org/officeDocument/2006/relationships/image" Target="../media/image54.png"/><Relationship Id="rId16" Type="http://schemas.openxmlformats.org/officeDocument/2006/relationships/image" Target="../media/image55.png"/><Relationship Id="rId17" Type="http://schemas.openxmlformats.org/officeDocument/2006/relationships/image" Target="../media/image56.png"/><Relationship Id="rId18" Type="http://schemas.openxmlformats.org/officeDocument/2006/relationships/image" Target="../media/image57.png"/><Relationship Id="rId19" Type="http://schemas.openxmlformats.org/officeDocument/2006/relationships/image" Target="../media/image58.png"/><Relationship Id="rId20" Type="http://schemas.openxmlformats.org/officeDocument/2006/relationships/image" Target="../media/image59.png"/><Relationship Id="rId21" Type="http://schemas.openxmlformats.org/officeDocument/2006/relationships/image" Target="../media/image60.png"/><Relationship Id="rId2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6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7" descr="Картинка 6 из 153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WordArt 6" descr=""/>
          <p:cNvPicPr/>
          <p:nvPr/>
        </p:nvPicPr>
        <p:blipFill>
          <a:blip r:embed="rId2"/>
          <a:stretch/>
        </p:blipFill>
        <p:spPr>
          <a:xfrm>
            <a:off x="1749600" y="0"/>
            <a:ext cx="73944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Прямоугольник 5" descr=""/>
          <p:cNvPicPr/>
          <p:nvPr/>
        </p:nvPicPr>
        <p:blipFill>
          <a:blip r:embed="rId3"/>
          <a:stretch/>
        </p:blipFill>
        <p:spPr>
          <a:xfrm>
            <a:off x="0" y="5913360"/>
            <a:ext cx="4383000" cy="700200"/>
          </a:xfrm>
          <a:prstGeom prst="rect">
            <a:avLst/>
          </a:prstGeom>
          <a:ln w="0">
            <a:noFill/>
          </a:ln>
        </p:spPr>
      </p:pic>
      <p:pic>
        <p:nvPicPr>
          <p:cNvPr id="93" name="TextBox 6" descr=""/>
          <p:cNvPicPr/>
          <p:nvPr/>
        </p:nvPicPr>
        <p:blipFill>
          <a:blip r:embed="rId4"/>
          <a:stretch/>
        </p:blipFill>
        <p:spPr>
          <a:xfrm>
            <a:off x="2494080" y="3200400"/>
            <a:ext cx="3273480" cy="993600"/>
          </a:xfrm>
          <a:prstGeom prst="rect">
            <a:avLst/>
          </a:prstGeom>
          <a:ln w="0">
            <a:noFill/>
          </a:ln>
        </p:spPr>
      </p:pic>
      <p:pic>
        <p:nvPicPr>
          <p:cNvPr id="94" name="Al Di Meola - Azzura.mp3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5" name="Al Di Meola - Azzura.mp3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46040" y="726840"/>
            <a:ext cx="822960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24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то нежные облака белого цвета, волнистые или нитевидные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Прямоугольник 7"/>
          <p:cNvSpPr/>
          <p:nvPr/>
        </p:nvSpPr>
        <p:spPr>
          <a:xfrm>
            <a:off x="1359000" y="1932120"/>
            <a:ext cx="631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 этих облаков никогда не выпадают осадк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7" name="Picture 12" descr="Картинка 126 из 30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228" name="TextBox 6"/>
          <p:cNvGrpSpPr/>
          <p:nvPr/>
        </p:nvGrpSpPr>
        <p:grpSpPr>
          <a:xfrm>
            <a:off x="6662880" y="4718160"/>
            <a:ext cx="2305080" cy="1901880"/>
            <a:chOff x="6662880" y="4718160"/>
            <a:chExt cx="2305080" cy="1901880"/>
          </a:xfrm>
        </p:grpSpPr>
        <p:pic>
          <p:nvPicPr>
            <p:cNvPr id="229" name="TextBox 6" descr=""/>
            <p:cNvPicPr/>
            <p:nvPr/>
          </p:nvPicPr>
          <p:blipFill>
            <a:blip r:embed="rId2"/>
            <a:stretch/>
          </p:blipFill>
          <p:spPr>
            <a:xfrm>
              <a:off x="6662880" y="4718160"/>
              <a:ext cx="2305080" cy="190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6726240" y="4780080"/>
              <a:ext cx="21542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10199"/>
                  </a:solidFill>
                  <a:latin typeface="Tahoma"/>
                </a:rPr>
                <a:t>Но зато именно эти облака могут подсказать вам,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10199"/>
                  </a:solidFill>
                  <a:latin typeface="Tahoma"/>
                </a:rPr>
                <a:t>что через сутки пройдут  долгие дожди.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231" name="Picture 14" descr="Картинка 334 из 3019"/>
          <p:cNvPicPr/>
          <p:nvPr/>
        </p:nvPicPr>
        <p:blipFill>
          <a:blip r:embed="rId3"/>
          <a:stretch/>
        </p:blipFill>
        <p:spPr>
          <a:xfrm>
            <a:off x="-28440" y="6480"/>
            <a:ext cx="9172440" cy="6851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32" name="Прямоугольник 8" descr=""/>
          <p:cNvPicPr/>
          <p:nvPr/>
        </p:nvPicPr>
        <p:blipFill>
          <a:blip r:embed="rId4"/>
          <a:stretch/>
        </p:blipFill>
        <p:spPr>
          <a:xfrm>
            <a:off x="2023920" y="407880"/>
            <a:ext cx="5351760" cy="592200"/>
          </a:xfrm>
          <a:prstGeom prst="rect">
            <a:avLst/>
          </a:prstGeom>
          <a:ln w="0">
            <a:noFill/>
          </a:ln>
        </p:spPr>
      </p:pic>
      <p:grpSp>
        <p:nvGrpSpPr>
          <p:cNvPr id="233" name="Freeform 5"/>
          <p:cNvGrpSpPr/>
          <p:nvPr/>
        </p:nvGrpSpPr>
        <p:grpSpPr>
          <a:xfrm>
            <a:off x="3449520" y="5072040"/>
            <a:ext cx="5749560" cy="1882800"/>
            <a:chOff x="3449520" y="5072040"/>
            <a:chExt cx="5749560" cy="1882800"/>
          </a:xfrm>
        </p:grpSpPr>
        <p:pic>
          <p:nvPicPr>
            <p:cNvPr id="234" name="Freeform 5" descr=""/>
            <p:cNvPicPr/>
            <p:nvPr/>
          </p:nvPicPr>
          <p:blipFill>
            <a:blip r:embed="rId5"/>
            <a:stretch/>
          </p:blipFill>
          <p:spPr>
            <a:xfrm>
              <a:off x="3449520" y="5072040"/>
              <a:ext cx="5532480" cy="188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3510720" y="5108400"/>
              <a:ext cx="5688360" cy="17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36" name="Freeform 8"/>
          <p:cNvSpPr/>
          <p:nvPr/>
        </p:nvSpPr>
        <p:spPr>
          <a:xfrm>
            <a:off x="5867280" y="1268280"/>
            <a:ext cx="1981440" cy="1049400"/>
          </a:xfrm>
          <a:custGeom>
            <a:avLst/>
            <a:gdLst>
              <a:gd name="textAreaLeft" fmla="*/ 0 w 1981440"/>
              <a:gd name="textAreaRight" fmla="*/ 1981800 w 1981440"/>
              <a:gd name="textAreaTop" fmla="*/ 0 h 1049400"/>
              <a:gd name="textAreaBottom" fmla="*/ 1049760 h 1049400"/>
            </a:gdLst>
            <a:ahLst/>
            <a:rect l="textAreaLeft" t="textAreaTop" r="textAreaRight" b="textAreaBottom"/>
            <a:pathLst>
              <a:path w="869" h="571">
                <a:moveTo>
                  <a:pt x="0" y="571"/>
                </a:moveTo>
                <a:cubicBezTo>
                  <a:pt x="33" y="521"/>
                  <a:pt x="103" y="510"/>
                  <a:pt x="159" y="503"/>
                </a:cubicBezTo>
                <a:cubicBezTo>
                  <a:pt x="198" y="480"/>
                  <a:pt x="233" y="475"/>
                  <a:pt x="273" y="457"/>
                </a:cubicBezTo>
                <a:cubicBezTo>
                  <a:pt x="311" y="439"/>
                  <a:pt x="347" y="418"/>
                  <a:pt x="386" y="404"/>
                </a:cubicBezTo>
                <a:cubicBezTo>
                  <a:pt x="409" y="383"/>
                  <a:pt x="486" y="355"/>
                  <a:pt x="523" y="344"/>
                </a:cubicBezTo>
                <a:cubicBezTo>
                  <a:pt x="528" y="334"/>
                  <a:pt x="530" y="321"/>
                  <a:pt x="538" y="313"/>
                </a:cubicBezTo>
                <a:cubicBezTo>
                  <a:pt x="570" y="281"/>
                  <a:pt x="639" y="245"/>
                  <a:pt x="682" y="230"/>
                </a:cubicBezTo>
                <a:cubicBezTo>
                  <a:pt x="716" y="178"/>
                  <a:pt x="676" y="229"/>
                  <a:pt x="720" y="200"/>
                </a:cubicBezTo>
                <a:cubicBezTo>
                  <a:pt x="758" y="175"/>
                  <a:pt x="730" y="182"/>
                  <a:pt x="758" y="154"/>
                </a:cubicBezTo>
                <a:cubicBezTo>
                  <a:pt x="767" y="145"/>
                  <a:pt x="779" y="140"/>
                  <a:pt x="788" y="132"/>
                </a:cubicBezTo>
                <a:cubicBezTo>
                  <a:pt x="794" y="127"/>
                  <a:pt x="798" y="121"/>
                  <a:pt x="803" y="116"/>
                </a:cubicBezTo>
                <a:cubicBezTo>
                  <a:pt x="806" y="109"/>
                  <a:pt x="807" y="101"/>
                  <a:pt x="811" y="94"/>
                </a:cubicBezTo>
                <a:cubicBezTo>
                  <a:pt x="869" y="0"/>
                  <a:pt x="851" y="33"/>
                  <a:pt x="841" y="63"/>
                </a:cubicBezTo>
                <a:cubicBezTo>
                  <a:pt x="833" y="88"/>
                  <a:pt x="827" y="117"/>
                  <a:pt x="811" y="139"/>
                </a:cubicBezTo>
                <a:cubicBezTo>
                  <a:pt x="805" y="148"/>
                  <a:pt x="796" y="154"/>
                  <a:pt x="788" y="162"/>
                </a:cubicBezTo>
                <a:cubicBezTo>
                  <a:pt x="775" y="216"/>
                  <a:pt x="736" y="267"/>
                  <a:pt x="682" y="283"/>
                </a:cubicBezTo>
                <a:cubicBezTo>
                  <a:pt x="647" y="329"/>
                  <a:pt x="633" y="342"/>
                  <a:pt x="576" y="351"/>
                </a:cubicBezTo>
                <a:cubicBezTo>
                  <a:pt x="533" y="397"/>
                  <a:pt x="593" y="338"/>
                  <a:pt x="538" y="374"/>
                </a:cubicBezTo>
                <a:cubicBezTo>
                  <a:pt x="482" y="410"/>
                  <a:pt x="546" y="385"/>
                  <a:pt x="493" y="412"/>
                </a:cubicBezTo>
                <a:cubicBezTo>
                  <a:pt x="453" y="433"/>
                  <a:pt x="405" y="436"/>
                  <a:pt x="364" y="457"/>
                </a:cubicBezTo>
                <a:cubicBezTo>
                  <a:pt x="318" y="506"/>
                  <a:pt x="363" y="466"/>
                  <a:pt x="220" y="480"/>
                </a:cubicBezTo>
                <a:cubicBezTo>
                  <a:pt x="187" y="483"/>
                  <a:pt x="147" y="499"/>
                  <a:pt x="114" y="503"/>
                </a:cubicBezTo>
                <a:cubicBezTo>
                  <a:pt x="106" y="506"/>
                  <a:pt x="98" y="507"/>
                  <a:pt x="91" y="511"/>
                </a:cubicBezTo>
                <a:cubicBezTo>
                  <a:pt x="83" y="515"/>
                  <a:pt x="77" y="523"/>
                  <a:pt x="68" y="526"/>
                </a:cubicBezTo>
                <a:cubicBezTo>
                  <a:pt x="19" y="543"/>
                  <a:pt x="15" y="515"/>
                  <a:pt x="0" y="571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d5d5d5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Line 18"/>
          <p:cNvSpPr/>
          <p:nvPr/>
        </p:nvSpPr>
        <p:spPr>
          <a:xfrm>
            <a:off x="8028000" y="1844640"/>
            <a:ext cx="12600" cy="421344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Text Box 24"/>
          <p:cNvSpPr/>
          <p:nvPr/>
        </p:nvSpPr>
        <p:spPr>
          <a:xfrm>
            <a:off x="5940360" y="2529000"/>
            <a:ext cx="19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ысота более 6 к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Freeform 7"/>
          <p:cNvSpPr/>
          <p:nvPr/>
        </p:nvSpPr>
        <p:spPr>
          <a:xfrm>
            <a:off x="5867280" y="1376280"/>
            <a:ext cx="1379520" cy="906480"/>
          </a:xfrm>
          <a:custGeom>
            <a:avLst/>
            <a:gdLst>
              <a:gd name="textAreaLeft" fmla="*/ 0 w 1379520"/>
              <a:gd name="textAreaRight" fmla="*/ 1379880 w 137952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869" h="571">
                <a:moveTo>
                  <a:pt x="0" y="571"/>
                </a:moveTo>
                <a:cubicBezTo>
                  <a:pt x="33" y="521"/>
                  <a:pt x="103" y="510"/>
                  <a:pt x="159" y="503"/>
                </a:cubicBezTo>
                <a:cubicBezTo>
                  <a:pt x="198" y="480"/>
                  <a:pt x="233" y="475"/>
                  <a:pt x="273" y="457"/>
                </a:cubicBezTo>
                <a:cubicBezTo>
                  <a:pt x="311" y="439"/>
                  <a:pt x="347" y="418"/>
                  <a:pt x="386" y="404"/>
                </a:cubicBezTo>
                <a:cubicBezTo>
                  <a:pt x="409" y="383"/>
                  <a:pt x="486" y="355"/>
                  <a:pt x="523" y="344"/>
                </a:cubicBezTo>
                <a:cubicBezTo>
                  <a:pt x="528" y="334"/>
                  <a:pt x="530" y="321"/>
                  <a:pt x="538" y="313"/>
                </a:cubicBezTo>
                <a:cubicBezTo>
                  <a:pt x="570" y="281"/>
                  <a:pt x="639" y="245"/>
                  <a:pt x="682" y="230"/>
                </a:cubicBezTo>
                <a:cubicBezTo>
                  <a:pt x="716" y="178"/>
                  <a:pt x="676" y="229"/>
                  <a:pt x="720" y="200"/>
                </a:cubicBezTo>
                <a:cubicBezTo>
                  <a:pt x="758" y="175"/>
                  <a:pt x="730" y="182"/>
                  <a:pt x="758" y="154"/>
                </a:cubicBezTo>
                <a:cubicBezTo>
                  <a:pt x="767" y="145"/>
                  <a:pt x="779" y="140"/>
                  <a:pt x="788" y="132"/>
                </a:cubicBezTo>
                <a:cubicBezTo>
                  <a:pt x="794" y="127"/>
                  <a:pt x="798" y="121"/>
                  <a:pt x="803" y="116"/>
                </a:cubicBezTo>
                <a:cubicBezTo>
                  <a:pt x="806" y="109"/>
                  <a:pt x="807" y="101"/>
                  <a:pt x="811" y="94"/>
                </a:cubicBezTo>
                <a:cubicBezTo>
                  <a:pt x="869" y="0"/>
                  <a:pt x="851" y="33"/>
                  <a:pt x="841" y="63"/>
                </a:cubicBezTo>
                <a:cubicBezTo>
                  <a:pt x="833" y="88"/>
                  <a:pt x="827" y="117"/>
                  <a:pt x="811" y="139"/>
                </a:cubicBezTo>
                <a:cubicBezTo>
                  <a:pt x="805" y="148"/>
                  <a:pt x="796" y="154"/>
                  <a:pt x="788" y="162"/>
                </a:cubicBezTo>
                <a:cubicBezTo>
                  <a:pt x="775" y="216"/>
                  <a:pt x="736" y="267"/>
                  <a:pt x="682" y="283"/>
                </a:cubicBezTo>
                <a:cubicBezTo>
                  <a:pt x="647" y="329"/>
                  <a:pt x="633" y="342"/>
                  <a:pt x="576" y="351"/>
                </a:cubicBezTo>
                <a:cubicBezTo>
                  <a:pt x="533" y="397"/>
                  <a:pt x="593" y="338"/>
                  <a:pt x="538" y="374"/>
                </a:cubicBezTo>
                <a:cubicBezTo>
                  <a:pt x="482" y="410"/>
                  <a:pt x="546" y="385"/>
                  <a:pt x="493" y="412"/>
                </a:cubicBezTo>
                <a:cubicBezTo>
                  <a:pt x="453" y="433"/>
                  <a:pt x="405" y="436"/>
                  <a:pt x="364" y="457"/>
                </a:cubicBezTo>
                <a:cubicBezTo>
                  <a:pt x="318" y="506"/>
                  <a:pt x="363" y="466"/>
                  <a:pt x="220" y="480"/>
                </a:cubicBezTo>
                <a:cubicBezTo>
                  <a:pt x="187" y="483"/>
                  <a:pt x="147" y="499"/>
                  <a:pt x="114" y="503"/>
                </a:cubicBezTo>
                <a:cubicBezTo>
                  <a:pt x="106" y="506"/>
                  <a:pt x="98" y="507"/>
                  <a:pt x="91" y="511"/>
                </a:cubicBezTo>
                <a:cubicBezTo>
                  <a:pt x="83" y="515"/>
                  <a:pt x="77" y="523"/>
                  <a:pt x="68" y="526"/>
                </a:cubicBezTo>
                <a:cubicBezTo>
                  <a:pt x="19" y="543"/>
                  <a:pt x="15" y="515"/>
                  <a:pt x="0" y="571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d5d5d5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Freeform 9"/>
          <p:cNvSpPr/>
          <p:nvPr/>
        </p:nvSpPr>
        <p:spPr>
          <a:xfrm>
            <a:off x="5832360" y="1341360"/>
            <a:ext cx="2627280" cy="1049400"/>
          </a:xfrm>
          <a:custGeom>
            <a:avLst/>
            <a:gdLst>
              <a:gd name="textAreaLeft" fmla="*/ 0 w 2627280"/>
              <a:gd name="textAreaRight" fmla="*/ 2627640 w 2627280"/>
              <a:gd name="textAreaTop" fmla="*/ 0 h 1049400"/>
              <a:gd name="textAreaBottom" fmla="*/ 1049760 h 1049400"/>
            </a:gdLst>
            <a:ahLst/>
            <a:rect l="textAreaLeft" t="textAreaTop" r="textAreaRight" b="textAreaBottom"/>
            <a:pathLst>
              <a:path w="869" h="571">
                <a:moveTo>
                  <a:pt x="0" y="571"/>
                </a:moveTo>
                <a:cubicBezTo>
                  <a:pt x="33" y="521"/>
                  <a:pt x="103" y="510"/>
                  <a:pt x="159" y="503"/>
                </a:cubicBezTo>
                <a:cubicBezTo>
                  <a:pt x="198" y="480"/>
                  <a:pt x="233" y="475"/>
                  <a:pt x="273" y="457"/>
                </a:cubicBezTo>
                <a:cubicBezTo>
                  <a:pt x="311" y="439"/>
                  <a:pt x="347" y="418"/>
                  <a:pt x="386" y="404"/>
                </a:cubicBezTo>
                <a:cubicBezTo>
                  <a:pt x="409" y="383"/>
                  <a:pt x="486" y="355"/>
                  <a:pt x="523" y="344"/>
                </a:cubicBezTo>
                <a:cubicBezTo>
                  <a:pt x="528" y="334"/>
                  <a:pt x="530" y="321"/>
                  <a:pt x="538" y="313"/>
                </a:cubicBezTo>
                <a:cubicBezTo>
                  <a:pt x="570" y="281"/>
                  <a:pt x="639" y="245"/>
                  <a:pt x="682" y="230"/>
                </a:cubicBezTo>
                <a:cubicBezTo>
                  <a:pt x="716" y="178"/>
                  <a:pt x="676" y="229"/>
                  <a:pt x="720" y="200"/>
                </a:cubicBezTo>
                <a:cubicBezTo>
                  <a:pt x="758" y="175"/>
                  <a:pt x="730" y="182"/>
                  <a:pt x="758" y="154"/>
                </a:cubicBezTo>
                <a:cubicBezTo>
                  <a:pt x="767" y="145"/>
                  <a:pt x="779" y="140"/>
                  <a:pt x="788" y="132"/>
                </a:cubicBezTo>
                <a:cubicBezTo>
                  <a:pt x="794" y="127"/>
                  <a:pt x="798" y="121"/>
                  <a:pt x="803" y="116"/>
                </a:cubicBezTo>
                <a:cubicBezTo>
                  <a:pt x="806" y="109"/>
                  <a:pt x="807" y="101"/>
                  <a:pt x="811" y="94"/>
                </a:cubicBezTo>
                <a:cubicBezTo>
                  <a:pt x="869" y="0"/>
                  <a:pt x="851" y="33"/>
                  <a:pt x="841" y="63"/>
                </a:cubicBezTo>
                <a:cubicBezTo>
                  <a:pt x="833" y="88"/>
                  <a:pt x="827" y="117"/>
                  <a:pt x="811" y="139"/>
                </a:cubicBezTo>
                <a:cubicBezTo>
                  <a:pt x="805" y="148"/>
                  <a:pt x="796" y="154"/>
                  <a:pt x="788" y="162"/>
                </a:cubicBezTo>
                <a:cubicBezTo>
                  <a:pt x="775" y="216"/>
                  <a:pt x="736" y="267"/>
                  <a:pt x="682" y="283"/>
                </a:cubicBezTo>
                <a:cubicBezTo>
                  <a:pt x="647" y="329"/>
                  <a:pt x="633" y="342"/>
                  <a:pt x="576" y="351"/>
                </a:cubicBezTo>
                <a:cubicBezTo>
                  <a:pt x="533" y="397"/>
                  <a:pt x="593" y="338"/>
                  <a:pt x="538" y="374"/>
                </a:cubicBezTo>
                <a:cubicBezTo>
                  <a:pt x="482" y="410"/>
                  <a:pt x="546" y="385"/>
                  <a:pt x="493" y="412"/>
                </a:cubicBezTo>
                <a:cubicBezTo>
                  <a:pt x="453" y="433"/>
                  <a:pt x="405" y="436"/>
                  <a:pt x="364" y="457"/>
                </a:cubicBezTo>
                <a:cubicBezTo>
                  <a:pt x="318" y="506"/>
                  <a:pt x="363" y="466"/>
                  <a:pt x="220" y="480"/>
                </a:cubicBezTo>
                <a:cubicBezTo>
                  <a:pt x="187" y="483"/>
                  <a:pt x="147" y="499"/>
                  <a:pt x="114" y="503"/>
                </a:cubicBezTo>
                <a:cubicBezTo>
                  <a:pt x="106" y="506"/>
                  <a:pt x="98" y="507"/>
                  <a:pt x="91" y="511"/>
                </a:cubicBezTo>
                <a:cubicBezTo>
                  <a:pt x="83" y="515"/>
                  <a:pt x="77" y="523"/>
                  <a:pt x="68" y="526"/>
                </a:cubicBezTo>
                <a:cubicBezTo>
                  <a:pt x="19" y="543"/>
                  <a:pt x="15" y="515"/>
                  <a:pt x="0" y="571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d5d5d5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25000">
    <p:randomBar dir="vert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19120" y="178920"/>
            <a:ext cx="8229600" cy="16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летние ясные дни эти облака причудливых форм появляются днём на небе, медленно куда-то плывут и всякий раз к вечеру где-то исчезают, чтобы на следующий день появиться внов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2" name="Picture 5" descr="Виды облаков"/>
          <p:cNvPicPr/>
          <p:nvPr/>
        </p:nvPicPr>
        <p:blipFill>
          <a:blip r:embed="rId1"/>
          <a:stretch/>
        </p:blipFill>
        <p:spPr>
          <a:xfrm>
            <a:off x="706320" y="1835280"/>
            <a:ext cx="7583760" cy="5022720"/>
          </a:xfrm>
          <a:prstGeom prst="rect">
            <a:avLst/>
          </a:prstGeom>
          <a:ln w="0">
            <a:noFill/>
          </a:ln>
        </p:spPr>
      </p:pic>
      <p:pic>
        <p:nvPicPr>
          <p:cNvPr id="243" name="TextBox 9" descr=""/>
          <p:cNvPicPr/>
          <p:nvPr/>
        </p:nvPicPr>
        <p:blipFill>
          <a:blip r:embed="rId2"/>
          <a:stretch/>
        </p:blipFill>
        <p:spPr>
          <a:xfrm>
            <a:off x="3425760" y="5645160"/>
            <a:ext cx="4438800" cy="676440"/>
          </a:xfrm>
          <a:prstGeom prst="rect">
            <a:avLst/>
          </a:prstGeom>
          <a:ln w="0">
            <a:noFill/>
          </a:ln>
        </p:spPr>
      </p:pic>
      <p:grpSp>
        <p:nvGrpSpPr>
          <p:cNvPr id="244" name="Cloud"/>
          <p:cNvGrpSpPr/>
          <p:nvPr/>
        </p:nvGrpSpPr>
        <p:grpSpPr>
          <a:xfrm>
            <a:off x="938160" y="2603520"/>
            <a:ext cx="2579760" cy="1352520"/>
            <a:chOff x="938160" y="2603520"/>
            <a:chExt cx="2579760" cy="1352520"/>
          </a:xfrm>
        </p:grpSpPr>
        <p:pic>
          <p:nvPicPr>
            <p:cNvPr id="245" name="Cloud" descr=""/>
            <p:cNvPicPr/>
            <p:nvPr/>
          </p:nvPicPr>
          <p:blipFill>
            <a:blip r:embed="rId3"/>
            <a:stretch/>
          </p:blipFill>
          <p:spPr>
            <a:xfrm>
              <a:off x="938160" y="2603520"/>
              <a:ext cx="257976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74920" y="2982960"/>
              <a:ext cx="136512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47" name="Line 17"/>
          <p:cNvSpPr/>
          <p:nvPr/>
        </p:nvSpPr>
        <p:spPr>
          <a:xfrm flipH="1">
            <a:off x="2125440" y="3611520"/>
            <a:ext cx="36360" cy="2884680"/>
          </a:xfrm>
          <a:prstGeom prst="line">
            <a:avLst/>
          </a:prstGeom>
          <a:ln w="28440">
            <a:solidFill>
              <a:srgbClr val="cc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Text Box 23"/>
          <p:cNvSpPr/>
          <p:nvPr/>
        </p:nvSpPr>
        <p:spPr>
          <a:xfrm>
            <a:off x="2454120" y="3976560"/>
            <a:ext cx="176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ffff"/>
                </a:solidFill>
                <a:latin typeface="Tahoma"/>
              </a:rPr>
              <a:t>Высота в пределах от 2 до 6 к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26000">
    <p:randomBar dir="vert"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3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8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3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9"/>
          <p:cNvSpPr/>
          <p:nvPr/>
        </p:nvSpPr>
        <p:spPr>
          <a:xfrm>
            <a:off x="4608360" y="297000"/>
            <a:ext cx="4319640" cy="3095640"/>
          </a:xfrm>
          <a:prstGeom prst="flowChartAlternateProcess">
            <a:avLst/>
          </a:prstGeom>
          <a:gradFill rotWithShape="0">
            <a:gsLst>
              <a:gs pos="0">
                <a:srgbClr val="ededed"/>
              </a:gs>
              <a:gs pos="100000">
                <a:srgbClr val="fafafa"/>
              </a:gs>
            </a:gsLst>
            <a:lin ang="16200000"/>
          </a:gradFill>
          <a:ln w="9360">
            <a:solidFill>
              <a:srgbClr val="d5d5d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Rectangle 8"/>
          <p:cNvSpPr/>
          <p:nvPr/>
        </p:nvSpPr>
        <p:spPr>
          <a:xfrm>
            <a:off x="431640" y="297000"/>
            <a:ext cx="3997440" cy="3095640"/>
          </a:xfrm>
          <a:prstGeom prst="flowChartAlternateProcess">
            <a:avLst/>
          </a:prstGeom>
          <a:gradFill rotWithShape="0">
            <a:gsLst>
              <a:gs pos="0">
                <a:srgbClr val="ededed"/>
              </a:gs>
              <a:gs pos="100000">
                <a:srgbClr val="fafafa"/>
              </a:gs>
            </a:gsLst>
            <a:lin ang="16200000"/>
          </a:gradFill>
          <a:ln w="9360">
            <a:solidFill>
              <a:srgbClr val="d5d5d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811080" y="4670280"/>
            <a:ext cx="759456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ти облака придает всему небу хмурый, пасмурный вид.  Загустев, они могут принести дожд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2" name="Picture 5" descr="20090523-0-1"/>
          <p:cNvPicPr/>
          <p:nvPr/>
        </p:nvPicPr>
        <p:blipFill>
          <a:blip r:embed="rId1"/>
          <a:stretch/>
        </p:blipFill>
        <p:spPr>
          <a:xfrm>
            <a:off x="549360" y="390600"/>
            <a:ext cx="3827520" cy="58388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20090402-1-3"/>
          <p:cNvPicPr/>
          <p:nvPr/>
        </p:nvPicPr>
        <p:blipFill>
          <a:blip r:embed="rId2"/>
          <a:stretch/>
        </p:blipFill>
        <p:spPr>
          <a:xfrm>
            <a:off x="4694400" y="396720"/>
            <a:ext cx="4157640" cy="5802480"/>
          </a:xfrm>
          <a:prstGeom prst="rect">
            <a:avLst/>
          </a:prstGeom>
          <a:ln w="0">
            <a:noFill/>
          </a:ln>
        </p:spPr>
      </p:pic>
      <p:pic>
        <p:nvPicPr>
          <p:cNvPr id="254" name="TextBox 6" descr=""/>
          <p:cNvPicPr/>
          <p:nvPr/>
        </p:nvPicPr>
        <p:blipFill>
          <a:blip r:embed="rId3"/>
          <a:stretch/>
        </p:blipFill>
        <p:spPr>
          <a:xfrm>
            <a:off x="2475000" y="3840120"/>
            <a:ext cx="3651120" cy="592200"/>
          </a:xfrm>
          <a:prstGeom prst="rect">
            <a:avLst/>
          </a:prstGeom>
          <a:ln w="0">
            <a:noFill/>
          </a:ln>
        </p:spPr>
      </p:pic>
      <p:grpSp>
        <p:nvGrpSpPr>
          <p:cNvPr id="255" name="Freeform 10"/>
          <p:cNvGrpSpPr/>
          <p:nvPr/>
        </p:nvGrpSpPr>
        <p:grpSpPr>
          <a:xfrm>
            <a:off x="225360" y="549360"/>
            <a:ext cx="4743360" cy="1108080"/>
            <a:chOff x="225360" y="549360"/>
            <a:chExt cx="4743360" cy="1108080"/>
          </a:xfrm>
        </p:grpSpPr>
        <p:pic>
          <p:nvPicPr>
            <p:cNvPr id="256" name="Freeform 10" descr=""/>
            <p:cNvPicPr/>
            <p:nvPr/>
          </p:nvPicPr>
          <p:blipFill>
            <a:blip r:embed="rId4"/>
            <a:stretch/>
          </p:blipFill>
          <p:spPr>
            <a:xfrm>
              <a:off x="225360" y="549360"/>
              <a:ext cx="474336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519120" y="800280"/>
              <a:ext cx="416232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58" name="Freeform 11"/>
          <p:cNvGrpSpPr/>
          <p:nvPr/>
        </p:nvGrpSpPr>
        <p:grpSpPr>
          <a:xfrm>
            <a:off x="1316160" y="506520"/>
            <a:ext cx="2225520" cy="785880"/>
            <a:chOff x="1316160" y="506520"/>
            <a:chExt cx="2225520" cy="785880"/>
          </a:xfrm>
        </p:grpSpPr>
        <p:pic>
          <p:nvPicPr>
            <p:cNvPr id="259" name="Freeform 11" descr=""/>
            <p:cNvPicPr/>
            <p:nvPr/>
          </p:nvPicPr>
          <p:blipFill>
            <a:blip r:embed="rId5"/>
            <a:stretch/>
          </p:blipFill>
          <p:spPr>
            <a:xfrm>
              <a:off x="1316160" y="506520"/>
              <a:ext cx="222552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1585800" y="723960"/>
              <a:ext cx="167796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61" name="Line 19"/>
          <p:cNvSpPr/>
          <p:nvPr/>
        </p:nvSpPr>
        <p:spPr>
          <a:xfrm flipH="1">
            <a:off x="1869840" y="946080"/>
            <a:ext cx="36360" cy="234324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Text Box 25"/>
          <p:cNvSpPr/>
          <p:nvPr/>
        </p:nvSpPr>
        <p:spPr>
          <a:xfrm>
            <a:off x="2162160" y="1457280"/>
            <a:ext cx="26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ысота до 2 к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20000">
    <p:randomBar dir="vert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2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5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0" dur="2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5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8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3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3" descr="D:\Васятка\Проектная деятельность НШ\Проект ОБЛАКА\Фотографии\Облака интернет\Облака и человек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4" name="Прямоугольник 2" descr=""/>
          <p:cNvPicPr/>
          <p:nvPr/>
        </p:nvPicPr>
        <p:blipFill>
          <a:blip r:embed="rId2"/>
          <a:stretch/>
        </p:blipFill>
        <p:spPr>
          <a:xfrm>
            <a:off x="0" y="487440"/>
            <a:ext cx="9144000" cy="5554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9" descr="D:\Васятка\Проектная деятельность НШ\Проект ОБЛАКА\Фотографии\Облака М и Подмосковья\IMG_226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1979280" y="2844720"/>
            <a:ext cx="7164360" cy="24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Если Вы видите на небе кучевые облака, то вас ожидает хорошая погод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1924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о если они начинают вытягиваться вверх наподобие башен, то жди гроз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1924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1924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1924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1924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7" name="Рисунок 4" descr="j0432589.png"/>
          <p:cNvPicPr/>
          <p:nvPr/>
        </p:nvPicPr>
        <p:blipFill>
          <a:blip r:embed="rId2"/>
          <a:stretch/>
        </p:blipFill>
        <p:spPr>
          <a:xfrm>
            <a:off x="372960" y="434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68" name="Рисунок 5" descr="umbrela35.gif"/>
          <p:cNvPicPr/>
          <p:nvPr/>
        </p:nvPicPr>
        <p:blipFill>
          <a:blip r:embed="rId3"/>
          <a:stretch/>
        </p:blipFill>
        <p:spPr>
          <a:xfrm>
            <a:off x="7018200" y="5254560"/>
            <a:ext cx="1906560" cy="6904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randomBar dir="vert"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2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4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3" descr="D:\Васятка\Проектная деятельность НШ\Проект ОБЛАКА\Фотографии\Облака М и Подмосковья\IMG_229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0" name="Прямоугольник 1"/>
          <p:cNvSpPr/>
          <p:nvPr/>
        </p:nvSpPr>
        <p:spPr>
          <a:xfrm>
            <a:off x="1322280" y="1092240"/>
            <a:ext cx="719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сли облака напоминают тонкую вуаль – то погода будет стабильной и ясно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1" name="Рисунок 3" descr="j0432589.png"/>
          <p:cNvPicPr/>
          <p:nvPr/>
        </p:nvPicPr>
        <p:blipFill>
          <a:blip r:embed="rId2"/>
          <a:stretch/>
        </p:blipFill>
        <p:spPr>
          <a:xfrm>
            <a:off x="227160" y="38671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randomBar dir="vert"/>
  </p:transition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2.22222E-006 L 0.21198 -0.21203 C 0.25659 -0.25995 0.32309 -0.28657 0.39236 -0.28657 C 0.47135 -0.28657 0.53455 -0.25995 0.57916 -0.21203 L 0.79132 -2.22222E-006 E">
                                      <p:cBhvr>
                                        <p:cTn id="626" dur="3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3" descr="D:\Васятка\Проектная деятельность НШ\Проект ОБЛАКА\Фотографии\Облака М и Подмосковья\IMG_224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5"/>
          <p:cNvSpPr/>
          <p:nvPr/>
        </p:nvSpPr>
        <p:spPr>
          <a:xfrm>
            <a:off x="701640" y="690480"/>
            <a:ext cx="806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вномерные серые слоистые облака, скрывающие солнце, часто дают осадки в виде мороси. Выходя из дома, не забудьте зонтик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4" name="Рисунок 3" descr="RAINY_~134.GIF"/>
          <p:cNvPicPr/>
          <p:nvPr/>
        </p:nvPicPr>
        <p:blipFill>
          <a:blip r:embed="rId2"/>
          <a:stretch/>
        </p:blipFill>
        <p:spPr>
          <a:xfrm>
            <a:off x="4280040" y="2844720"/>
            <a:ext cx="1272960" cy="7430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randomBar dir="vert"/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3" dur="2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D:\Васятка\Проектная деятельность НШ\Проект ОБЛАКА\Фотографии\Облака М и Подмосковья\IMG_23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6" name="Прямоугольник 1"/>
          <p:cNvSpPr/>
          <p:nvPr/>
        </p:nvSpPr>
        <p:spPr>
          <a:xfrm>
            <a:off x="4280040" y="25236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сли Солнце садится в облака – то нужно ожидать ухудшения погод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7" name="Рисунок 3" descr="blizzard4.gif"/>
          <p:cNvPicPr/>
          <p:nvPr/>
        </p:nvPicPr>
        <p:blipFill>
          <a:blip r:embed="rId2"/>
          <a:stretch/>
        </p:blipFill>
        <p:spPr>
          <a:xfrm>
            <a:off x="6507000" y="4889520"/>
            <a:ext cx="1436760" cy="6620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randomBar dir="vert"/>
  </p:transition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0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59" descr="http://i033.radikal.ru/0802/23/ec400264b760.jpg"/>
          <p:cNvPicPr/>
          <p:nvPr/>
        </p:nvPicPr>
        <p:blipFill>
          <a:blip r:embed="rId1"/>
          <a:stretch/>
        </p:blipFill>
        <p:spPr>
          <a:xfrm>
            <a:off x="0" y="0"/>
            <a:ext cx="9464760" cy="6858000"/>
          </a:xfrm>
          <a:prstGeom prst="rect">
            <a:avLst/>
          </a:prstGeom>
          <a:ln w="0">
            <a:noFill/>
          </a:ln>
        </p:spPr>
      </p:pic>
      <p:pic>
        <p:nvPicPr>
          <p:cNvPr id="279" name="TextBox 2" descr=""/>
          <p:cNvPicPr/>
          <p:nvPr/>
        </p:nvPicPr>
        <p:blipFill>
          <a:blip r:embed="rId2"/>
          <a:stretch/>
        </p:blipFill>
        <p:spPr>
          <a:xfrm>
            <a:off x="1352520" y="407880"/>
            <a:ext cx="7096320" cy="1024200"/>
          </a:xfrm>
          <a:prstGeom prst="rect">
            <a:avLst/>
          </a:prstGeom>
          <a:ln w="0">
            <a:noFill/>
          </a:ln>
        </p:spPr>
      </p:pic>
      <p:sp>
        <p:nvSpPr>
          <p:cNvPr id="280" name="TextBox 3"/>
          <p:cNvSpPr/>
          <p:nvPr/>
        </p:nvSpPr>
        <p:spPr>
          <a:xfrm>
            <a:off x="1066680" y="3940200"/>
            <a:ext cx="3213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Наблюдение проводилис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в марте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в июле-август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2011 го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randomBar dir="vert"/>
  </p:transition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1" name="Object 1"/>
          <p:cNvGraphicFramePr/>
          <p:nvPr/>
        </p:nvGraphicFramePr>
        <p:xfrm>
          <a:off x="0" y="325440"/>
          <a:ext cx="9144000" cy="54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25440"/>
                    <a:ext cx="9144000" cy="54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4881600" y="26146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TextBox 19"/>
          <p:cNvSpPr/>
          <p:nvPr/>
        </p:nvSpPr>
        <p:spPr>
          <a:xfrm>
            <a:off x="5776920" y="434880"/>
            <a:ext cx="317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Диаграмма соотношения облачных дней и пожарных дн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TextBox 5"/>
          <p:cNvSpPr/>
          <p:nvPr/>
        </p:nvSpPr>
        <p:spPr>
          <a:xfrm>
            <a:off x="190440" y="5911920"/>
            <a:ext cx="8771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личество облачных дней весной больше, чем лет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етняя очень жаркая погода спровоцировала пожарную ситуацию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25000">
    <p:randomBar dir="vert"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7" dur="8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8" dur="8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9" dur="8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9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0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1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5" descr="Нажмите, чтобы посмотреть в полный размер"/>
          <p:cNvPicPr/>
          <p:nvPr/>
        </p:nvPicPr>
        <p:blipFill>
          <a:blip r:embed="rId1"/>
          <a:stretch/>
        </p:blipFill>
        <p:spPr>
          <a:xfrm>
            <a:off x="227160" y="1165320"/>
            <a:ext cx="5184720" cy="4527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7" name="Picture 13" descr="Нажмите, чтобы посмотреть в полный размер"/>
          <p:cNvPicPr/>
          <p:nvPr/>
        </p:nvPicPr>
        <p:blipFill>
          <a:blip r:embed="rId2"/>
          <a:stretch/>
        </p:blipFill>
        <p:spPr>
          <a:xfrm>
            <a:off x="227160" y="1128600"/>
            <a:ext cx="5221080" cy="4564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8" name="Picture 8" descr="Картинка 15 из 15348"/>
          <p:cNvPicPr/>
          <p:nvPr/>
        </p:nvPicPr>
        <p:blipFill>
          <a:blip r:embed="rId3"/>
          <a:stretch/>
        </p:blipFill>
        <p:spPr>
          <a:xfrm>
            <a:off x="227160" y="1128600"/>
            <a:ext cx="5310000" cy="4637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9" name="Прямоугольник 5"/>
          <p:cNvSpPr/>
          <p:nvPr/>
        </p:nvSpPr>
        <p:spPr>
          <a:xfrm>
            <a:off x="5784840" y="727200"/>
            <a:ext cx="335124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есконечной вереницей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лака плывут вдали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поднебесье, словно птицы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стремляются они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ихий ход свой не торопят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вышине, как шхуны ходят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ишь движение ветерка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дгоняет их слегка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чистом небе проплывая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крывают солнца след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етер прочь их отгоняет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тобы дать природе свет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 они плывут все дальше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лог их спокойный век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, любуясь облаками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тихи пишет человек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Рисунок 10" descr="ocean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 advTm="30000">
    <p:randomBar dir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Скругленный прямоугольник 28"/>
          <p:cNvGrpSpPr/>
          <p:nvPr/>
        </p:nvGrpSpPr>
        <p:grpSpPr>
          <a:xfrm>
            <a:off x="4035600" y="725400"/>
            <a:ext cx="3620880" cy="4211640"/>
            <a:chOff x="4035600" y="725400"/>
            <a:chExt cx="3620880" cy="4211640"/>
          </a:xfrm>
        </p:grpSpPr>
        <p:pic>
          <p:nvPicPr>
            <p:cNvPr id="288" name="Скругленный прямоугольник 28" descr=""/>
            <p:cNvPicPr/>
            <p:nvPr/>
          </p:nvPicPr>
          <p:blipFill>
            <a:blip r:embed="rId1"/>
            <a:stretch/>
          </p:blipFill>
          <p:spPr>
            <a:xfrm>
              <a:off x="4035600" y="725400"/>
              <a:ext cx="3620880" cy="421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4268880" y="934920"/>
              <a:ext cx="3162240" cy="374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90" name="Скругленный прямоугольник 27"/>
          <p:cNvGrpSpPr/>
          <p:nvPr/>
        </p:nvGrpSpPr>
        <p:grpSpPr>
          <a:xfrm>
            <a:off x="165240" y="725400"/>
            <a:ext cx="3949560" cy="4175280"/>
            <a:chOff x="165240" y="725400"/>
            <a:chExt cx="3949560" cy="4175280"/>
          </a:xfrm>
        </p:grpSpPr>
        <p:pic>
          <p:nvPicPr>
            <p:cNvPr id="291" name="Скругленный прямоугольник 27" descr=""/>
            <p:cNvPicPr/>
            <p:nvPr/>
          </p:nvPicPr>
          <p:blipFill>
            <a:blip r:embed="rId2"/>
            <a:stretch/>
          </p:blipFill>
          <p:spPr>
            <a:xfrm>
              <a:off x="165240" y="725400"/>
              <a:ext cx="3949560" cy="417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414360" y="950760"/>
              <a:ext cx="3459240" cy="367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4" name="Диаграмма 16" descr=""/>
          <p:cNvPicPr/>
          <p:nvPr/>
        </p:nvPicPr>
        <p:blipFill>
          <a:blip r:embed="rId3"/>
          <a:stretch/>
        </p:blipFill>
        <p:spPr>
          <a:xfrm>
            <a:off x="304920" y="1128600"/>
            <a:ext cx="8839080" cy="3870360"/>
          </a:xfrm>
          <a:prstGeom prst="rect">
            <a:avLst/>
          </a:prstGeom>
          <a:ln w="0">
            <a:noFill/>
          </a:ln>
        </p:spPr>
      </p:pic>
      <p:sp>
        <p:nvSpPr>
          <p:cNvPr id="295" name="TextBox 6"/>
          <p:cNvSpPr/>
          <p:nvPr/>
        </p:nvSpPr>
        <p:spPr>
          <a:xfrm>
            <a:off x="1285920" y="836640"/>
            <a:ext cx="182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Март 2011 г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TextBox 7"/>
          <p:cNvSpPr/>
          <p:nvPr/>
        </p:nvSpPr>
        <p:spPr>
          <a:xfrm>
            <a:off x="4535640" y="836640"/>
            <a:ext cx="28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Июль-август 2011 г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Прямая соединительная линия 12"/>
          <p:cNvSpPr/>
          <p:nvPr/>
        </p:nvSpPr>
        <p:spPr>
          <a:xfrm>
            <a:off x="1212840" y="1859040"/>
            <a:ext cx="547560" cy="328680"/>
          </a:xfrm>
          <a:prstGeom prst="line">
            <a:avLst/>
          </a:prstGeom>
          <a:ln w="57240">
            <a:solidFill>
              <a:srgbClr val="aaaac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Прямая соединительная линия 15"/>
          <p:cNvSpPr/>
          <p:nvPr/>
        </p:nvSpPr>
        <p:spPr>
          <a:xfrm flipV="1">
            <a:off x="1432080" y="2369880"/>
            <a:ext cx="365040" cy="401400"/>
          </a:xfrm>
          <a:prstGeom prst="line">
            <a:avLst/>
          </a:prstGeom>
          <a:ln w="5724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Прямая соединительная линия 18"/>
          <p:cNvSpPr/>
          <p:nvPr/>
        </p:nvSpPr>
        <p:spPr>
          <a:xfrm>
            <a:off x="1650960" y="2698920"/>
            <a:ext cx="474840" cy="328320"/>
          </a:xfrm>
          <a:prstGeom prst="line">
            <a:avLst/>
          </a:prstGeom>
          <a:ln w="57240">
            <a:solidFill>
              <a:srgbClr val="dadad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Прямая соединительная линия 23"/>
          <p:cNvSpPr/>
          <p:nvPr/>
        </p:nvSpPr>
        <p:spPr>
          <a:xfrm>
            <a:off x="5010120" y="2735280"/>
            <a:ext cx="766800" cy="328680"/>
          </a:xfrm>
          <a:prstGeom prst="line">
            <a:avLst/>
          </a:prstGeom>
          <a:ln w="57240">
            <a:solidFill>
              <a:srgbClr val="dadad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1" name="Прямая соединительная линия 24" descr=""/>
          <p:cNvPicPr/>
          <p:nvPr/>
        </p:nvPicPr>
        <p:blipFill>
          <a:blip r:embed="rId4"/>
          <a:stretch/>
        </p:blipFill>
        <p:spPr>
          <a:xfrm>
            <a:off x="4979880" y="3292560"/>
            <a:ext cx="1354320" cy="1004760"/>
          </a:xfrm>
          <a:prstGeom prst="rect">
            <a:avLst/>
          </a:prstGeom>
          <a:ln w="0">
            <a:noFill/>
          </a:ln>
        </p:spPr>
      </p:pic>
      <p:sp>
        <p:nvSpPr>
          <p:cNvPr id="302" name="TextBox 22"/>
          <p:cNvSpPr/>
          <p:nvPr/>
        </p:nvSpPr>
        <p:spPr>
          <a:xfrm>
            <a:off x="409680" y="252360"/>
            <a:ext cx="87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иаграмма соотношения видов облаков по сезонам и времени суто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03" name="TextBox 25"/>
          <p:cNvGrpSpPr/>
          <p:nvPr/>
        </p:nvGrpSpPr>
        <p:grpSpPr>
          <a:xfrm>
            <a:off x="933480" y="4248000"/>
            <a:ext cx="1577880" cy="652680"/>
            <a:chOff x="933480" y="4248000"/>
            <a:chExt cx="1577880" cy="652680"/>
          </a:xfrm>
        </p:grpSpPr>
        <p:pic>
          <p:nvPicPr>
            <p:cNvPr id="304" name="TextBox 25" descr=""/>
            <p:cNvPicPr/>
            <p:nvPr/>
          </p:nvPicPr>
          <p:blipFill>
            <a:blip r:embed="rId5"/>
            <a:stretch/>
          </p:blipFill>
          <p:spPr>
            <a:xfrm>
              <a:off x="933480" y="4248000"/>
              <a:ext cx="1577880" cy="6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1019160" y="4330800"/>
              <a:ext cx="140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10199"/>
                  </a:solidFill>
                  <a:latin typeface="Tahoma"/>
                </a:rPr>
                <a:t>УТРО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06" name="TextBox 26"/>
          <p:cNvGrpSpPr/>
          <p:nvPr/>
        </p:nvGrpSpPr>
        <p:grpSpPr>
          <a:xfrm>
            <a:off x="2395440" y="4248000"/>
            <a:ext cx="1683000" cy="652680"/>
            <a:chOff x="2395440" y="4248000"/>
            <a:chExt cx="1683000" cy="652680"/>
          </a:xfrm>
        </p:grpSpPr>
        <p:pic>
          <p:nvPicPr>
            <p:cNvPr id="307" name="TextBox 26" descr=""/>
            <p:cNvPicPr/>
            <p:nvPr/>
          </p:nvPicPr>
          <p:blipFill>
            <a:blip r:embed="rId6"/>
            <a:stretch/>
          </p:blipFill>
          <p:spPr>
            <a:xfrm>
              <a:off x="2395440" y="4248000"/>
              <a:ext cx="1683000" cy="6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2479680" y="4330800"/>
              <a:ext cx="151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10199"/>
                  </a:solidFill>
                  <a:latin typeface="Tahoma"/>
                </a:rPr>
                <a:t>ДЕНЬ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09" name="TextBox 29"/>
          <p:cNvGrpSpPr/>
          <p:nvPr/>
        </p:nvGrpSpPr>
        <p:grpSpPr>
          <a:xfrm>
            <a:off x="4359240" y="4286160"/>
            <a:ext cx="1590840" cy="657360"/>
            <a:chOff x="4359240" y="4286160"/>
            <a:chExt cx="1590840" cy="657360"/>
          </a:xfrm>
        </p:grpSpPr>
        <p:pic>
          <p:nvPicPr>
            <p:cNvPr id="310" name="TextBox 29" descr=""/>
            <p:cNvPicPr/>
            <p:nvPr/>
          </p:nvPicPr>
          <p:blipFill>
            <a:blip r:embed="rId7"/>
            <a:stretch/>
          </p:blipFill>
          <p:spPr>
            <a:xfrm>
              <a:off x="4359240" y="4286160"/>
              <a:ext cx="1590840" cy="6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4451400" y="4367160"/>
              <a:ext cx="140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10199"/>
                  </a:solidFill>
                  <a:latin typeface="Tahoma"/>
                </a:rPr>
                <a:t>УТРО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12" name="TextBox 30"/>
          <p:cNvGrpSpPr/>
          <p:nvPr/>
        </p:nvGrpSpPr>
        <p:grpSpPr>
          <a:xfrm>
            <a:off x="5821200" y="4286160"/>
            <a:ext cx="1586160" cy="657360"/>
            <a:chOff x="5821200" y="4286160"/>
            <a:chExt cx="1586160" cy="657360"/>
          </a:xfrm>
        </p:grpSpPr>
        <p:pic>
          <p:nvPicPr>
            <p:cNvPr id="313" name="TextBox 30" descr=""/>
            <p:cNvPicPr/>
            <p:nvPr/>
          </p:nvPicPr>
          <p:blipFill>
            <a:blip r:embed="rId8"/>
            <a:stretch/>
          </p:blipFill>
          <p:spPr>
            <a:xfrm>
              <a:off x="5821200" y="4286160"/>
              <a:ext cx="1586160" cy="6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5911920" y="4367160"/>
              <a:ext cx="140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10199"/>
                  </a:solidFill>
                  <a:latin typeface="Tahoma"/>
                </a:rPr>
                <a:t>ДЕНЬ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15" name="Прямоугольник 34"/>
          <p:cNvGrpSpPr/>
          <p:nvPr/>
        </p:nvGrpSpPr>
        <p:grpSpPr>
          <a:xfrm>
            <a:off x="4363920" y="3975120"/>
            <a:ext cx="373320" cy="158760"/>
            <a:chOff x="4363920" y="3975120"/>
            <a:chExt cx="373320" cy="158760"/>
          </a:xfrm>
        </p:grpSpPr>
        <p:pic>
          <p:nvPicPr>
            <p:cNvPr id="316" name="Прямоугольник 34" descr=""/>
            <p:cNvPicPr/>
            <p:nvPr/>
          </p:nvPicPr>
          <p:blipFill>
            <a:blip r:embed="rId9"/>
            <a:stretch/>
          </p:blipFill>
          <p:spPr>
            <a:xfrm>
              <a:off x="4363920" y="3975120"/>
              <a:ext cx="373320" cy="1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4425840" y="4013280"/>
              <a:ext cx="25560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18" name="Прямоугольник 35"/>
          <p:cNvGrpSpPr/>
          <p:nvPr/>
        </p:nvGrpSpPr>
        <p:grpSpPr>
          <a:xfrm>
            <a:off x="6010200" y="3975120"/>
            <a:ext cx="403200" cy="158760"/>
            <a:chOff x="6010200" y="3975120"/>
            <a:chExt cx="403200" cy="158760"/>
          </a:xfrm>
        </p:grpSpPr>
        <p:pic>
          <p:nvPicPr>
            <p:cNvPr id="319" name="Прямоугольник 35" descr=""/>
            <p:cNvPicPr/>
            <p:nvPr/>
          </p:nvPicPr>
          <p:blipFill>
            <a:blip r:embed="rId10"/>
            <a:stretch/>
          </p:blipFill>
          <p:spPr>
            <a:xfrm>
              <a:off x="6010200" y="3975120"/>
              <a:ext cx="403200" cy="1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6068880" y="4013280"/>
              <a:ext cx="2923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21" name="Прямая соединительная линия 21"/>
          <p:cNvSpPr/>
          <p:nvPr/>
        </p:nvSpPr>
        <p:spPr>
          <a:xfrm flipV="1">
            <a:off x="4791240" y="2588760"/>
            <a:ext cx="547560" cy="438120"/>
          </a:xfrm>
          <a:prstGeom prst="line">
            <a:avLst/>
          </a:prstGeom>
          <a:ln w="5724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22" name="Прямоугольник 39"/>
          <p:cNvGrpSpPr/>
          <p:nvPr/>
        </p:nvGrpSpPr>
        <p:grpSpPr>
          <a:xfrm>
            <a:off x="6845400" y="3975120"/>
            <a:ext cx="336600" cy="158760"/>
            <a:chOff x="6845400" y="3975120"/>
            <a:chExt cx="336600" cy="158760"/>
          </a:xfrm>
        </p:grpSpPr>
        <p:pic>
          <p:nvPicPr>
            <p:cNvPr id="323" name="Прямоугольник 39" descr=""/>
            <p:cNvPicPr/>
            <p:nvPr/>
          </p:nvPicPr>
          <p:blipFill>
            <a:blip r:embed="rId11"/>
            <a:stretch/>
          </p:blipFill>
          <p:spPr>
            <a:xfrm>
              <a:off x="6845400" y="3975120"/>
              <a:ext cx="336600" cy="1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6908760" y="4013280"/>
              <a:ext cx="21924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25" name="TextBox 31"/>
          <p:cNvGrpSpPr/>
          <p:nvPr/>
        </p:nvGrpSpPr>
        <p:grpSpPr>
          <a:xfrm>
            <a:off x="128520" y="5108400"/>
            <a:ext cx="4022640" cy="1697040"/>
            <a:chOff x="128520" y="5108400"/>
            <a:chExt cx="4022640" cy="1697040"/>
          </a:xfrm>
        </p:grpSpPr>
        <p:pic>
          <p:nvPicPr>
            <p:cNvPr id="326" name="TextBox 31" descr=""/>
            <p:cNvPicPr/>
            <p:nvPr/>
          </p:nvPicPr>
          <p:blipFill>
            <a:blip r:embed="rId12"/>
            <a:stretch/>
          </p:blipFill>
          <p:spPr>
            <a:xfrm>
              <a:off x="128520" y="5108400"/>
              <a:ext cx="4022640" cy="16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264960" y="5219640"/>
              <a:ext cx="375768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10199"/>
                  </a:solidFill>
                  <a:latin typeface="Tahoma"/>
                </a:rPr>
                <a:t>1. В весенний период наблюдались все виды облаков.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10199"/>
                  </a:solidFill>
                  <a:latin typeface="Tahoma"/>
                </a:rPr>
                <a:t>2. Слоистых и перистых облаков к обеду становилось меньше, а кучевых больше. 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10199"/>
                  </a:solidFill>
                  <a:latin typeface="Tahoma"/>
                </a:rPr>
                <a:t>3. Были дни, когда на небе не наблюдалось облачных систем.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28" name="TextBox 32"/>
          <p:cNvGrpSpPr/>
          <p:nvPr/>
        </p:nvGrpSpPr>
        <p:grpSpPr>
          <a:xfrm>
            <a:off x="4181400" y="4925880"/>
            <a:ext cx="4938840" cy="1895760"/>
            <a:chOff x="4181400" y="4925880"/>
            <a:chExt cx="4938840" cy="1895760"/>
          </a:xfrm>
        </p:grpSpPr>
        <p:pic>
          <p:nvPicPr>
            <p:cNvPr id="329" name="TextBox 32" descr=""/>
            <p:cNvPicPr/>
            <p:nvPr/>
          </p:nvPicPr>
          <p:blipFill>
            <a:blip r:embed="rId13"/>
            <a:stretch/>
          </p:blipFill>
          <p:spPr>
            <a:xfrm>
              <a:off x="4181400" y="4925880"/>
              <a:ext cx="4938840" cy="189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4329000" y="5048280"/>
              <a:ext cx="464832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10199"/>
                  </a:solidFill>
                  <a:latin typeface="Tahoma"/>
                </a:rPr>
                <a:t>1. В летний период наблюдались все виды облаков, кроме слоистых.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10199"/>
                  </a:solidFill>
                  <a:latin typeface="Tahoma"/>
                </a:rPr>
                <a:t>2. Перистых облаков к обеду становилось меньше, а кучевых больше.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10199"/>
                  </a:solidFill>
                  <a:latin typeface="Tahoma"/>
                </a:rPr>
                <a:t>3. Наблюдались дни, когда утром было ясно небо, а к обеду оно покрывалось облаками.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10199"/>
                  </a:solidFill>
                  <a:latin typeface="Tahoma"/>
                </a:rPr>
                <a:t>4. Наблюдались дни с большим задымлением.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spd="slow" advTm="50000">
    <p:randomBar dir="vert"/>
  </p:transition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8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9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0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-4.59759E-006 L 0.10521 0.04233 E">
                                      <p:cBhvr>
                                        <p:cTn id="754" dur="2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97687E-006 L 0.13611 0.06683 E">
                                      <p:cBhvr>
                                        <p:cTn id="756" dur="2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1.83164E-006 L 0.12274 -0.12141 E">
                                      <p:cBhvr>
                                        <p:cTn id="760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5E-006 7.60407E-006 L 0.09843 0.04719 E">
                                      <p:cBhvr>
                                        <p:cTn id="787" dur="2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9334E-006 L 0.09983 -0.0932 E">
                                      <p:cBhvr>
                                        <p:cTn id="796" dur="2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3.52451E-006 L 0.11823 0.03145 E">
                                      <p:cBhvr>
                                        <p:cTn id="808" dur="20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Диаграмма 5" descr=""/>
          <p:cNvPicPr/>
          <p:nvPr/>
        </p:nvPicPr>
        <p:blipFill>
          <a:blip r:embed="rId1"/>
          <a:stretch/>
        </p:blipFill>
        <p:spPr>
          <a:xfrm>
            <a:off x="299880" y="763560"/>
            <a:ext cx="5221440" cy="2762280"/>
          </a:xfrm>
          <a:prstGeom prst="rect">
            <a:avLst/>
          </a:prstGeom>
          <a:ln w="0">
            <a:noFill/>
          </a:ln>
        </p:spPr>
      </p:pic>
      <p:pic>
        <p:nvPicPr>
          <p:cNvPr id="332" name="Диаграмма 6" descr=""/>
          <p:cNvPicPr/>
          <p:nvPr/>
        </p:nvPicPr>
        <p:blipFill>
          <a:blip r:embed="rId2"/>
          <a:stretch/>
        </p:blipFill>
        <p:spPr>
          <a:xfrm>
            <a:off x="3549600" y="3720960"/>
            <a:ext cx="5221440" cy="2762280"/>
          </a:xfrm>
          <a:prstGeom prst="rect">
            <a:avLst/>
          </a:prstGeom>
          <a:ln w="0">
            <a:noFill/>
          </a:ln>
        </p:spPr>
      </p:pic>
      <p:sp>
        <p:nvSpPr>
          <p:cNvPr id="333" name="TextBox 7"/>
          <p:cNvSpPr/>
          <p:nvPr/>
        </p:nvSpPr>
        <p:spPr>
          <a:xfrm>
            <a:off x="2417760" y="1712880"/>
            <a:ext cx="12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11 дн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TextBox 9"/>
          <p:cNvSpPr/>
          <p:nvPr/>
        </p:nvSpPr>
        <p:spPr>
          <a:xfrm>
            <a:off x="993600" y="22240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20 дн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TextBox 10"/>
          <p:cNvSpPr/>
          <p:nvPr/>
        </p:nvSpPr>
        <p:spPr>
          <a:xfrm>
            <a:off x="3257640" y="3867120"/>
            <a:ext cx="1168200" cy="397080"/>
          </a:xfrm>
          <a:prstGeom prst="wedgeRoundRectCallout">
            <a:avLst>
              <a:gd name="adj1" fmla="val 127171"/>
              <a:gd name="adj2" fmla="val 170467"/>
              <a:gd name="adj3" fmla="val 16667"/>
            </a:avLst>
          </a:prstGeom>
          <a:noFill/>
          <a:ln w="255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1 ден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TextBox 11"/>
          <p:cNvSpPr/>
          <p:nvPr/>
        </p:nvSpPr>
        <p:spPr>
          <a:xfrm>
            <a:off x="4754520" y="5473800"/>
            <a:ext cx="10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23 дн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7" name="Рисунок 12" descr="RAINY_~134.GIF"/>
          <p:cNvPicPr/>
          <p:nvPr/>
        </p:nvPicPr>
        <p:blipFill>
          <a:blip r:embed="rId3"/>
          <a:stretch/>
        </p:blipFill>
        <p:spPr>
          <a:xfrm>
            <a:off x="5923080" y="2370240"/>
            <a:ext cx="1272960" cy="742680"/>
          </a:xfrm>
          <a:prstGeom prst="rect">
            <a:avLst/>
          </a:prstGeom>
          <a:ln w="0">
            <a:noFill/>
          </a:ln>
        </p:spPr>
      </p:pic>
      <p:sp>
        <p:nvSpPr>
          <p:cNvPr id="338" name="TextBox 15"/>
          <p:cNvSpPr/>
          <p:nvPr/>
        </p:nvSpPr>
        <p:spPr>
          <a:xfrm>
            <a:off x="673200" y="252360"/>
            <a:ext cx="847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иаграмма соотношения дней с осадками и дней без осадк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TextBox 13"/>
          <p:cNvSpPr/>
          <p:nvPr/>
        </p:nvSpPr>
        <p:spPr>
          <a:xfrm>
            <a:off x="701640" y="4853160"/>
            <a:ext cx="2081160" cy="1015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a3ed"/>
              </a:gs>
              <a:gs pos="100000">
                <a:srgbClr val="e6e6fa"/>
              </a:gs>
            </a:gsLst>
            <a:lin ang="16200000"/>
          </a:gradFill>
          <a:ln w="9360">
            <a:solidFill>
              <a:srgbClr val="0000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Весной осадков было больше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чем лето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22000">
    <p:randomBar dir="vert"/>
  </p:transition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5" dur="8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6" dur="8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7" dur="8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1.48148E-006 L 0.37327 0.00046 E">
                                      <p:cBhvr>
                                        <p:cTn id="842" dur="20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Заголовок 1" descr=""/>
          <p:cNvPicPr/>
          <p:nvPr/>
        </p:nvPicPr>
        <p:blipFill>
          <a:blip r:embed="rId1"/>
          <a:stretch/>
        </p:blipFill>
        <p:spPr>
          <a:xfrm>
            <a:off x="476280" y="0"/>
            <a:ext cx="8240760" cy="7682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372600" y="726840"/>
            <a:ext cx="8471160" cy="58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5072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Calibri"/>
              </a:rPr>
              <a:t>В ходе работы над проектом я узнала, что: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45072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Calibri"/>
              </a:rPr>
              <a:t>образуются облака в результате различных причин, но главной причиной является деятельность Солнца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45072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Calibri"/>
              </a:rPr>
              <a:t>облака очень разные по форме, внутреннему состоянию и поэтому их объединяют в группы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45072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Calibri"/>
              </a:rPr>
              <a:t>В ходе исследования мира облаков я научился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45072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Calibri"/>
              </a:rPr>
              <a:t>определять облака по атласу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45072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Calibri"/>
              </a:rPr>
              <a:t>вести записи в полевом дневнике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45072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Calibri"/>
              </a:rPr>
              <a:t>оформлять презентации 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45072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Calibri"/>
              </a:rPr>
              <a:t>делать логические выводы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45072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Calibri"/>
              </a:rPr>
              <a:t>оформлять материалы исследования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45072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Calibri"/>
              </a:rPr>
              <a:t>Изучая мир облаков я стала более внимательной и наблюдательной, чаще стала замечать всё красивое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45072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45072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45072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45072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45072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4507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45000">
    <p:randomBar dir="vert"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2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20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8" dur="20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20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20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20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2000"/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20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2000"/>
                                        <p:tgtEl>
                                          <p:spTgt spid="3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2000"/>
                                        <p:tgtEl>
                                          <p:spTgt spid="3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Рисунок 6" descr="Falling Up"/>
          <p:cNvPicPr/>
          <p:nvPr/>
        </p:nvPicPr>
        <p:blipFill>
          <a:blip r:embed="rId1"/>
          <a:stretch/>
        </p:blipFill>
        <p:spPr>
          <a:xfrm>
            <a:off x="0" y="0"/>
            <a:ext cx="66168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43" name=""/>
          <p:cNvSpPr txBox="1"/>
          <p:nvPr/>
        </p:nvSpPr>
        <p:spPr>
          <a:xfrm>
            <a:off x="6750360" y="823680"/>
            <a:ext cx="2471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Я прыгаю в морской прибой –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на мгновенье замираю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се, что до этого со мной –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до, и после – забываю…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объятьях волн, как в полусне,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ловно в сапфировой короне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море изменяет цвет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азурно-синий –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 зеленый…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8000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Рисунок 50" descr="sun rise"/>
          <p:cNvPicPr/>
          <p:nvPr/>
        </p:nvPicPr>
        <p:blipFill>
          <a:blip r:embed="rId1"/>
          <a:stretch/>
        </p:blipFill>
        <p:spPr>
          <a:xfrm>
            <a:off x="-61920" y="0"/>
            <a:ext cx="9205920" cy="6858000"/>
          </a:xfrm>
          <a:prstGeom prst="rect">
            <a:avLst/>
          </a:prstGeom>
          <a:ln w="0">
            <a:noFill/>
          </a:ln>
        </p:spPr>
      </p:pic>
      <p:pic>
        <p:nvPicPr>
          <p:cNvPr id="345" name="TextBox 2" descr=""/>
          <p:cNvPicPr/>
          <p:nvPr/>
        </p:nvPicPr>
        <p:blipFill>
          <a:blip r:embed="rId2"/>
          <a:stretch/>
        </p:blipFill>
        <p:spPr>
          <a:xfrm>
            <a:off x="0" y="5924520"/>
            <a:ext cx="5761080" cy="750960"/>
          </a:xfrm>
          <a:prstGeom prst="rect">
            <a:avLst/>
          </a:prstGeom>
          <a:ln w="0">
            <a:noFill/>
          </a:ln>
        </p:spPr>
      </p:pic>
      <p:sp>
        <p:nvSpPr>
          <p:cNvPr id="346" name="Прямоугольник 3"/>
          <p:cNvSpPr/>
          <p:nvPr/>
        </p:nvSpPr>
        <p:spPr>
          <a:xfrm>
            <a:off x="5346720" y="0"/>
            <a:ext cx="3797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в небе вижу: облака –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лубятся и летят по небу,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 солнце тут же свысока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лмазные швыряет стрел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ксана Козорог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1000">
    <p:randomBar dir="vert"/>
  </p:transition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924" dur="3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9" descr="Нажмите, чтобы посмотреть в полный разме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2" name="TextBox 31" descr=""/>
          <p:cNvPicPr/>
          <p:nvPr/>
        </p:nvPicPr>
        <p:blipFill>
          <a:blip r:embed="rId2"/>
          <a:stretch/>
        </p:blipFill>
        <p:spPr>
          <a:xfrm>
            <a:off x="66600" y="5072040"/>
            <a:ext cx="9077400" cy="1170000"/>
          </a:xfrm>
          <a:prstGeom prst="rect">
            <a:avLst/>
          </a:prstGeom>
          <a:ln w="0">
            <a:noFill/>
          </a:ln>
        </p:spPr>
      </p:pic>
      <p:pic>
        <p:nvPicPr>
          <p:cNvPr id="103" name="TextBox 33" descr=""/>
          <p:cNvPicPr/>
          <p:nvPr/>
        </p:nvPicPr>
        <p:blipFill>
          <a:blip r:embed="rId3"/>
          <a:stretch/>
        </p:blipFill>
        <p:spPr>
          <a:xfrm>
            <a:off x="701640" y="311040"/>
            <a:ext cx="7381800" cy="427320"/>
          </a:xfrm>
          <a:prstGeom prst="rect">
            <a:avLst/>
          </a:prstGeom>
          <a:ln w="0">
            <a:noFill/>
          </a:ln>
        </p:spPr>
      </p:pic>
      <p:pic>
        <p:nvPicPr>
          <p:cNvPr id="104" name="TextBox 34" descr=""/>
          <p:cNvPicPr/>
          <p:nvPr/>
        </p:nvPicPr>
        <p:blipFill>
          <a:blip r:embed="rId4"/>
          <a:stretch/>
        </p:blipFill>
        <p:spPr>
          <a:xfrm>
            <a:off x="701640" y="858960"/>
            <a:ext cx="7856640" cy="426960"/>
          </a:xfrm>
          <a:prstGeom prst="rect">
            <a:avLst/>
          </a:prstGeom>
          <a:ln w="0">
            <a:noFill/>
          </a:ln>
        </p:spPr>
      </p:pic>
      <p:pic>
        <p:nvPicPr>
          <p:cNvPr id="105" name="TextBox 35" descr=""/>
          <p:cNvPicPr/>
          <p:nvPr/>
        </p:nvPicPr>
        <p:blipFill>
          <a:blip r:embed="rId5"/>
          <a:stretch/>
        </p:blipFill>
        <p:spPr>
          <a:xfrm>
            <a:off x="701640" y="1438200"/>
            <a:ext cx="8077320" cy="708120"/>
          </a:xfrm>
          <a:prstGeom prst="rect">
            <a:avLst/>
          </a:prstGeom>
          <a:ln w="0">
            <a:noFill/>
          </a:ln>
        </p:spPr>
      </p:pic>
      <p:pic>
        <p:nvPicPr>
          <p:cNvPr id="106" name="TextBox 36" descr=""/>
          <p:cNvPicPr/>
          <p:nvPr/>
        </p:nvPicPr>
        <p:blipFill>
          <a:blip r:embed="rId6"/>
          <a:stretch/>
        </p:blipFill>
        <p:spPr>
          <a:xfrm>
            <a:off x="701640" y="2279520"/>
            <a:ext cx="7942320" cy="708120"/>
          </a:xfrm>
          <a:prstGeom prst="rect">
            <a:avLst/>
          </a:prstGeom>
          <a:ln w="0">
            <a:noFill/>
          </a:ln>
        </p:spPr>
      </p:pic>
      <p:pic>
        <p:nvPicPr>
          <p:cNvPr id="107" name="TextBox 37" descr=""/>
          <p:cNvPicPr/>
          <p:nvPr/>
        </p:nvPicPr>
        <p:blipFill>
          <a:blip r:embed="rId7"/>
          <a:stretch/>
        </p:blipFill>
        <p:spPr>
          <a:xfrm>
            <a:off x="701640" y="3048120"/>
            <a:ext cx="6284880" cy="426960"/>
          </a:xfrm>
          <a:prstGeom prst="rect">
            <a:avLst/>
          </a:prstGeom>
          <a:ln w="0">
            <a:noFill/>
          </a:ln>
        </p:spPr>
      </p:pic>
    </p:spTree>
  </p:cSld>
  <p:transition spd="slow" advTm="40000">
    <p:randomBar dir="ver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6" descr="http://votrube.ru/uploads/posts/2010-05/1273875277_chudesa-prirody-(www.votrube.ru)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592200" y="5035680"/>
            <a:ext cx="8229600" cy="25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3000"/>
          </a:bodyPr>
          <a:p>
            <a:pPr marL="7920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7920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Прямоугольник 5" descr=""/>
          <p:cNvPicPr/>
          <p:nvPr/>
        </p:nvPicPr>
        <p:blipFill>
          <a:blip r:embed="rId2"/>
          <a:stretch/>
        </p:blipFill>
        <p:spPr>
          <a:xfrm>
            <a:off x="7527960" y="225360"/>
            <a:ext cx="1444680" cy="592200"/>
          </a:xfrm>
          <a:prstGeom prst="rect">
            <a:avLst/>
          </a:prstGeom>
          <a:ln w="0">
            <a:noFill/>
          </a:ln>
        </p:spPr>
      </p:pic>
      <p:pic>
        <p:nvPicPr>
          <p:cNvPr id="111" name="Прямоугольник 6" descr=""/>
          <p:cNvPicPr/>
          <p:nvPr/>
        </p:nvPicPr>
        <p:blipFill>
          <a:blip r:embed="rId3"/>
          <a:stretch/>
        </p:blipFill>
        <p:spPr>
          <a:xfrm>
            <a:off x="4816440" y="1432080"/>
            <a:ext cx="1901880" cy="591840"/>
          </a:xfrm>
          <a:prstGeom prst="rect">
            <a:avLst/>
          </a:prstGeom>
          <a:ln w="0">
            <a:noFill/>
          </a:ln>
        </p:spPr>
      </p:pic>
      <p:grpSp>
        <p:nvGrpSpPr>
          <p:cNvPr id="112" name="Овал 7"/>
          <p:cNvGrpSpPr/>
          <p:nvPr/>
        </p:nvGrpSpPr>
        <p:grpSpPr>
          <a:xfrm>
            <a:off x="639720" y="2054160"/>
            <a:ext cx="744480" cy="744480"/>
            <a:chOff x="639720" y="2054160"/>
            <a:chExt cx="744480" cy="744480"/>
          </a:xfrm>
        </p:grpSpPr>
        <p:pic>
          <p:nvPicPr>
            <p:cNvPr id="113" name="Овал 7" descr=""/>
            <p:cNvPicPr/>
            <p:nvPr/>
          </p:nvPicPr>
          <p:blipFill>
            <a:blip r:embed="rId4"/>
            <a:stretch/>
          </p:blipFill>
          <p:spPr>
            <a:xfrm>
              <a:off x="639720" y="2054160"/>
              <a:ext cx="744480" cy="7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922320" y="2335320"/>
              <a:ext cx="17928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5" name="Овал 8"/>
          <p:cNvGrpSpPr/>
          <p:nvPr/>
        </p:nvGrpSpPr>
        <p:grpSpPr>
          <a:xfrm>
            <a:off x="639720" y="2530440"/>
            <a:ext cx="744480" cy="743040"/>
            <a:chOff x="639720" y="2530440"/>
            <a:chExt cx="744480" cy="743040"/>
          </a:xfrm>
        </p:grpSpPr>
        <p:pic>
          <p:nvPicPr>
            <p:cNvPr id="116" name="Овал 8" descr=""/>
            <p:cNvPicPr/>
            <p:nvPr/>
          </p:nvPicPr>
          <p:blipFill>
            <a:blip r:embed="rId5"/>
            <a:stretch/>
          </p:blipFill>
          <p:spPr>
            <a:xfrm>
              <a:off x="639720" y="2530440"/>
              <a:ext cx="74448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922320" y="2809800"/>
              <a:ext cx="179280" cy="1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8" name="Овал 9"/>
          <p:cNvGrpSpPr/>
          <p:nvPr/>
        </p:nvGrpSpPr>
        <p:grpSpPr>
          <a:xfrm>
            <a:off x="639720" y="2932200"/>
            <a:ext cx="744480" cy="744480"/>
            <a:chOff x="639720" y="2932200"/>
            <a:chExt cx="744480" cy="744480"/>
          </a:xfrm>
        </p:grpSpPr>
        <p:pic>
          <p:nvPicPr>
            <p:cNvPr id="119" name="Овал 9" descr=""/>
            <p:cNvPicPr/>
            <p:nvPr/>
          </p:nvPicPr>
          <p:blipFill>
            <a:blip r:embed="rId6"/>
            <a:stretch/>
          </p:blipFill>
          <p:spPr>
            <a:xfrm>
              <a:off x="639720" y="2932200"/>
              <a:ext cx="744480" cy="7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922320" y="3211560"/>
              <a:ext cx="17928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1" name="Овал 10"/>
          <p:cNvGrpSpPr/>
          <p:nvPr/>
        </p:nvGrpSpPr>
        <p:grpSpPr>
          <a:xfrm>
            <a:off x="639720" y="3402000"/>
            <a:ext cx="744480" cy="743040"/>
            <a:chOff x="639720" y="3402000"/>
            <a:chExt cx="744480" cy="743040"/>
          </a:xfrm>
        </p:grpSpPr>
        <p:pic>
          <p:nvPicPr>
            <p:cNvPr id="122" name="Овал 10" descr=""/>
            <p:cNvPicPr/>
            <p:nvPr/>
          </p:nvPicPr>
          <p:blipFill>
            <a:blip r:embed="rId7"/>
            <a:stretch/>
          </p:blipFill>
          <p:spPr>
            <a:xfrm>
              <a:off x="639720" y="3402000"/>
              <a:ext cx="74448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922320" y="3686040"/>
              <a:ext cx="179280" cy="1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124" name="TextBox 15" descr=""/>
          <p:cNvPicPr/>
          <p:nvPr/>
        </p:nvPicPr>
        <p:blipFill>
          <a:blip r:embed="rId8"/>
          <a:stretch/>
        </p:blipFill>
        <p:spPr>
          <a:xfrm>
            <a:off x="0" y="755640"/>
            <a:ext cx="8796240" cy="1030320"/>
          </a:xfrm>
          <a:prstGeom prst="rect">
            <a:avLst/>
          </a:prstGeom>
          <a:ln w="0">
            <a:noFill/>
          </a:ln>
        </p:spPr>
      </p:pic>
      <p:pic>
        <p:nvPicPr>
          <p:cNvPr id="125" name="TextBox 16" descr=""/>
          <p:cNvPicPr/>
          <p:nvPr/>
        </p:nvPicPr>
        <p:blipFill>
          <a:blip r:embed="rId9"/>
          <a:stretch/>
        </p:blipFill>
        <p:spPr>
          <a:xfrm>
            <a:off x="1152360" y="2163600"/>
            <a:ext cx="6589800" cy="463680"/>
          </a:xfrm>
          <a:prstGeom prst="rect">
            <a:avLst/>
          </a:prstGeom>
          <a:ln w="0">
            <a:noFill/>
          </a:ln>
        </p:spPr>
      </p:pic>
      <p:pic>
        <p:nvPicPr>
          <p:cNvPr id="126" name="TextBox 17" descr=""/>
          <p:cNvPicPr/>
          <p:nvPr/>
        </p:nvPicPr>
        <p:blipFill>
          <a:blip r:embed="rId10"/>
          <a:stretch/>
        </p:blipFill>
        <p:spPr>
          <a:xfrm>
            <a:off x="1189080" y="2639880"/>
            <a:ext cx="5724360" cy="463680"/>
          </a:xfrm>
          <a:prstGeom prst="rect">
            <a:avLst/>
          </a:prstGeom>
          <a:ln w="0">
            <a:noFill/>
          </a:ln>
        </p:spPr>
      </p:pic>
      <p:pic>
        <p:nvPicPr>
          <p:cNvPr id="127" name="TextBox 19" descr=""/>
          <p:cNvPicPr/>
          <p:nvPr/>
        </p:nvPicPr>
        <p:blipFill>
          <a:blip r:embed="rId11"/>
          <a:stretch/>
        </p:blipFill>
        <p:spPr>
          <a:xfrm>
            <a:off x="1189080" y="3041640"/>
            <a:ext cx="7296120" cy="463680"/>
          </a:xfrm>
          <a:prstGeom prst="rect">
            <a:avLst/>
          </a:prstGeom>
          <a:ln w="0">
            <a:noFill/>
          </a:ln>
        </p:spPr>
      </p:pic>
      <p:pic>
        <p:nvPicPr>
          <p:cNvPr id="128" name="TextBox 20" descr=""/>
          <p:cNvPicPr/>
          <p:nvPr/>
        </p:nvPicPr>
        <p:blipFill>
          <a:blip r:embed="rId12"/>
          <a:stretch/>
        </p:blipFill>
        <p:spPr>
          <a:xfrm>
            <a:off x="1146240" y="3481560"/>
            <a:ext cx="7924680" cy="461880"/>
          </a:xfrm>
          <a:prstGeom prst="rect">
            <a:avLst/>
          </a:prstGeom>
          <a:ln w="0">
            <a:noFill/>
          </a:ln>
        </p:spPr>
      </p:pic>
    </p:spTree>
  </p:cSld>
  <p:transition spd="slow" advTm="25000">
    <p:randomBar dir="ver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Прямоугольник 4" descr=""/>
          <p:cNvPicPr/>
          <p:nvPr/>
        </p:nvPicPr>
        <p:blipFill>
          <a:blip r:embed="rId1"/>
          <a:stretch/>
        </p:blipFill>
        <p:spPr>
          <a:xfrm>
            <a:off x="1809720" y="5614920"/>
            <a:ext cx="5511960" cy="828720"/>
          </a:xfrm>
          <a:prstGeom prst="rect">
            <a:avLst/>
          </a:prstGeom>
          <a:ln w="0">
            <a:noFill/>
          </a:ln>
        </p:spPr>
      </p:pic>
      <p:sp>
        <p:nvSpPr>
          <p:cNvPr id="130" name="TextBox 5"/>
          <p:cNvSpPr/>
          <p:nvPr/>
        </p:nvSpPr>
        <p:spPr>
          <a:xfrm>
            <a:off x="1504800" y="3282840"/>
            <a:ext cx="6207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скопление мельчайших капелек воды на определённой высот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Овал 3"/>
          <p:cNvSpPr/>
          <p:nvPr/>
        </p:nvSpPr>
        <p:spPr>
          <a:xfrm>
            <a:off x="7018200" y="836640"/>
            <a:ext cx="146160" cy="146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Овал 6"/>
          <p:cNvSpPr/>
          <p:nvPr/>
        </p:nvSpPr>
        <p:spPr>
          <a:xfrm>
            <a:off x="7456320" y="617400"/>
            <a:ext cx="146160" cy="146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Овал 7"/>
          <p:cNvSpPr/>
          <p:nvPr/>
        </p:nvSpPr>
        <p:spPr>
          <a:xfrm>
            <a:off x="1362240" y="617400"/>
            <a:ext cx="145800" cy="146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Овал 8"/>
          <p:cNvSpPr/>
          <p:nvPr/>
        </p:nvSpPr>
        <p:spPr>
          <a:xfrm>
            <a:off x="2165400" y="836640"/>
            <a:ext cx="146160" cy="146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Овал 9"/>
          <p:cNvSpPr/>
          <p:nvPr/>
        </p:nvSpPr>
        <p:spPr>
          <a:xfrm>
            <a:off x="1581120" y="690480"/>
            <a:ext cx="146160" cy="146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Овал 10"/>
          <p:cNvSpPr/>
          <p:nvPr/>
        </p:nvSpPr>
        <p:spPr>
          <a:xfrm flipH="1">
            <a:off x="1799640" y="398520"/>
            <a:ext cx="182520" cy="182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Овал 11"/>
          <p:cNvSpPr/>
          <p:nvPr/>
        </p:nvSpPr>
        <p:spPr>
          <a:xfrm>
            <a:off x="1836720" y="873000"/>
            <a:ext cx="146160" cy="146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Овал 12"/>
          <p:cNvSpPr/>
          <p:nvPr/>
        </p:nvSpPr>
        <p:spPr>
          <a:xfrm>
            <a:off x="8186760" y="836640"/>
            <a:ext cx="146160" cy="146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Овал 13"/>
          <p:cNvSpPr/>
          <p:nvPr/>
        </p:nvSpPr>
        <p:spPr>
          <a:xfrm>
            <a:off x="6580080" y="982800"/>
            <a:ext cx="146160" cy="145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Овал 14"/>
          <p:cNvSpPr/>
          <p:nvPr/>
        </p:nvSpPr>
        <p:spPr>
          <a:xfrm>
            <a:off x="6324480" y="909720"/>
            <a:ext cx="146160" cy="145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Овал 15"/>
          <p:cNvSpPr/>
          <p:nvPr/>
        </p:nvSpPr>
        <p:spPr>
          <a:xfrm>
            <a:off x="6215040" y="1128600"/>
            <a:ext cx="146160" cy="146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Овал 16"/>
          <p:cNvSpPr/>
          <p:nvPr/>
        </p:nvSpPr>
        <p:spPr>
          <a:xfrm>
            <a:off x="5886360" y="1019160"/>
            <a:ext cx="146160" cy="146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Овал 17"/>
          <p:cNvSpPr/>
          <p:nvPr/>
        </p:nvSpPr>
        <p:spPr>
          <a:xfrm>
            <a:off x="5305320" y="289080"/>
            <a:ext cx="146160" cy="145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Выноска-облако 18"/>
          <p:cNvSpPr/>
          <p:nvPr/>
        </p:nvSpPr>
        <p:spPr>
          <a:xfrm>
            <a:off x="701640" y="325440"/>
            <a:ext cx="2592360" cy="10224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>
              <a:alpha val="32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Выноска-облако 19"/>
          <p:cNvSpPr/>
          <p:nvPr/>
        </p:nvSpPr>
        <p:spPr>
          <a:xfrm>
            <a:off x="4243320" y="69840"/>
            <a:ext cx="4454640" cy="14241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>
              <a:alpha val="32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randomBar dir="vert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96296E-006 L -0.00746 -0.51297 E">
                                      <p:cBhvr>
                                        <p:cTn id="199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6" descr="Нажмите, чтобы посмотреть в полный разме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7" name="TextBox 5" descr=""/>
          <p:cNvPicPr/>
          <p:nvPr/>
        </p:nvPicPr>
        <p:blipFill>
          <a:blip r:embed="rId2"/>
          <a:stretch/>
        </p:blipFill>
        <p:spPr>
          <a:xfrm>
            <a:off x="463680" y="189000"/>
            <a:ext cx="8315280" cy="592200"/>
          </a:xfrm>
          <a:prstGeom prst="rect">
            <a:avLst/>
          </a:prstGeom>
          <a:ln w="0">
            <a:noFill/>
          </a:ln>
        </p:spPr>
      </p:pic>
      <p:pic>
        <p:nvPicPr>
          <p:cNvPr id="148" name="TextBox 4" descr=""/>
          <p:cNvPicPr/>
          <p:nvPr/>
        </p:nvPicPr>
        <p:blipFill>
          <a:blip r:embed="rId3"/>
          <a:stretch/>
        </p:blipFill>
        <p:spPr>
          <a:xfrm>
            <a:off x="1573200" y="1579680"/>
            <a:ext cx="1700280" cy="1084320"/>
          </a:xfrm>
          <a:prstGeom prst="rect">
            <a:avLst/>
          </a:prstGeom>
          <a:ln w="0">
            <a:noFill/>
          </a:ln>
        </p:spPr>
      </p:pic>
      <p:pic>
        <p:nvPicPr>
          <p:cNvPr id="149" name="TextBox 6" descr=""/>
          <p:cNvPicPr/>
          <p:nvPr/>
        </p:nvPicPr>
        <p:blipFill>
          <a:blip r:embed="rId4"/>
          <a:stretch/>
        </p:blipFill>
        <p:spPr>
          <a:xfrm>
            <a:off x="4127400" y="1725480"/>
            <a:ext cx="1657440" cy="773280"/>
          </a:xfrm>
          <a:prstGeom prst="rect">
            <a:avLst/>
          </a:prstGeom>
          <a:ln w="0">
            <a:noFill/>
          </a:ln>
        </p:spPr>
      </p:pic>
      <p:pic>
        <p:nvPicPr>
          <p:cNvPr id="150" name="TextBox 7" descr=""/>
          <p:cNvPicPr/>
          <p:nvPr/>
        </p:nvPicPr>
        <p:blipFill>
          <a:blip r:embed="rId5"/>
          <a:stretch/>
        </p:blipFill>
        <p:spPr>
          <a:xfrm>
            <a:off x="6321600" y="1579680"/>
            <a:ext cx="1652400" cy="1084320"/>
          </a:xfrm>
          <a:prstGeom prst="rect">
            <a:avLst/>
          </a:prstGeom>
          <a:ln w="0">
            <a:noFill/>
          </a:ln>
        </p:spPr>
      </p:pic>
      <p:grpSp>
        <p:nvGrpSpPr>
          <p:cNvPr id="151" name="Стрелка вверх 8"/>
          <p:cNvGrpSpPr/>
          <p:nvPr/>
        </p:nvGrpSpPr>
        <p:grpSpPr>
          <a:xfrm>
            <a:off x="2249640" y="835200"/>
            <a:ext cx="334800" cy="804600"/>
            <a:chOff x="2249640" y="835200"/>
            <a:chExt cx="334800" cy="804600"/>
          </a:xfrm>
        </p:grpSpPr>
        <p:pic>
          <p:nvPicPr>
            <p:cNvPr id="152" name="Стрелка вверх 8" descr=""/>
            <p:cNvPicPr/>
            <p:nvPr/>
          </p:nvPicPr>
          <p:blipFill>
            <a:blip r:embed="rId6"/>
            <a:stretch/>
          </p:blipFill>
          <p:spPr>
            <a:xfrm>
              <a:off x="2249640" y="835200"/>
              <a:ext cx="334800" cy="80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 rot="10800000">
              <a:off x="2362320" y="872640"/>
              <a:ext cx="10944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4" name="Стрелка вверх 9"/>
          <p:cNvGrpSpPr/>
          <p:nvPr/>
        </p:nvGrpSpPr>
        <p:grpSpPr>
          <a:xfrm>
            <a:off x="4803840" y="835200"/>
            <a:ext cx="334800" cy="987120"/>
            <a:chOff x="4803840" y="835200"/>
            <a:chExt cx="334800" cy="987120"/>
          </a:xfrm>
        </p:grpSpPr>
        <p:pic>
          <p:nvPicPr>
            <p:cNvPr id="155" name="Стрелка вверх 9" descr=""/>
            <p:cNvPicPr/>
            <p:nvPr/>
          </p:nvPicPr>
          <p:blipFill>
            <a:blip r:embed="rId7"/>
            <a:stretch/>
          </p:blipFill>
          <p:spPr>
            <a:xfrm>
              <a:off x="4803840" y="835200"/>
              <a:ext cx="334800" cy="98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 rot="10800000">
              <a:off x="4919760" y="873000"/>
              <a:ext cx="10944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7" name="Стрелка вверх 10"/>
          <p:cNvGrpSpPr/>
          <p:nvPr/>
        </p:nvGrpSpPr>
        <p:grpSpPr>
          <a:xfrm>
            <a:off x="6954840" y="835200"/>
            <a:ext cx="336600" cy="841320"/>
            <a:chOff x="6954840" y="835200"/>
            <a:chExt cx="336600" cy="841320"/>
          </a:xfrm>
        </p:grpSpPr>
        <p:pic>
          <p:nvPicPr>
            <p:cNvPr id="158" name="Стрелка вверх 10" descr=""/>
            <p:cNvPicPr/>
            <p:nvPr/>
          </p:nvPicPr>
          <p:blipFill>
            <a:blip r:embed="rId8"/>
            <a:stretch/>
          </p:blipFill>
          <p:spPr>
            <a:xfrm>
              <a:off x="6954840" y="835200"/>
              <a:ext cx="33660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 rot="10800000">
              <a:off x="7074000" y="873000"/>
              <a:ext cx="10944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160" name="Рисунок 13" descr="Dangerous Weather"/>
          <p:cNvPicPr/>
          <p:nvPr/>
        </p:nvPicPr>
        <p:blipFill>
          <a:blip r:embed="rId9"/>
          <a:stretch/>
        </p:blipFill>
        <p:spPr>
          <a:xfrm>
            <a:off x="5586480" y="2881440"/>
            <a:ext cx="3585960" cy="3976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61" name="Picture 4" descr="http://95reg.taba.ru/fid/aW1hZ2U6MzIzODU5/original.jpg"/>
          <p:cNvPicPr/>
          <p:nvPr/>
        </p:nvPicPr>
        <p:blipFill>
          <a:blip r:embed="rId10"/>
          <a:stretch/>
        </p:blipFill>
        <p:spPr>
          <a:xfrm>
            <a:off x="0" y="2881440"/>
            <a:ext cx="5594400" cy="3976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162" name="Выгнутая вниз стрелка 14"/>
          <p:cNvGrpSpPr/>
          <p:nvPr/>
        </p:nvGrpSpPr>
        <p:grpSpPr>
          <a:xfrm>
            <a:off x="2066760" y="2590920"/>
            <a:ext cx="5290920" cy="1163520"/>
            <a:chOff x="2066760" y="2590920"/>
            <a:chExt cx="5290920" cy="1163520"/>
          </a:xfrm>
        </p:grpSpPr>
        <p:pic>
          <p:nvPicPr>
            <p:cNvPr id="163" name="Выгнутая вниз стрелка 14" descr=""/>
            <p:cNvPicPr/>
            <p:nvPr/>
          </p:nvPicPr>
          <p:blipFill>
            <a:blip r:embed="rId11"/>
            <a:stretch/>
          </p:blipFill>
          <p:spPr>
            <a:xfrm>
              <a:off x="2066760" y="2590920"/>
              <a:ext cx="5265720" cy="11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2125440" y="2625840"/>
              <a:ext cx="5232240" cy="10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65" name="Выгнутая вниз стрелка 15"/>
          <p:cNvGrpSpPr/>
          <p:nvPr/>
        </p:nvGrpSpPr>
        <p:grpSpPr>
          <a:xfrm>
            <a:off x="2103480" y="2590920"/>
            <a:ext cx="3133800" cy="877680"/>
            <a:chOff x="2103480" y="2590920"/>
            <a:chExt cx="3133800" cy="877680"/>
          </a:xfrm>
        </p:grpSpPr>
        <p:pic>
          <p:nvPicPr>
            <p:cNvPr id="166" name="Выгнутая вниз стрелка 15" descr=""/>
            <p:cNvPicPr/>
            <p:nvPr/>
          </p:nvPicPr>
          <p:blipFill>
            <a:blip r:embed="rId12"/>
            <a:stretch/>
          </p:blipFill>
          <p:spPr>
            <a:xfrm>
              <a:off x="2103480" y="2590920"/>
              <a:ext cx="3133800" cy="87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2162160" y="2625840"/>
              <a:ext cx="3067200" cy="76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spd="slow" advTm="20000">
    <p:randomBar dir="vert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5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7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5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AutoShape 15"/>
          <p:cNvGrpSpPr/>
          <p:nvPr/>
        </p:nvGrpSpPr>
        <p:grpSpPr>
          <a:xfrm>
            <a:off x="2139840" y="4668840"/>
            <a:ext cx="1096920" cy="2274840"/>
            <a:chOff x="2139840" y="4668840"/>
            <a:chExt cx="1096920" cy="2274840"/>
          </a:xfrm>
        </p:grpSpPr>
        <p:pic>
          <p:nvPicPr>
            <p:cNvPr id="169" name="AutoShape 15" descr=""/>
            <p:cNvPicPr/>
            <p:nvPr/>
          </p:nvPicPr>
          <p:blipFill>
            <a:blip r:embed="rId1"/>
            <a:stretch/>
          </p:blipFill>
          <p:spPr>
            <a:xfrm>
              <a:off x="2139840" y="4668840"/>
              <a:ext cx="1096920" cy="22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2444760" y="5059440"/>
              <a:ext cx="493560" cy="17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71" name="AutoShape 16"/>
          <p:cNvGrpSpPr/>
          <p:nvPr/>
        </p:nvGrpSpPr>
        <p:grpSpPr>
          <a:xfrm>
            <a:off x="7753320" y="4559400"/>
            <a:ext cx="525600" cy="1365120"/>
            <a:chOff x="7753320" y="4559400"/>
            <a:chExt cx="525600" cy="1365120"/>
          </a:xfrm>
        </p:grpSpPr>
        <p:pic>
          <p:nvPicPr>
            <p:cNvPr id="172" name="AutoShape 16" descr=""/>
            <p:cNvPicPr/>
            <p:nvPr/>
          </p:nvPicPr>
          <p:blipFill>
            <a:blip r:embed="rId2"/>
            <a:stretch/>
          </p:blipFill>
          <p:spPr>
            <a:xfrm>
              <a:off x="7753320" y="4559400"/>
              <a:ext cx="525600" cy="13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7915320" y="4915080"/>
              <a:ext cx="204840" cy="9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4" name="Line 18"/>
          <p:cNvSpPr/>
          <p:nvPr/>
        </p:nvSpPr>
        <p:spPr>
          <a:xfrm>
            <a:off x="71280" y="3068640"/>
            <a:ext cx="896472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75" name="Oval 21"/>
          <p:cNvGrpSpPr/>
          <p:nvPr/>
        </p:nvGrpSpPr>
        <p:grpSpPr>
          <a:xfrm>
            <a:off x="-493560" y="-158760"/>
            <a:ext cx="2170080" cy="2017800"/>
            <a:chOff x="-493560" y="-158760"/>
            <a:chExt cx="2170080" cy="2017800"/>
          </a:xfrm>
        </p:grpSpPr>
        <p:pic>
          <p:nvPicPr>
            <p:cNvPr id="176" name="Oval 21" descr=""/>
            <p:cNvPicPr/>
            <p:nvPr/>
          </p:nvPicPr>
          <p:blipFill>
            <a:blip r:embed="rId3"/>
            <a:stretch/>
          </p:blipFill>
          <p:spPr>
            <a:xfrm>
              <a:off x="-493560" y="-158760"/>
              <a:ext cx="217008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295200" y="266760"/>
              <a:ext cx="94140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78" name="Line 22"/>
          <p:cNvGrpSpPr/>
          <p:nvPr/>
        </p:nvGrpSpPr>
        <p:grpSpPr>
          <a:xfrm>
            <a:off x="615960" y="1279440"/>
            <a:ext cx="1762200" cy="5670720"/>
            <a:chOff x="615960" y="1279440"/>
            <a:chExt cx="1762200" cy="5670720"/>
          </a:xfrm>
        </p:grpSpPr>
        <p:pic>
          <p:nvPicPr>
            <p:cNvPr id="179" name="Line 22" descr=""/>
            <p:cNvPicPr/>
            <p:nvPr/>
          </p:nvPicPr>
          <p:blipFill>
            <a:blip r:embed="rId4"/>
            <a:stretch/>
          </p:blipFill>
          <p:spPr>
            <a:xfrm>
              <a:off x="615960" y="1279440"/>
              <a:ext cx="1762200" cy="567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863640" y="15210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1" name="Line 23"/>
          <p:cNvGrpSpPr/>
          <p:nvPr/>
        </p:nvGrpSpPr>
        <p:grpSpPr>
          <a:xfrm>
            <a:off x="1450800" y="774720"/>
            <a:ext cx="6718320" cy="5205240"/>
            <a:chOff x="1450800" y="774720"/>
            <a:chExt cx="6718320" cy="5205240"/>
          </a:xfrm>
        </p:grpSpPr>
        <p:pic>
          <p:nvPicPr>
            <p:cNvPr id="182" name="Line 23" descr=""/>
            <p:cNvPicPr/>
            <p:nvPr/>
          </p:nvPicPr>
          <p:blipFill>
            <a:blip r:embed="rId5"/>
            <a:stretch/>
          </p:blipFill>
          <p:spPr>
            <a:xfrm>
              <a:off x="1450800" y="774720"/>
              <a:ext cx="6718320" cy="520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1692360" y="1015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4" name="Line 24"/>
          <p:cNvGrpSpPr/>
          <p:nvPr/>
        </p:nvGrpSpPr>
        <p:grpSpPr>
          <a:xfrm>
            <a:off x="-414360" y="1189080"/>
            <a:ext cx="506520" cy="5546520"/>
            <a:chOff x="-414360" y="1189080"/>
            <a:chExt cx="506520" cy="5546520"/>
          </a:xfrm>
        </p:grpSpPr>
        <p:pic>
          <p:nvPicPr>
            <p:cNvPr id="185" name="Line 24" descr=""/>
            <p:cNvPicPr/>
            <p:nvPr/>
          </p:nvPicPr>
          <p:blipFill>
            <a:blip r:embed="rId6"/>
            <a:stretch/>
          </p:blipFill>
          <p:spPr>
            <a:xfrm>
              <a:off x="-414360" y="1189080"/>
              <a:ext cx="506520" cy="554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-165240" y="1420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7" name="Line 26"/>
          <p:cNvGrpSpPr/>
          <p:nvPr/>
        </p:nvGrpSpPr>
        <p:grpSpPr>
          <a:xfrm>
            <a:off x="1054080" y="1170000"/>
            <a:ext cx="4346640" cy="5462640"/>
            <a:chOff x="1054080" y="1170000"/>
            <a:chExt cx="4346640" cy="5462640"/>
          </a:xfrm>
        </p:grpSpPr>
        <p:pic>
          <p:nvPicPr>
            <p:cNvPr id="188" name="Line 26" descr=""/>
            <p:cNvPicPr/>
            <p:nvPr/>
          </p:nvPicPr>
          <p:blipFill>
            <a:blip r:embed="rId7"/>
            <a:stretch/>
          </p:blipFill>
          <p:spPr>
            <a:xfrm>
              <a:off x="1054080" y="1170000"/>
              <a:ext cx="4346640" cy="546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1295280" y="14130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190" name="AutoShape 31" descr=""/>
          <p:cNvPicPr/>
          <p:nvPr/>
        </p:nvPicPr>
        <p:blipFill>
          <a:blip r:embed="rId8"/>
          <a:stretch/>
        </p:blipFill>
        <p:spPr>
          <a:xfrm>
            <a:off x="2286000" y="4389480"/>
            <a:ext cx="5522760" cy="2468520"/>
          </a:xfrm>
          <a:prstGeom prst="rect">
            <a:avLst/>
          </a:prstGeom>
          <a:ln w="0">
            <a:noFill/>
          </a:ln>
        </p:spPr>
      </p:pic>
      <p:grpSp>
        <p:nvGrpSpPr>
          <p:cNvPr id="191" name="Cloud"/>
          <p:cNvGrpSpPr/>
          <p:nvPr/>
        </p:nvGrpSpPr>
        <p:grpSpPr>
          <a:xfrm>
            <a:off x="262080" y="1268280"/>
            <a:ext cx="3517920" cy="2035440"/>
            <a:chOff x="262080" y="1268280"/>
            <a:chExt cx="3517920" cy="2035440"/>
          </a:xfrm>
        </p:grpSpPr>
        <p:pic>
          <p:nvPicPr>
            <p:cNvPr id="192" name="Cloud" descr=""/>
            <p:cNvPicPr/>
            <p:nvPr/>
          </p:nvPicPr>
          <p:blipFill>
            <a:blip r:embed="rId9"/>
            <a:stretch/>
          </p:blipFill>
          <p:spPr>
            <a:xfrm>
              <a:off x="262080" y="1268280"/>
              <a:ext cx="3517920" cy="203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928800" y="1754280"/>
              <a:ext cx="1979640" cy="100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94" name="Cloud"/>
          <p:cNvGrpSpPr/>
          <p:nvPr/>
        </p:nvGrpSpPr>
        <p:grpSpPr>
          <a:xfrm>
            <a:off x="4870440" y="549360"/>
            <a:ext cx="3693960" cy="1206360"/>
            <a:chOff x="4870440" y="549360"/>
            <a:chExt cx="3693960" cy="1206360"/>
          </a:xfrm>
        </p:grpSpPr>
        <p:pic>
          <p:nvPicPr>
            <p:cNvPr id="195" name="Cloud" descr=""/>
            <p:cNvPicPr/>
            <p:nvPr/>
          </p:nvPicPr>
          <p:blipFill>
            <a:blip r:embed="rId10"/>
            <a:stretch/>
          </p:blipFill>
          <p:spPr>
            <a:xfrm>
              <a:off x="4870440" y="549360"/>
              <a:ext cx="3693960" cy="120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560920" y="909720"/>
              <a:ext cx="209412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97" name="Oval 17"/>
          <p:cNvGrpSpPr/>
          <p:nvPr/>
        </p:nvGrpSpPr>
        <p:grpSpPr>
          <a:xfrm>
            <a:off x="2054160" y="2292480"/>
            <a:ext cx="804960" cy="785520"/>
            <a:chOff x="2054160" y="2292480"/>
            <a:chExt cx="804960" cy="785520"/>
          </a:xfrm>
        </p:grpSpPr>
        <p:pic>
          <p:nvPicPr>
            <p:cNvPr id="198" name="Oval 17" descr=""/>
            <p:cNvPicPr/>
            <p:nvPr/>
          </p:nvPicPr>
          <p:blipFill>
            <a:blip r:embed="rId11"/>
            <a:stretch/>
          </p:blipFill>
          <p:spPr>
            <a:xfrm>
              <a:off x="2054160" y="2292480"/>
              <a:ext cx="804960" cy="78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2475000" y="2378160"/>
              <a:ext cx="30636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200" name="AutoShape 30" descr=""/>
          <p:cNvPicPr/>
          <p:nvPr/>
        </p:nvPicPr>
        <p:blipFill>
          <a:blip r:embed="rId12"/>
          <a:stretch/>
        </p:blipFill>
        <p:spPr>
          <a:xfrm>
            <a:off x="2365200" y="719280"/>
            <a:ext cx="2760840" cy="2305080"/>
          </a:xfrm>
          <a:prstGeom prst="rect">
            <a:avLst/>
          </a:prstGeom>
          <a:ln w="0">
            <a:noFill/>
          </a:ln>
        </p:spPr>
      </p:pic>
      <p:pic>
        <p:nvPicPr>
          <p:cNvPr id="201" name="WordArt 35" descr=""/>
          <p:cNvPicPr/>
          <p:nvPr/>
        </p:nvPicPr>
        <p:blipFill>
          <a:blip r:embed="rId13"/>
          <a:stretch/>
        </p:blipFill>
        <p:spPr>
          <a:xfrm>
            <a:off x="0" y="208080"/>
            <a:ext cx="9144000" cy="407880"/>
          </a:xfrm>
          <a:prstGeom prst="rect">
            <a:avLst/>
          </a:prstGeom>
          <a:ln w="0">
            <a:noFill/>
          </a:ln>
        </p:spPr>
      </p:pic>
      <p:pic>
        <p:nvPicPr>
          <p:cNvPr id="202" name="WordArt 36" descr=""/>
          <p:cNvPicPr/>
          <p:nvPr/>
        </p:nvPicPr>
        <p:blipFill>
          <a:blip r:embed="rId14"/>
          <a:stretch/>
        </p:blipFill>
        <p:spPr>
          <a:xfrm>
            <a:off x="139680" y="6340320"/>
            <a:ext cx="2139840" cy="316080"/>
          </a:xfrm>
          <a:prstGeom prst="rect">
            <a:avLst/>
          </a:prstGeom>
          <a:ln w="0">
            <a:noFill/>
          </a:ln>
        </p:spPr>
      </p:pic>
      <p:pic>
        <p:nvPicPr>
          <p:cNvPr id="203" name="WordArt 37" descr=""/>
          <p:cNvPicPr/>
          <p:nvPr/>
        </p:nvPicPr>
        <p:blipFill>
          <a:blip r:embed="rId15"/>
          <a:stretch/>
        </p:blipFill>
        <p:spPr>
          <a:xfrm>
            <a:off x="7047000" y="6267600"/>
            <a:ext cx="1852560" cy="382320"/>
          </a:xfrm>
          <a:prstGeom prst="rect">
            <a:avLst/>
          </a:prstGeom>
          <a:ln w="0">
            <a:noFill/>
          </a:ln>
        </p:spPr>
      </p:pic>
      <p:grpSp>
        <p:nvGrpSpPr>
          <p:cNvPr id="204" name="Овал 20"/>
          <p:cNvGrpSpPr/>
          <p:nvPr/>
        </p:nvGrpSpPr>
        <p:grpSpPr>
          <a:xfrm>
            <a:off x="2651040" y="2481120"/>
            <a:ext cx="293760" cy="292320"/>
            <a:chOff x="2651040" y="2481120"/>
            <a:chExt cx="293760" cy="292320"/>
          </a:xfrm>
        </p:grpSpPr>
        <p:pic>
          <p:nvPicPr>
            <p:cNvPr id="205" name="Овал 20" descr=""/>
            <p:cNvPicPr/>
            <p:nvPr/>
          </p:nvPicPr>
          <p:blipFill>
            <a:blip r:embed="rId16"/>
            <a:stretch/>
          </p:blipFill>
          <p:spPr>
            <a:xfrm>
              <a:off x="2651040" y="2481120"/>
              <a:ext cx="293760" cy="2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2736720" y="2543040"/>
              <a:ext cx="128880" cy="1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07" name="Овал 21"/>
          <p:cNvGrpSpPr/>
          <p:nvPr/>
        </p:nvGrpSpPr>
        <p:grpSpPr>
          <a:xfrm>
            <a:off x="2468520" y="2189160"/>
            <a:ext cx="298440" cy="291960"/>
            <a:chOff x="2468520" y="2189160"/>
            <a:chExt cx="298440" cy="291960"/>
          </a:xfrm>
        </p:grpSpPr>
        <p:pic>
          <p:nvPicPr>
            <p:cNvPr id="208" name="Овал 21" descr=""/>
            <p:cNvPicPr/>
            <p:nvPr/>
          </p:nvPicPr>
          <p:blipFill>
            <a:blip r:embed="rId17"/>
            <a:stretch/>
          </p:blipFill>
          <p:spPr>
            <a:xfrm>
              <a:off x="2468520" y="2189160"/>
              <a:ext cx="298440" cy="29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2554200" y="2251080"/>
              <a:ext cx="128520" cy="1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10" name="Овал 22"/>
          <p:cNvGrpSpPr/>
          <p:nvPr/>
        </p:nvGrpSpPr>
        <p:grpSpPr>
          <a:xfrm>
            <a:off x="2322360" y="2517840"/>
            <a:ext cx="298440" cy="291960"/>
            <a:chOff x="2322360" y="2517840"/>
            <a:chExt cx="298440" cy="291960"/>
          </a:xfrm>
        </p:grpSpPr>
        <p:pic>
          <p:nvPicPr>
            <p:cNvPr id="211" name="Овал 22" descr=""/>
            <p:cNvPicPr/>
            <p:nvPr/>
          </p:nvPicPr>
          <p:blipFill>
            <a:blip r:embed="rId18"/>
            <a:stretch/>
          </p:blipFill>
          <p:spPr>
            <a:xfrm>
              <a:off x="2322360" y="2517840"/>
              <a:ext cx="298440" cy="29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2408400" y="2579760"/>
              <a:ext cx="12852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13" name="Овал 23"/>
          <p:cNvGrpSpPr/>
          <p:nvPr/>
        </p:nvGrpSpPr>
        <p:grpSpPr>
          <a:xfrm>
            <a:off x="2322360" y="2335320"/>
            <a:ext cx="298440" cy="291960"/>
            <a:chOff x="2322360" y="2335320"/>
            <a:chExt cx="298440" cy="291960"/>
          </a:xfrm>
        </p:grpSpPr>
        <p:pic>
          <p:nvPicPr>
            <p:cNvPr id="214" name="Овал 23" descr=""/>
            <p:cNvPicPr/>
            <p:nvPr/>
          </p:nvPicPr>
          <p:blipFill>
            <a:blip r:embed="rId19"/>
            <a:stretch/>
          </p:blipFill>
          <p:spPr>
            <a:xfrm>
              <a:off x="2322360" y="2335320"/>
              <a:ext cx="298440" cy="29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2408400" y="2397240"/>
              <a:ext cx="12852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216" name="Text Box 28" descr=""/>
          <p:cNvPicPr/>
          <p:nvPr/>
        </p:nvPicPr>
        <p:blipFill>
          <a:blip r:embed="rId20"/>
          <a:stretch/>
        </p:blipFill>
        <p:spPr>
          <a:xfrm>
            <a:off x="6559560" y="1316160"/>
            <a:ext cx="1974960" cy="1414440"/>
          </a:xfrm>
          <a:prstGeom prst="rect">
            <a:avLst/>
          </a:prstGeom>
          <a:ln w="0">
            <a:noFill/>
          </a:ln>
        </p:spPr>
      </p:pic>
      <p:pic>
        <p:nvPicPr>
          <p:cNvPr id="217" name="AutoShape 27" descr=""/>
          <p:cNvPicPr/>
          <p:nvPr/>
        </p:nvPicPr>
        <p:blipFill>
          <a:blip r:embed="rId21"/>
          <a:stretch/>
        </p:blipFill>
        <p:spPr>
          <a:xfrm>
            <a:off x="6066000" y="1212840"/>
            <a:ext cx="2528640" cy="2286000"/>
          </a:xfrm>
          <a:prstGeom prst="rect">
            <a:avLst/>
          </a:prstGeom>
          <a:ln w="0">
            <a:noFill/>
          </a:ln>
        </p:spPr>
      </p:pic>
    </p:spTree>
  </p:cSld>
  <p:transition spd="slow" advTm="40000">
    <p:randomBar dir="vert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04 0.15694 L 0.00486 -0.24329 E">
                                      <p:cBhvr>
                                        <p:cTn id="359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0.075 L 3.88889E-006 -0.22685 E">
                                      <p:cBhvr>
                                        <p:cTn id="361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7.40741E-007 L 0.46354 -0.00255 E">
                                      <p:cBhvr>
                                        <p:cTn id="408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96296E-006 L 0.46979 -2.96296E-006 E">
                                      <p:cBhvr>
                                        <p:cTn id="410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Рисунок 11" descr="Serenity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219" name="Прямоугольник 3" descr=""/>
          <p:cNvPicPr/>
          <p:nvPr/>
        </p:nvPicPr>
        <p:blipFill>
          <a:blip r:embed="rId2"/>
          <a:stretch/>
        </p:blipFill>
        <p:spPr>
          <a:xfrm>
            <a:off x="1279440" y="171360"/>
            <a:ext cx="6181920" cy="6098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randomBar dir="vert"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Рисунок 7" descr="clouds&amp;reflections"/>
          <p:cNvPicPr/>
          <p:nvPr/>
        </p:nvPicPr>
        <p:blipFill>
          <a:blip r:embed="rId1"/>
          <a:stretch/>
        </p:blipFill>
        <p:spPr>
          <a:xfrm>
            <a:off x="0" y="0"/>
            <a:ext cx="9398160" cy="685800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36" descr="sky crown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41" descr="clouds in arms"/>
          <p:cNvPicPr/>
          <p:nvPr/>
        </p:nvPicPr>
        <p:blipFill>
          <a:blip r:embed="rId3"/>
          <a:stretch/>
        </p:blipFill>
        <p:spPr>
          <a:xfrm>
            <a:off x="0" y="0"/>
            <a:ext cx="9443880" cy="6858000"/>
          </a:xfrm>
          <a:prstGeom prst="rect">
            <a:avLst/>
          </a:prstGeom>
          <a:ln w="0">
            <a:noFill/>
          </a:ln>
        </p:spPr>
      </p:pic>
      <p:pic>
        <p:nvPicPr>
          <p:cNvPr id="223" name="TextBox 6" descr=""/>
          <p:cNvPicPr/>
          <p:nvPr/>
        </p:nvPicPr>
        <p:blipFill>
          <a:blip r:embed="rId4"/>
          <a:stretch/>
        </p:blipFill>
        <p:spPr>
          <a:xfrm>
            <a:off x="517680" y="6066000"/>
            <a:ext cx="8626320" cy="59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4" name=""/>
          <p:cNvGraphicFramePr/>
          <p:nvPr/>
        </p:nvGraphicFramePr>
        <p:xfrm>
          <a:off x="44280" y="69840"/>
          <a:ext cx="9310680" cy="6691320"/>
        </p:xfrm>
        <a:graphic>
          <a:graphicData uri="http://schemas.openxmlformats.org/drawingml/2006/table">
            <a:tbl>
              <a:tblPr/>
              <a:tblGrid>
                <a:gridCol w="1409760"/>
                <a:gridCol w="747720"/>
                <a:gridCol w="1500120"/>
                <a:gridCol w="565308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Название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ярус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К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Форм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облак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иды и разновиднос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ерхн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ше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 к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Перисты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локнистые, нитевидные, когтевидные, хребтовидные, перепутанные, плотные, грозовые, хлопьевидны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 Перисто-кучевы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лнистые, чечевицеобразные, кучевообразные, хлопьевидны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 Перисто-слоисты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локнистые, туманообразны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н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-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 Высоко-кучевы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лнистые, просвечивающие, непросвечивающие плотные, чечевицеобразные, неоднородные, кучевообразные, хлопьевидные, башенковидны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 Высоко-слоисты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уманообразные, волнистые, просвечивающие, непросвечивающие, дающие осад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9043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ижн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иже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к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 Слоисто-кучевы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лнистые, просвечивающие, плотные, чечевицеобразные, кучевообразные, башенковидные, растекащиеся дневные, растекающиеся вечерние, вымеобразны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    Слоисты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уманообразные, волнистые, разорванные, разорванно-дождевы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70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 Слоисто-дождевы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309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ла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ертикального развит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к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 Кучевы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лоские, разорванные, средние, мощны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716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 Кучево-дождевы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Лысые», «лысые» с грозовым валом, «волосатые», «волосатые» с грозовым валом, с наковальней, плоск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</p:spTree>
  </p:cSld>
  <p:transition spd="slow" advTm="40000">
    <p:randomBar dir="vert"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6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1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6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6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08:53:52Z</dcterms:created>
  <dc:creator>USER</dc:creator>
  <dc:description/>
  <dc:language>en-US</dc:language>
  <cp:lastModifiedBy>Admin</cp:lastModifiedBy>
  <dcterms:modified xsi:type="dcterms:W3CDTF">2011-09-12T12:51:13Z</dcterms:modified>
  <cp:revision>260</cp:revision>
  <dc:subject/>
  <dc:title>Слайд 1</dc:title>
</cp:coreProperties>
</file>