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7.png" ContentType="image/png"/>
  <Override PartName="/ppt/media/image15.wmf" ContentType="image/x-wmf"/>
  <Override PartName="/ppt/media/image3.png" ContentType="image/png"/>
  <Override PartName="/ppt/media/image26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13.wmf" ContentType="image/x-wmf"/>
  <Override PartName="/ppt/media/image8.png" ContentType="image/png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25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D62-3EFF-4E09-98B8-410D80CB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5B1-7EAF-445C-A469-98CA916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782-9756-45E3-9E45-3F19BB30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2DD0-2E01-4798-AA57-3614336D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9642-2FB1-490D-A61C-7D0A94EA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1F3-311A-4AD2-A073-EC248188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14C2-F868-417A-9CD1-05884F2E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ADEF-D3C1-43E4-96D4-F32A1C4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2FE7-5178-4C04-9248-B4C07D84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883B-A14E-40FF-B4FC-DFCCD2D9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4CF8-C7F5-4774-B19C-93BFCAE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A1D-E231-472E-A297-58364AE5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1DDA-4684-4DF6-A994-7C054AC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FBA2-4F6D-4F76-B2E5-C159154F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A7BE-6C10-49F7-8AA6-8D86E90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886-818D-4C41-9B47-4AD5594F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AF3A-3771-4839-BFBF-2E2233E1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C047-E9B0-4C7A-93DF-767AABDC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D0D9E-2F8B-4BB4-B54F-F146FF8B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E9B3-6F49-4A2A-8609-3563CEE6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29EE4-1EB8-4A71-89FF-179F26F1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127E-A555-4736-8898-ED4A876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B30-B5AB-4C5A-9C0D-BC8FED56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6478-F9A2-4C89-9543-1D67C8C1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8C14-40EF-4510-9DB6-B31A74DD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C366C-6E43-4206-8121-33CEC77A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F070-997E-4C7B-8E9B-36186B4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9B27-46B7-47ED-840B-BA56595B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95F7-4395-41F6-9F65-40091370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F883F-AAAA-4C8E-86AD-914BAE7D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7D33-E8E7-4264-BF45-D5188B2B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4D1D-79B9-4A2B-A3CB-F4F89AD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2E28-5E37-42E1-86D4-E82D6DB6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24B-88FF-4532-B4DD-9B9D30C6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458B-2A1E-4FAC-89CF-DF6425F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9671-B9B0-4B74-8559-1ACD1CD0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E76F9-8B8C-4373-A5EE-54A4C97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07C1-29B8-4B3F-9D38-61BD7750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624B-CA4E-4033-9287-2696915F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DA96B-5F4A-4D0F-8AF3-E2CDC5E8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6497-6ED0-40B4-94E5-1F1EE707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A5130-6C50-412D-8D5F-9C6BF2E3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7B2F-D301-4C92-8D54-E1F94F32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E34E-41EA-4101-A4E3-F3B04015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30F6-B83A-4CB1-927E-9470369E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3A5B-7BC0-47E7-9EF4-05F1CF1D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A1A9-BCEC-4164-83C0-DBD73520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168B-A058-4177-8C5D-7D567F5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2F315-1E69-4419-B806-7EBF47EA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BE16-2768-4667-B39E-6BFBAF94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1DA2-B14D-45D9-9207-C2CB0A8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89E5-0433-426F-99EA-9919BF1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47A7C-3B2B-4214-974C-037258D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1A3F-67D3-49FB-AA1C-1860E82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4495-9D0C-46D1-9DBC-BD3BC023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4D9-11E4-47D5-B131-DA58F6D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B0FAF-3537-4CA6-B862-E71D43B4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AE5A2-F0C2-413E-8ACB-4A71EC10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9B43-D258-49DE-A6DF-738D3F3A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89845-3B7A-4CA3-9AD7-2351C1A5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4A2C-E791-4069-BBC5-93EACE3C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C284E-520C-4BD4-A5DA-65895123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F1EE-9B52-4C33-BDE9-CE75BC7F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1CF4-78EF-403F-A92B-E707EF5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6B04-3FCA-46B1-BCF5-5EE7BC54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4481-33D5-4DFA-91D6-555E5939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C53-0EF0-428A-AF7A-8CB3EFD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DC623-FA47-4879-8B0E-5EEE42EB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3395B-A031-42D5-9164-0125EBA3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14A40-1C5B-426B-B1CD-AEC2E7BA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80CE4-1F70-4E26-89DA-59AF6518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63FA-1712-4397-A490-962AA36C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F924B-72E3-4145-B984-B9943A82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7540-E727-41BD-8FCD-5F7B60A3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8B02-82E1-4F87-828A-334BCAA6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5865-D905-43A1-A714-E6B15E63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FA156-3D58-4E3F-9187-2AE953D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EEF-3E36-4127-9905-3053DF08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A26AB-277B-4ED3-8499-64A7890B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AC1E-D44E-4032-8381-A8A82E3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1A52C-FCE9-40EB-9AF9-6029E2EF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D2D4-654F-48BF-88EA-13693FF6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2947-55C3-4DAC-A24B-D8DEB0A2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55F76-EB69-4C82-8E25-230423B1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A544D-77BF-4B75-B67A-661A7B7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CCA1-CCF4-49EF-A317-286DC849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07D06-5280-44E7-AA73-5C76FAE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CF8C8-3B2D-424B-B876-0FC3699E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508-C8F5-4C35-BEDB-2C2E635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DA3A4-54C3-4537-8AF6-383D85ED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1C4DF-BA6A-48A1-BFE4-00103796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2814-41C5-4A2D-A90E-DF9EEE0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1BA32-35FA-481C-8256-BE35116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4B68A-840F-4D0D-93C0-60E56693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DC224-961C-420A-8A54-20CA1502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F31D1-7EA6-4865-BDF3-9AD099AF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3BFB-5820-41AD-A203-D72010D42A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664-04DD-4C33-8D1A-78A1C1180AD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DCA6-D9BB-4465-B6DE-51F1C2DADA4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50C-E6BC-4422-814B-8375D863619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8465-8AEB-4342-A822-6096CB5F1A0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EE9-52DE-458E-883C-A91DA3B636C0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7378-2AE4-4A6D-B8BD-AEF3244B036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128D-4059-45A2-A0E3-CE86541E744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4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596880" y="1749600"/>
            <a:ext cx="81756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28760" y="5500800"/>
            <a:ext cx="521496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Учитель математики Львовской СОШ №4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Билетова Н.В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2060"/>
                </a:solidFill>
                <a:latin typeface="Georgia"/>
              </a:rPr>
              <a:t>ноябрь 2010 г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4" descr="http://gloubiweb.free.fr/clipartsA9/ogjets272.gif"/>
          <p:cNvPicPr/>
          <p:nvPr/>
        </p:nvPicPr>
        <p:blipFill>
          <a:blip r:embed="rId2"/>
          <a:stretch/>
        </p:blipFill>
        <p:spPr>
          <a:xfrm>
            <a:off x="7267680" y="3143160"/>
            <a:ext cx="1876320" cy="1781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gloubiweb.free.fr/clipartsA9/ogjets274.gif"/>
          <p:cNvPicPr/>
          <p:nvPr/>
        </p:nvPicPr>
        <p:blipFill>
          <a:blip r:embed="rId3"/>
          <a:stretch/>
        </p:blipFill>
        <p:spPr>
          <a:xfrm>
            <a:off x="857160" y="357120"/>
            <a:ext cx="14875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1000080" y="571680"/>
            <a:ext cx="7358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5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. Принадлежит ли то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С (-2; 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графику линейной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У = - 0,5 Х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1428840" y="342900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Нет:    У = - 0,5 * (-2) +1 = 2 #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Блок-схема: ИЛИ 3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Object 2"/>
          <p:cNvGraphicFramePr/>
          <p:nvPr/>
        </p:nvGraphicFramePr>
        <p:xfrm>
          <a:off x="2857680" y="2357280"/>
          <a:ext cx="6099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357280"/>
                    <a:ext cx="6099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TextBox 2"/>
          <p:cNvSpPr/>
          <p:nvPr/>
        </p:nvSpPr>
        <p:spPr>
          <a:xfrm>
            <a:off x="428760" y="35712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6. На рисунке изображены графики следующих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3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Х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д каким номером расположен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 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1071720" y="4416480"/>
            <a:ext cx="7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Блок-схема: ИЛИ 4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SCRIBECO"/>
          <p:cNvPicPr/>
          <p:nvPr/>
        </p:nvPicPr>
        <p:blipFill>
          <a:blip r:embed="rId1"/>
          <a:stretch/>
        </p:blipFill>
        <p:spPr>
          <a:xfrm>
            <a:off x="5273640" y="1573200"/>
            <a:ext cx="3370320" cy="49276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714240" y="178596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1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1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7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Х – 5 = Х + 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5 Х – 7 = 9 Х + 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У = 2Х точка А (400; 2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8"/>
          <p:cNvSpPr/>
          <p:nvPr/>
        </p:nvSpPr>
        <p:spPr>
          <a:xfrm>
            <a:off x="7143840" y="5786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"/>
          <p:cNvSpPr/>
          <p:nvPr/>
        </p:nvSpPr>
        <p:spPr>
          <a:xfrm>
            <a:off x="785880" y="1714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2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CRCTR605"/>
          <p:cNvPicPr/>
          <p:nvPr/>
        </p:nvPicPr>
        <p:blipFill>
          <a:blip r:embed="rId1"/>
          <a:stretch/>
        </p:blipFill>
        <p:spPr>
          <a:xfrm>
            <a:off x="5572080" y="1500120"/>
            <a:ext cx="3322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"/>
          <p:cNvSpPr/>
          <p:nvPr/>
        </p:nvSpPr>
        <p:spPr>
          <a:xfrm>
            <a:off x="714240" y="5716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2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7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5 – Х + 9 = 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2 Х – 23 = 5 Х -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У = -2Х точка В (200; -4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7143840" y="59292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2"/>
          <p:cNvSpPr/>
          <p:nvPr/>
        </p:nvSpPr>
        <p:spPr>
          <a:xfrm>
            <a:off x="214200" y="357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 – 3 б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785880" y="1714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3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CBIZ054"/>
          <p:cNvPicPr/>
          <p:nvPr/>
        </p:nvPicPr>
        <p:blipFill>
          <a:blip r:embed="rId1"/>
          <a:stretch/>
        </p:blipFill>
        <p:spPr>
          <a:xfrm flipH="1">
            <a:off x="4214520" y="2786040"/>
            <a:ext cx="3492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1000080" y="642960"/>
            <a:ext cx="657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714240" y="57168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Lucida Sans Unicode"/>
              </a:rPr>
              <a:t>4. Математический </a:t>
            </a:r>
            <a:r>
              <a:rPr b="0" lang="ru-RU" sz="4000" spc="-1" strike="noStrike">
                <a:solidFill>
                  <a:srgbClr val="002060"/>
                </a:solidFill>
                <a:latin typeface="Lucida Sans Unicode"/>
              </a:rPr>
              <a:t>поединок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714240" y="128592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2060"/>
                </a:solidFill>
                <a:uFillTx/>
                <a:latin typeface="Lucida Sans Unicode"/>
              </a:rPr>
              <a:t>Вопросы 3 коман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Является ли число 8 корнем 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Х – 15 = 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7143840" y="263052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857160" y="335772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2. Решите уравнение:     4 Х – 4 = 2 Х - 1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7215120" y="40006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785880" y="46432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3. Принадлежит ли графику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 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Lucida Sans Unicode"/>
              </a:rPr>
              <a:t>У = ½ Х точка  С (400; 200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7143840" y="5786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Каждая команда получает по 9 вопросо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CRCTR537"/>
          <p:cNvPicPr/>
          <p:nvPr/>
        </p:nvPicPr>
        <p:blipFill>
          <a:blip r:embed="rId2"/>
          <a:stretch/>
        </p:blipFill>
        <p:spPr>
          <a:xfrm>
            <a:off x="5357880" y="2071800"/>
            <a:ext cx="334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SCRIBECO"/>
          <p:cNvPicPr/>
          <p:nvPr/>
        </p:nvPicPr>
        <p:blipFill>
          <a:blip r:embed="rId2"/>
          <a:stretch/>
        </p:blipFill>
        <p:spPr>
          <a:xfrm>
            <a:off x="5000760" y="1500120"/>
            <a:ext cx="309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6840" y="1213920"/>
            <a:ext cx="854388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.  Каким условиям должны удовлетворять две дроби, чтобы их произведение равнялось 1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1384200" y="268200"/>
            <a:ext cx="7309080" cy="11588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4357800" y="214308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Взаимно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обратные :        ½·²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714240" y="2714760"/>
            <a:ext cx="79297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2.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Вычесть из числа 2 такое число, чтобы разность была числом, противоположным уменьшаемому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5572080" y="40719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Georgia"/>
              </a:rPr>
              <a:t>2-4=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одержимое 1"/>
          <p:cNvSpPr/>
          <p:nvPr/>
        </p:nvSpPr>
        <p:spPr>
          <a:xfrm>
            <a:off x="457200" y="4481640"/>
            <a:ext cx="82296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3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002060"/>
                </a:solidFill>
                <a:latin typeface="Georgia"/>
              </a:rPr>
              <a:t>Как называется треугольник, у которого все стороны рав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7"/>
          <p:cNvSpPr/>
          <p:nvPr/>
        </p:nvSpPr>
        <p:spPr>
          <a:xfrm>
            <a:off x="4286160" y="5500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Georgia"/>
              </a:rPr>
              <a:t>равносторон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Равнобедренный треугольник 8"/>
          <p:cNvSpPr/>
          <p:nvPr/>
        </p:nvSpPr>
        <p:spPr>
          <a:xfrm>
            <a:off x="7000920" y="5286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4" descr="CRCTR605"/>
          <p:cNvPicPr/>
          <p:nvPr/>
        </p:nvPicPr>
        <p:blipFill>
          <a:blip r:embed="rId2"/>
          <a:stretch/>
        </p:blipFill>
        <p:spPr>
          <a:xfrm>
            <a:off x="5643720" y="2143080"/>
            <a:ext cx="338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CBIZ054"/>
          <p:cNvPicPr/>
          <p:nvPr/>
        </p:nvPicPr>
        <p:blipFill>
          <a:blip r:embed="rId2"/>
          <a:stretch/>
        </p:blipFill>
        <p:spPr>
          <a:xfrm flipH="1">
            <a:off x="4143240" y="3392640"/>
            <a:ext cx="46720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611280" y="765000"/>
            <a:ext cx="3768480" cy="545148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5"/>
          <p:cNvSpPr/>
          <p:nvPr/>
        </p:nvSpPr>
        <p:spPr>
          <a:xfrm rot="271800">
            <a:off x="4284720" y="1773000"/>
            <a:ext cx="4552920" cy="2016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1f28"/>
                </a:solidFill>
                <a:latin typeface="Lucida Sans Unicode"/>
              </a:rPr>
              <a:t>Спасибо 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a1f28"/>
                </a:solidFill>
                <a:latin typeface="Lucida Sans Unicode"/>
              </a:rPr>
              <a:t>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857160" y="2858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4. График какой функции лишний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Object 2"/>
          <p:cNvGraphicFramePr/>
          <p:nvPr/>
        </p:nvGraphicFramePr>
        <p:xfrm>
          <a:off x="642960" y="1500120"/>
          <a:ext cx="2860560" cy="31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500120"/>
                    <a:ext cx="286056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3"/>
          <p:cNvGraphicFramePr/>
          <p:nvPr/>
        </p:nvGraphicFramePr>
        <p:xfrm>
          <a:off x="3571920" y="1428840"/>
          <a:ext cx="2860560" cy="310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142884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6140520" y="1357200"/>
          <a:ext cx="2860560" cy="3102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0520" y="1357200"/>
                    <a:ext cx="286056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1400040" y="3757680"/>
          <a:ext cx="2814840" cy="30574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0040" y="3757680"/>
                    <a:ext cx="2814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4429080" y="3800520"/>
          <a:ext cx="2957400" cy="3014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29080" y="3800520"/>
                    <a:ext cx="29574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TextBox 14"/>
          <p:cNvSpPr/>
          <p:nvPr/>
        </p:nvSpPr>
        <p:spPr>
          <a:xfrm>
            <a:off x="857160" y="857160"/>
            <a:ext cx="700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5. </a:t>
            </a: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На каком рисунке изображен график прямой пропорциональност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6"/>
          <p:cNvSpPr/>
          <p:nvPr/>
        </p:nvSpPr>
        <p:spPr>
          <a:xfrm>
            <a:off x="7072200" y="6000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7"/>
          <p:cNvSpPr/>
          <p:nvPr/>
        </p:nvSpPr>
        <p:spPr>
          <a:xfrm>
            <a:off x="6572160" y="16304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8"/>
          <p:cNvSpPr/>
          <p:nvPr/>
        </p:nvSpPr>
        <p:spPr>
          <a:xfrm>
            <a:off x="4000680" y="59166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9"/>
          <p:cNvSpPr/>
          <p:nvPr/>
        </p:nvSpPr>
        <p:spPr>
          <a:xfrm>
            <a:off x="400068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"/>
          <p:cNvSpPr/>
          <p:nvPr/>
        </p:nvSpPr>
        <p:spPr>
          <a:xfrm>
            <a:off x="57168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1"/>
          <p:cNvSpPr/>
          <p:nvPr/>
        </p:nvSpPr>
        <p:spPr>
          <a:xfrm>
            <a:off x="7786800" y="2858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2"/>
          <p:cNvSpPr/>
          <p:nvPr/>
        </p:nvSpPr>
        <p:spPr>
          <a:xfrm>
            <a:off x="7786800" y="1000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Каждая команда готовит по два вопроса другой команд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1" descr="CRCTR013"/>
          <p:cNvPicPr/>
          <p:nvPr/>
        </p:nvPicPr>
        <p:blipFill>
          <a:blip r:embed="rId2"/>
          <a:stretch/>
        </p:blipFill>
        <p:spPr>
          <a:xfrm flipH="1">
            <a:off x="1214280" y="2714760"/>
            <a:ext cx="1873440" cy="29527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http://gloubiweb.free.fr/clipartsA10/pers265.gif"/>
          <p:cNvPicPr/>
          <p:nvPr/>
        </p:nvPicPr>
        <p:blipFill>
          <a:blip r:embed="rId3"/>
          <a:stretch/>
        </p:blipFill>
        <p:spPr>
          <a:xfrm>
            <a:off x="5786280" y="3467160"/>
            <a:ext cx="15051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85672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6">
            <a:hlinkClick r:id="rId2" action="ppaction://hlinksldjump"/>
          </p:cNvPr>
          <p:cNvSpPr/>
          <p:nvPr/>
        </p:nvSpPr>
        <p:spPr>
          <a:xfrm>
            <a:off x="328608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8">
            <a:hlinkClick r:id="rId3" action="ppaction://hlinksldjump"/>
          </p:cNvPr>
          <p:cNvSpPr/>
          <p:nvPr/>
        </p:nvSpPr>
        <p:spPr>
          <a:xfrm>
            <a:off x="2214720" y="185724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4" action="ppaction://hlinksldjump"/>
          </p:cNvPr>
          <p:cNvSpPr/>
          <p:nvPr/>
        </p:nvSpPr>
        <p:spPr>
          <a:xfrm>
            <a:off x="530064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4429080" y="1857240"/>
            <a:ext cx="85716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7572240" y="385776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12"/>
          <p:cNvSpPr/>
          <p:nvPr/>
        </p:nvSpPr>
        <p:spPr>
          <a:xfrm>
            <a:off x="6858000" y="1857240"/>
            <a:ext cx="914400" cy="9144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3"/>
          <p:cNvSpPr/>
          <p:nvPr/>
        </p:nvSpPr>
        <p:spPr>
          <a:xfrm>
            <a:off x="2357280" y="2000160"/>
            <a:ext cx="571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7715160" y="32148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5"/>
          <p:cNvSpPr/>
          <p:nvPr/>
        </p:nvSpPr>
        <p:spPr>
          <a:xfrm>
            <a:off x="7072200" y="120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6"/>
          <p:cNvSpPr/>
          <p:nvPr/>
        </p:nvSpPr>
        <p:spPr>
          <a:xfrm>
            <a:off x="4572000" y="113040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5429160" y="320184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8"/>
          <p:cNvSpPr/>
          <p:nvPr/>
        </p:nvSpPr>
        <p:spPr>
          <a:xfrm>
            <a:off x="3571920" y="321480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2357280" y="12142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Lucida Sans Unicode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Стрелка вправо с вырезом 20"/>
          <p:cNvSpPr/>
          <p:nvPr/>
        </p:nvSpPr>
        <p:spPr>
          <a:xfrm>
            <a:off x="6929280" y="5715000"/>
            <a:ext cx="978120" cy="484200"/>
          </a:xfrm>
          <a:custGeom>
            <a:avLst/>
            <a:gdLst>
              <a:gd name="textAreaLeft" fmla="*/ 120960 w 978120"/>
              <a:gd name="textAreaRight" fmla="*/ 857160 w 9781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CRCTR537"/>
          <p:cNvPicPr/>
          <p:nvPr/>
        </p:nvPicPr>
        <p:blipFill>
          <a:blip r:embed="rId5"/>
          <a:stretch/>
        </p:blipFill>
        <p:spPr>
          <a:xfrm>
            <a:off x="0" y="2567160"/>
            <a:ext cx="334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Содержимое 1"/>
          <p:cNvSpPr/>
          <p:nvPr/>
        </p:nvSpPr>
        <p:spPr>
          <a:xfrm>
            <a:off x="642960" y="2000160"/>
            <a:ext cx="6757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Lucida Sans Unicode"/>
              </a:rPr>
              <a:t>1. Сколько нечетных чисел заключено между числами 300 и 700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286760" y="3500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Блок-схема: ИЛИ 6"/>
          <p:cNvSpPr/>
          <p:nvPr/>
        </p:nvSpPr>
        <p:spPr>
          <a:xfrm>
            <a:off x="7143840" y="471492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4"/>
          <p:cNvSpPr/>
          <p:nvPr/>
        </p:nvSpPr>
        <p:spPr>
          <a:xfrm>
            <a:off x="785880" y="164304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Кирпич весит 2 кг и еще треть собственного веса. Сколько весит кирпи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7500960" y="2643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3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Блок-схема: ИЛИ 10"/>
          <p:cNvSpPr/>
          <p:nvPr/>
        </p:nvSpPr>
        <p:spPr>
          <a:xfrm>
            <a:off x="7143840" y="471492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148104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Lucida Sans Unicode"/>
              </a:rPr>
              <a:t>3</a:t>
            </a:r>
            <a:r>
              <a:rPr b="0" lang="ru-RU" sz="2000" spc="-1" strike="noStrike">
                <a:solidFill>
                  <a:srgbClr val="002060"/>
                </a:solidFill>
                <a:latin typeface="Lucida Sans Unicode"/>
              </a:rPr>
              <a:t>.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На числовой прямой отмечены две точки. В каком месте этой прямой расположена точка, соответствующая их среднему арифметическому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7286760" y="42148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середине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Блок-схема: ИЛИ 5"/>
          <p:cNvSpPr/>
          <p:nvPr/>
        </p:nvSpPr>
        <p:spPr>
          <a:xfrm>
            <a:off x="7358040" y="5643720"/>
            <a:ext cx="1184400" cy="89820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500040" y="100008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.        При каком значении Х значение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У = - 0,5 Х + 1 равно 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857160" y="2214720"/>
            <a:ext cx="3929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2060"/>
              </a:buClr>
              <a:buFont typeface="Lucida Sans Unicod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Х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2) Х 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3) Х =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3"/>
          <p:cNvSpPr/>
          <p:nvPr/>
        </p:nvSpPr>
        <p:spPr>
          <a:xfrm>
            <a:off x="5429160" y="484488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2</a:t>
            </a: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) Х = -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Блок-схема: ИЛИ 4"/>
          <p:cNvSpPr/>
          <p:nvPr/>
        </p:nvSpPr>
        <p:spPr>
          <a:xfrm>
            <a:off x="7429680" y="5786280"/>
            <a:ext cx="1184040" cy="898560"/>
          </a:xfrm>
          <a:prstGeom prst="flowChartOr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4:26:37Z</dcterms:created>
  <dc:creator>Денис</dc:creator>
  <dc:description/>
  <dc:language>en-US</dc:language>
  <cp:lastModifiedBy>Денис</cp:lastModifiedBy>
  <dcterms:modified xsi:type="dcterms:W3CDTF">2010-11-04T11:31:24Z</dcterms:modified>
  <cp:revision>20</cp:revision>
  <dc:subject/>
  <dc:title>Счастливый случай</dc:title>
</cp:coreProperties>
</file>