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15.wmf" ContentType="image/x-wmf"/>
  <Override PartName="/ppt/media/image3.png" ContentType="image/png"/>
  <Override PartName="/ppt/media/image26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8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2.png" ContentType="image/png"/>
  <Override PartName="/ppt/media/image25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479-EB71-4950-845D-9101AFC9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A60-F7EC-4490-8297-93403941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086-25BE-4EE9-AC8E-3069724A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CC7-364B-4458-8760-CEA46972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BB8C-291C-4D7F-A4AB-EBCE8D33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77EB-1F21-427B-A51C-F4963E24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3302-0FF7-443A-B6D3-C46236F2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5A5C-F8D0-4D39-B9D1-58EFB63A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421D-5BBC-4FB1-BAB1-FBE34E99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9C53-2F3B-41C3-AFF7-61AD348B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DF90-AC48-4201-9B59-A8946528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FFF-5F1C-4FEF-A8EF-14E17E74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DF11-8EC2-4A52-BD1C-6B2F3507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3A27-A76A-42B5-81BA-525EE99C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D73B-06E2-449C-B27E-93857FD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049D-B44C-4A60-9437-D067BF09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B509-F670-422C-81E4-E021CFE5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4D87-B31B-4FA4-B0BA-27CF6C1B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AD4A-5F87-420E-9C3E-DC09CFE2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5BAA-3AEF-4750-ADB4-AF25462F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5169-D858-468F-BF57-CEABE3D1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A6A84-E743-4905-B4ED-DB8A26ED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AD3-3F22-4EF4-82B0-CAA8762C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7E53-3EB5-4E3E-8A40-6DE10E5F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19E6-083D-4BCD-85D5-14B047D3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B2B5-058C-4425-AEEA-274C305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42E5-B6DA-4FB7-81F0-DABE7486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2576-E623-43BF-AE6B-CCA74892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9217-A4CB-41EF-B634-1756D3DC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69B8-A7E3-4FA8-AB67-5D7C81FC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1B3A-C8D9-4EED-8D38-45BA6C4D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479DD-3715-4DEF-AC72-A6C5F5CC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D2207-5199-4895-BC0A-93525F4E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C87-17A9-49B8-A54F-ED4CB256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FAA5-7E89-4487-B0D6-4AADCF29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4B57-4F41-4F34-96C5-D86012C9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F943-FF6E-4EBB-B807-21574587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11B9-5240-4F60-ACC9-D95560E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D44A-6910-4F42-9D89-78644B2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4555-828E-4DC4-B9C9-153DDB3F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733B-B184-4E79-9448-29E4BDE4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D686-CC69-429C-B50F-AE2FF0D8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59538-2EAF-4DD4-BCE6-6EE5A40A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58907-916B-41E4-89BD-13940A7A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745-E625-4405-9797-4C375230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C473-213D-4D4A-BA05-1BB29788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06669-7159-4C3D-A8E7-CE7689B6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496BE-2ED4-4FCD-BB1A-542BA63B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722E-6EC9-4011-90E5-0F6E241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1A859-D4B4-430B-A869-03ED3D79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BF4CE-791D-46AE-AE0E-C2035270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B58F-BF10-4480-BC65-FD88FDC1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2AA35-35E1-4C8C-9B16-37988FB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92A8-718A-4120-B489-BB6E9D2A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C256-D16E-4E87-935C-726A8D1F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244-DC0F-448D-8BE0-E0B7D15C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8421E-B1CA-4FDC-86B5-40A5823F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806F2-BB70-41CF-AA3A-9EDE6613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A7B52-CBD8-4E0B-BC30-05B75FC4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A1153-AA4C-4FAC-A5AF-BB9C460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6FB72-AFDB-4E39-8F9F-3C473F0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EA026-4F58-4041-8F46-1040B784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DE1AF-3857-4DFC-86F4-FE10A088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7D03E-2909-48C4-8269-0C3CA7D4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ABD37-DC93-418D-ABF4-A7F8CB80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E0875-8C8B-4348-BB6C-813610B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721-835B-4894-A1CD-1042FAE5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A07D1-80EC-4B14-94D8-ADFFCE4B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07CAE-BACB-4DF6-B9C3-D6F702FE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6516-B9D6-43C1-9BCD-1CBB9B17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61468-0471-4910-8DDD-BA705DE9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F601-4157-45CC-8AA9-278B2851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C39B0-ED26-41D1-87DC-F261C58A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D364D-60FA-4014-AC7A-94D007D5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1238B-2C0F-4596-929F-C96E0CFD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76EC7-D75A-4848-8FF7-8E424F5B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22EBA-2D03-4B98-B8DC-97B913C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060-192F-411C-B069-01B43E55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9A57-B0C6-4268-8C72-46DA8C15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8602E-E093-43E9-A0C1-37CF724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70507-7539-4CE9-BD2F-47768CEB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8CB4-C638-49D2-A910-55C65F68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192CD-FA0E-44BA-9E3C-3C87AB92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7320E-430E-4455-AEAE-119295BD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DEEAC-8DB2-4D76-83A3-B204CD5E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DDA83-E762-4DE5-84A1-573CD525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0D5E6-92F5-453F-ABBE-05DBB31E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ACF40-7AB0-4023-B3B0-4DF117B9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C2C-401A-4ACF-8272-E61F6B07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DDA2A-D29B-43DA-B682-EEE2BFFC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DDB1E-0498-4414-8D0B-B760B867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115C6-D5A8-45D1-85C7-FEBDD0B5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F3E97-098A-422A-A199-7153F5B6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09850-6230-401F-9068-68BAB970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27418-CAD1-47AD-BCD3-EB7A08D4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CFDEB-88E8-446C-ABF8-EB24534D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9B6-9C57-4AA7-B1A3-1E0597C66F3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D84B-9355-4560-913B-01052B4B575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7B33-25D3-4176-AF08-B3554E0E106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8DC5-8901-40D6-AF04-46079CD949A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3B3B-7D14-4989-BF4E-BB95B9AF351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E7D-F88F-4C52-BE2E-5A5CF2EE9AB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8BB9-DF5F-4416-9ED7-2ACE41325DC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2ED9-AE29-406E-A06B-E7406AEDBAC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9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596880" y="1749600"/>
            <a:ext cx="81756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28760" y="5500800"/>
            <a:ext cx="521496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Georgia"/>
              </a:rPr>
              <a:t>Учитель математики Львовской СОШ №4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Georgia"/>
              </a:rPr>
              <a:t>Билетова Н.В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2060"/>
                </a:solidFill>
                <a:latin typeface="Georgia"/>
              </a:rPr>
              <a:t>ноябрь 2010 г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4" descr="http://gloubiweb.free.fr/clipartsA9/ogjets272.gif"/>
          <p:cNvPicPr/>
          <p:nvPr/>
        </p:nvPicPr>
        <p:blipFill>
          <a:blip r:embed="rId2"/>
          <a:stretch/>
        </p:blipFill>
        <p:spPr>
          <a:xfrm>
            <a:off x="7267680" y="3143160"/>
            <a:ext cx="1876320" cy="1781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://gloubiweb.free.fr/clipartsA9/ogjets274.gif"/>
          <p:cNvPicPr/>
          <p:nvPr/>
        </p:nvPicPr>
        <p:blipFill>
          <a:blip r:embed="rId3"/>
          <a:stretch/>
        </p:blipFill>
        <p:spPr>
          <a:xfrm>
            <a:off x="857160" y="357120"/>
            <a:ext cx="14875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1000080" y="57168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5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. Принадлежит ли точ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 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С (-2; 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графику линейной фун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  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У = - 0,5 Х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"/>
          <p:cNvSpPr/>
          <p:nvPr/>
        </p:nvSpPr>
        <p:spPr>
          <a:xfrm>
            <a:off x="1428840" y="342900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Нет:    У = - 0,5 * (-2) +1 = 2 #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Блок-схема: ИЛИ 3"/>
          <p:cNvSpPr/>
          <p:nvPr/>
        </p:nvSpPr>
        <p:spPr>
          <a:xfrm>
            <a:off x="7429680" y="578628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2"/>
          <p:cNvGraphicFramePr/>
          <p:nvPr/>
        </p:nvGraphicFramePr>
        <p:xfrm>
          <a:off x="2857680" y="2357280"/>
          <a:ext cx="609912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2357280"/>
                    <a:ext cx="6099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Box 2"/>
          <p:cNvSpPr/>
          <p:nvPr/>
        </p:nvSpPr>
        <p:spPr>
          <a:xfrm>
            <a:off x="428760" y="35712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6. На рисунке изображены графики следующих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3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- 3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Х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Под каким номером расположен график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- 3 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1071720" y="44164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Блок-схема: ИЛИ 4"/>
          <p:cNvSpPr/>
          <p:nvPr/>
        </p:nvSpPr>
        <p:spPr>
          <a:xfrm>
            <a:off x="7429680" y="578628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SCRIBECO"/>
          <p:cNvPicPr/>
          <p:nvPr/>
        </p:nvPicPr>
        <p:blipFill>
          <a:blip r:embed="rId1"/>
          <a:stretch/>
        </p:blipFill>
        <p:spPr>
          <a:xfrm>
            <a:off x="5273640" y="157320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444" name="TextBox 2"/>
          <p:cNvSpPr/>
          <p:nvPr/>
        </p:nvSpPr>
        <p:spPr>
          <a:xfrm>
            <a:off x="214200" y="357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 – 3 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714240" y="178596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1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1000080" y="642960"/>
            <a:ext cx="657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"/>
          <p:cNvSpPr/>
          <p:nvPr/>
        </p:nvSpPr>
        <p:spPr>
          <a:xfrm>
            <a:off x="214200" y="357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 – 3 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714240" y="128592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1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Является ли число 7 корнем 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2Х – 5 = Х +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"/>
          <p:cNvSpPr/>
          <p:nvPr/>
        </p:nvSpPr>
        <p:spPr>
          <a:xfrm>
            <a:off x="7143840" y="263052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857160" y="33577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2. Решите уравнение:     5 Х – 7 = 9 Х + 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7215120" y="40006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7"/>
          <p:cNvSpPr/>
          <p:nvPr/>
        </p:nvSpPr>
        <p:spPr>
          <a:xfrm>
            <a:off x="785880" y="4643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3. Принадлежит ли графику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У = 2Х точка А (400; 200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7143840" y="5786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2"/>
          <p:cNvSpPr/>
          <p:nvPr/>
        </p:nvSpPr>
        <p:spPr>
          <a:xfrm>
            <a:off x="214200" y="357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 – 3 б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785880" y="171468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2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CRCTR605"/>
          <p:cNvPicPr/>
          <p:nvPr/>
        </p:nvPicPr>
        <p:blipFill>
          <a:blip r:embed="rId1"/>
          <a:stretch/>
        </p:blipFill>
        <p:spPr>
          <a:xfrm>
            <a:off x="5572080" y="1500120"/>
            <a:ext cx="3322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"/>
          <p:cNvSpPr/>
          <p:nvPr/>
        </p:nvSpPr>
        <p:spPr>
          <a:xfrm>
            <a:off x="1000080" y="642960"/>
            <a:ext cx="657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"/>
          <p:cNvSpPr/>
          <p:nvPr/>
        </p:nvSpPr>
        <p:spPr>
          <a:xfrm>
            <a:off x="714240" y="57168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714240" y="128592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2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Является ли число 7 корнем 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5 – Х + 9 = 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7143840" y="263052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857160" y="33577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2. Решите уравнение:     2 Х – 23 = 5 Х -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7215120" y="40006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785880" y="4643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3. Принадлежит ли графику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У = -2Х точка В (200; -400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7143840" y="592920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2"/>
          <p:cNvSpPr/>
          <p:nvPr/>
        </p:nvSpPr>
        <p:spPr>
          <a:xfrm>
            <a:off x="214200" y="357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 – 3 б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785880" y="171468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3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CBIZ054"/>
          <p:cNvPicPr/>
          <p:nvPr/>
        </p:nvPicPr>
        <p:blipFill>
          <a:blip r:embed="rId1"/>
          <a:stretch/>
        </p:blipFill>
        <p:spPr>
          <a:xfrm flipH="1">
            <a:off x="4214520" y="2786040"/>
            <a:ext cx="3492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1"/>
          <p:cNvSpPr/>
          <p:nvPr/>
        </p:nvSpPr>
        <p:spPr>
          <a:xfrm>
            <a:off x="1000080" y="642960"/>
            <a:ext cx="657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714240" y="57168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714240" y="128592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3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Является ли число 8 корнем 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3Х – 15 = 9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7143840" y="263052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857160" y="33577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2. Решите уравнение:     4 Х – 4 = 2 Х - 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7215120" y="40006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7"/>
          <p:cNvSpPr/>
          <p:nvPr/>
        </p:nvSpPr>
        <p:spPr>
          <a:xfrm>
            <a:off x="785880" y="4643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3. Принадлежит ли графику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У = ½ Х точка  С (400; 200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7143840" y="5786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Lucida Sans Unicode"/>
              </a:rPr>
              <a:t>Каждая команда получает по 9 вопросо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9" descr="CRCTR537"/>
          <p:cNvPicPr/>
          <p:nvPr/>
        </p:nvPicPr>
        <p:blipFill>
          <a:blip r:embed="rId2"/>
          <a:stretch/>
        </p:blipFill>
        <p:spPr>
          <a:xfrm>
            <a:off x="5357880" y="2071800"/>
            <a:ext cx="334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SCRIBECO"/>
          <p:cNvPicPr/>
          <p:nvPr/>
        </p:nvPicPr>
        <p:blipFill>
          <a:blip r:embed="rId2"/>
          <a:stretch/>
        </p:blipFill>
        <p:spPr>
          <a:xfrm>
            <a:off x="5000760" y="1500120"/>
            <a:ext cx="309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6840" y="1213920"/>
            <a:ext cx="8543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.  Каким условиям должны удовлетворять две дроби, чтобы их произведение равнялось 1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1384200" y="268200"/>
            <a:ext cx="7309080" cy="1158840"/>
          </a:xfrm>
          <a:prstGeom prst="rect">
            <a:avLst/>
          </a:prstGeom>
          <a:ln w="0">
            <a:noFill/>
          </a:ln>
        </p:spPr>
      </p:pic>
      <p:sp>
        <p:nvSpPr>
          <p:cNvPr id="376" name="TextBox 3"/>
          <p:cNvSpPr/>
          <p:nvPr/>
        </p:nvSpPr>
        <p:spPr>
          <a:xfrm>
            <a:off x="4357800" y="21430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Взаимно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обратные :        ½·²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714240" y="2714760"/>
            <a:ext cx="79297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2.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Вычесть из числа 2 такое число, чтобы разность была числом, противоположным уменьшаемому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5572080" y="4071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Georgia"/>
              </a:rPr>
              <a:t>2-4=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одержимое 1"/>
          <p:cNvSpPr/>
          <p:nvPr/>
        </p:nvSpPr>
        <p:spPr>
          <a:xfrm>
            <a:off x="457200" y="4481640"/>
            <a:ext cx="82296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Lucida Sans Unicode"/>
              </a:rPr>
              <a:t>3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.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Как называется треугольник, у которого все стороны рав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4286160" y="5500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равносторо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Равнобедренный треугольник 8"/>
          <p:cNvSpPr/>
          <p:nvPr/>
        </p:nvSpPr>
        <p:spPr>
          <a:xfrm>
            <a:off x="7000920" y="5286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CRCTR605"/>
          <p:cNvPicPr/>
          <p:nvPr/>
        </p:nvPicPr>
        <p:blipFill>
          <a:blip r:embed="rId2"/>
          <a:stretch/>
        </p:blipFill>
        <p:spPr>
          <a:xfrm>
            <a:off x="5643720" y="2143080"/>
            <a:ext cx="338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CBIZ054"/>
          <p:cNvPicPr/>
          <p:nvPr/>
        </p:nvPicPr>
        <p:blipFill>
          <a:blip r:embed="rId2"/>
          <a:stretch/>
        </p:blipFill>
        <p:spPr>
          <a:xfrm flipH="1">
            <a:off x="4143240" y="3392640"/>
            <a:ext cx="46720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611280" y="765000"/>
            <a:ext cx="3768480" cy="545148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5"/>
          <p:cNvSpPr/>
          <p:nvPr/>
        </p:nvSpPr>
        <p:spPr>
          <a:xfrm rot="271800">
            <a:off x="4284720" y="1773000"/>
            <a:ext cx="4552920" cy="20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a1f28"/>
                </a:solidFill>
                <a:latin typeface="Lucida Sans Unicode"/>
              </a:rPr>
              <a:t>Спасибо 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a1f28"/>
                </a:solidFill>
                <a:latin typeface="Lucida Sans Unicode"/>
              </a:rPr>
              <a:t>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857160" y="28584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Lucida Sans Unicode"/>
              </a:rPr>
              <a:t>4. График какой функции лишний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2"/>
          <p:cNvGraphicFramePr/>
          <p:nvPr/>
        </p:nvGraphicFramePr>
        <p:xfrm>
          <a:off x="642960" y="1500120"/>
          <a:ext cx="2860560" cy="31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500120"/>
                    <a:ext cx="286056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3"/>
          <p:cNvGraphicFramePr/>
          <p:nvPr/>
        </p:nvGraphicFramePr>
        <p:xfrm>
          <a:off x="3571920" y="1428840"/>
          <a:ext cx="2860560" cy="3101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142884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6140520" y="1357200"/>
          <a:ext cx="2860560" cy="3102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0520" y="1357200"/>
                    <a:ext cx="286056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"/>
          <p:cNvGraphicFramePr/>
          <p:nvPr/>
        </p:nvGraphicFramePr>
        <p:xfrm>
          <a:off x="1400040" y="3757680"/>
          <a:ext cx="2814840" cy="30574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0040" y="3757680"/>
                    <a:ext cx="2814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4429080" y="3800520"/>
          <a:ext cx="2957400" cy="3014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9080" y="3800520"/>
                    <a:ext cx="29574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TextBox 14"/>
          <p:cNvSpPr/>
          <p:nvPr/>
        </p:nvSpPr>
        <p:spPr>
          <a:xfrm>
            <a:off x="857160" y="857160"/>
            <a:ext cx="700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5. </a:t>
            </a:r>
            <a:r>
              <a:rPr b="0" lang="ru-RU" sz="2000" spc="-1" strike="noStrike">
                <a:solidFill>
                  <a:srgbClr val="002060"/>
                </a:solidFill>
                <a:latin typeface="Lucida Sans Unicode"/>
              </a:rPr>
              <a:t>На каком рисунке изображен график прямой пропорциональности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6"/>
          <p:cNvSpPr/>
          <p:nvPr/>
        </p:nvSpPr>
        <p:spPr>
          <a:xfrm>
            <a:off x="7072200" y="6000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7"/>
          <p:cNvSpPr/>
          <p:nvPr/>
        </p:nvSpPr>
        <p:spPr>
          <a:xfrm>
            <a:off x="6572160" y="16304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8"/>
          <p:cNvSpPr/>
          <p:nvPr/>
        </p:nvSpPr>
        <p:spPr>
          <a:xfrm>
            <a:off x="4000680" y="59166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9"/>
          <p:cNvSpPr/>
          <p:nvPr/>
        </p:nvSpPr>
        <p:spPr>
          <a:xfrm>
            <a:off x="4000680" y="170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"/>
          <p:cNvSpPr/>
          <p:nvPr/>
        </p:nvSpPr>
        <p:spPr>
          <a:xfrm>
            <a:off x="571680" y="170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1"/>
          <p:cNvSpPr/>
          <p:nvPr/>
        </p:nvSpPr>
        <p:spPr>
          <a:xfrm>
            <a:off x="7786800" y="28584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2"/>
          <p:cNvSpPr/>
          <p:nvPr/>
        </p:nvSpPr>
        <p:spPr>
          <a:xfrm>
            <a:off x="7786800" y="1000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Lucida Sans Unicode"/>
              </a:rPr>
              <a:t>Каждая команда готовит по два вопроса другой команд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1" descr="CRCTR013"/>
          <p:cNvPicPr/>
          <p:nvPr/>
        </p:nvPicPr>
        <p:blipFill>
          <a:blip r:embed="rId2"/>
          <a:stretch/>
        </p:blipFill>
        <p:spPr>
          <a:xfrm flipH="1">
            <a:off x="1214280" y="2714760"/>
            <a:ext cx="1873440" cy="2952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http://gloubiweb.free.fr/clipartsA10/pers265.gif"/>
          <p:cNvPicPr/>
          <p:nvPr/>
        </p:nvPicPr>
        <p:blipFill>
          <a:blip r:embed="rId3"/>
          <a:stretch/>
        </p:blipFill>
        <p:spPr>
          <a:xfrm>
            <a:off x="5786280" y="3467160"/>
            <a:ext cx="15051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85672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6">
            <a:hlinkClick r:id="rId2" action="ppaction://hlinksldjump"/>
          </p:cNvPr>
          <p:cNvSpPr/>
          <p:nvPr/>
        </p:nvSpPr>
        <p:spPr>
          <a:xfrm>
            <a:off x="3286080" y="385776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8">
            <a:hlinkClick r:id="rId3" action="ppaction://hlinksldjump"/>
          </p:cNvPr>
          <p:cNvSpPr/>
          <p:nvPr/>
        </p:nvSpPr>
        <p:spPr>
          <a:xfrm>
            <a:off x="2214720" y="185724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">
            <a:hlinkClick r:id="rId4" action="ppaction://hlinksldjump"/>
          </p:cNvPr>
          <p:cNvSpPr/>
          <p:nvPr/>
        </p:nvSpPr>
        <p:spPr>
          <a:xfrm>
            <a:off x="5300640" y="385776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0"/>
          <p:cNvSpPr/>
          <p:nvPr/>
        </p:nvSpPr>
        <p:spPr>
          <a:xfrm>
            <a:off x="4429080" y="1857240"/>
            <a:ext cx="85716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1"/>
          <p:cNvSpPr/>
          <p:nvPr/>
        </p:nvSpPr>
        <p:spPr>
          <a:xfrm>
            <a:off x="7572240" y="385776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2"/>
          <p:cNvSpPr/>
          <p:nvPr/>
        </p:nvSpPr>
        <p:spPr>
          <a:xfrm>
            <a:off x="6858000" y="185724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2357280" y="2000160"/>
            <a:ext cx="571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7715160" y="32148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5"/>
          <p:cNvSpPr/>
          <p:nvPr/>
        </p:nvSpPr>
        <p:spPr>
          <a:xfrm>
            <a:off x="7072200" y="120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6"/>
          <p:cNvSpPr/>
          <p:nvPr/>
        </p:nvSpPr>
        <p:spPr>
          <a:xfrm>
            <a:off x="4572000" y="11304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429160" y="320184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3571920" y="3214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2357280" y="12142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право с вырезом 20"/>
          <p:cNvSpPr/>
          <p:nvPr/>
        </p:nvSpPr>
        <p:spPr>
          <a:xfrm>
            <a:off x="6929280" y="571500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CRCTR537"/>
          <p:cNvPicPr/>
          <p:nvPr/>
        </p:nvPicPr>
        <p:blipFill>
          <a:blip r:embed="rId5"/>
          <a:stretch/>
        </p:blipFill>
        <p:spPr>
          <a:xfrm>
            <a:off x="0" y="2567160"/>
            <a:ext cx="334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Содержимое 1"/>
          <p:cNvSpPr/>
          <p:nvPr/>
        </p:nvSpPr>
        <p:spPr>
          <a:xfrm>
            <a:off x="642960" y="2000160"/>
            <a:ext cx="6757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1. Сколько нечетных чисел заключено между числами 300 и 700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7286760" y="3500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Блок-схема: ИЛИ 6"/>
          <p:cNvSpPr/>
          <p:nvPr/>
        </p:nvSpPr>
        <p:spPr>
          <a:xfrm>
            <a:off x="7143840" y="471492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4"/>
          <p:cNvSpPr/>
          <p:nvPr/>
        </p:nvSpPr>
        <p:spPr>
          <a:xfrm>
            <a:off x="785880" y="164304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2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. Кирпич весит 2 кг и еще треть собственного веса. Сколько весит кирп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7500960" y="2643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3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Блок-схема: ИЛИ 10"/>
          <p:cNvSpPr/>
          <p:nvPr/>
        </p:nvSpPr>
        <p:spPr>
          <a:xfrm>
            <a:off x="7143840" y="471492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Lucida Sans Unicode"/>
              </a:rPr>
              <a:t>3</a:t>
            </a:r>
            <a:r>
              <a:rPr b="0" lang="ru-RU" sz="2000" spc="-1" strike="noStrike">
                <a:solidFill>
                  <a:srgbClr val="002060"/>
                </a:solidFill>
                <a:latin typeface="Lucida Sans Unicode"/>
              </a:rPr>
              <a:t>.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На числовой прямой отмечены две точки. В каком месте этой прямой расположена точка, соответствующая их среднему арифметическому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7286760" y="4214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Посередине 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Блок-схема: ИЛИ 5"/>
          <p:cNvSpPr/>
          <p:nvPr/>
        </p:nvSpPr>
        <p:spPr>
          <a:xfrm>
            <a:off x="7358040" y="5643720"/>
            <a:ext cx="1184400" cy="89820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500040" y="10000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.        При каком значении Х значение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У = - 0,5 Х + 1 равно 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857160" y="2214720"/>
            <a:ext cx="3929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Х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2) Х =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3) Х = -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5429160" y="48448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2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) Х =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Блок-схема: ИЛИ 4"/>
          <p:cNvSpPr/>
          <p:nvPr/>
        </p:nvSpPr>
        <p:spPr>
          <a:xfrm>
            <a:off x="7429680" y="578628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4:26:37Z</dcterms:created>
  <dc:creator>Денис</dc:creator>
  <dc:description/>
  <dc:language>en-US</dc:language>
  <cp:lastModifiedBy>Денис</cp:lastModifiedBy>
  <dcterms:modified xsi:type="dcterms:W3CDTF">2010-11-04T11:31:24Z</dcterms:modified>
  <cp:revision>20</cp:revision>
  <dc:subject/>
  <dc:title>Счастливый случай</dc:title>
</cp:coreProperties>
</file>