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60A-F8D3-4B2B-9523-8E718FDC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3DF-F87F-4760-85F2-81FA89FB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7A9-6139-4006-9193-CD95121F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86B-211E-4BEA-BB64-0D4BD077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0E651-E11C-4FEC-8374-883B4D38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66CB8-1140-4A9B-8DCF-B2D99FF8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2696C-A3E0-4730-8D4E-3419F1F6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30D64-6017-48D8-A557-E97E8202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72FF6-DC34-439F-A81C-C641C08B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FE317-443D-43E2-99A4-B40A1E9D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16980-E7F4-4D43-8EDD-6D0DCFDD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0C1-E169-4CF0-8E13-35979D04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F468A-88BD-423E-8E4E-4ED195DB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600B8-0CA8-4C5B-A1B7-69E49C50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C7EC8-E0E3-4073-8119-154409CC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00F93-59F9-47BA-9B2D-46E767B2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4A808-AA61-49C3-898C-6E1A3EB7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57A-C193-4227-90CB-D0ED1B2F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913-E4FD-43C6-B5DF-5FCD8607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809-667B-4E90-BBC2-BABA8E1C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186-A721-485B-9E8C-F878D29A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F401-9B26-46DD-8C61-4DF3960A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9F0-CD43-45F2-90AD-BCB0061F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B65-D432-4A46-9483-6A8A0CD5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5908-56AB-49B6-AF8D-7314A6FD1F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FEF5-6A90-49AA-BAF5-16BF86700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43653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«В гостях у Нептун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67327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Морские профе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03640" y="1413000"/>
            <a:ext cx="2952720" cy="2344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3825720"/>
            <a:ext cx="4427640" cy="3032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248000" y="3819600"/>
            <a:ext cx="4896000" cy="3038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010200" y="1484280"/>
            <a:ext cx="3133800" cy="1957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0" y="148428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Тигровая кревет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23880" y="1790640"/>
            <a:ext cx="76201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Морской конё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00108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сьмино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рской ска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Физкультминутка !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акие дары моря можно использова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в пищу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Дельфи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048120" y="1628640"/>
            <a:ext cx="6095880" cy="3168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4221000"/>
            <a:ext cx="5327640" cy="2794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0" y="1546200"/>
            <a:ext cx="35640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ни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303516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 чему у него адаптация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564000" y="1990800"/>
            <a:ext cx="55800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2781360"/>
            <a:ext cx="7067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1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280" y="297144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c600"/>
                </a:solidFill>
                <a:latin typeface="Tahoma"/>
              </a:rPr>
              <a:t>Спасибо за внимание 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Водная среда обит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4932360" cy="2565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16360" y="3213000"/>
            <a:ext cx="4427640" cy="364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829040" y="0"/>
            <a:ext cx="4314960" cy="3236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859280" cy="2492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50920" y="4724280"/>
            <a:ext cx="424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Не кузнец, а с клещами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Не кузнец, а с клеща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Tahoma"/>
              </a:rPr>
              <a:t>Загадки 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Какие вы знаете морские профессии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22:23:43Z</dcterms:created>
  <dc:creator>Денис и Настя</dc:creator>
  <dc:description/>
  <dc:language>en-US</dc:language>
  <cp:lastModifiedBy>Денис и Настя</cp:lastModifiedBy>
  <dcterms:modified xsi:type="dcterms:W3CDTF">2012-04-26T10:46:56Z</dcterms:modified>
  <cp:revision>4</cp:revision>
  <dc:subject/>
  <dc:title>«В гостях у Нептуна»</dc:title>
</cp:coreProperties>
</file>