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B57-F501-4FA6-BC98-9B6967C4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0EB-44E4-4746-B5C1-9346E96D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F73-013D-4190-AA41-B3AEB1CF0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86AA-043F-4D3E-AFC9-D4C1DCC5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26939-3759-409A-A300-C340E44C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15504-9B66-4524-8549-D95066E9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5AA83-7AE8-4CA6-9DA7-15BC7781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B9970-459D-46A0-9D6B-F89A3217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92DCC-AF67-4441-9A54-CFDECFEC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30A3-D329-4DF5-9E63-2B4B0543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5F7EC-396F-4D42-BD09-2BD6523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47E-58D0-4706-94B9-D073B0E3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04909-71CC-42A8-9523-7041E95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5C0A7-0A87-47A4-A3BC-6AF2B12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3832F-C0A8-4FA0-A83A-055FC38F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DB860-2161-4EC4-8433-A8F328D5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49062-8D12-4DE1-B3D6-8D3DCF96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4B3-0D21-44F9-AAAC-74579D8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EB8-5613-4D14-97F1-106E9B02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948-F4AD-4DF7-A28A-AD8EA16E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A7B-6CC4-472D-8EFD-8C4D965E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B01-5293-4689-B2CD-77AE8D8E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46B-17FA-4EE3-8599-69D3CD6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932-4176-4E53-9637-B942632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EE49-A809-4AE4-B776-995F4D23C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06D3-6C75-408A-A3E4-0B87E7447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365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«В гостях у Нептун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6732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Морские профе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2952720" cy="2344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825720"/>
            <a:ext cx="4427640" cy="303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248000" y="3819600"/>
            <a:ext cx="4896000" cy="3038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010200" y="1484280"/>
            <a:ext cx="3133800" cy="1957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0" y="1484280"/>
            <a:ext cx="3527280" cy="26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Тигровая креве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3880" y="179064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Морской конё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00108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сьмино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ой ска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Физкультминутка !!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акие дары моря можно использова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в пищу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Дельф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8120" y="1628640"/>
            <a:ext cx="6095880" cy="3168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5327640" cy="279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1546200"/>
            <a:ext cx="35640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8640"/>
            <a:ext cx="303516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 чему у него адаптация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564000" y="1990800"/>
            <a:ext cx="55800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2781360"/>
            <a:ext cx="70675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1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2971440"/>
            <a:ext cx="8218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c600"/>
                </a:solidFill>
                <a:latin typeface="Tahoma"/>
              </a:rPr>
              <a:t>Спасибо за внимание 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Водная среда обит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4932360" cy="2565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829040" y="0"/>
            <a:ext cx="4314960" cy="3236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859280" cy="2492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0920" y="4724280"/>
            <a:ext cx="424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Не кузнец, а с клещами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Не кузнец, а с клещ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Tahoma"/>
              </a:rPr>
              <a:t>Загадки 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Какие вы знаете морские профессии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22:23:43Z</dcterms:created>
  <dc:creator>Денис и Настя</dc:creator>
  <dc:description/>
  <dc:language>en-US</dc:language>
  <cp:lastModifiedBy>Денис и Настя</cp:lastModifiedBy>
  <dcterms:modified xsi:type="dcterms:W3CDTF">2012-04-26T10:46:56Z</dcterms:modified>
  <cp:revision>4</cp:revision>
  <dc:subject/>
  <dc:title>«В гостях у Нептуна»</dc:title>
</cp:coreProperties>
</file>