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9.png" ContentType="image/png"/>
  <Override PartName="/ppt/media/chimes.wav" ContentType="audio/x-wav"/>
  <Override PartName="/ppt/media/image13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8.gif" ContentType="image/gif"/>
  <Override PartName="/ppt/media/image5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11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C86E-7D8D-4B66-9AAD-AD91A61A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625-A9DC-4D5C-8F11-105EAE5F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6C71-AFF1-4595-BACC-73CCD319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A8D2-B642-45E9-8D94-2DD85539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8ED4-6918-4C7D-B39C-EAE1B375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F889-CB89-4C72-88E8-2BA3021D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53EE-E3E9-4DDE-A937-4E3B726B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79A7-4FEC-465A-8EF4-B87A962B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1A98-3DE1-4DC3-B0FF-C369630F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1F6A-58AD-41E3-99D1-37D56C22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3BFE-B91D-4807-906A-D30B1B59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D0B-6694-479E-A413-5251A0E7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C676-0BED-4C53-971A-585AD6B1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45D0-0C37-45F4-B711-6F3A795F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B57B-C7C4-4222-8298-5AC49AB4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7A74-F181-4468-A169-DDB0B72F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8537-36AC-4262-8A87-F5A31E08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F6FD-049B-41E5-B0D9-E842C2EE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0C95-B6C1-4100-8D8B-B9925BA5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81B9-4BA7-47DE-88F4-883D8CD7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FBDD-69F6-45DC-96E4-E6C0C545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9C5-52E5-4F79-B263-7B81B575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D81-11DC-4976-979F-D21821BC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D3B-8339-4DF6-A341-33E66BBA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975D-EC3F-4A42-9114-0F0F8874D3B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0817-ED08-4865-B352-35AAB3B98F5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ЕСЕЛЫЕ ВОПРОСЫ ПО ПД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Содержимое 4" descr="cvetofori-zameniat-na-lazernie.jpg"/>
          <p:cNvPicPr/>
          <p:nvPr/>
        </p:nvPicPr>
        <p:blipFill>
          <a:blip r:embed="rId1"/>
          <a:stretch/>
        </p:blipFill>
        <p:spPr>
          <a:xfrm>
            <a:off x="6357960" y="400068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i.jpeg"/>
          <p:cNvPicPr/>
          <p:nvPr/>
        </p:nvPicPr>
        <p:blipFill>
          <a:blip r:embed="rId2"/>
          <a:stretch/>
        </p:blipFill>
        <p:spPr>
          <a:xfrm>
            <a:off x="1714680" y="2000160"/>
            <a:ext cx="1809720" cy="13575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zn1_8.gif"/>
          <p:cNvPicPr/>
          <p:nvPr/>
        </p:nvPicPr>
        <p:blipFill>
          <a:blip r:embed="rId3"/>
          <a:stretch/>
        </p:blipFill>
        <p:spPr>
          <a:xfrm>
            <a:off x="1000080" y="1571760"/>
            <a:ext cx="1230480" cy="10699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9" descr="44444444444.jpeg"/>
          <p:cNvPicPr/>
          <p:nvPr/>
        </p:nvPicPr>
        <p:blipFill>
          <a:blip r:embed="rId4"/>
          <a:stretch/>
        </p:blipFill>
        <p:spPr>
          <a:xfrm>
            <a:off x="3857760" y="3286080"/>
            <a:ext cx="1704960" cy="19242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2" descr="222222222.jpeg"/>
          <p:cNvPicPr/>
          <p:nvPr/>
        </p:nvPicPr>
        <p:blipFill>
          <a:blip r:embed="rId5"/>
          <a:stretch/>
        </p:blipFill>
        <p:spPr>
          <a:xfrm>
            <a:off x="428760" y="2928960"/>
            <a:ext cx="21826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Tahoma"/>
              </a:rPr>
              <a:t>Задач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оле 9 лет и 5 месяцев. Через какое время мальчику можно сесть на переднее сидень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Рисунок3"/>
          <p:cNvPicPr/>
          <p:nvPr/>
        </p:nvPicPr>
        <p:blipFill>
          <a:blip r:embed="rId1"/>
          <a:stretch/>
        </p:blipFill>
        <p:spPr>
          <a:xfrm>
            <a:off x="3422520" y="3500280"/>
            <a:ext cx="2853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ЗДРАВЛЯЮ!!!!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Ы СПРАВИЛСЯ!!!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16" descr="j0432065"/>
          <p:cNvPicPr/>
          <p:nvPr/>
        </p:nvPicPr>
        <p:blipFill>
          <a:blip r:embed="rId1"/>
          <a:stretch/>
        </p:blipFill>
        <p:spPr>
          <a:xfrm>
            <a:off x="3708360" y="1844640"/>
            <a:ext cx="654120" cy="182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j0411320"/>
          <p:cNvPicPr/>
          <p:nvPr/>
        </p:nvPicPr>
        <p:blipFill>
          <a:blip r:embed="rId2"/>
          <a:stretch/>
        </p:blipFill>
        <p:spPr>
          <a:xfrm>
            <a:off x="1116000" y="3924360"/>
            <a:ext cx="2720880" cy="2171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j0432029"/>
          <p:cNvPicPr/>
          <p:nvPr/>
        </p:nvPicPr>
        <p:blipFill>
          <a:blip r:embed="rId3"/>
          <a:stretch/>
        </p:blipFill>
        <p:spPr>
          <a:xfrm>
            <a:off x="5753160" y="2933640"/>
            <a:ext cx="1827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5716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Какие автомобили могут проехать на красный свет?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207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00"/>
                </a:solidFill>
                <a:latin typeface="Tahoma"/>
              </a:rPr>
              <a:t>-папина и мами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00"/>
                </a:solidFill>
                <a:latin typeface="Tahoma"/>
              </a:rPr>
              <a:t>-такс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00"/>
                </a:solidFill>
                <a:latin typeface="Tahoma"/>
              </a:rPr>
              <a:t>-пожарная, скорая, спецмашин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00"/>
                </a:solidFill>
                <a:latin typeface="Tahoma"/>
              </a:rPr>
              <a:t>-гонч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рисун"/>
          <p:cNvPicPr/>
          <p:nvPr/>
        </p:nvPicPr>
        <p:blipFill>
          <a:blip r:embed="rId1"/>
          <a:stretch/>
        </p:blipFill>
        <p:spPr>
          <a:xfrm>
            <a:off x="179280" y="1752480"/>
            <a:ext cx="2521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На какой дороге транспортные средства лучше тормозят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876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Tahoma"/>
              </a:rPr>
              <a:t>-на мокр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Tahoma"/>
              </a:rPr>
              <a:t>-на обледенел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Tahoma"/>
              </a:rPr>
              <a:t>-с ямка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Tahoma"/>
              </a:rPr>
              <a:t>-на сух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BMWCAR"/>
          <p:cNvPicPr/>
          <p:nvPr/>
        </p:nvPicPr>
        <p:blipFill>
          <a:blip r:embed="rId1"/>
          <a:stretch/>
        </p:blipFill>
        <p:spPr>
          <a:xfrm>
            <a:off x="3780000" y="3503520"/>
            <a:ext cx="536400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ff"/>
                </a:solidFill>
                <a:latin typeface="Tahoma"/>
              </a:rPr>
              <a:t>С какого возраста можно ехать на велосипеде по проезжей части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ccecff"/>
                </a:solidFill>
                <a:latin typeface="Tahoma"/>
              </a:rPr>
              <a:t>когда  выйдешь на пенси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Tahoma"/>
              </a:rPr>
              <a:t>-с самого рожд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Tahoma"/>
              </a:rPr>
              <a:t>-с 14 л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aluno03"/>
          <p:cNvPicPr/>
          <p:nvPr/>
        </p:nvPicPr>
        <p:blipFill>
          <a:blip r:embed="rId1"/>
          <a:stretch/>
        </p:blipFill>
        <p:spPr>
          <a:xfrm>
            <a:off x="5834160" y="3429000"/>
            <a:ext cx="1881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Tahoma"/>
              </a:rPr>
              <a:t>По какой стороне тротуара рекомендуется двигаться пешеходам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Tahoma"/>
              </a:rPr>
              <a:t>-</a:t>
            </a:r>
            <a:r>
              <a:rPr b="0" lang="ru-RU" sz="4000" spc="-1" strike="noStrike">
                <a:solidFill>
                  <a:srgbClr val="33cccc"/>
                </a:solidFill>
                <a:latin typeface="Tahoma"/>
              </a:rPr>
              <a:t>по любо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Tahoma"/>
              </a:rPr>
              <a:t>-по бордюр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Tahoma"/>
              </a:rPr>
              <a:t>- по правой сторон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Tahoma"/>
              </a:rPr>
              <a:t>-по лев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266400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ff"/>
                </a:solidFill>
                <a:latin typeface="Tahoma"/>
              </a:rPr>
              <a:t>Как правильно и безопасно перейти улицу  после выхода из автобуса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-подождать когда транспорт отъеде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-сесть на капот другой машины, и попросить, чтобы перевезл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-перейти по пешеходному переход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Дорогу можно переходить только  на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cc"/>
                </a:solidFill>
                <a:latin typeface="Tahoma"/>
              </a:rPr>
              <a:t>-красный мигающий свет светофо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cc"/>
                </a:solidFill>
                <a:latin typeface="Tahoma"/>
              </a:rPr>
              <a:t>-мигающий  св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cc"/>
                </a:solidFill>
                <a:latin typeface="Tahoma"/>
              </a:rPr>
              <a:t>-зеленый св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cc"/>
                </a:solidFill>
                <a:latin typeface="Tahoma"/>
              </a:rPr>
              <a:t>-желты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bd07304_"/>
          <p:cNvPicPr/>
          <p:nvPr/>
        </p:nvPicPr>
        <p:blipFill>
          <a:blip r:embed="rId1"/>
          <a:stretch/>
        </p:blipFill>
        <p:spPr>
          <a:xfrm>
            <a:off x="5148360" y="2709720"/>
            <a:ext cx="36003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Для чего постовому нужен жезл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Tahoma"/>
              </a:rPr>
              <a:t>-приветствовать знакомы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Tahoma"/>
              </a:rPr>
              <a:t>- отгонять му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Tahoma"/>
              </a:rPr>
              <a:t>-для красо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Tahoma"/>
              </a:rPr>
              <a:t>-регулирова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Tahoma"/>
              </a:rPr>
              <a:t>дорожное движ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448240" y="2421000"/>
            <a:ext cx="34084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Когда загорелся зеленый  свет светофора, что ты будешь делать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33cc33"/>
                </a:solidFill>
                <a:latin typeface="Tahoma"/>
              </a:rPr>
              <a:t>пропустишь всех старушек и даму с собачко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Tahoma"/>
              </a:rPr>
              <a:t>-побежишь со всех но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Tahoma"/>
              </a:rPr>
              <a:t>- останешься стоять на мест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Tahoma"/>
              </a:rPr>
              <a:t>-убедишься, что все транспортные средства остановились и перейдешь дорог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6:19:58Z</dcterms:created>
  <dc:creator>Елена</dc:creator>
  <dc:description/>
  <dc:language>en-US</dc:language>
  <cp:lastModifiedBy>BUH</cp:lastModifiedBy>
  <dcterms:modified xsi:type="dcterms:W3CDTF">2009-09-03T06:22:46Z</dcterms:modified>
  <cp:revision>10</cp:revision>
  <dc:subject/>
  <dc:title>Какие машины могут ехать на красный свет?</dc:title>
</cp:coreProperties>
</file>