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png" ContentType="image/png"/>
  <Override PartName="/ppt/media/chimes.wav" ContentType="audio/x-wav"/>
  <Override PartName="/ppt/media/image13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8.gif" ContentType="image/gif"/>
  <Override PartName="/ppt/media/image5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11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A7B-41DA-42C7-9AF7-4550BA2E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2125-41DB-4313-957A-E18783D4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E66-A1F4-4C3B-8FED-354452EF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940-3130-45DF-A90B-D1A4CA2E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56D5-B543-4D45-8694-769E394A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F518-A331-4122-BF87-4584CE34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24D3-FE55-4E7E-8702-A34E9B37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F2B3-8ECA-40E9-9680-81721B2E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A375-E7CC-4166-8B14-E1C0A724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B9BF-D23D-49E5-850A-703C55FE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63E1-B2D6-4C79-8A7F-5623EC73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EE4-4E87-49C2-B9C5-B32CF6FC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69C1-C28A-4603-97CF-C837BBE3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EFB0-1EDA-48E3-8721-A584E204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B1ED-3B0E-4BCF-91DB-1D46B1B6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71F4-DF0C-4745-94CB-FE5BC491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347F-EF71-4DA8-8D88-BB6B2DE0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B20-9206-44C3-9B3D-F55751E2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A13-353F-49FE-9163-829F3F77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0D4-6763-43FA-BAC2-6AAFA5D8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5FB-48E9-4150-970E-9466ED37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91E-2221-471E-A953-7F0F80D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FDE-9DE1-4B03-BE74-6F2E4939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FF2-678D-4403-9073-676DCE77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6878-F9B5-4746-83AD-07EB0B0492C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8CBD-A1F0-4687-A9C8-96461C2CF16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ЕСЕЛЫЕ ВОПРОСЫ ПО ПД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Содержимое 4" descr="cvetofori-zameniat-na-lazernie.jpg"/>
          <p:cNvPicPr/>
          <p:nvPr/>
        </p:nvPicPr>
        <p:blipFill>
          <a:blip r:embed="rId1"/>
          <a:stretch/>
        </p:blipFill>
        <p:spPr>
          <a:xfrm>
            <a:off x="6357960" y="400068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i.jpeg"/>
          <p:cNvPicPr/>
          <p:nvPr/>
        </p:nvPicPr>
        <p:blipFill>
          <a:blip r:embed="rId2"/>
          <a:stretch/>
        </p:blipFill>
        <p:spPr>
          <a:xfrm>
            <a:off x="1714680" y="2000160"/>
            <a:ext cx="1809720" cy="13575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zn1_8.gif"/>
          <p:cNvPicPr/>
          <p:nvPr/>
        </p:nvPicPr>
        <p:blipFill>
          <a:blip r:embed="rId3"/>
          <a:stretch/>
        </p:blipFill>
        <p:spPr>
          <a:xfrm>
            <a:off x="1000080" y="1571760"/>
            <a:ext cx="1230480" cy="10699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44444444444.jpeg"/>
          <p:cNvPicPr/>
          <p:nvPr/>
        </p:nvPicPr>
        <p:blipFill>
          <a:blip r:embed="rId4"/>
          <a:stretch/>
        </p:blipFill>
        <p:spPr>
          <a:xfrm>
            <a:off x="3857760" y="3286080"/>
            <a:ext cx="1704960" cy="19242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222222222.jpeg"/>
          <p:cNvPicPr/>
          <p:nvPr/>
        </p:nvPicPr>
        <p:blipFill>
          <a:blip r:embed="rId5"/>
          <a:stretch/>
        </p:blipFill>
        <p:spPr>
          <a:xfrm>
            <a:off x="428760" y="2928960"/>
            <a:ext cx="21826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Задач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оле 9 лет и 5 месяцев. Через какое время мальчику можно сесть на переднее сиденье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Рисунок3"/>
          <p:cNvPicPr/>
          <p:nvPr/>
        </p:nvPicPr>
        <p:blipFill>
          <a:blip r:embed="rId1"/>
          <a:stretch/>
        </p:blipFill>
        <p:spPr>
          <a:xfrm>
            <a:off x="3422520" y="3500280"/>
            <a:ext cx="2853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ЗДРАВЛЯЮ!!!!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Ы СПРАВИЛСЯ!!!!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6" descr="j0432065"/>
          <p:cNvPicPr/>
          <p:nvPr/>
        </p:nvPicPr>
        <p:blipFill>
          <a:blip r:embed="rId1"/>
          <a:stretch/>
        </p:blipFill>
        <p:spPr>
          <a:xfrm>
            <a:off x="3708360" y="1844640"/>
            <a:ext cx="654120" cy="182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j0411320"/>
          <p:cNvPicPr/>
          <p:nvPr/>
        </p:nvPicPr>
        <p:blipFill>
          <a:blip r:embed="rId2"/>
          <a:stretch/>
        </p:blipFill>
        <p:spPr>
          <a:xfrm>
            <a:off x="1116000" y="3924360"/>
            <a:ext cx="2720880" cy="2171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j0432029"/>
          <p:cNvPicPr/>
          <p:nvPr/>
        </p:nvPicPr>
        <p:blipFill>
          <a:blip r:embed="rId3"/>
          <a:stretch/>
        </p:blipFill>
        <p:spPr>
          <a:xfrm>
            <a:off x="5753160" y="2933640"/>
            <a:ext cx="1827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Какие автомобили могут проехать на красный свет?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20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00"/>
                </a:solidFill>
                <a:latin typeface="Tahoma"/>
              </a:rPr>
              <a:t>-папина и мам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00"/>
                </a:solidFill>
                <a:latin typeface="Tahoma"/>
              </a:rPr>
              <a:t>-такс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00"/>
                </a:solidFill>
                <a:latin typeface="Tahoma"/>
              </a:rPr>
              <a:t>-пожарная, скорая, спецмашин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cc00"/>
                </a:solidFill>
                <a:latin typeface="Tahoma"/>
              </a:rPr>
              <a:t>-гонч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рисун"/>
          <p:cNvPicPr/>
          <p:nvPr/>
        </p:nvPicPr>
        <p:blipFill>
          <a:blip r:embed="rId1"/>
          <a:stretch/>
        </p:blipFill>
        <p:spPr>
          <a:xfrm>
            <a:off x="179280" y="1752480"/>
            <a:ext cx="2521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На какой дороге транспортные средства лучше тормозят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-на мокр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-на обледенел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-с ямка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Tahoma"/>
              </a:rPr>
              <a:t>-на сух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BMWCAR"/>
          <p:cNvPicPr/>
          <p:nvPr/>
        </p:nvPicPr>
        <p:blipFill>
          <a:blip r:embed="rId1"/>
          <a:stretch/>
        </p:blipFill>
        <p:spPr>
          <a:xfrm>
            <a:off x="3780000" y="3503520"/>
            <a:ext cx="53640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ahoma"/>
              </a:rPr>
              <a:t>С какого возраста можно ехать на велосипеде по проезжей части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ccecff"/>
                </a:solidFill>
                <a:latin typeface="Tahoma"/>
              </a:rPr>
              <a:t>когда  выйдешь на пенси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Tahoma"/>
              </a:rPr>
              <a:t>-с самого рожд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Tahoma"/>
              </a:rPr>
              <a:t>-с 14 л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luno03"/>
          <p:cNvPicPr/>
          <p:nvPr/>
        </p:nvPicPr>
        <p:blipFill>
          <a:blip r:embed="rId1"/>
          <a:stretch/>
        </p:blipFill>
        <p:spPr>
          <a:xfrm>
            <a:off x="5834160" y="3429000"/>
            <a:ext cx="1881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Tahoma"/>
              </a:rPr>
              <a:t>По какой стороне тротуара рекомендуется двигаться пешеходам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cc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по любо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-по бордюр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- по правой сторон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-по лев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26640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Tahoma"/>
              </a:rPr>
              <a:t>Как правильно и безопасно перейти улицу  после выхода из автобуса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-подождать когда транспорт отъеде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-сесть на капот другой машины, и попросить, чтобы перевезл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-перейти по пешеходному переход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Дорогу можно переходить только  на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cc"/>
                </a:solidFill>
                <a:latin typeface="Tahoma"/>
              </a:rPr>
              <a:t>-красный мигающий свет светофо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cc"/>
                </a:solidFill>
                <a:latin typeface="Tahoma"/>
              </a:rPr>
              <a:t>-мигающий  св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cc"/>
                </a:solidFill>
                <a:latin typeface="Tahoma"/>
              </a:rPr>
              <a:t>-зеленый св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cc"/>
                </a:solidFill>
                <a:latin typeface="Tahoma"/>
              </a:rPr>
              <a:t>-желты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bd07304_"/>
          <p:cNvPicPr/>
          <p:nvPr/>
        </p:nvPicPr>
        <p:blipFill>
          <a:blip r:embed="rId1"/>
          <a:stretch/>
        </p:blipFill>
        <p:spPr>
          <a:xfrm>
            <a:off x="5148360" y="2709720"/>
            <a:ext cx="36003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Для чего постовому нужен жезл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-приветствовать знаком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- отгонять му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-для красот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-регулиров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дорожное движе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448240" y="2421000"/>
            <a:ext cx="34084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Tahoma"/>
              </a:rPr>
              <a:t>Когда загорелся зеленый  свет светофора, что ты будешь делать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33cc33"/>
                </a:solidFill>
                <a:latin typeface="Tahoma"/>
              </a:rPr>
              <a:t>пропустишь всех старушек и даму с собачко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Tahoma"/>
              </a:rPr>
              <a:t>-побежишь со всех но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Tahoma"/>
              </a:rPr>
              <a:t>- останешься стоять на мест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Tahoma"/>
              </a:rPr>
              <a:t>-убедишься, что все транспортные средства остановились и перейдешь дорог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6:19:58Z</dcterms:created>
  <dc:creator>Елена</dc:creator>
  <dc:description/>
  <dc:language>en-US</dc:language>
  <cp:lastModifiedBy>BUH</cp:lastModifiedBy>
  <dcterms:modified xsi:type="dcterms:W3CDTF">2009-09-03T06:22:46Z</dcterms:modified>
  <cp:revision>10</cp:revision>
  <dc:subject/>
  <dc:title>Какие машины могут ехать на красный свет?</dc:title>
</cp:coreProperties>
</file>