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4EBFE-A253-4440-AF26-17E4D1FC2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20570-0231-46A7-9A93-D28990244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15E94-1811-4DFF-9F11-A21D47562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778A6-1505-4E0B-A328-E8C070B70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1B656-7BC5-4342-9E2B-16EA46E2D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4EF78-A009-4F68-AEAD-736D988B0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AB7F0-7905-464C-8C6F-F2EAF23BF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FEDE3-449F-4D6C-A787-6288CE9D7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BD00D-EA70-4DCA-947C-1A2D10E8B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839C7-7301-42A6-8D9D-3D4C88286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A7211-91FC-44D3-B4A5-5D573DD48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AF1E3-55F4-497D-A033-ADD16B4C3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6809B-4EEC-40DE-9C81-A4B9002E8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FF1D6-E6F0-4E96-BD2B-50B3466D0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B18F0-2C43-4413-9EF9-1C7F1089E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82AAD-FDAC-43A1-ACCC-B9F05EB0B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A4B5D-FD4D-4793-8E4A-2D3FA5F19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75CBF-1EDE-4330-9C26-438AF8559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74643-A153-43C8-ADCC-15431F4D9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DDC84-0034-44AB-A1B6-A09D0442B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C46A0-0772-415F-8827-0D6511B8C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C984E-4B41-4E08-BB7D-7FCBAB11B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465BB-40E2-4E05-8F45-5F6DA9748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09DE8-991A-40C6-B092-A9A5371D9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c9c696"/>
              </a:gs>
              <a:gs pos="100000">
                <a:srgbClr val="e6e3a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d7d1b9"/>
                </a:gs>
                <a:gs pos="100000">
                  <a:srgbClr val="e6e3a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0cd9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dddba5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2bf91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0cd9b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2bf91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bbb9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b0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e5e2a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dddba5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9257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39257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6e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c98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3723E-D4DB-4327-8A86-F5005CCF15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d7d1b9"/>
                </a:gs>
                <a:gs pos="100000">
                  <a:srgbClr val="e6e3a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0cd9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dddba5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2bf91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0cd9b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2bf91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bbb9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b0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e5e2a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dddba5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39257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CF0A1-B981-4DF1-B817-43B083BE38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6e3a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c9800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666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0" y="404280"/>
            <a:ext cx="91440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cc3300"/>
                </a:solidFill>
                <a:latin typeface="Arial"/>
              </a:rPr>
              <a:t>Презентация на тему:</a:t>
            </a:r>
            <a:br>
              <a:rPr sz="7200"/>
            </a:br>
            <a:r>
              <a:rPr b="1" lang="en-US" sz="7200" spc="-1" strike="noStrike">
                <a:solidFill>
                  <a:srgbClr val="cc3300"/>
                </a:solidFill>
                <a:latin typeface="Arial"/>
              </a:rPr>
              <a:t>«Выхлопные газы»</a:t>
            </a:r>
            <a:endParaRPr b="0" lang="en-US" sz="72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5292720" y="4653000"/>
            <a:ext cx="3851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дготовил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читель биолог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БОУ СОШ №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Хохлова Л.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9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b39257"/>
                </a:solidFill>
                <a:latin typeface="Arial"/>
              </a:rPr>
              <a:t>Пути снижения выбросов и токсичности</a:t>
            </a:r>
            <a:endParaRPr b="0" lang="en-US" sz="7200" spc="-1" strike="noStrike">
              <a:solidFill>
                <a:srgbClr val="b3925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88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79280" y="277920"/>
            <a:ext cx="8785440" cy="27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олоссальное влияние на количество выбросов (не считая сжигания топлива и времени) играет организация движения автомобилей в городе (значительная часть выбросов происходит в пробках и на светофорах). При удачной организации возможно применение менее мощных двигателей, при невысоких (экономичных) промежуточных скоростях.</a:t>
            </a:r>
            <a:endParaRPr b="0" lang="en-US" sz="2400" spc="-1" strike="noStrike">
              <a:solidFill>
                <a:srgbClr val="b39257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1763640" y="3284640"/>
            <a:ext cx="5545080" cy="33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7138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marL="762120" indent="-762120"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ущественно снизить содержание углеводородов в отходящих газах, более чем в 2 раза, возможно применением в качестве топлива попутных нефтяных (пропан, бутан), или природного газов, при том, что главный недостаток природного газа — низкий запас хода, для города не столь значим.</a:t>
            </a:r>
            <a:endParaRPr b="0" lang="en-US" sz="2400" spc="-1" strike="noStrike">
              <a:solidFill>
                <a:srgbClr val="b39257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1835280" y="2781360"/>
            <a:ext cx="5079960" cy="382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4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Законодательное регулирование</a:t>
            </a:r>
            <a:endParaRPr b="0" lang="en-US" sz="36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0" y="980640"/>
            <a:ext cx="9144000" cy="58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нтролируется качественный состав изготавливаемого и реализуемого топлива (в России это стандарты на топливо, региональные требования, в Европе нормативы ЕВРО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дусмотрен контроль за состоянием и регулировками автомобилей. В России является обязанностью органов технического осмотра ГАИ периодически контролировать доли оксидов углерода и углеводородов в выхлопе на двух частотах вращения, состояние предусмотренных систем нейтрализации на бензиновых двигателях (по ГОСТ Р 52033-2003), на газобаллонных (по ГОСТ Р 17.2.02.06-1999) и дымность на дизельных двигателях (по ГОСТ Р 52160-2003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России вводятся повышенные ставки транспортного налога на мощность двигателя автомобил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пливо облагается специальными акцизам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некоторых регионах вводятся ограничения на движение большегрузного автотранспорта (например в г.Москва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95280" y="277560"/>
            <a:ext cx="8353440" cy="36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Arial"/>
              </a:rPr>
              <a:t>Считается, что распространение подобных норм на районы с нормальной экологической обстановкой может создавать лишние затраты.</a:t>
            </a:r>
            <a:endParaRPr b="0" lang="en-US" sz="4000" spc="-1" strike="noStrike">
              <a:solidFill>
                <a:srgbClr val="b3925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3" descr="C:\Documents and Settings\Admin\Рабочий стол\30008045_planet_in_hands1_Melkiy.jpg"/>
          <p:cNvPicPr/>
          <p:nvPr/>
        </p:nvPicPr>
        <p:blipFill>
          <a:blip r:embed="rId1"/>
          <a:stretch/>
        </p:blipFill>
        <p:spPr>
          <a:xfrm>
            <a:off x="785880" y="285840"/>
            <a:ext cx="7429320" cy="5357880"/>
          </a:xfrm>
          <a:prstGeom prst="rect">
            <a:avLst/>
          </a:prstGeom>
          <a:ln w="0">
            <a:noFill/>
          </a:ln>
        </p:spPr>
      </p:pic>
      <p:pic>
        <p:nvPicPr>
          <p:cNvPr id="236" name="Заголовок 6" descr=""/>
          <p:cNvPicPr/>
          <p:nvPr/>
        </p:nvPicPr>
        <p:blipFill>
          <a:blip r:embed="rId2"/>
          <a:stretch/>
        </p:blipFill>
        <p:spPr>
          <a:xfrm>
            <a:off x="828720" y="5357880"/>
            <a:ext cx="8364600" cy="153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50560" y="214200"/>
            <a:ext cx="8692920" cy="638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Выхлопные газы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(отходящие газы) — отработавшее в двигателе рабочее тело. Являются продуктами окисления и неполного сгорания углеводородного топлива.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b39257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8920" y="228240"/>
            <a:ext cx="8713800" cy="622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ыбросы выхлопных газов —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сновная причина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превышения допустимых концентраций токсичных веществ и канцерогенов в атмосфере крупных городов, образования смогов, являющихся частой причиной отравления в замкнутых пространствах.</a:t>
            </a:r>
            <a:endParaRPr b="0" lang="en-US" sz="4000" spc="-1" strike="noStrike">
              <a:solidFill>
                <a:srgbClr val="b3925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900000" y="2060640"/>
            <a:ext cx="7344000" cy="4797360"/>
          </a:xfrm>
          <a:prstGeom prst="rect">
            <a:avLst/>
          </a:prstGeom>
          <a:ln w="0">
            <a:noFill/>
          </a:ln>
        </p:spPr>
      </p:pic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оличество выделяемых в атмосферу автомобилями загрязняющих веществ определяется массовым выбросом газов и составом отходящих газов.</a:t>
            </a:r>
            <a:endParaRPr b="0" lang="en-US" sz="2800" spc="-1" strike="noStrike">
              <a:solidFill>
                <a:srgbClr val="b39257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768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" dur="768" fill="hold"/>
                                        <p:tgtEl>
                                          <p:spTgt spid="21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3" dur="768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5" dur="768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10400" cy="62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оличество отходящих газов автомобилей в основном определяется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массовым расходом топлива автомобилям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Расход по расстоянию нормируется и обычно указывается производителями (одна из потребительских характеристик). В отношении суммарного объема выходящих из глушителя выхлопных газов приблизительно можно ориентироваться на такую цифру — 1 литр сжигаемого бензина приводит к образованию примерно 16 кубометров или 16000 литров смеси различных газов.</a:t>
            </a:r>
            <a:endParaRPr b="0" lang="en-US" sz="2800" spc="-1" strike="noStrike">
              <a:solidFill>
                <a:srgbClr val="b3925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5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5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50920" y="277560"/>
            <a:ext cx="8642160" cy="61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cc3300"/>
                </a:solidFill>
                <a:latin typeface="Arial"/>
              </a:rPr>
              <a:t>Влияние выхлопных газов на здоровье человека</a:t>
            </a:r>
            <a:endParaRPr b="0" lang="en-US" sz="6600" spc="-1" strike="noStrike">
              <a:solidFill>
                <a:srgbClr val="b39257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619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ибольшую опасность представляют оксиды азота, примерно в 10 раз более опасные, чем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гарный газ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доля токсичности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льдегидов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относительно невелика и составляет 4—5 % от общей токсичности выхлопных газов. Токсичность различных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глеводородов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сильно отличается, однако особенно, что непредельные углеводороды в присутствии диоксида азота фотохимически окисляются образуя ядовитые кислородсодержащие соединения — составляющие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могов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b3925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0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ff"/>
                </a:solidFill>
                <a:latin typeface="Arial"/>
              </a:rPr>
              <a:t>Длительный контакт со средой, отравленной выхлопными газами автомобилей, вызывает общее ослабление организма — </a:t>
            </a:r>
            <a:r>
              <a:rPr b="1" lang="en-US" sz="4800" spc="-1" strike="noStrike">
                <a:solidFill>
                  <a:srgbClr val="ff00ff"/>
                </a:solidFill>
                <a:latin typeface="Arial"/>
              </a:rPr>
              <a:t>иммунодефицит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b3925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Отравления в замкнутом пространстве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овольно часты случаи отравления выхлопными газами, в том числе со смертельными исходами, автомобилистов в гаражах, закрытых стоянках и внутри автомобилей (утечки в салон) при отсутствии или плохой вентиляции. Для борьбы с такими случаями вводятся строительные нормы на вентиляцию сооружений, связанных с эксплуатацией и обслуживанием автомобилей, а также рекомендации автомобилистам.</a:t>
            </a:r>
            <a:endParaRPr b="0" lang="en-US" sz="3200" spc="-1" strike="noStrike">
              <a:solidFill>
                <a:srgbClr val="b39257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2T18:18:07Z</dcterms:created>
  <dc:creator>Павел</dc:creator>
  <dc:description/>
  <dc:language>en-US</dc:language>
  <cp:lastModifiedBy>АННА Х</cp:lastModifiedBy>
  <dcterms:modified xsi:type="dcterms:W3CDTF">2012-05-17T17:32:10Z</dcterms:modified>
  <cp:revision>4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d20a000000000001023620</vt:lpwstr>
  </property>
</Properties>
</file>