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FDE-EE94-4F37-ACB4-60ADB6C2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193-7C40-4837-8EF4-F7FF5A1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DFA-0969-44B7-B106-CACD5644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468-A2A7-4FFF-B1D4-9EFBBC80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6D07-9A0C-4F31-9005-E69ABB9C6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CD5D-71AF-4A01-A0C7-D87E5148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1B2D-FD41-485D-AAAF-591129C8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072-5A85-4CD2-B1E3-A08E4D76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8E98-0D7F-4D25-A598-7F9FB69A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F2BD-3DA3-4CF8-96DC-5602EB4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BF48-5701-45EF-9842-CCDAF22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8A5-5C02-4D5C-8B42-FDD64C6B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52EC-6BFE-472A-A83D-F1BDF0F5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0D60-7986-46FC-9D04-23F1613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AEE7-EE1B-4918-96FB-0F08E10F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B224-3AE9-4654-BA51-F04723AC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8F61-F028-488C-A69E-C4C57335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01C-1EFD-44AC-B61A-41F26A85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B36-B9A6-49F3-988B-2D5D1523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6DFE-261C-4037-B306-F6E8D382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D2D-B6B5-4628-836F-D26FD4DB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9B6-A661-4CB0-A6D1-489C1DC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E78-43FC-414E-8EEE-F143426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0CD-A506-41DA-90D9-77CA680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B6D8-843B-492D-BFB2-819A86C6C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9794-9000-44C7-8C84-92241EEAE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Презентация на тему:</a:t>
            </a:r>
            <a:br>
              <a:rPr sz="7200"/>
            </a:br>
            <a:r>
              <a:rPr b="1" lang="en-US" sz="7200" spc="-1" strike="noStrike">
                <a:solidFill>
                  <a:srgbClr val="cc3300"/>
                </a:solidFill>
                <a:latin typeface="Arial"/>
              </a:rPr>
              <a:t>«Выхлопные газы»</a:t>
            </a:r>
            <a:endParaRPr b="0" lang="en-US" sz="7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292720" y="4653000"/>
            <a:ext cx="3851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БОУ СОШ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хлов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39257"/>
                </a:solidFill>
                <a:latin typeface="Arial"/>
              </a:rPr>
              <a:t>Пути снижения выбросов и токсичности</a:t>
            </a:r>
            <a:endParaRPr b="0" lang="en-US" sz="7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оссальное влияние на количество выбросов (не считая сжигания топлива и времени) играет организация движения автомобилей в городе (значительная часть выбросов происходит в пробках и на светофорах). При удачной организации возможно применение менее мощных двигателей, при невысоких (экономичных) промежуточных скоростях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63640" y="3284640"/>
            <a:ext cx="554508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енно снизить содержание углеводородов в отходящих газах, более чем в 2 раза, возможно применением в качестве топлива попутных нефтяных (пропан, бутан), или природного газов, при том, что главный недостаток природного газа — низкий запас хода, для города не столь значим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079960" cy="382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Законодательное регулирование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ируется качественный состав изготавливаемого и реализуемого топлива (в России это стандарты на топливо, региональные требования, в Европе нормативы ЕВР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смотрен контроль за состоянием и регулировками автомобилей. В России является обязанностью органов технического осмотра ГАИ периодически контролировать доли оксидов углерода и углеводородов в выхлопе на двух частотах вращения, состояние предусмотренных систем нейтрализации на бензиновых двигателях (по ГОСТ Р 52033-2003), на газобаллонных (по ГОСТ Р 17.2.02.06-1999) и дымность на дизельных двигателях (по ГОСТ Р 52160-200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ссии вводятся повышенные ставки транспортного налога на мощность двигателя автомоби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ливо облагается специальными акциз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которых регионах вводятся ограничения на движение большегрузного автотранспорта (например в г.Моск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353440" cy="36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читается, что распространение подобных норм на районы с нормальной экологической обстановкой может создавать лишние затраты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C:\Documents and Settings\Admin\Рабочий стол\30008045_planet_in_hands1_Melkiy.jpg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535788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6" descr=""/>
          <p:cNvPicPr/>
          <p:nvPr/>
        </p:nvPicPr>
        <p:blipFill>
          <a:blip r:embed="rId2"/>
          <a:stretch/>
        </p:blipFill>
        <p:spPr>
          <a:xfrm>
            <a:off x="828720" y="5357880"/>
            <a:ext cx="836460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63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хлопные газ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отходящие газы) — отработавшее в двигателе рабочее тело. Являются продуктами окисления и неполного сгорания углеводородного топлив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8920" y="228240"/>
            <a:ext cx="871380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росы выхлопных газов —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ая причи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евышения допустимых концентраций токсичных веществ и канцерогенов в атмосфере крупных городов, образования смогов, являющихся частой причиной отравления в замкнутых пространствах.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44000" cy="47973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личество выделяемых в атмосферу автомобилями загрязняющих веществ определяется массовым выбросом газов и составом отходящих газов.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личество отходящих газов автомобилей в основном определяется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массовым расходом топлива автомобил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Расход по расстоянию нормируется и обычно указывается производителями (одна из потребительских характеристик). В отношении суммарного объема выходящих из глушителя выхлопных газов приблизительно можно ориентироваться на такую цифру — 1 литр сжигаемого бензина приводит к образованию примерно 16 кубометров или 16000 литров смеси различных газов.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00"/>
                </a:solidFill>
                <a:latin typeface="Arial"/>
              </a:rPr>
              <a:t>Влияние выхлопных газов на здоровье человека</a:t>
            </a:r>
            <a:endParaRPr b="0" lang="en-US" sz="66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ьшую опасность представляют оксиды азота, примерно в 10 раз более опасные, ч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рный га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доля токсичност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ьдеги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носительно невелика и составляет 4—5 % от общей токсичности выхлопных газов. Токсичность различн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леводород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ильно отличается, однако особенно, что непредельные углеводороды в присутствии диоксида азота фотохимически окисляются образуя ядовитые кислородсодержащие соединения — составляющ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ог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Длительный контакт со средой, отравленной выхлопными газами автомобилей, вызывает общее ослабление организма — </a:t>
            </a:r>
            <a:r>
              <a:rPr b="1" lang="en-US" sz="4800" spc="-1" strike="noStrike">
                <a:solidFill>
                  <a:srgbClr val="ff00ff"/>
                </a:solidFill>
                <a:latin typeface="Arial"/>
              </a:rPr>
              <a:t>иммунодефицит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Отравления в замкнутом пространстве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вольно часты случаи отравления выхлопными газами, в том числе со смертельными исходами, автомобилистов в гаражах, закрытых стоянках и внутри автомобилей (утечки в салон) при отсутствии или плохой вентиляции. Для борьбы с такими случаями вводятся строительные нормы на вентиляцию сооружений, связанных с эксплуатацией и обслуживанием автомобилей, а также рекомендации автомобилистам.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8:18:07Z</dcterms:created>
  <dc:creator>Павел</dc:creator>
  <dc:description/>
  <dc:language>en-US</dc:language>
  <cp:lastModifiedBy>АННА Х</cp:lastModifiedBy>
  <dcterms:modified xsi:type="dcterms:W3CDTF">2012-05-17T17:32:1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a000000000001023620</vt:lpwstr>
  </property>
</Properties>
</file>