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2A9-8431-4132-9578-E77F685F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792-21E0-40E0-8020-A20CACE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C2D-0E51-427F-B9C4-7D1551B2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F27-ABE2-45DD-8A6A-68A87333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E1A1-08DC-4875-8934-4E8AB6DF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271A-B01B-4B9A-8937-C7E6085C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219C-1A2A-4B98-81D2-744B4959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B10E-FBFB-4C9F-B2F5-9D748ACF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2DFD-5F97-44FF-B682-8070218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5405-84D2-4DF4-95B0-852C4601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5F3-0F39-479D-A55E-B4748364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FE9-784F-4E6F-A23F-03FE7249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B27B-EF52-440B-B5B8-A852AA5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84DD-8841-44AC-B5E8-898DDD3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52C2-B980-4BCA-A4E7-C039099B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3016-E690-4712-A8D0-38258BD9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63B0-A9EB-402B-AE1C-591C794B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D49A5-67BE-4AFB-946A-639BC59D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A5CB7-9C3F-4803-A0CD-F1918B3F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91D75-4BE5-4400-8CF3-13FD9C67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68475-526C-4480-8C25-86E15FFD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AC714-2644-4420-9734-68BBB22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0F7-51F6-4345-9B24-7ACE17D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217B5-5E83-4F25-97AC-8B2C40E7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FC5FA-3219-4180-A6FB-062D49F7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C05FE-5372-49B7-8E46-4D318C5F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3442E-45E3-46F2-846D-C60EFBC5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3090D-CC6D-4F50-8EEB-5D7D5FF7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9EAA9-524E-45DB-98F5-65E6832C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787F3-3552-4ECE-A2FD-99CD902C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90D-D217-4AE7-8CFC-07917A81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AC2-DE7C-48AE-B7A8-3A74279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782-D2F2-4DE8-BB8D-FE8481AC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EB6-949D-4A59-B409-7D3E9CF0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79F-CD6E-4C52-BCD1-F078036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A1B-AEDD-4239-B78D-22A31F28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E658-9B35-4E28-8FF3-178C343FC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30F6-8C82-4B8C-A846-89097893DC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63C7-B1C9-442F-93CF-1502A50EED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Мастерство классного руководителя: сущность и методы его работы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22560" y="1905120"/>
            <a:ext cx="476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рафилова Эльвира Идрисовн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ный руководитель 11Б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3384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79200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рганизация и привлечение учащихся к активному участию в общешкольных мероприят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756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ние уважительного отношения к национальным героям своей страны, ветеранам войны и тру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5203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ние уважительного отношения к старшему поколению, национальным традициям и обычаям своего народа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727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9440" y="306000"/>
            <a:ext cx="8075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ние потребности знать историю и культуру своей страны, фольклор и этнографию своего народа, родной язы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6335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ездки по родному краю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2072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скурсия в Красноусольс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54720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ир природы -  мир здоров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70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7272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рудовые десанты, субботники, трудовые акции и проекты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70581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Жить - вот ремесло, которому я хочу учить воспитанника. Выходя из моих рук, он будет - соглашаюсь с этим - не судьей, не солдатом, не священником: он будет прежде всего человеком: всем, чем должен быть человек, он сумеет быть, в случае необходимости, так  хорош, как и всякий другой, и, как бы судьба не перемещала его с места на место, он всегда будет на своем месте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. Ж. Русс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пришкольном участ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824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296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6518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ормирование стремления к миру и добрососедским отношениям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48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92360" y="181440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260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влечение учащихся к активной общественной работе на благо родного края, города, посёлка, дерев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Воспитание стремления к интересному и полезному времяпрепровождению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741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734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ние эстетического вкуса, потребности в достойном поведении в повседневной жизни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535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 солнечном городе  Со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978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следний зво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1280" y="1744560"/>
            <a:ext cx="7993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399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ждого из нас беспокоит будущее наших детей. Мы не раз задаем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просом, что нужно для того, чтобы дети выросли полноценными и вполне подготовленными к жизни, что больше способствует это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52196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5398920" cy="454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0920" y="1197000"/>
            <a:ext cx="3168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Средь множества пытливых глаз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Попробуй заслужить признань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Ребенок - главный среди на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Всегда он требует внимань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Сумей всех лаской обаять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Встречая каждый день улыбк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И много знать, и не солгать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Не совершать сумей ошиб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42847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современных условиях воспитание подрастающего поколения является главным социальным и государственным приоритетом. Это определено Законом РФ «Об образовании». Определен результат воспитательного процесса: выпускник образовательного учреждения – гражданин-патриот, профессионал-работник, семьянин-родит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46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3403440"/>
            <a:ext cx="50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2620800"/>
            <a:ext cx="87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считаю, что классное руководство – это не работа, а образ жизни, т.к. свои функции и обязанности можно выполнить до конца только тогда, когда полюбишь детей своего класса, когда они станут для тебя близкими и родными. Их проблемы в учебе, в семье станут твоими проблемам, и разрешены они могут быть только при помощи старшего друга и советчи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480360" cy="439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4000" y="538488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4508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до видеть себя в детях, чтобы помочь им стать взрослыми, надо принимать их как повторение своего детства, чтобы совершенствоваться самому, надо, наконец, жить жизнью детей, чтобы быть гуманным педагог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.А. Амонашви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147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26920" y="472428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Спасибо за внимание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щность деятельности классного руководителя заключается в координации внешних влияний, оказываемых на конкретного ученика, а также в организации воспитательной, образовательной, развивающей и вне учебной деятельности в класс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храна здоровья и жизнедеятельности учащих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77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итание сознательного отношения к сохранению собственного здоровья, стремление к выполнению режима дня, правильному воспитанию,  к регулярным занятиям спор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792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спитание стремления стать образованным и культурным человеком, способным в полной мере реализовать свой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теллектуальный потенциал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68612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творческих и исследовательских способностей средствами внеклассной работы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5400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 сельской библиоте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7993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7:12:47Z</dcterms:created>
  <dc:creator>Николай</dc:creator>
  <dc:description/>
  <dc:language>en-US</dc:language>
  <cp:lastModifiedBy>User</cp:lastModifiedBy>
  <dcterms:modified xsi:type="dcterms:W3CDTF">2012-05-12T13:44:17Z</dcterms:modified>
  <cp:revision>133</cp:revision>
  <dc:subject/>
  <dc:title> В.К.Железников «чучело»</dc:title>
</cp:coreProperties>
</file>