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9CC0-09BB-4AB7-B880-3B8F3DAE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D3E2-8FAE-4535-802E-48A65F27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1E3-0003-4FC3-86FA-45FBFF3D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1FE-F767-4D0E-9A36-15B52F49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E96C-2C2E-417A-96DE-07239172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E23F-8E7A-499A-9961-E643E183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67D4-C5BF-4117-9F8D-45FBBBD9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A2BF-215D-402E-8D43-C1C9E404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D2DF-BCA8-4D57-AE00-FF25E581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DBCD-71EA-44B1-B1A5-4F3266C3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7262-61DB-4E4A-A82C-2FCD1D58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6AD6-BF04-4C25-8D5A-7B383DCF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1B33-7B16-4F0E-992F-01064C5D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D984-DCC5-46F3-A64D-F1FBD98B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EC86-8185-4789-BB10-70E2CDD3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7259-7692-4053-A779-C721A099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7D50-4236-4BB1-A691-B4E17E7F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23E11-EF4D-43C2-816E-E62AEF63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F2CDC-4089-424E-A6F4-ABAF8E25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93ACE-860B-4599-B34D-30430262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E27F7-D2B8-45A2-859E-B41DC362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603A4-9E5D-4B25-82DF-BBFD8CB3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995-C712-44E1-BFF5-F80DD7E0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E578A-6E17-4910-9CF2-8E2B5F30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FC290-C1B2-4B03-B2F7-6AAAF903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2C9D6-802F-4555-AF66-532B4AE0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45614-DA06-476F-BF5F-018BCF26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717A5-3888-41A4-BA3B-43E86595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41AD0F-34B8-4B73-93BC-5A614492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D800E9-89D5-4D30-9079-2157800F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482-229E-4652-B3D9-C308100A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E59A-33AA-4575-8A45-15A4A22D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7BE-D89B-4AB0-8371-DF86AA9C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FF36-3AB8-423D-AF20-8A831BBD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375-1294-42CC-9822-40D9E664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CE1-A730-4069-8DFD-9BF0B9EF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D386-C475-4FF7-B0B9-129EBFDEE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CB19-8E7E-4338-96BB-2BB67B0CF1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A21F-708D-44C6-9B2A-7B3C6463CA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Мастерство классного руководителя: сущность и методы его работы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22560" y="1905120"/>
            <a:ext cx="4764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рафилова Эльвира Идрисовн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русского языка и литературы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лассный руководитель 11Б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3384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792000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рганизация и привлечение учащихся к активному участию в общешкольных мероприятия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11280" y="2276640"/>
            <a:ext cx="756108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ание уважительного отношения к национальным героям своей страны, ветеранам войны и тру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763640" y="2060640"/>
            <a:ext cx="52038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ание уважительного отношения к старшему поколению, национальным традициям и обычаям своего народа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7272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9440" y="306000"/>
            <a:ext cx="8075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ание потребности знать историю и культуру своей страны, фольклор и этнографию своего народа, родной язы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332000" y="1989000"/>
            <a:ext cx="6335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ездки по родному краю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820728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скурсия в Красноусольс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979640" y="1773360"/>
            <a:ext cx="547200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ир природы -  мир здоровь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704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116000" y="765000"/>
            <a:ext cx="7272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Трудовые десанты, субботники, трудовые акции и проекты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042920" y="1989000"/>
            <a:ext cx="70581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Жить - вот ремесло, которому я хочу учить воспитанника. Выходя из моих рук, он будет - соглашаюсь с этим - не судьей, не солдатом, не священником: он будет прежде всего человеком: всем, чем должен быть человек, он сумеет быть, в случае необходимости, так  хорош, как и всякий другой, и, как бы судьба не перемещала его с места на место, он всегда будет на своем месте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. Ж. Русс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 пришкольном участк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48243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22960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765180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Формирование стремления к миру и добрососедским отношениям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604836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692360" y="1814400"/>
            <a:ext cx="6075360" cy="4556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9280" y="2602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влечение учащихся к активной общественной работе на благо родного края, города, посёлка, дерев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Воспитание стремления к интересному и полезному времяпрепровождению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7417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971640" y="692280"/>
            <a:ext cx="7345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спитание эстетического вкуса, потребности в достойном поведении в повседневной жизни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476360" y="2133720"/>
            <a:ext cx="53578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В солнечном городе  Соч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59785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следний звон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11280" y="1744560"/>
            <a:ext cx="79930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60" y="836640"/>
            <a:ext cx="3995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ждого из нас беспокоит будущее наших детей. Мы не раз задаем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просом, что нужно для того, чтобы дети выросли полноценными и вполне подготовленными к жизни, что больше способствует это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924360" y="907920"/>
            <a:ext cx="521964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66960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564000" y="189000"/>
            <a:ext cx="5398920" cy="4545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0920" y="1197000"/>
            <a:ext cx="3168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Средь множества пытливых глаз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Попробуй заслужить признань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Ребенок - главный среди на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Всегда он требует внимань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Сумей всех лаской обаять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Встречая каждый день улыбко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И много знать, и не солгать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Не совершать сумей ошибк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428472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современных условиях воспитание подрастающего поколения является главным социальным и государственным приоритетом. Это определено Законом РФ «Об образовании». Определен результат воспитательного процесса: выпускник образовательного учреждения – гражданин-патриот, профессионал-работник, семьянин-родител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140360" y="404640"/>
            <a:ext cx="460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24000" y="3403440"/>
            <a:ext cx="50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2620800"/>
            <a:ext cx="874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Я считаю, что классное руководство – это не работа, а образ жизни, т.к. свои функции и обязанности можно выполнить до конца только тогда, когда полюбишь детей своего класса, когда они станут для тебя близкими и родными. Их проблемы в учебе, в семье станут твоими проблемам, и разрешены они могут быть только при помощи старшего друга и советчи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187280" y="189000"/>
            <a:ext cx="6480360" cy="4392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24000" y="538488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1280" y="450864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до видеть себя в детях, чтобы помочь им стать взрослыми, надо принимать их как повторение своего детства, чтобы совершенствоваться самому, надо, наконец, жить жизнью детей, чтобы быть гуманным педагого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Ш.А. Амонашви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6147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826920" y="4724280"/>
            <a:ext cx="777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Спасибо за внимание!!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ущность деятельности классного руководителя заключается в координации внешних влияний, оказываемых на конкретного ученика, а также в организации воспитательной, образовательной, развивающей и вне учебной деятельности в класс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храна здоровья и жизнедеятельности учащих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7777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спитание сознательного отношения к сохранению собственного здоровья, стремление к выполнению режима дня, правильному воспитанию,  к регулярным занятиям спорт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7921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спитание стремления стать образованным и культурным человеком, способным в полной мере реализовать свой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теллектуальный потенциал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68612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творческих и исследовательских способностей средствами внеклассной работы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059280" y="2133720"/>
            <a:ext cx="5400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 сельской библиотек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7993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7:12:47Z</dcterms:created>
  <dc:creator>Николай</dc:creator>
  <dc:description/>
  <dc:language>en-US</dc:language>
  <cp:lastModifiedBy>User</cp:lastModifiedBy>
  <dcterms:modified xsi:type="dcterms:W3CDTF">2012-05-12T13:44:17Z</dcterms:modified>
  <cp:revision>133</cp:revision>
  <dc:subject/>
  <dc:title> В.К.Железников «чучело»</dc:title>
</cp:coreProperties>
</file>