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479A-F8EE-4A60-B5B8-7FE39CCA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3901-E96D-4F4E-BD31-66D9F08B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22D3-025B-477C-88E8-AB57FD02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F8CD-3FA0-4BCC-938E-D60971E0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9E5-E8CB-483D-859E-5EA7F3A1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0215-4E9B-4E1B-958D-563B54F5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1D91-A28A-4C9E-9207-1B5B8DB7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329-29BE-4D5E-8624-F29150AD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ED5-137D-4C31-B2E6-C11EE517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D2A1-8719-40E6-B346-FD707CAA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A74D-529F-46B2-A364-21620E63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E10A-915F-4866-8CB3-53DC2C16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C38C-F63A-4DCB-AE52-D2DECF7C8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560" y="1989000"/>
            <a:ext cx="8785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10000"/>
                </a:solidFill>
                <a:latin typeface="Arial"/>
              </a:rPr>
              <a:t>Язык программирования </a:t>
            </a:r>
            <a:r>
              <a:rPr b="1" lang="en-US" sz="4000" spc="-1" strike="noStrike">
                <a:solidFill>
                  <a:srgbClr val="e10000"/>
                </a:solidFill>
                <a:latin typeface="Arial"/>
              </a:rPr>
              <a:t>Pascal </a:t>
            </a:r>
            <a:br>
              <a:rPr sz="4000"/>
            </a:br>
            <a:r>
              <a:rPr b="1" lang="ru-RU" sz="4000" spc="-1" strike="noStrike">
                <a:solidFill>
                  <a:srgbClr val="e10000"/>
                </a:solidFill>
                <a:latin typeface="Arial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 Жид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еменные и их опис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еремен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это группа ячеек памяти, имеющая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имя, тип и зна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Имя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еремен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идентификатор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Тип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еременной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ределя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о принимаемых ею знач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связанных с ней ячеек памя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начение перемен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одержимое группы ячеек памяти отведенных под не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НИМАНИЕ!!!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еременная должна быть описана в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екции описаний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VAR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кция описаний переменых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V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3141360"/>
            <a:ext cx="547200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исок имен переменных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группа имен переменных, разделенных запяты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НИМАНИЕ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наки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бязатель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6560" y="3141720"/>
            <a:ext cx="3419280" cy="367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var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 a,b,c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integer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 d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real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 e,f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integer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 s,s1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string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 ch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char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268280"/>
            <a:ext cx="8496000" cy="1678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интаксис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писок имен переменных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ип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пы переменны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2276640"/>
            <a:ext cx="446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boole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логичес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re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ещественны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comple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комплексны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strin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троковы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ссив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"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ис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"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каза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цед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айл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ласс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484280"/>
            <a:ext cx="424800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и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integ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цел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by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байтов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char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имво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ечисли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иапаз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рядковы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эти типы могут быть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ндексами массив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ереключателями оператора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cas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араметром цикла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обходимые для нас ти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95280" y="1484280"/>
          <a:ext cx="8497800" cy="5122800"/>
        </p:xfrm>
        <a:graphic>
          <a:graphicData uri="http://schemas.openxmlformats.org/drawingml/2006/table">
            <a:tbl>
              <a:tblPr/>
              <a:tblGrid>
                <a:gridCol w="1728720"/>
                <a:gridCol w="863640"/>
                <a:gridCol w="5905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string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текстовы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56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овательность символов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улевом байте хранится длина стро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integer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целы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ай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Целы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т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 2 147 483 64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до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 147 483 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real </a:t>
                      </a:r>
                      <a:br>
                        <a:rPr sz="3200"/>
                      </a:b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вещественны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ержат 15-16 десятичных цифр и по модулю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7∙10</a:t>
                      </a:r>
                      <a:r>
                        <a:rPr b="1" lang="ru-RU" sz="16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308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е маленькое  число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.0∙10</a:t>
                      </a:r>
                      <a:r>
                        <a:rPr b="1" lang="ru-RU" sz="16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3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анты типа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al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записывать в форме с фиксированной точкой, или экспоненциальной форме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имер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7,  0.013, 2.5e3(2500),  1.4e-1 (0.14)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яснение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.5e3 = 2.5*10</a:t>
                      </a:r>
                      <a:r>
                        <a:rPr b="1" lang="ru-RU" sz="16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=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4e-1= 1.4*10</a:t>
                      </a:r>
                      <a:r>
                        <a:rPr b="1" lang="ru-RU" sz="16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1</a:t>
                      </a: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=0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boolea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логическ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Принимает одно из двух значений 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RUE 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пы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из приведенных чисел являются константам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целог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тип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1E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.7E-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2.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8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0.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2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3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7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E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558972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3 6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11280" y="3716280"/>
            <a:ext cx="792000" cy="19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042920" y="4365720"/>
            <a:ext cx="79236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4284720" y="4365360"/>
            <a:ext cx="287280" cy="13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547640" y="4292280"/>
            <a:ext cx="2303640" cy="136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050920" y="3644640"/>
            <a:ext cx="388944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пы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из приведенных чисел являются вещественными константами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споненциальной форм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4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0,5E-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7E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5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1.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1.2E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6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7.7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3.21E-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5589720"/>
            <a:ext cx="77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                 7        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187280" y="5013000"/>
            <a:ext cx="289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219640" y="3789000"/>
            <a:ext cx="432000" cy="187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6659640" y="4941720"/>
            <a:ext cx="433440" cy="71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дентифика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из приведенных выражений могут служить именами переменных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4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7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E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5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Л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6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5300640"/>
            <a:ext cx="50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        5      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2050920" y="3716280"/>
            <a:ext cx="720720" cy="172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780000" y="3645000"/>
            <a:ext cx="86328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011640" y="4365720"/>
            <a:ext cx="3603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ндартные функци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484280"/>
          <a:ext cx="8229600" cy="5378400"/>
        </p:xfrm>
        <a:graphic>
          <a:graphicData uri="http://schemas.openxmlformats.org/drawingml/2006/table">
            <a:tbl>
              <a:tblPr/>
              <a:tblGrid>
                <a:gridCol w="2705040"/>
                <a:gridCol w="552456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мя и парамет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Abs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одул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|x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Sqr(x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вадра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x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Sqrt(x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вадратный корень из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Sin(x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ину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Sin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Cos(x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сину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Cos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Ln(x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туральный логарифм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Ln(x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Exp(x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гд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=2.718281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Arctan(x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рктангенс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arctg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Power(x,y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в степен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x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Int(x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целая част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Frac(x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робную част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Ran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лучайное число в диапазоне [0..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Аргументы функций заключены в скоб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724360" y="2637000"/>
                <a:ext cx="52704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03640" y="4076640"/>
                <a:ext cx="5047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Язык программ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Язык программирова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(ЯП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формализованная система  для описания алгоритмов, которая  опреде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Алфавит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набор символ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Лексику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набор лексических элемен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интакси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равила написания оператор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Семантик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равила исполнения оператор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ЛФАВИТ Я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Алфав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упорядоченный набор симв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ф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 1 2     ….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атинские букв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b c …. z A B C …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и опера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+ * / -  &gt; &lt;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мвол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#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НИМАНИЕ!!!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 Русские символы допустимы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только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 комментария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{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то коментарий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}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(* и это коментарий*)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//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то т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 текстовых констант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апострофах), наприм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rite (‘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ведите значения а и в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’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о опасны символы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 Р А О М В К У Е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ексические элементы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лючевые слов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begin, end, if, for…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онстанты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, 'ABC', #5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дентификатор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(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a,  b1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ецсимвол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(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:=  +=  *    +   /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омментарии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(3 вида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{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.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} (*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.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*) //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.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ючевые слова языка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Внимание!!! Нельзя использовать как идентификато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5013360"/>
        </p:xfrm>
        <a:graphic>
          <a:graphicData uri="http://schemas.openxmlformats.org/drawingml/2006/table">
            <a:tbl>
              <a:tblPr/>
              <a:tblGrid>
                <a:gridCol w="1986120"/>
                <a:gridCol w="1697040"/>
                <a:gridCol w="2273040"/>
                <a:gridCol w="2273400"/>
              </a:tblGrid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a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arra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be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brea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c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co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constru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continu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destructo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div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d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downt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e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ex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extern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externalsyn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f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final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f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forw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inheri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initialization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mo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no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o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priv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proced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progra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proper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protec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publ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recor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repe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s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sh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sh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sizeo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st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t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t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un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unt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us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v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wh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wi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ts val="1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 Unicode MS"/>
                          <a:ea typeface="Arial Unicode MS"/>
                        </a:rPr>
                        <a:t>x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899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уктур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cal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грам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progra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Firs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Pi = 3.14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va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r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re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,C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real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begi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wri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Введите радиус окружности: '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read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r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 := Pi*r*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 := 2*Pi*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Длина окружности рав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',С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write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'Площадь круга рав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',S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2060640"/>
            <a:ext cx="216000" cy="86364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3357720"/>
            <a:ext cx="216000" cy="1944360"/>
          </a:xfrm>
          <a:custGeom>
            <a:avLst/>
            <a:gdLst>
              <a:gd name="textAreaLeft" fmla="*/ 0 w 216000"/>
              <a:gd name="textAreaRight" fmla="*/ 78120 w 216000"/>
              <a:gd name="textAreaTop" fmla="*/ 50400 h 1944360"/>
              <a:gd name="textAreaBottom" fmla="*/ 1893960 h 19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64000" y="148428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1413000"/>
            <a:ext cx="34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Имя программы Заголо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6000" y="2276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екция опис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4149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ператоры (бл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07200" y="2997360"/>
            <a:ext cx="142560" cy="287280"/>
          </a:xfrm>
          <a:custGeom>
            <a:avLst/>
            <a:gdLst>
              <a:gd name="textAreaLeft" fmla="*/ 0 w 142560"/>
              <a:gd name="textAreaRight" fmla="*/ 51480 w 142560"/>
              <a:gd name="textAreaTop" fmla="*/ 7200 h 287280"/>
              <a:gd name="textAreaBottom" fmla="*/ 2800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07200" y="5364000"/>
            <a:ext cx="142560" cy="287640"/>
          </a:xfrm>
          <a:custGeom>
            <a:avLst/>
            <a:gdLst>
              <a:gd name="textAreaLeft" fmla="*/ 0 w 142560"/>
              <a:gd name="textAreaRight" fmla="*/ 51480 w 142560"/>
              <a:gd name="textAreaTop" fmla="*/ 7200 h 287640"/>
              <a:gd name="textAreaBottom" fmla="*/ 28044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6000" y="2997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чало блока опера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360" y="530064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Конец блока опера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5853240"/>
            <a:ext cx="842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нимание!!!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ераторы языка отделяются знаком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нимание!!!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ограмма заканчивается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тавной оператор (бло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оставной операт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группа операторов заключенных в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ператорные скобки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d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устой оператор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ит тольк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аких действий не выполняе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дентификаторы (имен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Идентификатор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мя объ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дуля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ункции, перемен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нтакси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Идентифик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оследовательность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латинских бук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циф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чинающаяся с бук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Заглавные и строчные транслятор не различ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граничение длины идентификатора (63 символ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комендуется!!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пользовать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мысленные идентификаторы  и общепринятые сокращ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улучшает читаемость пр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rednee; V; F; m; massa; m1; skor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ста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нстант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о величина, которая не может измен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Числовые констан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это числа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   3.5    1.75е2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$4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Строковые констан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 это символы в апострофах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вет кадет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’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НИМАНИЕ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Именованные константы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до описать в секции описаний 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const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Синтаксис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cons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мя констант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начение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&gt;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;</a:t>
            </a: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const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  Pi = 3.14;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  Count = 10;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  Name = 'Mike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6:36:52Z</dcterms:created>
  <dc:creator>Andrey</dc:creator>
  <dc:description/>
  <dc:language>en-US</dc:language>
  <cp:lastModifiedBy>Andrey</cp:lastModifiedBy>
  <dcterms:modified xsi:type="dcterms:W3CDTF">2011-02-15T16:37:39Z</dcterms:modified>
  <cp:revision>1</cp:revision>
  <dc:subject/>
  <dc:title>Язык программирования Pascal  Основные понятия</dc:title>
</cp:coreProperties>
</file>