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C2E-5E32-46EC-AAEE-2EA3FC6D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228-EC33-4A59-AC82-7AFF5555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E30-D1D7-4EC8-B078-02E8AA76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F41-B537-43FC-A9A1-CDDCF410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620-75A8-403F-AA83-20FD0AB9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B5B-AB44-4E59-A4D0-382A4AB4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4E7-B770-456E-B5CD-F9061F37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803-4140-4EF9-9A55-3F83BEFB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37B-D9B8-4F30-AFF1-F11E8A44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C7B-09C0-4857-BB85-4CEB7B3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F29-C78E-48C0-8D6B-C4DAE174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809-2C22-4F10-A4F4-76FC1FD8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583B-2EA0-48F6-BA90-94F19C05C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1989000"/>
            <a:ext cx="87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0000"/>
                </a:solidFill>
                <a:latin typeface="Arial"/>
              </a:rPr>
              <a:t>Язык программирования </a:t>
            </a:r>
            <a:r>
              <a:rPr b="1" lang="en-US" sz="4000" spc="-1" strike="noStrike">
                <a:solidFill>
                  <a:srgbClr val="e10000"/>
                </a:solidFill>
                <a:latin typeface="Arial"/>
              </a:rPr>
              <a:t>Pascal </a:t>
            </a:r>
            <a:br>
              <a:rPr sz="4000"/>
            </a:br>
            <a:r>
              <a:rPr b="1" lang="ru-RU" sz="4000" spc="-1" strike="noStrike">
                <a:solidFill>
                  <a:srgbClr val="e1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Жи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менные и их опис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ерем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это группа ячеек памяти, имеющая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мя, тип и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мя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еремен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дентификатор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ип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еременно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принимаемых ею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связанных с ней ячеек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начение перемен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держимое группы ячеек памяти отведенных под н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еременная должна быть описана в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екции описаний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VAR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кция описаний перемен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3141360"/>
            <a:ext cx="54720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исок имен переменных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руппа имен переменных, разделенных запят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наки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язат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6560" y="3141720"/>
            <a:ext cx="3419280" cy="36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va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a,b,c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integer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d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real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e,f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integer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s,s1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string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ch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268280"/>
            <a:ext cx="8496000" cy="1678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писок имен переменных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и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переме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2276640"/>
            <a:ext cx="44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boole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логиче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еществен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compl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омплекс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str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троков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сси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"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"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цед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йл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484280"/>
            <a:ext cx="424800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и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by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айто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cha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мво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числи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апаз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рядков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эти типы могут быть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дексами массив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ереключателями оператор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cas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араметром цикл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обходимые для нас т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95280" y="1484280"/>
          <a:ext cx="8497800" cy="5122800"/>
        </p:xfrm>
        <a:graphic>
          <a:graphicData uri="http://schemas.openxmlformats.org/drawingml/2006/table">
            <a:tbl>
              <a:tblPr/>
              <a:tblGrid>
                <a:gridCol w="1728720"/>
                <a:gridCol w="863640"/>
                <a:gridCol w="5905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string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екстов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6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символ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улевом байте хранится длина стро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integer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цел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ай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елы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2 147 483 64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real </a:t>
                      </a:r>
                      <a:br>
                        <a:rPr sz="3200"/>
                      </a:b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веществен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ержат 15-16 десятичных цифр и по модулю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7∙10</a:t>
                      </a:r>
                      <a:r>
                        <a:rPr b="1" lang="ru-RU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08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 маленькое  число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0∙10</a:t>
                      </a:r>
                      <a:r>
                        <a:rPr b="1" lang="ru-RU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ы типа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l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записывать в форме с фиксированной точкой, или экспоненциальной форм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имер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7,  0.013, 2.5e3(2500),  1.4e-1 (0.14)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яснение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5e3 = 2.5*10</a:t>
                      </a:r>
                      <a:r>
                        <a:rPr b="1" lang="ru-RU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4e-1= 1.4*10</a:t>
                      </a:r>
                      <a:r>
                        <a:rPr b="1" lang="ru-RU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1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boolea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ог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Принимает одно из двух значений 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RUE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из приведенных чисел являются константам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л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ип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1E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7E-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2.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8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0.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2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3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7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E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558972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3 6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1280" y="3716280"/>
            <a:ext cx="792000" cy="19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42920" y="4365720"/>
            <a:ext cx="79236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284720" y="4365360"/>
            <a:ext cx="287280" cy="13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47640" y="4292280"/>
            <a:ext cx="2303640" cy="136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050920" y="3644640"/>
            <a:ext cx="388944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из приведенных чисел являются вещественными константами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оненциальной фор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0,5E-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7E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5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1.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1.2E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6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7.7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3.21E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58972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                 7      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187280" y="5013000"/>
            <a:ext cx="289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219640" y="3789000"/>
            <a:ext cx="43200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659640" y="4941720"/>
            <a:ext cx="43344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дентифик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из приведенных выражений могут служить именами переменных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4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7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E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5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Л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6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30064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        5    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050920" y="3716280"/>
            <a:ext cx="720720" cy="172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780000" y="3645000"/>
            <a:ext cx="86328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11640" y="436572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дартные функци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484280"/>
          <a:ext cx="8229600" cy="5378400"/>
        </p:xfrm>
        <a:graphic>
          <a:graphicData uri="http://schemas.openxmlformats.org/drawingml/2006/table">
            <a:tbl>
              <a:tblPr/>
              <a:tblGrid>
                <a:gridCol w="2705040"/>
                <a:gridCol w="5524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мя и 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b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одул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|x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qr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дра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x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qrt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дратный корень из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in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ину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in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s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сину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Ln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туральный логарифм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Ln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xp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гд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=2.718281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rctan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рктангенс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arctg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ower(x,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в степен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x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nt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лая част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rac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робную част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лучайное число в диапазоне [0.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Аргументы функций заключены в скоб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24360" y="2637000"/>
                <a:ext cx="5270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3640" y="4076640"/>
                <a:ext cx="504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 программ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Язык программир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ЯП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формализованная система  для описания алгоритмов, которая  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Алфави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набор симв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Лексику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набор лексических элем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интакси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равила написания оператор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емантик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равила исполнения оператор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ФАВИТ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лфав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порядоченный набор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 1 2     …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тинские бук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b c …. z A B C …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и опер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* / -  &gt; &lt;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#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!!!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 Русские символы допустимы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лько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 комментар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 коментарий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* и это коментарий*)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 т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 текстовых констан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апострофах),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rite (‘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ведите значения а и в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’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 опасны символ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Р А О М В К У Е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ксические элементы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ючевые слов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begin, end, if, for…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нстанты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, 'ABC', #5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дентификато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a,  b1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ецсимвол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:=  +=  *    +   /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мментарии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3 вид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} (*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*) //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.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ючевые слова языка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Внимание!!! Нельзя использовать как идентификат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5013360"/>
        </p:xfrm>
        <a:graphic>
          <a:graphicData uri="http://schemas.openxmlformats.org/drawingml/2006/table">
            <a:tbl>
              <a:tblPr/>
              <a:tblGrid>
                <a:gridCol w="1986120"/>
                <a:gridCol w="1697040"/>
                <a:gridCol w="2273040"/>
                <a:gridCol w="2273400"/>
              </a:tblGrid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rra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be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bre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nstru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ntinu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destruct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di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d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down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x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xter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xternalsy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inal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or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nher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nitialization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m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n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iv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ogra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oper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ot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ub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recor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rep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h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h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ize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t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t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un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u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us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v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wi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x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cal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Firs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Pi = 3.14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r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,C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l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beg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wri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радиус окружности: 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d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r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:= Pi*r*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 := 2*Pi*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Длина окружности рав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,С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Площадь круга рав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,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06064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35772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148428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141300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мя программы 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227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екция опис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ператоры (бл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07200" y="2997360"/>
            <a:ext cx="142560" cy="287280"/>
          </a:xfrm>
          <a:custGeom>
            <a:avLst/>
            <a:gdLst>
              <a:gd name="textAreaLeft" fmla="*/ 0 w 142560"/>
              <a:gd name="textAreaRight" fmla="*/ 51480 w 142560"/>
              <a:gd name="textAreaTop" fmla="*/ 7200 h 287280"/>
              <a:gd name="textAreaBottom" fmla="*/ 2800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07200" y="5364000"/>
            <a:ext cx="142560" cy="287640"/>
          </a:xfrm>
          <a:custGeom>
            <a:avLst/>
            <a:gdLst>
              <a:gd name="textAreaLeft" fmla="*/ 0 w 142560"/>
              <a:gd name="textAreaRight" fmla="*/ 51480 w 14256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9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чало блока опер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53006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нец блока опер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85324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ераторы языка отделяются знаком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ограмма заканчивается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ной оператор (бл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оставной опер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группа операторов заключенных в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ператорные скобк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d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устой операто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ит тольк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аких действий не выполня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дентификаторы (имен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дентификатор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мя о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уля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ункции, переме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дентифик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следовательность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атинских бук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чинающаяся с бук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аглавные и строчные транслятор не разли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ие длины идентификатора (63 символ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комендуется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овать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мысленные идентификаторы  и общепринятые сокращ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улучшает читаемость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rednee; V; F; m; massa; m1; sko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ст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нстант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еличина, которая не может изме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Числовые 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то числ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   3.5    1.75е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$4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троковые 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это символы в апострофах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вет кадет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менованные константы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до описать в секции описаний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cons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интаксис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con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мя констант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начени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const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  Pi = 3.14;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  Count = 10;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  Name = 'Mike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36:52Z</dcterms:created>
  <dc:creator>Andrey</dc:creator>
  <dc:description/>
  <dc:language>en-US</dc:language>
  <cp:lastModifiedBy>Andrey</cp:lastModifiedBy>
  <dcterms:modified xsi:type="dcterms:W3CDTF">2011-02-15T16:37:39Z</dcterms:modified>
  <cp:revision>1</cp:revision>
  <dc:subject/>
  <dc:title>Язык программирования Pascal  Основные понятия</dc:title>
</cp:coreProperties>
</file>