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00FF-F342-46A0-9508-FCAE4D630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8E0C-6E10-4936-8BF5-F9BB5B6D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8200-C9AF-45C6-A77F-9E069BCD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3F0D-0E04-42A8-9B7E-FBE6458C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4843-1C5B-4F4F-B0FC-6774937F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7770-D828-41B3-9066-0AF91291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89ED-12E2-4EC1-BC40-CEFF8D63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3489-C222-47DF-8D90-305E9468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7185-C605-44FD-8D19-FCD6ED88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6C8A-D784-4D72-A77B-AFD19904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5087-C77C-4760-B056-958FB0A0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B4E4-7A25-4460-9F4D-9DF5CB25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D11D-32BB-4F6A-94EC-375D6F1AB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8560" y="1989000"/>
            <a:ext cx="8785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10000"/>
                </a:solidFill>
                <a:latin typeface="Arial"/>
              </a:rPr>
              <a:t>Язык программирования </a:t>
            </a:r>
            <a:r>
              <a:rPr b="1" lang="en-US" sz="4000" spc="-1" strike="noStrike">
                <a:solidFill>
                  <a:srgbClr val="e10000"/>
                </a:solidFill>
                <a:latin typeface="Arial"/>
              </a:rPr>
              <a:t>Pascal </a:t>
            </a:r>
            <a:br>
              <a:rPr sz="4000"/>
            </a:br>
            <a:r>
              <a:rPr b="1" lang="ru-RU" sz="4000" spc="-1" strike="noStrike">
                <a:solidFill>
                  <a:srgbClr val="e10000"/>
                </a:solidFill>
                <a:latin typeface="Arial"/>
              </a:rPr>
              <a:t>Линейные алгорит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. Жид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ператор присваи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е значение получит переменная X после выполнения следующей программ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A:= 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B:= 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A:=(A+B)/2+A*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X:=SQRT(A+B*B-0.5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451640" y="558972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ператор присваи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значение получит переменная S после выполнения программ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A:=5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B:=6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S:=A*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A:=-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B:=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S:=S+A*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10520" y="551664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ператор ввода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read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,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read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нтакси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read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(&lt;список переменных&gt;)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readln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(&lt;список переменных&gt;)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манти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оисходит считывание данных с клавиатуры и запись их в переменные из &lt;списка переменных&gt; по поряд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одить данные нужно через пробе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по нажатию &lt;Enter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а продолжи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гда будут считаны все данны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Readl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ывает переход к следущей стро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роцедурой ввода связан ряд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шиб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например, если должно быть получено целое число, а вводится 'ABC'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ad (a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adln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write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,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writeln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 в окно вывод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нтаксис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Write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(&lt;список выражений&gt;)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writeln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(&lt;список выражений&gt;)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араметры в списке перечисляются через запятую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мантик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числение значений выражений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ывод значений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дур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writel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сле вывода своих параметров осуществляет переход на следующую стро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ой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writel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ывает пропуск стро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write writeln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орматы выво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цедурах вывода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writ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можно указать 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формат выв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вид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:m: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де m и n - целые значения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ширина поля выв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количество знаков после десятичной т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лина выводимого значения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еньше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ширины поля выв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выводимый текст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ле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полняется пробелами. Выравнивание по правому кра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лина выводимого значения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больше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ширины поля выв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формат игнорируе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ения с форматом вывода вид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: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удутпредставлены в экспоненциальной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244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 если a, b - целые переменные, то при выполнении операт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:=-2437; b:=13555;</a:t>
            </a:r>
            <a:br>
              <a:rPr sz="1800"/>
            </a:br>
            <a:r>
              <a:rPr b="0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: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'Привет!'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: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: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кно вывода будет выведен следующий текс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437  Привет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5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-14.859:10:3); // ___-14.859</a:t>
            </a:r>
            <a:br>
              <a:rPr sz="1800"/>
            </a:br>
            <a:r>
              <a:rPr b="0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-14.859:10:5); // _-14.85900</a:t>
            </a:r>
            <a:br>
              <a:rPr sz="1800"/>
            </a:br>
            <a:r>
              <a:rPr b="0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-14.859:10:2); // ____-14.86</a:t>
            </a:r>
            <a:br>
              <a:rPr sz="1800"/>
            </a:br>
            <a:r>
              <a:rPr b="0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-14.859:10:0); // _______-15</a:t>
            </a:r>
            <a:br>
              <a:rPr sz="1800"/>
            </a:br>
            <a:r>
              <a:rPr b="0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-14.859:10:7); // -14.8590000</a:t>
            </a:r>
            <a:br>
              <a:rPr sz="1800"/>
            </a:br>
            <a:r>
              <a:rPr b="0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writel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(0,1):10:1);   // _(0.0,1.0) (здесь символом _ изображены пробел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ератор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write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,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write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write (' A=',A:5:2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write(x:6:3,f:7: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write(a,b,c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write(s,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writeln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write(‘s= ‘, s:6:3, ‘ ‘,’w=’,w:8: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write (‘ x=', x: 10:5)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rite(sqrt(25)+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Какие из операторов вывода, приведенные в таблице, выводят только значения переменны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Какие из приведенных операторов вывода выводят имена переменных и их знач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Какой оператор определяет пропуск стро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03640" y="414972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5 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16360" y="472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  4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ы использования 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: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60120" y="2349000"/>
            <a:ext cx="3467160" cy="4319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swap1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var x, y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integer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beg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read(x,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riteln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x=‘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x, '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', y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v := x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x := 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y := v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riteln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x=‘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x, '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', y); 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48000" y="2349000"/>
            <a:ext cx="3384360" cy="4319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swap2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var x, y: integer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beg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read(x, y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riteln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x=‘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x, '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', y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x := x + 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y := x - 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x := x - 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riteln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x=‘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x, '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', y); e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341360"/>
            <a:ext cx="8424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ример 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еремена местами двух целых значений. Дано: x, y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ния на линейные алгорит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507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ать математическую модель. Составить блок-схему алгоритма и тест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исать программу на язы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дача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ны  катеты  прямоугольного  треугольника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Найти его  гипотенузу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ериметр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площадь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gin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дача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2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йти длину окружности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площадь круга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заданного  радиуса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=2</a:t>
            </a:r>
            <a:r>
              <a:rPr b="1" lang="el-GR" sz="1800" spc="-1" strike="noStrike">
                <a:solidFill>
                  <a:srgbClr val="333399"/>
                </a:solidFill>
                <a:latin typeface="Arial"/>
                <a:ea typeface="Arial"/>
              </a:rPr>
              <a:t>π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;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S= </a:t>
            </a:r>
            <a:r>
              <a:rPr b="1" lang="el-GR" sz="1800" spc="-1" strike="noStrike">
                <a:solidFill>
                  <a:srgbClr val="333399"/>
                </a:solidFill>
                <a:latin typeface="Arial"/>
                <a:ea typeface="Arial"/>
              </a:rPr>
              <a:t>π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читать, что </a:t>
            </a:r>
            <a:r>
              <a:rPr b="1" lang="el-GR" sz="1800" spc="-1" strike="noStrike">
                <a:solidFill>
                  <a:srgbClr val="333399"/>
                </a:solidFill>
                <a:latin typeface="Arial"/>
                <a:ea typeface="Arial"/>
              </a:rPr>
              <a:t>π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=3,1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gin 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дача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3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орость первого автомобиля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м/ч, второго —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м /ч, расстояние между  ними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м. Определить расстояние между ними  через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часов, ес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томобили удаляются друг  от друга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gin 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дача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gin 20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 расстояние  между   двумя  точками  с  заданными  координатами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ru-RU" sz="18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1" lang="ru-RU" sz="18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ru-RU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1" lang="ru-RU" sz="18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плоскости. Расстояние вычисляется по формуле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дача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5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gin 21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ы координаты трех вершин треугольника: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,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. Найти его перимет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лощад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нахождения площади треугольника со сторонам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спользовать формулу Герон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435640" y="4292640"/>
            <a:ext cx="1873080" cy="309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475000" y="5935680"/>
            <a:ext cx="3456000" cy="436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908000" y="6453360"/>
            <a:ext cx="4705560" cy="323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659640" y="5516640"/>
            <a:ext cx="23065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3. Написать программу, которая преобразует введенное с клавиатуры дробное число в денежный формат. Например, число 12.5 должно быть преобразовано к виду 12 руб. 50 коп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перации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div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m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НИМАНИЕ!!!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перации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v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d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определены только для данных типа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intege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Целочисленное делени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x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div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y = x / 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кругленное до ближайшего целого по направлению к нул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статок от целочисленного дел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mod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y = x - (x div y) * 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Пример использ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определе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ис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mod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2 = 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&lt;-&gt; x — четное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x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mod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2 &lt;&gt; 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&lt;-&gt; x — нечет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операций с цифрами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а цифр целого трехзначного числа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:=a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div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100+a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mo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100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div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10 +a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mo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v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Выраж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овокупность операндов и опера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Операн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константы, переменные, фун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Арифметические опер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инар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ерации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+ - * 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(* -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умножение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- делен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унар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ции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нарные операции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di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mo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ределены только для целых чисел, переменных типа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teg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di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ение нацело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5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v 2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ток от дел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43 mod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0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v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v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оритет операц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Приорит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орядок выполнения операций в выраж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ции, имеющие одинаковый приоритет, выполняются слева напра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изменения порядка операций используют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кобки (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бки обладают наивысшим приорит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приоритетов опер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числение функций               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ot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1 (высш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*, /, div, mod, an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+, -, or, xo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=, &lt;&gt;, &lt;, &gt;, &lt;=, &gt;=, i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(низш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а записи выраж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записи в одну стро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ки умножения опускать нель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Главный критерий правильности записи выражения - совпадение порядка выполнения операций с принятым в математ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60" y="1829880"/>
            <a:ext cx="6095880" cy="406404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1332000" y="4221000"/>
            <a:ext cx="5975280" cy="2340000"/>
            <a:chOff x="1332000" y="4221000"/>
            <a:chExt cx="5975280" cy="2340000"/>
          </a:xfrm>
        </p:grpSpPr>
        <mc:AlternateContent>
          <mc:Choice xmlns:a14="http://schemas.microsoft.com/office/drawing/2010/main" Requires="a14">
            <p:sp>
              <p:nvSpPr>
                <p:cNvPr id="51" name=""/>
                <p:cNvSpPr txBox="1"/>
                <p:nvPr/>
              </p:nvSpPr>
              <p:spPr>
                <a:xfrm>
                  <a:off x="1405080" y="5013000"/>
                  <a:ext cx="4248000" cy="70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x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→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sqr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1332000" y="4221000"/>
                  <a:ext cx="597528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</m:e>
                      </m:rad>
                      <m:r>
                        <m:t xml:space="preserve"> </m:t>
                      </m:r>
                      <m:r>
                        <m:t xml:space="preserve">→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sqrt</m:t>
                      </m:r>
                      <m:r>
                        <m:t xml:space="preserve">(</m:t>
                      </m:r>
                      <m:r>
                        <m:t xml:space="preserve">5</m:t>
                      </m:r>
                      <m:r>
                        <m:t xml:space="preserve">∗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476360" y="5805360"/>
                  <a:ext cx="479448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bx</m:t>
                          </m:r>
                        </m:e>
                      </m:d>
                      <m:r>
                        <m:t xml:space="preserve"> </m:t>
                      </m:r>
                      <m:r>
                        <m:t xml:space="preserve">→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abs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∗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рифметические выра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из приведенных выражений правильно записаны на язык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СКА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A+B+C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^ 2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N(X+2)*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COS(A+2)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^.Y+Z-5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X+Y*3.2-A)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+Y/(Z*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*X+Y*Y=R*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QRT(A*2+B*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2060640"/>
            <a:ext cx="331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  3  7 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700000" y="2349360"/>
            <a:ext cx="237636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700360" y="2852640"/>
            <a:ext cx="324000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484000" y="2852640"/>
            <a:ext cx="431964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419280" y="2924280"/>
            <a:ext cx="4321080" cy="2665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ператор присваива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: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ыполняет изменение значения переме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нтакси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&lt;имя переменной&gt; := &lt;выражение&gt;;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манти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числяетс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&lt;выражение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правой ча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 записывается 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&lt;переменную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Ограничение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Тип выражения должен быть совместим по присваиванию с переменной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. </a:t>
            </a:r>
            <a:br>
              <a:rPr sz="14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аковые типы совмести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ражение тип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nteger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жно присвоить переменной тип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re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тное невер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использования оператора присваивания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a := (3 + 5) * 8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b := a +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ператор присваи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еди приведенных выражений указать правильные операторы присва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X:=X+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X+2:=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:=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K+5:=X+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RITE(“C=”,C:6:2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RITE(“A+B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:=SQR(Z)+5.3*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X:=X*X+A*X+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95640" y="573408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  2    4   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ператор присваи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е значение получит переменная Y после выполнения следующей программ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Х:= 5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A:= 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В:= -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У:= A*X+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36000" y="4869000"/>
            <a:ext cx="60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ператор присваи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е значение получит переменная Y после выполнения следующ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грамм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А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:=1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В:=1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А:=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В:=В+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У:=А+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98160" y="558972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2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6:39:49Z</dcterms:created>
  <dc:creator>Andrey</dc:creator>
  <dc:description/>
  <dc:language>en-US</dc:language>
  <cp:lastModifiedBy>Andrey</cp:lastModifiedBy>
  <dcterms:modified xsi:type="dcterms:W3CDTF">2011-02-15T16:40:16Z</dcterms:modified>
  <cp:revision>1</cp:revision>
  <dc:subject/>
  <dc:title>Язык программирования Pascal  Линейные алгоритмы</dc:title>
</cp:coreProperties>
</file>