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D33-9399-4463-9DF3-92E8AAE4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D82-76CD-4253-A783-ED21FE8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E64-1970-47EA-A32F-0D6FD4DB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E30-817D-4FE2-803D-C517DCDD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8A2-8493-4054-8C47-35CA0DD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D40-5C26-4145-AB72-3F04881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D0B-6E77-4F75-AF76-E56B5BB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05E-3B29-49E9-9B29-534CCAF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ABB-E43F-4800-925F-2908C46B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29F-881B-4A5B-B4F2-0BB25CD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444-232C-4023-80C5-BC3DF1A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A71-0F34-49B7-94D0-085E2E9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232-3D5D-4C2A-BD5C-65076A62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40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4000"/>
            </a:b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Линей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X после выполнения следующей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: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(A+B)/2+A*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X:=SQRT(A+B*B-0.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1640" y="5589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S после выполнения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A: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B:=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S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A:=-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B:=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S:=S+A*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0520" y="5516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read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read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read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&lt;список переменных&gt;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readl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&lt;список переменных&gt;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исходит считывание данных с клавиатуры и запись их в переменные из &lt;списка переменных&gt; по поряд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ить данные нужно через пробе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 нажатию &lt;Enter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продолж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будут считаны все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Readl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ереход к следущей стро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оцедурой ввода связан ряд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апример, если должно быть получено целое число, а вводится 'ABC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ad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adln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в окно выв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&lt;список выражений&gt;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&lt;список выражений&gt;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раметры в списке перечисляются через запяту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сление значений выражени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значени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вывода своих параметров осуществляет переход на следующую ст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о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ропуск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write writel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ы выв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дурах вывод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ожно указать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формат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ви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m: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m и n - целые значения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ширина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личество знаков после десятичн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ина выводимого знач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ньше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ирины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выводимый тек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полняется пробелами. Выравнивание по правому кра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ина выводимого знач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ширины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формат игнор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я с форматом вывода ви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утпредставлены в экспоненциа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если a, b - целые переменные, то при выполнении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:=-2437; b:=13555;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'Привет!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о вывода будет выведен следующий текс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437  Привет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3); // ___-14.859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5); // _-14.85900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2); // ____-14.86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0); // _______-15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7); // -14.8590000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0,1):10:1);   // _(0.0,1.0) (здесь символом _ изображены пробе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 (' A=',A:5: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x:6:3,f:7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a,b,c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s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‘s= ‘, s:6:3, ‘ ‘,’w=’,w:8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 (‘ x=', x: 10:5)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ite(sqrt(25)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ие из операторов вывода, приведенные в таблице, выводят только значения перемен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из приведенных операторов вывода выводят имена переменных и их знач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ой оператор определяет пропуск стро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414972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5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47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4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использования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0120" y="2349000"/>
            <a:ext cx="3467160" cy="4319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wap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r x, 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ad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 :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v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8000" y="2349000"/>
            <a:ext cx="3384360" cy="4319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wap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r x, y: 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ad(x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x +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x -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x -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341360"/>
            <a:ext cx="8424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 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емена местами двух целых значений. Дано: x, 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я на линей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математическую модель. Составить блок-схему алгоритма и тес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ть программу на я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ы  катеты  прямоугольного  треугольника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айти его  гипотенузу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иметр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лоща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ти длину окружности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площадь круг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данного  радиус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=2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;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= 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итать, что 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=3,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рость первого автомобиля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/ч, второго —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 /ч, расстояние между  ними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. Определить расстояние между ними  через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асов, 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и удаляются друг  от друг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20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расстояние  между   двумя  точками  с  заданными  координатам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лоскости. Расстояние вычисляется по формул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2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ы координаты трех вершин треугольника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. Найти его пери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ощад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нахождения площади треугольника со сторон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ть формулу Гер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873080" cy="309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75000" y="5935680"/>
            <a:ext cx="3456000" cy="43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08000" y="6453360"/>
            <a:ext cx="4705560" cy="323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59640" y="5516640"/>
            <a:ext cx="2306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3. Написать программу, которая преобразует введенное с клавиатуры дробное число в денежный формат. Например, число 12.5 должно быть преобразовано к виду 12 руб. 50 ко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перации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v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пределены только для данных типа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teg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очисленное дел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y = x /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кругленное до ближайшего целого по направлению к ну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статок от целочисленного де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y = x - (x div y) *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имер исполь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опреде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2 =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-&gt; x — четное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2 &lt;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-&gt; x — нече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операций с цифрами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целого трехзначного числа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:=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0+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 +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ы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операндов и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перан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нстанты, переменные,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рифметически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инар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 - * 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* -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множение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- дел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нар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арные операции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mo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ены только для целых чисел, переменных тип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нацело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v 2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3 mo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оритет операц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рядок выполнения операций в выра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, имеющие одинаковый приоритет, выполняются слева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нения порядка операций использу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обки (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бки обладают наивысшим приор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приоритетов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функций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t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1 (высш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*, /, div, mod, a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, -, or, x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=, &lt;&gt;, &lt;, &gt;, &lt;=, &gt;=, i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(низш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записи выра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записи в одну ст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и умножения опуск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вный критерий правильности записи выражения - совпадение порядка выполнения операций с принятым в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0" y="1829880"/>
            <a:ext cx="6095880" cy="40640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332000" y="4221000"/>
            <a:ext cx="5975280" cy="2340000"/>
            <a:chOff x="1332000" y="4221000"/>
            <a:chExt cx="5975280" cy="234000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1405080" y="5013000"/>
                  <a:ext cx="42480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q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332000" y="4221000"/>
                  <a:ext cx="597528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qrt</m:t>
                      </m:r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5805360"/>
                  <a:ext cx="479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e>
                      </m:d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bs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∗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фмет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приведенных выражений правильно записаны на язык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+B+C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^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N(X+2)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COS(A+2)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^.Y+Z-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X+Y*3.2-A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+Y/(Z*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X+Y*Y=R*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QRT(A*2+B*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060640"/>
            <a:ext cx="331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 3  7 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700000" y="2349360"/>
            <a:ext cx="237636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00360" y="2852640"/>
            <a:ext cx="3240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484000" y="2852640"/>
            <a:ext cx="431964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280" y="2924280"/>
            <a:ext cx="4321080" cy="266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олняет изменение значения пе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&lt;имя переменной&gt; := &lt;выражение&gt;;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&lt;выражение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равой ч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записывается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&lt;переменную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граниче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ип выражения должен быть совместим по присваиванию с переменной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типы совмести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ение тип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nteg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присвоить переменной тип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ное неве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спользования оператора присваив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a := (3 + 5) * 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b := a +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и приведенных выражений указать правильные операторы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:=X+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+2:=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:=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+5:=X+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(“C=”,C:6: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(“A+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:=SQR(Z)+5.3*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:=X*X+A*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7340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  2    4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Y после выполнения следующей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Х: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:= -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У:= A*X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4869000"/>
            <a:ext cx="60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Y после выполнения следу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:=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:=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: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:=В+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:=А+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8160" y="558972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9:49Z</dcterms:created>
  <dc:creator>Andrey</dc:creator>
  <dc:description/>
  <dc:language>en-US</dc:language>
  <cp:lastModifiedBy>Andrey</cp:lastModifiedBy>
  <dcterms:modified xsi:type="dcterms:W3CDTF">2011-02-15T16:40:16Z</dcterms:modified>
  <cp:revision>1</cp:revision>
  <dc:subject/>
  <dc:title>Язык программирования Pascal  Линейные алгоритмы</dc:title>
</cp:coreProperties>
</file>