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462-39AE-4B49-953E-7B4422D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CC4-39B3-4D3B-B089-0F1FA88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683-DC41-4588-B170-6DA9F2A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872-E5F4-413A-8399-E593057E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917-E25E-46BD-920A-3E84C66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99-59C8-4BC0-8DF2-CECA09B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CF5-31A4-45C9-96BB-906D4A8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D0E-59B6-4508-8DA0-B4D7D638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63A-7C3E-49CE-B955-C8272690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0B1-C896-46F4-8CF5-7D43AEC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A53-A2E0-4B87-88F7-613D516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4B1-9493-439D-A69F-793972C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0D04-57CB-4E9F-B013-FF39F434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36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3600"/>
            </a:br>
            <a:r>
              <a:rPr b="1" lang="ru-RU" sz="3600" spc="-1" strike="noStrike">
                <a:solidFill>
                  <a:srgbClr val="e10000"/>
                </a:solidFill>
                <a:latin typeface="Arial"/>
              </a:rPr>
              <a:t> Работа с символьными д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 данных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ch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ах наряду с числовой информацией обрабатывается и информация в виде симв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менные тип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анят один символ. Наприме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: char;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Begin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 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''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фрагменте символьная переменная последовательно получает значени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, +, 3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ел и апостро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ВМ символу соответствует код (номер) в интервале от 0 до 255 (кодиров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I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к символам возможно применение операций отнош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&gt;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ортировки, на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'A' &lt; 'B' &lt; 'C' &lt; ... &lt; 'X' &lt; 'Y' &lt; 'Z' '0' &lt; '1' &lt; '2' &lt; ... &lt; '7' &lt; '8' &lt; '9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CII WINDOWS CP12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(603x501, 29Kb)"/>
          <p:cNvPicPr/>
          <p:nvPr/>
        </p:nvPicPr>
        <p:blipFill>
          <a:blip r:embed="rId1"/>
          <a:stretch/>
        </p:blipFill>
        <p:spPr>
          <a:xfrm>
            <a:off x="1332000" y="1341360"/>
            <a:ext cx="6121440" cy="5087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2708280"/>
            <a:ext cx="633744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5157720"/>
            <a:ext cx="6337440" cy="12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1341360"/>
            <a:ext cx="1619280" cy="1079640"/>
          </a:xfrm>
          <a:prstGeom prst="wedgeRectCallout">
            <a:avLst>
              <a:gd name="adj1" fmla="val -47842"/>
              <a:gd name="adj2" fmla="val 8367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т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..Z 65.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..z 97..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7640" y="3141720"/>
            <a:ext cx="1297080" cy="1584360"/>
          </a:xfrm>
          <a:prstGeom prst="wedgeRectCallout">
            <a:avLst>
              <a:gd name="adj1" fmla="val -60527"/>
              <a:gd name="adj2" fmla="val 7805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.Я 192..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.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24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349360"/>
            <a:ext cx="41767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25360"/>
            <a:ext cx="1297080" cy="936720"/>
          </a:xfrm>
          <a:prstGeom prst="wedgeRectCallout">
            <a:avLst>
              <a:gd name="adj1" fmla="val 44490"/>
              <a:gd name="adj2" fmla="val 8525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.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8.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365720"/>
            <a:ext cx="647640" cy="1008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над данными типа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Pr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предыду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код(номер) ли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литеру по её к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10920" y="3789000"/>
            <a:ext cx="80643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Succ('0')='1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следующий за символом 0, равен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Pred('3')='2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предшествующий символу 3, равен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hr(65)='A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соответствующий коду 65, равен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Ord('A')=6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д символа А равен 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граммы работающей с данными типа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кода симв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ующий симв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вол соответствующий к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ующий симв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имволу определить 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ть символы русского алфавита в одну ст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м образом АаБбВвГ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" y="3645000"/>
            <a:ext cx="821844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r i:=1 to 254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ln ('i=',i,' pred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pr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' chr=',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' succ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' ord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r i:=192 to 192+3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)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+3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416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программу, проверяющую, является ли введенный с клавиатуры символ буквой 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A B C ...Y Z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B C …Y Z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 ...Y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яяяяяяяя…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юююю…ю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ээээээ…э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. .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ввв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бб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ьте программу, проверяющую, является ли введенный с клавиатуры символ буквой 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5765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 C ...Y 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C …Y 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...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2205000"/>
            <a:ext cx="547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program si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var j,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sim: 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j := 0 to 26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i: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'A')+j to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'Z'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59280" y="2075040"/>
            <a:ext cx="49068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59280" y="148428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program si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var j,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sim: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c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j:=192 to 192+3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i:=32-j+192 downto 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255+192-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яяяяяяяя…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ююю…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ээээээ…э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. 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в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бб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5256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53:44Z</dcterms:created>
  <dc:creator>Andrey</dc:creator>
  <dc:description/>
  <dc:language>en-US</dc:language>
  <cp:lastModifiedBy>Andrey</cp:lastModifiedBy>
  <dcterms:modified xsi:type="dcterms:W3CDTF">2011-02-15T16:54:14Z</dcterms:modified>
  <cp:revision>1</cp:revision>
  <dc:subject/>
  <dc:title>Язык программирования Pascal   Работа с символьными данными</dc:title>
</cp:coreProperties>
</file>