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02C-1C4E-4315-8C16-B76E527B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9279-1E6B-404F-8B1F-CF96867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94C-6AC3-4F2D-BF57-7BE73A0B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9A4-39DA-495C-B289-42A2F20A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FD38-FCED-41A4-960C-067B93B6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02B-159D-4DB1-A62A-63ADFBEF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3B2-CA52-4B31-A7BF-13B7AFF0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68AA-654D-4FE5-9BD9-5AE82D56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F23-2EDC-44A7-A661-60CB68C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537-6336-4F16-B716-D2367728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738-A1B7-4332-8EDD-F923C306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E85-7B0C-456F-9E3D-8C6AE1E8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DF9B-405D-4110-AE19-8212966F4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36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3600"/>
            </a:br>
            <a:r>
              <a:rPr b="1" lang="ru-RU" sz="3600" spc="-1" strike="noStrike">
                <a:solidFill>
                  <a:srgbClr val="e10000"/>
                </a:solidFill>
                <a:latin typeface="Arial"/>
              </a:rPr>
              <a:t> Работа с символьными д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 данных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ch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пьютерах наряду с числовой информацией обрабатывается и информация в виде симв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менные тип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ранят один символ. Наприме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ar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: char;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Begin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 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Alph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:=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''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фрагменте символьная переменная последовательно получает значения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, +, 3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ел и апостро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ВМ символу соответствует код (номер) в интервале от 0 до 255 (кодиров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II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к символам возможно применение операций отнош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&gt;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ортировки, на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'A' &lt; 'B' &lt; 'C' &lt; ... &lt; 'X' &lt; 'Y' &lt; 'Z' '0' &lt; '1' &lt; '2' &lt; ... &lt; '7' &lt; '8' &lt; '9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дировка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CII WINDOWS CP12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 (603x501, 29Kb)"/>
          <p:cNvPicPr/>
          <p:nvPr/>
        </p:nvPicPr>
        <p:blipFill>
          <a:blip r:embed="rId1"/>
          <a:stretch/>
        </p:blipFill>
        <p:spPr>
          <a:xfrm>
            <a:off x="1332000" y="1341360"/>
            <a:ext cx="6121440" cy="5087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2708280"/>
            <a:ext cx="6337440" cy="1297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5157720"/>
            <a:ext cx="6337440" cy="1295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24720" y="1341360"/>
            <a:ext cx="1619280" cy="1079640"/>
          </a:xfrm>
          <a:prstGeom prst="wedgeRectCallout">
            <a:avLst>
              <a:gd name="adj1" fmla="val -47842"/>
              <a:gd name="adj2" fmla="val 8367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т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..Z 65..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..z 97..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67640" y="3141720"/>
            <a:ext cx="1297080" cy="1584360"/>
          </a:xfrm>
          <a:prstGeom prst="wedgeRectCallout">
            <a:avLst>
              <a:gd name="adj1" fmla="val -60527"/>
              <a:gd name="adj2" fmla="val 78055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.Я 192..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..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24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349360"/>
            <a:ext cx="4176720" cy="43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25360"/>
            <a:ext cx="1297080" cy="936720"/>
          </a:xfrm>
          <a:prstGeom prst="wedgeRectCallout">
            <a:avLst>
              <a:gd name="adj1" fmla="val 44490"/>
              <a:gd name="adj2" fmla="val 8525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.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8..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4365720"/>
            <a:ext cx="647640" cy="1008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над данными типа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Pr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предыду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код(номер) лит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озвращает литеру по её к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10920" y="3789000"/>
            <a:ext cx="806436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Succ('0')='1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следующий за символом 0, равен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Pred('3')='2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предшествующий символу 3, равен 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hr(65)='A'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имвол, соответствующий коду 65, равен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Ord('A')=6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код символа А равен 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 программы работающей с данными типа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кода симв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шествующий симв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мвол соответствующий к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ующий симв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имволу определить ег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ечатать символы русского алфавита в одну ст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ующим образом АаБбВвГ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" y="3645000"/>
            <a:ext cx="821844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a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: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r i:=1 to 254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=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ln ('i=',i,' pred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pre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' chr=',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' succ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suc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' ord='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simbo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or i:=192 to 192+31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rite (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),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i+32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7416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ьте программу, проверяющую, является ли введенный с клавиатуры символ буквой 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A B C ...Y Z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B C …Y Z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 ...Y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Аяяяяяяяя…я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юююю…ю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ээээээ…э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. .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ввв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Юбб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а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авьте программу, проверяющую, является ли введенный с клавиатуры символ буквой латинского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5765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 C ...Y 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C …Y 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...Y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2205000"/>
            <a:ext cx="547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program si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var j,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sim: 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j := 0 to 26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i:=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'A')+j to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or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'Z'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i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l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59280" y="2075040"/>
            <a:ext cx="490680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59280" y="148428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program sim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var j,i:integ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sim:ch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c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j:=192 to 192+3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or i:=32-j+192 downto 1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 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ch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255+192-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на самоподготов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ести на экран треугольн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яяяяяяяя…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ююю…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ээээээ…э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. 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вв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бб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5256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53:44Z</dcterms:created>
  <dc:creator>Andrey</dc:creator>
  <dc:description/>
  <dc:language>en-US</dc:language>
  <cp:lastModifiedBy>Andrey</cp:lastModifiedBy>
  <dcterms:modified xsi:type="dcterms:W3CDTF">2011-02-15T16:54:14Z</dcterms:modified>
  <cp:revision>1</cp:revision>
  <dc:subject/>
  <dc:title>Язык программирования Pascal   Работа с символьными данными</dc:title>
</cp:coreProperties>
</file>