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2E19-B92E-40AC-92F0-724E86DE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33F-8D6B-4CC6-9045-E7825309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4A11-B8A1-4DA8-A017-29529A9F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FFC8-8881-4F3D-A260-956FB42E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D80A-2291-4EEF-BDB0-C55B12BC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4D20-D4DC-4CB3-9A7C-D8C34664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6126-1F42-4A6B-8E47-1B44D830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95DB-316F-468C-86EA-119B1A89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9D11-30E5-42E7-BB12-5B36BEDC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365D-131C-475E-8A2B-7002111E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4210-082E-4FF2-B3DF-04D62A3D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4833-C580-4F23-AA9E-800C4C62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6CE9-1895-42B9-894B-CFDEFEED2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ерносотенное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боту выполн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ченица 10 «А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ОУ «СОШ №34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амнева Элин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уководитель Алексеева М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ы борьб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гальные : организация политических партий после манифеста 17 октября 1905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легальные: организация пропаганды, погромов, убий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тиворечия внутри движения черносотенце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стрый социальный сост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громы, убийства, антисемитизм, присвоение казенных субсидий не способствовали консолидации партии в единую организ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влечение крестьян при недопущении мысли о разделе помещичьих зем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6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600200" y="609480"/>
          <a:ext cx="5029200" cy="55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09480"/>
                    <a:ext cx="502920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Цели и задач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следить процесс возникновения и развития черносотенных организ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анализировать социальный сост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анализировать противоречия внутри черносотенного 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7993080" cy="5305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монстрация черносотенцев в Одессе вскоре после объявления «Манифеста 17-го октября 1905 года об усовершенствовании государственного поряд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.К. Плеве- «крестный отец черносотенного движе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3241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юз русского народа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05-1917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708000" y="2133720"/>
            <a:ext cx="4978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виз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Веру, Царя и Отечеств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звитие национального русского самосознания, объединение русского на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дер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.И. Дубров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3116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55640" y="549360"/>
            <a:ext cx="6141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лександр Иванович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убровин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855-1921г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84360" y="1988640"/>
            <a:ext cx="6213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дер черносотенной организации «Союз русского нар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датель и редактор партийной газеты «Русское знамя»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пагандировались монархические идеи, критиковалась деятельность Государственной думы, либералов и левых радикалов, публиковались антисемитские стать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21938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усский народный союз имени Михаила Архангел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51280" y="2492280"/>
            <a:ext cx="51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4520" y="2060640"/>
            <a:ext cx="3084480" cy="4392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708360" y="2205000"/>
            <a:ext cx="5057640" cy="40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виз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За Церковь   Православную, Царя Самодержавного и за Народность Русску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хранение исторических устоев России, лишение избирательных прав иудеев, ограничение представительства Польши и Кавка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дер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.М. Пуришк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700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ладимир Митрофанович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уришкевич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870-1920гг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59280" y="2565000"/>
            <a:ext cx="562752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дер черносотенной организации «Союз русского народа имени Михаила Архангела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едатель редакционной коллегии Книги русской скорб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 издатель черносотенного журнала «Благовест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26766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идеи черносотенце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хранение самодержавного  стр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прикосновенность помещичьих зем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граничение прав инородцев, особенно евре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4:08:24Z</dcterms:created>
  <dc:creator>home user</dc:creator>
  <dc:description/>
  <dc:language>en-US</dc:language>
  <cp:lastModifiedBy>Admin</cp:lastModifiedBy>
  <dcterms:modified xsi:type="dcterms:W3CDTF">2011-11-17T07:45:55Z</dcterms:modified>
  <cp:revision>4</cp:revision>
  <dc:subject/>
  <dc:title>Черносотенное движение</dc:title>
</cp:coreProperties>
</file>