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F8B-23BE-4C70-A75B-C75CF42C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EAC-3257-4723-9241-2ED79C9C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68C-FE77-421C-84D4-209FD765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9A8-0BB0-4F5A-A880-22717119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13B-4B9D-47E2-8C8B-6E7E1211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30A-3D18-4B04-932A-049F96E5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87D-0CF9-4FF1-9748-31B1C92F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62D1-B10A-46A8-8C4E-6F40A9CE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A54-D380-4DFA-891E-DBB34228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59D-C265-4F97-89B0-1C175BF5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F5C-6A57-4664-845D-AF0EAF38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3DE-F6FD-4DAC-BF1B-04931474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0791-9E23-4389-B21C-BE2841A3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ерносотенн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еница 10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У «СОШ №3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мнева Эли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уководитель Алексеева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борь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альные : организация политических партий после манифеста 17 октября 190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легальные: организация пропаганды, погромов, убий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тиворечия внутри движения черносотенц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стрый социальный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громы, убийства, антисемитизм, присвоение казенных субсидий не способствовали консолидации партии в единую организ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лечение крестьян при недопущении мысли о разделе помещичьих зе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00200" y="609480"/>
          <a:ext cx="502920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0292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ледить процесс возникновения и развития черносотенных организ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анализировать социальный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анализировать противоречия внутри черносотен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93080" cy="5305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монстрация черносотенцев в Одессе вскоре после объявления «Манифеста 17-го октября 1905 года об усовершенствовании государственного поряд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.К. Плеве- «крестный отец черносотенного движ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24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юз русского народа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05-1917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08000" y="2133720"/>
            <a:ext cx="497844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виз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Веру, Царя и Отечест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звитие национального русского самосознания, объединение русского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ер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И. Дубро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116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549360"/>
            <a:ext cx="61419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ександр Ивано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убровин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855-1921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360" y="1988640"/>
            <a:ext cx="6213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дер черносотенной организации «Союз русского на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датель и редактор партийной газеты «Русское знамя»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пагандировались монархические идеи, критиковалась деятельность Государственной думы, либералов и левых радикалов, публиковались антисемитские стать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1938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усский народный союз имени Михаила Арханге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2492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4520" y="2060640"/>
            <a:ext cx="3084480" cy="439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2205000"/>
            <a:ext cx="505764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виз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За Церковь   Православную, Царя Самодержавного и за Народность Русску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хранение исторических устоев России, лишение избирательных прав иудеев, ограничение представительства Польши и Кавк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ер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М. Пуришк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ладимир Митрофано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уришке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870-1920гг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59280" y="2565000"/>
            <a:ext cx="562752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дер черносотенной организации «Союз русского народа имени Михаила Архангела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едатель редакционной коллегии Книги русской скор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издатель черносотенного журнала «Благовес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6766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деи черносотенце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самодержавного  ст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рикосновенность помещичьих зе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раничение прав инородцев, особенно евр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14:08:24Z</dcterms:created>
  <dc:creator>home user</dc:creator>
  <dc:description/>
  <dc:language>en-US</dc:language>
  <cp:lastModifiedBy>Admin</cp:lastModifiedBy>
  <dcterms:modified xsi:type="dcterms:W3CDTF">2011-11-17T07:45:55Z</dcterms:modified>
  <cp:revision>4</cp:revision>
  <dc:subject/>
  <dc:title>Черносотенное движение</dc:title>
</cp:coreProperties>
</file>