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E39E-986D-4F57-84DD-DB6CE4AED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BA6C-AE3E-4B2E-8E00-B487EBF1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E4EE-A523-4482-B452-8224D631B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342B-2288-475F-9563-0A5419895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2CFF-393B-46D4-B64E-1039004B8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21F0-0186-41B5-9AA1-045B6DB8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7438-3C69-414F-AB97-06C153FA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E250-10AC-4417-8A7F-ED12D176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BA5F-5F8B-49F8-90ED-6041D4E9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B28E-2359-4AB5-95A0-112BE720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9134-0A01-4313-9CC1-99138CCB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1896-703F-449B-8974-D9560716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E0F3-A613-4112-B242-DA6EC452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1702-D219-4962-83FF-50CACC69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CD8F-A00D-4DC2-A41C-508CB8A3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3AE5-0680-49D0-BCE4-45387842C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55A4-3B8A-43A1-B5C5-184C48128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C364-5AD4-4282-AC9C-475D2792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6674-6532-4EDB-9F6A-FB58A284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AE0F-627E-4CCC-8AD6-468F194A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657F-857F-4BEA-8825-3C8D8C6D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6CE9-8EBD-4635-AF89-A74075EA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DD58-66D9-4923-8AC0-0C123076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3149-2914-414C-A02D-5165ED2E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A7DF-FFE3-454E-8FDD-769E6C9351C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63F4-54E6-4071-ADDD-091EF60F201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684360" y="2276640"/>
            <a:ext cx="8172360" cy="95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илологическая разминка</a:t>
            </a:r>
            <a:endParaRPr b="0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9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Найдите четвертое лишнее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  стульчи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 диванч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 огурч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 разговорч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2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10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Назовите слово, образованное только с помощью приставки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пригор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иссуш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говорчив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2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11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Найдите существительное мужского рода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авеню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паль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депо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маэстр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2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12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С какой частью речи не употребляются предлоги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глагол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существитель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числительное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местоим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13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Найдите четвертое лишнее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ворота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двер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сан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салазк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2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14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Назовите часть речи, которая может изменяться и по временам, и по падежам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глагол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причаст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числительное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прилагатель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15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Решите грамматическую задачу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95280" y="292428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можно ли вне текста определить часть речи слова «стекло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95280" y="2923920"/>
            <a:ext cx="822960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Хрупкое стекл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                    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Стекло с крыш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10000002384186">
                                      <p:cBhvr additive="repl">
                                        <p:cTn id="100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10000002384186">
                                      <p:cBhvr additive="repl">
                                        <p:cTn id="104" dur="2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16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Каким членом предложения является слово «выше»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Поднимайтесь выш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Этот дом значительно выш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17</a:t>
            </a:r>
            <a:br>
              <a:rPr sz="2400"/>
            </a:b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Выбор гласной в корне -</a:t>
            </a:r>
            <a:r>
              <a:rPr b="1" i="1" lang="ru-RU" sz="2800" spc="-1" strike="noStrike">
                <a:solidFill>
                  <a:srgbClr val="ccecff"/>
                </a:solidFill>
                <a:latin typeface="Arial"/>
              </a:rPr>
              <a:t>кос</a:t>
            </a: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- – -</a:t>
            </a:r>
            <a:r>
              <a:rPr b="1" i="1" lang="ru-RU" sz="2800" spc="-1" strike="noStrike">
                <a:solidFill>
                  <a:srgbClr val="ccecff"/>
                </a:solidFill>
                <a:latin typeface="Arial"/>
              </a:rPr>
              <a:t>кас</a:t>
            </a: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-  зависит от: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удар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последующего суффик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ксического знач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2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1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В каком слове количество букв и звуков совпадает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пахать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боюс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ос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каю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35280" y="5229360"/>
            <a:ext cx="28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18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В каком слове в корне пишется «А»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р…сток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зар…с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пор…сль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отр…сл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2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19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Какую смысловую нагрузку несет запятая в предложениях? Принципиальна ли она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Мы построим новый каменный до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Мы построим новый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каменный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до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20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ЭТИМОЛОГИЧЕСКИЙ – это словарь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иностранных сл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правильного произно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исхождения сл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ксического значения сл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2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ecff"/>
                </a:solidFill>
                <a:latin typeface="Arial"/>
              </a:rPr>
              <a:t>Сочинение – эсс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Несколько слов о себе, о своей семье, о своей школьной жизни, о своих увлечения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Что я жду от уроков русского языка и литературы. Какими они должны бы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Каким я хочу видеть учителя русского языка и литературы и что я жду от нег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Каким должен (должна) быть я. Что зависит от меня, чтобы достичь успех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Что мне может помеш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Мои просьбы и пожел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№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2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В каком слове есть только твердые согласные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920" y="328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  варит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  багрец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 скаже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 сме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2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3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Найдите слово, в котором находятся рядом два гласных звука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сою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дуэ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стру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2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4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Что изучает наука </a:t>
            </a:r>
            <a:r>
              <a:rPr b="1" i="1" lang="en-US" sz="2400" spc="-1" strike="noStrike" u="sng">
                <a:solidFill>
                  <a:srgbClr val="ccecff"/>
                </a:solidFill>
                <a:uFillTx/>
                <a:latin typeface="Arial"/>
              </a:rPr>
              <a:t>«Орфоэпия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» 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2997000"/>
            <a:ext cx="91440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произнош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звуки реч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правопис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2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5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Найдите лишнее слово в синонимическом ряду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всадник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коню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конник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наездни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6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Что обозначает слово «</a:t>
            </a:r>
            <a:r>
              <a:rPr b="1" i="1" lang="en-US" sz="2400" spc="-1" strike="noStrike" u="sng">
                <a:solidFill>
                  <a:srgbClr val="ccecff"/>
                </a:solidFill>
                <a:uFillTx/>
                <a:latin typeface="Arial"/>
              </a:rPr>
              <a:t>ланиты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»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руки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гла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губы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ще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устаревшее слов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ЗМ  или  АРХАИЗ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2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7</a:t>
            </a:r>
            <a:br>
              <a:rPr sz="2400"/>
            </a:br>
            <a:r>
              <a:rPr b="1" i="1" lang="en-US" sz="2400" spc="-1" strike="noStrike" u="sng">
                <a:solidFill>
                  <a:srgbClr val="ccecff"/>
                </a:solidFill>
                <a:uFillTx/>
                <a:latin typeface="Arial"/>
              </a:rPr>
              <a:t>Неологизм 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– это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устаревшее слово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новое слов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ово, употребляемое в определенной мест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ово, пришедшее к нам из других язык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2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8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Что обозначает слово</a:t>
            </a:r>
            <a:r>
              <a:rPr b="1" i="1" lang="en-US" sz="2400" spc="-1" strike="noStrike" u="sng">
                <a:solidFill>
                  <a:srgbClr val="ccecff"/>
                </a:solidFill>
                <a:uFillTx/>
                <a:latin typeface="Arial"/>
              </a:rPr>
              <a:t> «декоративный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»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служащий для укра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яркий, разноцветный, с картинк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ненный ручным труд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2T13:10:35Z</dcterms:created>
  <dc:creator>мах</dc:creator>
  <dc:description/>
  <dc:language>en-US</dc:language>
  <cp:lastModifiedBy>prezent261</cp:lastModifiedBy>
  <dcterms:modified xsi:type="dcterms:W3CDTF">2007-09-04T04:18:20Z</dcterms:modified>
  <cp:revision>3</cp:revision>
  <dc:subject/>
  <dc:title>Слайд 1</dc:title>
</cp:coreProperties>
</file>