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52B0-70E0-4F27-B20D-6DBF9053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ADE-6358-4720-83B8-205C72C3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14C4-36B6-4E10-841F-CFA0A7CB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44C-27ED-4C27-B284-BC8431C8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E9A3-DD7A-4581-BE81-9C60E302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9979-6EF5-435A-82C7-C9646471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8932-77F7-41A3-8441-12AD810D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9A5F-0118-492B-BC9D-121385C0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6AF1-37B8-4582-9D84-F386BE8E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6C4A-E8EE-4D73-9298-960BDF32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A587-3D86-48D7-9285-04E19D37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89B3-9CB1-4137-8D0B-DF9A2543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2954-8F44-4BF9-A56F-04D590E2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F93F-208D-4739-A28C-96C9A121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972E-F1EF-4841-A96A-BFDC213A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1CB2-E67D-426D-B1E2-AA210571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4E30-4CF0-4F6C-99D1-4BF0CD9B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68A-F876-4567-B41E-6723271F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889-7957-42FC-8411-40DBF2B7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9BB-990A-4646-95EC-96067015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121-8016-4A22-BE4D-FBEA90E8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A275-AF2E-4438-8835-A0FB2F2F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BA5F-AECA-447F-9B97-611EFEB3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3C5-28D2-470C-BBD8-B4AFB02F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7FFF-BD6C-4F02-8DEB-4E2DCF6935B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0049-3EAF-4EF2-9B11-5B08E5CF28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84360" y="2276640"/>
            <a:ext cx="8172360" cy="95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лологическая разминка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9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четвертое лишнее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  стульч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 диванч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 огурч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 разговорч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0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зовите слово, образованное только с помощью приставки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пригор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иссуш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говорчи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1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существительное мужского рода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авеню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паль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депо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маэс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2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С какой частью речи не употребляются предлоги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глагол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существи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числительное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местоим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3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четвертое лишнее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ворота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двер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са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салаз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4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зовите часть речи, которая может изменяться и по временам, и по падежам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глагол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причаст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числительное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прилагатель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5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Решите грамматическую задачу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можно ли вне текста определить часть речи слова «стекло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95280" y="2923920"/>
            <a:ext cx="822960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Хрупкое стек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Стекло с кры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10000002384186">
                                      <p:cBhvr additive="repl">
                                        <p:cTn id="100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10000002384186">
                                      <p:cBhvr additive="repl">
                                        <p:cTn id="104" dur="2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6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Каким членом предложения является слово «выше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Поднимайтесь вы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Этот дом значительно выш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17</a:t>
            </a:r>
            <a:br>
              <a:rPr sz="2400"/>
            </a:b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Выбор гласной в корне -</a:t>
            </a: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кос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- – -</a:t>
            </a: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кас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-  зависит от: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уда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последующего суффик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сического зна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2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1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В каком слове количество букв и звуков совпадает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пахать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боюс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ос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каю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522936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8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В каком слове в корне пишется «А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р…сток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зар…с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пор…сль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отр…с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19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Какую смысловую нагрузку несет запятая в предложениях? Принципиальна ли она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Мы построим новый каменный д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Мы построим новый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аменный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д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20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ЭТИМОЛОГИЧЕСКИЙ – это словарь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иностранных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правильного произно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схождения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ксического значения сл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2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Сочинение – эсс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Несколько слов о себе, о своей семье, о своей школьной жизни, о своих увлеч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Что я жду от уроков русского языка и литературы. Какими они должны бы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аким я хочу видеть учителя русского языка и литературы и что я жду от не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Каким должен (должна) быть я. Что зависит от меня, чтобы достичь успе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Что мне может помеш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ои просьбы и пожел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№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2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В каком слове есть только твердые согласные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328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  варит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  багрец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 скаж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 см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3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слово, в котором находятся рядом два гласных звука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сою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дуэ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стру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4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Что изучает наука </a:t>
            </a: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«Орфоэпия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» 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299700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произнош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звуки реч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правопис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5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Найдите лишнее слово в синонимическом ряду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всадник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коню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конник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наезд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6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Что обозначает слово «</a:t>
            </a: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ланиты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руки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гла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губы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) ще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устаревшее сло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ЗМ  или  АРХАИЗ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7</a:t>
            </a:r>
            <a:br>
              <a:rPr sz="2400"/>
            </a:b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Неологизм 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– это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устаревшее слово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новое сло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во, употребляемое в определенной мест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во, пришедшее к нам из других язык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№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8</a:t>
            </a:r>
            <a:br>
              <a:rPr sz="2400"/>
            </a:b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Что обозначает слово</a:t>
            </a:r>
            <a:r>
              <a:rPr b="1" i="1" lang="en-US" sz="2400" spc="-1" strike="noStrike" u="sng">
                <a:solidFill>
                  <a:srgbClr val="ccecff"/>
                </a:solidFill>
                <a:uFillTx/>
                <a:latin typeface="Arial"/>
              </a:rPr>
              <a:t> «декоративный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»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2997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служащий для укра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яркий, разноцветный, с картин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ненный ручным труд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3:10:35Z</dcterms:created>
  <dc:creator>мах</dc:creator>
  <dc:description/>
  <dc:language>en-US</dc:language>
  <cp:lastModifiedBy>prezent261</cp:lastModifiedBy>
  <dcterms:modified xsi:type="dcterms:W3CDTF">2007-09-04T04:18:20Z</dcterms:modified>
  <cp:revision>3</cp:revision>
  <dc:subject/>
  <dc:title>Слайд 1</dc:title>
</cp:coreProperties>
</file>