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E15CF-8CEE-459E-A5C5-76B42F2E0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DD9FC-F2B8-4D81-9144-4D0CCF85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D8DEA-DD3C-4EEC-B6DF-387FE4EE0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C6F85-1819-4E52-9D08-9B561568E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9091B-6B17-4529-94DF-DA8FD8F70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6E112-170F-468C-8750-A9A3C19E5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F7656-108E-4CBB-ABCA-1BD2573C9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43AAA-5954-4510-8C0D-82735D2F5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DDC52-DFE2-4FD5-A54D-C52308083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5652A-E5A8-4DA8-B21B-D38DC95DD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FAC4-572E-4BF1-A292-8AA4012E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28D7-80B6-4018-B07E-ED21E23A4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3DD29-E126-406A-AC5A-6CDBDF5F8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ACA9-43B4-40FA-B428-1E818EEB0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D02D4-E8BD-4442-A866-789337639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4B8B9-F664-435E-BDD1-7C53A132D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5866A-19A3-4F36-BC48-8FFD970DA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49BF-41FA-4201-8C26-5A65E402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6275-D130-4F0F-B023-8CC546097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5486D-C259-450A-B77A-7DD495CD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25AD-D3CF-4FD1-BF9D-665AFA5C3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89DE-B757-4C40-A761-19E0F9BF8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83F3-DF42-4493-9F98-35C86E2A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1DDDC-8D79-4DC3-A829-BEB68A992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AA3F-9E6D-4D42-AB9B-09DBA851B43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63A7-B564-48E9-84C4-F03995F7927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Как написать письмо?</a:t>
            </a:r>
            <a:endParaRPr b="0" lang="en-US" sz="4200" spc="-1" strike="noStrike">
              <a:solidFill>
                <a:srgbClr val="ffffff"/>
              </a:solidFill>
              <a:latin typeface="Arial"/>
            </a:endParaRPr>
          </a:p>
        </p:txBody>
      </p:sp>
      <p:pic>
        <p:nvPicPr>
          <p:cNvPr id="91" name="" descr=""/>
          <p:cNvPicPr/>
          <p:nvPr/>
        </p:nvPicPr>
        <p:blipFill>
          <a:blip r:embed="rId1"/>
          <a:stretch/>
        </p:blipFill>
        <p:spPr>
          <a:xfrm>
            <a:off x="3276720" y="1773360"/>
            <a:ext cx="2635200" cy="338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anim calcmode="lin" valueType="num">
                                      <p:cBhvr additive="repl">
                                        <p:cTn id="8" dur="2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задание</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отрывок из письм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I hope you enjoyed your summer holidays. Where did you spend them? Please, tell me about the most interesting things you d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y the way, we are moving house and I am sending you my new add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оформление</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Обращение начинается с Dear, к которому добавляется имя.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Всё обращение пишется не посередине, а на левой стороне без отступа на красную строку.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Не забудь поставить запятую (а не восклицательный знак) после обращения.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Поблагодари за полученное письмо.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Объясни, почему ты пишешь это письмо и о чем оно будет.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Ответь на вопросы, которые тебе задала Элис в своём письме.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 В конце письма в новом абзаце задай Элис вопросы согласно заданию (про ее новый дом).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8. В конце письма не забудь написать завершающую фразу Best wishes (С наилучшими пожеланиями) или Love (Целую) на отдельной строке.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Не забудь поставить запятую после Best wish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 На отдельной строке после завершающей фразы подпиши письмо - напиши своё им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оформление</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верхнем правом углу напиши свой адрес (адрес отправителя):</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ая строка - Номер дома, Название улицы</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ая строка – Город, Почтовый индекс</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я строка - Стран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д адресом напиши дату написания письм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число месяц го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мер написания адреса:</a:t>
            </a:r>
            <a:endParaRPr b="0" lang="en-US" sz="2800" spc="-1" strike="noStrike">
              <a:solidFill>
                <a:srgbClr val="000000"/>
              </a:solidFill>
              <a:latin typeface="Arial"/>
            </a:endParaRPr>
          </a:p>
        </p:txBody>
      </p:sp>
      <p:sp>
        <p:nvSpPr>
          <p:cNvPr id="119" name="PlaceHolder 3"/>
          <p:cNvSpPr>
            <a:spLocks noGrp="1"/>
          </p:cNvSpPr>
          <p:nvPr>
            <p:ph/>
          </p:nvPr>
        </p:nvSpPr>
        <p:spPr>
          <a:xfrm>
            <a:off x="4645080" y="1599840"/>
            <a:ext cx="3889440" cy="4419720"/>
          </a:xfrm>
          <a:prstGeom prst="rect">
            <a:avLst/>
          </a:prstGeom>
          <a:noFill/>
          <a:ln w="0">
            <a:noFill/>
          </a:ln>
        </p:spPr>
        <p:txBody>
          <a:bodyPr lIns="90000" rIns="90000" tIns="46800" bIns="46800" anchor="t">
            <a:normAutofit fontScale="85000"/>
          </a:bodyPr>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6 Sadovaya St</a:t>
            </a:r>
            <a:endParaRPr b="0" lang="en-US" sz="2800" spc="-1" strike="noStrike">
              <a:solidFill>
                <a:srgbClr val="000000"/>
              </a:solidFill>
              <a:latin typeface="Arial"/>
            </a:endParaRPr>
          </a:p>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Dmitrov 146150</a:t>
            </a:r>
            <a:endParaRPr b="0" lang="en-US" sz="2800" spc="-1" strike="noStrike">
              <a:solidFill>
                <a:srgbClr val="000000"/>
              </a:solidFill>
              <a:latin typeface="Arial"/>
            </a:endParaRPr>
          </a:p>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Russia (11)</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April 2004 (12)</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260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ответ</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21" name="PlaceHolder 2"/>
          <p:cNvSpPr>
            <a:spLocks noGrp="1"/>
          </p:cNvSpPr>
          <p:nvPr>
            <p:ph/>
          </p:nvPr>
        </p:nvSpPr>
        <p:spPr>
          <a:xfrm>
            <a:off x="610920" y="1267920"/>
            <a:ext cx="7924680" cy="44197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r (1) Alice, (2) (3)</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ks for your letter. It was great to hear from you. (4) In your letter you asked me about my summer holidays. Well, I had a very good time! (5)</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June I stayed at home because I had exams at school. Luckily the weather was nice and warm and at the weekend my parents and I went to our country house. We went sunbathing and swimming in the lake near there.</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July I went to a summer camp. It was fantastic. I made a lot of new friends. Every day we went swimming in the river, and we played different games. There was a disco every night. Once we went hiking in the forest for two days. We cooked our meals on the fire and at night we sat around the fire, sang songs and told stories. (6)</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with your new house? Is it bigger than your old house? Have you got a room of your own? Please tell me more about it. </a:t>
            </a:r>
            <a:r>
              <a:rPr b="1" lang="ru-RU" sz="1800" spc="-1" strike="noStrike">
                <a:solidFill>
                  <a:srgbClr val="000000"/>
                </a:solidFill>
                <a:latin typeface="Arial"/>
              </a:rPr>
              <a:t>(7)</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soon.</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ve, (8) (9)</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anya (10)</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жно! Нужно обязательно соблюсти требования к объему письма - 100-140 слов. Не пишите лишних подробностей. Помните, что обязательные повторяемые элементы письма - адрес, обращение (Dear Alice), благодарность за полученное письмо (Thanks for your letter. </a:t>
            </a:r>
            <a:r>
              <a:rPr b="1" lang="en-US" sz="2400" spc="-1" strike="noStrike">
                <a:solidFill>
                  <a:srgbClr val="000000"/>
                </a:solidFill>
                <a:latin typeface="Arial"/>
              </a:rPr>
              <a:t>It was great to hear from you), </a:t>
            </a:r>
            <a:r>
              <a:rPr b="1" lang="ru-RU" sz="2400" spc="-1" strike="noStrike">
                <a:solidFill>
                  <a:srgbClr val="000000"/>
                </a:solidFill>
                <a:latin typeface="Arial"/>
              </a:rPr>
              <a:t>заключительные</a:t>
            </a:r>
            <a:r>
              <a:rPr b="1" lang="en-US" sz="2400" spc="-1" strike="noStrike">
                <a:solidFill>
                  <a:srgbClr val="000000"/>
                </a:solidFill>
                <a:latin typeface="Arial"/>
              </a:rPr>
              <a:t> </a:t>
            </a:r>
            <a:r>
              <a:rPr b="1" lang="ru-RU" sz="2400" spc="-1" strike="noStrike">
                <a:solidFill>
                  <a:srgbClr val="000000"/>
                </a:solidFill>
                <a:latin typeface="Arial"/>
              </a:rPr>
              <a:t>фразы</a:t>
            </a:r>
            <a:r>
              <a:rPr b="1" lang="en-US" sz="2400" spc="-1" strike="noStrike">
                <a:solidFill>
                  <a:srgbClr val="000000"/>
                </a:solidFill>
                <a:latin typeface="Arial"/>
              </a:rPr>
              <a:t> (</a:t>
            </a:r>
            <a:r>
              <a:rPr b="1" lang="ru-RU" sz="2400" spc="-1" strike="noStrike">
                <a:solidFill>
                  <a:srgbClr val="000000"/>
                </a:solidFill>
                <a:latin typeface="Arial"/>
              </a:rPr>
              <a:t>типа</a:t>
            </a:r>
            <a:r>
              <a:rPr b="1" lang="en-US" sz="2400" spc="-1" strike="noStrike">
                <a:solidFill>
                  <a:srgbClr val="000000"/>
                </a:solidFill>
                <a:latin typeface="Arial"/>
              </a:rPr>
              <a:t> Write soon. </a:t>
            </a:r>
            <a:r>
              <a:rPr b="1" lang="ru-RU" sz="2400" spc="-1" strike="noStrike">
                <a:solidFill>
                  <a:srgbClr val="000000"/>
                </a:solidFill>
                <a:latin typeface="Arial"/>
              </a:rPr>
              <a:t>Best wishes) и ваше имя в конце письма уже составляют около 20 слов. Заучите эти фразы и зрительно запомните схему расположения частей пись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endParaRPr b="0" lang="en-US" sz="38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читайте отрывок из письма от вашего предполагаемого друга по переписке и задание к нему. Задание вам поможет сориентироваться, что от вас требуется написать.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дчеркните содержащиеся в отрывке вопросы, на которые вы должны ответить в первой половине вашего письма.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ределите для себя тему вопросов, которые вы должны задать во второй части вашего письм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endParaRPr b="0" lang="en-US" sz="38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черновике напишите план первой половины вашего письма. Например, для написания письма в задании демоверсии набросайте несколько фраз, перечисляющих, что вы летом делали, или вообще о том, как можно летом отдыхать (если у вас было скучное лето и вам не о чем написать, пофантазируйте!). Все глаголы должны быть в прошедшем времени.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росайте план второй части вашего письма. Например, в задании демоверсии подумайте, какие вопросы можно задать о новом доме (Where is it? </a:t>
            </a:r>
            <a:r>
              <a:rPr b="0" lang="en-US" sz="2000" spc="-1" strike="noStrike">
                <a:solidFill>
                  <a:srgbClr val="000000"/>
                </a:solidFill>
                <a:latin typeface="Arial"/>
              </a:rPr>
              <a:t>Is it new or old? How big is it? How many rooms are there? Is there a swimming pool? Is there a fire place? etc.)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рительно восстановите в памяти макет письма. Начните писать, соблюдая правила написания личного письма (см. выш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ончив ваше письмо, обязательно проверьте его на наличие орфографических или грамматических ошибок. Если вы не уверены, правильно ли написано какое-либо слово, замените его на другое, в написании которого вы уверен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u="sng">
                <a:solidFill>
                  <a:srgbClr val="ffffff"/>
                </a:solidFill>
                <a:uFillTx/>
                <a:latin typeface="Arial"/>
              </a:rPr>
              <a:t>Фразы для личных писем:</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арианты обращения</a:t>
            </a:r>
            <a:br>
              <a:rPr sz="3200"/>
            </a:b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чальные</a:t>
            </a:r>
            <a:r>
              <a:rPr b="0" lang="en-US" sz="3200" spc="-1" strike="noStrike">
                <a:solidFill>
                  <a:srgbClr val="000000"/>
                </a:solidFill>
                <a:latin typeface="Arial"/>
              </a:rPr>
              <a:t> </a:t>
            </a:r>
            <a:r>
              <a:rPr b="0" lang="ru-RU" sz="3200" spc="-1" strike="noStrike">
                <a:solidFill>
                  <a:srgbClr val="000000"/>
                </a:solidFill>
                <a:latin typeface="Arial"/>
              </a:rPr>
              <a:t>фразы</a:t>
            </a:r>
            <a:r>
              <a:rPr b="0" lang="en-US" sz="3200" spc="-1" strike="noStrike">
                <a:solidFill>
                  <a:srgbClr val="000000"/>
                </a:solidFill>
                <a:latin typeface="Arial"/>
              </a:rPr>
              <a:t> </a:t>
            </a:r>
            <a:r>
              <a:rPr b="0" lang="ru-RU" sz="3200" spc="-1" strike="noStrike">
                <a:solidFill>
                  <a:srgbClr val="000000"/>
                </a:solidFill>
                <a:latin typeface="Arial"/>
              </a:rPr>
              <a:t>письм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арианты</a:t>
            </a:r>
            <a:r>
              <a:rPr b="0" lang="en-US" sz="3200" spc="-1" strike="noStrike">
                <a:solidFill>
                  <a:srgbClr val="000000"/>
                </a:solidFill>
                <a:latin typeface="Arial"/>
              </a:rPr>
              <a:t> </a:t>
            </a:r>
            <a:r>
              <a:rPr b="0" lang="ru-RU" sz="3200" spc="-1" strike="noStrike">
                <a:solidFill>
                  <a:srgbClr val="000000"/>
                </a:solidFill>
                <a:latin typeface="Arial"/>
              </a:rPr>
              <a:t>подпис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Почтовая открытка: задание</a:t>
            </a:r>
            <a:endParaRPr b="0" lang="en-US" sz="38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postcard you’ve got from your English pen friend and write back.</a:t>
            </a:r>
            <a:br>
              <a:rPr sz="2400"/>
            </a:b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friend Ann White lives in Oxford at 2 Victoria Stree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 postcode is OX 2 006.</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25 – 35 word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 to write the address in the correct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i="1" lang="en-US" sz="3800" spc="-1" strike="noStrike" u="sng">
                <a:solidFill>
                  <a:srgbClr val="ffffff"/>
                </a:solidFill>
                <a:uFillTx/>
                <a:latin typeface="Arial"/>
              </a:rPr>
              <a:t>Варианты обращения:</a:t>
            </a:r>
            <a:br>
              <a:rPr sz="3800"/>
            </a:br>
            <a:endParaRPr b="0" lang="en-US" sz="38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Dear John and dear Mar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r Mr. Johns and Mrs. John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 dear Mary John, dear Mary, darling Mary, my dea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u="sng">
                <a:solidFill>
                  <a:srgbClr val="ffffff"/>
                </a:solidFill>
                <a:uFillTx/>
                <a:latin typeface="Arial"/>
              </a:rPr>
              <a:t>Начальные</a:t>
            </a:r>
            <a:r>
              <a:rPr b="1" i="1" lang="en-US" sz="4200" spc="-1" strike="noStrike" u="sng">
                <a:solidFill>
                  <a:srgbClr val="ffffff"/>
                </a:solidFill>
                <a:uFillTx/>
                <a:latin typeface="Arial"/>
              </a:rPr>
              <a:t> </a:t>
            </a:r>
            <a:r>
              <a:rPr b="1" i="1" lang="ru-RU" sz="4200" spc="-1" strike="noStrike" u="sng">
                <a:solidFill>
                  <a:srgbClr val="ffffff"/>
                </a:solidFill>
                <a:uFillTx/>
                <a:latin typeface="Arial"/>
              </a:rPr>
              <a:t>фразы</a:t>
            </a:r>
            <a:r>
              <a:rPr b="1" i="1" lang="en-US" sz="4200" spc="-1" strike="noStrike" u="sng">
                <a:solidFill>
                  <a:srgbClr val="ffffff"/>
                </a:solidFill>
                <a:uFillTx/>
                <a:latin typeface="Arial"/>
              </a:rPr>
              <a:t> </a:t>
            </a:r>
            <a:r>
              <a:rPr b="1" i="1" lang="ru-RU" sz="4200" spc="-1" strike="noStrike" u="sng">
                <a:solidFill>
                  <a:srgbClr val="ffffff"/>
                </a:solidFill>
                <a:uFillTx/>
                <a:latin typeface="Arial"/>
              </a:rPr>
              <a:t>письма:</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thank/ tell/ ask/ congratulate/ apologize/ et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thank you very much for the nice post card:</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tell you that we are going to be in Providence during Christmas tim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ask you if you would come to dinner/lunch one day soon: would Monday, 7.07. 2000 suit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u="sng">
                <a:solidFill>
                  <a:srgbClr val="ffffff"/>
                </a:solidFill>
                <a:uFillTx/>
                <a:latin typeface="Arial"/>
              </a:rPr>
              <a:t>Варианты</a:t>
            </a:r>
            <a:r>
              <a:rPr b="1" i="1" lang="en-US" sz="4200" spc="-1" strike="noStrike" u="sng">
                <a:solidFill>
                  <a:srgbClr val="ffffff"/>
                </a:solidFill>
                <a:uFillTx/>
                <a:latin typeface="Arial"/>
              </a:rPr>
              <a:t> </a:t>
            </a:r>
            <a:r>
              <a:rPr b="1" i="1" lang="ru-RU" sz="4200" spc="-1" strike="noStrike" u="sng">
                <a:solidFill>
                  <a:srgbClr val="ffffff"/>
                </a:solidFill>
                <a:uFillTx/>
                <a:latin typeface="Arial"/>
              </a:rPr>
              <a:t>подписи:</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good wishes to you both,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best wishes,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ever,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affectionately,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sincerely,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a. With kind regards (from us both),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our best wishes to you all,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sincerely, Li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Применив данные правила и советы, вы обязательно напишите отличное письмо!</a:t>
            </a:r>
            <a:endParaRPr b="0" lang="en-US" sz="2800" spc="-1" strike="noStrike">
              <a:solidFill>
                <a:srgbClr val="ffffff"/>
              </a:solidFill>
              <a:latin typeface="Arial"/>
            </a:endParaRPr>
          </a:p>
        </p:txBody>
      </p:sp>
      <p:pic>
        <p:nvPicPr>
          <p:cNvPr id="139" name="" descr=""/>
          <p:cNvPicPr/>
          <p:nvPr/>
        </p:nvPicPr>
        <p:blipFill>
          <a:blip r:embed="rId1"/>
          <a:stretch/>
        </p:blipFill>
        <p:spPr>
          <a:xfrm>
            <a:off x="2556000" y="1773360"/>
            <a:ext cx="3909960" cy="3909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6" presetSubtype="16">
                                  <p:stCondLst>
                                    <p:cond delay="0"/>
                                  </p:stCondLst>
                                  <p:childTnLst>
                                    <p:set>
                                      <p:cBhvr>
                                        <p:cTn id="15" dur="1" fill="hold">
                                          <p:stCondLst>
                                            <p:cond delay="0"/>
                                          </p:stCondLst>
                                        </p:cTn>
                                        <p:tgtEl>
                                          <p:spTgt spid="139"/>
                                        </p:tgtEl>
                                        <p:attrNameLst>
                                          <p:attrName>style.visibility</p:attrName>
                                        </p:attrNameLst>
                                      </p:cBhvr>
                                      <p:to>
                                        <p:strVal val="visible"/>
                                      </p:to>
                                    </p:set>
                                    <p:animEffect filter="circle(in)" transition="in">
                                      <p:cBhvr additive="repl">
                                        <p:cTn id="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88640"/>
            <a:ext cx="8337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fffff"/>
                </a:solidFill>
                <a:latin typeface="Arial"/>
              </a:rPr>
              <a:t>Почтовая открытка:задание</a:t>
            </a:r>
            <a:endParaRPr b="0" lang="en-US" sz="4200" spc="-1" strike="noStrike">
              <a:solidFill>
                <a:srgbClr val="ffffff"/>
              </a:solidFill>
              <a:latin typeface="Arial"/>
            </a:endParaRPr>
          </a:p>
        </p:txBody>
      </p:sp>
      <p:sp>
        <p:nvSpPr>
          <p:cNvPr id="95" name="PlaceHolder 2"/>
          <p:cNvSpPr>
            <a:spLocks noGrp="1"/>
          </p:cNvSpPr>
          <p:nvPr>
            <p:ph/>
          </p:nvPr>
        </p:nvSpPr>
        <p:spPr>
          <a:xfrm>
            <a:off x="610920" y="1628280"/>
            <a:ext cx="3886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ar 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m happy you can come to stay with us in summer. Please, let me know when you are going to come and what you would like to 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st wish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n.</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6" name="PlaceHolder 3"/>
          <p:cNvSpPr>
            <a:spLocks noGrp="1"/>
          </p:cNvSpPr>
          <p:nvPr>
            <p:ph/>
          </p:nvPr>
        </p:nvSpPr>
        <p:spPr>
          <a:xfrm>
            <a:off x="4716000" y="1557000"/>
            <a:ext cx="3886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 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 Sadovaya St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 Petersburg, Russia</a:t>
            </a:r>
            <a:r>
              <a:rPr b="1" lang="ru-RU"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97" name=""/>
          <p:cNvGraphicFramePr/>
          <p:nvPr/>
        </p:nvGraphicFramePr>
        <p:xfrm>
          <a:off x="684360" y="1397160"/>
          <a:ext cx="7559280" cy="4623840"/>
        </p:xfrm>
        <a:graphic>
          <a:graphicData uri="http://schemas.openxmlformats.org/drawingml/2006/table">
            <a:tbl>
              <a:tblPr/>
              <a:tblGrid>
                <a:gridCol w="3779640"/>
                <a:gridCol w="3779640"/>
              </a:tblGrid>
              <a:tr h="462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Почтовая открытка </a:t>
            </a:r>
            <a:r>
              <a:rPr b="0" lang="en-US" sz="3200" spc="-1" strike="noStrike">
                <a:solidFill>
                  <a:srgbClr val="ffffff"/>
                </a:solidFill>
                <a:latin typeface="Arial"/>
              </a:rPr>
              <a:t>: </a:t>
            </a:r>
            <a:r>
              <a:rPr b="1" i="1" lang="en-US" sz="3200" spc="-1" strike="noStrike">
                <a:solidFill>
                  <a:srgbClr val="ffffff"/>
                </a:solidFill>
                <a:latin typeface="Arial"/>
              </a:rPr>
              <a:t>оформление</a:t>
            </a:r>
            <a:endParaRPr b="0" lang="en-US" sz="3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Обращение начинается с Dear, к которому добавляется имя.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Всё обращение пишется не посередине, а на левой стороне без отступа на красную строку.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Не забудь поставить запятую (а не восклицательный знак) после обращения.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Объясни (напомни), почему ты пишешь эту открытку.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Ответь на вопросы, которые задала тебе Энн в своей открытке: когда ты собираешься приехать и что бы ты хотел увидеть.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В конце открытки не забудь написать завершающую фразу Best wishes (С наилучшими пожеланиями) на отдельной строке.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Не забудь поставить запятую после Best wishes,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8. На отдельной строке после завершающей фразы подпиши открытку - напиши своё им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Почтовая открытка: оформление</a:t>
            </a:r>
            <a:r>
              <a:rPr b="1" i="1" lang="en-US" sz="3800" spc="-1" strike="noStrike">
                <a:solidFill>
                  <a:srgbClr val="ffffff"/>
                </a:solidFill>
                <a:latin typeface="Arial"/>
              </a:rPr>
              <a:t> </a:t>
            </a: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Адрес, куда и кому ты посылаешь открытку, пишется в таком порядке:</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ая строка - Имя и фамилия адресат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ая строка - Номер дома, Название улицы</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я строка – Город, Почтовый индекс</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ая строка - Стра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Почтовая открытка</a:t>
            </a:r>
            <a:r>
              <a:rPr b="0" lang="en-US" sz="3800" spc="-1" strike="noStrike">
                <a:solidFill>
                  <a:srgbClr val="ffffff"/>
                </a:solidFill>
                <a:latin typeface="Arial"/>
              </a:rPr>
              <a:t> : </a:t>
            </a:r>
            <a:r>
              <a:rPr b="1" i="1" lang="en-US" sz="3800" spc="-1" strike="noStrike">
                <a:solidFill>
                  <a:srgbClr val="ffffff"/>
                </a:solidFill>
                <a:latin typeface="Arial"/>
              </a:rPr>
              <a:t>ответ</a:t>
            </a: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r Ann, (1,2,3)</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feel very excited that I can come to stay with you in the summer. (4) I'm going to come at the beginning of August for two weeks. I'd like to see as much of Oxford as I can. It would be great if we could visit your school and go shopping for gifts one day. I'd love to meet your friends.(5)</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wishes, (6, 7)</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ya (8)</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04" name="PlaceHolder 3"/>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 White (9)</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Victoria St.</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ford OX 2 006</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and</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Kingd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открытки </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очитайте задание и открытку от вашего предполагаемого друга по переписке.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черкните содержащиеся в ней вопросы, на которые вы должны ответить.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бавьте обращение: Dear Ann,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разу после обращения на следующей строке добавьте предложение, объясняющее почему вы пишите эту открытку.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шите ответы на вопросы. Помните, что в открытке (это неформальный стиль) употребляются сокращенные формы (I'm, I'd like).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шите заключительную фразу:</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wis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открытки</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дпишите открытку вашим именем (на следующей строчке после заключительной фразы).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верьте, нет ли орфографических или грамматических ошибок. Если вы не уверены, правильно ли написано какое-либо слово, замените его на другое, в написании которого вы уверены.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пишите адрес в правильной последова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задание.</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extract from your pen friend’s letter. Her name is Al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Al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let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her about your summer holiday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3 questions about the new ho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100 – 140 wor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rules of letter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9:01:37Z</dcterms:created>
  <dc:creator>Admin</dc:creator>
  <dc:description/>
  <dc:language>en-US</dc:language>
  <cp:lastModifiedBy>Admin</cp:lastModifiedBy>
  <dcterms:modified xsi:type="dcterms:W3CDTF">2009-02-10T11:46:21Z</dcterms:modified>
  <cp:revision>7</cp:revision>
  <dc:subject/>
  <dc:title>Письма</dc:title>
</cp:coreProperties>
</file>