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8F70-DD6C-44F7-847E-D472D3BC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9AA-AC9C-4A15-8538-955938F9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BCE-780A-4BEE-ABB5-8BF72945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242-0491-438A-BA60-C9D845FB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2D60-1410-41FC-BC27-120A9416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AA7-5333-437F-BDC7-D7C96301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225-A193-4B96-AC8A-838225B7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C20-4F83-4801-82EB-FC543BBC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4FA-72E0-4A3E-A9A1-F96FF716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D9B-1731-40F4-AFE1-1C0148D7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093-5521-4A69-923A-DB254573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B66-04B6-4755-85C5-B26DC69E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DB0C-269A-4270-8810-08DF0E89CF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osushi.ru/sushi/id/1524" TargetMode="External"/><Relationship Id="rId2" Type="http://schemas.openxmlformats.org/officeDocument/2006/relationships/hyperlink" Target="http://fudi.ru/post/408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503856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Как приготовить суши дома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58920" y="5373720"/>
            <a:ext cx="554508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технологии МОУ СОШ №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ГИНИНА НАТАЛЬЯ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Тверь -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5219640" y="2924280"/>
            <a:ext cx="2600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611280" y="907920"/>
            <a:ext cx="60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175 г риса суши промывайте в сите холодной проточной водой до тех пор, пока стекающая вода не станет прозрачн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395280" y="260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готовление риса для су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003640" y="3789360"/>
            <a:ext cx="3384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755640" y="404640"/>
            <a:ext cx="590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ве минуты варите рис в 250 мл воды, затем выключите конфорку и оставьте его под крышкой набухать в течение 1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411280" y="2876400"/>
            <a:ext cx="5977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755640" y="549360"/>
            <a:ext cx="583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ткройте крышку и так оставьте рис еще на 10 минут. По 1 ч. л. без верха соли и сахара, 2 ст. л. рисового уксуса смешайте и подогрейт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59752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684360" y="260280"/>
            <a:ext cx="61196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л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лл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"крученые суши" - формируются с помощью бамбукового коврика (макису). Начинка может быть любой, по вашему желанию. Обычно это любые морепродукты в комбинации с овощами (авокадо, огурцом), японским не острым майонезом или сливочным сыром. С помощью коврика рис с начинкой закатывается в лист морской водоросли но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340000" y="4149720"/>
            <a:ext cx="604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611280" y="404640"/>
            <a:ext cx="54007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риготовление: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зать лист водоросли нори вдоль пополам. Из каждой половинки получится по одному рулету. Разложить нори на бамбуковой циновке, блестящей стороной вниз, увлажнить руки небольшим количеством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6048360" y="2565360"/>
            <a:ext cx="3095640" cy="27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2195640" y="4365720"/>
            <a:ext cx="36003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611280" y="476280"/>
            <a:ext cx="583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ть из тарелки  небольшую горсть риса и равномерным слоем выложить его поверх листа нори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587700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755640" y="54936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указательного пальца смазать рис посередине желаемым количеством вассаби, двигаясь по направлению от серед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59770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539640" y="50472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доль слоя вассаби положить полоски начинки, которую вы выбрали. Приподнять один край бамбукового коври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268360" y="2467080"/>
            <a:ext cx="61200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611280" y="476280"/>
            <a:ext cx="59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ерживая циновку и начинку пальцами обеих рук, начать закатывать циновку вместе с листом нори, стараясь надавливать равномер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626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539640" y="476280"/>
            <a:ext cx="60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формировать рулет, но теперь надавливать сильнее, чтобы уплотнить рис. Если нужно, повторить последний этап. Рис по всей длине рулета должен получиться плотным и ров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6048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194080" cy="4148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867280" y="3573360"/>
            <a:ext cx="2737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755640" y="692280"/>
            <a:ext cx="57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ть рулет из циновки, положить его на разделочную доску и разрезать попол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484360" y="2514600"/>
            <a:ext cx="5543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684360" y="620640"/>
            <a:ext cx="58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из одного рулета получается 6 суши, Положить обе его половинки рядом и одновременно разрезать их на 3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484360" y="2781360"/>
            <a:ext cx="58327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5"/>
          <p:cNvSpPr/>
          <p:nvPr/>
        </p:nvSpPr>
        <p:spPr>
          <a:xfrm>
            <a:off x="1403280" y="62064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ДАЧИ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2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640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826920" y="2060640"/>
            <a:ext cx="66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osushi.ru/sushi/id/152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то рецеп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834120" y="148428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fudi.ru/post/40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улинарные рецеп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2211120" y="69228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050920" y="1906560"/>
            <a:ext cx="66247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365f91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5f91"/>
                </a:solidFill>
                <a:latin typeface="Cambria"/>
                <a:ea typeface="Times New Roman"/>
              </a:rPr>
              <a:t>Рис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главный ингредиент. Правильно выбранный и приготовленный рис, залог вкусных суши. Какой рис выбрать и где его купить? В отделах японской кухни или супермаркете есть специальны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 для суш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 500гр. упаковка такого риса стоит примерно 50-60 рублей. Одной упаковки риса хватит на приготовление 50 суши или ро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223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195640" y="2879280"/>
            <a:ext cx="63370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365f91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5f91"/>
                </a:solidFill>
                <a:latin typeface="Cambria"/>
                <a:ea typeface="Times New Roman"/>
              </a:rPr>
              <a:t>Нор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сушеные листья морских водорослей. Купить их можно в специализированном японском магазине или отделе, которые наверняка есть в каждом городе. Так же можно заказать их и через Интернет. Упаковка из 10 листьев нории стоит примерно 120 рублей. Ее хватит на приготовление 60 сушей или роллов, по 6 штук на 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4032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539640" y="273240"/>
            <a:ext cx="61930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365f91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65f91"/>
                </a:solidFill>
                <a:latin typeface="Cambria"/>
                <a:ea typeface="Times New Roman"/>
              </a:rPr>
              <a:t>Припра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суши (на основе рисового уксуса). Тоже продается в отделах японской кухни. Стоит примерно 240 рублей. Но ее хватит на долго, примерно на приготовление 600-700 суши. Если же не найдете где купить, то не переживайте, аналог ее можно приготовить и самому. Подскажу вам рецепт приготовления этой приправы на порцию риса 500гр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3995640" y="292428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мешиваем 1 столовую ложку обычного 3% уксуса с 3,5 ложками яблочного уксуса 3%. Как получить 3% уксус думаю не составит особого труда, он либо такой продается или смешайте его с водой в нужной консистен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ы получить 3% уксус. Вот и все, нужная приправа на порцию 500гр. риса готова. Позже я объясню что с ней нужно сделать перед добавлением в ри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2124000" y="3068640"/>
            <a:ext cx="18255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684360" y="333360"/>
            <a:ext cx="604836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чинка.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может быть что угодно. Например: рыба (слабосоленая форель или семга), свежие огурцы, сыр (желательно сливочный, без резкого вкуса, например гауда или филадельфия), крабовые палочки, креветки и любые другие ингредиенты, которые вы захотите попробова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651640" y="4581360"/>
            <a:ext cx="2952720" cy="187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2124000" y="4365720"/>
            <a:ext cx="1943280" cy="107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6588000" y="2421000"/>
            <a:ext cx="2556000" cy="216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2627280" y="5429160"/>
            <a:ext cx="295272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5"/>
          <a:stretch/>
        </p:blipFill>
        <p:spPr>
          <a:xfrm rot="18796200">
            <a:off x="3936240" y="4167720"/>
            <a:ext cx="194148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468360" y="354240"/>
            <a:ext cx="63356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365f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5f91"/>
                </a:solidFill>
                <a:latin typeface="Cambria"/>
                <a:ea typeface="Times New Roman"/>
              </a:rPr>
              <a:t>Вассаб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понский хре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ается в отделах японской кухни. Есть в тюбиках уже разведенная и в баночках порошок. Советую купить порошок и развести его водой до нужной консистенции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шковый вассаби легко смешивается с водой, образуя пасту, и через 10 минут готов к употребл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600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611280" y="37764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365f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65f91"/>
                </a:solidFill>
                <a:latin typeface="Cambria"/>
                <a:ea typeface="Times New Roman"/>
              </a:rPr>
              <a:t>Бамбуковый ковр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ндартный бамбуковый коврик обернем в 2 слоя в тонкую пищевую пле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3068640" cy="3744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31164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684360" y="349560"/>
            <a:ext cx="590364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5f91"/>
                </a:solidFill>
                <a:latin typeface="Cambria"/>
                <a:ea typeface="Times New Roman"/>
              </a:rPr>
              <a:t>. Соевый со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него мы будем макать наши готовые суши, для придания им нужного вк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так, теперь когда, у нас есть продукты, приступим к самому интересному, а именно приготовлению с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"/>
          <p:cNvPicPr/>
          <p:nvPr/>
        </p:nvPicPr>
        <p:blipFill>
          <a:blip r:embed="rId1"/>
          <a:stretch/>
        </p:blipFill>
        <p:spPr>
          <a:xfrm>
            <a:off x="6012000" y="3429000"/>
            <a:ext cx="2457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07:32:07Z</dcterms:created>
  <dc:creator>NEW</dc:creator>
  <dc:description/>
  <dc:language>en-US</dc:language>
  <cp:lastModifiedBy>Customer</cp:lastModifiedBy>
  <dcterms:modified xsi:type="dcterms:W3CDTF">2012-06-14T21:02:37Z</dcterms:modified>
  <cp:revision>48</cp:revision>
  <dc:subject/>
  <dc:title>Слайд 1</dc:title>
</cp:coreProperties>
</file>