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DC1-3219-41E9-B619-60375388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D0B-D424-4C36-843F-1C7CAEE0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2FD-35C0-4310-B0EE-89505F97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013-0DF3-4EE1-9331-C659D040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FEC-29DD-4CC1-A9A0-B18AABF2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6B6-5E4C-4F47-BE35-A2AE8E37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218-34AE-4496-B425-E28C4CCE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D5A-B12C-4A91-9518-185EC5DC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E81-DCA9-48D2-8350-9A1F53CD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39E-BC4D-48A3-B201-BAA8B2AC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840-FEF0-4E8C-A4E9-BFB2D9D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6B52-FD00-4891-9E5B-4D10451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083-E299-499C-96CA-7146179C5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osushi.ru/sushi/id/1524" TargetMode="External"/><Relationship Id="rId2" Type="http://schemas.openxmlformats.org/officeDocument/2006/relationships/hyperlink" Target="http://fudi.ru/post/40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5038560" cy="27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Как приготовить суши дом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5373720"/>
            <a:ext cx="55450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технологии МОУ СОШ №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ГИНИНА НАТАЛЬ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верь -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260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11280" y="907920"/>
            <a:ext cx="60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175 г риса суши промывайте в сите холодной проточной водой до тех пор, пока стекающая вода не станет прозрач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395280" y="260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готовление риса для с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003640" y="3789360"/>
            <a:ext cx="338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755640" y="404640"/>
            <a:ext cx="59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ве минуты варите рис в 250 мл воды, затем выключите конфорку и оставьте его под крышкой набухать в течение 1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11280" y="2876400"/>
            <a:ext cx="597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755640" y="549360"/>
            <a:ext cx="583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ткройте крышку и так оставьте рис еще на 10 минут. По 1 ч. л. без верха соли и сахара, 2 ст. л. рисового уксуса смешайте и подогрей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59752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684360" y="260280"/>
            <a:ext cx="61196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ол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лл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"крученые суши" - формируются с помощью бамбукового коврика (макису). Начинка может быть любой, по вашему желанию. Обычно это любые морепродукты в комбинации с овощами (авокадо, огурцом), японским не острым майонезом или сливочным сыром. С помощью коврика рис с начинкой закатывается в лист морской водоросли но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340000" y="4149720"/>
            <a:ext cx="6048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611280" y="404640"/>
            <a:ext cx="5400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риготовление: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зать лист водоросли нори вдоль пополам. Из каждой половинки получится по одному рулету. Разложить нори на бамбуковой циновке, блестящей стороной вниз, увлажнить руки небольшим количеством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6048360" y="2565360"/>
            <a:ext cx="3095640" cy="27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195640" y="4365720"/>
            <a:ext cx="3600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11280" y="476280"/>
            <a:ext cx="58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из тарелки  небольшую горсть риса и равномерным слоем выложить его поверх листа нор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2700360" y="2492280"/>
            <a:ext cx="58770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755640" y="549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указательного пальца смазать рис посередине желаемым количеством вассаби, двигаясь по направлению от серед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59770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50472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доль слоя вассаби положить полоски начинки, которую вы выбрали. Приподнять один край бамбукового ковр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268360" y="2467080"/>
            <a:ext cx="6120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611280" y="476280"/>
            <a:ext cx="59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ерживая циновку и начинку пальцами обеих рук, начать закатывать циновку вместе с листом нори, стараясь надавливать равноме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626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539640" y="476280"/>
            <a:ext cx="604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формировать рулет, но теперь надавливать сильнее, чтобы уплотнить рис. Если нужно, повторить последний этап. Рис по всей длине рулета должен получиться плотным и ров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604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194080" cy="4148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867280" y="3573360"/>
            <a:ext cx="2737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755640" y="69228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ть рулет из циновки, положить его на разделочную доску и разрезать попола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484360" y="2514600"/>
            <a:ext cx="5543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684360" y="620640"/>
            <a:ext cx="58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из одного рулета получается 6 суши, Положить обе его половинки рядом и одновременно разрезать их на 3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484360" y="2781360"/>
            <a:ext cx="58327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5"/>
          <p:cNvSpPr/>
          <p:nvPr/>
        </p:nvSpPr>
        <p:spPr>
          <a:xfrm>
            <a:off x="1403280" y="620640"/>
            <a:ext cx="51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ДАЧИ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640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826920" y="206064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osushi.ru/sushi/id/152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то рецеп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834120" y="148428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fudi.ru/post/40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улинарные рецеп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211120" y="69228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050920" y="1906560"/>
            <a:ext cx="66247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5f91"/>
                </a:solidFill>
                <a:latin typeface="Cambria"/>
                <a:ea typeface="Times New Roman"/>
              </a:rPr>
              <a:t>Ри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ый главный ингредиент. Правильно выбранный и приготовленный рис, залог вкусных суши. Какой рис выбрать и где его купить? В отделах японской кухни или супермаркете есть специальны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ис для суш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500гр. упаковка такого риса стоит примерно 50-60 рублей. Одной упаковки риса хватит на приготовление 50 суши или ро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2232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2195640" y="2879280"/>
            <a:ext cx="63370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5f91"/>
                </a:solidFill>
                <a:latin typeface="Cambria"/>
                <a:ea typeface="Times New Roman"/>
              </a:rPr>
              <a:t>Нор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сушеные листья морских водорослей. Купить их можно в специализированном японском магазине или отделе, которые наверняка есть в каждом городе. Так же можно заказать их и через Интернет. Упаковка из 10 листьев нории стоит примерно 120 рублей. Ее хватит на приготовление 60 сушей или роллов, по 6 штук на 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4032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39640" y="273240"/>
            <a:ext cx="6193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5f91"/>
                </a:solidFill>
                <a:latin typeface="Cambria"/>
                <a:ea typeface="Times New Roman"/>
              </a:rPr>
              <a:t>Припра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суши (на основе рисового уксуса). Тоже продается в отделах японской кухни. Стоит примерно 240 рублей. Но ее хватит на долго, примерно на приготовление 600-700 суши. Если же не найдете где купить, то не переживайте, аналог ее можно приготовить и самому. Подскажу вам рецепт приготовления этой приправы на порцию риса 500гр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995640" y="292428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мешиваем 1 столовую ложку обычного 3% уксуса с 3,5 ложками яблочного уксуса 3%. Как получить 3% уксус думаю не составит особого труда, он либо такой продается или смешайте его с водой в нужной консистен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получить 3% уксус. Вот и все, нужная приправа на порцию 500гр. риса готова. Позже я объясню что с ней нужно сделать перед добавлением в ри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1"/>
          <a:stretch/>
        </p:blipFill>
        <p:spPr>
          <a:xfrm>
            <a:off x="2124000" y="3068640"/>
            <a:ext cx="1825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684360" y="333360"/>
            <a:ext cx="604836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чинка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может быть что угодно. Например: рыба (слабосоленая форель или семга), свежие огурцы, сыр (желательно сливочный, без резкого вкуса, например гауда или филадельфия), крабовые палочки, креветки и любые другие ингредиенты, которые вы захотите попробов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651640" y="4581360"/>
            <a:ext cx="2952720" cy="187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124000" y="4365720"/>
            <a:ext cx="194328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2556000" cy="216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2627280" y="5429160"/>
            <a:ext cx="295272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 rot="18796200">
            <a:off x="3936240" y="4167720"/>
            <a:ext cx="194148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468360" y="354240"/>
            <a:ext cx="63356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5f91"/>
                </a:solidFill>
                <a:latin typeface="Cambria"/>
                <a:ea typeface="Times New Roman"/>
              </a:rPr>
              <a:t>Вассаб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понский хре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ается в отделах японской кухни. Есть в тюбиках уже разведенная и в баночках порошок. Советую купить порошок и развести его водой до нужной консистенции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шковый вассаби легко смешивается с водой, образуя пасту, и через 10 минут готов к употребл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600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611280" y="37764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365f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5f91"/>
                </a:solidFill>
                <a:latin typeface="Cambria"/>
                <a:ea typeface="Times New Roman"/>
              </a:rPr>
              <a:t>Бамбуковый ковр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дартный бамбуковый коврик обернем в 2 слоя в тонкую пищевую пл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3068640" cy="3744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31164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684360" y="349560"/>
            <a:ext cx="5903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5f91"/>
                </a:solidFill>
                <a:latin typeface="Cambria"/>
                <a:ea typeface="Times New Roman"/>
              </a:rPr>
              <a:t>. Соевый со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его мы будем макать наши готовые суши, для придания им нужного вку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так, теперь когда, у нас есть продукты, приступим к самому интересному, а именно приготовлению с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2457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7:32:07Z</dcterms:created>
  <dc:creator>NEW</dc:creator>
  <dc:description/>
  <dc:language>en-US</dc:language>
  <cp:lastModifiedBy>Customer</cp:lastModifiedBy>
  <dcterms:modified xsi:type="dcterms:W3CDTF">2012-06-14T21:02:37Z</dcterms:modified>
  <cp:revision>48</cp:revision>
  <dc:subject/>
  <dc:title>Слайд 1</dc:title>
</cp:coreProperties>
</file>