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18C-54D4-42CC-9C3E-9F2AD372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02E-187F-4AEB-8E63-339BF12A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B0C-981D-4ECF-A574-A26E47E6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EFF-13E0-4DDA-8D08-B9409EBF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4E92-50F8-496C-835D-604A81C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D22-6359-46BB-B07F-197932D6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F416-3E56-4E57-A8F4-6E9F76E2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9617-2F2D-41CD-9FB5-860F75DB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A88-98B8-4202-A7FF-6A0413B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EDE0-930E-4FA8-ABAB-E445F39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EC43-CDDA-4701-A901-45C2B698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CE2-834A-4A7A-A14C-4EB1490C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3386-FC53-44E9-AB58-43FA43C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2787-4E32-48D5-8D19-4114A45D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7368-7EBC-4BBD-A084-8FB36FC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35B8-D105-42F5-A134-352CEFA1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C40E-CFA9-458B-A2A0-4F23E4DB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47FB-BF95-42B5-BBDC-8EF192C0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67903-CDAE-4BFE-9E14-4184793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8780-B036-4C0A-97FE-2F89564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FF964-6048-492B-A840-E9495974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5E80-7461-41B6-A386-98E0A25D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CF51-0BDC-46A5-A9D9-30382DD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C063-BD90-4472-8059-3875B73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D134-8368-4861-8714-ADB8B78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6579-E78F-4014-B530-56AAE64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8E7F-8391-46B0-9575-A5535687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747D-4DB7-4653-BB55-39FF2F7B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00B80-841B-455C-89A7-13D7A9C9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B48C-5E7D-4C91-B507-60EADAC5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E257-1593-4090-8DE9-0B6F8970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A18B-29CA-4C84-9F00-42E2262E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A214-3459-426C-999F-0342BE0C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CE0C-3E53-49D4-975C-EE3174FA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28107-0942-4B7F-B4E5-22C76AF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907F-F4C8-45BC-8CAA-4B46EF47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5DCA-8C41-4CA3-AE81-00DFA46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7AF8-F191-4FFC-A10D-AFA54A9A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AF8FC-27ED-4B23-B039-A53A9390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80E8-9A7E-4489-B947-8F9BA412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D741-33F3-4701-9C0C-65269BFD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1120-86CD-45E8-9D19-7FE77D96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79E1-5FD8-48C0-B686-E3564CA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619-E8CF-412E-83CC-46AE3331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4D7-BF61-4728-97D7-DB4B409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026-D0C1-44EC-BA72-08B61787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4A9-65BE-41D6-9F5E-00E7241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C75-A063-4BB8-891B-B0B9BD1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2886-E070-4D9F-8B1B-D18FC22A2F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354-3600-4008-A3B2-829774ABB27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1745-67B2-4276-BCFD-B5598924E7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CFCE-C62B-4B8D-BCC5-39508347CB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603360" y="-6480"/>
            <a:ext cx="8547120" cy="2079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0" y="3515040"/>
            <a:ext cx="4608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C:\Users\Викусик\Desktop\Кузя\DSC00271.JPG"/>
          <p:cNvPicPr/>
          <p:nvPr/>
        </p:nvPicPr>
        <p:blipFill>
          <a:blip r:embed="rId3"/>
          <a:stretch/>
        </p:blipFill>
        <p:spPr>
          <a:xfrm>
            <a:off x="1332000" y="2276640"/>
            <a:ext cx="6408720" cy="4581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Kuzya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92720" y="404640"/>
            <a:ext cx="38512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I have got a cat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is name is Kuzya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is red and white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Kuzya likes to  eat fish and drink milk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He is 9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But in spite of his age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he likes to play very much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Kuzya understands everything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C:\Users\Викусик\Desktop\Кузя\DSC00044.JPG"/>
          <p:cNvPicPr/>
          <p:nvPr/>
        </p:nvPicPr>
        <p:blipFill>
          <a:blip r:embed="rId2"/>
          <a:stretch/>
        </p:blipFill>
        <p:spPr>
          <a:xfrm>
            <a:off x="0" y="1341360"/>
            <a:ext cx="5292720" cy="446400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219280" y="333360"/>
            <a:ext cx="392436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f Kuzya does not like anything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e fights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 He likes to sleep on my table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when I do my homework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2" descr="C:\Users\Викусик\Desktop\Кузя\DSC00272.JPG"/>
          <p:cNvPicPr/>
          <p:nvPr/>
        </p:nvPicPr>
        <p:blipFill>
          <a:blip r:embed="rId2"/>
          <a:stretch/>
        </p:blipFill>
        <p:spPr>
          <a:xfrm>
            <a:off x="0" y="1484280"/>
            <a:ext cx="5219640" cy="424836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-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435280" y="1267920"/>
            <a:ext cx="3708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At n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ight Kuzya often sleeps on my father’s chair near the computer table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Users\Викусик\Desktop\Кузя\DSC00276.JPG"/>
          <p:cNvPicPr/>
          <p:nvPr/>
        </p:nvPicPr>
        <p:blipFill>
          <a:blip r:embed="rId2"/>
          <a:stretch/>
        </p:blipFill>
        <p:spPr>
          <a:xfrm>
            <a:off x="0" y="1197000"/>
            <a:ext cx="5435640" cy="439272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-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5876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Kuzya  is a   member   our  family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Викусик\Desktop\Кузя\DSC00277.JPG"/>
          <p:cNvPicPr/>
          <p:nvPr/>
        </p:nvPicPr>
        <p:blipFill>
          <a:blip r:embed="rId2"/>
          <a:stretch/>
        </p:blipFill>
        <p:spPr>
          <a:xfrm>
            <a:off x="1258920" y="549360"/>
            <a:ext cx="7273800" cy="541800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59:56Z</dcterms:created>
  <dc:creator>Викусик</dc:creator>
  <dc:description/>
  <dc:language>en-US</dc:language>
  <cp:lastModifiedBy>Кабинет 313 - Английский</cp:lastModifiedBy>
  <dcterms:modified xsi:type="dcterms:W3CDTF">2012-01-12T06:17:05Z</dcterms:modified>
  <cp:revision>10</cp:revision>
  <dc:subject/>
  <dc:title>My cat!</dc:title>
</cp:coreProperties>
</file>