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411-9A80-444F-A390-ABD4EEE5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6C1-7C8C-4C86-88BB-4E837E0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016-A965-47EA-82CC-C2D68E6D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931-C968-4DD7-B08E-2FAE3F24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EF9-7992-4D5D-AA62-1512B68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DDF-A672-4868-BE3D-4902CCE3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268B-B134-4538-ACB7-592E8D4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7AFE-B55E-4503-92EF-042FD7A4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5C6-178F-44AD-A17E-839D88C3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77D8-B53A-4A53-BE2E-7827E258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6DD-9BB7-424C-BD1A-C36AAC6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977-7F03-4957-BEBD-CCFA727C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286D-A655-4FE7-9316-F14372F3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17B-23AA-4A1B-93F0-929E9E8A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7A2D-32CC-41E5-BCA6-85538DB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90DF-DB20-4EFB-9ED7-70A68F96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FEE9-E063-45EE-8BD6-927E05EA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B52F-6E81-4D1D-A4C2-C5803C3F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0A90-2207-4EE8-874D-59CEE910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78A9-4135-4297-BA93-4C239E3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0F7F-A90C-47A5-8174-8A4FD78D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6B8B-BC6E-496F-868F-69B870FB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D61-71A1-48B7-A4D6-3AACE98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36C4-3A41-44E8-BA20-8BDEAB73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E157-FC66-4322-9425-33397A4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0CD6-8EF9-4621-8A9D-2A03089D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4949-8480-4625-A1AD-BBABE933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AB59-3483-42BD-AD48-1D5DE48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2969-C897-4BC5-B6BF-9E124EF5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A149-23D7-458F-8D08-679014D1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6E69-F4F1-430F-A09A-B952E6C3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26D3-F161-4D7A-8CA0-B1986FB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B662-A684-42C7-B4D8-658497C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895-1022-4F30-A98B-20C14FD5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4F9E-F97F-42A1-B936-5B3F10DB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3809-D1E7-4657-8BD7-9F9562D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3172-3297-498F-8F83-F386106B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E761-0454-4C4B-BF82-B220884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3CF2-B95E-4080-8B39-50ADA40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FB86-19CA-45A3-A9A2-15DBEF4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9B53-57B7-4A22-A2EC-201B38D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E818-358A-4CBA-91CA-BC32DAB8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F38A-217F-4690-BE43-5B31CEC8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2DA-E66B-4CCA-94E4-2DEFE0C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60F-2FA0-46D8-8F33-0EAF929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030-6EB2-4FC7-B56B-16A1E5B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A6C-0C84-40C8-8482-F93D9BC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F8A-AA9A-461C-8E4C-DFC6A5A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24F-AB31-48C7-B708-3DD443B1CF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C0BA-BF34-464F-9431-B6F9E9058F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E34D-F842-4000-A7CC-70F5C41706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A9A1-D5B1-4E42-93BB-104FFADE14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03360" y="-6480"/>
            <a:ext cx="8547120" cy="2079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0" y="3515040"/>
            <a:ext cx="4608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Викусик\Desktop\Кузя\DSC00271.JPG"/>
          <p:cNvPicPr/>
          <p:nvPr/>
        </p:nvPicPr>
        <p:blipFill>
          <a:blip r:embed="rId3"/>
          <a:stretch/>
        </p:blipFill>
        <p:spPr>
          <a:xfrm>
            <a:off x="1332000" y="2276640"/>
            <a:ext cx="6408720" cy="45813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Kuzya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92720" y="404640"/>
            <a:ext cx="38512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I have got a cat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is name is Kuzya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is red and white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Kuzya likes to  eat fish and drink milk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He is 9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But in spite of his age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likes to play very much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Kuzya understands everything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Users\Викусик\Desktop\Кузя\DSC00044.JPG"/>
          <p:cNvPicPr/>
          <p:nvPr/>
        </p:nvPicPr>
        <p:blipFill>
          <a:blip r:embed="rId2"/>
          <a:stretch/>
        </p:blipFill>
        <p:spPr>
          <a:xfrm>
            <a:off x="0" y="1341360"/>
            <a:ext cx="5292720" cy="446400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219280" y="333360"/>
            <a:ext cx="3924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f Kuzya does not like anything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he fights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He likes to sleep on my table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when I do my homework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Викусик\Desktop\Кузя\DSC00272.JPG"/>
          <p:cNvPicPr/>
          <p:nvPr/>
        </p:nvPicPr>
        <p:blipFill>
          <a:blip r:embed="rId2"/>
          <a:stretch/>
        </p:blipFill>
        <p:spPr>
          <a:xfrm>
            <a:off x="0" y="1484280"/>
            <a:ext cx="5219640" cy="424836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-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435280" y="1267920"/>
            <a:ext cx="370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At n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ght Kuzya often sleeps on my father’s chair near the computer table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Users\Викусик\Desktop\Кузя\DSC00276.JPG"/>
          <p:cNvPicPr/>
          <p:nvPr/>
        </p:nvPicPr>
        <p:blipFill>
          <a:blip r:embed="rId2"/>
          <a:stretch/>
        </p:blipFill>
        <p:spPr>
          <a:xfrm>
            <a:off x="0" y="1197000"/>
            <a:ext cx="5435640" cy="439272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-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5876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uzya  is a   member   our  family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Викусик\Desktop\Кузя\DSC00277.JPG"/>
          <p:cNvPicPr/>
          <p:nvPr/>
        </p:nvPicPr>
        <p:blipFill>
          <a:blip r:embed="rId2"/>
          <a:stretch/>
        </p:blipFill>
        <p:spPr>
          <a:xfrm>
            <a:off x="1258920" y="549360"/>
            <a:ext cx="7273800" cy="541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59:56Z</dcterms:created>
  <dc:creator>Викусик</dc:creator>
  <dc:description/>
  <dc:language>en-US</dc:language>
  <cp:lastModifiedBy>Кабинет 313 - Английский</cp:lastModifiedBy>
  <dcterms:modified xsi:type="dcterms:W3CDTF">2012-01-12T06:17:05Z</dcterms:modified>
  <cp:revision>10</cp:revision>
  <dc:subject/>
  <dc:title>My cat!</dc:title>
</cp:coreProperties>
</file>