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gif" ContentType="image/gif"/>
  <Override PartName="/ppt/media/image1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6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31.jpeg" ContentType="image/jpeg"/>
  <Override PartName="/ppt/media/image10.gif" ContentType="image/gif"/>
  <Override PartName="/ppt/media/image11.jpeg" ContentType="image/jpeg"/>
  <Override PartName="/ppt/media/image30.png" ContentType="image/png"/>
  <Override PartName="/ppt/media/image25.gif" ContentType="image/gif"/>
  <Override PartName="/ppt/media/image28.png" ContentType="image/png"/>
  <Override PartName="/ppt/media/image5.png" ContentType="image/png"/>
  <Override PartName="/ppt/media/applause.wav" ContentType="audio/x-wav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27.jpeg" ContentType="image/jpeg"/>
  <Override PartName="/ppt/media/image17.gif" ContentType="image/gif"/>
  <Override PartName="/ppt/media/image2.gif" ContentType="image/gif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CD7B-E30C-4C9C-9FF8-DD4B1FCC5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77A0-A5C9-4AF4-AFD7-87A04D591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6F9-AEA4-4E0F-ACA5-768F9BB9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0C6-46F2-4490-881A-2ABAE3D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BC4-F145-44A5-8E5B-117E5271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B9E-634E-4AFF-BBE7-6BE396EB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7DE-2094-4646-8AA9-9711A4D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320-6BE6-4C70-936E-0F33DA1D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4E0-7A6E-475A-9455-3DD839B2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75C-5D73-4E29-83B5-D752218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CBB-F97D-44F3-B824-604A208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095-C9A5-489E-8249-29A77E8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A6B-E917-41D9-9622-7F14057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73D-A1F1-4CCE-919E-D8D289C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760-B80B-4B56-8109-1C45ABEEB8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7623-83AA-4664-8F55-C4F1B1CFD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900igr.net/kartinki/matematika/Urok-po-teme-Skorost/008--Matematika-tsaritsa-vsekh-nauk.html" TargetMode="External"/><Relationship Id="rId2" Type="http://schemas.openxmlformats.org/officeDocument/2006/relationships/hyperlink" Target="http://webdomdohod.ru/marz3.html" TargetMode="External"/><Relationship Id="rId3" Type="http://schemas.openxmlformats.org/officeDocument/2006/relationships/hyperlink" Target="http://festival.1september.ru/articles/563908/" TargetMode="External"/><Relationship Id="rId4" Type="http://schemas.openxmlformats.org/officeDocument/2006/relationships/hyperlink" Target="http://partygirl.fotostrana.ru/user/6849590/" TargetMode="External"/><Relationship Id="rId5" Type="http://schemas.openxmlformats.org/officeDocument/2006/relationships/hyperlink" Target="http://belem.ru/node/654" TargetMode="External"/><Relationship Id="rId6" Type="http://schemas.openxmlformats.org/officeDocument/2006/relationships/hyperlink" Target="http://venecianov.ru/?item=8735851d-eff7-4531-8d55-e4c155b470bf&amp;termin=b7051f3e-246e-409f-a8a5-06a4ac59578d" TargetMode="External"/><Relationship Id="rId7" Type="http://schemas.openxmlformats.org/officeDocument/2006/relationships/hyperlink" Target="http://photo.psychotype.ru/person/250/" TargetMode="External"/><Relationship Id="rId8" Type="http://schemas.openxmlformats.org/officeDocument/2006/relationships/hyperlink" Target="http://t-smertina.narod.ru/litphoto/blok/photoalbum-35.html" TargetMode="External"/><Relationship Id="rId9" Type="http://schemas.openxmlformats.org/officeDocument/2006/relationships/hyperlink" Target="http://avkopeliovich.com/photo/27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ческая игр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лючи от царства Математики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учащихся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-х клас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3786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ООШ №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Оленегор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рман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чарова Лариса Пет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Фото\Бочарова Л П фото\Бочарова Лариса Петровна 2.jpg"/>
          <p:cNvPicPr/>
          <p:nvPr/>
        </p:nvPicPr>
        <p:blipFill>
          <a:blip r:embed="rId1"/>
          <a:stretch/>
        </p:blipFill>
        <p:spPr>
          <a:xfrm>
            <a:off x="6429240" y="857160"/>
            <a:ext cx="2144880" cy="26528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B77-3FB0-4A1A-82FF-E17114230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анграм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ADMIN\Рабочий стол\математика занятие\7295f29b6d17.jpg"/>
          <p:cNvPicPr/>
          <p:nvPr/>
        </p:nvPicPr>
        <p:blipFill>
          <a:blip r:embed="rId1"/>
          <a:stretch/>
        </p:blipFill>
        <p:spPr>
          <a:xfrm>
            <a:off x="2214720" y="2143080"/>
            <a:ext cx="483840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214200" y="357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025-4608-4A65-BBCB-4AB87CCBF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4" descr=""/>
          <p:cNvPicPr/>
          <p:nvPr/>
        </p:nvPicPr>
        <p:blipFill>
          <a:blip r:embed="rId1"/>
          <a:stretch/>
        </p:blipFill>
        <p:spPr>
          <a:xfrm>
            <a:off x="463680" y="1895400"/>
            <a:ext cx="2541600" cy="207324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атематические ребусы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D:\Мои документы\РИСУНКИ\школа\5600081-.jpg"/>
          <p:cNvPicPr/>
          <p:nvPr/>
        </p:nvPicPr>
        <p:blipFill>
          <a:blip r:embed="rId2"/>
          <a:stretch/>
        </p:blipFill>
        <p:spPr>
          <a:xfrm>
            <a:off x="1285920" y="3500280"/>
            <a:ext cx="3014640" cy="302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question"/>
          <p:cNvPicPr/>
          <p:nvPr/>
        </p:nvPicPr>
        <p:blipFill>
          <a:blip r:embed="rId3"/>
          <a:stretch/>
        </p:blipFill>
        <p:spPr>
          <a:xfrm>
            <a:off x="5929200" y="2571840"/>
            <a:ext cx="1785960" cy="248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42876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D7FC-2835-4BAA-AAC8-108C700A0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ниматик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428760" y="214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1500120" y="221472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people126"/>
          <p:cNvPicPr/>
          <p:nvPr/>
        </p:nvPicPr>
        <p:blipFill>
          <a:blip r:embed="rId1"/>
          <a:stretch/>
        </p:blipFill>
        <p:spPr>
          <a:xfrm>
            <a:off x="642960" y="3286080"/>
            <a:ext cx="30351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500040" y="357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1357200" y="1285920"/>
            <a:ext cx="2000520" cy="1763640"/>
          </a:xfrm>
          <a:prstGeom prst="cloudCallout">
            <a:avLst>
              <a:gd name="adj1" fmla="val -47476"/>
              <a:gd name="adj2" fmla="val 55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Documents and Settings\ADMIN\Рабочий стол\математика занятие\fe09b8eaea3ab3de8f489a474a834a26.jpg"/>
          <p:cNvPicPr/>
          <p:nvPr/>
        </p:nvPicPr>
        <p:blipFill>
          <a:blip r:embed="rId3"/>
          <a:stretch/>
        </p:blipFill>
        <p:spPr>
          <a:xfrm>
            <a:off x="1785960" y="1500120"/>
            <a:ext cx="1000080" cy="12765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285840" y="21420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едение итог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:\Мои документы\РИСУНКИ\школа\m_4ba05d02.jpg"/>
          <p:cNvPicPr/>
          <p:nvPr/>
        </p:nvPicPr>
        <p:blipFill>
          <a:blip r:embed="rId4"/>
          <a:stretch/>
        </p:blipFill>
        <p:spPr>
          <a:xfrm>
            <a:off x="7000920" y="4857840"/>
            <a:ext cx="1738440" cy="1738080"/>
          </a:xfrm>
          <a:prstGeom prst="rect">
            <a:avLst/>
          </a:prstGeom>
          <a:ln w="0">
            <a:noFill/>
          </a:ln>
        </p:spPr>
      </p:pic>
      <p:sp>
        <p:nvSpPr>
          <p:cNvPr id="14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773-875B-45C7-A958-74C766825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vin84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071720" y="2071800"/>
            <a:ext cx="72738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2" name="j0214098.wav" descr=""/>
          <p:cNvPicPr/>
          <p:nvPr/>
        </p:nvPicPr>
        <p:blipFill>
          <a:blip r:embed="rId4"/>
          <a:stretch/>
        </p:blipFill>
        <p:spPr>
          <a:xfrm>
            <a:off x="778680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6D0A-A02D-40B1-B740-4AA70E27F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Documents and Settings\ADMIN\Рабочий стол\Безымянный2.jpg"/>
          <p:cNvPicPr/>
          <p:nvPr/>
        </p:nvPicPr>
        <p:blipFill>
          <a:blip r:embed="rId5"/>
          <a:stretch/>
        </p:blipFill>
        <p:spPr>
          <a:xfrm>
            <a:off x="3214800" y="305748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474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14200" y="839520"/>
            <a:ext cx="867888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1"/>
              </a:rPr>
              <a:t>http://900igr.net/kartinki/matematika/Urok-po-teme-Skorost/008--Matematika-tsaritsa-vsekh-nauk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2"/>
              </a:rPr>
              <a:t>http://webdomdohod.ru/marz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дея оформления третьего слайда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3"/>
              </a:rPr>
              <a:t>http://festival.1september.ru/articles/56390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4"/>
              </a:rPr>
              <a:t>http://partygirl.fotostrana.ru/user/684959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5"/>
              </a:rPr>
              <a:t>http://belem.ru/node/6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6"/>
              </a:rPr>
              <a:t>http://venecianov.ru/?item=8735851d-eff7-4531-8d55-e4c155b470bf&amp;termin=b7051f3e-246e-409f-a8a5-06a4ac59578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7"/>
              </a:rPr>
              <a:t>http://photo.psychotype.ru/person/25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8"/>
              </a:rPr>
              <a:t>http://t-smertina.narod.ru/litphoto/blok/photoalbum-3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9"/>
              </a:rPr>
              <a:t>http://avkopeliovich.com/photo/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www.ardisbook.ru/old/catalog/author.html?id=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sekred.ru/page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www.skio.ru/illusions/image.php?page=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arum.com.ua/product/86833/Zolotoj-brelok-v-vide-svjazki-kljuchej-FindingKing-FK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дея оформления одиннадцатого слайда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metodsovet.su/load/nach_matem/vnekl_rab/kvn_po_matematike/10-1-0-8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2234520" y="0"/>
            <a:ext cx="49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25a5"/>
                </a:solidFill>
                <a:latin typeface="Comic Sans MS"/>
              </a:rPr>
              <a:t>Ресурсы интерн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8C07-557C-4AA8-B406-FB971CDA5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И ОТ ЦАРСТВА МАТЕМАТ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Documents and Settings\ADMIN\Рабочий стол\математика занятие\0004-004--Matematika-tsaritsa-vsekh-nauk.gif"/>
          <p:cNvPicPr/>
          <p:nvPr/>
        </p:nvPicPr>
        <p:blipFill>
          <a:blip r:embed="rId1"/>
          <a:stretch/>
        </p:blipFill>
        <p:spPr>
          <a:xfrm>
            <a:off x="500040" y="3071880"/>
            <a:ext cx="4952880" cy="25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357120" y="285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ADMIN\Рабочий стол\математика занятие\4089.gif"/>
          <p:cNvPicPr/>
          <p:nvPr/>
        </p:nvPicPr>
        <p:blipFill>
          <a:blip r:embed="rId3"/>
          <a:stretch/>
        </p:blipFill>
        <p:spPr>
          <a:xfrm>
            <a:off x="64296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8001000" y="642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Documents and Settings\ADMIN\Рабочий стол\математика занятие\4089.gif"/>
          <p:cNvPicPr/>
          <p:nvPr/>
        </p:nvPicPr>
        <p:blipFill>
          <a:blip r:embed="rId5"/>
          <a:stretch/>
        </p:blipFill>
        <p:spPr>
          <a:xfrm>
            <a:off x="142920" y="1928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Documents and Settings\ADMIN\Рабочий стол\математика занятие\4089.gif"/>
          <p:cNvPicPr/>
          <p:nvPr/>
        </p:nvPicPr>
        <p:blipFill>
          <a:blip r:embed="rId6"/>
          <a:stretch/>
        </p:blipFill>
        <p:spPr>
          <a:xfrm>
            <a:off x="3071880" y="2643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ADMIN\Рабочий стол\математика занятие\4089.gif"/>
          <p:cNvPicPr/>
          <p:nvPr/>
        </p:nvPicPr>
        <p:blipFill>
          <a:blip r:embed="rId7"/>
          <a:stretch/>
        </p:blipFill>
        <p:spPr>
          <a:xfrm>
            <a:off x="7000920" y="121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Documents and Settings\ADMIN\Рабочий стол\математика занятие\4089.gif"/>
          <p:cNvPicPr/>
          <p:nvPr/>
        </p:nvPicPr>
        <p:blipFill>
          <a:blip r:embed="rId8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Documents and Settings\ADMIN\Рабочий стол\математика занятие\4089.gif"/>
          <p:cNvPicPr/>
          <p:nvPr/>
        </p:nvPicPr>
        <p:blipFill>
          <a:blip r:embed="rId9"/>
          <a:stretch/>
        </p:blipFill>
        <p:spPr>
          <a:xfrm>
            <a:off x="1143000" y="5143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Documents and Settings\ADMIN\Рабочий стол\математика занятие\4089.gif"/>
          <p:cNvPicPr/>
          <p:nvPr/>
        </p:nvPicPr>
        <p:blipFill>
          <a:blip r:embed="rId10"/>
          <a:stretch/>
        </p:blipFill>
        <p:spPr>
          <a:xfrm>
            <a:off x="4500720" y="6000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C:\Documents and Settings\ADMIN\Рабочий стол\математика занятие\4089.gif"/>
          <p:cNvPicPr/>
          <p:nvPr/>
        </p:nvPicPr>
        <p:blipFill>
          <a:blip r:embed="rId11"/>
          <a:stretch/>
        </p:blipFill>
        <p:spPr>
          <a:xfrm>
            <a:off x="4714920" y="1785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C:\Documents and Settings\ADMIN\Рабочий стол\математика занятие\sige_gold_small_.jpg"/>
          <p:cNvPicPr/>
          <p:nvPr/>
        </p:nvPicPr>
        <p:blipFill>
          <a:blip r:embed="rId12"/>
          <a:stretch/>
        </p:blipFill>
        <p:spPr>
          <a:xfrm>
            <a:off x="5429160" y="2452680"/>
            <a:ext cx="3443400" cy="420696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1B4-BE8A-4978-A671-13B75FD7C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: везд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в тру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нья приходят к тебе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забудь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зненный путь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, не равнина, а горы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ет сейчас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, среди н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щих лет Пифагоры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572080" y="857160"/>
            <a:ext cx="3245040" cy="484848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50AE-414F-4674-A2EB-13ED5323D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j0433814"/>
          <p:cNvPicPr/>
          <p:nvPr/>
        </p:nvPicPr>
        <p:blipFill>
          <a:blip r:embed="rId1"/>
          <a:stretch/>
        </p:blipFill>
        <p:spPr>
          <a:xfrm>
            <a:off x="857160" y="2357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 rot="16200000">
            <a:off x="612000" y="1959120"/>
            <a:ext cx="2439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2409217"/>
                <a:gd name="adj2" fmla="val 72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10800000"/>
                </a:gradFill>
                <a:latin typeface="Arial"/>
              </a:rPr>
              <a:t>команда «Дважды два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71" name="Picture 8" descr="j0433814"/>
          <p:cNvPicPr/>
          <p:nvPr/>
        </p:nvPicPr>
        <p:blipFill>
          <a:blip r:embed="rId2"/>
          <a:stretch/>
        </p:blipFill>
        <p:spPr>
          <a:xfrm>
            <a:off x="5724360" y="836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14"/>
          <p:cNvSpPr txBox="1"/>
          <p:nvPr/>
        </p:nvSpPr>
        <p:spPr>
          <a:xfrm rot="16200000">
            <a:off x="5475960" y="437400"/>
            <a:ext cx="2440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2619243"/>
                <a:gd name="adj2" fmla="val 7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10800000"/>
                </a:gradFill>
                <a:latin typeface="Arial"/>
              </a:rPr>
              <a:t>команда «Мыслители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73" name="Picture 2" descr="D:\Мои документы\РИСУНКИ\школа\d3250fbf3dd1.png"/>
          <p:cNvPicPr/>
          <p:nvPr/>
        </p:nvPicPr>
        <p:blipFill>
          <a:blip r:embed="rId3"/>
          <a:stretch/>
        </p:blipFill>
        <p:spPr>
          <a:xfrm>
            <a:off x="3214800" y="3214800"/>
            <a:ext cx="254448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545-7926-42FD-9CAA-73A128550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008-16"/>
          <p:cNvPicPr/>
          <p:nvPr/>
        </p:nvPicPr>
        <p:blipFill>
          <a:blip r:embed="rId1"/>
          <a:stretch/>
        </p:blipFill>
        <p:spPr>
          <a:xfrm>
            <a:off x="571680" y="2071800"/>
            <a:ext cx="450036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" descr="62"/>
          <p:cNvPicPr/>
          <p:nvPr/>
        </p:nvPicPr>
        <p:blipFill>
          <a:blip r:embed="rId2"/>
          <a:stretch/>
        </p:blipFill>
        <p:spPr>
          <a:xfrm>
            <a:off x="7358040" y="2428920"/>
            <a:ext cx="1081080" cy="2906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5"/>
          <p:cNvPicPr/>
          <p:nvPr/>
        </p:nvPicPr>
        <p:blipFill>
          <a:blip r:embed="rId3"/>
          <a:stretch/>
        </p:blipFill>
        <p:spPr>
          <a:xfrm>
            <a:off x="5643720" y="5214960"/>
            <a:ext cx="1793880" cy="136692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</a:t>
            </a:r>
            <a:br>
              <a:rPr sz="54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итературная викторин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21420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31F-E600-453C-9440-9D3C8E699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итературная математик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Рабочий стол\математика занятие\152811_4.jpg"/>
          <p:cNvPicPr/>
          <p:nvPr/>
        </p:nvPicPr>
        <p:blipFill>
          <a:blip r:embed="rId1"/>
          <a:stretch/>
        </p:blipFill>
        <p:spPr>
          <a:xfrm>
            <a:off x="285840" y="1785960"/>
            <a:ext cx="1641240" cy="18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DMIN\Рабочий стол\математика занятие\cms.gif"/>
          <p:cNvPicPr/>
          <p:nvPr/>
        </p:nvPicPr>
        <p:blipFill>
          <a:blip r:embed="rId2"/>
          <a:stretch/>
        </p:blipFill>
        <p:spPr>
          <a:xfrm>
            <a:off x="571680" y="3786120"/>
            <a:ext cx="1714320" cy="18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DMIN\Рабочий стол\математика занятие\i.jpeg"/>
          <p:cNvPicPr/>
          <p:nvPr/>
        </p:nvPicPr>
        <p:blipFill>
          <a:blip r:embed="rId3"/>
          <a:stretch/>
        </p:blipFill>
        <p:spPr>
          <a:xfrm>
            <a:off x="2571840" y="4572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DMIN\Рабочий стол\математика занятие\67155652_4.jpg"/>
          <p:cNvPicPr/>
          <p:nvPr/>
        </p:nvPicPr>
        <p:blipFill>
          <a:blip r:embed="rId4"/>
          <a:stretch/>
        </p:blipFill>
        <p:spPr>
          <a:xfrm>
            <a:off x="4786200" y="4559400"/>
            <a:ext cx="1209960" cy="186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Documents and Settings\ADMIN\Рабочий стол\математика занятие\31862618_Aleksandr_Pushkin_portret_rabotuy_V.jpg"/>
          <p:cNvPicPr/>
          <p:nvPr/>
        </p:nvPicPr>
        <p:blipFill>
          <a:blip r:embed="rId5"/>
          <a:stretch/>
        </p:blipFill>
        <p:spPr>
          <a:xfrm>
            <a:off x="6429240" y="3643200"/>
            <a:ext cx="1586160" cy="19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ADMIN\Рабочий стол\математика занятие\img_579_2.jpg"/>
          <p:cNvPicPr/>
          <p:nvPr/>
        </p:nvPicPr>
        <p:blipFill>
          <a:blip r:embed="rId6"/>
          <a:stretch/>
        </p:blipFill>
        <p:spPr>
          <a:xfrm>
            <a:off x="7215120" y="1714680"/>
            <a:ext cx="1519200" cy="172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D:\Мои документы\РИСУНКИ\школа\ecrire_plume.gif"/>
          <p:cNvPicPr/>
          <p:nvPr/>
        </p:nvPicPr>
        <p:blipFill>
          <a:blip r:embed="rId7"/>
          <a:stretch/>
        </p:blipFill>
        <p:spPr>
          <a:xfrm>
            <a:off x="3500280" y="2428920"/>
            <a:ext cx="1714680" cy="160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ADMIN\Рабочий стол\математика занятие\4089.gif"/>
          <p:cNvPicPr/>
          <p:nvPr/>
        </p:nvPicPr>
        <p:blipFill>
          <a:blip r:embed="rId8"/>
          <a:stretch/>
        </p:blipFill>
        <p:spPr>
          <a:xfrm>
            <a:off x="285840" y="2858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14A-D7FE-494B-89AE-7D2F4BEFD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357120" y="42876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Кто написал изве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каз «Федина задач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643720" y="1428840"/>
            <a:ext cx="107136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429000" y="428760"/>
            <a:ext cx="928800" cy="571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5715000" y="428760"/>
            <a:ext cx="107172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6858000" y="42876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286080" y="42876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57120" y="2143080"/>
            <a:ext cx="293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Известный русский поэ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трок «Вдохнов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геомет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 в поэз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57120" y="1143000"/>
            <a:ext cx="29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2.Кому принадлежат слова «Мы любим все - и жар холодных чисел…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57120" y="4214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Автор рассказа, где институтка Наденька решает задачу про трех куп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72240" y="3286080"/>
            <a:ext cx="285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Какой русский пис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авнивал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 дроб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357120" y="5357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6.Какой поэт в своем стихотворении поклонялся «царственным числам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7"/>
          <p:cNvSpPr/>
          <p:nvPr/>
        </p:nvSpPr>
        <p:spPr>
          <a:xfrm>
            <a:off x="6786720" y="142884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3357720" y="1428840"/>
            <a:ext cx="100008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4429080" y="1428840"/>
            <a:ext cx="107172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Т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0"/>
          <p:cNvSpPr/>
          <p:nvPr/>
        </p:nvSpPr>
        <p:spPr>
          <a:xfrm>
            <a:off x="4429080" y="42876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1"/>
          <p:cNvSpPr/>
          <p:nvPr/>
        </p:nvSpPr>
        <p:spPr>
          <a:xfrm>
            <a:off x="4429080" y="2428920"/>
            <a:ext cx="114300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2"/>
          <p:cNvSpPr/>
          <p:nvPr/>
        </p:nvSpPr>
        <p:spPr>
          <a:xfrm>
            <a:off x="3286080" y="2428920"/>
            <a:ext cx="107172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Г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3"/>
          <p:cNvSpPr/>
          <p:nvPr/>
        </p:nvSpPr>
        <p:spPr>
          <a:xfrm>
            <a:off x="5643720" y="242892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4"/>
          <p:cNvSpPr/>
          <p:nvPr/>
        </p:nvSpPr>
        <p:spPr>
          <a:xfrm>
            <a:off x="6786720" y="2428920"/>
            <a:ext cx="12855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Лермо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5"/>
          <p:cNvSpPr/>
          <p:nvPr/>
        </p:nvSpPr>
        <p:spPr>
          <a:xfrm>
            <a:off x="7000920" y="3429000"/>
            <a:ext cx="114300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6"/>
          <p:cNvSpPr/>
          <p:nvPr/>
        </p:nvSpPr>
        <p:spPr>
          <a:xfrm>
            <a:off x="5786280" y="3429000"/>
            <a:ext cx="114300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.Велт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7"/>
          <p:cNvSpPr/>
          <p:nvPr/>
        </p:nvSpPr>
        <p:spPr>
          <a:xfrm>
            <a:off x="4500720" y="3429000"/>
            <a:ext cx="12142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8"/>
          <p:cNvSpPr/>
          <p:nvPr/>
        </p:nvSpPr>
        <p:spPr>
          <a:xfrm>
            <a:off x="3357720" y="342900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Зощ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9"/>
          <p:cNvSpPr/>
          <p:nvPr/>
        </p:nvSpPr>
        <p:spPr>
          <a:xfrm>
            <a:off x="5715000" y="4643280"/>
            <a:ext cx="114300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0"/>
          <p:cNvSpPr/>
          <p:nvPr/>
        </p:nvSpPr>
        <p:spPr>
          <a:xfrm>
            <a:off x="3357720" y="464328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 Го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4500720" y="4643280"/>
            <a:ext cx="107136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.Баж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2"/>
          <p:cNvSpPr/>
          <p:nvPr/>
        </p:nvSpPr>
        <p:spPr>
          <a:xfrm>
            <a:off x="6929280" y="4643280"/>
            <a:ext cx="121464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6929280" y="5572080"/>
            <a:ext cx="121464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.Брю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4500720" y="5572080"/>
            <a:ext cx="107136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Май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5"/>
          <p:cNvSpPr/>
          <p:nvPr/>
        </p:nvSpPr>
        <p:spPr>
          <a:xfrm>
            <a:off x="5643720" y="5572080"/>
            <a:ext cx="121428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Б.Слу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6"/>
          <p:cNvSpPr/>
          <p:nvPr/>
        </p:nvSpPr>
        <p:spPr>
          <a:xfrm>
            <a:off x="3357720" y="557208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0" y="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967 -0.00324 E">
                                      <p:cBhvr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52136 -0.00254 E">
                                      <p:cBhvr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51 -0.00115 L -0.27518 -0.00092 E">
                                      <p:cBhvr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85185E-006 L -0.55643 0.00972 E">
                                      <p:cBhvr>
                                        <p:cTn id="9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40799 -0.0088 E">
                                      <p:cBhvr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3681 0.00277 E">
                                      <p:cBhvr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оловоломки со спичками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:\Documents and Settings\ADMIN\Рабочий стол\математика занятие\x_08073aca.jpg"/>
          <p:cNvPicPr/>
          <p:nvPr/>
        </p:nvPicPr>
        <p:blipFill>
          <a:blip r:embed="rId1"/>
          <a:stretch/>
        </p:blipFill>
        <p:spPr>
          <a:xfrm>
            <a:off x="2071800" y="2071800"/>
            <a:ext cx="5236920" cy="392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35712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C16C-053E-46D9-B97D-F2DF4F9EF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Рабочий стол\математика занятие\46e950748561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Заголовок 1"/>
          <p:cNvSpPr/>
          <p:nvPr/>
        </p:nvSpPr>
        <p:spPr>
          <a:xfrm>
            <a:off x="0" y="142920"/>
            <a:ext cx="435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лакса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1F3-92A5-4E70-8540-9ECB1735E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7:46Z</dcterms:created>
  <dc:creator>serega</dc:creator>
  <dc:description/>
  <dc:language>en-US</dc:language>
  <cp:lastModifiedBy>Admin</cp:lastModifiedBy>
  <dcterms:modified xsi:type="dcterms:W3CDTF">2012-06-15T10:32:58Z</dcterms:modified>
  <cp:revision>63</cp:revision>
  <dc:subject/>
  <dc:title>Презентация PowerPoint</dc:title>
</cp:coreProperties>
</file>