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gif" ContentType="image/gif"/>
  <Override PartName="/ppt/media/image1.jpeg" ContentType="image/jpeg"/>
  <Override PartName="/ppt/media/image7.png" ContentType="image/png"/>
  <Override PartName="/ppt/media/image22.jpeg" ContentType="image/jpeg"/>
  <Override PartName="/ppt/media/image3.gif" ContentType="image/gif"/>
  <Override PartName="/ppt/media/image6.png" ContentType="image/png"/>
  <Override PartName="/ppt/media/image12.png" ContentType="image/png"/>
  <Override PartName="/ppt/media/image20.jpeg" ContentType="image/jpeg"/>
  <Override PartName="/ppt/media/image18.jpeg" ContentType="image/jpeg"/>
  <Override PartName="/ppt/media/image8.gif" ContentType="image/gif"/>
  <Override PartName="/ppt/media/image4.jpeg" ContentType="image/jpeg"/>
  <Override PartName="/ppt/media/image31.jpeg" ContentType="image/jpeg"/>
  <Override PartName="/ppt/media/image10.gif" ContentType="image/gif"/>
  <Override PartName="/ppt/media/image11.jpeg" ContentType="image/jpeg"/>
  <Override PartName="/ppt/media/image30.png" ContentType="image/png"/>
  <Override PartName="/ppt/media/image25.gif" ContentType="image/gif"/>
  <Override PartName="/ppt/media/image28.png" ContentType="image/png"/>
  <Override PartName="/ppt/media/image5.png" ContentType="image/png"/>
  <Override PartName="/ppt/media/applause.wav" ContentType="audio/x-wav"/>
  <Override PartName="/ppt/media/image13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image27.jpeg" ContentType="image/jpeg"/>
  <Override PartName="/ppt/media/image17.gif" ContentType="image/gif"/>
  <Override PartName="/ppt/media/image2.gif" ContentType="image/gif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71C3-95F5-4575-8609-4B164FCC5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7CD8-2412-45D8-9839-76754129EE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D51-586B-4B99-BEED-3F88620F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6BE-1EDA-418F-9E27-034AAF87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F27-3F4B-4C27-AE98-C90B4D00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780-E23D-4BA8-8837-56847A7C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94D-A324-4FD5-907A-7ED9542A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F76-ACA5-48E6-882B-806B63D9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956-D3A8-4225-88B8-21C5C6DA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8DB-8E6C-4CFB-87A8-74EC05EB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29C-A152-4B2F-8236-5CBF81F6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102-96EE-466F-9290-418270AA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6D6-018C-485B-982F-8F28DB4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71A-6D8F-4EC5-9EDC-B166838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E94B-B72D-4511-8BB4-5B0C810C9C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F726-C1F6-48B9-B57F-E3CDC41231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.gif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30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900igr.net/kartinki/matematika/Urok-po-teme-Skorost/008--Matematika-tsaritsa-vsekh-nauk.html" TargetMode="External"/><Relationship Id="rId2" Type="http://schemas.openxmlformats.org/officeDocument/2006/relationships/hyperlink" Target="http://webdomdohod.ru/marz3.html" TargetMode="External"/><Relationship Id="rId3" Type="http://schemas.openxmlformats.org/officeDocument/2006/relationships/hyperlink" Target="http://festival.1september.ru/articles/563908/" TargetMode="External"/><Relationship Id="rId4" Type="http://schemas.openxmlformats.org/officeDocument/2006/relationships/hyperlink" Target="http://partygirl.fotostrana.ru/user/6849590/" TargetMode="External"/><Relationship Id="rId5" Type="http://schemas.openxmlformats.org/officeDocument/2006/relationships/hyperlink" Target="http://belem.ru/node/654" TargetMode="External"/><Relationship Id="rId6" Type="http://schemas.openxmlformats.org/officeDocument/2006/relationships/hyperlink" Target="http://venecianov.ru/?item=8735851d-eff7-4531-8d55-e4c155b470bf&amp;termin=b7051f3e-246e-409f-a8a5-06a4ac59578d" TargetMode="External"/><Relationship Id="rId7" Type="http://schemas.openxmlformats.org/officeDocument/2006/relationships/hyperlink" Target="http://photo.psychotype.ru/person/250/" TargetMode="External"/><Relationship Id="rId8" Type="http://schemas.openxmlformats.org/officeDocument/2006/relationships/hyperlink" Target="http://t-smertina.narod.ru/litphoto/blok/photoalbum-35.html" TargetMode="External"/><Relationship Id="rId9" Type="http://schemas.openxmlformats.org/officeDocument/2006/relationships/hyperlink" Target="http://avkopeliovich.com/photo/27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59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ческая игр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лючи от царства Математики»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учащихся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-х класс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378612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ООШ №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Оленегорс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рман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чарова Лариса Пет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D:\Фото\Бочарова Л П фото\Бочарова Лариса Петровна 2.jpg"/>
          <p:cNvPicPr/>
          <p:nvPr/>
        </p:nvPicPr>
        <p:blipFill>
          <a:blip r:embed="rId1"/>
          <a:stretch/>
        </p:blipFill>
        <p:spPr>
          <a:xfrm>
            <a:off x="6429240" y="857160"/>
            <a:ext cx="2144880" cy="2652840"/>
          </a:xfrm>
          <a:prstGeom prst="rect">
            <a:avLst/>
          </a:prstGeom>
          <a:ln w="0">
            <a:noFill/>
          </a:ln>
        </p:spPr>
      </p:pic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DC4C-5AA4-426B-9B27-D73CC9E96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V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Танграм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Documents and Settings\ADMIN\Рабочий стол\математика занятие\7295f29b6d17.jpg"/>
          <p:cNvPicPr/>
          <p:nvPr/>
        </p:nvPicPr>
        <p:blipFill>
          <a:blip r:embed="rId1"/>
          <a:stretch/>
        </p:blipFill>
        <p:spPr>
          <a:xfrm>
            <a:off x="2214720" y="2143080"/>
            <a:ext cx="483840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ADMIN\Рабочий стол\математика занятие\4089.gif"/>
          <p:cNvPicPr/>
          <p:nvPr/>
        </p:nvPicPr>
        <p:blipFill>
          <a:blip r:embed="rId2"/>
          <a:stretch/>
        </p:blipFill>
        <p:spPr>
          <a:xfrm>
            <a:off x="214200" y="3571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086-0B22-4C93-9CCE-907110C15B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Прямоугольник 4" descr=""/>
          <p:cNvPicPr/>
          <p:nvPr/>
        </p:nvPicPr>
        <p:blipFill>
          <a:blip r:embed="rId1"/>
          <a:stretch/>
        </p:blipFill>
        <p:spPr>
          <a:xfrm>
            <a:off x="463680" y="1895400"/>
            <a:ext cx="2541600" cy="207324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атематические ребусы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D:\Мои документы\РИСУНКИ\школа\5600081-.jpg"/>
          <p:cNvPicPr/>
          <p:nvPr/>
        </p:nvPicPr>
        <p:blipFill>
          <a:blip r:embed="rId2"/>
          <a:stretch/>
        </p:blipFill>
        <p:spPr>
          <a:xfrm>
            <a:off x="1285920" y="3500280"/>
            <a:ext cx="3014640" cy="3022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question"/>
          <p:cNvPicPr/>
          <p:nvPr/>
        </p:nvPicPr>
        <p:blipFill>
          <a:blip r:embed="rId3"/>
          <a:stretch/>
        </p:blipFill>
        <p:spPr>
          <a:xfrm>
            <a:off x="5929200" y="2571840"/>
            <a:ext cx="1785960" cy="2481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Documents and Settings\ADMIN\Рабочий стол\математика занятие\4089.gif"/>
          <p:cNvPicPr/>
          <p:nvPr/>
        </p:nvPicPr>
        <p:blipFill>
          <a:blip r:embed="rId4"/>
          <a:stretch/>
        </p:blipFill>
        <p:spPr>
          <a:xfrm>
            <a:off x="428760" y="214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B565-4210-46E1-8C93-7F980DADC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ниматика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C:\Documents and Settings\ADMIN\Рабочий стол\математика занятие\4089.gif"/>
          <p:cNvPicPr/>
          <p:nvPr/>
        </p:nvPicPr>
        <p:blipFill>
          <a:blip r:embed="rId1"/>
          <a:stretch/>
        </p:blipFill>
        <p:spPr>
          <a:xfrm>
            <a:off x="428760" y="214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ADMIN\Рабочий стол\3.jpg"/>
          <p:cNvPicPr/>
          <p:nvPr/>
        </p:nvPicPr>
        <p:blipFill>
          <a:blip r:embed="rId2"/>
          <a:stretch/>
        </p:blipFill>
        <p:spPr>
          <a:xfrm>
            <a:off x="1500120" y="2214720"/>
            <a:ext cx="6096240" cy="406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people126"/>
          <p:cNvPicPr/>
          <p:nvPr/>
        </p:nvPicPr>
        <p:blipFill>
          <a:blip r:embed="rId1"/>
          <a:stretch/>
        </p:blipFill>
        <p:spPr>
          <a:xfrm>
            <a:off x="642960" y="3286080"/>
            <a:ext cx="3035160" cy="2643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Рабочий стол\математика занятие\4089.gif"/>
          <p:cNvPicPr/>
          <p:nvPr/>
        </p:nvPicPr>
        <p:blipFill>
          <a:blip r:embed="rId2"/>
          <a:stretch/>
        </p:blipFill>
        <p:spPr>
          <a:xfrm>
            <a:off x="500040" y="3571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0"/>
          <p:cNvSpPr/>
          <p:nvPr/>
        </p:nvSpPr>
        <p:spPr>
          <a:xfrm>
            <a:off x="1357200" y="1285920"/>
            <a:ext cx="2000520" cy="1763640"/>
          </a:xfrm>
          <a:prstGeom prst="cloudCallout">
            <a:avLst>
              <a:gd name="adj1" fmla="val -47476"/>
              <a:gd name="adj2" fmla="val 55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Documents and Settings\ADMIN\Рабочий стол\математика занятие\fe09b8eaea3ab3de8f489a474a834a26.jpg"/>
          <p:cNvPicPr/>
          <p:nvPr/>
        </p:nvPicPr>
        <p:blipFill>
          <a:blip r:embed="rId3"/>
          <a:stretch/>
        </p:blipFill>
        <p:spPr>
          <a:xfrm>
            <a:off x="1785960" y="1500120"/>
            <a:ext cx="1000080" cy="127656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285840" y="214200"/>
            <a:ext cx="864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ведение итог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D:\Мои документы\РИСУНКИ\школа\m_4ba05d02.jpg"/>
          <p:cNvPicPr/>
          <p:nvPr/>
        </p:nvPicPr>
        <p:blipFill>
          <a:blip r:embed="rId4"/>
          <a:stretch/>
        </p:blipFill>
        <p:spPr>
          <a:xfrm>
            <a:off x="7000920" y="4857840"/>
            <a:ext cx="1738440" cy="1738080"/>
          </a:xfrm>
          <a:prstGeom prst="rect">
            <a:avLst/>
          </a:prstGeom>
          <a:ln w="0">
            <a:noFill/>
          </a:ln>
        </p:spPr>
      </p:pic>
      <p:sp>
        <p:nvSpPr>
          <p:cNvPr id="149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981E-41F6-47A9-BA84-87C84F7978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vin84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12144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1071720" y="2071800"/>
            <a:ext cx="727380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0443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52" name="j0214098.wav" descr=""/>
          <p:cNvPicPr/>
          <p:nvPr/>
        </p:nvPicPr>
        <p:blipFill>
          <a:blip r:embed="rId4"/>
          <a:stretch/>
        </p:blipFill>
        <p:spPr>
          <a:xfrm>
            <a:off x="7786800" y="62150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DC5D-3A34-4E02-8DB5-5A270C275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C:\Documents and Settings\ADMIN\Рабочий стол\Безымянный2.jpg"/>
          <p:cNvPicPr/>
          <p:nvPr/>
        </p:nvPicPr>
        <p:blipFill>
          <a:blip r:embed="rId5"/>
          <a:stretch/>
        </p:blipFill>
        <p:spPr>
          <a:xfrm>
            <a:off x="3214800" y="3057480"/>
            <a:ext cx="2638440" cy="38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474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214200" y="839520"/>
            <a:ext cx="8678880" cy="47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1"/>
              </a:rPr>
              <a:t>http://900igr.net/kartinki/matematika/Urok-po-teme-Skorost/008--Matematika-tsaritsa-vsekh-nauk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2"/>
              </a:rPr>
              <a:t>http://webdomdohod.ru/marz3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Идея оформления третьего слайда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3"/>
              </a:rPr>
              <a:t>http://festival.1september.ru/articles/56390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4"/>
              </a:rPr>
              <a:t>http://partygirl.fotostrana.ru/user/684959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5"/>
              </a:rPr>
              <a:t>http://belem.ru/node/6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6"/>
              </a:rPr>
              <a:t>http://venecianov.ru/?item=8735851d-eff7-4531-8d55-e4c155b470bf&amp;termin=b7051f3e-246e-409f-a8a5-06a4ac59578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7"/>
              </a:rPr>
              <a:t>http://photo.psychotype.ru/person/250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8"/>
              </a:rPr>
              <a:t>http://t-smertina.narod.ru/litphoto/blok/photoalbum-35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omic Sans MS"/>
                <a:ea typeface="Times New Roman"/>
                <a:hlinkClick r:id="rId9"/>
              </a:rPr>
              <a:t>http://avkopeliovich.com/photo/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www.ardisbook.ru/old/catalog/author.html?id=5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sekred.ru/page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www.skio.ru/illusions/image.php?page=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arum.com.ua/product/86833/Zolotoj-brelok-v-vide-svjazki-kljuchej-FindingKing-FK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Идея оформления одиннадцатого слайда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ttp://metodsovet.su/load/nach_matem/vnekl_rab/kvn_po_matematike/10-1-0-8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2234520" y="0"/>
            <a:ext cx="49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25a5"/>
                </a:solidFill>
                <a:latin typeface="Comic Sans MS"/>
              </a:rPr>
              <a:t>Ресурсы интерне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CA9D-F1F2-48CC-AB5A-5E3902227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ЮЧИ ОТ ЦАРСТВА МАТЕМАТИК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C:\Documents and Settings\ADMIN\Рабочий стол\математика занятие\0004-004--Matematika-tsaritsa-vsekh-nauk.gif"/>
          <p:cNvPicPr/>
          <p:nvPr/>
        </p:nvPicPr>
        <p:blipFill>
          <a:blip r:embed="rId1"/>
          <a:stretch/>
        </p:blipFill>
        <p:spPr>
          <a:xfrm>
            <a:off x="500040" y="3071880"/>
            <a:ext cx="4952880" cy="2504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ADMIN\Рабочий стол\математика занятие\4089.gif"/>
          <p:cNvPicPr/>
          <p:nvPr/>
        </p:nvPicPr>
        <p:blipFill>
          <a:blip r:embed="rId2"/>
          <a:stretch/>
        </p:blipFill>
        <p:spPr>
          <a:xfrm>
            <a:off x="357120" y="2858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Documents and Settings\ADMIN\Рабочий стол\математика занятие\4089.gif"/>
          <p:cNvPicPr/>
          <p:nvPr/>
        </p:nvPicPr>
        <p:blipFill>
          <a:blip r:embed="rId3"/>
          <a:stretch/>
        </p:blipFill>
        <p:spPr>
          <a:xfrm>
            <a:off x="642960" y="11430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Documents and Settings\ADMIN\Рабочий стол\математика занятие\4089.gif"/>
          <p:cNvPicPr/>
          <p:nvPr/>
        </p:nvPicPr>
        <p:blipFill>
          <a:blip r:embed="rId4"/>
          <a:stretch/>
        </p:blipFill>
        <p:spPr>
          <a:xfrm>
            <a:off x="8001000" y="6429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Documents and Settings\ADMIN\Рабочий стол\математика занятие\4089.gif"/>
          <p:cNvPicPr/>
          <p:nvPr/>
        </p:nvPicPr>
        <p:blipFill>
          <a:blip r:embed="rId5"/>
          <a:stretch/>
        </p:blipFill>
        <p:spPr>
          <a:xfrm>
            <a:off x="142920" y="1928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C:\Documents and Settings\ADMIN\Рабочий стол\математика занятие\4089.gif"/>
          <p:cNvPicPr/>
          <p:nvPr/>
        </p:nvPicPr>
        <p:blipFill>
          <a:blip r:embed="rId6"/>
          <a:stretch/>
        </p:blipFill>
        <p:spPr>
          <a:xfrm>
            <a:off x="3071880" y="2643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C:\Documents and Settings\ADMIN\Рабочий стол\математика занятие\4089.gif"/>
          <p:cNvPicPr/>
          <p:nvPr/>
        </p:nvPicPr>
        <p:blipFill>
          <a:blip r:embed="rId7"/>
          <a:stretch/>
        </p:blipFill>
        <p:spPr>
          <a:xfrm>
            <a:off x="7000920" y="1214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Documents and Settings\ADMIN\Рабочий стол\математика занятие\4089.gif"/>
          <p:cNvPicPr/>
          <p:nvPr/>
        </p:nvPicPr>
        <p:blipFill>
          <a:blip r:embed="rId8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C:\Documents and Settings\ADMIN\Рабочий стол\математика занятие\4089.gif"/>
          <p:cNvPicPr/>
          <p:nvPr/>
        </p:nvPicPr>
        <p:blipFill>
          <a:blip r:embed="rId9"/>
          <a:stretch/>
        </p:blipFill>
        <p:spPr>
          <a:xfrm>
            <a:off x="1143000" y="5143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C:\Documents and Settings\ADMIN\Рабочий стол\математика занятие\4089.gif"/>
          <p:cNvPicPr/>
          <p:nvPr/>
        </p:nvPicPr>
        <p:blipFill>
          <a:blip r:embed="rId10"/>
          <a:stretch/>
        </p:blipFill>
        <p:spPr>
          <a:xfrm>
            <a:off x="4500720" y="600084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C:\Documents and Settings\ADMIN\Рабочий стол\математика занятие\4089.gif"/>
          <p:cNvPicPr/>
          <p:nvPr/>
        </p:nvPicPr>
        <p:blipFill>
          <a:blip r:embed="rId11"/>
          <a:stretch/>
        </p:blipFill>
        <p:spPr>
          <a:xfrm>
            <a:off x="4714920" y="178596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C:\Documents and Settings\ADMIN\Рабочий стол\математика занятие\sige_gold_small_.jpg"/>
          <p:cNvPicPr/>
          <p:nvPr/>
        </p:nvPicPr>
        <p:blipFill>
          <a:blip r:embed="rId12"/>
          <a:stretch/>
        </p:blipFill>
        <p:spPr>
          <a:xfrm>
            <a:off x="5429160" y="2452680"/>
            <a:ext cx="3443400" cy="420696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4DAD-ED94-4627-8E32-7D32B0D6E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5712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мни: везд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в труд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нья приходят к тебе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позабудь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зненный путь,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т, не равнина, а горы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жет сейчас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, среди на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ущих лет Пифагоры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572080" y="857160"/>
            <a:ext cx="3245040" cy="484848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6DE3-9209-4246-A85F-60B26CF77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j0433814"/>
          <p:cNvPicPr/>
          <p:nvPr/>
        </p:nvPicPr>
        <p:blipFill>
          <a:blip r:embed="rId1"/>
          <a:stretch/>
        </p:blipFill>
        <p:spPr>
          <a:xfrm>
            <a:off x="857160" y="2357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70" name="WordArt 7"/>
          <p:cNvSpPr txBox="1"/>
          <p:nvPr/>
        </p:nvSpPr>
        <p:spPr>
          <a:xfrm rot="16200000">
            <a:off x="612000" y="1959120"/>
            <a:ext cx="243972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2409217"/>
                <a:gd name="adj2" fmla="val 72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10800000"/>
                </a:gradFill>
                <a:latin typeface="Arial"/>
              </a:rPr>
              <a:t>команда «Дважды два»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71" name="Picture 8" descr="j0433814"/>
          <p:cNvPicPr/>
          <p:nvPr/>
        </p:nvPicPr>
        <p:blipFill>
          <a:blip r:embed="rId2"/>
          <a:stretch/>
        </p:blipFill>
        <p:spPr>
          <a:xfrm>
            <a:off x="5724360" y="83664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14"/>
          <p:cNvSpPr txBox="1"/>
          <p:nvPr/>
        </p:nvSpPr>
        <p:spPr>
          <a:xfrm rot="16200000">
            <a:off x="5475960" y="437400"/>
            <a:ext cx="2440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2619243"/>
                <a:gd name="adj2" fmla="val 7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10800000"/>
                </a:gradFill>
                <a:latin typeface="Arial"/>
              </a:rPr>
              <a:t>команда «Мыслители»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pic>
        <p:nvPicPr>
          <p:cNvPr id="73" name="Picture 2" descr="D:\Мои документы\РИСУНКИ\школа\d3250fbf3dd1.png"/>
          <p:cNvPicPr/>
          <p:nvPr/>
        </p:nvPicPr>
        <p:blipFill>
          <a:blip r:embed="rId3"/>
          <a:stretch/>
        </p:blipFill>
        <p:spPr>
          <a:xfrm>
            <a:off x="3214800" y="3214800"/>
            <a:ext cx="2544480" cy="311472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BD46-5B8A-4380-815E-6E9AFA59F2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008-16"/>
          <p:cNvPicPr/>
          <p:nvPr/>
        </p:nvPicPr>
        <p:blipFill>
          <a:blip r:embed="rId1"/>
          <a:stretch/>
        </p:blipFill>
        <p:spPr>
          <a:xfrm>
            <a:off x="571680" y="2071800"/>
            <a:ext cx="4500360" cy="45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9" descr="62"/>
          <p:cNvPicPr/>
          <p:nvPr/>
        </p:nvPicPr>
        <p:blipFill>
          <a:blip r:embed="rId2"/>
          <a:stretch/>
        </p:blipFill>
        <p:spPr>
          <a:xfrm>
            <a:off x="7358040" y="2428920"/>
            <a:ext cx="1081080" cy="2906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15"/>
          <p:cNvPicPr/>
          <p:nvPr/>
        </p:nvPicPr>
        <p:blipFill>
          <a:blip r:embed="rId3"/>
          <a:stretch/>
        </p:blipFill>
        <p:spPr>
          <a:xfrm>
            <a:off x="5643720" y="5214960"/>
            <a:ext cx="1793880" cy="136692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минка</a:t>
            </a:r>
            <a:br>
              <a:rPr sz="54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итературная викторина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ADMIN\Рабочий стол\математика занятие\4089.gif"/>
          <p:cNvPicPr/>
          <p:nvPr/>
        </p:nvPicPr>
        <p:blipFill>
          <a:blip r:embed="rId4"/>
          <a:stretch/>
        </p:blipFill>
        <p:spPr>
          <a:xfrm>
            <a:off x="214200" y="214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017-7386-4CB5-9B0F-9A246630C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итературная математика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ADMIN\Рабочий стол\математика занятие\152811_4.jpg"/>
          <p:cNvPicPr/>
          <p:nvPr/>
        </p:nvPicPr>
        <p:blipFill>
          <a:blip r:embed="rId1"/>
          <a:stretch/>
        </p:blipFill>
        <p:spPr>
          <a:xfrm>
            <a:off x="285840" y="1785960"/>
            <a:ext cx="1641240" cy="18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Documents and Settings\ADMIN\Рабочий стол\математика занятие\cms.gif"/>
          <p:cNvPicPr/>
          <p:nvPr/>
        </p:nvPicPr>
        <p:blipFill>
          <a:blip r:embed="rId2"/>
          <a:stretch/>
        </p:blipFill>
        <p:spPr>
          <a:xfrm>
            <a:off x="571680" y="3786120"/>
            <a:ext cx="1714320" cy="18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ADMIN\Рабочий стол\математика занятие\i.jpeg"/>
          <p:cNvPicPr/>
          <p:nvPr/>
        </p:nvPicPr>
        <p:blipFill>
          <a:blip r:embed="rId3"/>
          <a:stretch/>
        </p:blipFill>
        <p:spPr>
          <a:xfrm>
            <a:off x="2571840" y="457200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ADMIN\Рабочий стол\математика занятие\67155652_4.jpg"/>
          <p:cNvPicPr/>
          <p:nvPr/>
        </p:nvPicPr>
        <p:blipFill>
          <a:blip r:embed="rId4"/>
          <a:stretch/>
        </p:blipFill>
        <p:spPr>
          <a:xfrm>
            <a:off x="4786200" y="4559400"/>
            <a:ext cx="1209960" cy="186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Documents and Settings\ADMIN\Рабочий стол\математика занятие\31862618_Aleksandr_Pushkin_portret_rabotuy_V.jpg"/>
          <p:cNvPicPr/>
          <p:nvPr/>
        </p:nvPicPr>
        <p:blipFill>
          <a:blip r:embed="rId5"/>
          <a:stretch/>
        </p:blipFill>
        <p:spPr>
          <a:xfrm>
            <a:off x="6429240" y="3643200"/>
            <a:ext cx="1586160" cy="1947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Documents and Settings\ADMIN\Рабочий стол\математика занятие\img_579_2.jpg"/>
          <p:cNvPicPr/>
          <p:nvPr/>
        </p:nvPicPr>
        <p:blipFill>
          <a:blip r:embed="rId6"/>
          <a:stretch/>
        </p:blipFill>
        <p:spPr>
          <a:xfrm>
            <a:off x="7215120" y="1714680"/>
            <a:ext cx="1519200" cy="172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D:\Мои документы\РИСУНКИ\школа\ecrire_plume.gif"/>
          <p:cNvPicPr/>
          <p:nvPr/>
        </p:nvPicPr>
        <p:blipFill>
          <a:blip r:embed="rId7"/>
          <a:stretch/>
        </p:blipFill>
        <p:spPr>
          <a:xfrm>
            <a:off x="3500280" y="2428920"/>
            <a:ext cx="1714680" cy="1608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Documents and Settings\ADMIN\Рабочий стол\математика занятие\4089.gif"/>
          <p:cNvPicPr/>
          <p:nvPr/>
        </p:nvPicPr>
        <p:blipFill>
          <a:blip r:embed="rId8"/>
          <a:stretch/>
        </p:blipFill>
        <p:spPr>
          <a:xfrm>
            <a:off x="285840" y="28584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0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75B6-7324-4375-84BD-6720543B7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357120" y="428760"/>
            <a:ext cx="30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Кто написал извес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каз «Федина задач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5643720" y="1428840"/>
            <a:ext cx="107136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.Тют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3429000" y="428760"/>
            <a:ext cx="928800" cy="571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П.Че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5715000" y="428760"/>
            <a:ext cx="107172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.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6858000" y="428760"/>
            <a:ext cx="114300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.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3286080" y="428760"/>
            <a:ext cx="0" cy="61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57120" y="2143080"/>
            <a:ext cx="293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Известный русский поэ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строк «Вдохнов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в геометр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 в поэз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357120" y="1143000"/>
            <a:ext cx="290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2.Кому принадлежат слова «Мы любим все - и жар холодных чисел…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357120" y="421488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Автор рассказа, где институтка Наденька решает задачу про трех куп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372240" y="3286080"/>
            <a:ext cx="285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4.Какой русский пис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равнивал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 дроб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357120" y="535788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6.Какой поэт в своем стихотворении поклонялся «царственным числам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7"/>
          <p:cNvSpPr/>
          <p:nvPr/>
        </p:nvSpPr>
        <p:spPr>
          <a:xfrm>
            <a:off x="6786720" y="1428840"/>
            <a:ext cx="114300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8"/>
          <p:cNvSpPr/>
          <p:nvPr/>
        </p:nvSpPr>
        <p:spPr>
          <a:xfrm>
            <a:off x="3357720" y="1428840"/>
            <a:ext cx="100008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Ф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9"/>
          <p:cNvSpPr/>
          <p:nvPr/>
        </p:nvSpPr>
        <p:spPr>
          <a:xfrm>
            <a:off x="4429080" y="1428840"/>
            <a:ext cx="107172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Тв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30"/>
          <p:cNvSpPr/>
          <p:nvPr/>
        </p:nvSpPr>
        <p:spPr>
          <a:xfrm>
            <a:off x="4429080" y="428760"/>
            <a:ext cx="1143000" cy="576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31"/>
          <p:cNvSpPr/>
          <p:nvPr/>
        </p:nvSpPr>
        <p:spPr>
          <a:xfrm>
            <a:off x="4429080" y="2428920"/>
            <a:ext cx="114300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П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2"/>
          <p:cNvSpPr/>
          <p:nvPr/>
        </p:nvSpPr>
        <p:spPr>
          <a:xfrm>
            <a:off x="3286080" y="2428920"/>
            <a:ext cx="107172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.Гог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3"/>
          <p:cNvSpPr/>
          <p:nvPr/>
        </p:nvSpPr>
        <p:spPr>
          <a:xfrm>
            <a:off x="5643720" y="2428920"/>
            <a:ext cx="10713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34"/>
          <p:cNvSpPr/>
          <p:nvPr/>
        </p:nvSpPr>
        <p:spPr>
          <a:xfrm>
            <a:off x="6786720" y="2428920"/>
            <a:ext cx="12855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Лермо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5"/>
          <p:cNvSpPr/>
          <p:nvPr/>
        </p:nvSpPr>
        <p:spPr>
          <a:xfrm>
            <a:off x="7000920" y="3429000"/>
            <a:ext cx="114300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.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36"/>
          <p:cNvSpPr/>
          <p:nvPr/>
        </p:nvSpPr>
        <p:spPr>
          <a:xfrm>
            <a:off x="5786280" y="3429000"/>
            <a:ext cx="114300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Е.Велт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7"/>
          <p:cNvSpPr/>
          <p:nvPr/>
        </p:nvSpPr>
        <p:spPr>
          <a:xfrm>
            <a:off x="4500720" y="3429000"/>
            <a:ext cx="121428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Пришв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8"/>
          <p:cNvSpPr/>
          <p:nvPr/>
        </p:nvSpPr>
        <p:spPr>
          <a:xfrm>
            <a:off x="3357720" y="3429000"/>
            <a:ext cx="10713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Зощ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9"/>
          <p:cNvSpPr/>
          <p:nvPr/>
        </p:nvSpPr>
        <p:spPr>
          <a:xfrm>
            <a:off x="5715000" y="4643280"/>
            <a:ext cx="114300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Че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0"/>
          <p:cNvSpPr/>
          <p:nvPr/>
        </p:nvSpPr>
        <p:spPr>
          <a:xfrm>
            <a:off x="3357720" y="4643280"/>
            <a:ext cx="10713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 Го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1"/>
          <p:cNvSpPr/>
          <p:nvPr/>
        </p:nvSpPr>
        <p:spPr>
          <a:xfrm>
            <a:off x="4500720" y="4643280"/>
            <a:ext cx="107136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.Баж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2"/>
          <p:cNvSpPr/>
          <p:nvPr/>
        </p:nvSpPr>
        <p:spPr>
          <a:xfrm>
            <a:off x="6929280" y="4643280"/>
            <a:ext cx="121464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Пришв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3"/>
          <p:cNvSpPr/>
          <p:nvPr/>
        </p:nvSpPr>
        <p:spPr>
          <a:xfrm>
            <a:off x="6929280" y="5572080"/>
            <a:ext cx="121464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.Брю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4"/>
          <p:cNvSpPr/>
          <p:nvPr/>
        </p:nvSpPr>
        <p:spPr>
          <a:xfrm>
            <a:off x="4500720" y="5572080"/>
            <a:ext cx="107136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Май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5"/>
          <p:cNvSpPr/>
          <p:nvPr/>
        </p:nvSpPr>
        <p:spPr>
          <a:xfrm>
            <a:off x="5643720" y="5572080"/>
            <a:ext cx="1214280" cy="571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Б.Слу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6"/>
          <p:cNvSpPr/>
          <p:nvPr/>
        </p:nvSpPr>
        <p:spPr>
          <a:xfrm>
            <a:off x="3357720" y="5572080"/>
            <a:ext cx="10713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.Тют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:\Documents and Settings\ADMIN\Рабочий стол\математика занятие\4089.gif"/>
          <p:cNvPicPr/>
          <p:nvPr/>
        </p:nvPicPr>
        <p:blipFill>
          <a:blip r:embed="rId1"/>
          <a:stretch/>
        </p:blipFill>
        <p:spPr>
          <a:xfrm>
            <a:off x="0" y="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3967 -0.00324 E">
                                      <p:cBhvr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-0.52136 -0.00254 E">
                                      <p:cBhvr>
                                        <p:cTn id="5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51 -0.00115 L -0.27518 -0.00092 E">
                                      <p:cBhvr>
                                        <p:cTn id="73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1.85185E-006 L -0.55643 0.00972 E">
                                      <p:cBhvr>
                                        <p:cTn id="9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022E-016 L -0.40799 -0.0088 E">
                                      <p:cBhvr>
                                        <p:cTn id="11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53681 0.00277 E">
                                      <p:cBhvr>
                                        <p:cTn id="14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I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Головоломки со спичками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C:\Documents and Settings\ADMIN\Рабочий стол\математика занятие\x_08073aca.jpg"/>
          <p:cNvPicPr/>
          <p:nvPr/>
        </p:nvPicPr>
        <p:blipFill>
          <a:blip r:embed="rId1"/>
          <a:stretch/>
        </p:blipFill>
        <p:spPr>
          <a:xfrm>
            <a:off x="2071800" y="2071800"/>
            <a:ext cx="5236920" cy="3929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Documents and Settings\ADMIN\Рабочий стол\математика занятие\4089.gif"/>
          <p:cNvPicPr/>
          <p:nvPr/>
        </p:nvPicPr>
        <p:blipFill>
          <a:blip r:embed="rId2"/>
          <a:stretch/>
        </p:blipFill>
        <p:spPr>
          <a:xfrm>
            <a:off x="357120" y="214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8C7D-E607-448A-ADBD-897EE48EE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DMIN\Рабочий стол\математика занятие\46e9507485610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Заголовок 1"/>
          <p:cNvSpPr/>
          <p:nvPr/>
        </p:nvSpPr>
        <p:spPr>
          <a:xfrm>
            <a:off x="0" y="142920"/>
            <a:ext cx="435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лаксац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4CED-2C77-4149-823D-4A764BA00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4:37:46Z</dcterms:created>
  <dc:creator>serega</dc:creator>
  <dc:description/>
  <dc:language>en-US</dc:language>
  <cp:lastModifiedBy>Admin</cp:lastModifiedBy>
  <dcterms:modified xsi:type="dcterms:W3CDTF">2012-06-15T10:32:58Z</dcterms:modified>
  <cp:revision>63</cp:revision>
  <dc:subject/>
  <dc:title>Презентация PowerPoint</dc:title>
</cp:coreProperties>
</file>