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87.wmf" ContentType="image/x-wmf"/>
  <Override PartName="/ppt/media/image19.wmf" ContentType="image/x-wmf"/>
  <Override PartName="/ppt/media/image345.wmf" ContentType="image/x-wmf"/>
  <Override PartName="/ppt/media/image88.wmf" ContentType="image/x-wmf"/>
  <Override PartName="/ppt/media/image89.wmf" ContentType="image/x-wmf"/>
  <Override PartName="/ppt/media/image27.wmf" ContentType="image/x-wmf"/>
  <Override PartName="/ppt/media/image353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44.wmf" ContentType="image/x-wmf"/>
  <Override PartName="/ppt/media/image145.wmf" ContentType="image/x-wmf"/>
  <Override PartName="/ppt/media/image173.wmf" ContentType="image/x-wmf"/>
  <Override PartName="/ppt/media/image339.wmf" ContentType="image/x-wmf"/>
  <Override PartName="/ppt/media/image146.wmf" ContentType="image/x-wmf"/>
  <Override PartName="/ppt/media/image174.wmf" ContentType="image/x-wmf"/>
  <Override PartName="/ppt/media/image1.wmf" ContentType="image/x-wmf"/>
  <Override PartName="/ppt/media/image2.wmf" ContentType="image/x-wmf"/>
  <Override PartName="/ppt/media/image154.wmf" ContentType="image/x-wmf"/>
  <Override PartName="/ppt/media/image3.wmf" ContentType="image/x-wmf"/>
  <Override PartName="/ppt/media/image155.wmf" ContentType="image/x-wmf"/>
  <Override PartName="/ppt/media/image91.wmf" ContentType="image/x-wmf"/>
  <Override PartName="/ppt/media/image115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56.wmf" ContentType="image/x-wmf"/>
  <Override PartName="/ppt/media/image184.wmf" ContentType="image/x-wmf"/>
  <Override PartName="/ppt/media/image143.wmf" ContentType="image/x-wmf"/>
  <Override PartName="/ppt/media/image309.wmf" ContentType="image/x-wmf"/>
  <Override PartName="/ppt/media/image193.wmf" ContentType="image/x-wmf"/>
  <Override PartName="/ppt/media/image125.wmf" ContentType="image/x-wmf"/>
  <Override PartName="/ppt/media/image280.wmf" ContentType="image/x-wmf"/>
  <Override PartName="/ppt/media/image348.wmf" ContentType="image/x-wmf"/>
  <Override PartName="/ppt/media/image182.wmf" ContentType="image/x-wmf"/>
  <Override PartName="/ppt/media/image69.wmf" ContentType="image/x-wmf"/>
  <Override PartName="/ppt/media/image290.wmf" ContentType="image/x-wmf"/>
  <Override PartName="/ppt/media/image308.wmf" ContentType="image/x-wmf"/>
  <Override PartName="/ppt/media/image142.wmf" ContentType="image/x-wmf"/>
  <Override PartName="/ppt/media/image122.wmf" ContentType="image/x-wmf"/>
  <Override PartName="/ppt/media/image190.wmf" ContentType="image/x-wmf"/>
  <Override PartName="/ppt/media/image192.wmf" ContentType="image/x-wmf"/>
  <Override PartName="/ppt/media/image124.wmf" ContentType="image/x-wmf"/>
  <Override PartName="/ppt/media/image335.wmf" ContentType="image/x-wmf"/>
  <Override PartName="/ppt/media/image297.wmf" ContentType="image/x-wmf"/>
  <Override PartName="/ppt/media/image260.wmf" ContentType="image/x-wmf"/>
  <Override PartName="/ppt/media/image291.wmf" ContentType="image/x-wmf"/>
  <Override PartName="/ppt/media/image294.wmf" ContentType="image/x-wmf"/>
  <Override PartName="/ppt/media/image332.wmf" ContentType="image/x-wmf"/>
  <Override PartName="/ppt/media/image194.wmf" ContentType="image/x-wmf"/>
  <Override PartName="/ppt/media/image126.wmf" ContentType="image/x-wmf"/>
  <Override PartName="/ppt/media/image153.wmf" ContentType="image/x-wmf"/>
  <Override PartName="/ppt/media/image319.wmf" ContentType="image/x-wmf"/>
  <Override PartName="/ppt/media/image123.wmf" ContentType="image/x-wmf"/>
  <Override PartName="/ppt/media/image191.wmf" ContentType="image/x-wmf"/>
  <Override PartName="/ppt/media/image293.wmf" ContentType="image/x-wmf"/>
  <Override PartName="/ppt/media/image331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346.wmf" ContentType="image/x-wmf"/>
  <Override PartName="/ppt/media/image180.wmf" ContentType="image/x-wmf"/>
  <Override PartName="/ppt/media/image112.wmf" ContentType="image/x-wmf"/>
  <Override PartName="/ppt/media/image323.wmf" ContentType="image/x-wmf"/>
  <Override PartName="/ppt/media/image285.wmf" ContentType="image/x-wmf"/>
  <Override PartName="/ppt/media/image271.wmf" ContentType="image/x-wmf"/>
  <Override PartName="/ppt/media/image322.wmf" ContentType="image/x-wmf"/>
  <Override PartName="/ppt/media/image284.wmf" ContentType="image/x-wmf"/>
  <Override PartName="/ppt/media/image27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334.wmf" ContentType="image/x-wmf"/>
  <Override PartName="/ppt/media/image296.wmf" ContentType="image/x-wmf"/>
  <Override PartName="/ppt/media/image286.wmf" ContentType="image/x-wmf"/>
  <Override PartName="/ppt/media/image324.wmf" ContentType="image/x-wmf"/>
  <Override PartName="/ppt/media/image333.wmf" ContentType="image/x-wmf"/>
  <Override PartName="/ppt/media/image295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31.wmf" ContentType="image/x-wmf"/>
  <Override PartName="/ppt/media/image9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32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34.wmf" ContentType="image/x-wmf"/>
  <Override PartName="/ppt/media/image34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83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306.wmf" ContentType="image/x-wmf"/>
  <Override PartName="/ppt/media/image268.wmf" ContentType="image/x-wmf"/>
  <Override PartName="/ppt/media/image307.wmf" ContentType="image/x-wmf"/>
  <Override PartName="/ppt/media/image141.wmf" ContentType="image/x-wmf"/>
  <Override PartName="/ppt/media/image269.wmf" ContentType="image/x-wmf"/>
  <Override PartName="/ppt/media/image147.wmf" ContentType="image/x-wmf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234-6CC7-4506-849A-239D8B66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08B-A5D5-4359-95AF-B1BAF53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727-0629-48B7-8676-B798862C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679-14F2-4404-9D13-8694288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50-2A3C-4ABB-8E71-BB48167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950-C58F-4C12-9B43-F4B88884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9F3-B514-4E3F-AB3A-1A2D7CB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F67-8A88-4E6A-9AE6-95C225B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A52-85A4-43E5-B2A8-A30C4556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0EE-D9CC-448C-BCC5-96BA8DB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65E-9C5F-48B5-84FF-0CA2CEA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618-7ECA-44AA-8573-14F3336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073-BD9A-4E22-8A37-E02D63C34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7.wmf"/><Relationship Id="rId17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8.wmf"/><Relationship Id="rId1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0.wmf"/><Relationship Id="rId17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1.wmf"/><Relationship Id="rId1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7.wmf"/><Relationship Id="rId2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7.wmf"/><Relationship Id="rId2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2.wmf"/><Relationship Id="rId1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4.wmf"/><Relationship Id="rId1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6.wmf"/><Relationship Id="rId1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9.wmf"/><Relationship Id="rId1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0.wmf"/><Relationship Id="rId1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1.wmf"/><Relationship Id="rId1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2.wmf"/><Relationship Id="rId1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3.wmf"/><Relationship Id="rId1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4.wmf"/><Relationship Id="rId1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6.wmf"/><Relationship Id="rId1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7.wmf"/><Relationship Id="rId1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8.wmf"/><Relationship Id="rId1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1.wmf"/><Relationship Id="rId1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2.wmf"/><Relationship Id="rId1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3.wmf"/><Relationship Id="rId15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5.wmf"/><Relationship Id="rId17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7.wmf"/><Relationship Id="rId1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9.wmf"/><Relationship Id="rId1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2.wmf"/><Relationship Id="rId1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4.wmf"/><Relationship Id="rId19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7.wmf"/><Relationship Id="rId2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0.wmf"/><Relationship Id="rId1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2.wmf"/><Relationship Id="rId17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3.wmf"/><Relationship Id="rId17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5.wmf"/><Relationship Id="rId19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6.wmf"/><Relationship Id="rId1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8.wmf"/><Relationship Id="rId2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9.wmf"/><Relationship Id="rId2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1.wmf"/><Relationship Id="rId2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4.wmf"/><Relationship Id="rId2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4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7.wmf"/><Relationship Id="rId15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0.wmf"/><Relationship Id="rId19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1.wmf"/><Relationship Id="rId19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2.wmf"/><Relationship Id="rId15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5.wmf"/><Relationship Id="rId19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5.wmf"/><Relationship Id="rId19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8.wmf"/><Relationship Id="rId1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9.wmf"/><Relationship Id="rId1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1.wmf"/><Relationship Id="rId1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2.wmf"/><Relationship Id="rId1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3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4.wmf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4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1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3.wmf"/><Relationship Id="rId2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6.wmf"/><Relationship Id="rId3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3.wmf"/><Relationship Id="rId3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6.wmf"/><Relationship Id="rId3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0.wmf"/><Relationship Id="rId4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2.wmf"/><Relationship Id="rId4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18.wmf"/><Relationship Id="rId4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49.wmf"/><Relationship Id="rId4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52.wmf"/><Relationship Id="rId4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52.wmf"/><Relationship Id="rId4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9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58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9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6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9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59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6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63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64.wmf"/><Relationship Id="rId7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2.wmf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3.wmf"/><Relationship Id="rId1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2.wmf"/><Relationship Id="rId1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5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2.wmf"/><Relationship Id="rId1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7.wmf"/><Relationship Id="rId1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8.wmf"/><Relationship Id="rId1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0.wmf"/><Relationship Id="rId1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2.wmf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4.wmf"/><Relationship Id="rId1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7.wmf"/><Relationship Id="rId1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7.wmf"/><Relationship Id="rId2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7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7.wmf"/><Relationship Id="rId2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7.wmf"/><Relationship Id="rId29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7.wmf"/><Relationship Id="rId3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7.wmf"/><Relationship Id="rId3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7.wmf"/><Relationship Id="rId3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7.wmf"/><Relationship Id="rId3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7.wmf"/><Relationship Id="rId4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97.wmf"/><Relationship Id="rId5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97.wmf"/><Relationship Id="rId5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6.wmf"/><Relationship Id="rId1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4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0.wmf"/><Relationship Id="rId4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2.wmf"/><Relationship Id="rId17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3.wmf"/><Relationship Id="rId17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4.wmf"/><Relationship Id="rId1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6.wmf"/><Relationship Id="rId1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3.wmf"/><Relationship Id="rId1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4.wmf"/><Relationship Id="rId27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3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785880" y="4500720"/>
          <a:ext cx="17272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500720"/>
                    <a:ext cx="17272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6357960" y="2143080"/>
          <a:ext cx="696960" cy="51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57960" y="2143080"/>
                    <a:ext cx="6969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0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4" name="Object 11"/>
          <p:cNvGraphicFramePr/>
          <p:nvPr/>
        </p:nvGraphicFramePr>
        <p:xfrm>
          <a:off x="220680" y="3000240"/>
          <a:ext cx="317340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680" y="3000240"/>
                    <a:ext cx="3173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6" name="Object 14"/>
          <p:cNvGraphicFramePr/>
          <p:nvPr/>
        </p:nvGraphicFramePr>
        <p:xfrm>
          <a:off x="3929040" y="4286160"/>
          <a:ext cx="237816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9040" y="4286160"/>
                    <a:ext cx="2378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8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1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5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9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2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3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5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7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9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0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2" name="Object 11"/>
          <p:cNvGraphicFramePr/>
          <p:nvPr/>
        </p:nvGraphicFramePr>
        <p:xfrm>
          <a:off x="571680" y="4714920"/>
          <a:ext cx="244152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680" y="4714920"/>
                    <a:ext cx="24415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3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7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1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4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5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7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6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9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2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4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6" name="Object 11"/>
          <p:cNvGraphicFramePr/>
          <p:nvPr/>
        </p:nvGraphicFramePr>
        <p:xfrm>
          <a:off x="4786200" y="3286080"/>
          <a:ext cx="155916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6200" y="3286080"/>
                    <a:ext cx="1559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8" name="Object 12"/>
          <p:cNvGraphicFramePr/>
          <p:nvPr/>
        </p:nvGraphicFramePr>
        <p:xfrm>
          <a:off x="6357960" y="3214800"/>
          <a:ext cx="1911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9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7960" y="3214800"/>
                    <a:ext cx="1911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0" name="Object 13"/>
          <p:cNvGraphicFramePr/>
          <p:nvPr/>
        </p:nvGraphicFramePr>
        <p:xfrm>
          <a:off x="8286840" y="3571920"/>
          <a:ext cx="41112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6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6840" y="3571920"/>
                    <a:ext cx="411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2" name="Object 14"/>
          <p:cNvGraphicFramePr/>
          <p:nvPr/>
        </p:nvGraphicFramePr>
        <p:xfrm>
          <a:off x="3557520" y="5000760"/>
          <a:ext cx="2228760" cy="90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57520" y="5000760"/>
                    <a:ext cx="22287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7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9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1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4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5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7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9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1" name="Object 10"/>
          <p:cNvGraphicFramePr/>
          <p:nvPr/>
        </p:nvGraphicFramePr>
        <p:xfrm>
          <a:off x="4786200" y="3286080"/>
          <a:ext cx="155916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6200" y="3286080"/>
                    <a:ext cx="1559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12"/>
          <p:cNvGraphicFramePr/>
          <p:nvPr/>
        </p:nvGraphicFramePr>
        <p:xfrm>
          <a:off x="6357960" y="3214800"/>
          <a:ext cx="1911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8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7960" y="3214800"/>
                    <a:ext cx="1911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5" name="Object 12"/>
          <p:cNvGraphicFramePr/>
          <p:nvPr/>
        </p:nvGraphicFramePr>
        <p:xfrm>
          <a:off x="8286840" y="3571920"/>
          <a:ext cx="41112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6840" y="3571920"/>
                    <a:ext cx="411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7" name="Object 13"/>
          <p:cNvGraphicFramePr/>
          <p:nvPr/>
        </p:nvGraphicFramePr>
        <p:xfrm>
          <a:off x="3557520" y="5000760"/>
          <a:ext cx="2228760" cy="90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8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57520" y="5000760"/>
                    <a:ext cx="22287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4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1" name="Object 14"/>
          <p:cNvGraphicFramePr/>
          <p:nvPr/>
        </p:nvGraphicFramePr>
        <p:xfrm>
          <a:off x="714240" y="4071960"/>
          <a:ext cx="19972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071960"/>
                    <a:ext cx="19972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6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8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1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2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5" name="Object 7"/>
          <p:cNvGraphicFramePr/>
          <p:nvPr/>
        </p:nvGraphicFramePr>
        <p:xfrm>
          <a:off x="714240" y="4071960"/>
          <a:ext cx="19972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071960"/>
                    <a:ext cx="19972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2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6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9" name="Object 7"/>
          <p:cNvGraphicFramePr/>
          <p:nvPr/>
        </p:nvGraphicFramePr>
        <p:xfrm>
          <a:off x="627120" y="4071960"/>
          <a:ext cx="2173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4071960"/>
                    <a:ext cx="2173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4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6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3" name="Object 7"/>
          <p:cNvGraphicFramePr/>
          <p:nvPr/>
        </p:nvGraphicFramePr>
        <p:xfrm>
          <a:off x="627120" y="4071960"/>
          <a:ext cx="2173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4071960"/>
                    <a:ext cx="2173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8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0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2" name="Object 2"/>
          <p:cNvGraphicFramePr/>
          <p:nvPr/>
        </p:nvGraphicFramePr>
        <p:xfrm>
          <a:off x="64296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7" name="Object 7"/>
          <p:cNvGraphicFramePr/>
          <p:nvPr/>
        </p:nvGraphicFramePr>
        <p:xfrm>
          <a:off x="582480" y="4071960"/>
          <a:ext cx="226224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4071960"/>
                    <a:ext cx="22622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4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1" name="Object 7"/>
          <p:cNvGraphicFramePr/>
          <p:nvPr/>
        </p:nvGraphicFramePr>
        <p:xfrm>
          <a:off x="582480" y="4071960"/>
          <a:ext cx="226224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4071960"/>
                    <a:ext cx="22622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6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8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1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2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5" name="Object 7"/>
          <p:cNvGraphicFramePr/>
          <p:nvPr/>
        </p:nvGraphicFramePr>
        <p:xfrm>
          <a:off x="523800" y="4071960"/>
          <a:ext cx="2379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800" y="4071960"/>
                    <a:ext cx="2379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2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6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9" name="Object 7"/>
          <p:cNvGraphicFramePr/>
          <p:nvPr/>
        </p:nvGraphicFramePr>
        <p:xfrm>
          <a:off x="357120" y="4071960"/>
          <a:ext cx="43768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071960"/>
                    <a:ext cx="43768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4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6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3" name="Object 7"/>
          <p:cNvGraphicFramePr/>
          <p:nvPr/>
        </p:nvGraphicFramePr>
        <p:xfrm>
          <a:off x="225360" y="4071960"/>
          <a:ext cx="46404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360" y="4071960"/>
                    <a:ext cx="4640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8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0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7" name="Object 7"/>
          <p:cNvGraphicFramePr/>
          <p:nvPr/>
        </p:nvGraphicFramePr>
        <p:xfrm>
          <a:off x="225360" y="4071960"/>
          <a:ext cx="46404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360" y="4071960"/>
                    <a:ext cx="4640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4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5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7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3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0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6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1" name="Object 2"/>
          <p:cNvGraphicFramePr/>
          <p:nvPr/>
        </p:nvGraphicFramePr>
        <p:xfrm>
          <a:off x="571680" y="1143000"/>
          <a:ext cx="2673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1143000"/>
                    <a:ext cx="2673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3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9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7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2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4" name="Object 10"/>
          <p:cNvGraphicFramePr/>
          <p:nvPr/>
        </p:nvGraphicFramePr>
        <p:xfrm>
          <a:off x="3330720" y="3286080"/>
          <a:ext cx="13539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072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9" name="Object 2"/>
          <p:cNvGraphicFramePr/>
          <p:nvPr/>
        </p:nvGraphicFramePr>
        <p:xfrm>
          <a:off x="64296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9" name="Object 10"/>
          <p:cNvGraphicFramePr/>
          <p:nvPr/>
        </p:nvGraphicFramePr>
        <p:xfrm>
          <a:off x="3330720" y="3286080"/>
          <a:ext cx="13539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072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2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4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2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9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1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4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6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8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1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3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7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5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0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2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8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8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0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9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4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9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1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1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3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0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6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8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0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2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3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4" name="Object 11"/>
          <p:cNvGraphicFramePr/>
          <p:nvPr/>
        </p:nvGraphicFramePr>
        <p:xfrm>
          <a:off x="8001000" y="3571920"/>
          <a:ext cx="88272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3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001000" y="3571920"/>
                    <a:ext cx="88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6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9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2" dur="5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7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9" name="Object 12"/>
          <p:cNvGraphicFramePr/>
          <p:nvPr/>
        </p:nvGraphicFramePr>
        <p:xfrm>
          <a:off x="357120" y="4572000"/>
          <a:ext cx="26496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5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7200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4857840" y="3500280"/>
          <a:ext cx="1434960" cy="1397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2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4" name="Object 8"/>
          <p:cNvGraphicFramePr/>
          <p:nvPr/>
        </p:nvGraphicFramePr>
        <p:xfrm>
          <a:off x="357120" y="4572000"/>
          <a:ext cx="26496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7200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7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9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1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2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6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8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3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5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7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0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2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4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3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6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3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1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3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9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1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3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5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5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5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7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0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2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7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4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6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8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7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3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9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5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9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7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9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9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0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1" name="Object 12"/>
          <p:cNvGraphicFramePr/>
          <p:nvPr/>
        </p:nvGraphicFramePr>
        <p:xfrm>
          <a:off x="8145360" y="5178600"/>
          <a:ext cx="9097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0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45360" y="517860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7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0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3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8"/>
          <p:cNvGraphicFramePr/>
          <p:nvPr/>
        </p:nvGraphicFramePr>
        <p:xfrm>
          <a:off x="357120" y="4500720"/>
          <a:ext cx="353052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00720"/>
                    <a:ext cx="35305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8" name="Object 9"/>
          <p:cNvGraphicFramePr/>
          <p:nvPr/>
        </p:nvGraphicFramePr>
        <p:xfrm>
          <a:off x="4500720" y="3786120"/>
          <a:ext cx="108576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378612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0" name="Object 10"/>
          <p:cNvGraphicFramePr/>
          <p:nvPr/>
        </p:nvGraphicFramePr>
        <p:xfrm>
          <a:off x="5572080" y="3786120"/>
          <a:ext cx="939960" cy="90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2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72080" y="3786120"/>
                    <a:ext cx="939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2" name="Object 11"/>
          <p:cNvGraphicFramePr/>
          <p:nvPr/>
        </p:nvGraphicFramePr>
        <p:xfrm>
          <a:off x="6586560" y="4057560"/>
          <a:ext cx="53028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2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86560" y="4057560"/>
                    <a:ext cx="530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7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9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5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7" name="Object 8"/>
          <p:cNvGraphicFramePr/>
          <p:nvPr/>
        </p:nvGraphicFramePr>
        <p:xfrm>
          <a:off x="357120" y="4500720"/>
          <a:ext cx="353052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00720"/>
                    <a:ext cx="35305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9" name="Object 9"/>
          <p:cNvGraphicFramePr/>
          <p:nvPr/>
        </p:nvGraphicFramePr>
        <p:xfrm>
          <a:off x="4500720" y="3786120"/>
          <a:ext cx="108576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4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378612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1" name="Object 10"/>
          <p:cNvGraphicFramePr/>
          <p:nvPr/>
        </p:nvGraphicFramePr>
        <p:xfrm>
          <a:off x="5572080" y="3786120"/>
          <a:ext cx="939960" cy="90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4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72080" y="3786120"/>
                    <a:ext cx="939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3" name="Object 11"/>
          <p:cNvGraphicFramePr/>
          <p:nvPr/>
        </p:nvGraphicFramePr>
        <p:xfrm>
          <a:off x="6586560" y="4057560"/>
          <a:ext cx="53028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4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86560" y="4057560"/>
                    <a:ext cx="530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4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48578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8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2143080" y="5143680"/>
          <a:ext cx="1533600" cy="12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43080" y="5143680"/>
                    <a:ext cx="15336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0"/>
          <p:cNvGraphicFramePr/>
          <p:nvPr/>
        </p:nvGraphicFramePr>
        <p:xfrm>
          <a:off x="4643280" y="5072040"/>
          <a:ext cx="1575000" cy="1368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3280" y="5072040"/>
                    <a:ext cx="1575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6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8" name="Object 13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9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6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5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3" name="Object 8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5" name="Object 9"/>
          <p:cNvGraphicFramePr/>
          <p:nvPr/>
        </p:nvGraphicFramePr>
        <p:xfrm>
          <a:off x="3000240" y="5286240"/>
          <a:ext cx="91152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00240" y="5286240"/>
                    <a:ext cx="911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7" name="Object 10"/>
          <p:cNvGraphicFramePr/>
          <p:nvPr/>
        </p:nvGraphicFramePr>
        <p:xfrm>
          <a:off x="4857840" y="4000680"/>
          <a:ext cx="284940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7840" y="4000680"/>
                    <a:ext cx="284940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4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8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0" name="Object 8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2" name="Object 9"/>
          <p:cNvGraphicFramePr/>
          <p:nvPr/>
        </p:nvGraphicFramePr>
        <p:xfrm>
          <a:off x="3000240" y="5286240"/>
          <a:ext cx="91152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00240" y="5286240"/>
                    <a:ext cx="911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4" name="Object 10"/>
          <p:cNvGraphicFramePr/>
          <p:nvPr/>
        </p:nvGraphicFramePr>
        <p:xfrm>
          <a:off x="4857840" y="4000680"/>
          <a:ext cx="2849400" cy="9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9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7840" y="4000680"/>
                    <a:ext cx="284940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6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7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1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3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5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9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1" name="Object 11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8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0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6" name="Object 8"/>
          <p:cNvGraphicFramePr/>
          <p:nvPr/>
        </p:nvGraphicFramePr>
        <p:xfrm>
          <a:off x="2857680" y="5072040"/>
          <a:ext cx="91116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5072040"/>
                    <a:ext cx="911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8" name="Object 9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0" name="Object 10"/>
          <p:cNvGraphicFramePr/>
          <p:nvPr/>
        </p:nvGraphicFramePr>
        <p:xfrm>
          <a:off x="4871880" y="4000680"/>
          <a:ext cx="282132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1880" y="4000680"/>
                    <a:ext cx="282132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5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7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9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1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4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3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5" name="Object 8"/>
          <p:cNvGraphicFramePr/>
          <p:nvPr/>
        </p:nvGraphicFramePr>
        <p:xfrm>
          <a:off x="2857680" y="5072040"/>
          <a:ext cx="91116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4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5072040"/>
                    <a:ext cx="911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7" name="Object 9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9" name="Object 10"/>
          <p:cNvGraphicFramePr/>
          <p:nvPr/>
        </p:nvGraphicFramePr>
        <p:xfrm>
          <a:off x="4871880" y="4000680"/>
          <a:ext cx="282132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5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1880" y="4000680"/>
                    <a:ext cx="282132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9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2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5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6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8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0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3" name="Object 11"/>
          <p:cNvGraphicFramePr/>
          <p:nvPr/>
        </p:nvGraphicFramePr>
        <p:xfrm>
          <a:off x="571680" y="4071960"/>
          <a:ext cx="19969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6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19969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2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4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7" name="Object 7"/>
          <p:cNvGraphicFramePr/>
          <p:nvPr/>
        </p:nvGraphicFramePr>
        <p:xfrm>
          <a:off x="642960" y="4071960"/>
          <a:ext cx="21445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60" y="4071960"/>
                    <a:ext cx="21445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4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6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8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1" name="Object 7"/>
          <p:cNvGraphicFramePr/>
          <p:nvPr/>
        </p:nvGraphicFramePr>
        <p:xfrm>
          <a:off x="714240" y="4143240"/>
          <a:ext cx="252576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143240"/>
                    <a:ext cx="25257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8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0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2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5" name="Object 7"/>
          <p:cNvGraphicFramePr/>
          <p:nvPr/>
        </p:nvGraphicFramePr>
        <p:xfrm>
          <a:off x="568440" y="4143240"/>
          <a:ext cx="2965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8440" y="4143240"/>
                    <a:ext cx="2965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4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5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0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2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4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6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9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6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8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0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3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2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4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7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6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8"/>
          <p:cNvGraphicFramePr/>
          <p:nvPr/>
        </p:nvGraphicFramePr>
        <p:xfrm>
          <a:off x="6357960" y="3786120"/>
          <a:ext cx="250200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3786120"/>
                    <a:ext cx="2502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9"/>
          <p:cNvGraphicFramePr/>
          <p:nvPr/>
        </p:nvGraphicFramePr>
        <p:xfrm>
          <a:off x="6500880" y="4572000"/>
          <a:ext cx="88272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00880" y="457200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0"/>
          <p:cNvGraphicFramePr/>
          <p:nvPr/>
        </p:nvGraphicFramePr>
        <p:xfrm>
          <a:off x="7500960" y="4572000"/>
          <a:ext cx="698400" cy="514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00960" y="4572000"/>
                    <a:ext cx="698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5"/>
          <p:cNvGraphicFramePr/>
          <p:nvPr/>
        </p:nvGraphicFramePr>
        <p:xfrm>
          <a:off x="642960" y="5286240"/>
          <a:ext cx="955800" cy="662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960" y="5286240"/>
                    <a:ext cx="955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1822320" y="4965840"/>
          <a:ext cx="1362240" cy="13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22320" y="496584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3"/>
          <p:cNvGraphicFramePr/>
          <p:nvPr/>
        </p:nvGraphicFramePr>
        <p:xfrm>
          <a:off x="3214800" y="5286240"/>
          <a:ext cx="2533680" cy="642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14800" y="5286240"/>
                    <a:ext cx="25336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4"/>
          <p:cNvGraphicFramePr/>
          <p:nvPr/>
        </p:nvGraphicFramePr>
        <p:xfrm>
          <a:off x="5857920" y="5357880"/>
          <a:ext cx="2244600" cy="477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57920" y="5357880"/>
                    <a:ext cx="2244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8"/>
          <p:cNvGraphicFramePr/>
          <p:nvPr/>
        </p:nvGraphicFramePr>
        <p:xfrm>
          <a:off x="6215040" y="3857760"/>
          <a:ext cx="882720" cy="47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15040" y="385776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1"/>
          <p:cNvGraphicFramePr/>
          <p:nvPr/>
        </p:nvGraphicFramePr>
        <p:xfrm>
          <a:off x="7143840" y="3857760"/>
          <a:ext cx="698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6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3840" y="3857760"/>
                    <a:ext cx="698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642960" y="5286240"/>
          <a:ext cx="95580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60" y="5286240"/>
                    <a:ext cx="955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4"/>
          <p:cNvGraphicFramePr/>
          <p:nvPr/>
        </p:nvGraphicFramePr>
        <p:xfrm>
          <a:off x="1822320" y="4965840"/>
          <a:ext cx="1362240" cy="13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2320" y="496584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5"/>
          <p:cNvGraphicFramePr/>
          <p:nvPr/>
        </p:nvGraphicFramePr>
        <p:xfrm>
          <a:off x="3143160" y="5429160"/>
          <a:ext cx="9208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43160" y="5429160"/>
                    <a:ext cx="9208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6"/>
          <p:cNvGraphicFramePr/>
          <p:nvPr/>
        </p:nvGraphicFramePr>
        <p:xfrm>
          <a:off x="4572000" y="5072040"/>
          <a:ext cx="1533600" cy="128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4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507204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4"/>
          <p:cNvGraphicFramePr/>
          <p:nvPr/>
        </p:nvGraphicFramePr>
        <p:xfrm>
          <a:off x="6215040" y="5072040"/>
          <a:ext cx="1865160" cy="12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15040" y="5072040"/>
                    <a:ext cx="1865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7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8"/>
          <p:cNvGraphicFramePr/>
          <p:nvPr/>
        </p:nvGraphicFramePr>
        <p:xfrm>
          <a:off x="6215040" y="3857760"/>
          <a:ext cx="882720" cy="47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15040" y="385776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7143840" y="3857760"/>
          <a:ext cx="698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3840" y="3857760"/>
                    <a:ext cx="698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6"/>
          <p:cNvGraphicFramePr/>
          <p:nvPr/>
        </p:nvGraphicFramePr>
        <p:xfrm>
          <a:off x="7643880" y="4572000"/>
          <a:ext cx="1160280" cy="5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43880" y="4572000"/>
                    <a:ext cx="116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1"/>
          <p:cNvGraphicFramePr/>
          <p:nvPr/>
        </p:nvGraphicFramePr>
        <p:xfrm>
          <a:off x="714240" y="5214960"/>
          <a:ext cx="955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4240" y="521496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2"/>
          <p:cNvGraphicFramePr/>
          <p:nvPr/>
        </p:nvGraphicFramePr>
        <p:xfrm>
          <a:off x="1714680" y="4857840"/>
          <a:ext cx="1141200" cy="13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14680" y="4857840"/>
                    <a:ext cx="11412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3"/>
          <p:cNvGraphicFramePr/>
          <p:nvPr/>
        </p:nvGraphicFramePr>
        <p:xfrm>
          <a:off x="2928960" y="5286240"/>
          <a:ext cx="3014640" cy="514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28960" y="5286240"/>
                    <a:ext cx="3014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4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5"/>
          <p:cNvGraphicFramePr/>
          <p:nvPr/>
        </p:nvGraphicFramePr>
        <p:xfrm>
          <a:off x="7818480" y="5572080"/>
          <a:ext cx="132552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5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18480" y="5572080"/>
                    <a:ext cx="1325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9"/>
          <p:cNvGraphicFramePr/>
          <p:nvPr/>
        </p:nvGraphicFramePr>
        <p:xfrm>
          <a:off x="428760" y="285840"/>
          <a:ext cx="231768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85840"/>
                    <a:ext cx="231768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3"/>
          <p:cNvGraphicFramePr/>
          <p:nvPr/>
        </p:nvGraphicFramePr>
        <p:xfrm>
          <a:off x="571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1428840" y="1857240"/>
          <a:ext cx="13618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185724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5"/>
          <p:cNvGraphicFramePr/>
          <p:nvPr/>
        </p:nvGraphicFramePr>
        <p:xfrm>
          <a:off x="2786040" y="2143080"/>
          <a:ext cx="352908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6040" y="2143080"/>
                    <a:ext cx="3529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5"/>
          <p:cNvGraphicFramePr/>
          <p:nvPr/>
        </p:nvGraphicFramePr>
        <p:xfrm>
          <a:off x="571680" y="3714840"/>
          <a:ext cx="95544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3714840"/>
                    <a:ext cx="9554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4"/>
          <p:cNvGraphicFramePr/>
          <p:nvPr/>
        </p:nvGraphicFramePr>
        <p:xfrm>
          <a:off x="1500120" y="3429000"/>
          <a:ext cx="1362240" cy="13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00120" y="342900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8"/>
          <p:cNvGraphicFramePr/>
          <p:nvPr/>
        </p:nvGraphicFramePr>
        <p:xfrm>
          <a:off x="2857680" y="3714840"/>
          <a:ext cx="301464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3714840"/>
                    <a:ext cx="3014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6"/>
          <p:cNvGraphicFramePr/>
          <p:nvPr/>
        </p:nvGraphicFramePr>
        <p:xfrm>
          <a:off x="5715000" y="3857760"/>
          <a:ext cx="1533600" cy="12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5000" y="385776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0"/>
          <p:cNvGraphicFramePr/>
          <p:nvPr/>
        </p:nvGraphicFramePr>
        <p:xfrm>
          <a:off x="7278840" y="3857760"/>
          <a:ext cx="1865160" cy="12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78840" y="3857760"/>
                    <a:ext cx="1865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1"/>
          <p:cNvGraphicFramePr/>
          <p:nvPr/>
        </p:nvGraphicFramePr>
        <p:xfrm>
          <a:off x="500040" y="5143680"/>
          <a:ext cx="955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040" y="514368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2"/>
          <p:cNvGraphicFramePr/>
          <p:nvPr/>
        </p:nvGraphicFramePr>
        <p:xfrm>
          <a:off x="1643040" y="4786200"/>
          <a:ext cx="1141560" cy="132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43040" y="4786200"/>
                    <a:ext cx="114156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3"/>
          <p:cNvGraphicFramePr/>
          <p:nvPr/>
        </p:nvGraphicFramePr>
        <p:xfrm>
          <a:off x="2928960" y="5143680"/>
          <a:ext cx="3014640" cy="514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9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28960" y="5143680"/>
                    <a:ext cx="30146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4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1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5"/>
          <p:cNvGraphicFramePr/>
          <p:nvPr/>
        </p:nvGraphicFramePr>
        <p:xfrm>
          <a:off x="7818480" y="5572080"/>
          <a:ext cx="132552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18480" y="5572080"/>
                    <a:ext cx="1325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939960" y="4429080"/>
          <a:ext cx="356364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4429080"/>
                    <a:ext cx="35636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3"/>
          <p:cNvGraphicFramePr/>
          <p:nvPr/>
        </p:nvGraphicFramePr>
        <p:xfrm>
          <a:off x="571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4"/>
          <p:cNvGraphicFramePr/>
          <p:nvPr/>
        </p:nvGraphicFramePr>
        <p:xfrm>
          <a:off x="1319040" y="1857240"/>
          <a:ext cx="158292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1857240"/>
                    <a:ext cx="1582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"/>
          <p:cNvGraphicFramePr/>
          <p:nvPr/>
        </p:nvGraphicFramePr>
        <p:xfrm>
          <a:off x="2928960" y="2214720"/>
          <a:ext cx="48132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214720"/>
                    <a:ext cx="4813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571680" y="3714840"/>
          <a:ext cx="95544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680" y="3714840"/>
                    <a:ext cx="9554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1371600" y="3429000"/>
          <a:ext cx="1619280" cy="13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16192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9"/>
          <p:cNvGraphicFramePr/>
          <p:nvPr/>
        </p:nvGraphicFramePr>
        <p:xfrm>
          <a:off x="3000240" y="3714840"/>
          <a:ext cx="243864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714840"/>
                    <a:ext cx="2438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6"/>
          <p:cNvGraphicFramePr/>
          <p:nvPr/>
        </p:nvGraphicFramePr>
        <p:xfrm>
          <a:off x="5715000" y="3857760"/>
          <a:ext cx="15336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85776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1"/>
          <p:cNvGraphicFramePr/>
          <p:nvPr/>
        </p:nvGraphicFramePr>
        <p:xfrm>
          <a:off x="7121520" y="4214880"/>
          <a:ext cx="1036800" cy="53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21520" y="4214880"/>
                    <a:ext cx="1036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2"/>
          <p:cNvGraphicFramePr/>
          <p:nvPr/>
        </p:nvGraphicFramePr>
        <p:xfrm>
          <a:off x="500040" y="5143680"/>
          <a:ext cx="955800" cy="69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1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040" y="514368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3"/>
          <p:cNvGraphicFramePr/>
          <p:nvPr/>
        </p:nvGraphicFramePr>
        <p:xfrm>
          <a:off x="1422360" y="4786200"/>
          <a:ext cx="1582920" cy="1322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3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22360" y="4786200"/>
                    <a:ext cx="15829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4"/>
          <p:cNvGraphicFramePr/>
          <p:nvPr/>
        </p:nvGraphicFramePr>
        <p:xfrm>
          <a:off x="3112920" y="5143680"/>
          <a:ext cx="2646360" cy="514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5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12920" y="5143680"/>
                    <a:ext cx="2646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5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7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4"/>
          <p:cNvGraphicFramePr/>
          <p:nvPr/>
        </p:nvGraphicFramePr>
        <p:xfrm>
          <a:off x="7715160" y="5929200"/>
          <a:ext cx="662040" cy="540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15160" y="5929200"/>
                    <a:ext cx="6620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5"/>
          <p:cNvGraphicFramePr/>
          <p:nvPr/>
        </p:nvGraphicFramePr>
        <p:xfrm>
          <a:off x="500040" y="214200"/>
          <a:ext cx="2538360" cy="1324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1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040" y="214200"/>
                    <a:ext cx="25383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ите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рицы третье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357120" y="1857240"/>
          <a:ext cx="2463840" cy="20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857240"/>
                    <a:ext cx="24638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538200" y="4286160"/>
          <a:ext cx="2243160" cy="205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200" y="4286160"/>
                    <a:ext cx="224316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1857240" y="4429080"/>
          <a:ext cx="172728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4429080"/>
                    <a:ext cx="17272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1857240" y="6000840"/>
          <a:ext cx="1800360" cy="58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240" y="6000840"/>
                    <a:ext cx="1800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90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1071720" y="1785960"/>
          <a:ext cx="11030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85960"/>
                    <a:ext cx="11030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1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1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4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5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81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3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0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12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14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16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8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4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5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7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9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1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7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0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2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4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86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88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90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13"/>
          <p:cNvGraphicFramePr/>
          <p:nvPr/>
        </p:nvGraphicFramePr>
        <p:xfrm>
          <a:off x="2954160" y="3184560"/>
          <a:ext cx="1379880" cy="1173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54160" y="3184560"/>
                    <a:ext cx="13798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1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1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1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3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25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27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29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Object 25"/>
          <p:cNvGraphicFramePr/>
          <p:nvPr/>
        </p:nvGraphicFramePr>
        <p:xfrm>
          <a:off x="1079640" y="4572000"/>
          <a:ext cx="2603520" cy="635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31" name="Object 25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079640" y="4572000"/>
                    <a:ext cx="26035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8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60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62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64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66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68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25"/>
          <p:cNvGraphicFramePr/>
          <p:nvPr/>
        </p:nvGraphicFramePr>
        <p:xfrm>
          <a:off x="1000080" y="4572000"/>
          <a:ext cx="276228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70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00080" y="4572000"/>
                    <a:ext cx="2762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13"/>
          <p:cNvGraphicFramePr/>
          <p:nvPr/>
        </p:nvGraphicFramePr>
        <p:xfrm>
          <a:off x="2954160" y="3184560"/>
          <a:ext cx="1379880" cy="1173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72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54160" y="3184560"/>
                    <a:ext cx="13798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99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1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3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5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07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09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5"/>
          <p:cNvGraphicFramePr/>
          <p:nvPr/>
        </p:nvGraphicFramePr>
        <p:xfrm>
          <a:off x="1000080" y="4572000"/>
          <a:ext cx="276228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1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00080" y="4572000"/>
                    <a:ext cx="2762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3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3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3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8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40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2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44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46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48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50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Object 25"/>
          <p:cNvGraphicFramePr/>
          <p:nvPr/>
        </p:nvGraphicFramePr>
        <p:xfrm>
          <a:off x="1143000" y="4572000"/>
          <a:ext cx="247644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52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4572000"/>
                    <a:ext cx="2476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54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981000" y="1712880"/>
          <a:ext cx="12859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12880"/>
                    <a:ext cx="12859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6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7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8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2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8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4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8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8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9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2" name="Object 25"/>
          <p:cNvGraphicFramePr/>
          <p:nvPr/>
        </p:nvGraphicFramePr>
        <p:xfrm>
          <a:off x="1143000" y="4572000"/>
          <a:ext cx="247644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93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4572000"/>
                    <a:ext cx="2476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95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0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24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26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28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0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32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34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6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Object 23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38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40" name="Object 1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5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6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8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6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7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7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7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7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9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1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22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3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85" name="Object 1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6" name="Object 24"/>
          <p:cNvGraphicFramePr/>
          <p:nvPr/>
        </p:nvGraphicFramePr>
        <p:xfrm>
          <a:off x="3365640" y="4500720"/>
          <a:ext cx="2698560" cy="634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087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5640" y="4500720"/>
                    <a:ext cx="26985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9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1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3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7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0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12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1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16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18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20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22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24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26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7" name="Object 22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28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30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Object 24"/>
          <p:cNvGraphicFramePr/>
          <p:nvPr/>
        </p:nvGraphicFramePr>
        <p:xfrm>
          <a:off x="3365640" y="4500720"/>
          <a:ext cx="269856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32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365640" y="4500720"/>
                    <a:ext cx="26985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34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6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5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6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63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65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67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69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71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73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4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75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77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24"/>
          <p:cNvGraphicFramePr/>
          <p:nvPr/>
        </p:nvGraphicFramePr>
        <p:xfrm>
          <a:off x="3286080" y="4500720"/>
          <a:ext cx="28576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9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86080" y="4500720"/>
                    <a:ext cx="28576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0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81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9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0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0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8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10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12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3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14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16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18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9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20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22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24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5" name="Object 24"/>
          <p:cNvGraphicFramePr/>
          <p:nvPr/>
        </p:nvGraphicFramePr>
        <p:xfrm>
          <a:off x="3286080" y="4500720"/>
          <a:ext cx="28576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26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86080" y="4500720"/>
                    <a:ext cx="28576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7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28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0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4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6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8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0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2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4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5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5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55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6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7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8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9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61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63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4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65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6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67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69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71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2" name="Object 24"/>
          <p:cNvGraphicFramePr/>
          <p:nvPr/>
        </p:nvGraphicFramePr>
        <p:xfrm>
          <a:off x="3476520" y="4500720"/>
          <a:ext cx="247644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73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76520" y="4500720"/>
                    <a:ext cx="247644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4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75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0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0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4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06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08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0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1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12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14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16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18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Object 24"/>
          <p:cNvGraphicFramePr/>
          <p:nvPr/>
        </p:nvGraphicFramePr>
        <p:xfrm>
          <a:off x="3476520" y="4500720"/>
          <a:ext cx="247644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20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76520" y="4500720"/>
                    <a:ext cx="247644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22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4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9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51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53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55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7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8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9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0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61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3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65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Object 24"/>
          <p:cNvGraphicFramePr/>
          <p:nvPr/>
        </p:nvGraphicFramePr>
        <p:xfrm>
          <a:off x="3214800" y="4500720"/>
          <a:ext cx="10792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67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14800" y="4500720"/>
                    <a:ext cx="10792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69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25"/>
          <p:cNvGraphicFramePr/>
          <p:nvPr/>
        </p:nvGraphicFramePr>
        <p:xfrm>
          <a:off x="4357800" y="4429080"/>
          <a:ext cx="730080" cy="7304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371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357800" y="4429080"/>
                    <a:ext cx="730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Object 26"/>
          <p:cNvGraphicFramePr/>
          <p:nvPr/>
        </p:nvGraphicFramePr>
        <p:xfrm>
          <a:off x="5048280" y="4572000"/>
          <a:ext cx="317520" cy="444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373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048280" y="4572000"/>
                    <a:ext cx="317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27"/>
          <p:cNvGraphicFramePr/>
          <p:nvPr/>
        </p:nvGraphicFramePr>
        <p:xfrm>
          <a:off x="5357880" y="4651200"/>
          <a:ext cx="317520" cy="2858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375" name="Object 27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357880" y="4651200"/>
                    <a:ext cx="317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28"/>
          <p:cNvGraphicFramePr/>
          <p:nvPr/>
        </p:nvGraphicFramePr>
        <p:xfrm>
          <a:off x="285840" y="5286240"/>
          <a:ext cx="730080" cy="4446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377" name="Object 28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85840" y="528624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8" name="Object 29"/>
          <p:cNvGraphicFramePr/>
          <p:nvPr/>
        </p:nvGraphicFramePr>
        <p:xfrm>
          <a:off x="1071720" y="5214960"/>
          <a:ext cx="825480" cy="6350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379" name="Object 29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071720" y="5214960"/>
                    <a:ext cx="825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0" name="Object 30"/>
          <p:cNvGraphicFramePr/>
          <p:nvPr/>
        </p:nvGraphicFramePr>
        <p:xfrm>
          <a:off x="1785960" y="5357880"/>
          <a:ext cx="665280" cy="530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381" name="Object 30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785960" y="535788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2" name="Object 31"/>
          <p:cNvGraphicFramePr/>
          <p:nvPr/>
        </p:nvGraphicFramePr>
        <p:xfrm>
          <a:off x="2357280" y="5286240"/>
          <a:ext cx="412920" cy="4446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383" name="Object 31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2357280" y="528624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4" name="Object 32"/>
          <p:cNvGraphicFramePr/>
          <p:nvPr/>
        </p:nvGraphicFramePr>
        <p:xfrm>
          <a:off x="2857680" y="5286240"/>
          <a:ext cx="317160" cy="4129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385" name="Object 32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857680" y="5286240"/>
                    <a:ext cx="317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Object 33"/>
          <p:cNvGraphicFramePr/>
          <p:nvPr/>
        </p:nvGraphicFramePr>
        <p:xfrm>
          <a:off x="3214800" y="5357880"/>
          <a:ext cx="317520" cy="2858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387" name="Object 33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214800" y="5357880"/>
                    <a:ext cx="317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8" name="Object 34"/>
          <p:cNvGraphicFramePr/>
          <p:nvPr/>
        </p:nvGraphicFramePr>
        <p:xfrm>
          <a:off x="3635280" y="5254560"/>
          <a:ext cx="698760" cy="4129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389" name="Object 34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635280" y="5254560"/>
                    <a:ext cx="6987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Object 35"/>
          <p:cNvGraphicFramePr/>
          <p:nvPr/>
        </p:nvGraphicFramePr>
        <p:xfrm>
          <a:off x="4286160" y="5286240"/>
          <a:ext cx="825480" cy="4446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391" name="Object 35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286160" y="5286240"/>
                    <a:ext cx="825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36"/>
          <p:cNvGraphicFramePr/>
          <p:nvPr/>
        </p:nvGraphicFramePr>
        <p:xfrm>
          <a:off x="5072040" y="5270400"/>
          <a:ext cx="698400" cy="44460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393" name="Object 3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072040" y="527040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тре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5" name="Object 2"/>
          <p:cNvGraphicFramePr/>
          <p:nvPr/>
        </p:nvGraphicFramePr>
        <p:xfrm>
          <a:off x="135000" y="178596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78596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Object 3"/>
          <p:cNvGraphicFramePr/>
          <p:nvPr/>
        </p:nvGraphicFramePr>
        <p:xfrm>
          <a:off x="4714920" y="1785960"/>
          <a:ext cx="26715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785960"/>
                    <a:ext cx="2671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Object 4"/>
          <p:cNvGraphicFramePr/>
          <p:nvPr/>
        </p:nvGraphicFramePr>
        <p:xfrm>
          <a:off x="2252520" y="4000680"/>
          <a:ext cx="2995920" cy="16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2520" y="4000680"/>
                    <a:ext cx="29959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907920" y="1639800"/>
          <a:ext cx="14320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639800"/>
                    <a:ext cx="1432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4"/>
          <p:cNvGraphicFramePr/>
          <p:nvPr/>
        </p:nvGraphicFramePr>
        <p:xfrm>
          <a:off x="3857760" y="2286000"/>
          <a:ext cx="11016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2286000"/>
                    <a:ext cx="110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5000760" y="2286000"/>
          <a:ext cx="146844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2286000"/>
                    <a:ext cx="1468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"/>
          <p:cNvGraphicFramePr/>
          <p:nvPr/>
        </p:nvGraphicFramePr>
        <p:xfrm>
          <a:off x="6500880" y="2357280"/>
          <a:ext cx="80784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235728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857160" y="3429000"/>
          <a:ext cx="1949400" cy="132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57160" y="3429000"/>
                    <a:ext cx="19494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7358040" y="3786120"/>
          <a:ext cx="698400" cy="5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58040" y="3786120"/>
                    <a:ext cx="698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2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2" name="Object 9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5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5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8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6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1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4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2" name="Object 8"/>
          <p:cNvGraphicFramePr/>
          <p:nvPr/>
        </p:nvGraphicFramePr>
        <p:xfrm>
          <a:off x="3543480" y="2428920"/>
          <a:ext cx="229392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43480" y="2428920"/>
                    <a:ext cx="22939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4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7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Object 8"/>
          <p:cNvGraphicFramePr/>
          <p:nvPr/>
        </p:nvGraphicFramePr>
        <p:xfrm>
          <a:off x="3529080" y="2428920"/>
          <a:ext cx="23223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29080" y="2428920"/>
                    <a:ext cx="2322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7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0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8"/>
          <p:cNvGraphicFramePr/>
          <p:nvPr/>
        </p:nvGraphicFramePr>
        <p:xfrm>
          <a:off x="285840" y="4214880"/>
          <a:ext cx="23540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840" y="421488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5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3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5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7" name="Object 8"/>
          <p:cNvGraphicFramePr/>
          <p:nvPr/>
        </p:nvGraphicFramePr>
        <p:xfrm>
          <a:off x="212760" y="4214880"/>
          <a:ext cx="25020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760" y="4214880"/>
                    <a:ext cx="25020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0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8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0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2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4" name="Object 9"/>
          <p:cNvGraphicFramePr/>
          <p:nvPr/>
        </p:nvGraphicFramePr>
        <p:xfrm>
          <a:off x="3143160" y="4214880"/>
          <a:ext cx="235440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43160" y="421488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7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5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7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9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1" name="Object 9"/>
          <p:cNvGraphicFramePr/>
          <p:nvPr/>
        </p:nvGraphicFramePr>
        <p:xfrm>
          <a:off x="3056040" y="4214880"/>
          <a:ext cx="253044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5604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907920" y="1639800"/>
          <a:ext cx="14320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639800"/>
                    <a:ext cx="1432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"/>
          <p:cNvGraphicFramePr/>
          <p:nvPr/>
        </p:nvGraphicFramePr>
        <p:xfrm>
          <a:off x="3857760" y="2286000"/>
          <a:ext cx="11016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2286000"/>
                    <a:ext cx="110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5000760" y="2286000"/>
          <a:ext cx="146844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2286000"/>
                    <a:ext cx="1468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6500880" y="2357280"/>
          <a:ext cx="80784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235728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7"/>
          <p:cNvGraphicFramePr/>
          <p:nvPr/>
        </p:nvGraphicFramePr>
        <p:xfrm>
          <a:off x="784080" y="3355920"/>
          <a:ext cx="2095560" cy="14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4080" y="3355920"/>
                    <a:ext cx="20955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8"/>
          <p:cNvGraphicFramePr/>
          <p:nvPr/>
        </p:nvGraphicFramePr>
        <p:xfrm>
          <a:off x="2928960" y="3714840"/>
          <a:ext cx="2938320" cy="73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28960" y="3714840"/>
                    <a:ext cx="293832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5929200" y="3786120"/>
          <a:ext cx="1357560" cy="514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29200" y="3786120"/>
                    <a:ext cx="1357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749160" y="5143680"/>
          <a:ext cx="1800360" cy="139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9160" y="5143680"/>
                    <a:ext cx="180036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3027240" y="5537160"/>
          <a:ext cx="2313000" cy="660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27240" y="5537160"/>
                    <a:ext cx="2313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7358040" y="3786120"/>
          <a:ext cx="69840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58040" y="3786120"/>
                    <a:ext cx="698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4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2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4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6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8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0" name="Object 10"/>
          <p:cNvGraphicFramePr/>
          <p:nvPr/>
        </p:nvGraphicFramePr>
        <p:xfrm>
          <a:off x="6429240" y="4143240"/>
          <a:ext cx="235440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240" y="4143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3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1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3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5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7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9" name="Object 10"/>
          <p:cNvGraphicFramePr/>
          <p:nvPr/>
        </p:nvGraphicFramePr>
        <p:xfrm>
          <a:off x="6356520" y="4143240"/>
          <a:ext cx="250164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56520" y="4143240"/>
                    <a:ext cx="2501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2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0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2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4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6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8" name="Object 10"/>
          <p:cNvGraphicFramePr/>
          <p:nvPr/>
        </p:nvGraphicFramePr>
        <p:xfrm>
          <a:off x="6326280" y="4143240"/>
          <a:ext cx="256068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6280" y="414324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1" name="Object 8"/>
          <p:cNvGraphicFramePr/>
          <p:nvPr/>
        </p:nvGraphicFramePr>
        <p:xfrm>
          <a:off x="500040" y="3000240"/>
          <a:ext cx="23544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3000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0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2" name="Object 8"/>
          <p:cNvGraphicFramePr/>
          <p:nvPr/>
        </p:nvGraphicFramePr>
        <p:xfrm>
          <a:off x="500040" y="3000240"/>
          <a:ext cx="235440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040" y="3000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7" name="Object 8"/>
          <p:cNvGraphicFramePr/>
          <p:nvPr/>
        </p:nvGraphicFramePr>
        <p:xfrm>
          <a:off x="485640" y="3000240"/>
          <a:ext cx="2382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640" y="3000240"/>
                    <a:ext cx="2382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8" name="Object 8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0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1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3" name="Object 8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5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7" name="Object 9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8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9" name="Object 10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72" name="Object 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0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2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Object 9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Object 10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8" name="Object 11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0" name="Object 12"/>
          <p:cNvGraphicFramePr/>
          <p:nvPr/>
        </p:nvGraphicFramePr>
        <p:xfrm>
          <a:off x="5415120" y="3586320"/>
          <a:ext cx="41112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1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3586320"/>
                    <a:ext cx="4111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1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3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5" name="Object 8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7" name="Object 9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8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9" name="Object 10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1" name="Object 11"/>
          <p:cNvGraphicFramePr/>
          <p:nvPr/>
        </p:nvGraphicFramePr>
        <p:xfrm>
          <a:off x="5415120" y="3586320"/>
          <a:ext cx="41112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2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3586320"/>
                    <a:ext cx="4111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3" name="Object 12"/>
          <p:cNvGraphicFramePr/>
          <p:nvPr/>
        </p:nvGraphicFramePr>
        <p:xfrm>
          <a:off x="5873760" y="3286080"/>
          <a:ext cx="1089000" cy="106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7376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5" name="Object 13"/>
          <p:cNvGraphicFramePr/>
          <p:nvPr/>
        </p:nvGraphicFramePr>
        <p:xfrm>
          <a:off x="6897600" y="3473280"/>
          <a:ext cx="730440" cy="72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16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97600" y="3473280"/>
                    <a:ext cx="730440" cy="7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18" name="Object 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387360" y="2000160"/>
          <a:ext cx="231768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200016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428760" y="3500280"/>
          <a:ext cx="253836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3500280"/>
                    <a:ext cx="25383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4"/>
          <p:cNvGraphicFramePr/>
          <p:nvPr/>
        </p:nvGraphicFramePr>
        <p:xfrm>
          <a:off x="390600" y="5035680"/>
          <a:ext cx="275904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600" y="5035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8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0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2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4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3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6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7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8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39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0" name="Object 14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1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2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43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45" name="Object 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5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7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9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1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3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6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5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7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68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9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70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1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74" name="Object 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2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4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6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8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0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2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4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6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9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8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0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0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2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0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4" name="Object 17"/>
          <p:cNvGraphicFramePr/>
          <p:nvPr/>
        </p:nvGraphicFramePr>
        <p:xfrm>
          <a:off x="1143000" y="4857840"/>
          <a:ext cx="29005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0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4857840"/>
                    <a:ext cx="29005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07" name="Object 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7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9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1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3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5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7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9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2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3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5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6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7" name="Object 17"/>
          <p:cNvGraphicFramePr/>
          <p:nvPr/>
        </p:nvGraphicFramePr>
        <p:xfrm>
          <a:off x="1332000" y="4857840"/>
          <a:ext cx="25207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8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4857840"/>
                    <a:ext cx="25207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9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40" name="Object 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2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4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5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8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2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6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4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6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6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0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7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2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7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4" name="Object 19"/>
          <p:cNvGraphicFramePr/>
          <p:nvPr/>
        </p:nvGraphicFramePr>
        <p:xfrm>
          <a:off x="3000240" y="4857840"/>
          <a:ext cx="22003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7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000240" y="4857840"/>
                    <a:ext cx="2200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7" name="Object 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7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9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1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7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9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1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2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3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0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06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7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8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9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10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1" name="Object 19"/>
          <p:cNvGraphicFramePr/>
          <p:nvPr/>
        </p:nvGraphicFramePr>
        <p:xfrm>
          <a:off x="3176640" y="4857840"/>
          <a:ext cx="184788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12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176640" y="4857840"/>
                    <a:ext cx="18478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14" name="Object 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2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4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6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8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0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2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3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4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6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3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8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0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4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2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4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4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4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6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4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8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0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5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Object 21"/>
          <p:cNvGraphicFramePr/>
          <p:nvPr/>
        </p:nvGraphicFramePr>
        <p:xfrm>
          <a:off x="4714920" y="4857840"/>
          <a:ext cx="217008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53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714920" y="4857840"/>
                    <a:ext cx="21700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55" name="Object 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5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7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9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1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7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3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7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5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7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78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9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0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1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8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3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84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5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86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7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88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9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90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1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92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3" name="Object 21"/>
          <p:cNvGraphicFramePr/>
          <p:nvPr/>
        </p:nvGraphicFramePr>
        <p:xfrm>
          <a:off x="4654440" y="4857840"/>
          <a:ext cx="190512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94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654440" y="4857840"/>
                    <a:ext cx="1905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5" name="Object 22"/>
          <p:cNvGraphicFramePr/>
          <p:nvPr/>
        </p:nvGraphicFramePr>
        <p:xfrm>
          <a:off x="571680" y="5429160"/>
          <a:ext cx="1612800" cy="587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96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71680" y="5429160"/>
                    <a:ext cx="16128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7" name="Object 23"/>
          <p:cNvGraphicFramePr/>
          <p:nvPr/>
        </p:nvGraphicFramePr>
        <p:xfrm>
          <a:off x="2214720" y="5500800"/>
          <a:ext cx="820440" cy="382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98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214720" y="5500800"/>
                    <a:ext cx="820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9" name="Object 24"/>
          <p:cNvGraphicFramePr/>
          <p:nvPr/>
        </p:nvGraphicFramePr>
        <p:xfrm>
          <a:off x="3087720" y="5429160"/>
          <a:ext cx="1728720" cy="587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00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87720" y="5429160"/>
                    <a:ext cx="1728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1" name="Object 25"/>
          <p:cNvGraphicFramePr/>
          <p:nvPr/>
        </p:nvGraphicFramePr>
        <p:xfrm>
          <a:off x="1123920" y="6032520"/>
          <a:ext cx="909720" cy="380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02" name="Object 2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123920" y="6032520"/>
                    <a:ext cx="909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3" name="Object 26"/>
          <p:cNvGraphicFramePr/>
          <p:nvPr/>
        </p:nvGraphicFramePr>
        <p:xfrm>
          <a:off x="2143080" y="6000840"/>
          <a:ext cx="64620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04" name="Object 2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143080" y="6000840"/>
                    <a:ext cx="646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5" name="Object 27"/>
          <p:cNvGraphicFramePr/>
          <p:nvPr/>
        </p:nvGraphicFramePr>
        <p:xfrm>
          <a:off x="2797200" y="6000840"/>
          <a:ext cx="909720" cy="411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06" name="Object 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2797200" y="600084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7" name="Object 28"/>
          <p:cNvGraphicFramePr/>
          <p:nvPr/>
        </p:nvGraphicFramePr>
        <p:xfrm>
          <a:off x="3786120" y="6000840"/>
          <a:ext cx="411120" cy="411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08" name="Object 2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786120" y="600084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9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010" name="Object 2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8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0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2" name="Object 7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6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8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0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2" name="Object 12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3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4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3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6" name="Object 14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3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8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3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0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4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2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4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4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6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8" name="Object 21"/>
          <p:cNvGraphicFramePr/>
          <p:nvPr/>
        </p:nvGraphicFramePr>
        <p:xfrm>
          <a:off x="4654440" y="4857840"/>
          <a:ext cx="190512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49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654440" y="4857840"/>
                    <a:ext cx="1905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0" name="Object 22"/>
          <p:cNvGraphicFramePr/>
          <p:nvPr/>
        </p:nvGraphicFramePr>
        <p:xfrm>
          <a:off x="571680" y="5429160"/>
          <a:ext cx="1612800" cy="587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51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71680" y="5429160"/>
                    <a:ext cx="16128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2" name="Object 23"/>
          <p:cNvGraphicFramePr/>
          <p:nvPr/>
        </p:nvGraphicFramePr>
        <p:xfrm>
          <a:off x="2214720" y="5500800"/>
          <a:ext cx="820440" cy="382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53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214720" y="5500800"/>
                    <a:ext cx="820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4" name="Object 24"/>
          <p:cNvGraphicFramePr/>
          <p:nvPr/>
        </p:nvGraphicFramePr>
        <p:xfrm>
          <a:off x="3087720" y="5429160"/>
          <a:ext cx="1728720" cy="587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55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87720" y="5429160"/>
                    <a:ext cx="1728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6" name="Object 25"/>
          <p:cNvGraphicFramePr/>
          <p:nvPr/>
        </p:nvGraphicFramePr>
        <p:xfrm>
          <a:off x="1123920" y="6032520"/>
          <a:ext cx="909720" cy="380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57" name="Object 2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123920" y="6032520"/>
                    <a:ext cx="909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8" name="Object 26"/>
          <p:cNvGraphicFramePr/>
          <p:nvPr/>
        </p:nvGraphicFramePr>
        <p:xfrm>
          <a:off x="2143080" y="6000840"/>
          <a:ext cx="64620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59" name="Object 2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143080" y="6000840"/>
                    <a:ext cx="646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0" name="Object 27"/>
          <p:cNvGraphicFramePr/>
          <p:nvPr/>
        </p:nvGraphicFramePr>
        <p:xfrm>
          <a:off x="2797200" y="6000840"/>
          <a:ext cx="909720" cy="411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61" name="Object 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2797200" y="600084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2" name="Object 28"/>
          <p:cNvGraphicFramePr/>
          <p:nvPr/>
        </p:nvGraphicFramePr>
        <p:xfrm>
          <a:off x="3786120" y="6000840"/>
          <a:ext cx="411120" cy="411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63" name="Object 2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786120" y="600084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065" name="Object 2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7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1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5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9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3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1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4500"/>
                            </p:stCondLst>
                            <p:childTnLst>
                              <p:par>
                                <p:cTn id="9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9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0"/>
                            </p:stCondLst>
                            <p:childTnLst>
                              <p:par>
                                <p:cTn id="96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3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1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500"/>
                            </p:stCondLst>
                            <p:childTnLst>
                              <p:par>
                                <p:cTn id="97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5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9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500"/>
                            </p:stCondLst>
                            <p:childTnLst>
                              <p:par>
                                <p:cTn id="98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9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1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9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5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9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9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5" name="Object 29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6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8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6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8" name="Object 29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9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0" name="Object 7"/>
          <p:cNvGraphicFramePr/>
          <p:nvPr/>
        </p:nvGraphicFramePr>
        <p:xfrm>
          <a:off x="357120" y="4786200"/>
          <a:ext cx="2913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78620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9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2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5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7" name="Object 29"/>
          <p:cNvGraphicFramePr/>
          <p:nvPr/>
        </p:nvGraphicFramePr>
        <p:xfrm>
          <a:off x="500040" y="2928960"/>
          <a:ext cx="291312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8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40" y="292896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0" name="Object 29"/>
          <p:cNvGraphicFramePr/>
          <p:nvPr/>
        </p:nvGraphicFramePr>
        <p:xfrm>
          <a:off x="500040" y="2928960"/>
          <a:ext cx="2913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4" name="Object 10"/>
          <p:cNvGraphicFramePr/>
          <p:nvPr/>
        </p:nvGraphicFramePr>
        <p:xfrm>
          <a:off x="3357720" y="3214800"/>
          <a:ext cx="158904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7720" y="3214800"/>
                    <a:ext cx="15890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6" name="Object 11"/>
          <p:cNvGraphicFramePr/>
          <p:nvPr/>
        </p:nvGraphicFramePr>
        <p:xfrm>
          <a:off x="4929120" y="3214800"/>
          <a:ext cx="173664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2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9120" y="3214800"/>
                    <a:ext cx="17366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8" name="Object 12"/>
          <p:cNvGraphicFramePr/>
          <p:nvPr/>
        </p:nvGraphicFramePr>
        <p:xfrm>
          <a:off x="6603840" y="3214800"/>
          <a:ext cx="2532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29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03840" y="3214800"/>
                    <a:ext cx="2532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0" name="Object 13"/>
          <p:cNvGraphicFramePr/>
          <p:nvPr/>
        </p:nvGraphicFramePr>
        <p:xfrm>
          <a:off x="857160" y="4714920"/>
          <a:ext cx="1765440" cy="58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7160" y="4714920"/>
                    <a:ext cx="1765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2" name="Object 14"/>
          <p:cNvGraphicFramePr/>
          <p:nvPr/>
        </p:nvGraphicFramePr>
        <p:xfrm>
          <a:off x="2714760" y="4714920"/>
          <a:ext cx="220644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3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14760" y="4714920"/>
                    <a:ext cx="2206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4" name="Object 15"/>
          <p:cNvGraphicFramePr/>
          <p:nvPr/>
        </p:nvGraphicFramePr>
        <p:xfrm>
          <a:off x="4869000" y="4714920"/>
          <a:ext cx="2471760" cy="588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35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69000" y="4714920"/>
                    <a:ext cx="24717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6" name="Object 16"/>
          <p:cNvGraphicFramePr/>
          <p:nvPr/>
        </p:nvGraphicFramePr>
        <p:xfrm>
          <a:off x="1135080" y="5357880"/>
          <a:ext cx="1352520" cy="588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37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35080" y="5357880"/>
                    <a:ext cx="1352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8" name="Object 17"/>
          <p:cNvGraphicFramePr/>
          <p:nvPr/>
        </p:nvGraphicFramePr>
        <p:xfrm>
          <a:off x="2500200" y="5429160"/>
          <a:ext cx="1000080" cy="411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39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00200" y="5429160"/>
                    <a:ext cx="1000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0" name="Object 18"/>
          <p:cNvGraphicFramePr/>
          <p:nvPr/>
        </p:nvGraphicFramePr>
        <p:xfrm>
          <a:off x="3571920" y="5357880"/>
          <a:ext cx="1735200" cy="588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41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571920" y="5357880"/>
                    <a:ext cx="17352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2" name="Object 19"/>
          <p:cNvGraphicFramePr/>
          <p:nvPr/>
        </p:nvGraphicFramePr>
        <p:xfrm>
          <a:off x="1490760" y="6087960"/>
          <a:ext cx="941400" cy="41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143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90760" y="6087960"/>
                    <a:ext cx="94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4" name="Object 20"/>
          <p:cNvGraphicFramePr/>
          <p:nvPr/>
        </p:nvGraphicFramePr>
        <p:xfrm>
          <a:off x="2676600" y="6072120"/>
          <a:ext cx="647640" cy="411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45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76600" y="6072120"/>
                    <a:ext cx="647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6" name="Object 21"/>
          <p:cNvGraphicFramePr/>
          <p:nvPr/>
        </p:nvGraphicFramePr>
        <p:xfrm>
          <a:off x="3500280" y="6072120"/>
          <a:ext cx="1087560" cy="412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47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500280" y="6072120"/>
                    <a:ext cx="1087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8" name="Object 22"/>
          <p:cNvGraphicFramePr/>
          <p:nvPr/>
        </p:nvGraphicFramePr>
        <p:xfrm>
          <a:off x="4643280" y="6072120"/>
          <a:ext cx="441360" cy="412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49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43280" y="6072120"/>
                    <a:ext cx="441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7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0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3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6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9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2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5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8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1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7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7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9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1" name="Object 29"/>
          <p:cNvGraphicFramePr/>
          <p:nvPr/>
        </p:nvGraphicFramePr>
        <p:xfrm>
          <a:off x="295200" y="2928960"/>
          <a:ext cx="33242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2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5200" y="2928960"/>
                    <a:ext cx="3324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4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5" name="Object 22"/>
          <p:cNvGraphicFramePr/>
          <p:nvPr/>
        </p:nvGraphicFramePr>
        <p:xfrm>
          <a:off x="4143240" y="4214880"/>
          <a:ext cx="234792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3240" y="4214880"/>
                    <a:ext cx="2347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4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6" name="Object 29"/>
          <p:cNvGraphicFramePr/>
          <p:nvPr/>
        </p:nvGraphicFramePr>
        <p:xfrm>
          <a:off x="295200" y="2928960"/>
          <a:ext cx="3324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7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200" y="2928960"/>
                    <a:ext cx="3324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9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0" name="Object 22"/>
          <p:cNvGraphicFramePr/>
          <p:nvPr/>
        </p:nvGraphicFramePr>
        <p:xfrm>
          <a:off x="4143240" y="4214880"/>
          <a:ext cx="2347920" cy="90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1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4214880"/>
                    <a:ext cx="2347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2" name="Object 10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1" name="Object 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3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6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7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6" name="Object 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1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2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4" name="Object 11"/>
          <p:cNvGraphicFramePr/>
          <p:nvPr/>
        </p:nvGraphicFramePr>
        <p:xfrm>
          <a:off x="428760" y="4643280"/>
          <a:ext cx="24699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1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760" y="4643280"/>
                    <a:ext cx="24699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9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3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4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6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7" name="Object 11"/>
          <p:cNvGraphicFramePr/>
          <p:nvPr/>
        </p:nvGraphicFramePr>
        <p:xfrm>
          <a:off x="439560" y="3000240"/>
          <a:ext cx="2733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560" y="3000240"/>
                    <a:ext cx="2733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9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0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1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2" name="Object 11"/>
          <p:cNvGraphicFramePr/>
          <p:nvPr/>
        </p:nvGraphicFramePr>
        <p:xfrm>
          <a:off x="439560" y="3000240"/>
          <a:ext cx="2733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560" y="3000240"/>
                    <a:ext cx="2733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4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6" name="Object 9"/>
          <p:cNvGraphicFramePr/>
          <p:nvPr/>
        </p:nvGraphicFramePr>
        <p:xfrm>
          <a:off x="4714920" y="3357720"/>
          <a:ext cx="16174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357720"/>
                    <a:ext cx="16174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8" name="Object 12"/>
          <p:cNvGraphicFramePr/>
          <p:nvPr/>
        </p:nvGraphicFramePr>
        <p:xfrm>
          <a:off x="6297480" y="3286080"/>
          <a:ext cx="23544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97480" y="3286080"/>
                    <a:ext cx="2354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0" name="Object 11"/>
          <p:cNvGraphicFramePr/>
          <p:nvPr/>
        </p:nvGraphicFramePr>
        <p:xfrm>
          <a:off x="500040" y="4857840"/>
          <a:ext cx="379584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040" y="4857840"/>
                    <a:ext cx="37958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2" name="Object 14"/>
          <p:cNvGraphicFramePr/>
          <p:nvPr/>
        </p:nvGraphicFramePr>
        <p:xfrm>
          <a:off x="4491000" y="4929120"/>
          <a:ext cx="22939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3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1000" y="4929120"/>
                    <a:ext cx="22939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5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6" name="Object 14"/>
          <p:cNvGraphicFramePr/>
          <p:nvPr/>
        </p:nvGraphicFramePr>
        <p:xfrm>
          <a:off x="6786720" y="4929120"/>
          <a:ext cx="469800" cy="411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5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6720" y="4929120"/>
                    <a:ext cx="46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2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5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8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1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5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9" name="Object 11"/>
          <p:cNvGraphicFramePr/>
          <p:nvPr/>
        </p:nvGraphicFramePr>
        <p:xfrm>
          <a:off x="220680" y="3000240"/>
          <a:ext cx="31734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680" y="3000240"/>
                    <a:ext cx="3173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1" name="Object 14"/>
          <p:cNvGraphicFramePr/>
          <p:nvPr/>
        </p:nvGraphicFramePr>
        <p:xfrm>
          <a:off x="3929040" y="4286160"/>
          <a:ext cx="237816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4286160"/>
                    <a:ext cx="2378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3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7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40:01Z</dcterms:created>
  <dc:creator>Ольга</dc:creator>
  <dc:description/>
  <dc:language>en-US</dc:language>
  <cp:lastModifiedBy>Ольга</cp:lastModifiedBy>
  <dcterms:modified xsi:type="dcterms:W3CDTF">2012-06-15T15:08:24Z</dcterms:modified>
  <cp:revision>52</cp:revision>
  <dc:subject/>
  <dc:title>Определитель  матрицы третьего порядка</dc:title>
</cp:coreProperties>
</file>