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32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7CA-7C39-4308-A478-054B8753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C3A-0013-4A73-80F9-16E0A83C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9BE-7ED3-4156-8FE8-AB9B7388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36B-3826-4199-A41E-39598FD6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3F85-34BB-4CC9-837F-6A5E7C63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F9C7-0D51-4CD6-A11D-9F05258F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7B34-EB08-4AC0-8ED5-B8454CB8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1D59-15E6-487D-BA17-5203DBFA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3E2D-5A3D-40E1-8C43-75A526A0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DD9A-BF4B-4D05-8F2C-70EEF1D8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B6A1-5BD5-4837-8ED6-590BEADD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3A2-F788-4B9D-AA4D-D30A4791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0AA5-BBF8-4F7A-B141-02F8B11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9A23-58BD-4999-AF9E-D39A0901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589B-1B7D-4DFC-8E2C-1BDB9BDA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FAFB-F1B4-4B36-A2D9-2448F9C7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8E2B-5067-425B-8B94-015D3AC8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62A-B582-49DB-8744-9C820CAD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5FA-06C8-4B57-BE7D-996A143D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02D6-A52B-4D0C-90B7-CB5E47B9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AC4-0DC4-4CFA-BC8F-9A007692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272-6950-4FE8-BC67-7801B748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1FE-3191-4ED3-88C8-642BDB35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65D-C66D-48ED-B0E3-F4E792B9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8D7B-7D38-4BCC-A330-9B146E970B3E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6E4D-6A2D-42D1-B0E1-103ADF485743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2" marL="914400" algn="ctr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371600" algn="ctr">
              <a:spcBef>
                <a:spcPts val="451"/>
              </a:spcBef>
              <a:buClr>
                <a:srgbClr val="79551b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28800" algn="ctr">
              <a:spcBef>
                <a:spcPts val="400"/>
              </a:spcBef>
              <a:buClr>
                <a:srgbClr val="79551b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gal198576766/view/130021/?page=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atic.panoramio.com/photos/original/15330910.jpg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tatic.panoramio.com/photos/original/15330105.jpg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op10best.ucoz.ru/M_tales/3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stat15.privet.ru/lr/0904e90075c48b6d0bcc115065337d06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84360" y="98064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79551b"/>
                </a:solidFill>
                <a:latin typeface="Palatino Linotype"/>
              </a:rPr>
              <a:t>ПАМЯТНИКИ ЛИТЕРАТУРНЫМ ГЕРОЯМ</a:t>
            </a:r>
            <a:br>
              <a:rPr sz="3200"/>
            </a:br>
            <a:r>
              <a:rPr b="1" i="1" lang="ru-RU" sz="3200" spc="-1" strike="noStrike">
                <a:solidFill>
                  <a:srgbClr val="79551b"/>
                </a:solidFill>
                <a:latin typeface="Palatino Linotype"/>
              </a:rPr>
              <a:t>МОСКВЫ</a:t>
            </a:r>
            <a:br>
              <a:rPr sz="3200"/>
            </a:b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8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844640"/>
            <a:ext cx="3525840" cy="436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548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551b"/>
                </a:solidFill>
                <a:latin typeface="Palatino Linotype"/>
              </a:rPr>
              <a:t>ШЕРЛОК   ХОЛМС   </a:t>
            </a:r>
            <a:br>
              <a:rPr sz="2800"/>
            </a:br>
            <a:br>
              <a:rPr sz="300"/>
            </a:br>
            <a:r>
              <a:rPr b="1" lang="ru-RU" sz="2800" spc="-1" strike="noStrike">
                <a:solidFill>
                  <a:srgbClr val="79551b"/>
                </a:solidFill>
                <a:latin typeface="Palatino Linotype"/>
              </a:rPr>
              <a:t>И   ДОКТОР   ВАТСОН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58920" y="1483920"/>
            <a:ext cx="3745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Palatino Linotype"/>
              </a:rPr>
              <a:t>Памятник героям приключенческих произведений английского писателя А.Конан Дойля (1859 – 1930) Шерлоку Холмсу и его помощнику доктору Ватсону размещён напротив здания посольства Великобритании на  ул. Смоленская набережная, д.10 (м. Смоленская).  Монумент установлен в рамках проекта "Народные герои в скульптурных композициях" в апреле 2007 года.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Palatino Linotype"/>
              </a:rPr>
              <a:t>Автором скульптурной композиции является А.Ю. Орлов.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4103640" cy="30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136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9551b"/>
                </a:solidFill>
                <a:latin typeface="Palatino Linotype"/>
              </a:rPr>
              <a:t>ПАМЯТНИК  ВОЕННЫМ   КОРРЕСПОНДЕНТАМ.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br>
              <a:rPr sz="2800"/>
            </a:br>
            <a:r>
              <a:rPr b="0" i="1" lang="ru-RU" sz="2200" spc="-1" strike="noStrike">
                <a:solidFill>
                  <a:srgbClr val="79551b"/>
                </a:solidFill>
                <a:latin typeface="Palatino Linotype"/>
              </a:rPr>
              <a:t>«С лейкой и блокнотом,</a:t>
            </a:r>
            <a:br>
              <a:rPr sz="2200"/>
            </a:br>
            <a:r>
              <a:rPr b="0" i="1" lang="ru-RU" sz="2200" spc="-1" strike="noStrike">
                <a:solidFill>
                  <a:srgbClr val="79551b"/>
                </a:solidFill>
                <a:latin typeface="Palatino Linotype"/>
              </a:rPr>
              <a:t>А то и с пулеметом</a:t>
            </a:r>
            <a:br>
              <a:rPr sz="2200"/>
            </a:br>
            <a:r>
              <a:rPr b="0" i="1" lang="ru-RU" sz="2200" spc="-1" strike="noStrike">
                <a:solidFill>
                  <a:srgbClr val="79551b"/>
                </a:solidFill>
                <a:latin typeface="Palatino Linotype"/>
              </a:rPr>
              <a:t>Сквозь огонь и стужу мы прошли…»</a:t>
            </a:r>
            <a:endParaRPr b="0" lang="en-US" sz="2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3672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Verdana"/>
              </a:rPr>
              <a:t>Памятник установлен в 1993 году перед входом в Центральный дом журналиста на улице Никитский бульвар,  д.8А (м. «Арбатская»)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Verdana"/>
              </a:rPr>
              <a:t>Авторы памятника:  скульптор Л.Е. Кербель и архитектор Е.Г. Розанов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64000" y="1844640"/>
            <a:ext cx="28782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47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Palatino Linotype"/>
              </a:rPr>
              <a:t>БАРОН    МЮНХАУЗЕН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4437000"/>
            <a:ext cx="7201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</a:t>
            </a:r>
            <a:r>
              <a:rPr b="0" lang="ru-RU" sz="2400" spc="-1" strike="noStrike">
                <a:solidFill>
                  <a:srgbClr val="333300"/>
                </a:solidFill>
                <a:latin typeface="Palatino Linotype"/>
              </a:rPr>
              <a:t>Этот интересный памятник, изображающий героя историй немецкого писателя Р. Э. Расрэ (1737 – 1794), установлен в августе 2004 года около  м. Молодежная на Ярцевской улице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Palatino Linotype"/>
              </a:rPr>
              <a:t>   </a:t>
            </a:r>
            <a:r>
              <a:rPr b="0" lang="ru-RU" sz="2400" spc="-1" strike="noStrike">
                <a:solidFill>
                  <a:srgbClr val="333300"/>
                </a:solidFill>
                <a:latin typeface="Palatino Linotype"/>
              </a:rPr>
              <a:t>Автором скульптуры является А.Ю. Орлов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19640" y="1197000"/>
            <a:ext cx="2322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47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551b"/>
                </a:solidFill>
                <a:latin typeface="Verdana"/>
              </a:rPr>
              <a:t>ГЕРОИ  М.А. БУЛГАКОВА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2360" y="1413000"/>
            <a:ext cx="2933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Между метро «Новослободская» и Марьиной рощей, в дворике у дома 13 на улице Советской Армии, присели на лавочке два литературных героя.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Это герои из романа «Мастер и Маргарита» русского писателя и драматурга Михаила Афанасьевича Булгакова (1891-1940)– Коровьев и кот Бегемот.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Памятник открылся в августе 2006 года.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326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551b"/>
                </a:solidFill>
                <a:latin typeface="Bookman Old Style"/>
              </a:rPr>
              <a:t>ХОДЖА   НАСРЕДДИН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00720" y="3338640"/>
            <a:ext cx="4460760" cy="334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24000" y="793080"/>
            <a:ext cx="554508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«Я – Ходжа Насредди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Сам себе господи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И скажу – не совру – никогда не умру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Пусть бухарский эми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Говорит на весь ми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Что смутьян я и во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Пусть готовит топо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Нищий, босый и гол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Я – бродяга весел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Буду жить, буду п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И на солнце глядеть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Ходжа Насреддин – персона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среднеазиатского фолькл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Эта скульптурная компози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находи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на Ярцевской улице у м. Молодежна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39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551b"/>
                </a:solidFill>
                <a:latin typeface="Palatino Linotype"/>
              </a:rPr>
              <a:t>МАЛЬЧИШ – КИБАЛЬЧИШ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4076640"/>
            <a:ext cx="8137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      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Памятник литературному герою, персонажу сказки «О военной тайне, о Мальчише - Кибальчише и его твёрдом слове» А.П. Гайдара (1904 – 1941)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Пятиметровая бронзовая фигура установлена на Воробьёвых горах, у главного входа в городской дворец пионеров и школьников (м. Ленинский проспект, ул. Косыгина, д.17/1)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627280" y="83664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48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551b"/>
                </a:solidFill>
                <a:latin typeface="Palatino Linotype"/>
              </a:rPr>
              <a:t>УТЯТА – ЛИТЕРАТУРНЫЕ ГЕРОИ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640" y="1052640"/>
            <a:ext cx="725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9551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Этот трогательный памятник героям сказки американского писателя и художника Роберта Макклоски  (1914 – 2003) "Дайте дорогу утятам" - маме-утке и ее восьми утятам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9551b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Скульптор Нэнси Шеен. «Тропа утят» находится в сквере у Новодевичьего монастыря  - Новодевичий проезд, 1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      </a:t>
            </a: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(м. «Спортивная»)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360" y="3132000"/>
            <a:ext cx="4751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92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551b"/>
                </a:solidFill>
                <a:latin typeface="Palatino Linotype"/>
              </a:rPr>
              <a:t>ВОРОНА И ЛИСИЦА</a:t>
            </a:r>
            <a:br>
              <a:rPr sz="2800"/>
            </a:br>
            <a:r>
              <a:rPr b="1" lang="ru-RU" sz="2400" spc="-1" strike="noStrike">
                <a:solidFill>
                  <a:srgbClr val="79551b"/>
                </a:solidFill>
                <a:latin typeface="Palatino Linotype"/>
              </a:rPr>
              <a:t>(ГЕРОИ БАСЕН И.А. КРЫЛОВА)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55640" y="1628640"/>
            <a:ext cx="42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Palatino Linotype"/>
              </a:rPr>
              <a:t>Ворона и Лисица, изображенные на данной скульптурной композиции – это настоящие литературные герои одноименной басни Ивана Андреевича Крылова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Palatino Linotype"/>
              </a:rPr>
              <a:t>Монумент оказался очень обаятельным и подкупающим своей теплотой. Такие нежные отношения друг к другу, продиктованы тем, какой они  сжимают сыр.  Сырок «Дружба»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170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360"/>
            <a:ext cx="5484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7902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1 октября 2005 года состоялось торжественное открытие памятника легендарному сырку "Дружба", установленного по инициативе Московского завода плавленых сыров "Карат" возле проходной на улице Руставели, д.14, стр.11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 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(м. «Дмитровская», «Тимирязевская»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         </a:t>
            </a:r>
            <a:br>
              <a:rPr sz="2400"/>
            </a:b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484360" y="2565360"/>
            <a:ext cx="4626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572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Palatino Linotype"/>
              </a:rPr>
              <a:t>ДЯДЯ СТЁПА – МИЛИЦИОНЕР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8064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В композиции скульптора Александра Рожникова использован известный мультипликационный сюжет, когда дядя Стёпа достает из светофора птичку, которая не улетает, а остается сидеть на его руке, подчёркивая, тем самым, что это человек очень добрый и открытый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Palatino Linotype"/>
              </a:rPr>
              <a:t>Этот памятник установлен в Москве в Слесарном переулке у здания ГИБДД Московской области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788000" y="3627360"/>
            <a:ext cx="38433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54849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ВСТУПЛЕНИЕ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95640" y="1585440"/>
            <a:ext cx="4764240" cy="52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    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Все мы знаем, что люди любят ставить памятники своим героям: солдатам и полководцам, поэтам и писателям, художникам и композиторам.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	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36147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9551b"/>
                </a:solidFill>
                <a:latin typeface="Monotype Corsiva"/>
              </a:rPr>
              <a:t>ГЕРОИ     СКАЗОК.</a:t>
            </a:r>
            <a:br>
              <a:rPr sz="4000"/>
            </a:br>
            <a:endParaRPr b="0" lang="en-US" sz="4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4868640"/>
            <a:ext cx="777708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Palatino Linotype"/>
              </a:rPr>
              <a:t>В 1997 году, в ходе реконструкции Манежной площади, на территории Александровского сада (м. «Александровский сад», «Библиотека им. Ленина») появились скульптурные композиции сказочных героев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9" name="" descr="Скульптуры на Манежной площади, Москва, 10/10/20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125360"/>
            <a:ext cx="3424320" cy="3583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5364000" y="1052640"/>
            <a:ext cx="2808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24000" y="1413000"/>
            <a:ext cx="4894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9551b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79551b"/>
                </a:solidFill>
                <a:latin typeface="Times New Roman"/>
              </a:rPr>
              <a:t>Монументы изображают как героев русских народных сказок («Лиса и журавль», «Царевна-лягушка», «Волк и медведь» и т.д.), так и авторских («Сказка о рыбаке и рыбке» </a:t>
            </a:r>
            <a:br>
              <a:rPr sz="2000"/>
            </a:br>
            <a:r>
              <a:rPr b="0" lang="ru-RU" sz="2000" spc="-1" strike="noStrike">
                <a:solidFill>
                  <a:srgbClr val="79551b"/>
                </a:solidFill>
                <a:latin typeface="Times New Roman"/>
              </a:rPr>
              <a:t>А.С. Пушкина).</a:t>
            </a:r>
            <a:br>
              <a:rPr sz="2000"/>
            </a:br>
            <a:r>
              <a:rPr b="0" lang="ru-RU" sz="2000" spc="-1" strike="noStrike">
                <a:solidFill>
                  <a:srgbClr val="79551b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2" name="" descr="Скульптуры на Манежной площади, Москва, 10/10/20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333360"/>
            <a:ext cx="2768760" cy="295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932360" y="2997360"/>
            <a:ext cx="3776760" cy="2832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755640" y="3645000"/>
            <a:ext cx="3768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75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9551b"/>
                </a:solidFill>
                <a:latin typeface="Bookman Old Style"/>
              </a:rPr>
              <a:t>АЛЛЕЯ  АЛИСЫ  СЕЛЕЗНЁВОЙ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5905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Book Antiqua"/>
              </a:rPr>
              <a:t>На одном из берегов системы прудов в парке «Дружба» у метро Речной Вокзал,  почитатели фантастических приключений Кира Булычёва (настоящее имя Игорь Всеволодович Можейко (1934-2003)) в 2001 году посадили аллею деревьев и поставили камень с памятным знаком, изображающим Алису Селезнёву и птицу Говоруна. Изображение Алисы на рисунке имеет большое сходство с Алисой из телефильма «Гостья из будущего», снятого в середине 80-х гг. в исполнении Наташи Гусевой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Book Antiqua"/>
              </a:rPr>
              <a:t>Проект был осуществлен силами и на средства посетителей и администрации сайта WWW.MIELOFON.RU при поддержке «Всемирного фонда охраны живой природы»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443640" y="3573360"/>
            <a:ext cx="27003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Спасибо за внимание!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Мне было интересно подбирать материал для презентации и узнавать новое о, казалось, известном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Презентация выполнена ученицей 8 «Г» класса МОУ Хотьковская средняя общеобразовательная школа №1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Учитель русского языка и литературы – Затонская Т.И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2011-2012 учебный год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71640" y="-130680"/>
            <a:ext cx="5484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549000"/>
            <a:ext cx="6877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Давно уже увековечены в металле или камне </a:t>
            </a:r>
            <a:r>
              <a:rPr b="0" i="1" lang="ru-RU" sz="2800" spc="-1" strike="noStrike">
                <a:solidFill>
                  <a:srgbClr val="79551b"/>
                </a:solidFill>
                <a:latin typeface="Palatino Linotype"/>
              </a:rPr>
              <a:t>Том Сойер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, </a:t>
            </a:r>
            <a:r>
              <a:rPr b="0" i="1" lang="ru-RU" sz="2800" spc="-1" strike="noStrike">
                <a:solidFill>
                  <a:srgbClr val="79551b"/>
                </a:solidFill>
                <a:latin typeface="Palatino Linotype"/>
              </a:rPr>
              <a:t>Русалочка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, </a:t>
            </a:r>
            <a:r>
              <a:rPr b="0" i="1" lang="ru-RU" sz="2800" spc="-1" strike="noStrike">
                <a:solidFill>
                  <a:srgbClr val="79551b"/>
                </a:solidFill>
                <a:latin typeface="Palatino Linotype"/>
              </a:rPr>
              <a:t>Дон Кихот</a:t>
            </a:r>
            <a:r>
              <a:rPr b="0" lang="ru-RU" sz="2800" spc="-1" strike="noStrike">
                <a:solidFill>
                  <a:srgbClr val="79551b"/>
                </a:solidFill>
                <a:latin typeface="Palatino Linotype"/>
              </a:rPr>
              <a:t> и многие другие любимые персонажи миллионов детей и взрослых, рожденные писательской фантазией. Но эти памятники стоят в других странах и городах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89" name="" descr="Картинка 2 из 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3227400"/>
            <a:ext cx="3961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16000" y="-225360"/>
            <a:ext cx="5484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41760" y="1828800"/>
            <a:ext cx="2665440" cy="1866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559480" y="1828800"/>
            <a:ext cx="2666880" cy="1866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00" y="3933360"/>
            <a:ext cx="5688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Оказывается, в Москве тоже есть памятники литературным героям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    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Все они были рождены сначала писательской фантазией, а потом фантазией скульпторов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26920" y="620640"/>
            <a:ext cx="2967120" cy="403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076720" y="620640"/>
            <a:ext cx="3294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615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9551b"/>
                </a:solidFill>
                <a:latin typeface="Monotype Corsiva"/>
              </a:rPr>
              <a:t>Барельефные   изображения </a:t>
            </a:r>
            <a:br>
              <a:rPr sz="4400"/>
            </a:br>
            <a:r>
              <a:rPr b="0" lang="ru-RU" sz="4400" spc="-1" strike="noStrike">
                <a:solidFill>
                  <a:srgbClr val="79551b"/>
                </a:solidFill>
                <a:latin typeface="Monotype Corsiva"/>
              </a:rPr>
              <a:t>литературных    героев.</a:t>
            </a:r>
            <a:endParaRPr b="0" lang="en-US" sz="4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110360" cy="20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Барельеф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-(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от франц.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Bas-relief) </a:t>
            </a:r>
            <a:r>
              <a:rPr b="0" lang="ru-RU" sz="2400" spc="-1" strike="noStrike">
                <a:solidFill>
                  <a:srgbClr val="79551b"/>
                </a:solidFill>
                <a:latin typeface="Palatino Linotype"/>
              </a:rPr>
              <a:t>выпуклое скульптурное изображение на плоской поверхности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71640" y="3860640"/>
            <a:ext cx="5484960" cy="1866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268360" y="2852640"/>
            <a:ext cx="4897440" cy="36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551b"/>
                </a:solidFill>
                <a:latin typeface="Palatino Linotype"/>
              </a:rPr>
              <a:t>ГЕРОИ  ГРИБОЕДОВА</a:t>
            </a:r>
            <a:r>
              <a:rPr b="0" lang="ru-RU" sz="32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95640" y="907920"/>
            <a:ext cx="4392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Palatino Linotype"/>
              </a:rPr>
              <a:t>Памятник Александру Сергеевичу Грибоедову (1795 - 1829) - русскому драматургу, поэту и дипломату установлен в самом начале  Чистопрудного бульвара (м. «Чистые пруды»)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Palatino Linotype"/>
              </a:rPr>
              <a:t>Памятник был открыт в 1959 году. Авторы памятника: Скульптор А.А. Мануйлов, архитектор А.А. Заварзин. В облике памятника интересно сочетаются черты парадного монумента и героев его знаменитого произведения "</a:t>
            </a:r>
            <a:r>
              <a:rPr b="0" i="1" lang="ru-RU" sz="2400" spc="-1" strike="noStrike">
                <a:solidFill>
                  <a:srgbClr val="79551b"/>
                </a:solidFill>
                <a:latin typeface="Palatino Linotype"/>
              </a:rPr>
              <a:t>Горе от ума",</a:t>
            </a:r>
            <a:r>
              <a:rPr b="0" lang="ru-RU" sz="2000" spc="-1" strike="noStrike">
                <a:solidFill>
                  <a:srgbClr val="79551b"/>
                </a:solidFill>
                <a:latin typeface="Palatino Linotype"/>
              </a:rPr>
              <a:t> изображенных на барельефе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2" name="image_id" descr="Памятник А.С. Грибоедову&#10;Щелкните на изображение, чтобы посмотреть его в оригинальном размере."/>
          <p:cNvPicPr/>
          <p:nvPr/>
        </p:nvPicPr>
        <p:blipFill>
          <a:blip r:embed="rId2"/>
          <a:stretch/>
        </p:blipFill>
        <p:spPr>
          <a:xfrm>
            <a:off x="1116000" y="83664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86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551b"/>
                </a:solidFill>
                <a:latin typeface="Palatino Linotype"/>
              </a:rPr>
              <a:t>ГЕРОИ   ГОГОЛЯ.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3933360"/>
            <a:ext cx="842472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Palatino Linotype"/>
              </a:rPr>
              <a:t>Памятник Николаю Васильевичу Гоголю  (1809 – 1852) открыли к 100-летию писателя в 1909 году. С 1959 года памятник стоит во дворе на Никитском бульваре, рядом с домом 7 (м. «Арбатская»).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Palatino Linotype"/>
              </a:rPr>
              <a:t>Монумент выполнен в граните и бронзе. Архитектор Ф. О. Шехтель,  скульптор Н.А. Андреев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Palatino Linotype"/>
              </a:rPr>
              <a:t>На барильефе, вдоль всего пьедестала изображены герои гоголевских произведений: </a:t>
            </a:r>
            <a:r>
              <a:rPr b="0" i="1" lang="ru-RU" sz="2400" spc="-1" strike="noStrike">
                <a:solidFill>
                  <a:srgbClr val="663300"/>
                </a:solidFill>
                <a:latin typeface="Palatino Linotype"/>
              </a:rPr>
              <a:t>«Ревизор», «Тарас Бульба», «Петербургские повести», «Вечера на хуторе близ Диканьки», «Мёртвые души»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11280" y="549360"/>
            <a:ext cx="1944720" cy="338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500720" y="119700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47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9551b"/>
                </a:solidFill>
                <a:latin typeface="Palatino Linotype"/>
              </a:rPr>
              <a:t>ГЕРОИ   БАСЕН </a:t>
            </a:r>
            <a:br>
              <a:rPr sz="2800"/>
            </a:br>
            <a:r>
              <a:rPr b="1" lang="ru-RU" sz="2800" spc="-1" strike="noStrike">
                <a:solidFill>
                  <a:srgbClr val="79551b"/>
                </a:solidFill>
                <a:latin typeface="Palatino Linotype"/>
              </a:rPr>
              <a:t>ИВАНА АНДРЕЕВИЧА КРЫЛОВА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2665440" cy="1866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51280" y="1267920"/>
            <a:ext cx="29559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79551b"/>
                </a:solidFill>
                <a:latin typeface="Palatino Linotype"/>
              </a:rPr>
              <a:t>	</a:t>
            </a: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Часто рядом с памятником писателю размещают отдельно стоящих героев его произведений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79551b"/>
                </a:solidFill>
                <a:latin typeface="Arial Narrow"/>
              </a:rPr>
              <a:t>Памятник русскому баснописцу и сатирику И.А. Крылову (1769 – 1844) работы скульпторов А.А. Древина, Д.Ю. Митлянского и архитектора А.Г. Чалтыкьяна; находится в сквере на Патриарших прудах, Ермолаевский переулок  (метро «Маяковская», «Тверская», «Баррикадная»).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132000" y="2133720"/>
            <a:ext cx="2633760" cy="1974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39640" y="4292640"/>
            <a:ext cx="3024360" cy="2260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56 из 57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197000"/>
            <a:ext cx="2448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61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551b"/>
                </a:solidFill>
                <a:latin typeface="Palatino Linotype"/>
              </a:rPr>
              <a:t>ГЕРОИ   БАСЕН </a:t>
            </a:r>
            <a:br>
              <a:rPr sz="2400"/>
            </a:br>
            <a:r>
              <a:rPr b="1" lang="ru-RU" sz="2400" spc="-1" strike="noStrike">
                <a:solidFill>
                  <a:srgbClr val="79551b"/>
                </a:solidFill>
                <a:latin typeface="Palatino Linotype"/>
              </a:rPr>
              <a:t>ИВАНА АНДРЕЕВИЧА КРЫЛОВА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3994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551b"/>
                </a:solidFill>
                <a:latin typeface="Book Antiqua"/>
              </a:rPr>
              <a:t>  </a:t>
            </a:r>
            <a:r>
              <a:rPr b="1" i="1" lang="ru-RU" sz="2400" spc="-1" strike="noStrike">
                <a:solidFill>
                  <a:srgbClr val="79551b"/>
                </a:solidFill>
                <a:latin typeface="Book Antiqua"/>
              </a:rPr>
              <a:t>«</a:t>
            </a: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На ту беду, Лиса близехонько бежала;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Вдруг сырный дух Лису остановил: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Лисица видит сыр, Лисицу сыр пленил.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Плутовка к дереву на цыпочках подходит;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Вертит хвостом, с Вороны глаз не сводит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И говорит так сладко, чуть дыша:</a:t>
            </a:r>
            <a:br>
              <a:rPr sz="2400"/>
            </a:br>
            <a:r>
              <a:rPr b="1" i="1" lang="ru-RU" sz="2400" spc="-1" strike="noStrike">
                <a:solidFill>
                  <a:srgbClr val="663300"/>
                </a:solidFill>
                <a:latin typeface="Book Antiqua"/>
              </a:rPr>
              <a:t>"Голубушка, как хороша!..»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3645000"/>
            <a:ext cx="3744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0:06:36Z</dcterms:created>
  <dc:creator>1</dc:creator>
  <dc:description/>
  <cp:keywords/>
  <dc:language>en-US</dc:language>
  <cp:lastModifiedBy>Татьяна Ивановна</cp:lastModifiedBy>
  <dcterms:modified xsi:type="dcterms:W3CDTF">2012-06-07T06:41:04Z</dcterms:modified>
  <cp:revision>19</cp:revision>
  <dc:subject/>
  <dc:title> ПАМЯТНИКИ ЛИТЕРАТУРНЫМ ГЕРОЯМ МОСКВЫ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1049</vt:lpwstr>
  </property>
</Properties>
</file>