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2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5A38-417B-4C73-90A5-F84E72DA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8BE6-3009-4F4F-A625-1BCA6C0C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347E-D4A4-47EE-A781-508F4D69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78AD-EB9D-4EDC-B4F1-D32A434C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52CF-4C17-46AE-A099-25E71F2A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6B21-6798-4A36-A281-132F9578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9067-CD1B-47B1-B9F1-42EBFE30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01F4-DF39-4B4E-82E6-6F4046E1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E5CD-D90E-452A-9A6F-1CCA2406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AE9D-EF28-4E79-89A9-C8A363EA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331B-B1DD-4DC9-8106-54137AFA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423B-E5FD-4489-A57B-A301C0C2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D76B-3017-4A89-9BCB-A61F3171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DC53-FCEE-4F19-9CE8-69E0A7CC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BF5A-1ED0-4956-B55C-11E9EE6F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9F44-D577-4855-853D-E343B4E1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121D-B57B-4D5E-989C-6E24D7CA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3EA-06BC-4212-9DA4-D15E9B71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8D8D-5801-427D-A776-8AEB11DF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15FD-7F59-4154-BF5D-48E14D48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5F4D-86DB-41D3-BCB4-C36CC88D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5925-17C9-4F9C-AE25-51E2D3D4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F804-53F0-42DD-BC8E-05BBFF4C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333A-BEC1-4EBF-B819-BAF7D9EA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3CA8-D6C9-4C72-97CC-01D0F53AC3C4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3200" y="17521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68AB-5C10-4B89-AA22-3B3D0863F91A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lvl="2" marL="914400" algn="ctr">
              <a:spcBef>
                <a:spcPts val="499"/>
              </a:spcBef>
              <a:buClr>
                <a:srgbClr val="79551b"/>
              </a:buClr>
              <a:buFont typeface="Palatino Linotyp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371600" algn="ctr">
              <a:spcBef>
                <a:spcPts val="451"/>
              </a:spcBef>
              <a:buClr>
                <a:srgbClr val="79551b"/>
              </a:buClr>
              <a:buFont typeface="Palatino Linotyp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28800" algn="ctr">
              <a:spcBef>
                <a:spcPts val="400"/>
              </a:spcBef>
              <a:buClr>
                <a:srgbClr val="79551b"/>
              </a:buClr>
              <a:buFont typeface="Palatino Linotyp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16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16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16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gal198576766/view/130021/?page=0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tatic.panoramio.com/photos/original/15330910.jpg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tatic.panoramio.com/photos/original/15330105.jpg" TargetMode="External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op10best.ucoz.ru/M_tales/3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stat15.privet.ru/lr/0904e90075c48b6d0bcc115065337d06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84360" y="98064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79551b"/>
                </a:solidFill>
                <a:latin typeface="Palatino Linotype"/>
              </a:rPr>
              <a:t>ПАМЯТНИКИ ЛИТЕРАТУРНЫМ ГЕРОЯМ</a:t>
            </a:r>
            <a:br>
              <a:rPr sz="3200"/>
            </a:br>
            <a:r>
              <a:rPr b="1" i="1" lang="ru-RU" sz="3200" spc="-1" strike="noStrike">
                <a:solidFill>
                  <a:srgbClr val="79551b"/>
                </a:solidFill>
                <a:latin typeface="Palatino Linotype"/>
              </a:rPr>
              <a:t>МОСКВЫ</a:t>
            </a:r>
            <a:br>
              <a:rPr sz="3200"/>
            </a:b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8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1844640"/>
            <a:ext cx="3525840" cy="436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63640" y="476280"/>
            <a:ext cx="548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551b"/>
                </a:solidFill>
                <a:latin typeface="Palatino Linotype"/>
              </a:rPr>
              <a:t>ШЕРЛОК   ХОЛМС   </a:t>
            </a:r>
            <a:br>
              <a:rPr sz="2800"/>
            </a:br>
            <a:br>
              <a:rPr sz="300"/>
            </a:br>
            <a:r>
              <a:rPr b="1" lang="ru-RU" sz="2800" spc="-1" strike="noStrike">
                <a:solidFill>
                  <a:srgbClr val="79551b"/>
                </a:solidFill>
                <a:latin typeface="Palatino Linotype"/>
              </a:rPr>
              <a:t>И   ДОКТОР   ВАТСОН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58920" y="1483920"/>
            <a:ext cx="37450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551b"/>
                </a:solidFill>
                <a:latin typeface="Palatino Linotype"/>
              </a:rPr>
              <a:t>Памятник героям приключенческих произведений английского писателя А.Конан Дойля (1859 – 1930) Шерлоку Холмсу и его помощнику доктору Ватсону размещён напротив здания посольства Великобритании на  ул. Смоленская набережная, д.10 (м. Смоленская).  Монумент установлен в рамках проекта "Народные герои в скульптурных композициях" в апреле 2007 года. 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551b"/>
                </a:solidFill>
                <a:latin typeface="Palatino Linotype"/>
              </a:rPr>
              <a:t>Автором скульптурной композиции является А.Ю. Орлов. 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4103640" cy="30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136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551b"/>
                </a:solidFill>
                <a:latin typeface="Palatino Linotype"/>
              </a:rPr>
              <a:t>ПАМЯТНИК  ВОЕННЫМ   КОРРЕСПОНДЕНТАМ.</a:t>
            </a: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br>
              <a:rPr sz="2800"/>
            </a:br>
            <a:r>
              <a:rPr b="0" i="1" lang="ru-RU" sz="2200" spc="-1" strike="noStrike">
                <a:solidFill>
                  <a:srgbClr val="79551b"/>
                </a:solidFill>
                <a:latin typeface="Palatino Linotype"/>
              </a:rPr>
              <a:t>«С лейкой и блокнотом,</a:t>
            </a:r>
            <a:br>
              <a:rPr sz="2200"/>
            </a:br>
            <a:r>
              <a:rPr b="0" i="1" lang="ru-RU" sz="2200" spc="-1" strike="noStrike">
                <a:solidFill>
                  <a:srgbClr val="79551b"/>
                </a:solidFill>
                <a:latin typeface="Palatino Linotype"/>
              </a:rPr>
              <a:t>А то и с пулеметом</a:t>
            </a:r>
            <a:br>
              <a:rPr sz="2200"/>
            </a:br>
            <a:r>
              <a:rPr b="0" i="1" lang="ru-RU" sz="2200" spc="-1" strike="noStrike">
                <a:solidFill>
                  <a:srgbClr val="79551b"/>
                </a:solidFill>
                <a:latin typeface="Palatino Linotype"/>
              </a:rPr>
              <a:t>Сквозь огонь и стужу мы прошли…»</a:t>
            </a:r>
            <a:endParaRPr b="0" lang="en-US" sz="2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3672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Verdana"/>
              </a:rPr>
              <a:t>Памятник установлен в 1993 году перед входом в Центральный дом журналиста на улице Никитский бульвар,  д.8А (м. «Арбатская»)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Verdana"/>
              </a:rPr>
              <a:t>Авторы памятника:  скульптор Л.Е. Кербель и архитектор Е.Г. Розанов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364000" y="1844640"/>
            <a:ext cx="287820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47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Palatino Linotype"/>
              </a:rPr>
              <a:t>БАРОН    МЮНХАУЗЕН.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9640" y="4437000"/>
            <a:ext cx="7201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    </a:t>
            </a:r>
            <a:r>
              <a:rPr b="0" lang="ru-RU" sz="2400" spc="-1" strike="noStrike">
                <a:solidFill>
                  <a:srgbClr val="333300"/>
                </a:solidFill>
                <a:latin typeface="Palatino Linotype"/>
              </a:rPr>
              <a:t>Этот интересный памятник, изображающий героя историй немецкого писателя Р. Э. Расрэ (1737 – 1794), установлен в августе 2004 года около  м. Молодежная на Ярцевской улице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Palatino Linotype"/>
              </a:rPr>
              <a:t>   </a:t>
            </a:r>
            <a:r>
              <a:rPr b="0" lang="ru-RU" sz="2400" spc="-1" strike="noStrike">
                <a:solidFill>
                  <a:srgbClr val="333300"/>
                </a:solidFill>
                <a:latin typeface="Palatino Linotype"/>
              </a:rPr>
              <a:t>Автором скульптуры является А.Ю. Орлов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419640" y="1197000"/>
            <a:ext cx="2322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47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9551b"/>
                </a:solidFill>
                <a:latin typeface="Verdana"/>
              </a:rPr>
              <a:t>ГЕРОИ  М.А. БУЛГАКОВА.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292360" y="1413000"/>
            <a:ext cx="29336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551b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79551b"/>
                </a:solidFill>
                <a:latin typeface="Times New Roman"/>
              </a:rPr>
              <a:t>Между метро «Новослободская» и Марьиной рощей, в дворике у дома 13 на улице Советской Армии, присели на лавочке два литературных героя. 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551b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551b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79551b"/>
                </a:solidFill>
                <a:latin typeface="Times New Roman"/>
              </a:rPr>
              <a:t>Это герои из романа «Мастер и Маргарита» русского писателя и драматурга Михаила Афанасьевича Булгакова (1891-1940)– Коровьев и кот Бегемот. 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551b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551b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79551b"/>
                </a:solidFill>
                <a:latin typeface="Times New Roman"/>
              </a:rPr>
              <a:t>Памятник открылся в августе 2006 года.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4248000" cy="318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326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551b"/>
                </a:solidFill>
                <a:latin typeface="Bookman Old Style"/>
              </a:rPr>
              <a:t>ХОДЖА   НАСРЕДДИН.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00720" y="3338640"/>
            <a:ext cx="4460760" cy="3346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4000" y="793080"/>
            <a:ext cx="554508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«Я – Ходжа Насредди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Сам себе господи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И скажу – не совру – никогда не умру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Пусть бухарский эми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Говорит на весь мир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Что смутьян я и вор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Пусть готовит топор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Нищий, босый и голы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Я – бродяга веселы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Буду жить, буду пе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И на солнце глядеть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Ходжа Насреддин – персонаж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среднеазиатского фолькло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Эта скульптурная компози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находи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на Ярцевской улице у м. Молодежна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39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551b"/>
                </a:solidFill>
                <a:latin typeface="Palatino Linotype"/>
              </a:rPr>
              <a:t>МАЛЬЧИШ – КИБАЛЬЧИШ.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4076640"/>
            <a:ext cx="8137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          </a:t>
            </a: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Памятник литературному герою, персонажу сказки «О военной тайне, о Мальчише - Кибальчише и его твёрдом слове» А.П. Гайдара (1904 – 1941)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Пятиметровая бронзовая фигура установлена на Воробьёвых горах, у главного входа в городской дворец пионеров и школьников (м. Ленинский проспект, ул. Косыгина, д.17/1)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627280" y="836640"/>
            <a:ext cx="439272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48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9551b"/>
                </a:solidFill>
                <a:latin typeface="Palatino Linotype"/>
              </a:rPr>
              <a:t>УТЯТА – ЛИТЕРАТУРНЫЕ ГЕРОИ.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71640" y="1052640"/>
            <a:ext cx="7254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9551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551b"/>
                </a:solidFill>
                <a:latin typeface="Arial Narrow"/>
              </a:rPr>
              <a:t>Этот трогательный памятник героям сказки американского писателя и художника Роберта Макклоски  (1914 – 2003) "Дайте дорогу утятам" - маме-утке и ее восьми утятам.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9551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551b"/>
                </a:solidFill>
                <a:latin typeface="Arial Narrow"/>
              </a:rPr>
              <a:t>Скульптор Нэнси Шеен. «Тропа утят» находится в сквере у Новодевичьего монастыря  - Новодевичий проезд, 1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551b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79551b"/>
                </a:solidFill>
                <a:latin typeface="Arial Narrow"/>
              </a:rPr>
              <a:t>(м. «Спортивная»).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700360" y="3132000"/>
            <a:ext cx="47512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92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551b"/>
                </a:solidFill>
                <a:latin typeface="Palatino Linotype"/>
              </a:rPr>
              <a:t>ВОРОНА И ЛИСИЦА</a:t>
            </a:r>
            <a:br>
              <a:rPr sz="2800"/>
            </a:br>
            <a:r>
              <a:rPr b="1" lang="ru-RU" sz="2400" spc="-1" strike="noStrike">
                <a:solidFill>
                  <a:srgbClr val="79551b"/>
                </a:solidFill>
                <a:latin typeface="Palatino Linotype"/>
              </a:rPr>
              <a:t>(ГЕРОИ БАСЕН И.А. КРЫЛОВА)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355640" y="1628640"/>
            <a:ext cx="4248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551b"/>
                </a:solidFill>
                <a:latin typeface="Palatino Linotype"/>
              </a:rPr>
              <a:t>Ворона и Лисица, изображенные на данной скульптурной композиции – это настоящие литературные герои одноименной басни Ивана Андреевича Крылова.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551b"/>
                </a:solidFill>
                <a:latin typeface="Palatino Linotype"/>
              </a:rPr>
              <a:t>Монумент оказался очень обаятельным и подкупающим своей теплотой. Такие нежные отношения друг к другу, продиктованы тем, какой они  сжимают сыр.  Сырок «Дружба».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31701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360"/>
            <a:ext cx="5484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620280"/>
            <a:ext cx="79027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1 октября 2005 года состоялось торжественное открытие памятника легендарному сырку "Дружба", установленного по инициативе Московского завода плавленых сыров "Карат" возле проходной на улице Руставели, д.14, стр.11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     </a:t>
            </a: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(м. «Дмитровская», «Тимирязевская»)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             </a:t>
            </a:r>
            <a:br>
              <a:rPr sz="2400"/>
            </a:b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484360" y="2565360"/>
            <a:ext cx="46260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572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Palatino Linotype"/>
              </a:rPr>
              <a:t>ДЯДЯ СТЁПА – МИЛИЦИОНЕР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8064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Palatino Linotype"/>
              </a:rPr>
              <a:t>В композиции скульптора Александра Рожникова использован известный мультипликационный сюжет, когда дядя Стёпа достает из светофора птичку, которая не улетает, а остается сидеть на его руке, подчёркивая, тем самым, что это человек очень добрый и открытый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Palatino Linotype"/>
              </a:rPr>
              <a:t>Этот памятник установлен в Москве в Слесарном переулке у здания ГИБДД Московской области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788000" y="3627360"/>
            <a:ext cx="384336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54849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ВСТУПЛЕНИЕ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95640" y="1585440"/>
            <a:ext cx="4764240" cy="52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     </a:t>
            </a: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	</a:t>
            </a: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Все мы знаем, что люди любят ставить памятники своим героям: солдатам и полководцам, поэтам и писателям, художникам и композиторам.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	</a:t>
            </a: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	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36147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569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9551b"/>
                </a:solidFill>
                <a:latin typeface="Monotype Corsiva"/>
              </a:rPr>
              <a:t>ГЕРОИ     СКАЗОК.</a:t>
            </a:r>
            <a:br>
              <a:rPr sz="4000"/>
            </a:br>
            <a:endParaRPr b="0" lang="en-US" sz="4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000" y="4868640"/>
            <a:ext cx="777708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Palatino Linotype"/>
              </a:rPr>
              <a:t>В 1997 году, в ходе реконструкции Манежной площади, на территории Александровского сада (м. «Александровский сад», «Библиотека им. Ленина») появились скульптурные композиции сказочных героев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49" name="" descr="Скульптуры на Манежной площади, Москва, 10/10/200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1125360"/>
            <a:ext cx="3424320" cy="3583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364000" y="1052640"/>
            <a:ext cx="2808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24000" y="1413000"/>
            <a:ext cx="4894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551b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79551b"/>
                </a:solidFill>
                <a:latin typeface="Times New Roman"/>
              </a:rPr>
              <a:t>Монументы изображают как героев русских народных сказок («Лиса и журавль», «Царевна-лягушка», «Волк и медведь» и т.д.), так и авторских («Сказка о рыбаке и рыбке» </a:t>
            </a:r>
            <a:br>
              <a:rPr sz="2000"/>
            </a:br>
            <a:r>
              <a:rPr b="0" lang="ru-RU" sz="2000" spc="-1" strike="noStrike">
                <a:solidFill>
                  <a:srgbClr val="79551b"/>
                </a:solidFill>
                <a:latin typeface="Times New Roman"/>
              </a:rPr>
              <a:t>А.С. Пушкина).</a:t>
            </a:r>
            <a:br>
              <a:rPr sz="2000"/>
            </a:br>
            <a:r>
              <a:rPr b="0" lang="ru-RU" sz="2000" spc="-1" strike="noStrike">
                <a:solidFill>
                  <a:srgbClr val="79551b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52" name="" descr="Скульптуры на Манежной площади, Москва, 10/10/200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333360"/>
            <a:ext cx="2768760" cy="2952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932360" y="2997360"/>
            <a:ext cx="3776760" cy="2832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755640" y="3645000"/>
            <a:ext cx="37688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189000"/>
            <a:ext cx="775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9551b"/>
                </a:solidFill>
                <a:latin typeface="Bookman Old Style"/>
              </a:rPr>
              <a:t>АЛЛЕЯ  АЛИСЫ  СЕЛЕЗНЁВОЙ.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590544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Book Antiqua"/>
              </a:rPr>
              <a:t>На одном из берегов системы прудов в парке «Дружба» у метро Речной Вокзал,  почитатели фантастических приключений Кира Булычёва (настоящее имя Игорь Всеволодович Можейко (1934-2003)) в 2001 году посадили аллею деревьев и поставили камень с памятным знаком, изображающим Алису Селезнёву и птицу Говоруна. Изображение Алисы на рисунке имеет большое сходство с Алисой из телефильма «Гостья из будущего», снятого в середине 80-х гг. в исполнении Наташи Гусевой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Book Antiqua"/>
              </a:rPr>
              <a:t>Проект был осуществлен силами и на средства посетителей и администрации сайта WWW.MIELOFON.RU при поддержке «Всемирного фонда охраны живой природы»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443640" y="3573360"/>
            <a:ext cx="270036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9551b"/>
                </a:solidFill>
                <a:latin typeface="Palatino Linotype"/>
              </a:rPr>
              <a:t>Спасибо за внимание!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Мне было интересно подбирать материал для презентации и узнавать новое о, казалось, известном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Презентация выполнена ученицей 8 «Г» класса МОУ Хотьковская средняя общеобразовательная школа №1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Учитель русского языка и литературы – Затонская Т.И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2011-2012 учебный год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71640" y="-130680"/>
            <a:ext cx="548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549000"/>
            <a:ext cx="68770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	</a:t>
            </a: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Давно уже увековечены в металле или камне </a:t>
            </a:r>
            <a:r>
              <a:rPr b="0" i="1" lang="ru-RU" sz="2800" spc="-1" strike="noStrike">
                <a:solidFill>
                  <a:srgbClr val="79551b"/>
                </a:solidFill>
                <a:latin typeface="Palatino Linotype"/>
              </a:rPr>
              <a:t>Том Сойер</a:t>
            </a: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, </a:t>
            </a:r>
            <a:r>
              <a:rPr b="0" i="1" lang="ru-RU" sz="2800" spc="-1" strike="noStrike">
                <a:solidFill>
                  <a:srgbClr val="79551b"/>
                </a:solidFill>
                <a:latin typeface="Palatino Linotype"/>
              </a:rPr>
              <a:t>Русалочка</a:t>
            </a: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, </a:t>
            </a:r>
            <a:r>
              <a:rPr b="0" i="1" lang="ru-RU" sz="2800" spc="-1" strike="noStrike">
                <a:solidFill>
                  <a:srgbClr val="79551b"/>
                </a:solidFill>
                <a:latin typeface="Palatino Linotype"/>
              </a:rPr>
              <a:t>Дон Кихот</a:t>
            </a: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 и многие другие любимые персонажи миллионов детей и взрослых, рожденные писательской фантазией. Но эти памятники стоят в других странах и городах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89" name="" descr="Картинка 2 из 2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3227400"/>
            <a:ext cx="39610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16000" y="-225360"/>
            <a:ext cx="5484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741760" y="1828800"/>
            <a:ext cx="2665440" cy="1866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559480" y="1828800"/>
            <a:ext cx="2666880" cy="18669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56000" y="3933360"/>
            <a:ext cx="56880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Оказывается, в Москве тоже есть памятники литературным героям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     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Все они были рождены сначала писательской фантазией, а потом фантазией скульпторов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826920" y="620640"/>
            <a:ext cx="2967120" cy="4032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076720" y="620640"/>
            <a:ext cx="3294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615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9551b"/>
                </a:solidFill>
                <a:latin typeface="Monotype Corsiva"/>
              </a:rPr>
              <a:t>Барельефные   изображения </a:t>
            </a:r>
            <a:br>
              <a:rPr sz="4400"/>
            </a:br>
            <a:r>
              <a:rPr b="0" lang="ru-RU" sz="4400" spc="-1" strike="noStrike">
                <a:solidFill>
                  <a:srgbClr val="79551b"/>
                </a:solidFill>
                <a:latin typeface="Monotype Corsiva"/>
              </a:rPr>
              <a:t>литературных    героев.</a:t>
            </a:r>
            <a:endParaRPr b="0" lang="en-US" sz="4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11036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Барельеф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 -(</a:t>
            </a: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от франц.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Bas-relief) </a:t>
            </a: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выпуклое скульптурное изображение на плоской поверхности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771640" y="3860640"/>
            <a:ext cx="5484960" cy="1866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2268360" y="2852640"/>
            <a:ext cx="4897440" cy="367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551b"/>
                </a:solidFill>
                <a:latin typeface="Palatino Linotype"/>
              </a:rPr>
              <a:t>ГЕРОИ  ГРИБОЕДОВА</a:t>
            </a:r>
            <a:r>
              <a:rPr b="0" lang="ru-RU" sz="3200" spc="-1" strike="noStrike">
                <a:solidFill>
                  <a:srgbClr val="79551b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95640" y="907920"/>
            <a:ext cx="4392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551b"/>
                </a:solidFill>
                <a:latin typeface="Palatino Linotype"/>
              </a:rPr>
              <a:t>Памятник Александру Сергеевичу Грибоедову (1795 - 1829) - русскому драматургу, поэту и дипломату установлен в самом начале  Чистопрудного бульвара (м. «Чистые пруды»).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39480" indent="-339480">
              <a:spcBef>
                <a:spcPts val="499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551b"/>
                </a:solidFill>
                <a:latin typeface="Palatino Linotype"/>
              </a:rPr>
              <a:t>Памятник был открыт в 1959 году. Авторы памятника: Скульптор А.А. Мануйлов, архитектор А.А. Заварзин. В облике памятника интересно сочетаются черты парадного монумента и героев его знаменитого произведения "</a:t>
            </a:r>
            <a:r>
              <a:rPr b="0" i="1" lang="ru-RU" sz="2400" spc="-1" strike="noStrike">
                <a:solidFill>
                  <a:srgbClr val="79551b"/>
                </a:solidFill>
                <a:latin typeface="Palatino Linotype"/>
              </a:rPr>
              <a:t>Горе от ума",</a:t>
            </a:r>
            <a:r>
              <a:rPr b="0" lang="ru-RU" sz="2000" spc="-1" strike="noStrike">
                <a:solidFill>
                  <a:srgbClr val="79551b"/>
                </a:solidFill>
                <a:latin typeface="Palatino Linotype"/>
              </a:rPr>
              <a:t> изображенных на барельефе.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02" name="image_id" descr="Памятник А.С. Грибоедову&#10;Щелкните на изображение, чтобы посмотреть его в оригинальном размере."/>
          <p:cNvPicPr/>
          <p:nvPr/>
        </p:nvPicPr>
        <p:blipFill>
          <a:blip r:embed="rId2"/>
          <a:stretch/>
        </p:blipFill>
        <p:spPr>
          <a:xfrm>
            <a:off x="1116000" y="83664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686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551b"/>
                </a:solidFill>
                <a:latin typeface="Palatino Linotype"/>
              </a:rPr>
              <a:t>ГЕРОИ   ГОГОЛЯ.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3933360"/>
            <a:ext cx="842472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Palatino Linotype"/>
              </a:rPr>
              <a:t>Памятник Николаю Васильевичу Гоголю  (1809 – 1852) открыли к 100-летию писателя в 1909 году. С 1959 года памятник стоит во дворе на Никитском бульваре, рядом с домом 7 (м. «Арбатская»).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Palatino Linotype"/>
              </a:rPr>
              <a:t>Монумент выполнен в граните и бронзе. Архитектор Ф. О. Шехтель,  скульптор Н.А. Андреев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Palatino Linotype"/>
              </a:rPr>
              <a:t>На барильефе, вдоль всего пьедестала изображены герои гоголевских произведений: </a:t>
            </a:r>
            <a:r>
              <a:rPr b="0" i="1" lang="ru-RU" sz="2400" spc="-1" strike="noStrike">
                <a:solidFill>
                  <a:srgbClr val="663300"/>
                </a:solidFill>
                <a:latin typeface="Palatino Linotype"/>
              </a:rPr>
              <a:t>«Ревизор», «Тарас Бульба», «Петербургские повести», «Вечера на хуторе близ Диканьки», «Мёртвые души»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11280" y="549360"/>
            <a:ext cx="1944720" cy="3384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4500720" y="119700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47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551b"/>
                </a:solidFill>
                <a:latin typeface="Palatino Linotype"/>
              </a:rPr>
              <a:t>ГЕРОИ   БАСЕН </a:t>
            </a:r>
            <a:br>
              <a:rPr sz="2800"/>
            </a:br>
            <a:r>
              <a:rPr b="1" lang="ru-RU" sz="2800" spc="-1" strike="noStrike">
                <a:solidFill>
                  <a:srgbClr val="79551b"/>
                </a:solidFill>
                <a:latin typeface="Palatino Linotype"/>
              </a:rPr>
              <a:t>ИВАНА АНДРЕЕВИЧА КРЫЛОВА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2665440" cy="18669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51280" y="1267920"/>
            <a:ext cx="295596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9551b"/>
                </a:solidFill>
                <a:latin typeface="Palatino Linotype"/>
              </a:rPr>
              <a:t>	</a:t>
            </a:r>
            <a:r>
              <a:rPr b="0" lang="ru-RU" sz="1600" spc="-1" strike="noStrike">
                <a:solidFill>
                  <a:srgbClr val="79551b"/>
                </a:solidFill>
                <a:latin typeface="Palatino Linotype"/>
              </a:rPr>
              <a:t>	</a:t>
            </a:r>
            <a:r>
              <a:rPr b="0" lang="ru-RU" sz="2000" spc="-1" strike="noStrike">
                <a:solidFill>
                  <a:srgbClr val="79551b"/>
                </a:solidFill>
                <a:latin typeface="Arial Narrow"/>
              </a:rPr>
              <a:t>Часто рядом с памятником писателю размещают отдельно стоящих героев его произведений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551b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79551b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79551b"/>
                </a:solidFill>
                <a:latin typeface="Arial Narrow"/>
              </a:rPr>
              <a:t>Памятник русскому баснописцу и сатирику И.А. Крылову (1769 – 1844) работы скульпторов А.А. Древина, Д.Ю. Митлянского и архитектора А.Г. Чалтыкьяна; находится в сквере на Патриарших прудах, Ермолаевский переулок  (метро «Маяковская», «Тверская», «Баррикадная»)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3132000" y="2133720"/>
            <a:ext cx="2633760" cy="1974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39640" y="4292640"/>
            <a:ext cx="3024360" cy="2260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Картинка 56 из 57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197000"/>
            <a:ext cx="2448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6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551b"/>
                </a:solidFill>
                <a:latin typeface="Palatino Linotype"/>
              </a:rPr>
              <a:t>ГЕРОИ   БАСЕН </a:t>
            </a:r>
            <a:br>
              <a:rPr sz="2400"/>
            </a:br>
            <a:r>
              <a:rPr b="1" lang="ru-RU" sz="2400" spc="-1" strike="noStrike">
                <a:solidFill>
                  <a:srgbClr val="79551b"/>
                </a:solidFill>
                <a:latin typeface="Palatino Linotype"/>
              </a:rPr>
              <a:t>ИВАНА АНДРЕЕВИЧА КРЫЛОВА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3994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551b"/>
                </a:solidFill>
                <a:latin typeface="Book Antiqua"/>
              </a:rPr>
              <a:t>  </a:t>
            </a:r>
            <a:r>
              <a:rPr b="1" i="1" lang="ru-RU" sz="2400" spc="-1" strike="noStrike">
                <a:solidFill>
                  <a:srgbClr val="79551b"/>
                </a:solidFill>
                <a:latin typeface="Book Antiqua"/>
              </a:rPr>
              <a:t>«</a:t>
            </a:r>
            <a:r>
              <a:rPr b="1" i="1" lang="ru-RU" sz="2400" spc="-1" strike="noStrike">
                <a:solidFill>
                  <a:srgbClr val="663300"/>
                </a:solidFill>
                <a:latin typeface="Book Antiqua"/>
              </a:rPr>
              <a:t>На ту беду, Лиса близехонько бежала;</a:t>
            </a:r>
            <a:br>
              <a:rPr sz="2400"/>
            </a:br>
            <a:r>
              <a:rPr b="1" i="1" lang="ru-RU" sz="2400" spc="-1" strike="noStrike">
                <a:solidFill>
                  <a:srgbClr val="663300"/>
                </a:solidFill>
                <a:latin typeface="Book Antiqua"/>
              </a:rPr>
              <a:t>Вдруг сырный дух Лису остановил:</a:t>
            </a:r>
            <a:br>
              <a:rPr sz="2400"/>
            </a:br>
            <a:r>
              <a:rPr b="1" i="1" lang="ru-RU" sz="2400" spc="-1" strike="noStrike">
                <a:solidFill>
                  <a:srgbClr val="663300"/>
                </a:solidFill>
                <a:latin typeface="Book Antiqua"/>
              </a:rPr>
              <a:t>Лисица видит сыр, Лисицу сыр пленил.</a:t>
            </a:r>
            <a:br>
              <a:rPr sz="2400"/>
            </a:br>
            <a:r>
              <a:rPr b="1" i="1" lang="ru-RU" sz="2400" spc="-1" strike="noStrike">
                <a:solidFill>
                  <a:srgbClr val="663300"/>
                </a:solidFill>
                <a:latin typeface="Book Antiqua"/>
              </a:rPr>
              <a:t>Плутовка к дереву на цыпочках подходит;</a:t>
            </a:r>
            <a:br>
              <a:rPr sz="2400"/>
            </a:br>
            <a:r>
              <a:rPr b="1" i="1" lang="ru-RU" sz="2400" spc="-1" strike="noStrike">
                <a:solidFill>
                  <a:srgbClr val="663300"/>
                </a:solidFill>
                <a:latin typeface="Book Antiqua"/>
              </a:rPr>
              <a:t>Вертит хвостом, с Вороны глаз не сводит</a:t>
            </a:r>
            <a:br>
              <a:rPr sz="2400"/>
            </a:br>
            <a:r>
              <a:rPr b="1" i="1" lang="ru-RU" sz="2400" spc="-1" strike="noStrike">
                <a:solidFill>
                  <a:srgbClr val="663300"/>
                </a:solidFill>
                <a:latin typeface="Book Antiqua"/>
              </a:rPr>
              <a:t>И говорит так сладко, чуть дыша:</a:t>
            </a:r>
            <a:br>
              <a:rPr sz="2400"/>
            </a:br>
            <a:r>
              <a:rPr b="1" i="1" lang="ru-RU" sz="2400" spc="-1" strike="noStrike">
                <a:solidFill>
                  <a:srgbClr val="663300"/>
                </a:solidFill>
                <a:latin typeface="Book Antiqua"/>
              </a:rPr>
              <a:t>"Голубушка, как хороша!..»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843280" y="3645000"/>
            <a:ext cx="37447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0:06:36Z</dcterms:created>
  <dc:creator>1</dc:creator>
  <dc:description/>
  <cp:keywords/>
  <dc:language>en-US</dc:language>
  <cp:lastModifiedBy>Татьяна Ивановна</cp:lastModifiedBy>
  <dcterms:modified xsi:type="dcterms:W3CDTF">2012-06-07T06:41:04Z</dcterms:modified>
  <cp:revision>19</cp:revision>
  <dc:subject/>
  <dc:title> ПАМЯТНИКИ ЛИТЕРАТУРНЫМ ГЕРОЯМ МОСКВЫ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91049</vt:lpwstr>
  </property>
</Properties>
</file>