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E24-A857-4B0C-BF7D-BD829B51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3CB-B279-4BC3-9191-08FC4BF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37B-2D3D-4111-9359-571C16A1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2E4-C0B7-407D-B9B4-EDB8309A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7CF-0675-4CAF-B4CD-CB46D667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8BD-2D85-42A9-82B1-89382616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8F1-C604-41FF-8966-B1A9F34A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5FF-5B36-45A8-BDD9-F685220F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010-25F5-4AF2-9031-5297822E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94E-1D3C-419D-AD0B-6A5912D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E24-ADE6-4C36-A4A9-27234599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804-45EC-40AB-BAFE-8F244E39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8558-4270-4C85-8ED9-21DFDC0A5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703" TargetMode="External"/><Relationship Id="rId3" Type="http://schemas.openxmlformats.org/officeDocument/2006/relationships/hyperlink" Target="http://ru.wikipedia.org/wiki/1740_&#1075;&#1086;&#1076;" TargetMode="External"/><Relationship Id="rId4" Type="http://schemas.openxmlformats.org/officeDocument/2006/relationships/hyperlink" Target="http://ru.wikipedia.org/wiki/&#1058;&#1088;&#1077;&#1079;&#1080;&#1085;&#1080;,_&#1044;&#1086;&#1084;&#1077;&#1085;&#1080;&#1082;&#1086;" TargetMode="External"/><Relationship Id="rId5" Type="http://schemas.openxmlformats.org/officeDocument/2006/relationships/hyperlink" Target="http://ru.wikipedia.org/wiki/&#1058;&#1088;&#1077;&#1079;&#1080;&#1085;&#1080;,_&#1044;&#1086;&#1084;&#1077;&#1085;&#1080;&#1082;&#1086;" TargetMode="External"/><Relationship Id="rId6" Type="http://schemas.openxmlformats.org/officeDocument/2006/relationships/hyperlink" Target="http://ru.wikipedia.org/wiki/&#1051;&#1077;&#1073;&#1083;&#1086;&#1085;,_&#1046;&#1072;&#1085;-&#1041;&#1072;&#1090;&#1080;&#1089;&#1090;" TargetMode="External"/><Relationship Id="rId7" Type="http://schemas.openxmlformats.org/officeDocument/2006/relationships/hyperlink" Target="http://ru.wikipedia.org/wiki/&#1051;&#1077;&#1073;&#1083;&#1086;&#1085;,_&#1046;&#1072;&#1085;-&#1041;&#1072;&#1090;&#1080;&#1089;&#1090;" TargetMode="External"/><Relationship Id="rId8" Type="http://schemas.openxmlformats.org/officeDocument/2006/relationships/hyperlink" Target="http://ru.wikipedia.org/wiki/&#1060;&#1086;&#1085;&#1090;&#1072;&#1085;&#1072;,_&#1044;&#1078;&#1086;&#1074;&#1072;&#1085;&#1085;&#1080;_&#1052;&#1072;&#1088;&#1080;&#1103;" TargetMode="External"/><Relationship Id="rId9" Type="http://schemas.openxmlformats.org/officeDocument/2006/relationships/hyperlink" Target="http://ru.wikipedia.org/wiki/&#1064;&#1083;&#1102;&#1090;&#1077;&#1088;,_&#1040;&#1085;&#1076;&#1088;&#1077;&#1072;&#1089;" TargetMode="External"/><Relationship Id="rId10" Type="http://schemas.openxmlformats.org/officeDocument/2006/relationships/hyperlink" Target="http://ru.wikipedia.org/wiki/&#1064;&#1083;&#1102;&#1090;&#1077;&#1088;,_&#1040;&#1085;&#1076;&#1088;&#1077;&#1072;&#1089;" TargetMode="External"/><Relationship Id="rId11" Type="http://schemas.openxmlformats.org/officeDocument/2006/relationships/hyperlink" Target="http://ru.wikipedia.org/wiki/&#1047;&#1077;&#1084;&#1094;&#1086;&#1074;,_&#1052;&#1080;&#1093;&#1072;&#1080;&#1083;_&#1043;&#1088;&#1080;&#1075;&#1086;&#1088;&#1100;&#1077;&#1074;&#1080;&#1095;" TargetMode="External"/><Relationship Id="rId12" Type="http://schemas.openxmlformats.org/officeDocument/2006/relationships/hyperlink" Target="http://ru.wikipedia.org/wiki/&#1047;&#1077;&#1084;&#1094;&#1086;&#1074;,_&#1052;&#1080;&#1093;&#1072;&#1080;&#1083;_&#1043;&#1088;&#1080;&#1075;&#1086;&#1088;&#1100;&#1077;&#1074;&#1080;&#1095;" TargetMode="External"/><Relationship Id="rId13" Type="http://schemas.openxmlformats.org/officeDocument/2006/relationships/hyperlink" Target="http://ru.wikipedia.org/wiki/&#1055;&#1077;&#1090;&#1088;&#1086;&#1087;&#1072;&#1074;&#1083;&#1086;&#1074;&#1089;&#1082;&#1080;&#1081;_&#1089;&#1086;&#1073;&#1086;&#1088;" TargetMode="External"/><Relationship Id="rId14" Type="http://schemas.openxmlformats.org/officeDocument/2006/relationships/hyperlink" Target="http://ru.wikipedia.org/wiki/&#1051;&#1077;&#1090;&#1085;&#1080;&#1081;_&#1076;&#1074;&#1086;&#1088;&#1077;&#1094;_&#1055;&#1077;&#1090;&#1088;&#1072;_I" TargetMode="External"/><Relationship Id="rId15" Type="http://schemas.openxmlformats.org/officeDocument/2006/relationships/hyperlink" Target="http://ru.wikipedia.org/wiki/&#1052;&#1077;&#1085;&#1096;&#1080;&#1082;&#1086;&#1074;&#1089;&#1082;&#1080;&#1081;_&#1076;&#1074;&#1086;&#1088;&#1077;&#1094;_(&#1057;&#1072;&#1085;&#1082;&#1090;-&#1055;&#1077;&#1090;&#1077;&#1088;&#1073;&#1091;&#1088;&#1075;)" TargetMode="External"/><Relationship Id="rId16" Type="http://schemas.openxmlformats.org/officeDocument/2006/relationships/hyperlink" Target="http://ru.wikipedia.org/wiki/&#1052;&#1077;&#1085;&#1096;&#1080;&#1082;&#1086;&#1074;&#1089;&#1082;&#1080;&#1081;_&#1076;&#1074;&#1086;&#1088;&#1077;&#1094;_(&#1057;&#1072;&#1085;&#1082;&#1090;-&#1055;&#1077;&#1090;&#1077;&#1088;&#1073;&#1091;&#1088;&#1075;)" TargetMode="External"/><Relationship Id="rId17" Type="http://schemas.openxmlformats.org/officeDocument/2006/relationships/hyperlink" Target="http://ru.wikipedia.org/wiki/&#1050;&#1080;&#1082;&#1080;&#1085;&#1099;_&#1087;&#1072;&#1083;&#1072;&#1090;&#1099;" TargetMode="External"/><Relationship Id="rId18" Type="http://schemas.openxmlformats.org/officeDocument/2006/relationships/hyperlink" Target="http://ru.wikipedia.org/wiki/&#1050;&#1080;&#1082;&#1080;&#1085;&#1099;_&#1087;&#1072;&#1083;&#1072;&#1090;&#1099;" TargetMode="External"/><Relationship Id="rId19" Type="http://schemas.openxmlformats.org/officeDocument/2006/relationships/hyperlink" Target="http://ru.wikipedia.org/wiki/&#1047;&#1076;&#1072;&#1085;&#1080;&#1077;_&#1044;&#1074;&#1077;&#1085;&#1072;&#1076;&#1094;&#1072;&#1090;&#1080;_&#1082;&#1086;&#1083;&#1083;&#1077;&#1075;&#1080;&#1081;" TargetMode="External"/><Relationship Id="rId20" Type="http://schemas.openxmlformats.org/officeDocument/2006/relationships/hyperlink" Target="http://ru.wikipedia.org/wiki/&#1040;&#1083;&#1077;&#1082;&#1089;&#1072;&#1085;&#1076;&#1088;&#1086;-&#1053;&#1077;&#1074;&#1089;&#1082;&#1072;&#1103;_&#1083;&#1072;&#1074;&#1088;&#1072;" TargetMode="External"/><Relationship Id="rId21" Type="http://schemas.openxmlformats.org/officeDocument/2006/relationships/hyperlink" Target="http://ru.wikipedia.org/wiki/&#1050;&#1088;&#1086;&#1085;&#1096;&#1090;&#1072;&#1076;&#1090;" TargetMode="External"/><Relationship Id="rId22" Type="http://schemas.openxmlformats.org/officeDocument/2006/relationships/hyperlink" Target="http://ru.wikipedia.org/wiki/&#1058;&#1088;&#1086;&#1080;&#1094;&#1077;-&#1055;&#1077;&#1090;&#1088;&#1086;&#1074;&#1089;&#1082;&#1080;&#1081;_&#1089;&#1086;&#1073;&#1086;&#1088;" TargetMode="External"/><Relationship Id="rId23" Type="http://schemas.openxmlformats.org/officeDocument/2006/relationships/hyperlink" Target="http://ru.wikipedia.org/wiki/&#1058;&#1088;&#1086;&#1080;&#1094;&#1077;-&#1055;&#1077;&#1090;&#1088;&#1086;&#1074;&#1089;&#1082;&#1080;&#1081;_&#1089;&#1086;&#1073;&#1086;&#1088;" TargetMode="External"/><Relationship Id="rId24" Type="http://schemas.openxmlformats.org/officeDocument/2006/relationships/hyperlink" Target="http://ru.wikipedia.org/wiki/&#1055;&#1086;&#1076;&#1079;&#1086;&#1088;&#1085;&#1099;&#1081;_&#1076;&#1074;&#1086;&#1088;&#1077;&#1094;" TargetMode="External"/><Relationship Id="rId25" Type="http://schemas.openxmlformats.org/officeDocument/2006/relationships/image" Target="../media/image2.jpeg"/><Relationship Id="rId2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6;&#1072;&#1089;&#1090;&#1088;&#1077;&#1083;&#1083;&#1080;,_&#1041;&#1072;&#1088;&#1090;&#1086;&#1083;&#1086;&#1084;&#1077;&#1086;_&#1060;&#1088;&#1072;&#1085;&#1095;&#1077;&#1089;&#1082;&#1086;" TargetMode="External"/><Relationship Id="rId3" Type="http://schemas.openxmlformats.org/officeDocument/2006/relationships/hyperlink" Target="http://ru.wikipedia.org/wiki/&#1056;&#1072;&#1089;&#1090;&#1088;&#1077;&#1083;&#1083;&#1080;,_&#1041;&#1072;&#1088;&#1090;&#1086;&#1083;&#1086;&#1084;&#1077;&#1086;_&#1060;&#1088;&#1072;&#1085;&#1095;&#1077;&#1089;&#1082;&#1086;" TargetMode="External"/><Relationship Id="rId4" Type="http://schemas.openxmlformats.org/officeDocument/2006/relationships/hyperlink" Target="http://ru.wikipedia.org/wiki/&#1040;&#1088;&#1075;&#1091;&#1085;&#1086;&#1074;,_&#1060;&#1105;&#1076;&#1086;&#1088;_&#1057;&#1077;&#1084;&#1105;&#1085;&#1086;&#1074;&#1080;&#1095;" TargetMode="External"/><Relationship Id="rId5" Type="http://schemas.openxmlformats.org/officeDocument/2006/relationships/hyperlink" Target="http://ru.wikipedia.org/wiki/&#1040;&#1088;&#1075;&#1091;&#1085;&#1086;&#1074;,_&#1060;&#1105;&#1076;&#1086;&#1088;_&#1057;&#1077;&#1084;&#1105;&#1085;&#1086;&#1074;&#1080;&#1095;" TargetMode="External"/><Relationship Id="rId6" Type="http://schemas.openxmlformats.org/officeDocument/2006/relationships/hyperlink" Target="http://ru.wikipedia.org/wiki/&#1063;&#1077;&#1074;&#1072;&#1082;&#1080;&#1085;&#1089;&#1082;&#1080;&#1081;,_&#1057;&#1072;&#1074;&#1074;&#1072;_&#1048;&#1074;&#1072;&#1085;&#1086;&#1074;&#1080;&#1095;" TargetMode="External"/><Relationship Id="rId7" Type="http://schemas.openxmlformats.org/officeDocument/2006/relationships/hyperlink" Target="http://ru.wikipedia.org/wiki/&#1050;&#1074;&#1072;&#1089;&#1086;&#1074;,_&#1040;&#1085;&#1076;&#1088;&#1077;&#1081;_&#1042;&#1072;&#1089;&#1080;&#1083;&#1100;&#1077;&#1074;&#1080;&#1095;" TargetMode="External"/><Relationship Id="rId8" Type="http://schemas.openxmlformats.org/officeDocument/2006/relationships/hyperlink" Target="http://ru.wikipedia.org/wiki/&#1058;&#1088;&#1077;&#1079;&#1080;&#1085;&#1080;,_&#1055;&#1100;&#1077;&#1090;&#1088;&#1086;_&#1040;&#1085;&#1090;&#1086;&#1085;&#1080;&#1086;" TargetMode="External"/><Relationship Id="rId9" Type="http://schemas.openxmlformats.org/officeDocument/2006/relationships/hyperlink" Target="http://ru.wikipedia.org/wiki/&#1058;&#1088;&#1077;&#1079;&#1080;&#1085;&#1080;,_&#1055;&#1100;&#1077;&#1090;&#1088;&#1086;_&#1040;&#1085;&#1090;&#1086;&#1085;&#1080;&#1086;" TargetMode="External"/><Relationship Id="rId10" Type="http://schemas.openxmlformats.org/officeDocument/2006/relationships/hyperlink" Target="http://ru.wikipedia.org/wiki/&#1058;&#1088;&#1077;&#1079;&#1080;&#1085;&#1080;,_&#1055;&#1100;&#1077;&#1090;&#1088;&#1086;_&#1040;&#1085;&#1090;&#1086;&#1085;&#1080;&#1086;" TargetMode="External"/><Relationship Id="rId11" Type="http://schemas.openxmlformats.org/officeDocument/2006/relationships/hyperlink" Target="http://ru.wikipedia.org/wiki/&#1042;&#1080;&#1089;&#1090;,_&#1040;&#1083;&#1077;&#1082;&#1089;&#1072;&#1085;&#1076;&#1088;_&#1060;&#1088;&#1072;&#1085;&#1094;&#1077;&#1074;&#1080;&#1095;" TargetMode="External"/><Relationship Id="rId12" Type="http://schemas.openxmlformats.org/officeDocument/2006/relationships/hyperlink" Target="http://ru.wikipedia.org/wiki/1740" TargetMode="External"/><Relationship Id="rId13" Type="http://schemas.openxmlformats.org/officeDocument/2006/relationships/hyperlink" Target="http://ru.wikipedia.org/wiki/1760_&#1075;&#1086;&#1076;" TargetMode="External"/><Relationship Id="rId14" Type="http://schemas.openxmlformats.org/officeDocument/2006/relationships/hyperlink" Target="http://ru.wikipedia.org/wiki/1760_&#1075;&#1086;&#1076;" TargetMode="External"/><Relationship Id="rId15" Type="http://schemas.openxmlformats.org/officeDocument/2006/relationships/hyperlink" Target="http://ru.wikipedia.org/wiki/&#1040;&#1085;&#1080;&#1095;&#1082;&#1086;&#1074;_&#1076;&#1074;&#1086;&#1088;&#1077;&#1094;" TargetMode="External"/><Relationship Id="rId16" Type="http://schemas.openxmlformats.org/officeDocument/2006/relationships/hyperlink" Target="http://ru.wikipedia.org/wiki/&#1040;&#1085;&#1080;&#1095;&#1082;&#1086;&#1074;_&#1076;&#1074;&#1086;&#1088;&#1077;&#1094;" TargetMode="External"/><Relationship Id="rId17" Type="http://schemas.openxmlformats.org/officeDocument/2006/relationships/hyperlink" Target="http://ru.wikipedia.org/wiki/&#1041;&#1086;&#1083;&#1100;&#1096;&#1086;&#1081;_&#1045;&#1082;&#1072;&#1090;&#1077;&#1088;&#1080;&#1085;&#1080;&#1085;&#1089;&#1082;&#1080;&#1081;_&#1076;&#1074;&#1086;&#1088;&#1077;&#1094;" TargetMode="External"/><Relationship Id="rId18" Type="http://schemas.openxmlformats.org/officeDocument/2006/relationships/hyperlink" Target="http://ru.wikipedia.org/wiki/&#1047;&#1080;&#1084;&#1085;&#1080;&#1081;_&#1076;&#1074;&#1086;&#1088;&#1077;&#1094;" TargetMode="External"/><Relationship Id="rId19" Type="http://schemas.openxmlformats.org/officeDocument/2006/relationships/hyperlink" Target="http://ru.wikipedia.org/wiki/&#1051;&#1077;&#1090;&#1085;&#1080;&#1081;_&#1076;&#1074;&#1086;&#1088;&#1077;&#1094;_&#1045;&#1083;&#1080;&#1079;&#1072;&#1074;&#1077;&#1090;&#1099;_&#1055;&#1077;&#1090;&#1088;&#1086;&#1074;&#1085;&#1099;" TargetMode="External"/><Relationship Id="rId20" Type="http://schemas.openxmlformats.org/officeDocument/2006/relationships/hyperlink" Target="http://ru.wikipedia.org/wiki/&#1045;&#1082;&#1072;&#1090;&#1077;&#1088;&#1080;&#1085;&#1075;&#1086;&#1092;&#1089;&#1082;&#1080;&#1081;_&#1076;&#1074;&#1086;&#1088;&#1077;&#1094;" TargetMode="External"/><Relationship Id="rId21" Type="http://schemas.openxmlformats.org/officeDocument/2006/relationships/hyperlink" Target="http://ru.wikipedia.org/wiki/&#1045;&#1082;&#1072;&#1090;&#1077;&#1088;&#1080;&#1085;&#1075;&#1086;&#1092;&#1089;&#1082;&#1080;&#1081;_&#1076;&#1074;&#1086;&#1088;&#1077;&#1094;" TargetMode="External"/><Relationship Id="rId22" Type="http://schemas.openxmlformats.org/officeDocument/2006/relationships/hyperlink" Target="http://ru.wikipedia.org/wiki/&#1057;&#1088;&#1077;&#1076;&#1085;&#1077;&#1088;&#1086;&#1075;&#1072;&#1090;&#1089;&#1082;&#1080;&#1081;_&#1076;&#1074;&#1086;&#1088;&#1077;&#1094;" TargetMode="External"/><Relationship Id="rId23" Type="http://schemas.openxmlformats.org/officeDocument/2006/relationships/hyperlink" Target="http://ru.wikipedia.org/wiki/&#1054;&#1089;&#1086;&#1073;&#1085;&#1103;&#1082;_&#1071;&#1082;&#1086;&#1074;&#1083;&#1077;&#1074;&#1072;" TargetMode="External"/><Relationship Id="rId24" Type="http://schemas.openxmlformats.org/officeDocument/2006/relationships/image" Target="../media/image3.jpeg"/><Relationship Id="rId2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6;&#1072;&#1079;&#1091;&#1084;&#1086;&#1074;&#1089;&#1082;&#1080;&#1081;,_&#1050;&#1080;&#1088;&#1080;&#1083;&#1083;_&#1043;&#1088;&#1080;&#1075;&#1086;&#1088;&#1100;&#1077;&#1074;&#1080;&#1095;" TargetMode="External"/><Relationship Id="rId3" Type="http://schemas.openxmlformats.org/officeDocument/2006/relationships/hyperlink" Target="http://ru.wikipedia.org/wiki/&#1056;&#1086;&#1089;&#1089;&#1080;&#1081;&#1089;&#1082;&#1080;&#1081;_&#1075;&#1086;&#1089;&#1091;&#1076;&#1072;&#1088;&#1089;&#1090;&#1074;&#1077;&#1085;&#1085;&#1099;&#1081;_&#1087;&#1077;&#1076;&#1072;&#1075;&#1086;&#1075;&#1080;&#1095;&#1077;&#1089;&#1082;&#1080;&#1081;_&#1091;&#1085;&#1080;&#1074;&#1077;&#1088;&#1089;&#1080;&#1090;&#1077;&#1090;_&#1080;&#1084;&#1077;&#1085;&#1080;_&#1040;._&#1048;._&#1043;&#1077;&#1088;&#1094;&#1077;&#1085;&#1072;" TargetMode="External"/><Relationship Id="rId4" Type="http://schemas.openxmlformats.org/officeDocument/2006/relationships/hyperlink" Target="http://ru.wikipedia.org/wiki/1762" TargetMode="External"/><Relationship Id="rId5" Type="http://schemas.openxmlformats.org/officeDocument/2006/relationships/hyperlink" Target="http://ru.wikipedia.org/wiki/1766_&#1075;&#1086;&#1076;" TargetMode="External"/><Relationship Id="rId6" Type="http://schemas.openxmlformats.org/officeDocument/2006/relationships/hyperlink" Target="http://ru.wikipedia.org/wiki/&#1050;&#1086;&#1082;&#1086;&#1088;&#1080;&#1085;&#1086;&#1074;,_&#1040;&#1083;&#1077;&#1082;&#1089;&#1072;&#1085;&#1076;&#1088;_&#1060;&#1080;&#1083;&#1080;&#1087;&#1087;&#1086;&#1074;&#1080;&#1095;" TargetMode="External"/><Relationship Id="rId7" Type="http://schemas.openxmlformats.org/officeDocument/2006/relationships/hyperlink" Target="http://ru.wikipedia.org/wiki/&#1050;&#1086;&#1082;&#1086;&#1088;&#1080;&#1085;&#1086;&#1074;,_&#1040;&#1083;&#1077;&#1082;&#1089;&#1072;&#1085;&#1076;&#1088;_&#1060;&#1080;&#1083;&#1080;&#1087;&#1087;&#1086;&#1074;&#1080;&#1095;" TargetMode="External"/><Relationship Id="rId8" Type="http://schemas.openxmlformats.org/officeDocument/2006/relationships/hyperlink" Target="http://ru.wikipedia.org/wiki/&#1042;&#1072;&#1083;&#1083;&#1077;&#1085;-&#1044;&#1077;&#1083;&#1072;&#1084;&#1086;&#1090;,_&#1046;&#1072;&#1085;_&#1041;&#1072;&#1090;&#1080;&#1089;&#1090;" TargetMode="External"/><Relationship Id="rId9" Type="http://schemas.openxmlformats.org/officeDocument/2006/relationships/hyperlink" Target="http://ru.wikipedia.org/wiki/&#1042;&#1072;&#1083;&#1083;&#1077;&#1085;-&#1044;&#1077;&#1083;&#1072;&#1084;&#1086;&#1090;,_&#1046;&#1072;&#1085;_&#1041;&#1072;&#1090;&#1080;&#1089;&#1090;" TargetMode="Externa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700" spc="-1" strike="noStrike">
                <a:solidFill>
                  <a:srgbClr val="ff0000"/>
                </a:solidFill>
                <a:latin typeface="Calibri"/>
              </a:rPr>
              <a:t>ПАМЯТНИКИ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ХИТЕКТУР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НЫЕ ЛЮ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НЫЕ ГЕРО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Ы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ЫЕ ПАМЯТ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Сурик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3 января 2003 года в Москве был торжественно открыт памятник Сурикову, одному из талантливейших художников России, хотя многие его работы получили признательность по всему ми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5" descr="pamyatnik-surikovu-v-moskve.jpg"/>
          <p:cNvPicPr/>
          <p:nvPr/>
        </p:nvPicPr>
        <p:blipFill>
          <a:blip r:embed="rId2"/>
          <a:stretch/>
        </p:blipFill>
        <p:spPr>
          <a:xfrm>
            <a:off x="4500720" y="2060640"/>
            <a:ext cx="4421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 Га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6 августа 2005 года в Казани был торжественно установлен памятник Кул Гали, известный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амятник Кул Гали в Казан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был создан скульпторами Андреем Балашовым и Асией Минуллиной совместно с архитектором Розалией Нургалеев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4" descr="pamyatnik-kul-gali-v-kazani01.jpg"/>
          <p:cNvPicPr/>
          <p:nvPr/>
        </p:nvPicPr>
        <p:blipFill>
          <a:blip r:embed="rId2"/>
          <a:stretch/>
        </p:blipFill>
        <p:spPr>
          <a:xfrm>
            <a:off x="4802040" y="1600200"/>
            <a:ext cx="373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на Ахмат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 ноября 2000 года в Москве был торжественно открыт памятник Ахматовой Анне Андреевне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Памятник Ахматовой в Моск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выполнен из бронзы и установлен на достаточно высоком постаменте из гранита по адресу улица Большая Ордынка д.17. Это собственно тот самый дом, в котором Анна Ахматова жила с 1934-1963 года. По ее же словам, это лучшее место, где она себя нормально чувствовала из-за тяжких испытаний в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pamyatnik-axmatovoj-v-moskve.jpg"/>
          <p:cNvPicPr/>
          <p:nvPr/>
        </p:nvPicPr>
        <p:blipFill>
          <a:blip r:embed="rId2"/>
          <a:stretch/>
        </p:blipFill>
        <p:spPr>
          <a:xfrm>
            <a:off x="4427640" y="1989000"/>
            <a:ext cx="451944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мятник Карлу Маркс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мая 1920 год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Ростове-на-До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был торжественно установлен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амятник Карлу Маркс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Он был установлен на том же самом месте, где до этого находился памятник Екатерине II, царице по чьему повелению и был создан целый город Нахичевань-на-Дону, впоследствии слившийся с Ростовом-на-До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pamyatnik-karlu-marksu-v-rostove-na-donu01.jpg"/>
          <p:cNvPicPr/>
          <p:nvPr/>
        </p:nvPicPr>
        <p:blipFill>
          <a:blip r:embed="rId2"/>
          <a:stretch/>
        </p:blipFill>
        <p:spPr>
          <a:xfrm>
            <a:off x="4867200" y="160020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Андерсе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80 году в Копенгагене был установлен первый памятник Андерсену, знаменитому сказочн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ульптор-Аугуст Соб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4" descr="pamyatnik-andersenu-v-kopengagene01.jpg"/>
          <p:cNvPicPr/>
          <p:nvPr/>
        </p:nvPicPr>
        <p:blipFill>
          <a:blip r:embed="rId2"/>
          <a:stretch/>
        </p:blipFill>
        <p:spPr>
          <a:xfrm>
            <a:off x="4932360" y="1413000"/>
            <a:ext cx="3651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арль де Гог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мая 2005 года в Москве был торжественно открыт памятник Шарлю де Голлю, как генералу, хотя в тот же период времени он являлся и президентом Франции .На торжественной церемонии открытия присутствовали президент России Владимир Путин и президент Франции Жак Ширак. Выполнил памятник скульптор Зураб Церетели совместно с архитектором А.В. Кузьмин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4" descr="pamyatnik-sharlyu-de-gollyu-v-moskve01.jpg"/>
          <p:cNvPicPr/>
          <p:nvPr/>
        </p:nvPicPr>
        <p:blipFill>
          <a:blip r:embed="rId2"/>
          <a:stretch/>
        </p:blipFill>
        <p:spPr>
          <a:xfrm>
            <a:off x="5148360" y="1341360"/>
            <a:ext cx="35319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Лазаре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2 сентября 1996 года в Новороссийске был торжественно открыт памятник Лазареву Михаилу Петровичу, основателю город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мятник Лазареву в Новороссийск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был создан скульптором А. Суворовым совместно с архитектором А. Измоденовым. Памятник был полностью отлит из бронзы, как и основание. И само собой он был установлен в пор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pamyatnik-lazarevu-v-novorossijske01.jpg"/>
          <p:cNvPicPr/>
          <p:nvPr/>
        </p:nvPicPr>
        <p:blipFill>
          <a:blip r:embed="rId2"/>
          <a:stretch/>
        </p:blipFill>
        <p:spPr>
          <a:xfrm>
            <a:off x="5219640" y="1444680"/>
            <a:ext cx="331308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1956 в Москве был установлен памятник Льву Толстому. Это был подарок от писателей Украины для писателей России, как символ 300-летнего воссоединения двух стран. Памятник Толстому в Москве был полностью изготовлен из бронзы. И представляет собой скульптуру Льва Толстого сидящего на лавоч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 замыслу скульптора Г.Н. Новокрещеновой и архитектора В.Н. Васнецова именно так выглядел Лев Николаевич Толстой, когда сочинял великое произведение «Война и ми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4" descr="pamyatnik-tolstomu-v-moskve.jpg"/>
          <p:cNvPicPr/>
          <p:nvPr/>
        </p:nvPicPr>
        <p:blipFill>
          <a:blip r:embed="rId2"/>
          <a:stretch/>
        </p:blipFill>
        <p:spPr>
          <a:xfrm>
            <a:off x="4648320" y="2247840"/>
            <a:ext cx="41716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решкова В.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967 году в Москве был торжественно открыт памятник Терешковой. Валентина Владимировна стала первой женщиной побываНад памятником Терешковой в Москве старались скульптор Г.Н. Постников и архитекторы А.Н. Колчин и М.О Барщ. вшей в космос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pamyatnik-tereshkovoj-v-moskve.jpg"/>
          <p:cNvPicPr/>
          <p:nvPr/>
        </p:nvPicPr>
        <p:blipFill>
          <a:blip r:embed="rId2"/>
          <a:stretch/>
        </p:blipFill>
        <p:spPr>
          <a:xfrm>
            <a:off x="4859280" y="1844640"/>
            <a:ext cx="40640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ервый чемпион из Ленинг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 сентября 2003 года в Санкт-Петербурге был торжественно установлен памятник олимпийскому чемпиону по борьбе 1956 года Николаю Николаевичу Соловьеву. Он является первым олимпийским чемпионом из Ленин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5" descr="pamyatnik-solovevu-v-sankt-peterburge01.jpg"/>
          <p:cNvPicPr/>
          <p:nvPr/>
        </p:nvPicPr>
        <p:blipFill>
          <a:blip r:embed="rId2"/>
          <a:stretch/>
        </p:blipFill>
        <p:spPr>
          <a:xfrm>
            <a:off x="5076720" y="1628640"/>
            <a:ext cx="323712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АРХИТЕКТУРНЫ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мятник Грибоедову А. 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7 июня 1959 года в Москве был торжественно установлен памятник Грибоедову Александру Сергеевичу, как драматургу, поэту и дипломату, действия которого навсегда вошли в истории литературы. Памятник Александру Сергеевичу Грибоедову был приурочен юбилею к его трагической гибели – 130 лет. Старались над памятником скульптор А.А. Мануйлов и архитектор А.А. Заварзин. Скульптурное сооружение вышло порядка 10 метрам в высо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5" descr="pamyatnik-griboedovu-v-moskve.jpg"/>
          <p:cNvPicPr/>
          <p:nvPr/>
        </p:nvPicPr>
        <p:blipFill>
          <a:blip r:embed="rId2"/>
          <a:stretch/>
        </p:blipFill>
        <p:spPr>
          <a:xfrm>
            <a:off x="4427640" y="2060640"/>
            <a:ext cx="4392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Высоцко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4 сентября 2000 года в Мелитополе был торжественно открыт памятник Высоцкому. Авторо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 Высоцкому в Мелитопол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ал скульптор Константин Чеканев .Скульптор из-за тяжелой болезни к сожалению не дожил до открытия памятника, но работы проделал на сове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5" descr="pamyatnik-vysockomu-v-melitopole01.jpg"/>
          <p:cNvPicPr/>
          <p:nvPr/>
        </p:nvPicPr>
        <p:blipFill>
          <a:blip r:embed="rId2"/>
          <a:stretch/>
        </p:blipFill>
        <p:spPr>
          <a:xfrm>
            <a:off x="5219640" y="1197000"/>
            <a:ext cx="33717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НИКУЛИ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 сентября 2000 года в Москве у цирка на Цветном бульваре был торжественно открыт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памятник Никулин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Юрию Владимировичу. Тяжело себе представить себе человека, который бы не знал «Кто такой Юрий Никулин». Это был любимый актер и клону всей стра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5" descr="nikylin01.jpg"/>
          <p:cNvPicPr/>
          <p:nvPr/>
        </p:nvPicPr>
        <p:blipFill>
          <a:blip r:embed="rId2"/>
          <a:stretch/>
        </p:blipFill>
        <p:spPr>
          <a:xfrm>
            <a:off x="4500720" y="2276640"/>
            <a:ext cx="43192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рам Хачатур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1 октября 2006 года в Москве был торжественно открыт памятник композитору Араму Хачатуряну. На торжественной церемонии присутствовали мэр Москвы Юрий Лужков, президент Армении Роберт Кочарян со своей супругой, а также супруга президента России Людмила Путин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амятник Хачатуряну в Москв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ыл изготовлен скульптором Георгием Франгулянцем по проекту архитектора Игоря Воскресенского. Памятник является подарком администрации Еревана Моск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5" descr="pamyatnik-xachaturyanu-v-moskve01.jpg"/>
          <p:cNvPicPr/>
          <p:nvPr/>
        </p:nvPicPr>
        <p:blipFill>
          <a:blip r:embed="rId2"/>
          <a:stretch/>
        </p:blipFill>
        <p:spPr>
          <a:xfrm>
            <a:off x="4859280" y="1197000"/>
            <a:ext cx="3938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мятник Марселю Э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89 году в Париже в квартале Монмартр был открыт памятник Марселю Эме. Но чаще его, конечно же, называют памятник человеку, проходящему сквозь стену, ведь именно в такой позе навсегда и застыл знаменитый писатель Скульптор Жан Маре в образе человека, проходящего сквозь стену запечатлел самого же писателя Марселя Э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5" descr="pamyatnik-pisatelyu-marselyu-eme-v-parizhe01.jpg"/>
          <p:cNvPicPr/>
          <p:nvPr/>
        </p:nvPicPr>
        <p:blipFill>
          <a:blip r:embed="rId2"/>
          <a:stretch/>
        </p:blipFill>
        <p:spPr>
          <a:xfrm>
            <a:off x="5230800" y="1557360"/>
            <a:ext cx="3013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Calibri"/>
              </a:rPr>
              <a:t>Литературные герои</a:t>
            </a:r>
            <a:endParaRPr b="0" lang="en-US" sz="9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Бурати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2007 года в Гомеле у Театра кукол можно увидеть памятник Буратино.Памятник  выполнен из бронзы скульптором Валерием Кондратенко. В своей основе памятник имел три стержня, которые его удерживали. Но возле Театра кукол представители субкультуры эмо часто залезали на сам памятник, и даже не по одному человеку. По словам директора музея, они его будто насиловали. Эти недолюди не ставили для себя целью выломать памятник из основания, просто вот так у них настроение сложилось. И хоть памятник Буратино был установлен в 2007 году, но уже в 2010 он заметно шатался. А так как к прекрасному памятнику подходят не только эмо, но и нормальные дети, то директор театра вынужден был отправить памятник на ремонт в Минск. И через две недели памятник Буратино был полностью обновлен и заново установле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5" descr="buratino-gomel01.jpg"/>
          <p:cNvPicPr/>
          <p:nvPr/>
        </p:nvPicPr>
        <p:blipFill>
          <a:blip r:embed="rId2"/>
          <a:stretch/>
        </p:blipFill>
        <p:spPr>
          <a:xfrm>
            <a:off x="4427640" y="1989000"/>
            <a:ext cx="4392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котен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 декабря 2003 года в Воронеже состоялось торжественное открытие памятника котенку – герою известного мультфильма Вячеслава Котеночкина «Котенок с улицы Лизюкова». С местом размещения вопросов не возникло. Это могла быть только улица Лизюкова, напротив кинотеатра «М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5" descr="kotenok-voronew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доктору Айболи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3 июля 2011 года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в Анап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был торжественно открыт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памятник доктору Айболит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На открытии присутствовал мэр Анапы и огромное количество народа, т.к. памятник доктору Айболиту не политический и не военной тематики, а понятный каждому с самого детства. Создал памятник доктору Айболиту скульптор Юрий Рысин по проекту архитектора Василия Поляко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5" descr="doktor-aybolit-anapa01.jpg"/>
          <p:cNvPicPr/>
          <p:nvPr/>
        </p:nvPicPr>
        <p:blipFill>
          <a:blip r:embed="rId2"/>
          <a:stretch/>
        </p:blipFill>
        <p:spPr>
          <a:xfrm>
            <a:off x="4427640" y="2133720"/>
            <a:ext cx="43923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«Ну, погоди!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2005 году в подмосковном городе Раменское были установлены дворовые скульптуры известных персонажей мультфильма «Ну, погоди!». Теперь дети всегда могут увидеть своих любимцев волка и зайцаСкульптор Олег Ершов сделал волка и зайца настолько реальными, что малыши часто подходят, чтобы лишний раз потрогать и удостоверится, что это все-таки памятники, а не реальные персонажи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5" descr="ny-pogodi02.jpg"/>
          <p:cNvPicPr/>
          <p:nvPr/>
        </p:nvPicPr>
        <p:blipFill>
          <a:blip r:embed="rId2"/>
          <a:stretch/>
        </p:blipFill>
        <p:spPr>
          <a:xfrm>
            <a:off x="7380360" y="2492280"/>
            <a:ext cx="1471680" cy="2786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ny-pogodi03.jpg"/>
          <p:cNvPicPr/>
          <p:nvPr/>
        </p:nvPicPr>
        <p:blipFill>
          <a:blip r:embed="rId3"/>
          <a:stretch/>
        </p:blipFill>
        <p:spPr>
          <a:xfrm>
            <a:off x="4568760" y="1940040"/>
            <a:ext cx="25146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етровское барокко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тровское барокко возникло в результате совмест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резок времени, в течение которого преобладало петровское барокко, можно примерно датироват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03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740 год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рхитекторы той поры — в большинстве иностранцы, приглашенные Петром I. Наиболее известн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Д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Трезин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Ж.-Б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Лебло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Дж. М. Фонтан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А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Шлюте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М. Г.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Земцо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ми архитектурными объектами, сохранившимися до наших дней, являютс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Петропавловский соб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Летний дворец Петра 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Меншиковский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 дворе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Кикины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 палаты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здание Двенадцати коллегий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Александро-Невская лавр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Итальянский дворец А. Д. Меншикова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Кронштадте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 сохранилис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Троице-Петровский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 соб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Церковь рождества Богородицы на Невском проспекте (1733—1737)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Подзорный дворе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Дворец Петра I в Кронштадт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6" descr="300px-Sankt_Petersburg_Kikiny_palaty барокко.jpg"/>
          <p:cNvPicPr/>
          <p:nvPr/>
        </p:nvPicPr>
        <p:blipFill>
          <a:blip r:embed="rId25"/>
          <a:stretch/>
        </p:blipFill>
        <p:spPr>
          <a:xfrm>
            <a:off x="4643280" y="1628640"/>
            <a:ext cx="45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нни-Пух и Пята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дмосковном городе Раменское с 2005 года прописались новые жители – бронзовые Винни-Пух и Пятачок. Знаменитые герои любимого мультика обитают неподалеку от Площади Победы, на улице Красноармейск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5" descr="vinni-ramenskoe01.jpg"/>
          <p:cNvPicPr/>
          <p:nvPr/>
        </p:nvPicPr>
        <p:blipFill>
          <a:blip r:embed="rId2"/>
          <a:stretch/>
        </p:blipFill>
        <p:spPr>
          <a:xfrm>
            <a:off x="5162400" y="160020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пияв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августа 2007 года в поселке Удельная (Московская область) был торжественно откры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амятник пияв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Это единственный в мире памятник пиявке, которая лечит людей уже на протяжении 30 ве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5" descr="pamyatnik-piyavke01.jpg"/>
          <p:cNvPicPr/>
          <p:nvPr/>
        </p:nvPicPr>
        <p:blipFill>
          <a:blip r:embed="rId2"/>
          <a:stretch/>
        </p:blipFill>
        <p:spPr>
          <a:xfrm>
            <a:off x="4572000" y="1916280"/>
            <a:ext cx="4356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«Зайчик, спасшийся от наводн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7 мая 2003 года в Санкт-Петербурге была установлена фигурка зайца на свае, что у Иоанновского моста. В последствии фигурку зайца стали называть «Зайчик, спасшийся от наводнения». Каких-либо исторических подтверждений этому нет, но существует 2 легенд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5" descr="pamyatnik-zajchik-spasshijsya-ot-navodneniya-v-sankt-peterburge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ермский медвед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дея возникновения памятника связана еще и с представлением иностранцев о том, что по улицам уральских городов обязательно должны ходить медведи. У пермского мишки интересная история. «Идущий медведь», созданный скульптором из Нижнего Тагила Владимиром Павленко из искусственного камня, появился 9 сентября 2006 года перед зданием Органного концертного зала. В 2007 году был затеян ремонт здания Законодательного собрания, и мишку пришлось временно удалить. 12 июня того же года, после завершения благоустройства площадки, пермский медведь благополучно вернулся на своё прежнее место жительства. 29 октября 2008 года скульптура была убрана, а 12 июня 2009 года появился новый медведь - бронзовый, но уже в другом месте - около гостиницы «Урал», напротив ЦУМа. С момента появления медведя в центре Перми у горожан появилось поверье, что если человек потрет бронзовому мишке нос, то его ждет удача, а гость города обязательно вернется в наши кра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5" descr="пермский медведь.jpg"/>
          <p:cNvPicPr/>
          <p:nvPr/>
        </p:nvPicPr>
        <p:blipFill>
          <a:blip r:embed="rId2"/>
          <a:stretch/>
        </p:blipFill>
        <p:spPr>
          <a:xfrm>
            <a:off x="4716360" y="1557360"/>
            <a:ext cx="41007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преданност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мятник псу, терпеливо ждущему своих хозяев, установленный в Тольятти. По постановлению думы городского округа Тольятти этот памятник относится к категории «памятников-символов» и подлежит о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двиг памятник потомственный скульптор из Ульяновска — Олег Клюев. Скульптором была мать Олега — Любовь Турская, заслуженная художница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9" descr="pamyatnik-predannosti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1716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бы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октября 2003 года в Воронежской области был торжественно открыт памятник быку. Но не простому быку, а производителю, тому самому, который поддерживает жизнь целой области. Памятник быку-производителю в поселке Новая Усмань был не просто слеплен из того, что было под рукой. Скульптура результат работы художника А.Е. Смирнова и архитектора О.В. Пухонина. Отлита из чугуна, высотой в холке 1,7 ме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5" descr="byk-voronew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лай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 апреля 2008 года в Москве на Петровско-Разумовской аллее на территории Института военной медицины, где готовился космический эксперимент, был установлен памятник Лайке.Скульптор — Павел Медвед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5" descr="laika-moskva03.jpg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Необычные памятник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85988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ама-река</a:t>
            </a:r>
            <a:br>
              <a:rPr sz="1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Содержимое 4" descr="кама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искусство продолжает шагать по Перми. 12 июня 2010 года в День города, в рамках фестиваля современного искусства «Живая Пермь» напротив гостиницы «Урал» состоялось открытие нового памятника - скульптурной компози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ама-ре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полненной из натуральных материалов - камня и металла, и символизирующей величие и мощь древней истории покорения Урала. Скульптурная композиция представляет собой ладью на каменных столбах-опорах. На ее бортах различимы иероглифы-письмена и древние орнаменты, металлические вставки в опорах – это образы Пермского звериного стиля. Использованный в композиции камень известняк – один из самых распространенных на Урале. Поставленные друг на друга каменные обломки напоминают не только о вековой уральской истории, но и ассоциативно вызывают вопрос, может быть, настало время «собирать камни»? Авторами скульптурной композиции «Кама-река» стали ижевские мастера декоративной пластики - Дмитрий Постников, Александр Суворов и Михаил Вас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Елизаветинское барокк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0792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авным мастером той эпохи был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артоломео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Растрелл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хотя наряду с ним творчески трудилис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Ф. С.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ргун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. И. Чевакинск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. В. Квас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Пьетро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Трезин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А. Ф. Вис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др. Однако именно творения Растрелли являются символом елизаветинск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ременны́е рамки той поры относительно невелики: примерно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174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1760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год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Аничков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 дворец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49—1757), Смольный собор (1748—1754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Екатерининский дворец в Царском Сел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перестроен в 1752—1758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Зимний дворец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54—1762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сохранилис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Летний дворец Елизаветы Петровн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41—1744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Екатерингофский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 дворец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перестроен 1747—1750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Путевой дворец на Средней Рогатк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51—1754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Особняк Яковле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62—1766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6" descr="500px-Winter_Palace_01 елизаветинское барокко.JPG"/>
          <p:cNvPicPr/>
          <p:nvPr/>
        </p:nvPicPr>
        <p:blipFill>
          <a:blip r:embed="rId24"/>
          <a:stretch/>
        </p:blipFill>
        <p:spPr>
          <a:xfrm>
            <a:off x="4643280" y="1628640"/>
            <a:ext cx="450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мятник Трусу,Балбесу и Бывало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5" descr="перьмь.трус.jpg"/>
          <p:cNvPicPr/>
          <p:nvPr/>
        </p:nvPicPr>
        <p:blipFill>
          <a:blip r:embed="rId2"/>
          <a:stretch/>
        </p:blipFill>
        <p:spPr>
          <a:xfrm>
            <a:off x="3575160" y="1490760"/>
            <a:ext cx="5244840" cy="39542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русу, Балбесу и Бывало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А совсем недавно, 10 сентября 2010 года на площади перед кинотеатром «Кристалл IMAX» открыли памятник неразлучной киношной троице Гайдая -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русу, Балбесу и Бывалом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Скульптурная композиция изображает любимых персонажей в полный рост возле входа в кинотеатр – таким образом, фигуры становятся частью толп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скусство в нашем городе продолжает стремительно развиваться и с каждым годом, месяцем и даже днём  становится всё неожиданней и радикальнее. Так что, трудно даже представить, какие достопримечательности будут включены в свадебные маршруты через несколько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ермяк - соленые у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апреле 2006 г. в центре города, недалеко от гостиницы Урал, поставили Памятник ушам: Пермяк - соленые уш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мятник является отражением поговорки “Пермяк соленые уши”, которая ведет свою историю с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витием соляного промысла в верховьях Ка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мятник соленым ушам это композиция из столбика и овальной рамки с ушами. Автор - Рустам Исмаги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мятник специально сделан такого размера, чтобы любой желающий мог примерить уши. Первым сфотографировался с ушами сам мэр Перми Игорь Шуб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Содержимое 5" descr="уши.jpg"/>
          <p:cNvPicPr/>
          <p:nvPr/>
        </p:nvPicPr>
        <p:blipFill>
          <a:blip r:embed="rId2"/>
          <a:stretch/>
        </p:blipFill>
        <p:spPr>
          <a:xfrm>
            <a:off x="5003640" y="1484280"/>
            <a:ext cx="338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ШЛЯ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412640"/>
            <a:ext cx="40384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6 сентября 2007 в Анапе был торжественно открыт необычны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мятник белой шляп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Идея установить памятник белой шляпе давно у людей витала в воздухе, т.к. почти каждый житель Анапы носит белую шляпу, но вот только догадались установить памятник новому символу Анапы. Идея установить памятник белой шляпе пришла архитектору Сергею Ромахину, а взялся реализовать задумку скульптор Василий Поляков. Вместо постамента для шляпы был найден огромный валун, никакой специальной обработке он не подвергался, только может быть просто помыли. А вот сама скульптура шляпы вышла на славу, в диаметре 1,5 метра, весом порядка 200 кг. А по центру валуна закреплены буквы, образующие фразу «та самая белая шляпа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5" descr="shlyapa-anapa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батар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есть 150-летнего юбилея батареи и заодно в честь начала отопительного сезона в городе Самаре в 2005 году появился забавный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мятник батаре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! Скульптура представляет собой радиатор и подоПамятник создал самарский скульптор Николай Куклев, выигравший конкурс на лучший проект памятника.конник с греющейся кош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4" descr="batareya-samara01.jpg"/>
          <p:cNvPicPr/>
          <p:nvPr/>
        </p:nvPicPr>
        <p:blipFill>
          <a:blip r:embed="rId2"/>
          <a:stretch/>
        </p:blipFill>
        <p:spPr>
          <a:xfrm>
            <a:off x="4211640" y="2060640"/>
            <a:ext cx="4645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заядлый парильщ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5 октября 2004 года в Минске был торжественно открыт памятник заядлый парильщик, но в народе его называют Веселый Вася.Памятник заядлый парильщик изготовил скульптор Владимир Жба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5" descr="pamyatnik-zayadlyj-parilshhik-v-minske01.jpg"/>
          <p:cNvPicPr/>
          <p:nvPr/>
        </p:nvPicPr>
        <p:blipFill>
          <a:blip r:embed="rId2"/>
          <a:stretch/>
        </p:blipFill>
        <p:spPr>
          <a:xfrm>
            <a:off x="4859280" y="1557360"/>
            <a:ext cx="34927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Стул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апреля 1999 года в Одессе был открыт необычный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амятник сту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Но не простому стулу, а именно последнему двенадцатому из романа «Двенадцать стульев» писателей Ильфа и Петр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Содержимое 5" descr="stul-odessa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1716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«Берлинская стена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Страна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Росс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Город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Моск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Ближайшее метро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Курск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Сдан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990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пис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Это настоящий кусок берлинской стены, украшенный бабочками. В стене пробито отверстие в которое устремляются бабочки. Памятник символизирует окончание холодной войны и объединения восточной и западной части Герма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5" descr="стена.jpg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амятник чемоданное настро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 апреля 2008 год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в Гомел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ыл открыт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амятник чемоданное настроени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Инициатором памятника выступила администрация железнодорожного вокзала Гомеля. В наше время путешественники сильно стали отличаться из-за различий в целях поездки. Одни едут, чтобы скатиться с заснеженной горы, другие направляются, чтобы погрузиться в бездны морей. Но раньше все эти наслаждения были недоступны и люди путешествовали лишь для того, чтобы посмотреть архитектуру других стран и горо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каз выполнил скульптор Вячеслав Долг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Содержимое 5" descr="chemodannoe-nastroenie-gomel02.jpg"/>
          <p:cNvPicPr/>
          <p:nvPr/>
        </p:nvPicPr>
        <p:blipFill>
          <a:blip r:embed="rId2"/>
          <a:stretch/>
        </p:blipFill>
        <p:spPr>
          <a:xfrm>
            <a:off x="4741920" y="1600200"/>
            <a:ext cx="3851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сыр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октября 2005 года в Москве был торжественно установлен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амятник сырк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За несколько лет памятник из акции завода стал народным достоянием. Памятник сырку часто называют символом советской России. Авторами проекта стали Алексей Семёнов и Марина Лес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4" descr="syrok02.jpg"/>
          <p:cNvPicPr/>
          <p:nvPr/>
        </p:nvPicPr>
        <p:blipFill>
          <a:blip r:embed="rId2"/>
          <a:stretch/>
        </p:blipFill>
        <p:spPr>
          <a:xfrm>
            <a:off x="5003640" y="1600200"/>
            <a:ext cx="332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первокласс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 сентября 2011 года в Ростове-на-Дону был торжественно открыт памятник первокласснику. А т.к. взрослые люди уже мало помнят о тех радостных днях, то создание эскиза доверили самим школьникам. Был объявлен конкурс среди 7-9 классов, в общей сложности было представлено 50 работ. Из них 10 стали финалистами и после отобран победитель. Им стала ученица Анна Королева из 9 «В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5" descr="pamyatnik-pervoklassniku-v-rostove-na-donu.jpg"/>
          <p:cNvPicPr/>
          <p:nvPr/>
        </p:nvPicPr>
        <p:blipFill>
          <a:blip r:embed="rId2"/>
          <a:stretch/>
        </p:blipFill>
        <p:spPr>
          <a:xfrm>
            <a:off x="4572000" y="2060640"/>
            <a:ext cx="4321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лассициз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первых зданий в стиле классицизма являлся дворец графа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. Г. Разумовск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ныне Административный корпус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РГП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построенный в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76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1766 года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А. Ф.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кориновы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Ж. Б.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ллен-Деламот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 архитектуре дворца использованы элементы ионического и коринфского ордеров, аркады, барельефы, хотя в отделке фасада ещё заметно влияние барокко. Торжественность дворца подчеркивал парадный двор с высокой оградой и монументальными воротами, выходящими на набереж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235px-Razumovskypalace ранний классицизм.jpg"/>
          <p:cNvPicPr/>
          <p:nvPr/>
        </p:nvPicPr>
        <p:blipFill>
          <a:blip r:embed="rId10"/>
          <a:stretch/>
        </p:blipFill>
        <p:spPr>
          <a:xfrm>
            <a:off x="4572000" y="1989000"/>
            <a:ext cx="424800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НИК ШОКОЛА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июля 2009 года в Покрове был торжественно открыт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амятник шокола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И конечно же, сразу прозвучало, что это единственный в мире памятник шоколаду. Говорили, что компания производитель шоколада провела исследование и что ни где во всем мире не был ни разу зарегистрирован памятник шоколаду, так что этот точно первый памятник шоколаду. Спорить с ними крайне тяжело, т.к. вроде бы и не встречался ниг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5" descr="shokolad-pokrov02.jpg"/>
          <p:cNvPicPr/>
          <p:nvPr/>
        </p:nvPicPr>
        <p:blipFill>
          <a:blip r:embed="rId2"/>
          <a:stretch/>
        </p:blipFill>
        <p:spPr>
          <a:xfrm>
            <a:off x="5151600" y="1600200"/>
            <a:ext cx="303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ПАМЯТНИКИ ПРОФЕССИЯМ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САНТЕХ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августа 1998 года в Омске на день города был установлен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 сантехни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амятник был установлен в центре города на Любинском проспекте. Как и памятник Любе, эта скульптура была изготовлена архитектором Игорем Вахитовым и Сергеем Норышевым (псевдоним Нороше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одержимое 5" descr="santehnik_omsk01.jpg"/>
          <p:cNvPicPr/>
          <p:nvPr/>
        </p:nvPicPr>
        <p:blipFill>
          <a:blip r:embed="rId2"/>
          <a:stretch/>
        </p:blipFill>
        <p:spPr>
          <a:xfrm>
            <a:off x="4648320" y="2498760"/>
            <a:ext cx="40384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ФОТОГРАФ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сентября 2003 года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ноярс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ыл торжественно откры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амятник фотограф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н был установлен на Проспекте Мира возле площади. Памятник выполнен из бронзы скульптором Андреем Кияницыном совместно с архитектором Михаилом Меркуловым. На самом деле заказ на памятник фотографу поступил от местного фотоателье, видимо было получено разрешение от администрации, и уже потом были заказаны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5" descr="fotograf-krasnoyarsk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ТАМОЖЕН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 декабря 2010 года в Ростове-на-Дону был торжественно открыт памятник таможеннику. Это стала еще одна визитная карточка города, т.к. совсем недавно был установлен памятник основателям города, а вот теперь таможеннику, что в принципе очень связано с основанием и развитием города. Памятник был создан скульптором Сергей Олешня с А.М. Дементьевым при помощи архитекторов Ю.Я. Дворникова и С.В. Лебед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Содержимое 5" descr="tamowennik-rostov02.jpg"/>
          <p:cNvPicPr/>
          <p:nvPr/>
        </p:nvPicPr>
        <p:blipFill>
          <a:blip r:embed="rId2"/>
          <a:stretch/>
        </p:blipFill>
        <p:spPr>
          <a:xfrm>
            <a:off x="5143680" y="1916280"/>
            <a:ext cx="3244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ЦИРЮЛЬ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сентября 2007 года в Ростове был торжественно открыт памятник цирюльнику (у входа в Ростовский УПК (это по адресу улица Красноармейская д.232)). Автор Д.В. Лындин, памятник был изготовлен из бронзы в мастерской литья В.П. Тарасенко. Памятник представляет собой мужчину с расчёской и стул со спинкой, на который должен присесть клиент. Цирюльник приглашающе протянул руку и всё это выглядит так галантно, что только и хочется улыбнуться. Красивый и приятный глазу памят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5" descr="parik01.jpg"/>
          <p:cNvPicPr/>
          <p:nvPr/>
        </p:nvPicPr>
        <p:blipFill>
          <a:blip r:embed="rId2"/>
          <a:stretch/>
        </p:blipFill>
        <p:spPr>
          <a:xfrm>
            <a:off x="4898880" y="1600200"/>
            <a:ext cx="353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Памятник Землеме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 ноября 2009 года перед зданием управления Росреестра по Республике Башкортостан состоялось торжественное открытие памятника землемеру. На него ушло 325 килограммов бронзы и около миллиона рублей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амятник землемер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ооружен уфимским скульптором Халитом Галиуллиным по инициативе землеустроителей, кадастровых инженеров и ФГУ «Земельная кадастровая палата» по Республике Башкортостан в целях сохранения исторической памяти о тяжелом труде землем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5" descr="zemlemer01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92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турис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7 сентября 2011 года в центре Иркутска был торжествен Памятник туристу в Иркутске был изготовлен скульптором Ильей Ставскимо открыт памятник тури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Содержимое 5" descr="pamyatnik-turistu-v-irkutske.jpg"/>
          <p:cNvPicPr/>
          <p:nvPr/>
        </p:nvPicPr>
        <p:blipFill>
          <a:blip r:embed="rId2"/>
          <a:stretch/>
        </p:blipFill>
        <p:spPr>
          <a:xfrm>
            <a:off x="4427640" y="2060640"/>
            <a:ext cx="4495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844280"/>
            <a:ext cx="77724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ПРЕЗЕНТАЦИЮ ПОДГОТОВИЛА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УЧЕНИЦА 8 КЛАССА «Г»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ПОПОВА  ЮЛ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Модерн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тиль «модерн» появился и быстро расцвёл в 1890-е — 1900-е годы. Отличительными чертами зданий являлись асимметрия фасадов и свободная планировка. В подражание природе, у которой нет прямых линий, установилась мода на криволинейные силуэты, живописные ограды и детали. Строились сложные в плане здания, имевшие украшенные скульптурами и узорами дверные и оконные проемы. Широко применялись сравнительно новые по тем временам материалы: сталь, широкоформатное стекло, бетон и железобетон, которые в известной степени и позволили создавать ажурные, воздушные конструкции. На фасадах использовались рустика, мозаика, майолика, витражи, металл. Интерьеры зданий также отличали элементы модерна в виде скульптур, орнаментов, забежных лестниц, пер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220px-Jelissejew-Haus модерн.jpg"/>
          <p:cNvPicPr/>
          <p:nvPr/>
        </p:nvPicPr>
        <p:blipFill>
          <a:blip r:embed="rId2"/>
          <a:stretch/>
        </p:blipFill>
        <p:spPr>
          <a:xfrm>
            <a:off x="5292720" y="1197000"/>
            <a:ext cx="36212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установлен памятник М.Ю. Лермонто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7 мая 2006 года в Кисловодске был торжественно установлен памятник М.Ю. Лермонтову. Сразу предупрежу, что в сети очень часто указываются другие года установки 2001 и 2004 года, но предполагаю, что все же 2006 год правильны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lermontov-kislovodsk01.jpg"/>
          <p:cNvPicPr/>
          <p:nvPr/>
        </p:nvPicPr>
        <p:blipFill>
          <a:blip r:embed="rId2"/>
          <a:stretch/>
        </p:blipFill>
        <p:spPr>
          <a:xfrm>
            <a:off x="4427640" y="1557360"/>
            <a:ext cx="47163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Марине Цветае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рисоглебском переулке 26 декабря 2007 года открыт бронзовый памятник Марине Цветаевой. Авторы проекта - скульптор Нина Матвеева и архитекторы Сергей Бурицкий и Александр Дубовский. Монумент установлен возле дома, где Цветаева жила в 1914-1922 годах и откуда она с семьей уехала в эмигр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5" descr="цветаева.jpg"/>
          <p:cNvPicPr/>
          <p:nvPr/>
        </p:nvPicPr>
        <p:blipFill>
          <a:blip r:embed="rId2"/>
          <a:stretch/>
        </p:blipFill>
        <p:spPr>
          <a:xfrm>
            <a:off x="4643280" y="2276640"/>
            <a:ext cx="403236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8:19:59Z</dcterms:created>
  <dc:creator>Юляшка</dc:creator>
  <dc:description/>
  <dc:language>en-US</dc:language>
  <cp:lastModifiedBy>Татьяна Ивановна</cp:lastModifiedBy>
  <dcterms:modified xsi:type="dcterms:W3CDTF">2012-06-07T06:45:51Z</dcterms:modified>
  <cp:revision>72</cp:revision>
  <dc:subject/>
  <dc:title>Слайд 1</dc:title>
</cp:coreProperties>
</file>