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0FBC-FACA-4EE1-8C07-6ED685EDE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2194-584A-4B77-8653-F3A434F1A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D88A-77A8-4BF3-981F-E287672B9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D396-7DB9-4FFB-8CD2-FCF155FD1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28B-B08C-4A2B-ABF9-7BA2EB49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406-E8AA-4C00-BBC4-1C10BBA0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D3F-F4D8-4B4F-BE77-441E9658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B30-1E57-4EA2-BF41-011038CB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4DC-DB69-4828-9DF1-2655F07D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83B-1EAE-4F66-BE60-1183E403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427-8D08-49FD-A2C9-CBFF0A59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B07-EE4F-41E0-A855-360351F1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E7A-D6AB-49B7-AB31-CB080886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8C1-079B-4FEE-9DB7-5EAB1B36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193-9C62-4AD4-86A2-0503EC29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83C-4B3C-4D25-8051-BD3C4C9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8521-71E8-47F0-A6AE-6535A400F03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ub.itdrom.com/files/gallery/gal_photo/photo_etc/800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.beta.rian.ru/images/11142/16/111421629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Песни о Великой Отечественной войне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0360"/>
            <a:ext cx="64008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читель русского языка и литературы: Сергеенко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БОУ СОШ №8 г.Том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.Сурков «Землян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4 008"/>
          <p:cNvPicPr/>
          <p:nvPr/>
        </p:nvPicPr>
        <p:blipFill>
          <a:blip r:embed="rId1"/>
          <a:stretch/>
        </p:blipFill>
        <p:spPr>
          <a:xfrm>
            <a:off x="1285920" y="1571760"/>
            <a:ext cx="66294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раги сожгли родную хату» 1945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00080"/>
            <a:ext cx="4829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Долматовский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 стихотворении М.Исаковского  поражал сюжет: не плачь о погибшем солдате, ставший уже традицией, а плачь солдата по погибшей жене. Песню долго не разрешали исполнять… И все же время для нее пришло. Это песня, славящая советского воина…»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6" descr="4 005"/>
          <p:cNvPicPr/>
          <p:nvPr/>
        </p:nvPicPr>
        <p:blipFill>
          <a:blip r:embed="rId1"/>
          <a:stretch/>
        </p:blipFill>
        <p:spPr>
          <a:xfrm>
            <a:off x="5572080" y="1071720"/>
            <a:ext cx="31622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8581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ухенвальдский набат» 1958год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7" descr="7.bmp"/>
          <p:cNvPicPr/>
          <p:nvPr/>
        </p:nvPicPr>
        <p:blipFill>
          <a:blip r:embed="rId1"/>
          <a:stretch/>
        </p:blipFill>
        <p:spPr>
          <a:xfrm>
            <a:off x="5000760" y="1071720"/>
            <a:ext cx="400032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3" descr="память.jpg"/>
          <p:cNvPicPr/>
          <p:nvPr/>
        </p:nvPicPr>
        <p:blipFill>
          <a:blip r:embed="rId2"/>
          <a:stretch/>
        </p:blipFill>
        <p:spPr>
          <a:xfrm>
            <a:off x="214200" y="2571840"/>
            <a:ext cx="4572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Картинка 57 из 18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253360" cy="61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лексей… Алешенька» 1967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дрей Дементье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Это было в Грузии. Пожилая грузинка увидела в кадрах военной хроники своего сына таким, каким она его провожала на фронт. Он пропал без вести. И уже много лет она все еще надеется увидеть сына. Я был потрясен этим и написал стихотворение «Баллада о матери». А через некоторое время композитор Е.Мартынов показал мне песню на эти слова. Так родилась песня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Журавли» 1964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н Френкель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тихи Р.Гамзатова взволновали меня, они стали бесконечно близки и дороги мне. Стихи и музыка слились воедино – они стали частью моей жизни. Наверное, это и есть счастье композито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Картинка 37 из 18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6280"/>
            <a:ext cx="774072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следний бой» 1945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хи и музыка М.Ножк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так давно, мы так давно не отдых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м было просто не до отдыха с то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пол-Европы по-пластунски пропахал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автра, завтра, наконец, последний 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немного, еще чуть-чу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едний бой, он трудный сам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я в Россию, домой хоч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так давно не видел мам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4 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сни о Великой Отечественной войн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9680" y="1285560"/>
            <a:ext cx="7929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есня вместе с Отчизной пошла в бой. Она встала в строй, на правый фланг – ближе к запевалам. По трудным горестным дорогам войны прошла с героями песня. Облетев многие зарубежные страны, она вместе с победителями возвратилась домой – к родным, близким, к созидательному труд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Фатья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оенные песни. Они не награждались орденами, о них не сообщалось в сводках Совинформбюро, но для победы нашей, для нашей выстраданной Победы они – песни – сделали очень многое. Может быть, это нельзя назвать подвигом, а вот честной солдатской службой назвать можн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.Рождествен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ень Победы». 1975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71720"/>
            <a:ext cx="6400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Харитонов: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такой песне я давно мечтал. И шел к ней все эти годы, что прошли от победных незабываемых залпов. «Это радость со слезами на глазах» – та самая строчка, та главная мысль, от которой и пошла вся песня»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8" descr="участнику афганской войны.bmp"/>
          <p:cNvPicPr/>
          <p:nvPr/>
        </p:nvPicPr>
        <p:blipFill>
          <a:blip r:embed="rId1"/>
          <a:stretch/>
        </p:blipFill>
        <p:spPr>
          <a:xfrm>
            <a:off x="6929280" y="442908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4" descr="ветераны афгана.bmp"/>
          <p:cNvPicPr/>
          <p:nvPr/>
        </p:nvPicPr>
        <p:blipFill>
          <a:blip r:embed="rId2"/>
          <a:stretch/>
        </p:blipFill>
        <p:spPr>
          <a:xfrm>
            <a:off x="6357960" y="928800"/>
            <a:ext cx="23572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001.radikal.ru/0805/f5/2cd794e745c1.jpg"/>
          <p:cNvPicPr/>
          <p:nvPr/>
        </p:nvPicPr>
        <p:blipFill>
          <a:blip r:embed="rId1"/>
          <a:stretch/>
        </p:blipFill>
        <p:spPr>
          <a:xfrm>
            <a:off x="468360" y="189000"/>
            <a:ext cx="8315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corp-gsp.clan.su/gen/1356p.jpg"/>
          <p:cNvPicPr/>
          <p:nvPr/>
        </p:nvPicPr>
        <p:blipFill>
          <a:blip r:embed="rId1"/>
          <a:stretch/>
        </p:blipFill>
        <p:spPr>
          <a:xfrm>
            <a:off x="539640" y="549360"/>
            <a:ext cx="795672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4 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shkolazhizni.ru/img/content/i42/42828_or.jpg"/>
          <p:cNvPicPr/>
          <p:nvPr/>
        </p:nvPicPr>
        <p:blipFill>
          <a:blip r:embed="rId1"/>
          <a:stretch/>
        </p:blipFill>
        <p:spPr>
          <a:xfrm>
            <a:off x="611280" y="476280"/>
            <a:ext cx="7812000" cy="58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img11.nnm.ru/imagez/gallery/4/1/9/5/c/4195c0a81345a30feeb4bfda8e8e524d_full.jpg"/>
          <p:cNvPicPr/>
          <p:nvPr/>
        </p:nvPicPr>
        <p:blipFill>
          <a:blip r:embed="rId1"/>
          <a:stretch/>
        </p:blipFill>
        <p:spPr>
          <a:xfrm>
            <a:off x="395280" y="404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mg-fotki.yandex.ru/get/3300/salenaya.0/0_20482_86f0300d_XL"/>
          <p:cNvPicPr/>
          <p:nvPr/>
        </p:nvPicPr>
        <p:blipFill>
          <a:blip r:embed="rId1"/>
          <a:stretch/>
        </p:blipFill>
        <p:spPr>
          <a:xfrm>
            <a:off x="395280" y="404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i051.radikal.ru/0905/82/bf3197b3fe34.jpg"/>
          <p:cNvPicPr/>
          <p:nvPr/>
        </p:nvPicPr>
        <p:blipFill>
          <a:blip r:embed="rId1"/>
          <a:stretch/>
        </p:blipFill>
        <p:spPr>
          <a:xfrm>
            <a:off x="324000" y="404640"/>
            <a:ext cx="7932600" cy="59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slutsk.minsk-region.by/apimages/234.jpg"/>
          <p:cNvPicPr/>
          <p:nvPr/>
        </p:nvPicPr>
        <p:blipFill>
          <a:blip r:embed="rId1"/>
          <a:stretch/>
        </p:blipFill>
        <p:spPr>
          <a:xfrm>
            <a:off x="250920" y="260280"/>
            <a:ext cx="8469360" cy="63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468360" y="35712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бессмертные песни! Потому что в них отразилась большая душа народа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710640" y="1413000"/>
            <a:ext cx="79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многих нынешних мальчишек и девчонок Вели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ечественная война - это далекое прошл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шлое, о котором они знают по рассказам сво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дов или узнают  о войне из фильмов, книг и пес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1331"/>
          <p:cNvPicPr/>
          <p:nvPr/>
        </p:nvPicPr>
        <p:blipFill>
          <a:blip r:embed="rId1"/>
          <a:stretch/>
        </p:blipFill>
        <p:spPr>
          <a:xfrm>
            <a:off x="1643040" y="3071880"/>
            <a:ext cx="2143080" cy="320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504389"/>
          <p:cNvPicPr/>
          <p:nvPr/>
        </p:nvPicPr>
        <p:blipFill>
          <a:blip r:embed="rId2"/>
          <a:stretch/>
        </p:blipFill>
        <p:spPr>
          <a:xfrm>
            <a:off x="5357880" y="3071880"/>
            <a:ext cx="223344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4"/>
          <p:cNvPicPr/>
          <p:nvPr/>
        </p:nvPicPr>
        <p:blipFill>
          <a:blip r:embed="rId1"/>
          <a:stretch/>
        </p:blipFill>
        <p:spPr>
          <a:xfrm>
            <a:off x="152280" y="214200"/>
            <a:ext cx="89154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41-194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6760" y="838080"/>
            <a:ext cx="817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янул год, пришёл чере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ынче мы в отв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Россию, за на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а всё на св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Твард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4 001"/>
          <p:cNvPicPr/>
          <p:nvPr/>
        </p:nvPicPr>
        <p:blipFill>
          <a:blip r:embed="rId1"/>
          <a:stretch/>
        </p:blipFill>
        <p:spPr>
          <a:xfrm>
            <a:off x="4429080" y="2071800"/>
            <a:ext cx="419112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эты военной по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.Тихо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Сур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.Иса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Твард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Прокофь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Щипач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.Симон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уг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4 003"/>
          <p:cNvPicPr/>
          <p:nvPr/>
        </p:nvPicPr>
        <p:blipFill>
          <a:blip r:embed="rId1"/>
          <a:stretch/>
        </p:blipFill>
        <p:spPr>
          <a:xfrm>
            <a:off x="3995640" y="1557360"/>
            <a:ext cx="48769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тюша» (1938г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4200" y="999720"/>
            <a:ext cx="5429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.Исаковск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Мы как бы уже предчувствовали войну, хотя и не знали, когда и откуда она может прийти. В 1938 году еще пылало пламя войны в Испании; в том же году Красная Армия вела тяжелые бои с японскими самураями у озера Хасан; не очень спокойно было на западных наших границах.  По этим причинам я не мог пройти мимо темы Родины, ее защиты даже в лирических песня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36f"/>
          <p:cNvPicPr/>
          <p:nvPr/>
        </p:nvPicPr>
        <p:blipFill>
          <a:blip r:embed="rId1"/>
          <a:stretch/>
        </p:blipFill>
        <p:spPr>
          <a:xfrm>
            <a:off x="5715000" y="928800"/>
            <a:ext cx="32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42840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луй, никогда за время существования советской поэзии не было написано столько лирических стихов, как за годы вой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Сур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0" descr="4 002"/>
          <p:cNvPicPr/>
          <p:nvPr/>
        </p:nvPicPr>
        <p:blipFill>
          <a:blip r:embed="rId1"/>
          <a:stretch/>
        </p:blipFill>
        <p:spPr>
          <a:xfrm>
            <a:off x="1714680" y="2428920"/>
            <a:ext cx="535752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вященная война» 1941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99720"/>
            <a:ext cx="56865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4 июня 1941г газеты «Известия» и «Красная звезда» опубликовали стихотворение Василия Лебедева-Кумача «Священная война». А потом состоялась премьера песни. Ветеран ансамбля песни и пляски Красной армии Ю.Емельянов вспоминал: «С первых же тактов мы почувствовали, что песня захватила бойцов. Все встали, как во время исполнения гимна. На лицах – волнение, слезы… Песня утихла, но бойцы потребовали повторения.» Так начался славный и долгий путь этой пес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145f"/>
          <p:cNvPicPr/>
          <p:nvPr/>
        </p:nvPicPr>
        <p:blipFill>
          <a:blip r:embed="rId1"/>
          <a:stretch/>
        </p:blipFill>
        <p:spPr>
          <a:xfrm>
            <a:off x="6143760" y="1000080"/>
            <a:ext cx="273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 землянке» 1941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840" y="857160"/>
            <a:ext cx="8400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нерал армии А.Белобородов вспоминал: «Алексей Сурков стал бойцом в самом начале войны. Он всегда рвался в самое пекло боя. Вместе со штабом полка вырвался из вражеского окружения и попал… на минное поле. Это было, действительно, «до смерти четыре шага». После этого, промерзший, усталый, в шинели, посеченной осколками, Сурков просидел над своим блокнотом в землянке, у солдатской печурки. Тогда и родилась знаменитая «Землянка»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2:24:52Z</dcterms:created>
  <dc:creator>Людмила</dc:creator>
  <dc:description/>
  <dc:language>en-US</dc:language>
  <cp:lastModifiedBy>Людмила</cp:lastModifiedBy>
  <dcterms:modified xsi:type="dcterms:W3CDTF">2012-06-15T03:06:38Z</dcterms:modified>
  <cp:revision>22</cp:revision>
  <dc:subject/>
  <dc:title>Песни о Великой Отечественной войне.</dc:title>
</cp:coreProperties>
</file>