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F6E8-493B-4CA5-8912-6E11AC9725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9656-8B7E-4FFA-BB59-3CE20DFC64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0FAC-626E-4792-A76D-C0DCDC841E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01B8-4DA8-4835-AB73-9C26998F1D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EDC-EBE6-450C-8091-92C0FDA5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EB1-5F72-43E6-B24F-76427C61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777-9D86-4611-BEFF-CA02EC02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45F-3261-40A8-845F-1CE11290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343-B204-42BE-98EB-3C66D560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FDE-3362-4FF0-9AE9-96711A26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C1A-F8CC-4551-8B3A-268B8F62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BBB-A508-48D8-BAEA-604D04A8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E846-9619-449F-9D2F-37140316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A627-1034-4DA6-AF21-8308907B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F9DB-CC47-4FFE-9C24-42F1F156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5F57-4490-4449-9BDD-AEE79AA5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1A82-6A60-478E-85D1-4D4CF8CDC44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ub.itdrom.com/files/gallery/gal_photo/photo_etc/8002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g.beta.rian.ru/images/11142/16/111421629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Calibri"/>
              </a:rPr>
              <a:t>Песни о Великой Отечественной войне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00360"/>
            <a:ext cx="640080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читель русского языка и литературы: Сергеенко Л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БОУ СОШ №8 г.Том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.Сурков «Землян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4 008"/>
          <p:cNvPicPr/>
          <p:nvPr/>
        </p:nvPicPr>
        <p:blipFill>
          <a:blip r:embed="rId1"/>
          <a:stretch/>
        </p:blipFill>
        <p:spPr>
          <a:xfrm>
            <a:off x="1285920" y="1571760"/>
            <a:ext cx="662940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раги сожгли родную хату» 1945г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000080"/>
            <a:ext cx="48290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.Долматовский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 стихотворении М.Исаковского  поражал сюжет: не плачь о погибшем солдате, ставший уже традицией, а плачь солдата по погибшей жене. Песню долго не разрешали исполнять… И все же время для нее пришло. Это песня, славящая советского воина…»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6" descr="4 005"/>
          <p:cNvPicPr/>
          <p:nvPr/>
        </p:nvPicPr>
        <p:blipFill>
          <a:blip r:embed="rId1"/>
          <a:stretch/>
        </p:blipFill>
        <p:spPr>
          <a:xfrm>
            <a:off x="5572080" y="1071720"/>
            <a:ext cx="31622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88581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Бухенвальдский набат» 1958год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7" descr="7.bmp"/>
          <p:cNvPicPr/>
          <p:nvPr/>
        </p:nvPicPr>
        <p:blipFill>
          <a:blip r:embed="rId1"/>
          <a:stretch/>
        </p:blipFill>
        <p:spPr>
          <a:xfrm>
            <a:off x="5000760" y="1071720"/>
            <a:ext cx="4000320" cy="385740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3" descr="память.jpg"/>
          <p:cNvPicPr/>
          <p:nvPr/>
        </p:nvPicPr>
        <p:blipFill>
          <a:blip r:embed="rId2"/>
          <a:stretch/>
        </p:blipFill>
        <p:spPr>
          <a:xfrm>
            <a:off x="214200" y="2571840"/>
            <a:ext cx="45720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Картинка 57 из 18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253360" cy="61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Алексей… Алешенька» 1967г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дрей Дементье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 Это было в Грузии. Пожилая грузинка увидела в кадрах военной хроники своего сына таким, каким она его провожала на фронт. Он пропал без вести. И уже много лет она все еще надеется увидеть сына. Я был потрясен этим и написал стихотворение «Баллада о матери». А через некоторое время композитор Е.Мартынов показал мне песню на эти слова. Так родилась песня…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Журавли» 1964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н Френкель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тихи Р.Гамзатова взволновали меня, они стали бесконечно близки и дороги мне. Стихи и музыка слились воедино – они стали частью моей жизни. Наверное, это и есть счастье композитор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Картинка 37 из 18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76280"/>
            <a:ext cx="7740720" cy="58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оследний бой» 1945го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ихи и музыка М.Ножк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так давно, мы так давно не отдых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м было просто не до отдыха с тоб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пол-Европы по-пластунски пропахал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завтра, завтра, наконец, последний б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ще немного, еще чуть-чу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едний бой, он трудный сам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я в Россию, домой хоч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так давно не видел маму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4 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сни о Великой Отечественной войн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9680" y="1285560"/>
            <a:ext cx="7929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есня вместе с Отчизной пошла в бой. Она встала в строй, на правый фланг – ближе к запевалам. По трудным горестным дорогам войны прошла с героями песня. Облетев многие зарубежные страны, она вместе с победителями возвратилась домой – к родным, близким, к созидательному труду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Фатья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оенные песни. Они не награждались орденами, о них не сообщалось в сводках Совинформбюро, но для победы нашей, для нашей выстраданной Победы они – песни – сделали очень многое. Может быть, это нельзя назвать подвигом, а вот честной солдатской службой назвать можно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.Рождественс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День Победы». 1975го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071720"/>
            <a:ext cx="6400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.Харитонов: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такой песне я давно мечтал. И шел к ней все эти годы, что прошли от победных незабываемых залпов. «Это радость со слезами на глазах» – та самая строчка, та главная мысль, от которой и пошла вся песня»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8" descr="участнику афганской войны.bmp"/>
          <p:cNvPicPr/>
          <p:nvPr/>
        </p:nvPicPr>
        <p:blipFill>
          <a:blip r:embed="rId1"/>
          <a:stretch/>
        </p:blipFill>
        <p:spPr>
          <a:xfrm>
            <a:off x="6929280" y="4429080"/>
            <a:ext cx="2000520" cy="200016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4" descr="ветераны афгана.bmp"/>
          <p:cNvPicPr/>
          <p:nvPr/>
        </p:nvPicPr>
        <p:blipFill>
          <a:blip r:embed="rId2"/>
          <a:stretch/>
        </p:blipFill>
        <p:spPr>
          <a:xfrm>
            <a:off x="6357960" y="928800"/>
            <a:ext cx="23572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i001.radikal.ru/0805/f5/2cd794e745c1.jpg"/>
          <p:cNvPicPr/>
          <p:nvPr/>
        </p:nvPicPr>
        <p:blipFill>
          <a:blip r:embed="rId1"/>
          <a:stretch/>
        </p:blipFill>
        <p:spPr>
          <a:xfrm>
            <a:off x="468360" y="189000"/>
            <a:ext cx="83152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corp-gsp.clan.su/gen/1356p.jpg"/>
          <p:cNvPicPr/>
          <p:nvPr/>
        </p:nvPicPr>
        <p:blipFill>
          <a:blip r:embed="rId1"/>
          <a:stretch/>
        </p:blipFill>
        <p:spPr>
          <a:xfrm>
            <a:off x="539640" y="549360"/>
            <a:ext cx="7956720" cy="59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4 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http://shkolazhizni.ru/img/content/i42/42828_or.jpg"/>
          <p:cNvPicPr/>
          <p:nvPr/>
        </p:nvPicPr>
        <p:blipFill>
          <a:blip r:embed="rId1"/>
          <a:stretch/>
        </p:blipFill>
        <p:spPr>
          <a:xfrm>
            <a:off x="611280" y="476280"/>
            <a:ext cx="7812000" cy="58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img11.nnm.ru/imagez/gallery/4/1/9/5/c/4195c0a81345a30feeb4bfda8e8e524d_full.jpg"/>
          <p:cNvPicPr/>
          <p:nvPr/>
        </p:nvPicPr>
        <p:blipFill>
          <a:blip r:embed="rId1"/>
          <a:stretch/>
        </p:blipFill>
        <p:spPr>
          <a:xfrm>
            <a:off x="395280" y="40464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img-fotki.yandex.ru/get/3300/salenaya.0/0_20482_86f0300d_XL"/>
          <p:cNvPicPr/>
          <p:nvPr/>
        </p:nvPicPr>
        <p:blipFill>
          <a:blip r:embed="rId1"/>
          <a:stretch/>
        </p:blipFill>
        <p:spPr>
          <a:xfrm>
            <a:off x="395280" y="404640"/>
            <a:ext cx="813744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://i051.radikal.ru/0905/82/bf3197b3fe34.jpg"/>
          <p:cNvPicPr/>
          <p:nvPr/>
        </p:nvPicPr>
        <p:blipFill>
          <a:blip r:embed="rId1"/>
          <a:stretch/>
        </p:blipFill>
        <p:spPr>
          <a:xfrm>
            <a:off x="324000" y="404640"/>
            <a:ext cx="7932600" cy="59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www.slutsk.minsk-region.by/apimages/234.jpg"/>
          <p:cNvPicPr/>
          <p:nvPr/>
        </p:nvPicPr>
        <p:blipFill>
          <a:blip r:embed="rId1"/>
          <a:stretch/>
        </p:blipFill>
        <p:spPr>
          <a:xfrm>
            <a:off x="250920" y="260280"/>
            <a:ext cx="8469360" cy="63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Заголовок 1"/>
          <p:cNvSpPr/>
          <p:nvPr/>
        </p:nvSpPr>
        <p:spPr>
          <a:xfrm>
            <a:off x="468360" y="357120"/>
            <a:ext cx="818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br>
              <a:rPr sz="9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бессмертные песни! Потому что в них отразилась большая душа народа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710640" y="1413000"/>
            <a:ext cx="791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многих нынешних мальчишек и девчонок Вели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ечественная война - это далекое прошл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шлое, о котором они знают по рассказам сво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дов или узнают  о войне из фильмов, книг и пес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1331"/>
          <p:cNvPicPr/>
          <p:nvPr/>
        </p:nvPicPr>
        <p:blipFill>
          <a:blip r:embed="rId1"/>
          <a:stretch/>
        </p:blipFill>
        <p:spPr>
          <a:xfrm>
            <a:off x="1643040" y="3071880"/>
            <a:ext cx="2143080" cy="3209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4" descr="504389"/>
          <p:cNvPicPr/>
          <p:nvPr/>
        </p:nvPicPr>
        <p:blipFill>
          <a:blip r:embed="rId2"/>
          <a:stretch/>
        </p:blipFill>
        <p:spPr>
          <a:xfrm>
            <a:off x="5357880" y="3071880"/>
            <a:ext cx="223344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4"/>
          <p:cNvPicPr/>
          <p:nvPr/>
        </p:nvPicPr>
        <p:blipFill>
          <a:blip r:embed="rId1"/>
          <a:stretch/>
        </p:blipFill>
        <p:spPr>
          <a:xfrm>
            <a:off x="152280" y="214200"/>
            <a:ext cx="89154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41-1945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6760" y="838080"/>
            <a:ext cx="817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янул год, пришёл чере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ынче мы в отв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Россию, за нар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за всё на све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Твардов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4 001"/>
          <p:cNvPicPr/>
          <p:nvPr/>
        </p:nvPicPr>
        <p:blipFill>
          <a:blip r:embed="rId1"/>
          <a:stretch/>
        </p:blipFill>
        <p:spPr>
          <a:xfrm>
            <a:off x="4429080" y="2071800"/>
            <a:ext cx="419112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эты военной по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.Тихон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Сур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.Исако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Твардо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Прокофь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.Щипач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.Симон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друг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2" descr="4 003"/>
          <p:cNvPicPr/>
          <p:nvPr/>
        </p:nvPicPr>
        <p:blipFill>
          <a:blip r:embed="rId1"/>
          <a:stretch/>
        </p:blipFill>
        <p:spPr>
          <a:xfrm>
            <a:off x="3995640" y="1557360"/>
            <a:ext cx="487692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атюша» (1938г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4200" y="999720"/>
            <a:ext cx="54295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.Исаковски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 Мы как бы уже предчувствовали войну, хотя и не знали, когда и откуда она может прийти. В 1938 году еще пылало пламя войны в Испании; в том же году Красная Армия вела тяжелые бои с японскими самураями у озера Хасан; не очень спокойно было на западных наших границах.  По этим причинам я не мог пройти мимо темы Родины, ее защиты даже в лирических песнях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36f"/>
          <p:cNvPicPr/>
          <p:nvPr/>
        </p:nvPicPr>
        <p:blipFill>
          <a:blip r:embed="rId1"/>
          <a:stretch/>
        </p:blipFill>
        <p:spPr>
          <a:xfrm>
            <a:off x="5715000" y="928800"/>
            <a:ext cx="320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42840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жалуй, никогда за время существования советской поэзии не было написано столько лирических стихов, как за годы вой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.Сурк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0" descr="4 002"/>
          <p:cNvPicPr/>
          <p:nvPr/>
        </p:nvPicPr>
        <p:blipFill>
          <a:blip r:embed="rId1"/>
          <a:stretch/>
        </p:blipFill>
        <p:spPr>
          <a:xfrm>
            <a:off x="1714680" y="2428920"/>
            <a:ext cx="535752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вященная война» 1941г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999720"/>
            <a:ext cx="56865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4 июня 1941г газеты «Известия» и «Красная звезда» опубликовали стихотворение Василия Лебедева-Кумача «Священная война». А потом состоялась премьера песни. Ветеран ансамбля песни и пляски Красной армии Ю.Емельянов вспоминал: «С первых же тактов мы почувствовали, что песня захватила бойцов. Все встали, как во время исполнения гимна. На лицах – волнение, слезы… Песня утихла, но бойцы потребовали повторения.» Так начался славный и долгий путь этой пес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145f"/>
          <p:cNvPicPr/>
          <p:nvPr/>
        </p:nvPicPr>
        <p:blipFill>
          <a:blip r:embed="rId1"/>
          <a:stretch/>
        </p:blipFill>
        <p:spPr>
          <a:xfrm>
            <a:off x="6143760" y="1000080"/>
            <a:ext cx="2735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В землянке» 1941г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5840" y="857160"/>
            <a:ext cx="8400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енерал армии А.Белобородов вспоминал: «Алексей Сурков стал бойцом в самом начале войны. Он всегда рвался в самое пекло боя. Вместе со штабом полка вырвался из вражеского окружения и попал… на минное поле. Это было, действительно, «до смерти четыре шага». После этого, промерзший, усталый, в шинели, посеченной осколками, Сурков просидел над своим блокнотом в землянке, у солдатской печурки. Тогда и родилась знаменитая «Землянка»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2:24:52Z</dcterms:created>
  <dc:creator>Людмила</dc:creator>
  <dc:description/>
  <dc:language>en-US</dc:language>
  <cp:lastModifiedBy>Людмила</cp:lastModifiedBy>
  <dcterms:modified xsi:type="dcterms:W3CDTF">2012-06-15T03:06:38Z</dcterms:modified>
  <cp:revision>22</cp:revision>
  <dc:subject/>
  <dc:title>Песни о Великой Отечественной войне.</dc:title>
</cp:coreProperties>
</file>