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207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2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153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5.wmf" ContentType="image/x-wmf"/>
  <Override PartName="/ppt/media/image157.wmf" ContentType="image/x-wmf"/>
  <Override PartName="/ppt/media/image4.wmf" ContentType="image/x-wmf"/>
  <Override PartName="/ppt/media/image156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1A0-3C3F-456C-8983-49A9339B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141-8EF5-4E5C-9A6F-3BDD8D4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C1A-7C96-4D11-8855-54AF764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7A3-3FDD-43A5-A05A-D231D7F8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89C-DE60-4320-A50F-C8C584A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8D3-9A04-48BC-B57A-CE25C07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561-2908-48DF-9688-F773E66A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0FF-BE52-49CB-B460-537FFF9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840-E4E7-4581-9F3A-6FBCB2EA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FB2-B50B-4F8D-AD51-2DE906DE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603-858C-43AB-A8AF-4B5D729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9D6-638E-4B81-9EB3-104B7BE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F53-E01C-47F3-8841-2B66B753B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5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4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6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0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6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4.wmf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3.wm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0.wmf"/><Relationship Id="rId3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2.wmf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8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3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8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1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5.wmf"/><Relationship Id="rId1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4.wmf"/><Relationship Id="rId2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5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1008000" y="1571760"/>
          <a:ext cx="2174760" cy="56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71760"/>
                    <a:ext cx="217476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1000080" y="2286000"/>
          <a:ext cx="21747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86000"/>
                    <a:ext cx="2174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"/>
          <p:cNvGraphicFramePr/>
          <p:nvPr/>
        </p:nvGraphicFramePr>
        <p:xfrm>
          <a:off x="3071880" y="1571760"/>
          <a:ext cx="558720" cy="56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571760"/>
                    <a:ext cx="5587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5"/>
          <p:cNvGraphicFramePr/>
          <p:nvPr/>
        </p:nvGraphicFramePr>
        <p:xfrm>
          <a:off x="3143160" y="2428920"/>
          <a:ext cx="66996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428920"/>
                    <a:ext cx="6699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1154160" y="3195720"/>
          <a:ext cx="2008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4160" y="3195720"/>
                    <a:ext cx="200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7"/>
          <p:cNvGraphicFramePr/>
          <p:nvPr/>
        </p:nvGraphicFramePr>
        <p:xfrm>
          <a:off x="3143160" y="3286080"/>
          <a:ext cx="5018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86080"/>
                    <a:ext cx="501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8"/>
          <p:cNvGraphicFramePr/>
          <p:nvPr/>
        </p:nvGraphicFramePr>
        <p:xfrm>
          <a:off x="5072040" y="1857240"/>
          <a:ext cx="3846600" cy="135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2040" y="1857240"/>
                    <a:ext cx="384660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1"/>
          <p:cNvGraphicFramePr/>
          <p:nvPr/>
        </p:nvGraphicFramePr>
        <p:xfrm>
          <a:off x="4876920" y="3429000"/>
          <a:ext cx="211932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3429000"/>
                    <a:ext cx="21193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2"/>
          <p:cNvGraphicFramePr/>
          <p:nvPr/>
        </p:nvGraphicFramePr>
        <p:xfrm>
          <a:off x="6786720" y="3500280"/>
          <a:ext cx="779400" cy="524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3500280"/>
                    <a:ext cx="7794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3"/>
          <p:cNvGraphicFramePr/>
          <p:nvPr/>
        </p:nvGraphicFramePr>
        <p:xfrm>
          <a:off x="5143680" y="4500720"/>
          <a:ext cx="2174760" cy="885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3680" y="4500720"/>
                    <a:ext cx="217476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4"/>
          <p:cNvGraphicFramePr/>
          <p:nvPr/>
        </p:nvGraphicFramePr>
        <p:xfrm>
          <a:off x="7286760" y="4572000"/>
          <a:ext cx="89208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7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86760" y="4572000"/>
                    <a:ext cx="892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4"/>
          <p:cNvGraphicFramePr/>
          <p:nvPr/>
        </p:nvGraphicFramePr>
        <p:xfrm>
          <a:off x="4757760" y="5500800"/>
          <a:ext cx="2644920" cy="1000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57760" y="5500800"/>
                    <a:ext cx="2644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7175520" y="5572080"/>
          <a:ext cx="11145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75520" y="5572080"/>
                    <a:ext cx="1114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8"/>
          <p:cNvGraphicFramePr/>
          <p:nvPr/>
        </p:nvGraphicFramePr>
        <p:xfrm>
          <a:off x="6143760" y="1428840"/>
          <a:ext cx="214308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3760" y="1428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4143240" y="2357280"/>
          <a:ext cx="126216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3240" y="2357280"/>
                    <a:ext cx="1262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5429160" y="2357280"/>
          <a:ext cx="67320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9160" y="2357280"/>
                    <a:ext cx="67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8"/>
          <p:cNvGraphicFramePr/>
          <p:nvPr/>
        </p:nvGraphicFramePr>
        <p:xfrm>
          <a:off x="395280" y="3286080"/>
          <a:ext cx="221148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3286080"/>
                    <a:ext cx="2211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9"/>
          <p:cNvGraphicFramePr/>
          <p:nvPr/>
        </p:nvGraphicFramePr>
        <p:xfrm>
          <a:off x="2643120" y="3286080"/>
          <a:ext cx="225576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43120" y="3286080"/>
                    <a:ext cx="22557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6143760" y="1428840"/>
          <a:ext cx="214308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3760" y="1428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4143240" y="2357280"/>
          <a:ext cx="126216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3240" y="2357280"/>
                    <a:ext cx="1262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7"/>
          <p:cNvGraphicFramePr/>
          <p:nvPr/>
        </p:nvGraphicFramePr>
        <p:xfrm>
          <a:off x="5429160" y="2357280"/>
          <a:ext cx="67320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9160" y="2357280"/>
                    <a:ext cx="67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8"/>
          <p:cNvGraphicFramePr/>
          <p:nvPr/>
        </p:nvGraphicFramePr>
        <p:xfrm>
          <a:off x="395280" y="3286080"/>
          <a:ext cx="221148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3286080"/>
                    <a:ext cx="2211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9"/>
          <p:cNvGraphicFramePr/>
          <p:nvPr/>
        </p:nvGraphicFramePr>
        <p:xfrm>
          <a:off x="2643120" y="3286080"/>
          <a:ext cx="225576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43120" y="3286080"/>
                    <a:ext cx="22557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"/>
          <p:cNvGraphicFramePr/>
          <p:nvPr/>
        </p:nvGraphicFramePr>
        <p:xfrm>
          <a:off x="4951440" y="3254400"/>
          <a:ext cx="221148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51440" y="3254400"/>
                    <a:ext cx="2211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7215120" y="3357720"/>
          <a:ext cx="925560" cy="523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15120" y="3357720"/>
                    <a:ext cx="925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9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0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6"/>
          <p:cNvGraphicFramePr/>
          <p:nvPr/>
        </p:nvGraphicFramePr>
        <p:xfrm>
          <a:off x="6564240" y="1500120"/>
          <a:ext cx="245448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4240" y="1500120"/>
                    <a:ext cx="24544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4"/>
          <p:cNvGraphicFramePr/>
          <p:nvPr/>
        </p:nvGraphicFramePr>
        <p:xfrm>
          <a:off x="5214960" y="5072040"/>
          <a:ext cx="87624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4960" y="507204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3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5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7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9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6"/>
          <p:cNvGraphicFramePr/>
          <p:nvPr/>
        </p:nvGraphicFramePr>
        <p:xfrm>
          <a:off x="6564240" y="1500120"/>
          <a:ext cx="245448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4240" y="1500120"/>
                    <a:ext cx="24544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4"/>
          <p:cNvGraphicFramePr/>
          <p:nvPr/>
        </p:nvGraphicFramePr>
        <p:xfrm>
          <a:off x="5214960" y="5072040"/>
          <a:ext cx="87624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5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4960" y="507204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5"/>
          <p:cNvGraphicFramePr/>
          <p:nvPr/>
        </p:nvGraphicFramePr>
        <p:xfrm>
          <a:off x="6643800" y="2143080"/>
          <a:ext cx="2143080" cy="92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7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43800" y="2143080"/>
                    <a:ext cx="214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6"/>
          <p:cNvGraphicFramePr/>
          <p:nvPr/>
        </p:nvGraphicFramePr>
        <p:xfrm>
          <a:off x="3541680" y="5923080"/>
          <a:ext cx="1387440" cy="477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9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41680" y="5923080"/>
                    <a:ext cx="1387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7"/>
          <p:cNvGraphicFramePr/>
          <p:nvPr/>
        </p:nvGraphicFramePr>
        <p:xfrm>
          <a:off x="4929120" y="5929200"/>
          <a:ext cx="876240" cy="479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29120" y="592920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8"/>
          <p:cNvGraphicFramePr/>
          <p:nvPr/>
        </p:nvGraphicFramePr>
        <p:xfrm>
          <a:off x="6004080" y="5929200"/>
          <a:ext cx="58392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3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04080" y="5929200"/>
                    <a:ext cx="583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9"/>
          <p:cNvGraphicFramePr/>
          <p:nvPr/>
        </p:nvGraphicFramePr>
        <p:xfrm>
          <a:off x="428760" y="3214800"/>
          <a:ext cx="2531880" cy="80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3214800"/>
                    <a:ext cx="25318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20"/>
          <p:cNvGraphicFramePr/>
          <p:nvPr/>
        </p:nvGraphicFramePr>
        <p:xfrm>
          <a:off x="3071880" y="3286080"/>
          <a:ext cx="2706480" cy="64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286080"/>
                    <a:ext cx="2706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21"/>
          <p:cNvGraphicFramePr/>
          <p:nvPr/>
        </p:nvGraphicFramePr>
        <p:xfrm>
          <a:off x="571680" y="4000680"/>
          <a:ext cx="2371680" cy="80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4000680"/>
                    <a:ext cx="2371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22"/>
          <p:cNvGraphicFramePr/>
          <p:nvPr/>
        </p:nvGraphicFramePr>
        <p:xfrm>
          <a:off x="3214800" y="4071960"/>
          <a:ext cx="2531880" cy="64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0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4071960"/>
                    <a:ext cx="2531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3"/>
          <p:cNvGraphicFramePr/>
          <p:nvPr/>
        </p:nvGraphicFramePr>
        <p:xfrm>
          <a:off x="731880" y="4746600"/>
          <a:ext cx="2050920" cy="887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2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880" y="4746600"/>
                    <a:ext cx="2050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24"/>
          <p:cNvGraphicFramePr/>
          <p:nvPr/>
        </p:nvGraphicFramePr>
        <p:xfrm>
          <a:off x="3129120" y="4714920"/>
          <a:ext cx="1649160" cy="887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4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9120" y="4714920"/>
                    <a:ext cx="16491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25"/>
          <p:cNvGraphicFramePr/>
          <p:nvPr/>
        </p:nvGraphicFramePr>
        <p:xfrm>
          <a:off x="973080" y="5452920"/>
          <a:ext cx="1568520" cy="133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6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3080" y="5452920"/>
                    <a:ext cx="156852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6"/>
          <p:cNvGraphicFramePr/>
          <p:nvPr/>
        </p:nvGraphicFramePr>
        <p:xfrm>
          <a:off x="2967120" y="5524560"/>
          <a:ext cx="1206360" cy="133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8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67120" y="5524560"/>
                    <a:ext cx="1206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TextBox 14"/>
          <p:cNvSpPr/>
          <p:nvPr/>
        </p:nvSpPr>
        <p:spPr>
          <a:xfrm>
            <a:off x="4857840" y="5786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0" name="Object 27"/>
          <p:cNvGraphicFramePr/>
          <p:nvPr/>
        </p:nvGraphicFramePr>
        <p:xfrm>
          <a:off x="6143760" y="5786280"/>
          <a:ext cx="1850760" cy="646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1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43760" y="5786280"/>
                    <a:ext cx="1850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маленьк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еньк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ен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57120" y="4500720"/>
          <a:ext cx="93816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500720"/>
                    <a:ext cx="9381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2214720" y="4572000"/>
          <a:ext cx="513540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4572000"/>
                    <a:ext cx="5135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4"/>
          <p:cNvGraphicFramePr/>
          <p:nvPr/>
        </p:nvGraphicFramePr>
        <p:xfrm>
          <a:off x="428760" y="5786280"/>
          <a:ext cx="71424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786280"/>
                    <a:ext cx="7142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5"/>
          <p:cNvGraphicFramePr/>
          <p:nvPr/>
        </p:nvGraphicFramePr>
        <p:xfrm>
          <a:off x="1928880" y="5572080"/>
          <a:ext cx="6885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5572080"/>
                    <a:ext cx="6885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у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4643280" y="1785960"/>
          <a:ext cx="43084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85960"/>
                    <a:ext cx="4308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4714920" y="1071720"/>
          <a:ext cx="38577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071720"/>
                    <a:ext cx="3857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1"/>
          <p:cNvGraphicFramePr/>
          <p:nvPr/>
        </p:nvGraphicFramePr>
        <p:xfrm>
          <a:off x="4572000" y="2571840"/>
          <a:ext cx="435780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571840"/>
                    <a:ext cx="4357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3"/>
          <p:cNvGraphicFramePr/>
          <p:nvPr/>
        </p:nvGraphicFramePr>
        <p:xfrm>
          <a:off x="5000760" y="3357720"/>
          <a:ext cx="3659040" cy="92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3357720"/>
                    <a:ext cx="36590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5"/>
          <p:cNvGraphicFramePr/>
          <p:nvPr/>
        </p:nvGraphicFramePr>
        <p:xfrm>
          <a:off x="857160" y="4786200"/>
          <a:ext cx="242892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4786200"/>
                    <a:ext cx="242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14"/>
          <p:cNvSpPr/>
          <p:nvPr/>
        </p:nvSpPr>
        <p:spPr>
          <a:xfrm>
            <a:off x="3357720" y="500076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ct 27"/>
          <p:cNvGraphicFramePr/>
          <p:nvPr/>
        </p:nvGraphicFramePr>
        <p:xfrm>
          <a:off x="4572000" y="5072040"/>
          <a:ext cx="185112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5072040"/>
                    <a:ext cx="18511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6"/>
          <p:cNvGraphicFramePr/>
          <p:nvPr/>
        </p:nvGraphicFramePr>
        <p:xfrm>
          <a:off x="1000080" y="1714680"/>
          <a:ext cx="2071800" cy="52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0080" y="1714680"/>
                    <a:ext cx="207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6"/>
          <p:cNvGraphicFramePr/>
          <p:nvPr/>
        </p:nvGraphicFramePr>
        <p:xfrm>
          <a:off x="928800" y="2571840"/>
          <a:ext cx="2143080" cy="92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28800" y="2571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7"/>
          <p:cNvGraphicFramePr/>
          <p:nvPr/>
        </p:nvGraphicFramePr>
        <p:xfrm>
          <a:off x="928800" y="785880"/>
          <a:ext cx="200016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28800" y="785880"/>
                    <a:ext cx="20001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8"/>
          <p:cNvGraphicFramePr/>
          <p:nvPr/>
        </p:nvGraphicFramePr>
        <p:xfrm>
          <a:off x="928800" y="1285920"/>
          <a:ext cx="2071440" cy="460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8800" y="1285920"/>
                    <a:ext cx="2071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9"/>
          <p:cNvGraphicFramePr/>
          <p:nvPr/>
        </p:nvGraphicFramePr>
        <p:xfrm>
          <a:off x="428760" y="785880"/>
          <a:ext cx="298440" cy="463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760" y="785880"/>
                    <a:ext cx="298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0"/>
          <p:cNvGraphicFramePr/>
          <p:nvPr/>
        </p:nvGraphicFramePr>
        <p:xfrm>
          <a:off x="365040" y="1214280"/>
          <a:ext cx="425520" cy="463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5040" y="1214280"/>
                    <a:ext cx="4255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1"/>
          <p:cNvGraphicFramePr/>
          <p:nvPr/>
        </p:nvGraphicFramePr>
        <p:xfrm>
          <a:off x="385920" y="1697040"/>
          <a:ext cx="384120" cy="500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9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5920" y="1697040"/>
                    <a:ext cx="38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22"/>
          <p:cNvGraphicFramePr/>
          <p:nvPr/>
        </p:nvGraphicFramePr>
        <p:xfrm>
          <a:off x="428760" y="2643120"/>
          <a:ext cx="425160" cy="463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760" y="2643120"/>
                    <a:ext cx="425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23"/>
          <p:cNvGraphicFramePr/>
          <p:nvPr/>
        </p:nvGraphicFramePr>
        <p:xfrm>
          <a:off x="4102200" y="1054080"/>
          <a:ext cx="382320" cy="498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3" name="Object 2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02200" y="1054080"/>
                    <a:ext cx="3823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24"/>
          <p:cNvGraphicFramePr/>
          <p:nvPr/>
        </p:nvGraphicFramePr>
        <p:xfrm>
          <a:off x="4079880" y="1768320"/>
          <a:ext cx="425520" cy="49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5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79880" y="1768320"/>
                    <a:ext cx="425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25"/>
          <p:cNvGraphicFramePr/>
          <p:nvPr/>
        </p:nvGraphicFramePr>
        <p:xfrm>
          <a:off x="4079880" y="2625840"/>
          <a:ext cx="425520" cy="500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7" name="Object 2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079880" y="2625840"/>
                    <a:ext cx="4255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26"/>
          <p:cNvGraphicFramePr/>
          <p:nvPr/>
        </p:nvGraphicFramePr>
        <p:xfrm>
          <a:off x="4173480" y="3554280"/>
          <a:ext cx="3826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29" name="Object 2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73480" y="3554280"/>
                    <a:ext cx="3826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27"/>
          <p:cNvGraphicFramePr/>
          <p:nvPr/>
        </p:nvGraphicFramePr>
        <p:xfrm>
          <a:off x="243000" y="5126040"/>
          <a:ext cx="384120" cy="500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31" name="Object 2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43000" y="5126040"/>
                    <a:ext cx="38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6"/>
          <p:cNvGraphicFramePr/>
          <p:nvPr/>
        </p:nvGraphicFramePr>
        <p:xfrm>
          <a:off x="4000680" y="3714840"/>
          <a:ext cx="246672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0680" y="3714840"/>
                    <a:ext cx="2466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"/>
          <p:cNvGraphicFramePr/>
          <p:nvPr/>
        </p:nvGraphicFramePr>
        <p:xfrm>
          <a:off x="4000680" y="3714840"/>
          <a:ext cx="246672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0680" y="3714840"/>
                    <a:ext cx="2466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1214280" y="4500720"/>
          <a:ext cx="2256120" cy="78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4280" y="4500720"/>
                    <a:ext cx="22561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3643200" y="4643280"/>
          <a:ext cx="2000520" cy="50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3200" y="4643280"/>
                    <a:ext cx="200052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9"/>
          <p:cNvGraphicFramePr/>
          <p:nvPr/>
        </p:nvGraphicFramePr>
        <p:xfrm>
          <a:off x="1604880" y="5500800"/>
          <a:ext cx="16178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4880" y="5500800"/>
                    <a:ext cx="16178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3214800" y="5500800"/>
          <a:ext cx="80784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14800" y="5500800"/>
                    <a:ext cx="8078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4000680" y="5572080"/>
          <a:ext cx="680760" cy="500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00680" y="5572080"/>
                    <a:ext cx="680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7" name="Object 7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8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9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10"/>
          <p:cNvGraphicFramePr/>
          <p:nvPr/>
        </p:nvGraphicFramePr>
        <p:xfrm>
          <a:off x="357120" y="3714840"/>
          <a:ext cx="40816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14840"/>
                    <a:ext cx="40816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маленьк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еньк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ен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1214280" y="5286240"/>
          <a:ext cx="9684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86240"/>
                    <a:ext cx="968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3857760" y="5286240"/>
          <a:ext cx="1000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5286240"/>
                    <a:ext cx="1000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4"/>
          <p:cNvGraphicFramePr/>
          <p:nvPr/>
        </p:nvGraphicFramePr>
        <p:xfrm>
          <a:off x="6286680" y="5143680"/>
          <a:ext cx="6426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5143680"/>
                    <a:ext cx="642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0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9"/>
          <p:cNvGraphicFramePr/>
          <p:nvPr/>
        </p:nvGraphicFramePr>
        <p:xfrm>
          <a:off x="428760" y="5429160"/>
          <a:ext cx="3214440" cy="107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760" y="5429160"/>
                    <a:ext cx="32144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0"/>
          <p:cNvGraphicFramePr/>
          <p:nvPr/>
        </p:nvGraphicFramePr>
        <p:xfrm>
          <a:off x="3643200" y="5572080"/>
          <a:ext cx="1492200" cy="92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43200" y="5572080"/>
                    <a:ext cx="1492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1"/>
          <p:cNvGraphicFramePr/>
          <p:nvPr/>
        </p:nvGraphicFramePr>
        <p:xfrm>
          <a:off x="5272200" y="5572080"/>
          <a:ext cx="1377720" cy="92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72200" y="5572080"/>
                    <a:ext cx="1377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7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8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9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0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больш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434880" y="4846680"/>
          <a:ext cx="7812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4846680"/>
                    <a:ext cx="78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857240" y="4786200"/>
          <a:ext cx="772812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4786200"/>
                    <a:ext cx="77281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"/>
          <p:cNvGraphicFramePr/>
          <p:nvPr/>
        </p:nvGraphicFramePr>
        <p:xfrm>
          <a:off x="428760" y="5857920"/>
          <a:ext cx="6174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857920"/>
                    <a:ext cx="617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2220840" y="5830920"/>
          <a:ext cx="6300720" cy="55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0840" y="5830920"/>
                    <a:ext cx="63007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Object 2"/>
          <p:cNvGraphicFramePr/>
          <p:nvPr/>
        </p:nvGraphicFramePr>
        <p:xfrm>
          <a:off x="1649520" y="214200"/>
          <a:ext cx="4211640" cy="12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14200"/>
                    <a:ext cx="42116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Object 2"/>
          <p:cNvGraphicFramePr/>
          <p:nvPr/>
        </p:nvGraphicFramePr>
        <p:xfrm>
          <a:off x="1649520" y="214200"/>
          <a:ext cx="4211640" cy="12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14200"/>
                    <a:ext cx="42116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8"/>
          <p:cNvGraphicFramePr/>
          <p:nvPr/>
        </p:nvGraphicFramePr>
        <p:xfrm>
          <a:off x="892080" y="5286240"/>
          <a:ext cx="2127240" cy="110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92080" y="5286240"/>
                    <a:ext cx="212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9"/>
          <p:cNvGraphicFramePr/>
          <p:nvPr/>
        </p:nvGraphicFramePr>
        <p:xfrm>
          <a:off x="2928960" y="5518080"/>
          <a:ext cx="212724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28960" y="5518080"/>
                    <a:ext cx="2127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7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9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1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4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8"/>
          <p:cNvGraphicFramePr/>
          <p:nvPr/>
        </p:nvGraphicFramePr>
        <p:xfrm>
          <a:off x="357120" y="1428840"/>
          <a:ext cx="4083120" cy="12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1428840"/>
                    <a:ext cx="408312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14280" y="5227560"/>
          <a:ext cx="96840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27560"/>
                    <a:ext cx="968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3857760" y="5362560"/>
          <a:ext cx="100008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5362560"/>
                    <a:ext cx="10000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6286680" y="5189400"/>
          <a:ext cx="5000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5189400"/>
                    <a:ext cx="500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больш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9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8"/>
          <p:cNvGraphicFramePr/>
          <p:nvPr/>
        </p:nvGraphicFramePr>
        <p:xfrm>
          <a:off x="428760" y="1428840"/>
          <a:ext cx="4254480" cy="13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760" y="1428840"/>
                    <a:ext cx="4254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9"/>
          <p:cNvGraphicFramePr/>
          <p:nvPr/>
        </p:nvGraphicFramePr>
        <p:xfrm>
          <a:off x="4643280" y="1571760"/>
          <a:ext cx="2595600" cy="110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1571760"/>
                    <a:ext cx="2595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Box 10"/>
          <p:cNvSpPr/>
          <p:nvPr/>
        </p:nvSpPr>
        <p:spPr>
          <a:xfrm>
            <a:off x="571680" y="48578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4" name="Object 10"/>
          <p:cNvGraphicFramePr/>
          <p:nvPr/>
        </p:nvGraphicFramePr>
        <p:xfrm>
          <a:off x="550800" y="5500800"/>
          <a:ext cx="2427480" cy="85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800" y="5500800"/>
                    <a:ext cx="2427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11"/>
          <p:cNvGraphicFramePr/>
          <p:nvPr/>
        </p:nvGraphicFramePr>
        <p:xfrm>
          <a:off x="2979720" y="5357880"/>
          <a:ext cx="2468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9720" y="5357880"/>
                    <a:ext cx="2468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12"/>
          <p:cNvGraphicFramePr/>
          <p:nvPr/>
        </p:nvGraphicFramePr>
        <p:xfrm>
          <a:off x="5337000" y="5572080"/>
          <a:ext cx="187344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7000" y="5572080"/>
                    <a:ext cx="1873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3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8"/>
          <p:cNvGraphicFramePr/>
          <p:nvPr/>
        </p:nvGraphicFramePr>
        <p:xfrm>
          <a:off x="428760" y="1428840"/>
          <a:ext cx="4254480" cy="13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760" y="1428840"/>
                    <a:ext cx="4254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9"/>
          <p:cNvGraphicFramePr/>
          <p:nvPr/>
        </p:nvGraphicFramePr>
        <p:xfrm>
          <a:off x="4643280" y="1571760"/>
          <a:ext cx="2595600" cy="110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1571760"/>
                    <a:ext cx="2595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Box 10"/>
          <p:cNvSpPr/>
          <p:nvPr/>
        </p:nvSpPr>
        <p:spPr>
          <a:xfrm>
            <a:off x="571680" y="48578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8" name="Object 10"/>
          <p:cNvGraphicFramePr/>
          <p:nvPr/>
        </p:nvGraphicFramePr>
        <p:xfrm>
          <a:off x="550800" y="5500800"/>
          <a:ext cx="2427480" cy="85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800" y="5500800"/>
                    <a:ext cx="2427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11"/>
          <p:cNvGraphicFramePr/>
          <p:nvPr/>
        </p:nvGraphicFramePr>
        <p:xfrm>
          <a:off x="2979720" y="5357880"/>
          <a:ext cx="2468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0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9720" y="5357880"/>
                    <a:ext cx="2468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12"/>
          <p:cNvGraphicFramePr/>
          <p:nvPr/>
        </p:nvGraphicFramePr>
        <p:xfrm>
          <a:off x="5337000" y="5572080"/>
          <a:ext cx="187344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0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7000" y="5572080"/>
                    <a:ext cx="1873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13"/>
          <p:cNvGraphicFramePr/>
          <p:nvPr/>
        </p:nvGraphicFramePr>
        <p:xfrm>
          <a:off x="7148520" y="1643040"/>
          <a:ext cx="2030400" cy="92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0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48520" y="1643040"/>
                    <a:ext cx="2030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14"/>
          <p:cNvGraphicFramePr/>
          <p:nvPr/>
        </p:nvGraphicFramePr>
        <p:xfrm>
          <a:off x="4786200" y="2714760"/>
          <a:ext cx="2127240" cy="110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0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86200" y="2714760"/>
                    <a:ext cx="212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15"/>
          <p:cNvGraphicFramePr/>
          <p:nvPr/>
        </p:nvGraphicFramePr>
        <p:xfrm>
          <a:off x="7016760" y="2928960"/>
          <a:ext cx="2127240" cy="787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0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16760" y="2928960"/>
                    <a:ext cx="2127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бесконечно мал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500040" y="1428840"/>
          <a:ext cx="28684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28684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3357720" y="1500120"/>
          <a:ext cx="7174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500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500040" y="2500200"/>
          <a:ext cx="2868480" cy="8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2500200"/>
                    <a:ext cx="286848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"/>
          <p:cNvGraphicFramePr/>
          <p:nvPr/>
        </p:nvGraphicFramePr>
        <p:xfrm>
          <a:off x="3357720" y="2643120"/>
          <a:ext cx="71748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2643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785880" y="3773520"/>
          <a:ext cx="229536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3773520"/>
                    <a:ext cx="22953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7"/>
          <p:cNvGraphicFramePr/>
          <p:nvPr/>
        </p:nvGraphicFramePr>
        <p:xfrm>
          <a:off x="3286080" y="3714840"/>
          <a:ext cx="717480" cy="67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86080" y="371484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785880" y="4929120"/>
          <a:ext cx="243828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4929120"/>
                    <a:ext cx="24382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9"/>
          <p:cNvGraphicFramePr/>
          <p:nvPr/>
        </p:nvGraphicFramePr>
        <p:xfrm>
          <a:off x="3214800" y="4929120"/>
          <a:ext cx="7174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4929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5143680" y="1428840"/>
          <a:ext cx="1649160" cy="16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1428840"/>
                    <a:ext cx="164916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1"/>
          <p:cNvGraphicFramePr/>
          <p:nvPr/>
        </p:nvGraphicFramePr>
        <p:xfrm>
          <a:off x="6643800" y="1857240"/>
          <a:ext cx="860400" cy="67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43800" y="1857240"/>
                    <a:ext cx="86040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2"/>
          <p:cNvGraphicFramePr/>
          <p:nvPr/>
        </p:nvGraphicFramePr>
        <p:xfrm>
          <a:off x="5214960" y="3521160"/>
          <a:ext cx="1649520" cy="170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4960" y="3521160"/>
                    <a:ext cx="164952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6892920" y="3903840"/>
          <a:ext cx="646200" cy="72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92920" y="3903840"/>
                    <a:ext cx="646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бесконечно больш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00040" y="1506600"/>
          <a:ext cx="28684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6600"/>
                    <a:ext cx="2868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"/>
          <p:cNvGraphicFramePr/>
          <p:nvPr/>
        </p:nvGraphicFramePr>
        <p:xfrm>
          <a:off x="3286080" y="1474920"/>
          <a:ext cx="860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1474920"/>
                    <a:ext cx="860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500040" y="2577960"/>
          <a:ext cx="2868480" cy="67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2577960"/>
                    <a:ext cx="286848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3286080" y="2617920"/>
          <a:ext cx="86040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2617920"/>
                    <a:ext cx="860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785880" y="3695760"/>
          <a:ext cx="2295360" cy="72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3695760"/>
                    <a:ext cx="2295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3214800" y="3689280"/>
          <a:ext cx="86040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4800" y="3689280"/>
                    <a:ext cx="860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785880" y="4851360"/>
          <a:ext cx="2438280" cy="72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4851360"/>
                    <a:ext cx="2438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3143160" y="4903920"/>
          <a:ext cx="860400" cy="72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43160" y="4903920"/>
                    <a:ext cx="860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5143680" y="1428840"/>
          <a:ext cx="1649160" cy="16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1428840"/>
                    <a:ext cx="164916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6643800" y="1908000"/>
          <a:ext cx="860400" cy="571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43800" y="1908000"/>
                    <a:ext cx="860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5214960" y="3573360"/>
          <a:ext cx="1649520" cy="1605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4960" y="3573360"/>
                    <a:ext cx="164952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3"/>
          <p:cNvGraphicFramePr/>
          <p:nvPr/>
        </p:nvGraphicFramePr>
        <p:xfrm>
          <a:off x="6892920" y="3903840"/>
          <a:ext cx="646200" cy="72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92920" y="3903840"/>
                    <a:ext cx="646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ойства бесконечно больших и бесконечно мал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285840" y="1754280"/>
          <a:ext cx="273348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754280"/>
                    <a:ext cx="27334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945040" y="1827360"/>
          <a:ext cx="28465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5040" y="1827360"/>
                    <a:ext cx="2846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3286080" y="3000240"/>
          <a:ext cx="1897200" cy="258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000240"/>
                    <a:ext cx="18972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714240" y="5214960"/>
          <a:ext cx="173052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5214960"/>
                    <a:ext cx="173052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6929280" y="5183280"/>
          <a:ext cx="1730520" cy="125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29280" y="5183280"/>
                    <a:ext cx="17305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1008000" y="1571760"/>
          <a:ext cx="2174760" cy="56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71760"/>
                    <a:ext cx="217476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1000080" y="2286000"/>
          <a:ext cx="21747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86000"/>
                    <a:ext cx="2174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3071880" y="1571760"/>
          <a:ext cx="558720" cy="56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571760"/>
                    <a:ext cx="5587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3143160" y="2428920"/>
          <a:ext cx="66996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428920"/>
                    <a:ext cx="6699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1154160" y="3195720"/>
          <a:ext cx="2008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4160" y="3195720"/>
                    <a:ext cx="200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3143160" y="3286080"/>
          <a:ext cx="5018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86080"/>
                    <a:ext cx="501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658800" y="4054320"/>
          <a:ext cx="211932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" y="4054320"/>
                    <a:ext cx="21193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2786040" y="4143240"/>
          <a:ext cx="50184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86040" y="4143240"/>
                    <a:ext cx="5018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1"/>
          <p:cNvGraphicFramePr/>
          <p:nvPr/>
        </p:nvGraphicFramePr>
        <p:xfrm>
          <a:off x="2330280" y="4726080"/>
          <a:ext cx="3291120" cy="92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30280" y="4726080"/>
                    <a:ext cx="3291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2"/>
          <p:cNvGraphicFramePr/>
          <p:nvPr/>
        </p:nvGraphicFramePr>
        <p:xfrm>
          <a:off x="5500800" y="4786200"/>
          <a:ext cx="1225440" cy="56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0800" y="4786200"/>
                    <a:ext cx="12254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3"/>
          <p:cNvGraphicFramePr/>
          <p:nvPr/>
        </p:nvGraphicFramePr>
        <p:xfrm>
          <a:off x="4572000" y="5572080"/>
          <a:ext cx="2509920" cy="88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5572080"/>
                    <a:ext cx="25099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4"/>
          <p:cNvGraphicFramePr/>
          <p:nvPr/>
        </p:nvGraphicFramePr>
        <p:xfrm>
          <a:off x="6929280" y="5643720"/>
          <a:ext cx="836640" cy="563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29280" y="5643720"/>
                    <a:ext cx="836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6:26:40Z</dcterms:created>
  <dc:creator>Ольга</dc:creator>
  <dc:description/>
  <dc:language>en-US</dc:language>
  <cp:lastModifiedBy>Ольга</cp:lastModifiedBy>
  <dcterms:modified xsi:type="dcterms:W3CDTF">2012-06-15T15:04:15Z</dcterms:modified>
  <cp:revision>52</cp:revision>
  <dc:subject/>
  <dc:title>Предел</dc:title>
</cp:coreProperties>
</file>