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23.wmf" ContentType="image/x-wmf"/>
  <Override PartName="/ppt/media/image91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90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185.wmf" ContentType="image/x-wmf"/>
  <Override PartName="/ppt/media/image50.wmf" ContentType="image/x-wmf"/>
  <Override PartName="/ppt/media/image147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28.wmf" ContentType="image/x-wmf"/>
  <Override PartName="/ppt/media/image196.wmf" ContentType="image/x-wmf"/>
  <Override PartName="/ppt/media/image34.wmf" ContentType="image/x-wmf"/>
  <Override PartName="/ppt/media/image32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40.wmf" ContentType="image/x-wmf"/>
  <Override PartName="/ppt/media/image138.wmf" ContentType="image/x-wmf"/>
  <Override PartName="/ppt/media/image41.wmf" ContentType="image/x-wmf"/>
  <Override PartName="/ppt/media/image139.wmf" ContentType="image/x-wmf"/>
  <Override PartName="/ppt/media/image42.wmf" ContentType="image/x-wmf"/>
  <Override PartName="/ppt/media/image54.wmf" ContentType="image/x-wmf"/>
  <Override PartName="/ppt/media/image140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207.wmf" ContentType="image/x-wmf"/>
  <Override PartName="/ppt/media/image163.wmf" ContentType="image/x-wmf"/>
  <Override PartName="/ppt/media/image200.wmf" ContentType="image/x-wmf"/>
  <Override PartName="/ppt/media/image44.wmf" ContentType="image/x-wmf"/>
  <Override PartName="/ppt/media/image164.wmf" ContentType="image/x-wmf"/>
  <Override PartName="/ppt/media/image201.wmf" ContentType="image/x-wmf"/>
  <Override PartName="/ppt/media/image45.wmf" ContentType="image/x-wmf"/>
  <Override PartName="/ppt/media/image202.wmf" ContentType="image/x-wmf"/>
  <Override PartName="/ppt/media/image46.wmf" ContentType="image/x-wmf"/>
  <Override PartName="/ppt/media/image129.wmf" ContentType="image/x-wmf"/>
  <Override PartName="/ppt/media/image197.wmf" ContentType="image/x-wmf"/>
  <Override PartName="/ppt/media/image35.wmf" ContentType="image/x-wmf"/>
  <Override PartName="/ppt/media/image160.wmf" ContentType="image/x-wmf"/>
  <Override PartName="/ppt/media/image56.wmf" ContentType="image/x-wmf"/>
  <Override PartName="/ppt/media/image142.wmf" ContentType="image/x-wmf"/>
  <Override PartName="/ppt/media/image179.wmf" ContentType="image/x-wmf"/>
  <Override PartName="/ppt/media/image198.wmf" ContentType="image/x-wmf"/>
  <Override PartName="/ppt/media/image36.wmf" ContentType="image/x-wmf"/>
  <Override PartName="/ppt/media/image161.wmf" ContentType="image/x-wmf"/>
  <Override PartName="/ppt/media/image206.wmf" ContentType="image/x-wmf"/>
  <Override PartName="/ppt/media/image199.wmf" ContentType="image/x-wmf"/>
  <Override PartName="/ppt/media/image37.wmf" ContentType="image/x-wmf"/>
  <Override PartName="/ppt/media/image162.wmf" ContentType="image/x-wmf"/>
  <Override PartName="/ppt/media/image55.wmf" ContentType="image/x-wmf"/>
  <Override PartName="/ppt/media/image141.wmf" ContentType="image/x-wmf"/>
  <Override PartName="/ppt/media/image178.wmf" ContentType="image/x-wmf"/>
  <Override PartName="/ppt/media/image132.wmf" ContentType="image/x-wmf"/>
  <Override PartName="/ppt/media/image169.wmf" ContentType="image/x-wmf"/>
  <Override PartName="/ppt/media/image131.wmf" ContentType="image/x-wmf"/>
  <Override PartName="/ppt/media/image168.wmf" ContentType="image/x-wmf"/>
  <Override PartName="/ppt/media/image130.wmf" ContentType="image/x-wmf"/>
  <Override PartName="/ppt/media/image167.wmf" ContentType="image/x-wmf"/>
  <Override PartName="/ppt/media/image166.wmf" ContentType="image/x-wmf"/>
  <Override PartName="/ppt/media/image165.wmf" ContentType="image/x-wmf"/>
  <Override PartName="/ppt/media/image189.wmf" ContentType="image/x-wmf"/>
  <Override PartName="/ppt/media/image205.wmf" ContentType="image/x-wmf"/>
  <Override PartName="/ppt/media/image49.wmf" ContentType="image/x-wmf"/>
  <Override PartName="/ppt/media/image100.wmf" ContentType="image/x-wmf"/>
  <Override PartName="/ppt/media/image152.wmf" ContentType="image/x-wmf"/>
  <Override PartName="/ppt/media/image188.wmf" ContentType="image/x-wmf"/>
  <Override PartName="/ppt/media/image204.wmf" ContentType="image/x-wmf"/>
  <Override PartName="/ppt/media/image48.wmf" ContentType="image/x-wmf"/>
  <Override PartName="/ppt/media/image151.wmf" ContentType="image/x-wmf"/>
  <Override PartName="/ppt/media/image203.wmf" ContentType="image/x-wmf"/>
  <Override PartName="/ppt/media/image47.wmf" ContentType="image/x-wmf"/>
  <Override PartName="/ppt/media/image150.wmf" ContentType="image/x-wmf"/>
  <Override PartName="/ppt/media/image43.wmf" ContentType="image/x-wmf"/>
  <Override PartName="/ppt/media/image33.wmf" ContentType="image/x-wmf"/>
  <Override PartName="/ppt/media/image195.wmf" ContentType="image/x-wmf"/>
  <Override PartName="/ppt/media/image127.wmf" ContentType="image/x-wmf"/>
  <Override PartName="/ppt/media/image39.wmf" ContentType="image/x-wmf"/>
  <Override PartName="/ppt/media/image153.wmf" ContentType="image/x-wmf"/>
  <Override PartName="/ppt/media/image1.wmf" ContentType="image/x-wmf"/>
  <Override PartName="/ppt/media/image81.wmf" ContentType="image/x-wmf"/>
  <Override PartName="/ppt/media/image13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82.wmf" ContentType="image/x-wmf"/>
  <Override PartName="/ppt/media/image14.wmf" ContentType="image/x-wmf"/>
  <Override PartName="/ppt/media/image158.wmf" ContentType="image/x-wmf"/>
  <Override PartName="/ppt/media/image6.wmf" ContentType="image/x-wmf"/>
  <Override PartName="/ppt/media/image15.wmf" ContentType="image/x-wmf"/>
  <Override PartName="/ppt/media/image83.wmf" ContentType="image/x-wmf"/>
  <Override PartName="/ppt/media/image18.wmf" ContentType="image/x-wmf"/>
  <Override PartName="/ppt/media/image86.wmf" ContentType="image/x-wmf"/>
  <Override PartName="/ppt/media/image31.wmf" ContentType="image/x-wmf"/>
  <Override PartName="/ppt/media/image9.wmf" ContentType="image/x-wmf"/>
  <Override PartName="/ppt/media/image10.wmf" ContentType="image/x-wmf"/>
  <Override PartName="/ppt/media/image175.wmf" ContentType="image/x-wmf"/>
  <Override PartName="/ppt/media/image107.wmf" ContentType="image/x-wmf"/>
  <Override PartName="/ppt/media/image5.wmf" ContentType="image/x-wmf"/>
  <Override PartName="/ppt/media/image157.wmf" ContentType="image/x-wmf"/>
  <Override PartName="/ppt/media/image4.wmf" ContentType="image/x-wmf"/>
  <Override PartName="/ppt/media/image156.wmf" ContentType="image/x-wmf"/>
  <Override PartName="/ppt/media/image3.wmf" ContentType="image/x-wmf"/>
  <Override PartName="/ppt/media/image155.wmf" ContentType="image/x-wmf"/>
  <Override PartName="/ppt/media/image26.wmf" ContentType="image/x-wmf"/>
  <Override PartName="/ppt/media/image94.wmf" ContentType="image/x-wmf"/>
  <Override PartName="/ppt/media/image2.wmf" ContentType="image/x-wmf"/>
  <Override PartName="/ppt/media/image15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C89-E1F1-45DA-AAF7-F6830458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0058-9AE8-4840-ABC7-625476C9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6C8-0424-4C14-B4D4-7826C698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DC2-F335-47D8-9FDA-929ED9B8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840-F916-4590-B20C-FC30708C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C5A-2E7A-48D1-AAAE-4EB3F004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0BC-098A-457B-8F18-649A842F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E9A-4B1A-4370-B837-2E3568E3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D90-4A34-4E3B-806C-784CA859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F39-1D87-4BAC-B943-2CA1049B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A67-2034-4DA9-B7B0-F1D10CB3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306-32B9-47D1-AA14-4F72D212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B3D8-BFD0-4152-80EC-E24833F2D1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5.wmf"/><Relationship Id="rId2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4.wm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7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6.wmf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6.wmf"/><Relationship Id="rId2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0.wmf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6.wmf"/><Relationship Id="rId2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03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4.wmf"/><Relationship Id="rId3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13.wmf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2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2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30.wmf"/><Relationship Id="rId3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4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6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1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5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2.wmf"/><Relationship Id="rId2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8.wmf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1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3.wmf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8.wmf"/><Relationship Id="rId2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1.wmf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5.wmf"/><Relationship Id="rId1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1.wmf"/><Relationship Id="rId1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1.wmf"/><Relationship Id="rId1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1.wmf"/><Relationship Id="rId1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1.wmf"/><Relationship Id="rId1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1.wmf"/><Relationship Id="rId1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7.wmf"/><Relationship Id="rId1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9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4.wmf"/><Relationship Id="rId2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85.wmf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6.wmf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6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4.wm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1008000" y="1571760"/>
          <a:ext cx="2174760" cy="56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571760"/>
                    <a:ext cx="217476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3"/>
          <p:cNvGraphicFramePr/>
          <p:nvPr/>
        </p:nvGraphicFramePr>
        <p:xfrm>
          <a:off x="1000080" y="2286000"/>
          <a:ext cx="217476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2286000"/>
                    <a:ext cx="21747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4"/>
          <p:cNvGraphicFramePr/>
          <p:nvPr/>
        </p:nvGraphicFramePr>
        <p:xfrm>
          <a:off x="3071880" y="1571760"/>
          <a:ext cx="558720" cy="56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571760"/>
                    <a:ext cx="55872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5"/>
          <p:cNvGraphicFramePr/>
          <p:nvPr/>
        </p:nvGraphicFramePr>
        <p:xfrm>
          <a:off x="3143160" y="2428920"/>
          <a:ext cx="669960" cy="40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43160" y="2428920"/>
                    <a:ext cx="6699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6"/>
          <p:cNvGraphicFramePr/>
          <p:nvPr/>
        </p:nvGraphicFramePr>
        <p:xfrm>
          <a:off x="1154160" y="3195720"/>
          <a:ext cx="200808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54160" y="3195720"/>
                    <a:ext cx="20080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7"/>
          <p:cNvGraphicFramePr/>
          <p:nvPr/>
        </p:nvGraphicFramePr>
        <p:xfrm>
          <a:off x="3143160" y="3286080"/>
          <a:ext cx="501840" cy="44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43160" y="3286080"/>
                    <a:ext cx="501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8"/>
          <p:cNvGraphicFramePr/>
          <p:nvPr/>
        </p:nvGraphicFramePr>
        <p:xfrm>
          <a:off x="5072040" y="1857240"/>
          <a:ext cx="3846600" cy="1357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9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72040" y="1857240"/>
                    <a:ext cx="384660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1"/>
          <p:cNvGraphicFramePr/>
          <p:nvPr/>
        </p:nvGraphicFramePr>
        <p:xfrm>
          <a:off x="4876920" y="3429000"/>
          <a:ext cx="2119320" cy="88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1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76920" y="3429000"/>
                    <a:ext cx="211932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2"/>
          <p:cNvGraphicFramePr/>
          <p:nvPr/>
        </p:nvGraphicFramePr>
        <p:xfrm>
          <a:off x="6786720" y="3500280"/>
          <a:ext cx="779400" cy="524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3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86720" y="3500280"/>
                    <a:ext cx="7794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3"/>
          <p:cNvGraphicFramePr/>
          <p:nvPr/>
        </p:nvGraphicFramePr>
        <p:xfrm>
          <a:off x="5143680" y="4500720"/>
          <a:ext cx="2174760" cy="885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5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43680" y="4500720"/>
                    <a:ext cx="217476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14"/>
          <p:cNvGraphicFramePr/>
          <p:nvPr/>
        </p:nvGraphicFramePr>
        <p:xfrm>
          <a:off x="7286760" y="4572000"/>
          <a:ext cx="892080" cy="563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7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86760" y="4572000"/>
                    <a:ext cx="8920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4"/>
          <p:cNvGraphicFramePr/>
          <p:nvPr/>
        </p:nvGraphicFramePr>
        <p:xfrm>
          <a:off x="4757760" y="5500800"/>
          <a:ext cx="2644920" cy="1000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9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757760" y="5500800"/>
                    <a:ext cx="26449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5"/>
          <p:cNvGraphicFramePr/>
          <p:nvPr/>
        </p:nvGraphicFramePr>
        <p:xfrm>
          <a:off x="7175520" y="5572080"/>
          <a:ext cx="1114560" cy="563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1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175520" y="5572080"/>
                    <a:ext cx="1114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ы о преде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357120" y="1500120"/>
          <a:ext cx="4408560" cy="5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500120"/>
                    <a:ext cx="4408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6"/>
          <p:cNvGraphicFramePr/>
          <p:nvPr/>
        </p:nvGraphicFramePr>
        <p:xfrm>
          <a:off x="500040" y="2357280"/>
          <a:ext cx="185724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357280"/>
                    <a:ext cx="18572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4"/>
          <p:cNvGraphicFramePr/>
          <p:nvPr/>
        </p:nvGraphicFramePr>
        <p:xfrm>
          <a:off x="2286000" y="2357280"/>
          <a:ext cx="1851120" cy="88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357280"/>
                    <a:ext cx="185112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ы о преде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0" name="Object 3"/>
          <p:cNvGraphicFramePr/>
          <p:nvPr/>
        </p:nvGraphicFramePr>
        <p:xfrm>
          <a:off x="357120" y="1500120"/>
          <a:ext cx="4408560" cy="5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500120"/>
                    <a:ext cx="4408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6"/>
          <p:cNvGraphicFramePr/>
          <p:nvPr/>
        </p:nvGraphicFramePr>
        <p:xfrm>
          <a:off x="500040" y="2357280"/>
          <a:ext cx="185724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357280"/>
                    <a:ext cx="18572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14"/>
          <p:cNvGraphicFramePr/>
          <p:nvPr/>
        </p:nvGraphicFramePr>
        <p:xfrm>
          <a:off x="2286000" y="2357280"/>
          <a:ext cx="1851120" cy="88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357280"/>
                    <a:ext cx="185112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8"/>
          <p:cNvGraphicFramePr/>
          <p:nvPr/>
        </p:nvGraphicFramePr>
        <p:xfrm>
          <a:off x="6143760" y="1428840"/>
          <a:ext cx="214308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43760" y="1428840"/>
                    <a:ext cx="21430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6"/>
          <p:cNvGraphicFramePr/>
          <p:nvPr/>
        </p:nvGraphicFramePr>
        <p:xfrm>
          <a:off x="4143240" y="2357280"/>
          <a:ext cx="1262160" cy="563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3240" y="2357280"/>
                    <a:ext cx="12621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7"/>
          <p:cNvGraphicFramePr/>
          <p:nvPr/>
        </p:nvGraphicFramePr>
        <p:xfrm>
          <a:off x="5429160" y="2357280"/>
          <a:ext cx="673200" cy="563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29160" y="2357280"/>
                    <a:ext cx="67320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8"/>
          <p:cNvGraphicFramePr/>
          <p:nvPr/>
        </p:nvGraphicFramePr>
        <p:xfrm>
          <a:off x="395280" y="3286080"/>
          <a:ext cx="2211480" cy="88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3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3286080"/>
                    <a:ext cx="22114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9"/>
          <p:cNvGraphicFramePr/>
          <p:nvPr/>
        </p:nvGraphicFramePr>
        <p:xfrm>
          <a:off x="2643120" y="3286080"/>
          <a:ext cx="2255760" cy="88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5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43120" y="3286080"/>
                    <a:ext cx="225576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ы о преде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357120" y="1500120"/>
          <a:ext cx="4408560" cy="5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500120"/>
                    <a:ext cx="4408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500040" y="2357280"/>
          <a:ext cx="185724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357280"/>
                    <a:ext cx="18572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14"/>
          <p:cNvGraphicFramePr/>
          <p:nvPr/>
        </p:nvGraphicFramePr>
        <p:xfrm>
          <a:off x="2286000" y="2357280"/>
          <a:ext cx="1851120" cy="88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357280"/>
                    <a:ext cx="185112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8"/>
          <p:cNvGraphicFramePr/>
          <p:nvPr/>
        </p:nvGraphicFramePr>
        <p:xfrm>
          <a:off x="6143760" y="1428840"/>
          <a:ext cx="2143080" cy="92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4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43760" y="1428840"/>
                    <a:ext cx="21430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6"/>
          <p:cNvGraphicFramePr/>
          <p:nvPr/>
        </p:nvGraphicFramePr>
        <p:xfrm>
          <a:off x="4143240" y="2357280"/>
          <a:ext cx="1262160" cy="563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3240" y="2357280"/>
                    <a:ext cx="12621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7"/>
          <p:cNvGraphicFramePr/>
          <p:nvPr/>
        </p:nvGraphicFramePr>
        <p:xfrm>
          <a:off x="5429160" y="2357280"/>
          <a:ext cx="673200" cy="563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29160" y="2357280"/>
                    <a:ext cx="67320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8"/>
          <p:cNvGraphicFramePr/>
          <p:nvPr/>
        </p:nvGraphicFramePr>
        <p:xfrm>
          <a:off x="395280" y="3286080"/>
          <a:ext cx="2211480" cy="88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5280" y="3286080"/>
                    <a:ext cx="22114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9"/>
          <p:cNvGraphicFramePr/>
          <p:nvPr/>
        </p:nvGraphicFramePr>
        <p:xfrm>
          <a:off x="2643120" y="3286080"/>
          <a:ext cx="2255760" cy="88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43120" y="3286080"/>
                    <a:ext cx="225576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0"/>
          <p:cNvGraphicFramePr/>
          <p:nvPr/>
        </p:nvGraphicFramePr>
        <p:xfrm>
          <a:off x="4951440" y="3254400"/>
          <a:ext cx="2211480" cy="804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4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51440" y="3254400"/>
                    <a:ext cx="22114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1"/>
          <p:cNvGraphicFramePr/>
          <p:nvPr/>
        </p:nvGraphicFramePr>
        <p:xfrm>
          <a:off x="7215120" y="3357720"/>
          <a:ext cx="925560" cy="5238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6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15120" y="3357720"/>
                    <a:ext cx="925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ы о преде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Object 2"/>
          <p:cNvGraphicFramePr/>
          <p:nvPr/>
        </p:nvGraphicFramePr>
        <p:xfrm>
          <a:off x="428760" y="2357280"/>
          <a:ext cx="2571480" cy="8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357280"/>
                    <a:ext cx="25714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3"/>
          <p:cNvGraphicFramePr/>
          <p:nvPr/>
        </p:nvGraphicFramePr>
        <p:xfrm>
          <a:off x="357120" y="1500120"/>
          <a:ext cx="4408560" cy="5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1500120"/>
                    <a:ext cx="4408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8"/>
          <p:cNvGraphicFramePr/>
          <p:nvPr/>
        </p:nvGraphicFramePr>
        <p:xfrm>
          <a:off x="3000240" y="2428920"/>
          <a:ext cx="1571760" cy="56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0240" y="2428920"/>
                    <a:ext cx="1571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1"/>
          <p:cNvGraphicFramePr/>
          <p:nvPr/>
        </p:nvGraphicFramePr>
        <p:xfrm>
          <a:off x="4572000" y="2428920"/>
          <a:ext cx="130644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428920"/>
                    <a:ext cx="1306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7"/>
          <p:cNvGraphicFramePr/>
          <p:nvPr/>
        </p:nvGraphicFramePr>
        <p:xfrm>
          <a:off x="714240" y="3286080"/>
          <a:ext cx="2705400" cy="820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4240" y="3286080"/>
                    <a:ext cx="27054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18"/>
          <p:cNvGraphicFramePr/>
          <p:nvPr/>
        </p:nvGraphicFramePr>
        <p:xfrm>
          <a:off x="3500280" y="3286080"/>
          <a:ext cx="1460520" cy="78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9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0280" y="3286080"/>
                    <a:ext cx="1460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19"/>
          <p:cNvGraphicFramePr/>
          <p:nvPr/>
        </p:nvGraphicFramePr>
        <p:xfrm>
          <a:off x="4929120" y="3286080"/>
          <a:ext cx="1241640" cy="75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1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29120" y="3286080"/>
                    <a:ext cx="12416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20"/>
          <p:cNvGraphicFramePr/>
          <p:nvPr/>
        </p:nvGraphicFramePr>
        <p:xfrm>
          <a:off x="731880" y="4159080"/>
          <a:ext cx="2668680" cy="78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3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1880" y="4159080"/>
                    <a:ext cx="26686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21"/>
          <p:cNvGraphicFramePr/>
          <p:nvPr/>
        </p:nvGraphicFramePr>
        <p:xfrm>
          <a:off x="3463920" y="4160880"/>
          <a:ext cx="1533600" cy="752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5" name="Object 2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63920" y="4160880"/>
                    <a:ext cx="153360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22"/>
          <p:cNvGraphicFramePr/>
          <p:nvPr/>
        </p:nvGraphicFramePr>
        <p:xfrm>
          <a:off x="4873680" y="4143240"/>
          <a:ext cx="1496880" cy="752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7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3680" y="4143240"/>
                    <a:ext cx="149688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ы о преде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9" name="Object 2"/>
          <p:cNvGraphicFramePr/>
          <p:nvPr/>
        </p:nvGraphicFramePr>
        <p:xfrm>
          <a:off x="428760" y="2357280"/>
          <a:ext cx="2571480" cy="8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357280"/>
                    <a:ext cx="25714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8"/>
          <p:cNvGraphicFramePr/>
          <p:nvPr/>
        </p:nvGraphicFramePr>
        <p:xfrm>
          <a:off x="3000240" y="2428920"/>
          <a:ext cx="157176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00240" y="2428920"/>
                    <a:ext cx="1571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11"/>
          <p:cNvGraphicFramePr/>
          <p:nvPr/>
        </p:nvGraphicFramePr>
        <p:xfrm>
          <a:off x="4572000" y="2428920"/>
          <a:ext cx="1306440" cy="64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428920"/>
                    <a:ext cx="1306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7"/>
          <p:cNvGraphicFramePr/>
          <p:nvPr/>
        </p:nvGraphicFramePr>
        <p:xfrm>
          <a:off x="714240" y="3286080"/>
          <a:ext cx="2705400" cy="82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4240" y="3286080"/>
                    <a:ext cx="27054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8"/>
          <p:cNvGraphicFramePr/>
          <p:nvPr/>
        </p:nvGraphicFramePr>
        <p:xfrm>
          <a:off x="3500280" y="3286080"/>
          <a:ext cx="1460520" cy="78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0280" y="3286080"/>
                    <a:ext cx="1460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19"/>
          <p:cNvGraphicFramePr/>
          <p:nvPr/>
        </p:nvGraphicFramePr>
        <p:xfrm>
          <a:off x="4929120" y="3286080"/>
          <a:ext cx="1241640" cy="75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0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29120" y="3286080"/>
                    <a:ext cx="12416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0"/>
          <p:cNvGraphicFramePr/>
          <p:nvPr/>
        </p:nvGraphicFramePr>
        <p:xfrm>
          <a:off x="731880" y="4159080"/>
          <a:ext cx="2668680" cy="787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2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1880" y="4159080"/>
                    <a:ext cx="26686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21"/>
          <p:cNvGraphicFramePr/>
          <p:nvPr/>
        </p:nvGraphicFramePr>
        <p:xfrm>
          <a:off x="3463920" y="4160880"/>
          <a:ext cx="1533600" cy="752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4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63920" y="4160880"/>
                    <a:ext cx="153360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22"/>
          <p:cNvGraphicFramePr/>
          <p:nvPr/>
        </p:nvGraphicFramePr>
        <p:xfrm>
          <a:off x="4873680" y="4143240"/>
          <a:ext cx="1496880" cy="752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6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73680" y="4143240"/>
                    <a:ext cx="149688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3"/>
          <p:cNvGraphicFramePr/>
          <p:nvPr/>
        </p:nvGraphicFramePr>
        <p:xfrm>
          <a:off x="357120" y="1500120"/>
          <a:ext cx="4408560" cy="563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8" name="Object 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7120" y="1500120"/>
                    <a:ext cx="4408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ы о преде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0" name="Object 2"/>
          <p:cNvGraphicFramePr/>
          <p:nvPr/>
        </p:nvGraphicFramePr>
        <p:xfrm>
          <a:off x="428760" y="2357280"/>
          <a:ext cx="2571480" cy="8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357280"/>
                    <a:ext cx="25714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3"/>
          <p:cNvGraphicFramePr/>
          <p:nvPr/>
        </p:nvGraphicFramePr>
        <p:xfrm>
          <a:off x="357120" y="1500120"/>
          <a:ext cx="4408560" cy="5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1500120"/>
                    <a:ext cx="4408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8"/>
          <p:cNvGraphicFramePr/>
          <p:nvPr/>
        </p:nvGraphicFramePr>
        <p:xfrm>
          <a:off x="3000240" y="2428920"/>
          <a:ext cx="1571760" cy="56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0240" y="2428920"/>
                    <a:ext cx="1571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11"/>
          <p:cNvGraphicFramePr/>
          <p:nvPr/>
        </p:nvGraphicFramePr>
        <p:xfrm>
          <a:off x="4572000" y="2428920"/>
          <a:ext cx="130644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428920"/>
                    <a:ext cx="1306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17"/>
          <p:cNvGraphicFramePr/>
          <p:nvPr/>
        </p:nvGraphicFramePr>
        <p:xfrm>
          <a:off x="714240" y="3286080"/>
          <a:ext cx="2705400" cy="820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4240" y="3286080"/>
                    <a:ext cx="27054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18"/>
          <p:cNvGraphicFramePr/>
          <p:nvPr/>
        </p:nvGraphicFramePr>
        <p:xfrm>
          <a:off x="3500280" y="3286080"/>
          <a:ext cx="1460520" cy="78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1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0280" y="3286080"/>
                    <a:ext cx="1460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19"/>
          <p:cNvGraphicFramePr/>
          <p:nvPr/>
        </p:nvGraphicFramePr>
        <p:xfrm>
          <a:off x="4929120" y="3286080"/>
          <a:ext cx="1241640" cy="75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3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29120" y="3286080"/>
                    <a:ext cx="12416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20"/>
          <p:cNvGraphicFramePr/>
          <p:nvPr/>
        </p:nvGraphicFramePr>
        <p:xfrm>
          <a:off x="731880" y="4159080"/>
          <a:ext cx="2668680" cy="78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5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1880" y="4159080"/>
                    <a:ext cx="26686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21"/>
          <p:cNvGraphicFramePr/>
          <p:nvPr/>
        </p:nvGraphicFramePr>
        <p:xfrm>
          <a:off x="3463920" y="4160880"/>
          <a:ext cx="1533600" cy="752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7" name="Object 2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63920" y="4160880"/>
                    <a:ext cx="153360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22"/>
          <p:cNvGraphicFramePr/>
          <p:nvPr/>
        </p:nvGraphicFramePr>
        <p:xfrm>
          <a:off x="4873680" y="4143240"/>
          <a:ext cx="1496880" cy="752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9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3680" y="4143240"/>
                    <a:ext cx="149688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12"/>
          <p:cNvGraphicFramePr/>
          <p:nvPr/>
        </p:nvGraphicFramePr>
        <p:xfrm>
          <a:off x="3246480" y="5072040"/>
          <a:ext cx="1898640" cy="752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1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46480" y="5072040"/>
                    <a:ext cx="18986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ы о преде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3" name="Object 2"/>
          <p:cNvGraphicFramePr/>
          <p:nvPr/>
        </p:nvGraphicFramePr>
        <p:xfrm>
          <a:off x="428760" y="2357280"/>
          <a:ext cx="2571480" cy="8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357280"/>
                    <a:ext cx="25714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3"/>
          <p:cNvGraphicFramePr/>
          <p:nvPr/>
        </p:nvGraphicFramePr>
        <p:xfrm>
          <a:off x="357120" y="1500120"/>
          <a:ext cx="4408560" cy="5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1500120"/>
                    <a:ext cx="4408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8"/>
          <p:cNvGraphicFramePr/>
          <p:nvPr/>
        </p:nvGraphicFramePr>
        <p:xfrm>
          <a:off x="3000240" y="2428920"/>
          <a:ext cx="1571760" cy="56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0240" y="2428920"/>
                    <a:ext cx="1571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11"/>
          <p:cNvGraphicFramePr/>
          <p:nvPr/>
        </p:nvGraphicFramePr>
        <p:xfrm>
          <a:off x="4572000" y="2428920"/>
          <a:ext cx="130644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428920"/>
                    <a:ext cx="1306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17"/>
          <p:cNvGraphicFramePr/>
          <p:nvPr/>
        </p:nvGraphicFramePr>
        <p:xfrm>
          <a:off x="714240" y="3286080"/>
          <a:ext cx="2705400" cy="820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2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4240" y="3286080"/>
                    <a:ext cx="27054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18"/>
          <p:cNvGraphicFramePr/>
          <p:nvPr/>
        </p:nvGraphicFramePr>
        <p:xfrm>
          <a:off x="3500280" y="3286080"/>
          <a:ext cx="1460520" cy="78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4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0280" y="3286080"/>
                    <a:ext cx="1460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19"/>
          <p:cNvGraphicFramePr/>
          <p:nvPr/>
        </p:nvGraphicFramePr>
        <p:xfrm>
          <a:off x="4929120" y="3286080"/>
          <a:ext cx="1241640" cy="75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6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29120" y="3286080"/>
                    <a:ext cx="12416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20"/>
          <p:cNvGraphicFramePr/>
          <p:nvPr/>
        </p:nvGraphicFramePr>
        <p:xfrm>
          <a:off x="731880" y="4159080"/>
          <a:ext cx="2668680" cy="78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8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1880" y="4159080"/>
                    <a:ext cx="26686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21"/>
          <p:cNvGraphicFramePr/>
          <p:nvPr/>
        </p:nvGraphicFramePr>
        <p:xfrm>
          <a:off x="3463920" y="4160880"/>
          <a:ext cx="1533600" cy="752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0" name="Object 2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63920" y="4160880"/>
                    <a:ext cx="153360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22"/>
          <p:cNvGraphicFramePr/>
          <p:nvPr/>
        </p:nvGraphicFramePr>
        <p:xfrm>
          <a:off x="4873680" y="4143240"/>
          <a:ext cx="1496880" cy="752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22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3680" y="4143240"/>
                    <a:ext cx="149688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12"/>
          <p:cNvGraphicFramePr/>
          <p:nvPr/>
        </p:nvGraphicFramePr>
        <p:xfrm>
          <a:off x="3246480" y="5072040"/>
          <a:ext cx="1898640" cy="752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24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46480" y="5072040"/>
                    <a:ext cx="18986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6"/>
          <p:cNvGraphicFramePr/>
          <p:nvPr/>
        </p:nvGraphicFramePr>
        <p:xfrm>
          <a:off x="6564240" y="1500120"/>
          <a:ext cx="2454480" cy="563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26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564240" y="1500120"/>
                    <a:ext cx="245448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14"/>
          <p:cNvGraphicFramePr/>
          <p:nvPr/>
        </p:nvGraphicFramePr>
        <p:xfrm>
          <a:off x="5214960" y="5072040"/>
          <a:ext cx="876240" cy="479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28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14960" y="5072040"/>
                    <a:ext cx="87624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ы о преде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0" name="Object 2"/>
          <p:cNvGraphicFramePr/>
          <p:nvPr/>
        </p:nvGraphicFramePr>
        <p:xfrm>
          <a:off x="428760" y="2357280"/>
          <a:ext cx="2571480" cy="8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357280"/>
                    <a:ext cx="25714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3"/>
          <p:cNvGraphicFramePr/>
          <p:nvPr/>
        </p:nvGraphicFramePr>
        <p:xfrm>
          <a:off x="357120" y="1500120"/>
          <a:ext cx="4408560" cy="5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1500120"/>
                    <a:ext cx="4408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8"/>
          <p:cNvGraphicFramePr/>
          <p:nvPr/>
        </p:nvGraphicFramePr>
        <p:xfrm>
          <a:off x="3000240" y="2428920"/>
          <a:ext cx="1571760" cy="56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0240" y="2428920"/>
                    <a:ext cx="1571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1"/>
          <p:cNvGraphicFramePr/>
          <p:nvPr/>
        </p:nvGraphicFramePr>
        <p:xfrm>
          <a:off x="4572000" y="2428920"/>
          <a:ext cx="130644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428920"/>
                    <a:ext cx="1306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7"/>
          <p:cNvGraphicFramePr/>
          <p:nvPr/>
        </p:nvGraphicFramePr>
        <p:xfrm>
          <a:off x="714240" y="3286080"/>
          <a:ext cx="2705400" cy="820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4240" y="3286080"/>
                    <a:ext cx="27054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18"/>
          <p:cNvGraphicFramePr/>
          <p:nvPr/>
        </p:nvGraphicFramePr>
        <p:xfrm>
          <a:off x="3500280" y="3286080"/>
          <a:ext cx="1460520" cy="78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1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0280" y="3286080"/>
                    <a:ext cx="14605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19"/>
          <p:cNvGraphicFramePr/>
          <p:nvPr/>
        </p:nvGraphicFramePr>
        <p:xfrm>
          <a:off x="4929120" y="3286080"/>
          <a:ext cx="1241640" cy="75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3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29120" y="3286080"/>
                    <a:ext cx="12416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20"/>
          <p:cNvGraphicFramePr/>
          <p:nvPr/>
        </p:nvGraphicFramePr>
        <p:xfrm>
          <a:off x="731880" y="4159080"/>
          <a:ext cx="2668680" cy="78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5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1880" y="4159080"/>
                    <a:ext cx="266868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21"/>
          <p:cNvGraphicFramePr/>
          <p:nvPr/>
        </p:nvGraphicFramePr>
        <p:xfrm>
          <a:off x="3463920" y="4160880"/>
          <a:ext cx="1533600" cy="752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7" name="Object 2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63920" y="4160880"/>
                    <a:ext cx="153360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22"/>
          <p:cNvGraphicFramePr/>
          <p:nvPr/>
        </p:nvGraphicFramePr>
        <p:xfrm>
          <a:off x="4873680" y="4143240"/>
          <a:ext cx="1496880" cy="752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9" name="Object 2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3680" y="4143240"/>
                    <a:ext cx="149688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12"/>
          <p:cNvGraphicFramePr/>
          <p:nvPr/>
        </p:nvGraphicFramePr>
        <p:xfrm>
          <a:off x="3246480" y="5072040"/>
          <a:ext cx="1898640" cy="752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1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246480" y="5072040"/>
                    <a:ext cx="18986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6"/>
          <p:cNvGraphicFramePr/>
          <p:nvPr/>
        </p:nvGraphicFramePr>
        <p:xfrm>
          <a:off x="6564240" y="1500120"/>
          <a:ext cx="2454480" cy="563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53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564240" y="1500120"/>
                    <a:ext cx="245448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14"/>
          <p:cNvGraphicFramePr/>
          <p:nvPr/>
        </p:nvGraphicFramePr>
        <p:xfrm>
          <a:off x="5214960" y="5072040"/>
          <a:ext cx="876240" cy="479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55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14960" y="5072040"/>
                    <a:ext cx="87624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15"/>
          <p:cNvGraphicFramePr/>
          <p:nvPr/>
        </p:nvGraphicFramePr>
        <p:xfrm>
          <a:off x="6643800" y="2143080"/>
          <a:ext cx="2143080" cy="928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57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643800" y="2143080"/>
                    <a:ext cx="21430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16"/>
          <p:cNvGraphicFramePr/>
          <p:nvPr/>
        </p:nvGraphicFramePr>
        <p:xfrm>
          <a:off x="3541680" y="5923080"/>
          <a:ext cx="1387440" cy="477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59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541680" y="5923080"/>
                    <a:ext cx="13874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17"/>
          <p:cNvGraphicFramePr/>
          <p:nvPr/>
        </p:nvGraphicFramePr>
        <p:xfrm>
          <a:off x="4929120" y="5929200"/>
          <a:ext cx="876240" cy="479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61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929120" y="5929200"/>
                    <a:ext cx="87624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18"/>
          <p:cNvGraphicFramePr/>
          <p:nvPr/>
        </p:nvGraphicFramePr>
        <p:xfrm>
          <a:off x="6004080" y="5929200"/>
          <a:ext cx="583920" cy="479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63" name="Object 1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004080" y="5929200"/>
                    <a:ext cx="5839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емы о предел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5" name="Object 2"/>
          <p:cNvGraphicFramePr/>
          <p:nvPr/>
        </p:nvGraphicFramePr>
        <p:xfrm>
          <a:off x="428760" y="2357280"/>
          <a:ext cx="2571480" cy="8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357280"/>
                    <a:ext cx="25714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3"/>
          <p:cNvGraphicFramePr/>
          <p:nvPr/>
        </p:nvGraphicFramePr>
        <p:xfrm>
          <a:off x="357120" y="1500120"/>
          <a:ext cx="4408560" cy="5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1500120"/>
                    <a:ext cx="440856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8"/>
          <p:cNvGraphicFramePr/>
          <p:nvPr/>
        </p:nvGraphicFramePr>
        <p:xfrm>
          <a:off x="3000240" y="2428920"/>
          <a:ext cx="1571760" cy="56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0240" y="2428920"/>
                    <a:ext cx="1571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11"/>
          <p:cNvGraphicFramePr/>
          <p:nvPr/>
        </p:nvGraphicFramePr>
        <p:xfrm>
          <a:off x="4572000" y="2428920"/>
          <a:ext cx="130644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428920"/>
                    <a:ext cx="13064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19"/>
          <p:cNvGraphicFramePr/>
          <p:nvPr/>
        </p:nvGraphicFramePr>
        <p:xfrm>
          <a:off x="428760" y="3214800"/>
          <a:ext cx="2531880" cy="80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4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760" y="3214800"/>
                    <a:ext cx="25318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20"/>
          <p:cNvGraphicFramePr/>
          <p:nvPr/>
        </p:nvGraphicFramePr>
        <p:xfrm>
          <a:off x="3071880" y="3286080"/>
          <a:ext cx="2706480" cy="642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6" name="Object 2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71880" y="3286080"/>
                    <a:ext cx="27064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21"/>
          <p:cNvGraphicFramePr/>
          <p:nvPr/>
        </p:nvGraphicFramePr>
        <p:xfrm>
          <a:off x="571680" y="4000680"/>
          <a:ext cx="2371680" cy="807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8" name="Object 2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680" y="4000680"/>
                    <a:ext cx="23716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22"/>
          <p:cNvGraphicFramePr/>
          <p:nvPr/>
        </p:nvGraphicFramePr>
        <p:xfrm>
          <a:off x="3214800" y="4071960"/>
          <a:ext cx="2531880" cy="642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0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14800" y="4071960"/>
                    <a:ext cx="25318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23"/>
          <p:cNvGraphicFramePr/>
          <p:nvPr/>
        </p:nvGraphicFramePr>
        <p:xfrm>
          <a:off x="731880" y="4746600"/>
          <a:ext cx="2050920" cy="887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2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1880" y="4746600"/>
                    <a:ext cx="20509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24"/>
          <p:cNvGraphicFramePr/>
          <p:nvPr/>
        </p:nvGraphicFramePr>
        <p:xfrm>
          <a:off x="3129120" y="4714920"/>
          <a:ext cx="1649160" cy="887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4" name="Object 2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29120" y="4714920"/>
                    <a:ext cx="164916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25"/>
          <p:cNvGraphicFramePr/>
          <p:nvPr/>
        </p:nvGraphicFramePr>
        <p:xfrm>
          <a:off x="973080" y="5452920"/>
          <a:ext cx="1568520" cy="1333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6" name="Object 2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73080" y="5452920"/>
                    <a:ext cx="1568520" cy="13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26"/>
          <p:cNvGraphicFramePr/>
          <p:nvPr/>
        </p:nvGraphicFramePr>
        <p:xfrm>
          <a:off x="2967120" y="5524560"/>
          <a:ext cx="1206360" cy="1333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88" name="Object 2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967120" y="5524560"/>
                    <a:ext cx="120636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TextBox 14"/>
          <p:cNvSpPr/>
          <p:nvPr/>
        </p:nvSpPr>
        <p:spPr>
          <a:xfrm>
            <a:off x="4857840" y="578628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ес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0" name="Object 27"/>
          <p:cNvGraphicFramePr/>
          <p:nvPr/>
        </p:nvGraphicFramePr>
        <p:xfrm>
          <a:off x="6143760" y="5786280"/>
          <a:ext cx="1850760" cy="646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91" name="Object 27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143760" y="5786280"/>
                    <a:ext cx="185076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сконечно маленькая велич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00040" y="1143000"/>
            <a:ext cx="80726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есконечно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маленько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величиной называетс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переменна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ая при всех своих изменен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 некоторого мест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новится и остается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по модул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меньш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юбого, сколь угодно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малого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положительного числ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Object 2"/>
          <p:cNvGraphicFramePr/>
          <p:nvPr/>
        </p:nvGraphicFramePr>
        <p:xfrm>
          <a:off x="357120" y="4500720"/>
          <a:ext cx="938160" cy="10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500720"/>
                    <a:ext cx="93816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3"/>
          <p:cNvGraphicFramePr/>
          <p:nvPr/>
        </p:nvGraphicFramePr>
        <p:xfrm>
          <a:off x="2214720" y="4572000"/>
          <a:ext cx="5135400" cy="9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4720" y="4572000"/>
                    <a:ext cx="51354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4"/>
          <p:cNvGraphicFramePr/>
          <p:nvPr/>
        </p:nvGraphicFramePr>
        <p:xfrm>
          <a:off x="428760" y="5786280"/>
          <a:ext cx="714240" cy="10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760" y="5786280"/>
                    <a:ext cx="71424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5"/>
          <p:cNvGraphicFramePr/>
          <p:nvPr/>
        </p:nvGraphicFramePr>
        <p:xfrm>
          <a:off x="1928880" y="5572080"/>
          <a:ext cx="6885000" cy="107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28880" y="5572080"/>
                    <a:ext cx="68850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орму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3" name="Object 2"/>
          <p:cNvGraphicFramePr/>
          <p:nvPr/>
        </p:nvGraphicFramePr>
        <p:xfrm>
          <a:off x="4643280" y="1785960"/>
          <a:ext cx="430848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785960"/>
                    <a:ext cx="430848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3"/>
          <p:cNvGraphicFramePr/>
          <p:nvPr/>
        </p:nvGraphicFramePr>
        <p:xfrm>
          <a:off x="4714920" y="1071720"/>
          <a:ext cx="385776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1071720"/>
                    <a:ext cx="38577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21"/>
          <p:cNvGraphicFramePr/>
          <p:nvPr/>
        </p:nvGraphicFramePr>
        <p:xfrm>
          <a:off x="4572000" y="2571840"/>
          <a:ext cx="4357800" cy="76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571840"/>
                    <a:ext cx="43578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3"/>
          <p:cNvGraphicFramePr/>
          <p:nvPr/>
        </p:nvGraphicFramePr>
        <p:xfrm>
          <a:off x="5000760" y="3357720"/>
          <a:ext cx="3659040" cy="92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0760" y="3357720"/>
                    <a:ext cx="365904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25"/>
          <p:cNvGraphicFramePr/>
          <p:nvPr/>
        </p:nvGraphicFramePr>
        <p:xfrm>
          <a:off x="857160" y="4786200"/>
          <a:ext cx="2428920" cy="118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7160" y="4786200"/>
                    <a:ext cx="24289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Box 14"/>
          <p:cNvSpPr/>
          <p:nvPr/>
        </p:nvSpPr>
        <p:spPr>
          <a:xfrm>
            <a:off x="3357720" y="500076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ес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4" name="Object 27"/>
          <p:cNvGraphicFramePr/>
          <p:nvPr/>
        </p:nvGraphicFramePr>
        <p:xfrm>
          <a:off x="4572000" y="5072040"/>
          <a:ext cx="1851120" cy="646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5" name="Object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5072040"/>
                    <a:ext cx="185112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6"/>
          <p:cNvGraphicFramePr/>
          <p:nvPr/>
        </p:nvGraphicFramePr>
        <p:xfrm>
          <a:off x="1000080" y="1714680"/>
          <a:ext cx="2071800" cy="525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7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00080" y="1714680"/>
                    <a:ext cx="207180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16"/>
          <p:cNvGraphicFramePr/>
          <p:nvPr/>
        </p:nvGraphicFramePr>
        <p:xfrm>
          <a:off x="928800" y="2571840"/>
          <a:ext cx="2143080" cy="928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9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28800" y="2571840"/>
                    <a:ext cx="21430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17"/>
          <p:cNvGraphicFramePr/>
          <p:nvPr/>
        </p:nvGraphicFramePr>
        <p:xfrm>
          <a:off x="928800" y="785880"/>
          <a:ext cx="2000160" cy="500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1" name="Object 1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28800" y="785880"/>
                    <a:ext cx="20001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8"/>
          <p:cNvGraphicFramePr/>
          <p:nvPr/>
        </p:nvGraphicFramePr>
        <p:xfrm>
          <a:off x="928800" y="1285920"/>
          <a:ext cx="2071440" cy="460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3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28800" y="1285920"/>
                    <a:ext cx="20714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19"/>
          <p:cNvGraphicFramePr/>
          <p:nvPr/>
        </p:nvGraphicFramePr>
        <p:xfrm>
          <a:off x="428760" y="785880"/>
          <a:ext cx="298440" cy="463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5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28760" y="785880"/>
                    <a:ext cx="29844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20"/>
          <p:cNvGraphicFramePr/>
          <p:nvPr/>
        </p:nvGraphicFramePr>
        <p:xfrm>
          <a:off x="365040" y="1214280"/>
          <a:ext cx="425520" cy="4636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7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65040" y="1214280"/>
                    <a:ext cx="42552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21"/>
          <p:cNvGraphicFramePr/>
          <p:nvPr/>
        </p:nvGraphicFramePr>
        <p:xfrm>
          <a:off x="385920" y="1697040"/>
          <a:ext cx="384120" cy="500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19" name="Object 2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85920" y="1697040"/>
                    <a:ext cx="384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Object 22"/>
          <p:cNvGraphicFramePr/>
          <p:nvPr/>
        </p:nvGraphicFramePr>
        <p:xfrm>
          <a:off x="428760" y="2643120"/>
          <a:ext cx="425160" cy="4636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1" name="Object 2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28760" y="2643120"/>
                    <a:ext cx="42516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Object 23"/>
          <p:cNvGraphicFramePr/>
          <p:nvPr/>
        </p:nvGraphicFramePr>
        <p:xfrm>
          <a:off x="4102200" y="1054080"/>
          <a:ext cx="382320" cy="498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23" name="Object 23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102200" y="1054080"/>
                    <a:ext cx="38232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24"/>
          <p:cNvGraphicFramePr/>
          <p:nvPr/>
        </p:nvGraphicFramePr>
        <p:xfrm>
          <a:off x="4079880" y="1768320"/>
          <a:ext cx="425520" cy="498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25" name="Object 24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079880" y="1768320"/>
                    <a:ext cx="42552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25"/>
          <p:cNvGraphicFramePr/>
          <p:nvPr/>
        </p:nvGraphicFramePr>
        <p:xfrm>
          <a:off x="4079880" y="2625840"/>
          <a:ext cx="425520" cy="5000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27" name="Object 25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079880" y="2625840"/>
                    <a:ext cx="4255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26"/>
          <p:cNvGraphicFramePr/>
          <p:nvPr/>
        </p:nvGraphicFramePr>
        <p:xfrm>
          <a:off x="4173480" y="3554280"/>
          <a:ext cx="382680" cy="500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29" name="Object 2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173480" y="3554280"/>
                    <a:ext cx="3826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27"/>
          <p:cNvGraphicFramePr/>
          <p:nvPr/>
        </p:nvGraphicFramePr>
        <p:xfrm>
          <a:off x="243000" y="5126040"/>
          <a:ext cx="384120" cy="500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431" name="Object 27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43000" y="5126040"/>
                    <a:ext cx="384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Object 2"/>
          <p:cNvGraphicFramePr/>
          <p:nvPr/>
        </p:nvGraphicFramePr>
        <p:xfrm>
          <a:off x="1500120" y="428760"/>
          <a:ext cx="45118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428760"/>
                    <a:ext cx="4511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3"/>
          <p:cNvGraphicFramePr/>
          <p:nvPr/>
        </p:nvGraphicFramePr>
        <p:xfrm>
          <a:off x="500040" y="1357200"/>
          <a:ext cx="676764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357200"/>
                    <a:ext cx="67676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Object 2"/>
          <p:cNvGraphicFramePr/>
          <p:nvPr/>
        </p:nvGraphicFramePr>
        <p:xfrm>
          <a:off x="1500120" y="428760"/>
          <a:ext cx="45118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428760"/>
                    <a:ext cx="4511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3"/>
          <p:cNvGraphicFramePr/>
          <p:nvPr/>
        </p:nvGraphicFramePr>
        <p:xfrm>
          <a:off x="500040" y="1357200"/>
          <a:ext cx="676764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357200"/>
                    <a:ext cx="67676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4"/>
          <p:cNvGraphicFramePr/>
          <p:nvPr/>
        </p:nvGraphicFramePr>
        <p:xfrm>
          <a:off x="1082520" y="2500200"/>
          <a:ext cx="574524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2520" y="2500200"/>
                    <a:ext cx="57452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2" name="Object 2"/>
          <p:cNvGraphicFramePr/>
          <p:nvPr/>
        </p:nvGraphicFramePr>
        <p:xfrm>
          <a:off x="1500120" y="428760"/>
          <a:ext cx="45118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428760"/>
                    <a:ext cx="4511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3"/>
          <p:cNvGraphicFramePr/>
          <p:nvPr/>
        </p:nvGraphicFramePr>
        <p:xfrm>
          <a:off x="500040" y="1357200"/>
          <a:ext cx="676764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357200"/>
                    <a:ext cx="67676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4"/>
          <p:cNvGraphicFramePr/>
          <p:nvPr/>
        </p:nvGraphicFramePr>
        <p:xfrm>
          <a:off x="1082520" y="2500200"/>
          <a:ext cx="574524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2520" y="2500200"/>
                    <a:ext cx="57452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Object 2"/>
          <p:cNvGraphicFramePr/>
          <p:nvPr/>
        </p:nvGraphicFramePr>
        <p:xfrm>
          <a:off x="1500120" y="428760"/>
          <a:ext cx="45118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428760"/>
                    <a:ext cx="4511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3"/>
          <p:cNvGraphicFramePr/>
          <p:nvPr/>
        </p:nvGraphicFramePr>
        <p:xfrm>
          <a:off x="500040" y="1357200"/>
          <a:ext cx="676764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357200"/>
                    <a:ext cx="67676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4"/>
          <p:cNvGraphicFramePr/>
          <p:nvPr/>
        </p:nvGraphicFramePr>
        <p:xfrm>
          <a:off x="1082520" y="2500200"/>
          <a:ext cx="574524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2520" y="2500200"/>
                    <a:ext cx="57452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Object 2"/>
          <p:cNvGraphicFramePr/>
          <p:nvPr/>
        </p:nvGraphicFramePr>
        <p:xfrm>
          <a:off x="1500120" y="428760"/>
          <a:ext cx="45118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428760"/>
                    <a:ext cx="4511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3"/>
          <p:cNvGraphicFramePr/>
          <p:nvPr/>
        </p:nvGraphicFramePr>
        <p:xfrm>
          <a:off x="500040" y="1357200"/>
          <a:ext cx="676764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357200"/>
                    <a:ext cx="67676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Object 4"/>
          <p:cNvGraphicFramePr/>
          <p:nvPr/>
        </p:nvGraphicFramePr>
        <p:xfrm>
          <a:off x="1082520" y="2500200"/>
          <a:ext cx="574524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2520" y="2500200"/>
                    <a:ext cx="57452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6"/>
          <p:cNvGraphicFramePr/>
          <p:nvPr/>
        </p:nvGraphicFramePr>
        <p:xfrm>
          <a:off x="1071720" y="3429000"/>
          <a:ext cx="2808000" cy="107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1720" y="3429000"/>
                    <a:ext cx="28080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Object 2"/>
          <p:cNvGraphicFramePr/>
          <p:nvPr/>
        </p:nvGraphicFramePr>
        <p:xfrm>
          <a:off x="1500120" y="428760"/>
          <a:ext cx="45118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428760"/>
                    <a:ext cx="4511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3"/>
          <p:cNvGraphicFramePr/>
          <p:nvPr/>
        </p:nvGraphicFramePr>
        <p:xfrm>
          <a:off x="500040" y="1357200"/>
          <a:ext cx="676764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357200"/>
                    <a:ext cx="67676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4"/>
          <p:cNvGraphicFramePr/>
          <p:nvPr/>
        </p:nvGraphicFramePr>
        <p:xfrm>
          <a:off x="1082520" y="2500200"/>
          <a:ext cx="574524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2520" y="2500200"/>
                    <a:ext cx="57452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6"/>
          <p:cNvGraphicFramePr/>
          <p:nvPr/>
        </p:nvGraphicFramePr>
        <p:xfrm>
          <a:off x="1071720" y="3429000"/>
          <a:ext cx="2808000" cy="107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1720" y="3429000"/>
                    <a:ext cx="28080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6"/>
          <p:cNvGraphicFramePr/>
          <p:nvPr/>
        </p:nvGraphicFramePr>
        <p:xfrm>
          <a:off x="4000680" y="3714840"/>
          <a:ext cx="2466720" cy="50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00680" y="3714840"/>
                    <a:ext cx="24667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Object 2"/>
          <p:cNvGraphicFramePr/>
          <p:nvPr/>
        </p:nvGraphicFramePr>
        <p:xfrm>
          <a:off x="1500120" y="428760"/>
          <a:ext cx="45118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428760"/>
                    <a:ext cx="45118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3"/>
          <p:cNvGraphicFramePr/>
          <p:nvPr/>
        </p:nvGraphicFramePr>
        <p:xfrm>
          <a:off x="500040" y="1357200"/>
          <a:ext cx="6767640" cy="8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1357200"/>
                    <a:ext cx="67676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4"/>
          <p:cNvGraphicFramePr/>
          <p:nvPr/>
        </p:nvGraphicFramePr>
        <p:xfrm>
          <a:off x="1082520" y="2500200"/>
          <a:ext cx="5745240" cy="8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2520" y="2500200"/>
                    <a:ext cx="574524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Object 6"/>
          <p:cNvGraphicFramePr/>
          <p:nvPr/>
        </p:nvGraphicFramePr>
        <p:xfrm>
          <a:off x="1071720" y="3429000"/>
          <a:ext cx="2808000" cy="107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1720" y="3429000"/>
                    <a:ext cx="28080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Object 6"/>
          <p:cNvGraphicFramePr/>
          <p:nvPr/>
        </p:nvGraphicFramePr>
        <p:xfrm>
          <a:off x="4000680" y="3714840"/>
          <a:ext cx="2466720" cy="50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00680" y="3714840"/>
                    <a:ext cx="24667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Object 7"/>
          <p:cNvGraphicFramePr/>
          <p:nvPr/>
        </p:nvGraphicFramePr>
        <p:xfrm>
          <a:off x="1214280" y="4500720"/>
          <a:ext cx="2256120" cy="78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4280" y="4500720"/>
                    <a:ext cx="225612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Object 8"/>
          <p:cNvGraphicFramePr/>
          <p:nvPr/>
        </p:nvGraphicFramePr>
        <p:xfrm>
          <a:off x="3643200" y="4643280"/>
          <a:ext cx="2000520" cy="500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43200" y="4643280"/>
                    <a:ext cx="2000520" cy="5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Object 9"/>
          <p:cNvGraphicFramePr/>
          <p:nvPr/>
        </p:nvGraphicFramePr>
        <p:xfrm>
          <a:off x="1604880" y="5500800"/>
          <a:ext cx="1617840" cy="500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8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04880" y="5500800"/>
                    <a:ext cx="16178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10"/>
          <p:cNvGraphicFramePr/>
          <p:nvPr/>
        </p:nvGraphicFramePr>
        <p:xfrm>
          <a:off x="3214800" y="5500800"/>
          <a:ext cx="807840" cy="500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8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14800" y="5500800"/>
                    <a:ext cx="8078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11"/>
          <p:cNvGraphicFramePr/>
          <p:nvPr/>
        </p:nvGraphicFramePr>
        <p:xfrm>
          <a:off x="4000680" y="5572080"/>
          <a:ext cx="680760" cy="500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91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000680" y="5572080"/>
                    <a:ext cx="680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Object 2"/>
          <p:cNvGraphicFramePr/>
          <p:nvPr/>
        </p:nvGraphicFramePr>
        <p:xfrm>
          <a:off x="1839960" y="268200"/>
          <a:ext cx="382896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9960" y="268200"/>
                    <a:ext cx="382896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Object 3"/>
          <p:cNvGraphicFramePr/>
          <p:nvPr/>
        </p:nvGraphicFramePr>
        <p:xfrm>
          <a:off x="500040" y="2143080"/>
          <a:ext cx="297972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143080"/>
                    <a:ext cx="29797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extBox 6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7" name="Object 7"/>
          <p:cNvGraphicFramePr/>
          <p:nvPr/>
        </p:nvGraphicFramePr>
        <p:xfrm>
          <a:off x="3571920" y="2143080"/>
          <a:ext cx="344808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920" y="2143080"/>
                    <a:ext cx="34480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Object 8"/>
          <p:cNvGraphicFramePr/>
          <p:nvPr/>
        </p:nvGraphicFramePr>
        <p:xfrm>
          <a:off x="3429000" y="2928960"/>
          <a:ext cx="3022560" cy="71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2928960"/>
                    <a:ext cx="30225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Object 9"/>
          <p:cNvGraphicFramePr/>
          <p:nvPr/>
        </p:nvGraphicFramePr>
        <p:xfrm>
          <a:off x="6431040" y="2963880"/>
          <a:ext cx="1447560" cy="50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2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31040" y="2963880"/>
                    <a:ext cx="14475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Object 10"/>
          <p:cNvGraphicFramePr/>
          <p:nvPr/>
        </p:nvGraphicFramePr>
        <p:xfrm>
          <a:off x="357120" y="3714840"/>
          <a:ext cx="408168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4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120" y="3714840"/>
                    <a:ext cx="40816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5" name="Object 2"/>
          <p:cNvGraphicFramePr/>
          <p:nvPr/>
        </p:nvGraphicFramePr>
        <p:xfrm>
          <a:off x="1839960" y="268200"/>
          <a:ext cx="382896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9960" y="268200"/>
                    <a:ext cx="382896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3"/>
          <p:cNvGraphicFramePr/>
          <p:nvPr/>
        </p:nvGraphicFramePr>
        <p:xfrm>
          <a:off x="500040" y="2143080"/>
          <a:ext cx="297972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143080"/>
                    <a:ext cx="29797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TextBox 6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0" name="Object 4"/>
          <p:cNvGraphicFramePr/>
          <p:nvPr/>
        </p:nvGraphicFramePr>
        <p:xfrm>
          <a:off x="3571920" y="2143080"/>
          <a:ext cx="344808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920" y="2143080"/>
                    <a:ext cx="34480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Object 5"/>
          <p:cNvGraphicFramePr/>
          <p:nvPr/>
        </p:nvGraphicFramePr>
        <p:xfrm>
          <a:off x="3429000" y="2928960"/>
          <a:ext cx="3022560" cy="71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2928960"/>
                    <a:ext cx="30225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Object 6"/>
          <p:cNvGraphicFramePr/>
          <p:nvPr/>
        </p:nvGraphicFramePr>
        <p:xfrm>
          <a:off x="6431040" y="2963880"/>
          <a:ext cx="1447560" cy="50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31040" y="2963880"/>
                    <a:ext cx="14475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Object 7"/>
          <p:cNvGraphicFramePr/>
          <p:nvPr/>
        </p:nvGraphicFramePr>
        <p:xfrm>
          <a:off x="357120" y="3786120"/>
          <a:ext cx="3500640" cy="1357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120" y="3786120"/>
                    <a:ext cx="350064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Object 8"/>
          <p:cNvGraphicFramePr/>
          <p:nvPr/>
        </p:nvGraphicFramePr>
        <p:xfrm>
          <a:off x="4143240" y="3714840"/>
          <a:ext cx="4600800" cy="1285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9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714840"/>
                    <a:ext cx="4600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сконечно маленькая велич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0040" y="1143000"/>
            <a:ext cx="80726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есконечно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маленько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величиной называетс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переменна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ая при всех своих изменен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 некоторого мест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новится и остается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по модул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меньш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юбого, сколь угодно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малого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положительного числ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Object 2"/>
          <p:cNvGraphicFramePr/>
          <p:nvPr/>
        </p:nvGraphicFramePr>
        <p:xfrm>
          <a:off x="1214280" y="5286240"/>
          <a:ext cx="9684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5286240"/>
                    <a:ext cx="9684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"/>
          <p:cNvGraphicFramePr/>
          <p:nvPr/>
        </p:nvGraphicFramePr>
        <p:xfrm>
          <a:off x="3857760" y="5286240"/>
          <a:ext cx="100008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7760" y="5286240"/>
                    <a:ext cx="10000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4"/>
          <p:cNvGraphicFramePr/>
          <p:nvPr/>
        </p:nvGraphicFramePr>
        <p:xfrm>
          <a:off x="6286680" y="5143680"/>
          <a:ext cx="64260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6680" y="5143680"/>
                    <a:ext cx="64260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Object 2"/>
          <p:cNvGraphicFramePr/>
          <p:nvPr/>
        </p:nvGraphicFramePr>
        <p:xfrm>
          <a:off x="1839960" y="268200"/>
          <a:ext cx="382896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9960" y="268200"/>
                    <a:ext cx="382896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3"/>
          <p:cNvGraphicFramePr/>
          <p:nvPr/>
        </p:nvGraphicFramePr>
        <p:xfrm>
          <a:off x="500040" y="2143080"/>
          <a:ext cx="297972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143080"/>
                    <a:ext cx="29797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TextBox 6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5" name="Object 4"/>
          <p:cNvGraphicFramePr/>
          <p:nvPr/>
        </p:nvGraphicFramePr>
        <p:xfrm>
          <a:off x="3571920" y="2143080"/>
          <a:ext cx="344808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920" y="2143080"/>
                    <a:ext cx="34480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5"/>
          <p:cNvGraphicFramePr/>
          <p:nvPr/>
        </p:nvGraphicFramePr>
        <p:xfrm>
          <a:off x="3429000" y="2928960"/>
          <a:ext cx="3022560" cy="71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2928960"/>
                    <a:ext cx="30225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6"/>
          <p:cNvGraphicFramePr/>
          <p:nvPr/>
        </p:nvGraphicFramePr>
        <p:xfrm>
          <a:off x="6431040" y="2963880"/>
          <a:ext cx="1447560" cy="50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31040" y="2963880"/>
                    <a:ext cx="14475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7"/>
          <p:cNvGraphicFramePr/>
          <p:nvPr/>
        </p:nvGraphicFramePr>
        <p:xfrm>
          <a:off x="357120" y="3786120"/>
          <a:ext cx="3500640" cy="1357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3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120" y="3786120"/>
                    <a:ext cx="350064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8"/>
          <p:cNvGraphicFramePr/>
          <p:nvPr/>
        </p:nvGraphicFramePr>
        <p:xfrm>
          <a:off x="4143240" y="3714840"/>
          <a:ext cx="4600800" cy="1285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4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714840"/>
                    <a:ext cx="4600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Object 2"/>
          <p:cNvGraphicFramePr/>
          <p:nvPr/>
        </p:nvGraphicFramePr>
        <p:xfrm>
          <a:off x="1839960" y="268200"/>
          <a:ext cx="382896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9960" y="268200"/>
                    <a:ext cx="382896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3"/>
          <p:cNvGraphicFramePr/>
          <p:nvPr/>
        </p:nvGraphicFramePr>
        <p:xfrm>
          <a:off x="500040" y="2143080"/>
          <a:ext cx="297972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143080"/>
                    <a:ext cx="29797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TextBox 6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0" name="Object 4"/>
          <p:cNvGraphicFramePr/>
          <p:nvPr/>
        </p:nvGraphicFramePr>
        <p:xfrm>
          <a:off x="3571920" y="2143080"/>
          <a:ext cx="344808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920" y="2143080"/>
                    <a:ext cx="34480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5"/>
          <p:cNvGraphicFramePr/>
          <p:nvPr/>
        </p:nvGraphicFramePr>
        <p:xfrm>
          <a:off x="3429000" y="2928960"/>
          <a:ext cx="3022560" cy="71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2928960"/>
                    <a:ext cx="30225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6"/>
          <p:cNvGraphicFramePr/>
          <p:nvPr/>
        </p:nvGraphicFramePr>
        <p:xfrm>
          <a:off x="6431040" y="2963880"/>
          <a:ext cx="1447560" cy="50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31040" y="2963880"/>
                    <a:ext cx="14475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Object 7"/>
          <p:cNvGraphicFramePr/>
          <p:nvPr/>
        </p:nvGraphicFramePr>
        <p:xfrm>
          <a:off x="357120" y="3786120"/>
          <a:ext cx="3500640" cy="1357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120" y="3786120"/>
                    <a:ext cx="350064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8"/>
          <p:cNvGraphicFramePr/>
          <p:nvPr/>
        </p:nvGraphicFramePr>
        <p:xfrm>
          <a:off x="4143240" y="3714840"/>
          <a:ext cx="4600800" cy="1285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9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714840"/>
                    <a:ext cx="4600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9"/>
          <p:cNvGraphicFramePr/>
          <p:nvPr/>
        </p:nvGraphicFramePr>
        <p:xfrm>
          <a:off x="428760" y="5429160"/>
          <a:ext cx="3214440" cy="1071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1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8760" y="5429160"/>
                    <a:ext cx="321444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Object 10"/>
          <p:cNvGraphicFramePr/>
          <p:nvPr/>
        </p:nvGraphicFramePr>
        <p:xfrm>
          <a:off x="3643200" y="5572080"/>
          <a:ext cx="1492200" cy="922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53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43200" y="5572080"/>
                    <a:ext cx="14922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11"/>
          <p:cNvGraphicFramePr/>
          <p:nvPr/>
        </p:nvGraphicFramePr>
        <p:xfrm>
          <a:off x="5272200" y="5572080"/>
          <a:ext cx="1377720" cy="922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55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272200" y="5572080"/>
                    <a:ext cx="137772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Object 2"/>
          <p:cNvGraphicFramePr/>
          <p:nvPr/>
        </p:nvGraphicFramePr>
        <p:xfrm>
          <a:off x="1649520" y="268200"/>
          <a:ext cx="421164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68200"/>
                    <a:ext cx="42116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TextBox 4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9" name="Object 3"/>
          <p:cNvGraphicFramePr/>
          <p:nvPr/>
        </p:nvGraphicFramePr>
        <p:xfrm>
          <a:off x="500040" y="2214720"/>
          <a:ext cx="4511520" cy="85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45115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1" name="Object 4"/>
          <p:cNvGraphicFramePr/>
          <p:nvPr/>
        </p:nvGraphicFramePr>
        <p:xfrm>
          <a:off x="857160" y="3143160"/>
          <a:ext cx="698184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143160"/>
                    <a:ext cx="69818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Object 2"/>
          <p:cNvGraphicFramePr/>
          <p:nvPr/>
        </p:nvGraphicFramePr>
        <p:xfrm>
          <a:off x="1649520" y="268200"/>
          <a:ext cx="421164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68200"/>
                    <a:ext cx="42116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TextBox 4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6" name="Object 3"/>
          <p:cNvGraphicFramePr/>
          <p:nvPr/>
        </p:nvGraphicFramePr>
        <p:xfrm>
          <a:off x="500040" y="2214720"/>
          <a:ext cx="4511520" cy="85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45115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Object 4"/>
          <p:cNvGraphicFramePr/>
          <p:nvPr/>
        </p:nvGraphicFramePr>
        <p:xfrm>
          <a:off x="857160" y="3143160"/>
          <a:ext cx="698184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143160"/>
                    <a:ext cx="69818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5"/>
          <p:cNvGraphicFramePr/>
          <p:nvPr/>
        </p:nvGraphicFramePr>
        <p:xfrm>
          <a:off x="2014560" y="4464000"/>
          <a:ext cx="480996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4560" y="4464000"/>
                    <a:ext cx="48099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2" name="Object 2"/>
          <p:cNvGraphicFramePr/>
          <p:nvPr/>
        </p:nvGraphicFramePr>
        <p:xfrm>
          <a:off x="1649520" y="268200"/>
          <a:ext cx="421164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68200"/>
                    <a:ext cx="42116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TextBox 4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Object 3"/>
          <p:cNvGraphicFramePr/>
          <p:nvPr/>
        </p:nvGraphicFramePr>
        <p:xfrm>
          <a:off x="500040" y="2214720"/>
          <a:ext cx="4511520" cy="85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45115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Object 4"/>
          <p:cNvGraphicFramePr/>
          <p:nvPr/>
        </p:nvGraphicFramePr>
        <p:xfrm>
          <a:off x="857160" y="3143160"/>
          <a:ext cx="698184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143160"/>
                    <a:ext cx="69818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Object 5"/>
          <p:cNvGraphicFramePr/>
          <p:nvPr/>
        </p:nvGraphicFramePr>
        <p:xfrm>
          <a:off x="2014560" y="4464000"/>
          <a:ext cx="480996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4560" y="4464000"/>
                    <a:ext cx="48099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Object 6"/>
          <p:cNvGraphicFramePr/>
          <p:nvPr/>
        </p:nvGraphicFramePr>
        <p:xfrm>
          <a:off x="5867280" y="320760"/>
          <a:ext cx="2340000" cy="110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320760"/>
                    <a:ext cx="2340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3" name="Object 2"/>
          <p:cNvGraphicFramePr/>
          <p:nvPr/>
        </p:nvGraphicFramePr>
        <p:xfrm>
          <a:off x="1649520" y="268200"/>
          <a:ext cx="421164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68200"/>
                    <a:ext cx="42116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TextBox 4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6" name="Object 3"/>
          <p:cNvGraphicFramePr/>
          <p:nvPr/>
        </p:nvGraphicFramePr>
        <p:xfrm>
          <a:off x="500040" y="2214720"/>
          <a:ext cx="4511520" cy="85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45115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Object 4"/>
          <p:cNvGraphicFramePr/>
          <p:nvPr/>
        </p:nvGraphicFramePr>
        <p:xfrm>
          <a:off x="857160" y="3143160"/>
          <a:ext cx="698184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143160"/>
                    <a:ext cx="69818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5"/>
          <p:cNvGraphicFramePr/>
          <p:nvPr/>
        </p:nvGraphicFramePr>
        <p:xfrm>
          <a:off x="2014560" y="4464000"/>
          <a:ext cx="480996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4560" y="4464000"/>
                    <a:ext cx="48099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6"/>
          <p:cNvGraphicFramePr/>
          <p:nvPr/>
        </p:nvGraphicFramePr>
        <p:xfrm>
          <a:off x="5867280" y="320760"/>
          <a:ext cx="2340000" cy="110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320760"/>
                    <a:ext cx="2340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Object 2"/>
          <p:cNvGraphicFramePr/>
          <p:nvPr/>
        </p:nvGraphicFramePr>
        <p:xfrm>
          <a:off x="1649520" y="268200"/>
          <a:ext cx="421164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68200"/>
                    <a:ext cx="42116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TextBox 4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7" name="Object 3"/>
          <p:cNvGraphicFramePr/>
          <p:nvPr/>
        </p:nvGraphicFramePr>
        <p:xfrm>
          <a:off x="500040" y="2214720"/>
          <a:ext cx="4511520" cy="85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45115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Object 4"/>
          <p:cNvGraphicFramePr/>
          <p:nvPr/>
        </p:nvGraphicFramePr>
        <p:xfrm>
          <a:off x="857160" y="3143160"/>
          <a:ext cx="698184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143160"/>
                    <a:ext cx="69818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5"/>
          <p:cNvGraphicFramePr/>
          <p:nvPr/>
        </p:nvGraphicFramePr>
        <p:xfrm>
          <a:off x="2014560" y="4464000"/>
          <a:ext cx="480996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4560" y="4464000"/>
                    <a:ext cx="48099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6"/>
          <p:cNvGraphicFramePr/>
          <p:nvPr/>
        </p:nvGraphicFramePr>
        <p:xfrm>
          <a:off x="5867280" y="320760"/>
          <a:ext cx="2340000" cy="110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320760"/>
                    <a:ext cx="2340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5" name="Object 2"/>
          <p:cNvGraphicFramePr/>
          <p:nvPr/>
        </p:nvGraphicFramePr>
        <p:xfrm>
          <a:off x="1649520" y="268200"/>
          <a:ext cx="421164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68200"/>
                    <a:ext cx="42116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TextBox 4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8" name="Object 3"/>
          <p:cNvGraphicFramePr/>
          <p:nvPr/>
        </p:nvGraphicFramePr>
        <p:xfrm>
          <a:off x="500040" y="2214720"/>
          <a:ext cx="4511520" cy="85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45115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Object 4"/>
          <p:cNvGraphicFramePr/>
          <p:nvPr/>
        </p:nvGraphicFramePr>
        <p:xfrm>
          <a:off x="857160" y="3143160"/>
          <a:ext cx="698184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143160"/>
                    <a:ext cx="69818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Object 5"/>
          <p:cNvGraphicFramePr/>
          <p:nvPr/>
        </p:nvGraphicFramePr>
        <p:xfrm>
          <a:off x="2014560" y="4464000"/>
          <a:ext cx="480996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4560" y="4464000"/>
                    <a:ext cx="48099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Object 6"/>
          <p:cNvGraphicFramePr/>
          <p:nvPr/>
        </p:nvGraphicFramePr>
        <p:xfrm>
          <a:off x="5867280" y="320760"/>
          <a:ext cx="2340000" cy="110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320760"/>
                    <a:ext cx="2340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Object 2"/>
          <p:cNvGraphicFramePr/>
          <p:nvPr/>
        </p:nvGraphicFramePr>
        <p:xfrm>
          <a:off x="1649520" y="268200"/>
          <a:ext cx="421164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68200"/>
                    <a:ext cx="42116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TextBox 4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9" name="Object 3"/>
          <p:cNvGraphicFramePr/>
          <p:nvPr/>
        </p:nvGraphicFramePr>
        <p:xfrm>
          <a:off x="500040" y="2214720"/>
          <a:ext cx="4511520" cy="85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45115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Object 4"/>
          <p:cNvGraphicFramePr/>
          <p:nvPr/>
        </p:nvGraphicFramePr>
        <p:xfrm>
          <a:off x="857160" y="3143160"/>
          <a:ext cx="698184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143160"/>
                    <a:ext cx="69818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5"/>
          <p:cNvGraphicFramePr/>
          <p:nvPr/>
        </p:nvGraphicFramePr>
        <p:xfrm>
          <a:off x="2014560" y="4464000"/>
          <a:ext cx="480996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4560" y="4464000"/>
                    <a:ext cx="48099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5867280" y="320760"/>
          <a:ext cx="2340000" cy="110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320760"/>
                    <a:ext cx="2340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Object 2"/>
          <p:cNvGraphicFramePr/>
          <p:nvPr/>
        </p:nvGraphicFramePr>
        <p:xfrm>
          <a:off x="1649520" y="268200"/>
          <a:ext cx="4211640" cy="11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68200"/>
                    <a:ext cx="42116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TextBox 4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0" name="Object 3"/>
          <p:cNvGraphicFramePr/>
          <p:nvPr/>
        </p:nvGraphicFramePr>
        <p:xfrm>
          <a:off x="500040" y="2214720"/>
          <a:ext cx="4511520" cy="85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45115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Object 4"/>
          <p:cNvGraphicFramePr/>
          <p:nvPr/>
        </p:nvGraphicFramePr>
        <p:xfrm>
          <a:off x="857160" y="3143160"/>
          <a:ext cx="698184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143160"/>
                    <a:ext cx="69818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Object 5"/>
          <p:cNvGraphicFramePr/>
          <p:nvPr/>
        </p:nvGraphicFramePr>
        <p:xfrm>
          <a:off x="2014560" y="4464000"/>
          <a:ext cx="480996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4560" y="4464000"/>
                    <a:ext cx="48099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Object 6"/>
          <p:cNvGraphicFramePr/>
          <p:nvPr/>
        </p:nvGraphicFramePr>
        <p:xfrm>
          <a:off x="5867280" y="320760"/>
          <a:ext cx="2340000" cy="110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320760"/>
                    <a:ext cx="2340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сконечно большая велич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0040" y="1143000"/>
            <a:ext cx="80726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есконечно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большо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величиной называетс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переменна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ая при всех своих изменен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 некоторого мест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новится и остается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по модул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больш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юбого, сколь угодно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большого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положительного числ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Object 2"/>
          <p:cNvGraphicFramePr/>
          <p:nvPr/>
        </p:nvGraphicFramePr>
        <p:xfrm>
          <a:off x="434880" y="4846680"/>
          <a:ext cx="7812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4846680"/>
                    <a:ext cx="7812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3"/>
          <p:cNvGraphicFramePr/>
          <p:nvPr/>
        </p:nvGraphicFramePr>
        <p:xfrm>
          <a:off x="1857240" y="4786200"/>
          <a:ext cx="7728120" cy="47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7240" y="4786200"/>
                    <a:ext cx="77281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4"/>
          <p:cNvGraphicFramePr/>
          <p:nvPr/>
        </p:nvGraphicFramePr>
        <p:xfrm>
          <a:off x="428760" y="5857920"/>
          <a:ext cx="617400" cy="5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760" y="5857920"/>
                    <a:ext cx="6174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5"/>
          <p:cNvGraphicFramePr/>
          <p:nvPr/>
        </p:nvGraphicFramePr>
        <p:xfrm>
          <a:off x="2220840" y="5830920"/>
          <a:ext cx="6300720" cy="55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20840" y="5830920"/>
                    <a:ext cx="630072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Object 2"/>
          <p:cNvGraphicFramePr/>
          <p:nvPr/>
        </p:nvGraphicFramePr>
        <p:xfrm>
          <a:off x="1649520" y="214200"/>
          <a:ext cx="4211640" cy="12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14200"/>
                    <a:ext cx="421164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TextBox 4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1" name="Object 3"/>
          <p:cNvGraphicFramePr/>
          <p:nvPr/>
        </p:nvGraphicFramePr>
        <p:xfrm>
          <a:off x="500040" y="2214720"/>
          <a:ext cx="4511520" cy="85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45115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4"/>
          <p:cNvGraphicFramePr/>
          <p:nvPr/>
        </p:nvGraphicFramePr>
        <p:xfrm>
          <a:off x="857160" y="3143160"/>
          <a:ext cx="698184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143160"/>
                    <a:ext cx="69818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5"/>
          <p:cNvGraphicFramePr/>
          <p:nvPr/>
        </p:nvGraphicFramePr>
        <p:xfrm>
          <a:off x="2014560" y="4464000"/>
          <a:ext cx="480996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4560" y="4464000"/>
                    <a:ext cx="48099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6"/>
          <p:cNvGraphicFramePr/>
          <p:nvPr/>
        </p:nvGraphicFramePr>
        <p:xfrm>
          <a:off x="5867280" y="320760"/>
          <a:ext cx="2340000" cy="110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320760"/>
                    <a:ext cx="2340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9" name="Object 2"/>
          <p:cNvGraphicFramePr/>
          <p:nvPr/>
        </p:nvGraphicFramePr>
        <p:xfrm>
          <a:off x="1649520" y="214200"/>
          <a:ext cx="4211640" cy="12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14200"/>
                    <a:ext cx="421164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TextBox 4"/>
          <p:cNvSpPr/>
          <p:nvPr/>
        </p:nvSpPr>
        <p:spPr>
          <a:xfrm>
            <a:off x="500040" y="16430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2" name="Object 3"/>
          <p:cNvGraphicFramePr/>
          <p:nvPr/>
        </p:nvGraphicFramePr>
        <p:xfrm>
          <a:off x="500040" y="2214720"/>
          <a:ext cx="4511520" cy="85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2214720"/>
                    <a:ext cx="451152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4"/>
          <p:cNvGraphicFramePr/>
          <p:nvPr/>
        </p:nvGraphicFramePr>
        <p:xfrm>
          <a:off x="857160" y="3143160"/>
          <a:ext cx="698184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143160"/>
                    <a:ext cx="698184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Object 5"/>
          <p:cNvGraphicFramePr/>
          <p:nvPr/>
        </p:nvGraphicFramePr>
        <p:xfrm>
          <a:off x="2014560" y="4464000"/>
          <a:ext cx="480996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4560" y="4464000"/>
                    <a:ext cx="48099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6"/>
          <p:cNvGraphicFramePr/>
          <p:nvPr/>
        </p:nvGraphicFramePr>
        <p:xfrm>
          <a:off x="5867280" y="320760"/>
          <a:ext cx="2340000" cy="110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67280" y="320760"/>
                    <a:ext cx="2340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8"/>
          <p:cNvGraphicFramePr/>
          <p:nvPr/>
        </p:nvGraphicFramePr>
        <p:xfrm>
          <a:off x="892080" y="5286240"/>
          <a:ext cx="2127240" cy="110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92080" y="5286240"/>
                    <a:ext cx="21272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Object 9"/>
          <p:cNvGraphicFramePr/>
          <p:nvPr/>
        </p:nvGraphicFramePr>
        <p:xfrm>
          <a:off x="2928960" y="5518080"/>
          <a:ext cx="2127240" cy="787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3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28960" y="5518080"/>
                    <a:ext cx="21272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4" name="Object 2"/>
          <p:cNvGraphicFramePr/>
          <p:nvPr/>
        </p:nvGraphicFramePr>
        <p:xfrm>
          <a:off x="2224080" y="268200"/>
          <a:ext cx="30621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68200"/>
                    <a:ext cx="3062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6" name="TextBox 4"/>
          <p:cNvSpPr/>
          <p:nvPr/>
        </p:nvSpPr>
        <p:spPr>
          <a:xfrm>
            <a:off x="42876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7" name="Object 3"/>
          <p:cNvGraphicFramePr/>
          <p:nvPr/>
        </p:nvGraphicFramePr>
        <p:xfrm>
          <a:off x="500040" y="3786120"/>
          <a:ext cx="23842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786120"/>
                    <a:ext cx="2384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4"/>
          <p:cNvGraphicFramePr/>
          <p:nvPr/>
        </p:nvGraphicFramePr>
        <p:xfrm>
          <a:off x="2857680" y="3643200"/>
          <a:ext cx="24256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643200"/>
                    <a:ext cx="24256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Object 5"/>
          <p:cNvGraphicFramePr/>
          <p:nvPr/>
        </p:nvGraphicFramePr>
        <p:xfrm>
          <a:off x="5286240" y="3929040"/>
          <a:ext cx="18306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3929040"/>
                    <a:ext cx="1830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Object 2"/>
          <p:cNvGraphicFramePr/>
          <p:nvPr/>
        </p:nvGraphicFramePr>
        <p:xfrm>
          <a:off x="2224080" y="268200"/>
          <a:ext cx="30621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68200"/>
                    <a:ext cx="3062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TextBox 4"/>
          <p:cNvSpPr/>
          <p:nvPr/>
        </p:nvSpPr>
        <p:spPr>
          <a:xfrm>
            <a:off x="42876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6" name="Object 3"/>
          <p:cNvGraphicFramePr/>
          <p:nvPr/>
        </p:nvGraphicFramePr>
        <p:xfrm>
          <a:off x="500040" y="3786120"/>
          <a:ext cx="23842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786120"/>
                    <a:ext cx="2384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Object 4"/>
          <p:cNvGraphicFramePr/>
          <p:nvPr/>
        </p:nvGraphicFramePr>
        <p:xfrm>
          <a:off x="2857680" y="3643200"/>
          <a:ext cx="24256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643200"/>
                    <a:ext cx="24256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Object 5"/>
          <p:cNvGraphicFramePr/>
          <p:nvPr/>
        </p:nvGraphicFramePr>
        <p:xfrm>
          <a:off x="5286240" y="3929040"/>
          <a:ext cx="18306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3929040"/>
                    <a:ext cx="1830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Object 6"/>
          <p:cNvGraphicFramePr/>
          <p:nvPr/>
        </p:nvGraphicFramePr>
        <p:xfrm>
          <a:off x="5357880" y="285840"/>
          <a:ext cx="1744560" cy="110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285840"/>
                    <a:ext cx="1744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4" name="Object 2"/>
          <p:cNvGraphicFramePr/>
          <p:nvPr/>
        </p:nvGraphicFramePr>
        <p:xfrm>
          <a:off x="2224080" y="268200"/>
          <a:ext cx="30621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68200"/>
                    <a:ext cx="3062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6" name="TextBox 4"/>
          <p:cNvSpPr/>
          <p:nvPr/>
        </p:nvSpPr>
        <p:spPr>
          <a:xfrm>
            <a:off x="42876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7" name="Object 3"/>
          <p:cNvGraphicFramePr/>
          <p:nvPr/>
        </p:nvGraphicFramePr>
        <p:xfrm>
          <a:off x="500040" y="3786120"/>
          <a:ext cx="23842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786120"/>
                    <a:ext cx="2384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Object 4"/>
          <p:cNvGraphicFramePr/>
          <p:nvPr/>
        </p:nvGraphicFramePr>
        <p:xfrm>
          <a:off x="2857680" y="3643200"/>
          <a:ext cx="24256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643200"/>
                    <a:ext cx="24256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Object 5"/>
          <p:cNvGraphicFramePr/>
          <p:nvPr/>
        </p:nvGraphicFramePr>
        <p:xfrm>
          <a:off x="5286240" y="3929040"/>
          <a:ext cx="18306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3929040"/>
                    <a:ext cx="1830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6"/>
          <p:cNvGraphicFramePr/>
          <p:nvPr/>
        </p:nvGraphicFramePr>
        <p:xfrm>
          <a:off x="5357880" y="285840"/>
          <a:ext cx="1744560" cy="110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285840"/>
                    <a:ext cx="1744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5" name="Object 2"/>
          <p:cNvGraphicFramePr/>
          <p:nvPr/>
        </p:nvGraphicFramePr>
        <p:xfrm>
          <a:off x="2224080" y="268200"/>
          <a:ext cx="30621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68200"/>
                    <a:ext cx="3062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TextBox 4"/>
          <p:cNvSpPr/>
          <p:nvPr/>
        </p:nvSpPr>
        <p:spPr>
          <a:xfrm>
            <a:off x="42876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Object 3"/>
          <p:cNvGraphicFramePr/>
          <p:nvPr/>
        </p:nvGraphicFramePr>
        <p:xfrm>
          <a:off x="500040" y="3786120"/>
          <a:ext cx="23842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786120"/>
                    <a:ext cx="2384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Object 4"/>
          <p:cNvGraphicFramePr/>
          <p:nvPr/>
        </p:nvGraphicFramePr>
        <p:xfrm>
          <a:off x="2857680" y="3643200"/>
          <a:ext cx="24256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643200"/>
                    <a:ext cx="24256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Object 5"/>
          <p:cNvGraphicFramePr/>
          <p:nvPr/>
        </p:nvGraphicFramePr>
        <p:xfrm>
          <a:off x="5286240" y="3929040"/>
          <a:ext cx="18306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3929040"/>
                    <a:ext cx="1830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Object 6"/>
          <p:cNvGraphicFramePr/>
          <p:nvPr/>
        </p:nvGraphicFramePr>
        <p:xfrm>
          <a:off x="5357880" y="285840"/>
          <a:ext cx="1744560" cy="110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285840"/>
                    <a:ext cx="1744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6" name="Object 2"/>
          <p:cNvGraphicFramePr/>
          <p:nvPr/>
        </p:nvGraphicFramePr>
        <p:xfrm>
          <a:off x="2224080" y="268200"/>
          <a:ext cx="30621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68200"/>
                    <a:ext cx="3062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TextBox 4"/>
          <p:cNvSpPr/>
          <p:nvPr/>
        </p:nvSpPr>
        <p:spPr>
          <a:xfrm>
            <a:off x="42876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9" name="Object 3"/>
          <p:cNvGraphicFramePr/>
          <p:nvPr/>
        </p:nvGraphicFramePr>
        <p:xfrm>
          <a:off x="500040" y="3786120"/>
          <a:ext cx="23842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786120"/>
                    <a:ext cx="2384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Object 4"/>
          <p:cNvGraphicFramePr/>
          <p:nvPr/>
        </p:nvGraphicFramePr>
        <p:xfrm>
          <a:off x="2857680" y="3643200"/>
          <a:ext cx="24256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643200"/>
                    <a:ext cx="24256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Object 5"/>
          <p:cNvGraphicFramePr/>
          <p:nvPr/>
        </p:nvGraphicFramePr>
        <p:xfrm>
          <a:off x="5286240" y="3929040"/>
          <a:ext cx="18306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3929040"/>
                    <a:ext cx="1830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5" name="Object 6"/>
          <p:cNvGraphicFramePr/>
          <p:nvPr/>
        </p:nvGraphicFramePr>
        <p:xfrm>
          <a:off x="5357880" y="285840"/>
          <a:ext cx="1744560" cy="110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285840"/>
                    <a:ext cx="1744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7" name="Object 2"/>
          <p:cNvGraphicFramePr/>
          <p:nvPr/>
        </p:nvGraphicFramePr>
        <p:xfrm>
          <a:off x="2224080" y="268200"/>
          <a:ext cx="30621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68200"/>
                    <a:ext cx="3062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TextBox 4"/>
          <p:cNvSpPr/>
          <p:nvPr/>
        </p:nvSpPr>
        <p:spPr>
          <a:xfrm>
            <a:off x="42876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0" name="Object 3"/>
          <p:cNvGraphicFramePr/>
          <p:nvPr/>
        </p:nvGraphicFramePr>
        <p:xfrm>
          <a:off x="500040" y="3786120"/>
          <a:ext cx="23842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786120"/>
                    <a:ext cx="2384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Object 4"/>
          <p:cNvGraphicFramePr/>
          <p:nvPr/>
        </p:nvGraphicFramePr>
        <p:xfrm>
          <a:off x="2857680" y="3643200"/>
          <a:ext cx="24256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643200"/>
                    <a:ext cx="24256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Object 5"/>
          <p:cNvGraphicFramePr/>
          <p:nvPr/>
        </p:nvGraphicFramePr>
        <p:xfrm>
          <a:off x="5286240" y="3929040"/>
          <a:ext cx="18306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3929040"/>
                    <a:ext cx="1830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Object 6"/>
          <p:cNvGraphicFramePr/>
          <p:nvPr/>
        </p:nvGraphicFramePr>
        <p:xfrm>
          <a:off x="5357880" y="285840"/>
          <a:ext cx="1744560" cy="110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285840"/>
                    <a:ext cx="1744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8" name="Object 2"/>
          <p:cNvGraphicFramePr/>
          <p:nvPr/>
        </p:nvGraphicFramePr>
        <p:xfrm>
          <a:off x="2224080" y="268200"/>
          <a:ext cx="30621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68200"/>
                    <a:ext cx="3062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TextBox 4"/>
          <p:cNvSpPr/>
          <p:nvPr/>
        </p:nvSpPr>
        <p:spPr>
          <a:xfrm>
            <a:off x="42876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1" name="Object 3"/>
          <p:cNvGraphicFramePr/>
          <p:nvPr/>
        </p:nvGraphicFramePr>
        <p:xfrm>
          <a:off x="500040" y="3786120"/>
          <a:ext cx="23842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786120"/>
                    <a:ext cx="2384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3" name="Object 4"/>
          <p:cNvGraphicFramePr/>
          <p:nvPr/>
        </p:nvGraphicFramePr>
        <p:xfrm>
          <a:off x="2857680" y="3643200"/>
          <a:ext cx="24256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643200"/>
                    <a:ext cx="24256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Object 5"/>
          <p:cNvGraphicFramePr/>
          <p:nvPr/>
        </p:nvGraphicFramePr>
        <p:xfrm>
          <a:off x="5286240" y="3929040"/>
          <a:ext cx="18306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3929040"/>
                    <a:ext cx="1830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7" name="Object 6"/>
          <p:cNvGraphicFramePr/>
          <p:nvPr/>
        </p:nvGraphicFramePr>
        <p:xfrm>
          <a:off x="5357880" y="285840"/>
          <a:ext cx="1744560" cy="110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285840"/>
                    <a:ext cx="1744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7"/>
          <p:cNvGraphicFramePr/>
          <p:nvPr/>
        </p:nvGraphicFramePr>
        <p:xfrm>
          <a:off x="7072200" y="428760"/>
          <a:ext cx="676440" cy="88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4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72200" y="428760"/>
                    <a:ext cx="6764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1" name="Object 2"/>
          <p:cNvGraphicFramePr/>
          <p:nvPr/>
        </p:nvGraphicFramePr>
        <p:xfrm>
          <a:off x="2224080" y="268200"/>
          <a:ext cx="30621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68200"/>
                    <a:ext cx="3062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3" name="TextBox 4"/>
          <p:cNvSpPr/>
          <p:nvPr/>
        </p:nvSpPr>
        <p:spPr>
          <a:xfrm>
            <a:off x="42876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4" name="Object 3"/>
          <p:cNvGraphicFramePr/>
          <p:nvPr/>
        </p:nvGraphicFramePr>
        <p:xfrm>
          <a:off x="500040" y="3786120"/>
          <a:ext cx="23842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786120"/>
                    <a:ext cx="2384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Object 4"/>
          <p:cNvGraphicFramePr/>
          <p:nvPr/>
        </p:nvGraphicFramePr>
        <p:xfrm>
          <a:off x="2857680" y="3643200"/>
          <a:ext cx="24256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643200"/>
                    <a:ext cx="24256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Object 5"/>
          <p:cNvGraphicFramePr/>
          <p:nvPr/>
        </p:nvGraphicFramePr>
        <p:xfrm>
          <a:off x="5286240" y="3929040"/>
          <a:ext cx="18306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3929040"/>
                    <a:ext cx="1830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Object 6"/>
          <p:cNvGraphicFramePr/>
          <p:nvPr/>
        </p:nvGraphicFramePr>
        <p:xfrm>
          <a:off x="5357880" y="285840"/>
          <a:ext cx="1744560" cy="110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285840"/>
                    <a:ext cx="1744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2" name="Object 7"/>
          <p:cNvGraphicFramePr/>
          <p:nvPr/>
        </p:nvGraphicFramePr>
        <p:xfrm>
          <a:off x="7072200" y="428760"/>
          <a:ext cx="676440" cy="88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72200" y="428760"/>
                    <a:ext cx="6764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4" name="Object 8"/>
          <p:cNvGraphicFramePr/>
          <p:nvPr/>
        </p:nvGraphicFramePr>
        <p:xfrm>
          <a:off x="357120" y="1428840"/>
          <a:ext cx="4083120" cy="1288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7120" y="1428840"/>
                    <a:ext cx="408312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1214280" y="5227560"/>
          <a:ext cx="968400" cy="7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5227560"/>
                    <a:ext cx="96840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3"/>
          <p:cNvGraphicFramePr/>
          <p:nvPr/>
        </p:nvGraphicFramePr>
        <p:xfrm>
          <a:off x="3857760" y="5362560"/>
          <a:ext cx="100008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7760" y="5362560"/>
                    <a:ext cx="10000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4"/>
          <p:cNvGraphicFramePr/>
          <p:nvPr/>
        </p:nvGraphicFramePr>
        <p:xfrm>
          <a:off x="6286680" y="5189400"/>
          <a:ext cx="50004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6680" y="5189400"/>
                    <a:ext cx="5000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сконечно большая велич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0040" y="1143000"/>
            <a:ext cx="80726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есконечно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большо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величиной называетс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переменна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ая при всех своих изменен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 некоторого мест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тановится и остается </a:t>
            </a:r>
            <a:r>
              <a:rPr b="0" lang="ru-RU" sz="2700" spc="-1" strike="noStrike">
                <a:solidFill>
                  <a:srgbClr val="7030a0"/>
                </a:solidFill>
                <a:latin typeface="Calibri"/>
              </a:rPr>
              <a:t>по модул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больш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юбого, сколь угодно </a:t>
            </a: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большого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положительного числ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6" name="Object 2"/>
          <p:cNvGraphicFramePr/>
          <p:nvPr/>
        </p:nvGraphicFramePr>
        <p:xfrm>
          <a:off x="2224080" y="268200"/>
          <a:ext cx="30621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68200"/>
                    <a:ext cx="3062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TextBox 4"/>
          <p:cNvSpPr/>
          <p:nvPr/>
        </p:nvSpPr>
        <p:spPr>
          <a:xfrm>
            <a:off x="42876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9" name="Object 3"/>
          <p:cNvGraphicFramePr/>
          <p:nvPr/>
        </p:nvGraphicFramePr>
        <p:xfrm>
          <a:off x="500040" y="3786120"/>
          <a:ext cx="23842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786120"/>
                    <a:ext cx="2384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4"/>
          <p:cNvGraphicFramePr/>
          <p:nvPr/>
        </p:nvGraphicFramePr>
        <p:xfrm>
          <a:off x="2857680" y="3643200"/>
          <a:ext cx="24256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643200"/>
                    <a:ext cx="24256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Object 5"/>
          <p:cNvGraphicFramePr/>
          <p:nvPr/>
        </p:nvGraphicFramePr>
        <p:xfrm>
          <a:off x="5286240" y="3929040"/>
          <a:ext cx="18306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3929040"/>
                    <a:ext cx="1830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Object 6"/>
          <p:cNvGraphicFramePr/>
          <p:nvPr/>
        </p:nvGraphicFramePr>
        <p:xfrm>
          <a:off x="5357880" y="285840"/>
          <a:ext cx="1744560" cy="110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285840"/>
                    <a:ext cx="1744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7"/>
          <p:cNvGraphicFramePr/>
          <p:nvPr/>
        </p:nvGraphicFramePr>
        <p:xfrm>
          <a:off x="7072200" y="428760"/>
          <a:ext cx="676440" cy="88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72200" y="428760"/>
                    <a:ext cx="6764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9" name="Object 8"/>
          <p:cNvGraphicFramePr/>
          <p:nvPr/>
        </p:nvGraphicFramePr>
        <p:xfrm>
          <a:off x="428760" y="1428840"/>
          <a:ext cx="4254480" cy="1360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7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8760" y="1428840"/>
                    <a:ext cx="425448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Object 9"/>
          <p:cNvGraphicFramePr/>
          <p:nvPr/>
        </p:nvGraphicFramePr>
        <p:xfrm>
          <a:off x="4643280" y="1571760"/>
          <a:ext cx="2595600" cy="110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7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43280" y="1571760"/>
                    <a:ext cx="259560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3" name="TextBox 10"/>
          <p:cNvSpPr/>
          <p:nvPr/>
        </p:nvSpPr>
        <p:spPr>
          <a:xfrm>
            <a:off x="571680" y="485784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4" name="Object 10"/>
          <p:cNvGraphicFramePr/>
          <p:nvPr/>
        </p:nvGraphicFramePr>
        <p:xfrm>
          <a:off x="550800" y="5500800"/>
          <a:ext cx="2427480" cy="855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5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0800" y="5500800"/>
                    <a:ext cx="24274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Object 11"/>
          <p:cNvGraphicFramePr/>
          <p:nvPr/>
        </p:nvGraphicFramePr>
        <p:xfrm>
          <a:off x="2979720" y="5357880"/>
          <a:ext cx="2468520" cy="1068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77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79720" y="5357880"/>
                    <a:ext cx="24685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8" name="Object 12"/>
          <p:cNvGraphicFramePr/>
          <p:nvPr/>
        </p:nvGraphicFramePr>
        <p:xfrm>
          <a:off x="5337000" y="5572080"/>
          <a:ext cx="1873440" cy="569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79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37000" y="5572080"/>
                    <a:ext cx="187344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0" name="Object 2"/>
          <p:cNvGraphicFramePr/>
          <p:nvPr/>
        </p:nvGraphicFramePr>
        <p:xfrm>
          <a:off x="2224080" y="268200"/>
          <a:ext cx="3062160" cy="11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4080" y="268200"/>
                    <a:ext cx="306216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TextBox 4"/>
          <p:cNvSpPr/>
          <p:nvPr/>
        </p:nvSpPr>
        <p:spPr>
          <a:xfrm>
            <a:off x="42876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3" name="Object 3"/>
          <p:cNvGraphicFramePr/>
          <p:nvPr/>
        </p:nvGraphicFramePr>
        <p:xfrm>
          <a:off x="500040" y="3786120"/>
          <a:ext cx="2384280" cy="8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786120"/>
                    <a:ext cx="23842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Object 4"/>
          <p:cNvGraphicFramePr/>
          <p:nvPr/>
        </p:nvGraphicFramePr>
        <p:xfrm>
          <a:off x="2857680" y="3643200"/>
          <a:ext cx="24256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643200"/>
                    <a:ext cx="24256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7" name="Object 5"/>
          <p:cNvGraphicFramePr/>
          <p:nvPr/>
        </p:nvGraphicFramePr>
        <p:xfrm>
          <a:off x="5286240" y="3929040"/>
          <a:ext cx="18306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3929040"/>
                    <a:ext cx="1830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6"/>
          <p:cNvGraphicFramePr/>
          <p:nvPr/>
        </p:nvGraphicFramePr>
        <p:xfrm>
          <a:off x="5357880" y="285840"/>
          <a:ext cx="1744560" cy="110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285840"/>
                    <a:ext cx="174456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1" name="Object 7"/>
          <p:cNvGraphicFramePr/>
          <p:nvPr/>
        </p:nvGraphicFramePr>
        <p:xfrm>
          <a:off x="7072200" y="428760"/>
          <a:ext cx="676440" cy="88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72200" y="428760"/>
                    <a:ext cx="6764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3" name="Object 8"/>
          <p:cNvGraphicFramePr/>
          <p:nvPr/>
        </p:nvGraphicFramePr>
        <p:xfrm>
          <a:off x="428760" y="1428840"/>
          <a:ext cx="4254480" cy="1360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4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8760" y="1428840"/>
                    <a:ext cx="425448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5" name="Object 9"/>
          <p:cNvGraphicFramePr/>
          <p:nvPr/>
        </p:nvGraphicFramePr>
        <p:xfrm>
          <a:off x="4643280" y="1571760"/>
          <a:ext cx="2595600" cy="110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9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43280" y="1571760"/>
                    <a:ext cx="2595600" cy="11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7" name="TextBox 10"/>
          <p:cNvSpPr/>
          <p:nvPr/>
        </p:nvSpPr>
        <p:spPr>
          <a:xfrm>
            <a:off x="571680" y="485784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8" name="Object 10"/>
          <p:cNvGraphicFramePr/>
          <p:nvPr/>
        </p:nvGraphicFramePr>
        <p:xfrm>
          <a:off x="550800" y="5500800"/>
          <a:ext cx="2427480" cy="855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9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0800" y="5500800"/>
                    <a:ext cx="24274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Object 11"/>
          <p:cNvGraphicFramePr/>
          <p:nvPr/>
        </p:nvGraphicFramePr>
        <p:xfrm>
          <a:off x="2979720" y="5357880"/>
          <a:ext cx="2468520" cy="1068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01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79720" y="5357880"/>
                    <a:ext cx="24685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Object 12"/>
          <p:cNvGraphicFramePr/>
          <p:nvPr/>
        </p:nvGraphicFramePr>
        <p:xfrm>
          <a:off x="5337000" y="5572080"/>
          <a:ext cx="1873440" cy="569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03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37000" y="5572080"/>
                    <a:ext cx="187344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Object 13"/>
          <p:cNvGraphicFramePr/>
          <p:nvPr/>
        </p:nvGraphicFramePr>
        <p:xfrm>
          <a:off x="7148520" y="1643040"/>
          <a:ext cx="2030400" cy="928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05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48520" y="1643040"/>
                    <a:ext cx="20304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6" name="Object 14"/>
          <p:cNvGraphicFramePr/>
          <p:nvPr/>
        </p:nvGraphicFramePr>
        <p:xfrm>
          <a:off x="4786200" y="2714760"/>
          <a:ext cx="2127240" cy="1108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07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786200" y="2714760"/>
                    <a:ext cx="21272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8" name="Object 15"/>
          <p:cNvGraphicFramePr/>
          <p:nvPr/>
        </p:nvGraphicFramePr>
        <p:xfrm>
          <a:off x="7016760" y="2928960"/>
          <a:ext cx="2127240" cy="7873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09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016760" y="2928960"/>
                    <a:ext cx="21272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ойства бесконечно мал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Object 2"/>
          <p:cNvGraphicFramePr/>
          <p:nvPr/>
        </p:nvGraphicFramePr>
        <p:xfrm>
          <a:off x="500040" y="1428840"/>
          <a:ext cx="286848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428840"/>
                    <a:ext cx="286848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3"/>
          <p:cNvGraphicFramePr/>
          <p:nvPr/>
        </p:nvGraphicFramePr>
        <p:xfrm>
          <a:off x="3357720" y="1500120"/>
          <a:ext cx="717480" cy="6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1500120"/>
                    <a:ext cx="7174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4"/>
          <p:cNvGraphicFramePr/>
          <p:nvPr/>
        </p:nvGraphicFramePr>
        <p:xfrm>
          <a:off x="500040" y="2500200"/>
          <a:ext cx="2868480" cy="83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40" y="2500200"/>
                    <a:ext cx="286848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5"/>
          <p:cNvGraphicFramePr/>
          <p:nvPr/>
        </p:nvGraphicFramePr>
        <p:xfrm>
          <a:off x="3357720" y="2643120"/>
          <a:ext cx="717480" cy="67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2643120"/>
                    <a:ext cx="7174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6"/>
          <p:cNvGraphicFramePr/>
          <p:nvPr/>
        </p:nvGraphicFramePr>
        <p:xfrm>
          <a:off x="785880" y="3773520"/>
          <a:ext cx="2295360" cy="569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5880" y="3773520"/>
                    <a:ext cx="22953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7"/>
          <p:cNvGraphicFramePr/>
          <p:nvPr/>
        </p:nvGraphicFramePr>
        <p:xfrm>
          <a:off x="3286080" y="3714840"/>
          <a:ext cx="717480" cy="674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86080" y="3714840"/>
                    <a:ext cx="7174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8"/>
          <p:cNvGraphicFramePr/>
          <p:nvPr/>
        </p:nvGraphicFramePr>
        <p:xfrm>
          <a:off x="785880" y="4929120"/>
          <a:ext cx="2438280" cy="5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85880" y="4929120"/>
                    <a:ext cx="24382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9"/>
          <p:cNvGraphicFramePr/>
          <p:nvPr/>
        </p:nvGraphicFramePr>
        <p:xfrm>
          <a:off x="3214800" y="4929120"/>
          <a:ext cx="717480" cy="674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5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14800" y="4929120"/>
                    <a:ext cx="7174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10"/>
          <p:cNvGraphicFramePr/>
          <p:nvPr/>
        </p:nvGraphicFramePr>
        <p:xfrm>
          <a:off x="5143680" y="1428840"/>
          <a:ext cx="1649160" cy="1606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143680" y="1428840"/>
                    <a:ext cx="1649160" cy="16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11"/>
          <p:cNvGraphicFramePr/>
          <p:nvPr/>
        </p:nvGraphicFramePr>
        <p:xfrm>
          <a:off x="6643800" y="1857240"/>
          <a:ext cx="860400" cy="675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9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43800" y="1857240"/>
                    <a:ext cx="86040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12"/>
          <p:cNvGraphicFramePr/>
          <p:nvPr/>
        </p:nvGraphicFramePr>
        <p:xfrm>
          <a:off x="5214960" y="3521160"/>
          <a:ext cx="1649520" cy="1709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214960" y="3521160"/>
                    <a:ext cx="1649520" cy="17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6892920" y="3903840"/>
          <a:ext cx="646200" cy="726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892920" y="3903840"/>
                    <a:ext cx="6462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ойства бесконечно больши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2"/>
          <p:cNvGraphicFramePr/>
          <p:nvPr/>
        </p:nvGraphicFramePr>
        <p:xfrm>
          <a:off x="500040" y="1506600"/>
          <a:ext cx="286848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506600"/>
                    <a:ext cx="28684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3"/>
          <p:cNvGraphicFramePr/>
          <p:nvPr/>
        </p:nvGraphicFramePr>
        <p:xfrm>
          <a:off x="3286080" y="1474920"/>
          <a:ext cx="86040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1474920"/>
                    <a:ext cx="8604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4"/>
          <p:cNvGraphicFramePr/>
          <p:nvPr/>
        </p:nvGraphicFramePr>
        <p:xfrm>
          <a:off x="500040" y="2577960"/>
          <a:ext cx="2868480" cy="67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40" y="2577960"/>
                    <a:ext cx="286848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3286080" y="2617920"/>
          <a:ext cx="860400" cy="72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6080" y="2617920"/>
                    <a:ext cx="8604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785880" y="3695760"/>
          <a:ext cx="2295360" cy="725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5880" y="3695760"/>
                    <a:ext cx="22953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7"/>
          <p:cNvGraphicFramePr/>
          <p:nvPr/>
        </p:nvGraphicFramePr>
        <p:xfrm>
          <a:off x="3214800" y="3689280"/>
          <a:ext cx="860400" cy="72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14800" y="3689280"/>
                    <a:ext cx="8604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8"/>
          <p:cNvGraphicFramePr/>
          <p:nvPr/>
        </p:nvGraphicFramePr>
        <p:xfrm>
          <a:off x="785880" y="4851360"/>
          <a:ext cx="2438280" cy="725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85880" y="4851360"/>
                    <a:ext cx="24382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9"/>
          <p:cNvGraphicFramePr/>
          <p:nvPr/>
        </p:nvGraphicFramePr>
        <p:xfrm>
          <a:off x="3143160" y="4903920"/>
          <a:ext cx="860400" cy="726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43160" y="4903920"/>
                    <a:ext cx="8604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0"/>
          <p:cNvGraphicFramePr/>
          <p:nvPr/>
        </p:nvGraphicFramePr>
        <p:xfrm>
          <a:off x="5143680" y="1428840"/>
          <a:ext cx="1649160" cy="1606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2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143680" y="1428840"/>
                    <a:ext cx="1649160" cy="16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1"/>
          <p:cNvGraphicFramePr/>
          <p:nvPr/>
        </p:nvGraphicFramePr>
        <p:xfrm>
          <a:off x="6643800" y="1908000"/>
          <a:ext cx="860400" cy="571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43800" y="1908000"/>
                    <a:ext cx="8604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5214960" y="3573360"/>
          <a:ext cx="1649520" cy="1605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214960" y="3573360"/>
                    <a:ext cx="1649520" cy="16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13"/>
          <p:cNvGraphicFramePr/>
          <p:nvPr/>
        </p:nvGraphicFramePr>
        <p:xfrm>
          <a:off x="6892920" y="3903840"/>
          <a:ext cx="646200" cy="726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8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892920" y="3903840"/>
                    <a:ext cx="6462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войства бесконечно больших и бесконечно мал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Object 2"/>
          <p:cNvGraphicFramePr/>
          <p:nvPr/>
        </p:nvGraphicFramePr>
        <p:xfrm>
          <a:off x="285840" y="1754280"/>
          <a:ext cx="273348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754280"/>
                    <a:ext cx="273348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4"/>
          <p:cNvGraphicFramePr/>
          <p:nvPr/>
        </p:nvGraphicFramePr>
        <p:xfrm>
          <a:off x="5945040" y="1827360"/>
          <a:ext cx="2846520" cy="27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5040" y="1827360"/>
                    <a:ext cx="284652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5"/>
          <p:cNvGraphicFramePr/>
          <p:nvPr/>
        </p:nvGraphicFramePr>
        <p:xfrm>
          <a:off x="3286080" y="3000240"/>
          <a:ext cx="1897200" cy="258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6080" y="3000240"/>
                    <a:ext cx="189720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16"/>
          <p:cNvGraphicFramePr/>
          <p:nvPr/>
        </p:nvGraphicFramePr>
        <p:xfrm>
          <a:off x="714240" y="5214960"/>
          <a:ext cx="1730520" cy="13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4240" y="5214960"/>
                    <a:ext cx="173052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7"/>
          <p:cNvGraphicFramePr/>
          <p:nvPr/>
        </p:nvGraphicFramePr>
        <p:xfrm>
          <a:off x="6929280" y="5183280"/>
          <a:ext cx="1730520" cy="1251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29280" y="5183280"/>
                    <a:ext cx="173052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1008000" y="1571760"/>
          <a:ext cx="2174760" cy="56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571760"/>
                    <a:ext cx="217476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3"/>
          <p:cNvGraphicFramePr/>
          <p:nvPr/>
        </p:nvGraphicFramePr>
        <p:xfrm>
          <a:off x="1000080" y="2286000"/>
          <a:ext cx="217476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2286000"/>
                    <a:ext cx="21747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4"/>
          <p:cNvGraphicFramePr/>
          <p:nvPr/>
        </p:nvGraphicFramePr>
        <p:xfrm>
          <a:off x="3071880" y="1571760"/>
          <a:ext cx="558720" cy="56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571760"/>
                    <a:ext cx="558720" cy="56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5"/>
          <p:cNvGraphicFramePr/>
          <p:nvPr/>
        </p:nvGraphicFramePr>
        <p:xfrm>
          <a:off x="3143160" y="2428920"/>
          <a:ext cx="669960" cy="40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43160" y="2428920"/>
                    <a:ext cx="6699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6"/>
          <p:cNvGraphicFramePr/>
          <p:nvPr/>
        </p:nvGraphicFramePr>
        <p:xfrm>
          <a:off x="1154160" y="3195720"/>
          <a:ext cx="2008080" cy="563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54160" y="3195720"/>
                    <a:ext cx="20080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7"/>
          <p:cNvGraphicFramePr/>
          <p:nvPr/>
        </p:nvGraphicFramePr>
        <p:xfrm>
          <a:off x="3143160" y="3286080"/>
          <a:ext cx="501840" cy="442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43160" y="3286080"/>
                    <a:ext cx="501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8"/>
          <p:cNvGraphicFramePr/>
          <p:nvPr/>
        </p:nvGraphicFramePr>
        <p:xfrm>
          <a:off x="658800" y="4054320"/>
          <a:ext cx="2119320" cy="885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4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8800" y="4054320"/>
                    <a:ext cx="211932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9"/>
          <p:cNvGraphicFramePr/>
          <p:nvPr/>
        </p:nvGraphicFramePr>
        <p:xfrm>
          <a:off x="2786040" y="4143240"/>
          <a:ext cx="501840" cy="56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86040" y="4143240"/>
                    <a:ext cx="50184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1"/>
          <p:cNvGraphicFramePr/>
          <p:nvPr/>
        </p:nvGraphicFramePr>
        <p:xfrm>
          <a:off x="2330280" y="4726080"/>
          <a:ext cx="3291120" cy="927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8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30280" y="4726080"/>
                    <a:ext cx="32911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2"/>
          <p:cNvGraphicFramePr/>
          <p:nvPr/>
        </p:nvGraphicFramePr>
        <p:xfrm>
          <a:off x="5500800" y="4786200"/>
          <a:ext cx="1225440" cy="563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0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00800" y="4786200"/>
                    <a:ext cx="122544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13"/>
          <p:cNvGraphicFramePr/>
          <p:nvPr/>
        </p:nvGraphicFramePr>
        <p:xfrm>
          <a:off x="4572000" y="5572080"/>
          <a:ext cx="2509920" cy="885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2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72000" y="5572080"/>
                    <a:ext cx="250992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14"/>
          <p:cNvGraphicFramePr/>
          <p:nvPr/>
        </p:nvGraphicFramePr>
        <p:xfrm>
          <a:off x="6929280" y="5643720"/>
          <a:ext cx="836640" cy="563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4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29280" y="5643720"/>
                    <a:ext cx="83664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6:26:40Z</dcterms:created>
  <dc:creator>Ольга</dc:creator>
  <dc:description/>
  <dc:language>en-US</dc:language>
  <cp:lastModifiedBy>Ольга</cp:lastModifiedBy>
  <dcterms:modified xsi:type="dcterms:W3CDTF">2012-06-15T15:04:15Z</dcterms:modified>
  <cp:revision>52</cp:revision>
  <dc:subject/>
  <dc:title>Предел</dc:title>
</cp:coreProperties>
</file>