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1B0-0A67-46CA-BF7F-44AF50AF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A8C-4A94-4002-8F2D-1DC2EDDB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444-6281-4CC0-96B6-5C8928B2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26F-E311-42E0-9BD2-BAF68CD8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3A1-FE8A-42F7-9ED1-C952FBA9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F2B-5E94-4A7C-8024-D401F5CA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3BE-B092-4B58-833A-9984302A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9DE-EBE6-426F-88D7-05AE209E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3AA-FC87-4E83-BFFA-570FF909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45F-9CD0-498A-B41B-47D4BE06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0BE-AB50-4BFB-BFB1-BBD98EB0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6E5-E30A-4D0A-AF71-C7B6A2DA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DB5A-6D2B-4927-A846-BEBAE4107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роицкий Собор-Жемчужина Сара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полнил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ченики 8 б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вер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учный руководитель Калдыкина М.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тследить, как менялся архитектурный облик Троицкого Собора в связи с различными историческими событ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зучить историю Троицкого со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пределить основные вехи его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пределить, в чем уникальность Троицкого со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пределить, менялся ли облик Троицкого собора под влиянием исторических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пределить характер этих изменений-конструктивный или деструкт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рхитектурный облик соборав целом был сохранен в ходе всех реконструкций,так как его значение в культурной жизни города было вели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7620120" cy="2800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тарый собо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начальный облик со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1949 г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ято-Троицкий собор (Саратов)19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5"/>
          <p:cNvGraphicFramePr/>
          <p:nvPr/>
        </p:nvGraphicFramePr>
        <p:xfrm>
          <a:off x="-1882800" y="41400"/>
          <a:ext cx="27529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82800" y="41400"/>
                    <a:ext cx="2752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6"/>
          <p:cNvSpPr/>
          <p:nvPr/>
        </p:nvSpPr>
        <p:spPr>
          <a:xfrm>
            <a:off x="698040" y="-15516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18288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-1882800" y="739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левые особенности собора были сохранены в ходе всех реконстру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ем кроются причины, побудившие сохранить облик собора в первозданном виде? Над этим вопросом работала группа социологов. Вот результаты их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600200" y="609480"/>
          <a:ext cx="502920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0292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A7 X64</cp:lastModifiedBy>
  <dcterms:modified xsi:type="dcterms:W3CDTF">2012-06-15T15:40:5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