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D24-A754-4D6C-BA8C-3A772BBD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7CF-08D9-44D3-B8D9-1A1F1404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E06-A354-44FA-BBA0-C982076E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686-DB05-44B8-BC5D-2C290596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11EC-B4CB-4562-9DBE-09AB6562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9ED-3A77-4AE5-B926-12F867E3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AF9-8138-4674-BC0C-0F1B9767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3113-0671-4220-9437-EB0030A6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136-E318-4E6D-8001-BE61C8B0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6E7E-5872-4F6B-B38B-B44BC1C4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B6E-21FA-4D60-84E2-E010F345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3BF-21E0-44BB-B460-2E6189CD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731D-C390-45A5-8826-AB14E72076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Троицкий Собор-Жемчужина Сара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ыполнил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ченики 8 б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вер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учный руководитель Калдыкина М.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тследить, как менялся архитектурный облик Троицкого Собора в связи с различными историческими событ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Задачи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зучить историю Троицкого со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пределить основные вехи его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пределить, в чем уникальность Троицкого со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пределить, менялся ли облик Троицкого собора под влиянием исторических соб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пределить характер этих изменений-конструктивный или деструкти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рхитектурный облик соборав целом был сохранен в ходе всех реконструкций,так как его значение в культурной жизни города было вели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09480" y="3124080"/>
            <a:ext cx="7620120" cy="2800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тарый собо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начальный облик со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1949 г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ято-Троицкий собор (Саратов)19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5"/>
          <p:cNvGraphicFramePr/>
          <p:nvPr/>
        </p:nvGraphicFramePr>
        <p:xfrm>
          <a:off x="-1882800" y="41400"/>
          <a:ext cx="27529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82800" y="41400"/>
                    <a:ext cx="2752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6"/>
          <p:cNvSpPr/>
          <p:nvPr/>
        </p:nvSpPr>
        <p:spPr>
          <a:xfrm>
            <a:off x="698040" y="-15516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-182880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-1882800" y="739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левые особенности собора были сохранены в ходе всех реконстру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чем кроются причины, побудившие сохранить облик собора в первозданном виде? Над этим вопросом работала группа социологов. Вот результаты их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600200" y="609480"/>
          <a:ext cx="502920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50292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NA7 X64</cp:lastModifiedBy>
  <dcterms:modified xsi:type="dcterms:W3CDTF">2012-06-15T15:40:5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