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png" ContentType="image/png"/>
  <Override PartName="/ppt/media/image26.jpeg" ContentType="image/jpeg"/>
  <Override PartName="/ppt/media/image25.jpeg" ContentType="image/jpeg"/>
  <Override PartName="/ppt/media/image2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77B-2518-49FB-9DEF-63A8DCB9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CA4-7ED1-4D6A-85A1-AD4F3499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281-984C-49F5-A5CA-C3DF07EE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80A-BECA-44CA-AFB9-77711066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D71-763A-455E-89A8-5A1CE5F3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0C2-8A20-4F3C-AF86-7C6B1005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9744-9F5B-4DD2-9BE1-B4449169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46B-0AA3-4CAF-8681-CC060CE0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082-7208-43A7-9837-3950B99A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C91-1239-4DAC-BA15-EB78930C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754-52C5-4A78-A22F-AB5738D7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DB5-E5AA-4FBD-B870-F57F182D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c87c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18CF-CCA8-47C5-B05D-BA9339A70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b3d17"/>
                </a:solidFill>
                <a:latin typeface="Arial"/>
              </a:rPr>
              <a:t>Суд над литературным героем</a:t>
            </a:r>
            <a:br>
              <a:rPr sz="5400"/>
            </a:br>
            <a:r>
              <a:rPr b="1" i="1" lang="ru-RU" sz="4000" spc="-1" strike="noStrike">
                <a:solidFill>
                  <a:srgbClr val="7b3d17"/>
                </a:solidFill>
                <a:latin typeface="Arial"/>
              </a:rPr>
              <a:t>Г</a:t>
            </a:r>
            <a:r>
              <a:rPr b="1" i="1" lang="ru-RU" sz="4000" spc="-1" strike="noStrike">
                <a:solidFill>
                  <a:srgbClr val="7b3d17"/>
                </a:solidFill>
                <a:latin typeface="Arial Narrow"/>
              </a:rPr>
              <a:t>ероическ</a:t>
            </a:r>
            <a:r>
              <a:rPr b="1" i="1" lang="ru-RU" sz="4000" spc="-1" strike="noStrike">
                <a:solidFill>
                  <a:srgbClr val="7b3d17"/>
                </a:solidFill>
                <a:latin typeface="Arial"/>
              </a:rPr>
              <a:t>ая</a:t>
            </a:r>
            <a:r>
              <a:rPr b="1" i="1" lang="ru-RU" sz="4000" spc="-1" strike="noStrike">
                <a:solidFill>
                  <a:srgbClr val="7b3d17"/>
                </a:solidFill>
                <a:latin typeface="Arial Narrow"/>
              </a:rPr>
              <a:t> баллад</a:t>
            </a:r>
            <a:r>
              <a:rPr b="1" i="1" lang="ru-RU" sz="4000" spc="-1" strike="noStrike">
                <a:solidFill>
                  <a:srgbClr val="7b3d17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7b3d17"/>
                </a:solidFill>
                <a:latin typeface="Arial Narrow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7b3d17"/>
                </a:solidFill>
                <a:latin typeface="Arial Narrow"/>
              </a:rPr>
              <a:t>«Робин Гуд и золотая стре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Users\Соколова\Desktop\2630857_c87ac54f.jpg"/>
          <p:cNvPicPr/>
          <p:nvPr/>
        </p:nvPicPr>
        <p:blipFill>
          <a:blip r:embed="rId1"/>
          <a:stretch/>
        </p:blipFill>
        <p:spPr>
          <a:xfrm>
            <a:off x="2717640" y="3816360"/>
            <a:ext cx="4013280" cy="2732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D:\Users\Соколова\Desktop\0_65343_d785c784_XL.jpeg"/>
          <p:cNvPicPr/>
          <p:nvPr/>
        </p:nvPicPr>
        <p:blipFill>
          <a:blip r:embed="rId1"/>
          <a:stretch/>
        </p:blipFill>
        <p:spPr>
          <a:xfrm>
            <a:off x="4097160" y="272880"/>
            <a:ext cx="4067280" cy="58532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8" descr=""/>
          <p:cNvPicPr/>
          <p:nvPr/>
        </p:nvPicPr>
        <p:blipFill>
          <a:blip r:embed="rId2"/>
          <a:stretch/>
        </p:blipFill>
        <p:spPr>
          <a:xfrm>
            <a:off x="-139680" y="4896000"/>
            <a:ext cx="437040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Users\Соколова\Desktop\bc829a94-5887-4715-b808-8cd156d9ea46.jpg"/>
          <p:cNvPicPr/>
          <p:nvPr/>
        </p:nvPicPr>
        <p:blipFill>
          <a:blip r:embed="rId1"/>
          <a:stretch/>
        </p:blipFill>
        <p:spPr>
          <a:xfrm>
            <a:off x="-50760" y="0"/>
            <a:ext cx="9244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Users\Соколова\Desktop\Documents\6 кл\лит\баллады\робин гуд\картинки\4918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4761000"/>
            <a:ext cx="8425080" cy="2279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28400" y="285480"/>
            <a:ext cx="83581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85840" y="285840"/>
          <a:ext cx="8643960" cy="6572160"/>
        </p:xfrm>
        <a:graphic>
          <a:graphicData uri="http://schemas.openxmlformats.org/drawingml/2006/table">
            <a:tbl>
              <a:tblPr/>
              <a:tblGrid>
                <a:gridCol w="4322520"/>
                <a:gridCol w="4321440"/>
              </a:tblGrid>
              <a:tr h="6572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РОБИН ГУД И ЗОЛОТАЯ СТР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Шериф без сна проводит ночь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А днем не правит суд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Ему покоя не дает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Разбойник Робин Гуд. </a:t>
                      </a: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от в город Лондон, к королю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тправился шериф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 целый час держал он речь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олено преклонив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Тот не шериф, - сказал король, -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то упускает власть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He нападенья надо ждать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А первому напасть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йди приманку похитрей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Захлопни западню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А там вези врага ко мне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Я сам его казню"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Шериф вернулся в Ноттингем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 думал по пути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ак Робин Гуда заманить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 счеты с ним свести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 вот послушные гонцы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Летят во весь опор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 шерифу доблестных стрелков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Зовут они на спор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то в цель вернее попадет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ам стоя за чертой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Тому достанется стрел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 головкой золотой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Едва услышал Робин Гуд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рылатую молву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елел он каждому стрелку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роверить тетиву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о тут сказал один стрелок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 имени Давид: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Пусть лучше будет наш отряд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 лесу надежно скрыт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28400" y="285480"/>
            <a:ext cx="83581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5840" y="214200"/>
          <a:ext cx="8572320" cy="643104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643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е зря шериф зовет на спор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н нам расставил сеть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 кто запутается в ней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 петле тому висеть"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Тут пахнет трусостью, стрелок, -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тветил Робин Гуд, -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дем на славную игру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тешим добрый люд"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Тогда сказал Малютка Джон: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Ну что же, в добрый час!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о хорошо бы сделать так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Чтоб не узнали нас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Давайте сбросим свой наряд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Лесной зеленый цвет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усть будет каждый наш стрелок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-своему одет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от желтый плащ, вот белый плащ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от синие плащи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еремешаемся с толпой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пробуй отыщи!" 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з леса вышли удальцы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 каждый был готов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Хоть умереть, но победить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Шерифовых стрелков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А в шумный город Ноттингем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ошли по одному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Чтоб раньше времени себя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е выдать никому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Шериф напрасно на толпу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Глядел из-под руки: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е попадались на глаза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Мятежные стрелки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арод тихонько говорил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Что Робина всегда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Едва он выпустит стрелу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Узнаешь без труда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Шериф в затылке почесал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н был сердит и зол: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Как ни отважен Робин Гуд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А, видно, не пришел". 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28400" y="285480"/>
            <a:ext cx="83581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14200" y="285840"/>
          <a:ext cx="9001080" cy="6431040"/>
        </p:xfrm>
        <a:graphic>
          <a:graphicData uri="http://schemas.openxmlformats.org/drawingml/2006/table">
            <a:tbl>
              <a:tblPr/>
              <a:tblGrid>
                <a:gridCol w="3686400"/>
                <a:gridCol w="5314680"/>
              </a:tblGrid>
              <a:tr h="643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 этой речью уязвлен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думал Робин Гуд: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Узнаешь скоро ты, шериф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Что я сегодня тут"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Был славный лучник - желтый плащ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Хорош и голубой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о красный плащ их превзошел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скусною стрельбой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Был в красном зоркий Робин Гуд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спытанный стрелок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уда шутя он попадал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икто попасть не мог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трелой он прутик расщепил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ам стоя за чертой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н честно выиграл стрелу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 головкой золотой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ка сбегался весь народ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Смотреть на молодца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Тихонько выбрались стрелки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з тесного кольца. 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том, сойдясь в глухом лесу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ни присели в тень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И тут рассказы начались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ро этот славный день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Люблю, - воскликнул Робин Гуд, -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елегкие дела!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от только плохо, что шериф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е знает, где стрела"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Ну что ж, - сказал Малютка Джон, -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Я верный дал совет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Хотите, дам еще один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Покуда лучших нет?"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Ответил Робин: "Говори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Я знаю, ты умен.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У нас таким умом, как ты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икто не наделен"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Заговорил Малютка Джон: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"Пошлем-ка мы письмо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Но не с гонцом оно пойдет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А полетит само". 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l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28400" y="285480"/>
            <a:ext cx="83581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5429160" y="857160"/>
            <a:ext cx="342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Но как, скажи, послать письмо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ы можем без гонца?"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Имей терпенье, Робин Гуд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слушай до конца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исьмо к стреле я привяжу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ущу стрелу в полет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ускай оно к шерифу в дом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к с неба, упадет"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ыл в страшной ярости шериф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 дерзкого письма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сам потом дивился он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то не сошел с у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:\Users\Соколова\Desktop\st79-17.jpg"/>
          <p:cNvPicPr/>
          <p:nvPr/>
        </p:nvPicPr>
        <p:blipFill>
          <a:blip r:embed="rId1"/>
          <a:stretch/>
        </p:blipFill>
        <p:spPr>
          <a:xfrm>
            <a:off x="208080" y="785880"/>
            <a:ext cx="5078160" cy="4630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4"/>
          <p:cNvSpPr/>
          <p:nvPr/>
        </p:nvSpPr>
        <p:spPr>
          <a:xfrm>
            <a:off x="4929120" y="85716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8400" y="285840"/>
            <a:ext cx="8956440" cy="437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 балла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южет: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лавный герой: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я (основная мысль):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повествователь относится к главному герою?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Средства художественной выразительности: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_______________________________________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4"/>
          <p:cNvSpPr/>
          <p:nvPr/>
        </p:nvSpPr>
        <p:spPr>
          <a:xfrm>
            <a:off x="4929120" y="85716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285840" y="142920"/>
            <a:ext cx="85723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190b"/>
                </a:solidFill>
                <a:latin typeface="Calibri"/>
              </a:rPr>
              <a:t>Посмотрите внимательно на строк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Был славный лучник -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желтый плащ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, </a:t>
            </a:r>
            <a:br>
              <a:rPr sz="3200"/>
            </a:b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Хорош и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голубой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, </a:t>
            </a:r>
            <a:br>
              <a:rPr sz="3200"/>
            </a:b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Но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красный плащ </a:t>
            </a: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их превзошел </a:t>
            </a:r>
            <a:br>
              <a:rPr sz="4000"/>
            </a:b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Искусною стрельб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190b"/>
                </a:solidFill>
                <a:latin typeface="Calibri"/>
              </a:rPr>
              <a:t>Как это поня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D:\Users\Соколова\Desktop\RobinHoodPic06.jpg"/>
          <p:cNvPicPr/>
          <p:nvPr/>
        </p:nvPicPr>
        <p:blipFill>
          <a:blip r:embed="rId1"/>
          <a:stretch/>
        </p:blipFill>
        <p:spPr>
          <a:xfrm>
            <a:off x="500040" y="3214800"/>
            <a:ext cx="25002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редство художественной вырази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8592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Times New Roman"/>
              </a:rPr>
              <a:t>Повествователь называет плащ (часть одежды) вместо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Times New Roman"/>
              </a:rPr>
              <a:t>Такой прием называется синекдох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некдох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рием, когда название части выступает в значении цел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3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85480" y="5072040"/>
            <a:ext cx="86439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Замок Ноттинг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Ноттингем – старинный английский городо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D:\Users\Соколова\Desktop\4757845_f520.jpg"/>
          <p:cNvPicPr/>
          <p:nvPr/>
        </p:nvPicPr>
        <p:blipFill>
          <a:blip r:embed="rId1"/>
          <a:stretch/>
        </p:blipFill>
        <p:spPr>
          <a:xfrm>
            <a:off x="642960" y="357120"/>
            <a:ext cx="778680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Users\Соколова\Desktop\post-3-12942404833390.jpg"/>
          <p:cNvPicPr/>
          <p:nvPr/>
        </p:nvPicPr>
        <p:blipFill>
          <a:blip r:embed="rId1"/>
          <a:stretch/>
        </p:blipFill>
        <p:spPr>
          <a:xfrm>
            <a:off x="3714840" y="3124080"/>
            <a:ext cx="5219640" cy="332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:\Users\Соколова\Desktop\Documents\6 кл\лит\баллады\робин гуд\картинки\st78-4.jpg"/>
          <p:cNvPicPr/>
          <p:nvPr/>
        </p:nvPicPr>
        <p:blipFill>
          <a:blip r:embed="rId2"/>
          <a:stretch/>
        </p:blipFill>
        <p:spPr>
          <a:xfrm>
            <a:off x="214200" y="214200"/>
            <a:ext cx="3333960" cy="42102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3"/>
          <a:stretch/>
        </p:blipFill>
        <p:spPr>
          <a:xfrm>
            <a:off x="3846600" y="890640"/>
            <a:ext cx="4554360" cy="15606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142920" y="50720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Епископский ду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ршили в чаще колдун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 Робин Гудом чудо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свете солнца и лун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т смерти Робин Гуд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аветный рог он затруби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 рощами Шерву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 он в схватке не уби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будет Робин Гуд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ы можешь Гудом стать, сосед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может, я им буд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отчего на сотни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т смерти Робин Гуд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вгений Агранович, «Отважный Робин Гу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D:\Users\Соколова\Desktop\Documents\6 кл\лит\баллады\робин гуд\картинки\st78-1.jpg"/>
          <p:cNvPicPr/>
          <p:nvPr/>
        </p:nvPicPr>
        <p:blipFill>
          <a:blip r:embed="rId1"/>
          <a:stretch/>
        </p:blipFill>
        <p:spPr>
          <a:xfrm>
            <a:off x="4348080" y="214200"/>
            <a:ext cx="4667400" cy="5429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Users\Соколова\Desktop\Documents\6 кл\лит\баллады\робин гуд\картинки\st78-2.jpg"/>
          <p:cNvPicPr/>
          <p:nvPr/>
        </p:nvPicPr>
        <p:blipFill>
          <a:blip r:embed="rId1"/>
          <a:stretch/>
        </p:blipFill>
        <p:spPr>
          <a:xfrm>
            <a:off x="0" y="-1764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4"/>
          <p:cNvSpPr/>
          <p:nvPr/>
        </p:nvSpPr>
        <p:spPr>
          <a:xfrm>
            <a:off x="4929120" y="857160"/>
            <a:ext cx="3929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13840" y="285480"/>
            <a:ext cx="85726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00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3"/>
          <p:cNvSpPr/>
          <p:nvPr/>
        </p:nvSpPr>
        <p:spPr>
          <a:xfrm>
            <a:off x="4071960" y="1785960"/>
            <a:ext cx="4786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исовать портрет Робин Гуда, пояснить рисунок, почему именно таким вы его себе представляете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ить словесный портрет главного героя с вашими комментар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D:\Users\Соколова\Desktop\st79-14.jpg"/>
          <p:cNvPicPr/>
          <p:nvPr/>
        </p:nvPicPr>
        <p:blipFill>
          <a:blip r:embed="rId1"/>
          <a:stretch/>
        </p:blipFill>
        <p:spPr>
          <a:xfrm>
            <a:off x="154080" y="1428840"/>
            <a:ext cx="3679560" cy="517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28760" y="5285880"/>
            <a:ext cx="82864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 преданию, здесь проходил суд на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Робин Гуд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D:\Users\Соколова\Desktop\Nottingham_Castle_Gate.jpg"/>
          <p:cNvPicPr/>
          <p:nvPr/>
        </p:nvPicPr>
        <p:blipFill>
          <a:blip r:embed="rId1"/>
          <a:stretch/>
        </p:blipFill>
        <p:spPr>
          <a:xfrm>
            <a:off x="928800" y="285840"/>
            <a:ext cx="750096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:\Users\Соколова\Desktop\ar127059400325217.png"/>
          <p:cNvPicPr/>
          <p:nvPr/>
        </p:nvPicPr>
        <p:blipFill>
          <a:blip r:embed="rId1"/>
          <a:stretch/>
        </p:blipFill>
        <p:spPr>
          <a:xfrm>
            <a:off x="449280" y="285840"/>
            <a:ext cx="8694720" cy="57150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5" descr=""/>
          <p:cNvPicPr/>
          <p:nvPr/>
        </p:nvPicPr>
        <p:blipFill>
          <a:blip r:embed="rId2"/>
          <a:stretch/>
        </p:blipFill>
        <p:spPr>
          <a:xfrm>
            <a:off x="828720" y="5157720"/>
            <a:ext cx="3127320" cy="1603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856800" y="6072120"/>
            <a:ext cx="72867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Users\Соколова\Desktop\sheriff-of-nottingham-and-abbot-hugo.jpg"/>
          <p:cNvPicPr/>
          <p:nvPr/>
        </p:nvPicPr>
        <p:blipFill>
          <a:blip r:embed="rId1"/>
          <a:stretch/>
        </p:blipFill>
        <p:spPr>
          <a:xfrm>
            <a:off x="642960" y="214200"/>
            <a:ext cx="7875720" cy="5916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Users\Соколова\Desktop\320_picture_c1084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ac87c"/>
                                      </p:to>
                                    </p:animClr>
                                    <p:animClr clrSpc="rgb">
                                      <p:cBhvr>
                                        <p:cTn id="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ac87c"/>
                                      </p:to>
                                    </p:animClr>
                                    <p:set>
                                      <p:cBhvr>
                                        <p:cTn id="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1500120"/>
          <a:ext cx="8229600" cy="4375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Свидетельство того, что Робин Гуд —разбой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Свидетельство того, что Робин Гуд —благородный гер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57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53" name="Прямоугольник 9" descr=""/>
          <p:cNvPicPr/>
          <p:nvPr/>
        </p:nvPicPr>
        <p:blipFill>
          <a:blip r:embed="rId1"/>
          <a:stretch/>
        </p:blipFill>
        <p:spPr>
          <a:xfrm>
            <a:off x="2859120" y="5578560"/>
            <a:ext cx="3449520" cy="15285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0" descr=""/>
          <p:cNvPicPr/>
          <p:nvPr/>
        </p:nvPicPr>
        <p:blipFill>
          <a:blip r:embed="rId2"/>
          <a:stretch/>
        </p:blipFill>
        <p:spPr>
          <a:xfrm>
            <a:off x="2236680" y="219240"/>
            <a:ext cx="421956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14200" y="285480"/>
            <a:ext cx="87868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дняки и бедолаги, презирая жизнь слуг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бездомные бродяги, у кого одни долг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, кто загнан, неприкаян, в этот вольный лес бегу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ому что здесь хозяин — славный парень Робин Гуд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. Высоцкий, «Баллада о вольных стрелках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D:\Users\Соколова\Desktop\Documents\6 кл\лит\баллады\робин гуд\картинки\st78-12.jpg"/>
          <p:cNvPicPr/>
          <p:nvPr/>
        </p:nvPicPr>
        <p:blipFill>
          <a:blip r:embed="rId1"/>
          <a:stretch/>
        </p:blipFill>
        <p:spPr>
          <a:xfrm>
            <a:off x="4857840" y="2857680"/>
            <a:ext cx="3794040" cy="3786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Users\Соколова\Desktop\Documents\6 кл\лит\баллады\робин гуд\картинки\1298388810_441.jpg"/>
          <p:cNvPicPr/>
          <p:nvPr/>
        </p:nvPicPr>
        <p:blipFill>
          <a:blip r:embed="rId2"/>
          <a:stretch/>
        </p:blipFill>
        <p:spPr>
          <a:xfrm>
            <a:off x="706320" y="2857680"/>
            <a:ext cx="3365640" cy="3821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Users\Соколова\Desktop\0_5bb9e_94646e6a_XL.jpeg"/>
          <p:cNvPicPr/>
          <p:nvPr/>
        </p:nvPicPr>
        <p:blipFill>
          <a:blip r:embed="rId1"/>
          <a:stretch/>
        </p:blipFill>
        <p:spPr>
          <a:xfrm>
            <a:off x="785880" y="214200"/>
            <a:ext cx="7932600" cy="57708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5754600"/>
            <a:ext cx="8718480" cy="1541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8:43:14Z</dcterms:created>
  <dc:creator>Алексей</dc:creator>
  <dc:description/>
  <dc:language>en-US</dc:language>
  <cp:lastModifiedBy>Кирилл</cp:lastModifiedBy>
  <dcterms:modified xsi:type="dcterms:W3CDTF">2012-06-15T16:43:48Z</dcterms:modified>
  <cp:revision>80</cp:revision>
  <dc:subject/>
  <dc:title>Слайд 1</dc:title>
</cp:coreProperties>
</file>