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FD7-8E01-4FF1-857E-E3A862A0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D21-548D-49F2-A92C-6515195D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B17-178B-4720-A82E-5FE6EAB5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BEF-BD2A-4E44-B625-161A3D8A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790-8FFA-4C21-A288-E1144162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8DE-CFA8-48B4-B041-C22754F3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12C-1076-40D9-9331-104F4478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47B-EFCB-45B4-B72F-4A9B06FD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EB8-77C1-4487-AB95-0EACAEB5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CE4-C8B7-4274-A11B-4FE1841A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4F9-EECB-4141-B0E3-F25AE594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6A8-67D2-44BB-90AB-A73E1C7D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BB51-BB95-48A1-B557-6E8A19AA7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Символика орл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Особое место занимает </a:t>
            </a: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браз орла в мировоззрении казахов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Для номада и его потомков нет в мире птицы, равной орл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Владыка мира птиц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 Во все времена почитали как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знак божественной высшей власт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и ассоциировали со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светом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мужественностью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могуществом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властью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непобедимостью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шаманизм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эта птица трактовалась как посредник между божественным миром и миром людей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бесный страж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Изображения орлов на могилах символизировали вознесение покойных на неб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ифологиях многих народов Сибир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рел похищает огонь у богов, чтобы отдать его люд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-за зоркости орла ему также приписывали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обые духовные, божественные свой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а также считали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лицетворением всевидящего 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Древние верили, что орел способен долететь  до солнца, не мигая смотреть на него и соединиться с н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христиан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ел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вляется эмблемой вознесения, духовной работы и божественного вдохновения. В день Страшного суда эта птица выбросит грешников из гнезда Господа. Образ орла, камнем падающего в воду за рыбой, трактовался теологами как Христос, спасающий души из океана грех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образом орла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в национальном мировоззрении казахов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ассоциируются такие понятия, как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вобод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непокорность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чувство достоинств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мужеств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высокие идеалы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широта души и чистота помыслов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лаге нашей Род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раз орла нашел принципиально новое художественное 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он имеет мирный характер, свободно порхающий в небе. Он как б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ерегает вечное свети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на своих крылья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ет огонь Промет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гонь счасть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н в движении – летит к своей заветной 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Тем самым выражается стремление народа к счастью и благоденствию, к высотам цивилиз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8:35:33Z</dcterms:created>
  <dc:creator>XP GAME 2007</dc:creator>
  <dc:description/>
  <dc:language>en-US</dc:language>
  <cp:lastModifiedBy>Фисюк</cp:lastModifiedBy>
  <dcterms:modified xsi:type="dcterms:W3CDTF">2012-01-24T09:27:01Z</dcterms:modified>
  <cp:revision>53</cp:revision>
  <dc:subject/>
  <dc:title>Слайд 1</dc:title>
</cp:coreProperties>
</file>