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2E83-3A93-4901-89B9-1A113D37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F47-C69C-4BFA-B140-C9EF2688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A6D-FB47-4CA8-A266-4587454C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D88-5B4F-40FE-9276-4A1CBDF6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6AB-0C85-47C4-9E97-273DC4B6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682-0D47-4A01-8C6E-1A0F203A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1C1-123D-4CAA-B32E-4A85824E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2ED-8572-4886-BE6F-C8E186A3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94B-BBE6-4974-85F3-EC359F4D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800-207F-442D-89D9-8C9CDEC7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F11-3D12-4D34-B342-638E9EC5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828-356F-4F1C-81DA-3373211B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373D-538F-49A6-A80B-8320761C0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Символика орл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Особое место занимает </a:t>
            </a: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браз орла в мировоззрении казахов</a:t>
            </a: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Для номада и его потомков нет в мире птицы, равной орл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Владыка мира птиц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 Во все времена почитали как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знак божественной высшей власт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и ассоциировали со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светом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мужественностью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могуществом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властью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непобедимостью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шаманизм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эта птица трактовалась как посредник между божественным миром и миром людей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бесный страж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Изображения орлов на могилах символизировали вознесение покойных на неб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мифологиях многих народов Сибир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рел похищает огонь у богов, чтобы отдать его люд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-за зоркости орла ему также приписывали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собые духовные, божественные свой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а также считали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лицетворением всевидящего 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Древние верили, что орел способен долететь  до солнца, не мигая смотреть на него и соединиться с н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христиан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ел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вляется эмблемой вознесения, духовной работы и божественного вдохновения. В день Страшного суда эта птица выбросит грешников из гнезда Господа. Образ орла, камнем падающего в воду за рыбой, трактовался теологами как Христос, спасающий души из океана грех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 образом орла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в национальном мировоззрении казахов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ассоциируются такие понятия, как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свобод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непокорность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чувство достоинства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мужество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высокие идеалы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широта души и чистота помыслов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solidFill>
            <a:srgbClr val="a7a9f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флаге нашей Род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раз орла нашел принципиально новое художественное 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он имеет мирный характер, свободно порхающий в небе. Он как бы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ерегает вечное светил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на своих крылья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ет огонь Промете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гонь счасть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н в движении – летит к своей заветной ц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Тем самым выражается стремление народа к счастью и благоденствию, к высотам цивилиз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8:35:33Z</dcterms:created>
  <dc:creator>XP GAME 2007</dc:creator>
  <dc:description/>
  <dc:language>en-US</dc:language>
  <cp:lastModifiedBy>Фисюк</cp:lastModifiedBy>
  <dcterms:modified xsi:type="dcterms:W3CDTF">2012-01-24T09:27:01Z</dcterms:modified>
  <cp:revision>53</cp:revision>
  <dc:subject/>
  <dc:title>Слайд 1</dc:title>
</cp:coreProperties>
</file>