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0290-C45B-41F9-9B41-FCDB4580FEE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99A9-1138-4971-94D4-A4DD40FC90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E591-A763-4F16-A26F-E9DD9D6E54E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19EA4-FB04-4CAF-BE63-149DEC8FB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B8997-82AF-4BCF-8EED-1FE434A0F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15332-B106-4E54-9251-45E0F8474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917E8-F21E-485C-99C4-78CAC6E41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317B6-5B4A-4459-A85C-F7A2E7FAE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A70FC-3B5B-4C0D-83BC-E3B33D604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8CB61-EF2B-404E-8B09-89BE07E09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64CCF-197F-45BD-A5D0-7682FB7A6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43010-AA11-4532-B4F0-68EF0A3A2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BB70D-67B0-4F82-B5F7-62EDC861C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9130D-DB09-4455-B8CE-535D80947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96139-BDC3-4558-BA60-82F5E260D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6E2EB-4E4C-4D98-91A7-FCE6B9F25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AC4CC-B323-4809-84AB-E0E79A26C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B77C1-F6FE-459F-ACFE-5E897FD6A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6E7474-FEDB-4590-9991-DB3A54251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F70FF-A911-440E-A7D7-EF1E36576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9F7B45-7D5B-41A6-B69C-52081DF7E9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6D621-0C2E-47F1-B918-EEE24C9F8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D3BF3-3BC9-4ED5-8FD3-2A5F84C312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4B917A-863B-4D4F-ADC9-F1A4FF557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A111A-AC32-4993-8FCB-B85028BEB1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D37E9-41E9-4CD7-8BDC-3BFEF5E58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DDDEB7-6F0B-49A2-B5C2-E89517B90A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B3CF7-E1F0-461F-A56D-D523D6D25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C2E7F-0ACA-4AE7-B761-9B5547DE1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DAE8E4-CEFD-4DA0-B7FC-7D99B66F4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C19D3-DC70-4D43-8F51-AB0812ED8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5507A-74C9-420A-B893-B6907DBBD5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06794-7917-4B8E-AAE5-DF6CE09CB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59D4B0-3B3D-4643-9B4D-24AE9CC5FF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CDF12-790B-4F79-A2C8-69397F906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DC23B-F6D5-4681-8165-EDDE920828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5566-41ED-46A8-9CEC-8341B3925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7A7A4-66FA-4EC0-AA31-14FF25C61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F1E38-FC10-45A9-A09C-04826EF91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56FB1-646F-4F8D-8F03-714E53171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B8C0D-1FA2-42DA-8A7D-34C0101FE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71E23-D1F1-4476-A424-38B78A118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8D79B-1988-452C-B133-FA4B4C852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EBF3E-987D-49E1-A73D-5E4A6223F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E199F6-FC81-4346-BC8E-FB78D5F1D6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5409A5-CCC0-4993-8DBE-F5463B47F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B0E59C-0E77-4D9F-9624-FEE2CBF53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41DF-A382-4E80-8961-C6BECF5D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7E3EFD-79F2-4FF2-81FB-9F3D06D54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F074B6-FAB8-4E0D-96AF-095C19116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26A17C-0529-4A69-96CC-42E93D298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F230E-F1A0-4E67-AA0A-DDD470B68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0F7EEA-6BD5-49B6-AEA5-415C1E6E38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0764F-0413-4BCB-8F67-7B82FCEF4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D63EF-E38A-43E3-AB11-10A309D3B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825152-55AD-482C-ACC5-262684F0E9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D9E2F-6B1E-49E3-B805-714847A96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8938E6-8C4E-4A7D-B6BE-D1380660E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45470-A1DF-4FE6-AB2F-5E3A4CD21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2F8D5-C21D-4D76-AE6B-B44EABBED3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CFB48-E12D-480D-A519-5EBCC2047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98AF-0438-426D-A4C5-1BDF2E7D3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281E-BA92-4727-B41D-7DD7880FD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Arial"/>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BAFC-6B03-41A9-BCCD-9A54ACBA2257}" type="slidenum">
              <a:rPr b="0" lang="ru-RU"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ABFD-EF43-46E0-B2B2-9D039E74EF50}" type="slidenum">
              <a:rPr b="0" lang="ru-RU"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Arial"/>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D4F7-1397-4E20-9EF5-EF19FB9BA7D6}" type="slidenum">
              <a:rPr b="0" lang="ru-RU"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Arial"/>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3F832-ED4F-4A7D-B56A-F64FE58974AD}" type="slidenum">
              <a:rPr b="0" lang="ru-RU" sz="1100" spc="-1" strike="noStrike">
                <a:solidFill>
                  <a:srgbClr val="f4e7ed"/>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Arial"/>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D525-02C1-4A46-9488-24D90A307FD2}" type="slidenum">
              <a:rPr b="0" lang="ru-RU" sz="1100" spc="-1" strike="noStrike">
                <a:solidFill>
                  <a:srgbClr val="b13f9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gramota.ru/" TargetMode="External"/><Relationship Id="rId3" Type="http://schemas.openxmlformats.org/officeDocument/2006/relationships/hyperlink" Target="http://www.rus.1september.ru/urok" TargetMode="External"/><Relationship Id="rId4" Type="http://schemas.openxmlformats.org/officeDocument/2006/relationships/hyperlink" Target="http://repetitor.1c.ru/" TargetMode="External"/><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uchimcauchitca.blogspot.com/2012/01/blog-post_4096.html#more" TargetMode="External"/><Relationship Id="rId3" Type="http://schemas.openxmlformats.org/officeDocument/2006/relationships/hyperlink" Target="http://uchimcauchitca.blogspot.com/2011/12/blog-post_21.html#more" TargetMode="Externa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566640" y="420840"/>
            <a:ext cx="7248600" cy="3230280"/>
          </a:xfrm>
          <a:prstGeom prst="rect">
            <a:avLst/>
          </a:prstGeom>
          <a:ln w="0">
            <a:noFill/>
          </a:ln>
        </p:spPr>
      </p:pic>
      <p:sp>
        <p:nvSpPr>
          <p:cNvPr id="228" name="PlaceHolder 1"/>
          <p:cNvSpPr>
            <a:spLocks noGrp="1"/>
          </p:cNvSpPr>
          <p:nvPr>
            <p:ph type="subTitle"/>
          </p:nvPr>
        </p:nvSpPr>
        <p:spPr>
          <a:xfrm>
            <a:off x="1014480" y="3142800"/>
            <a:ext cx="6557760" cy="3395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70c0"/>
                </a:solidFill>
                <a:latin typeface="Trebuchet MS"/>
              </a:rPr>
              <a:t>Сергеенко Людмила Вячеславовна, учитель русского языка и литературы МБОУ СОШ №8 г.Томмот.</a:t>
            </a:r>
            <a:r>
              <a:rPr b="0" lang="en-US" sz="2600" spc="-1" strike="noStrike">
                <a:solidFill>
                  <a:srgbClr val="0070c0"/>
                </a:solidFill>
                <a:latin typeface="Trebuchet MS"/>
              </a:rPr>
              <a:t>   </a:t>
            </a:r>
            <a:r>
              <a:rPr b="0" lang="en-US" sz="2600" spc="-1" strike="noStrike">
                <a:solidFill>
                  <a:srgbClr val="ffffff"/>
                </a:solidFill>
                <a:latin typeface="Trebuchet MS"/>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Прямоугольник 1"/>
          <p:cNvSpPr/>
          <p:nvPr/>
        </p:nvSpPr>
        <p:spPr>
          <a:xfrm>
            <a:off x="214200" y="285840"/>
            <a:ext cx="76438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ff0000"/>
                </a:solidFill>
                <a:uFillTx/>
                <a:latin typeface="Arial"/>
              </a:rPr>
              <a:t>В науке известны три способа сжатия текста:   </a:t>
            </a:r>
            <a:br>
              <a:rPr sz="1800"/>
            </a:br>
            <a:r>
              <a:rPr b="0" lang="ru-RU" sz="1800" spc="-1" strike="noStrike">
                <a:solidFill>
                  <a:srgbClr val="000000"/>
                </a:solidFill>
                <a:latin typeface="Arial"/>
              </a:rPr>
              <a:t>1) исключение подробностей, деталей; </a:t>
            </a:r>
            <a:br>
              <a:rPr sz="1800"/>
            </a:br>
            <a:r>
              <a:rPr b="0" lang="ru-RU" sz="1800" spc="-1" strike="noStrike">
                <a:solidFill>
                  <a:srgbClr val="000000"/>
                </a:solidFill>
                <a:latin typeface="Arial"/>
              </a:rPr>
              <a:t>2) обобщение конкретных, единичных явлений; </a:t>
            </a:r>
            <a:br>
              <a:rPr sz="1800"/>
            </a:br>
            <a:r>
              <a:rPr b="0" lang="ru-RU" sz="1800" spc="-1" strike="noStrike">
                <a:solidFill>
                  <a:srgbClr val="000000"/>
                </a:solidFill>
                <a:latin typeface="Arial"/>
              </a:rPr>
              <a:t>3) сочетание исключения и обобщ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обобщении</a:t>
            </a:r>
            <a:r>
              <a:rPr b="0" lang="ru-RU" sz="1800" spc="-1" strike="noStrike">
                <a:solidFill>
                  <a:srgbClr val="000000"/>
                </a:solidFill>
                <a:latin typeface="Arial"/>
              </a:rPr>
              <a:t> материала сначала вычленяем единичные существенные факты /несущественные опускаем/, объединяем их в одно целое, подбираем соответствующие языковые средства и составляем новый текст. Обобщая, мы передаем содержание частных понятий более общим по смыслу словом, словосочетанием, предложен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Прямоугольник 2"/>
          <p:cNvSpPr/>
          <p:nvPr/>
        </p:nvSpPr>
        <p:spPr>
          <a:xfrm>
            <a:off x="285840" y="3357720"/>
            <a:ext cx="7572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 исключении</a:t>
            </a:r>
            <a:r>
              <a:rPr b="0" lang="ru-RU" sz="1800" spc="-1" strike="noStrike">
                <a:solidFill>
                  <a:srgbClr val="000000"/>
                </a:solidFill>
                <a:latin typeface="Arial"/>
              </a:rPr>
              <a:t> необходимо сначала выделить главное, а затем убрать детали /подроб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ать из текста нужно все, что не относится к сути высказывания: в повествовании -  к основной сюжетной линии </a:t>
            </a:r>
            <a:r>
              <a:rPr b="0" i="1" lang="ru-RU" sz="1800" spc="-1" strike="noStrike">
                <a:solidFill>
                  <a:srgbClr val="000000"/>
                </a:solidFill>
                <a:latin typeface="Arial"/>
              </a:rPr>
              <a:t>кто – когда – где – как – что сделал;</a:t>
            </a:r>
            <a:r>
              <a:rPr b="0" lang="ru-RU" sz="1800" spc="-1" strike="noStrike">
                <a:solidFill>
                  <a:srgbClr val="000000"/>
                </a:solidFill>
                <a:latin typeface="Arial"/>
              </a:rPr>
              <a:t> в рассуждении – к основной пробл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Прямоугольник 5"/>
          <p:cNvSpPr/>
          <p:nvPr/>
        </p:nvSpPr>
        <p:spPr>
          <a:xfrm>
            <a:off x="285840" y="5143680"/>
            <a:ext cx="7715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лавная задача сжатого изложения </a:t>
            </a:r>
            <a:r>
              <a:rPr b="0" lang="ru-RU" sz="1800" spc="-1" strike="noStrike">
                <a:solidFill>
                  <a:srgbClr val="000000"/>
                </a:solidFill>
                <a:latin typeface="Arial"/>
              </a:rPr>
              <a:t>- научить детей кратко, в обобщенной форме освещать описанные в тексте факты, явления или события, глубже вдумываться в содержание произведения, вычленять наиболее важный материал, самостоятельно подбирать слова и синтаксические конструкции.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Заголовок 1" descr=""/>
          <p:cNvPicPr/>
          <p:nvPr/>
        </p:nvPicPr>
        <p:blipFill>
          <a:blip r:embed="rId1"/>
          <a:stretch/>
        </p:blipFill>
        <p:spPr>
          <a:xfrm>
            <a:off x="133200" y="-6480"/>
            <a:ext cx="7797960" cy="1152720"/>
          </a:xfrm>
          <a:prstGeom prst="rect">
            <a:avLst/>
          </a:prstGeom>
          <a:ln w="0">
            <a:noFill/>
          </a:ln>
        </p:spPr>
      </p:pic>
      <p:sp>
        <p:nvSpPr>
          <p:cNvPr id="248" name=""/>
          <p:cNvSpPr txBox="1"/>
          <p:nvPr/>
        </p:nvSpPr>
        <p:spPr>
          <a:xfrm>
            <a:off x="142920" y="1214280"/>
            <a:ext cx="7858080" cy="5500800"/>
          </a:xfrm>
          <a:prstGeom prst="rect">
            <a:avLst/>
          </a:prstGeom>
          <a:noFill/>
          <a:ln w="0">
            <a:noFill/>
          </a:ln>
        </p:spPr>
        <p:txBody>
          <a:bodyPr anchor="t">
            <a:normAutofit fontScale="99000"/>
          </a:bodyPr>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хранение последовательности в развитии событий; </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личие предложений, выражающих мысль, общую для каждой смысловой части; </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по возможности грамматических форм, отличных от предъявленных для восприятия;</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тановление смысловой связи между предложениями; </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уместных, точных и лаконичных языковых средств обобщенной передачи содержания. </a:t>
            </a:r>
            <a:endParaRPr b="0" lang="en-US" sz="16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Этапы работы над сжатым изложением сходны с последовательностью и</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иемами работы над подробным изложением. Различия состоят лишь в методике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работы над текстом. При подготовке сжатого изложения значима роль работы по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окращению текста. Традиционно она проводится в форме беседы, в которой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учащиеся решают, какая часть текста или предложение особенно важны для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выражения главной мысли, какую часть можно выпустить, содержание какой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части передать одним предложением и каким, то есть определяют способ сжатия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екста. При сокращении текста более эффективны приемы по выделению в каждой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икротеме опорных слов. По ним можно легко восстановить основное содержание </a:t>
            </a:r>
            <a:endParaRPr b="0" lang="en-US" sz="17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екста. </a:t>
            </a:r>
            <a:br>
              <a:rPr sz="1700"/>
            </a:b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Заголовок 1" descr=""/>
          <p:cNvPicPr/>
          <p:nvPr/>
        </p:nvPicPr>
        <p:blipFill>
          <a:blip r:embed="rId1"/>
          <a:stretch/>
        </p:blipFill>
        <p:spPr>
          <a:xfrm>
            <a:off x="115920" y="268200"/>
            <a:ext cx="7894440" cy="1158840"/>
          </a:xfrm>
          <a:prstGeom prst="rect">
            <a:avLst/>
          </a:prstGeom>
          <a:ln w="0">
            <a:noFill/>
          </a:ln>
        </p:spPr>
      </p:pic>
      <p:sp>
        <p:nvSpPr>
          <p:cNvPr id="250" name=""/>
          <p:cNvSpPr txBox="1"/>
          <p:nvPr/>
        </p:nvSpPr>
        <p:spPr>
          <a:xfrm>
            <a:off x="142920" y="1285560"/>
            <a:ext cx="7858080" cy="484812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чиная с 5 класса, необходимо выполнять с обучающимися разнообразные логические операции с текстами: выделять главную и второстепенную информацию, искать тезисы, сжимать текст разными способами, записывать связный и логически стройный пересказ.</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этом помогают специальные упражнения, которые можно использовать не только на уроках развития речи, но и на обычных уроках. При этом надо учесть, что в 5-6 классах обучающиеся должны не только слышать, но и видеть текст.</a:t>
            </a:r>
            <a:endParaRPr b="0" lang="en-US" sz="1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                         </a:t>
            </a:r>
            <a:r>
              <a:rPr b="1" lang="ru-RU" sz="1800" spc="-1" strike="noStrike">
                <a:solidFill>
                  <a:srgbClr val="000000"/>
                </a:solidFill>
                <a:latin typeface="Trebuchet MS"/>
              </a:rPr>
              <a:t>Повествовательный текст.</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Здесь необходимо умение выделить главные события сюжетные узлы – и понять, как они связаны между собой.</a:t>
            </a:r>
            <a:endParaRPr b="0" lang="en-US" sz="18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Пример эффективного упражнения такого типа:</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подчеркните только то, без чего нельзя понять смысл рассказа.</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выпишите только самое главное, чтобы получился текст.</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замените прямую речь косвенной</a:t>
            </a:r>
            <a:endParaRPr b="0" lang="en-US" sz="18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оцените, правильно ли ваш товарищ выполнил задание.</a:t>
            </a:r>
            <a:r>
              <a:rPr b="0" lang="ru-RU" sz="1800" spc="-1" strike="noStrike">
                <a:solidFill>
                  <a:srgbClr val="000000"/>
                </a:solidFill>
                <a:latin typeface="Trebuchet MS"/>
              </a:rPr>
              <a:t>	</a:t>
            </a:r>
            <a:endParaRPr b="0" lang="en-US" sz="1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Заголовок 1" descr=""/>
          <p:cNvPicPr/>
          <p:nvPr/>
        </p:nvPicPr>
        <p:blipFill>
          <a:blip r:embed="rId1"/>
          <a:stretch/>
        </p:blipFill>
        <p:spPr>
          <a:xfrm>
            <a:off x="133200" y="255600"/>
            <a:ext cx="7877160" cy="536400"/>
          </a:xfrm>
          <a:prstGeom prst="rect">
            <a:avLst/>
          </a:prstGeom>
          <a:ln w="0">
            <a:noFill/>
          </a:ln>
        </p:spPr>
      </p:pic>
      <p:sp>
        <p:nvSpPr>
          <p:cNvPr id="252" name=""/>
          <p:cNvSpPr txBox="1"/>
          <p:nvPr/>
        </p:nvSpPr>
        <p:spPr>
          <a:xfrm>
            <a:off x="214200" y="1000080"/>
            <a:ext cx="7786800" cy="5105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rebuchet MS"/>
              </a:rPr>
              <a:t>  </a:t>
            </a:r>
            <a:r>
              <a:rPr b="0" i="1" lang="ru-RU" sz="2400" spc="-1" strike="noStrike">
                <a:solidFill>
                  <a:srgbClr val="000000"/>
                </a:solidFill>
                <a:latin typeface="Trebuchet MS"/>
              </a:rPr>
              <a:t>Друзья крепко проспали всю ночь. Моховая Борода первым открыл глаза. На поляне гуляли веселые солнечные лучики. Разбудило его вовсе не солнце. Разбудило его странное ощущение. Кто-то копошился в его бороде. Моховая Борода решил расчесать бороду. Моховая Борода поднял руку. Моховая Борода тут же опустил ее. Моховая Борода испуганно вздрогнул. Из бороды выпорхнула птица. Это была крохотная серая птичка. Птичка отлетела в сторону. Птичка уселась поблизости. Птичка уселась на ветвистом суку. Птичка стала смотреть на Моховую Бороду.</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347760" y="158760"/>
            <a:ext cx="7358040" cy="130968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fontScale="98000"/>
          </a:bodyPr>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читайте текст и подчеркните речевые повторы.</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Вспомните, чем можно заменить повторяющиеся слова?  А что такое синонимы? Местоимения?</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осмотрите на 4 и 5 предложения. Нужно ли здесь заменять повторяющийся глагол?</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А теперь скажите, о чем повествует данный текст. Какая информация является главной?</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Вычеркните из текста то, что вы считаете лишним, второстепенным, не относящимся к основной информации.</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А теперь посмотрите, какие предложения можно объединить, используя однородные члены - сказуемые.</a:t>
            </a:r>
            <a:endParaRPr b="0" lang="en-US" sz="2000" spc="-1" strike="noStrike">
              <a:solidFill>
                <a:srgbClr val="000000"/>
              </a:solidFill>
              <a:latin typeface="Trebuchet MS"/>
            </a:endParaRPr>
          </a:p>
          <a:p>
            <a:pPr marL="597240" indent="-59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Запишите то, что получилось, заменяя повторяющиеся существительные  на местоимения и объединяя несколько простых предложений в одно с однородными сказуемыми.</a:t>
            </a:r>
            <a:endParaRPr b="0" lang="en-US" sz="2000" spc="-1" strike="noStrike">
              <a:solidFill>
                <a:srgbClr val="000000"/>
              </a:solidFill>
              <a:latin typeface="Trebuchet MS"/>
            </a:endParaRPr>
          </a:p>
          <a:p>
            <a:pPr marL="597240" indent="-59724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Заголовок 1" descr=""/>
          <p:cNvPicPr/>
          <p:nvPr/>
        </p:nvPicPr>
        <p:blipFill>
          <a:blip r:embed="rId1"/>
          <a:stretch/>
        </p:blipFill>
        <p:spPr>
          <a:xfrm>
            <a:off x="450720" y="285840"/>
            <a:ext cx="7255080" cy="433440"/>
          </a:xfrm>
          <a:prstGeom prst="rect">
            <a:avLst/>
          </a:prstGeom>
          <a:ln w="0">
            <a:noFill/>
          </a:ln>
        </p:spPr>
      </p:pic>
      <p:sp>
        <p:nvSpPr>
          <p:cNvPr id="256" name=""/>
          <p:cNvSpPr txBox="1"/>
          <p:nvPr/>
        </p:nvSpPr>
        <p:spPr>
          <a:xfrm>
            <a:off x="214200" y="785520"/>
            <a:ext cx="7786800" cy="56703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 </a:t>
            </a:r>
            <a:r>
              <a:rPr b="1" lang="ru-RU" sz="1800" spc="-1" strike="noStrike">
                <a:solidFill>
                  <a:srgbClr val="000000"/>
                </a:solidFill>
                <a:latin typeface="Times New Roman"/>
              </a:rPr>
              <a:t>Здесь нужно уметь видеть его структуру: различать тезисы и аргументы, логические переходы от одной мысли к другой. Это умение ключевое и тренировать его необходимо систематически, включая тексты подобного типа в уроки на протяжении всего учебного года. Для этого можно использовать любое упражнение учебника, добавив к нему вопросы и задания, которые позволяют проверить, как ученики поняли основную мысль, логику ее развития и.т.д.</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мер 1: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rebuchet MS"/>
              </a:rPr>
              <a:t>    </a:t>
            </a:r>
            <a:r>
              <a:rPr b="0" i="1" lang="ru-RU" sz="1800" spc="-1" strike="noStrike">
                <a:solidFill>
                  <a:srgbClr val="000000"/>
                </a:solidFill>
                <a:latin typeface="Times New Roman"/>
              </a:rPr>
              <a:t>Чтобы спартанцы не копили богатств,  в Спарте деньгами служили железные прутья. Железные деньги громоздки: для небольшой покупки их надо вести целый воз. Железные деньги бесполезны: их нарочно закаливали в уксусе, чтобы железо стало хрупким и его нельзя было ни во что перековать.</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Задание:</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В каждом предложении текста найдите слова, в которых сформулирована основная мысль (тезис). Остальное заключите в скобки.</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запишите тезисы в тетрадь, соединив их  в одно предложение с помощью союзов</a:t>
            </a: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прочитайте получившееся предложение</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
          <p:cNvSpPr/>
          <p:nvPr/>
        </p:nvSpPr>
        <p:spPr>
          <a:xfrm>
            <a:off x="428760" y="362880"/>
            <a:ext cx="7072200" cy="6739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ример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Times New Roman"/>
                <a:ea typeface="Times New Roman"/>
              </a:rPr>
              <a:t>Более двух тысяч лет назад пряности ценились наравне с золотом. </a:t>
            </a:r>
            <a:r>
              <a:rPr b="0" i="1" lang="ru-RU" sz="2000" spc="-1" strike="noStrike">
                <a:solidFill>
                  <a:srgbClr val="000000"/>
                </a:solidFill>
                <a:latin typeface="Times New Roman"/>
                <a:ea typeface="Times New Roman"/>
              </a:rPr>
              <a:t>Прибыв ко двору могущественного царя Соломона, царица Савская привезла ему в дар кроме золота и драгоценных камней «великое множество пряностей». </a:t>
            </a:r>
            <a:r>
              <a:rPr b="0" i="1" lang="ru-RU" sz="2000" spc="-1" strike="noStrike" u="sng">
                <a:solidFill>
                  <a:srgbClr val="000000"/>
                </a:solidFill>
                <a:uFillTx/>
                <a:latin typeface="Times New Roman"/>
                <a:ea typeface="Times New Roman"/>
              </a:rPr>
              <a:t>Особенно ценился перец.</a:t>
            </a:r>
            <a:r>
              <a:rPr b="0" i="1" lang="ru-RU" sz="2000" spc="-1" strike="noStrike">
                <a:solidFill>
                  <a:srgbClr val="000000"/>
                </a:solidFill>
                <a:latin typeface="Times New Roman"/>
                <a:ea typeface="Times New Roman"/>
              </a:rPr>
              <a:t> И на Востоке, и на Западе он иногда служил денежным эквивалентом. Известны случаи, когда перцем платили налог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д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жде всего, выясняем значение слов </a:t>
            </a:r>
            <a:r>
              <a:rPr b="1" i="1" lang="ru-RU" sz="2000" spc="-1" strike="noStrike">
                <a:solidFill>
                  <a:srgbClr val="000000"/>
                </a:solidFill>
                <a:latin typeface="Times New Roman"/>
                <a:ea typeface="Times New Roman"/>
              </a:rPr>
              <a:t>пряности, эквивалент. </a:t>
            </a:r>
            <a:r>
              <a:rPr b="0" lang="ru-RU" sz="2000" spc="-1" strike="noStrike">
                <a:solidFill>
                  <a:srgbClr val="000000"/>
                </a:solidFill>
                <a:latin typeface="Times New Roman"/>
                <a:ea typeface="Times New Roman"/>
              </a:rPr>
              <a:t>Затем продолжаем работ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подчеркните предложения, в которых содержатся тезис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в тексте 2 тезис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 разбейте текст на абзацы </a:t>
            </a:r>
            <a:r>
              <a:rPr b="0" lang="ru-RU" sz="2000" spc="-1" strike="noStrike">
                <a:solidFill>
                  <a:srgbClr val="000000"/>
                </a:solidFill>
                <a:latin typeface="Times New Roman"/>
                <a:ea typeface="Times New Roman"/>
              </a:rPr>
              <a:t>(2 абза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выделите предложения не являющиеся тезис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перескажите их кратко, опустив ненужную информацию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пишите тезисы и аргументы к ним</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317520" y="268200"/>
            <a:ext cx="7388280" cy="120024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a:solidFill>
                  <a:srgbClr val="000000"/>
                </a:solidFill>
                <a:latin typeface="Times New Roman"/>
              </a:rPr>
              <a:t>В 7-9 классах, продолжая подготовку к сжатому изложению, можно предложить обучающимся упражнения для анализа логических связей внутри текста. Эффективными в этом случае являются упражнения, в которых надо:</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осстановить смысловую связь между предложениями или абзацами</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исправить нарушенную логику</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обрать вступление или заключение</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Лучше всего начать с небольших и простых упражнений, потом перейти к более сложным, а работу с текстами постепенно заменить работой на слух.</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428760" y="387360"/>
            <a:ext cx="7286400" cy="544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мер.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вестно, что характер логической связи между отдельными элементами текста выражают союзы, частицы, вводные слова и синонимичные им синтаксические конструкции. Поэтому предлагаю ученикам такой текст, в котором они отсутствуют: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Когда-то купцы, отправляясь путешествовать, не брали с собой денег. Они обменивали одни товары на другие. Жители пустыни – искусные обработчики металлов – приезжали в лесистую местность и обменивали изготовленные ими топоры на древесину. Постепенно вместо товаров для обмена торговцы стали брать золото. На него можно было выменять любую вещ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объединить, где нужно, простые предложения в сложные с помощью союзов </a:t>
            </a:r>
            <a:r>
              <a:rPr b="1" lang="ru-RU" sz="1600" spc="-1" strike="noStrike">
                <a:solidFill>
                  <a:srgbClr val="000000"/>
                </a:solidFill>
                <a:latin typeface="Times New Roman"/>
                <a:ea typeface="Times New Roman"/>
              </a:rPr>
              <a:t>потому</a:t>
            </a:r>
            <a:r>
              <a:rPr b="0" lang="ru-RU" sz="1600" spc="-1" strike="noStrike">
                <a:solidFill>
                  <a:srgbClr val="000000"/>
                </a:solidFill>
                <a:latin typeface="Times New Roman"/>
                <a:ea typeface="Times New Roman"/>
              </a:rPr>
              <a:t> что, так ка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найдите предложение, которое является иллюстрацией предыдущей мысли. Вставьте перед ним слово </a:t>
            </a:r>
            <a:r>
              <a:rPr b="1" lang="ru-RU" sz="1600" spc="-1" strike="noStrike">
                <a:solidFill>
                  <a:srgbClr val="000000"/>
                </a:solidFill>
                <a:latin typeface="Times New Roman"/>
                <a:ea typeface="Times New Roman"/>
              </a:rPr>
              <a:t>например.</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запишите логическую схему текста, определив, как связаны между собой части с помощью союзо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кратко перескажите содержание текст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получится примерно такой текс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Раньше торговали, обменивая одни товары на другие, например, металлические изделия на древесину. Но со временем любой товар стало возможным обменять на золот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334800" y="274680"/>
            <a:ext cx="7529760" cy="590400"/>
          </a:xfrm>
          <a:prstGeom prst="rect">
            <a:avLst/>
          </a:prstGeom>
          <a:ln w="0">
            <a:noFill/>
          </a:ln>
        </p:spPr>
      </p:pic>
      <p:sp>
        <p:nvSpPr>
          <p:cNvPr id="262" name=""/>
          <p:cNvSpPr txBox="1"/>
          <p:nvPr/>
        </p:nvSpPr>
        <p:spPr>
          <a:xfrm>
            <a:off x="457200" y="907920"/>
            <a:ext cx="7329600" cy="52228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мер.</a:t>
            </a:r>
            <a:endParaRPr b="0" lang="en-US" sz="1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Среди приведенных найдите предложение с наиболее общим смыслом. Запишите его в тетрадь первым. Расположите оставшиеся предложения так, чтобы они отражали последовательное развитие мысли, высказанной в первом предложении. Допишите пропущенную часть предложения.</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Этот обычай родился много столетий назад.</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Мужчина отправлялся в путь только вооруженным.</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При встрече мужчины, здороваясь, пожимают друг другу правую руку.</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Человеку, которого не уважают, от которого ждут подлости, руки не подадут.</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Каждый встречный мог оказаться врагом.</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Многие привычные вещи обретают совершенно иной смысл, если вспомнить их историю.</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Открытая ладонь правой руки означала: «___________________________».</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Этот смысл утрачен – осталось правило этикета.</a:t>
            </a:r>
            <a:endParaRPr b="0" lang="en-US" sz="1800" spc="-1" strike="noStrike">
              <a:solidFill>
                <a:srgbClr val="000000"/>
              </a:solidFill>
              <a:latin typeface="Trebuchet MS"/>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Соедините простые предложения в сложные с помощью слов </a:t>
            </a:r>
            <a:r>
              <a:rPr b="1" lang="ru-RU" sz="1800" spc="-1" strike="noStrike" u="sng">
                <a:solidFill>
                  <a:srgbClr val="000000"/>
                </a:solidFill>
                <a:uFillTx/>
                <a:latin typeface="Times New Roman"/>
                <a:ea typeface="Times New Roman"/>
              </a:rPr>
              <a:t>когда, потому что, однако.</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0720" y="219240"/>
            <a:ext cx="7255080" cy="360360"/>
          </a:xfrm>
          <a:prstGeom prst="rect">
            <a:avLst/>
          </a:prstGeom>
          <a:ln w="0">
            <a:noFill/>
          </a:ln>
        </p:spPr>
      </p:pic>
      <p:sp>
        <p:nvSpPr>
          <p:cNvPr id="230" name=""/>
          <p:cNvSpPr txBox="1"/>
          <p:nvPr/>
        </p:nvSpPr>
        <p:spPr>
          <a:xfrm>
            <a:off x="457200" y="642960"/>
            <a:ext cx="7238880" cy="5813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rebuchet MS"/>
              </a:rPr>
              <a:t> </a:t>
            </a:r>
            <a:r>
              <a:rPr b="0" lang="ru-RU" sz="1800" spc="-1" strike="noStrike">
                <a:solidFill>
                  <a:srgbClr val="000000"/>
                </a:solidFill>
                <a:latin typeface="Times New Roman"/>
                <a:ea typeface="Times New Roman"/>
              </a:rPr>
              <a:t>«Концепция модернизации российского образования на период</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 2010 года» и «Стратегия модернизации содержания общего</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вания» определили ключевые компетенции, являющиеся</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кретизированными целями обучения русскому языку в</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школе, а именно: формирование языковой, лингвистической, и</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муникативной и социокультурной компетенций, что заложено в обновленных программах и учебниках для основной и средней школы.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петентностный подход, который набирает силу в современной школе, является отражением потребности общества в подготовке людей не только знающих, но и умеющих применить свои знания. Компетенции рассматриваются как осознанные человеком способности реализации знаний и умений для эффективной деятельности в конкретной ситуации.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овая форма аттестации по русскому языку за курс основной школы – ГИА, еще недавно рассматривавшаяся как одна из возможных, - становится преобладающей, а с 2013 года – основной и единственной. </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450720" y="231840"/>
            <a:ext cx="7255080" cy="123660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fontScale="94000"/>
          </a:bodyPr>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ерестройте сложные предложение в простые, сохраняя их суть</a:t>
            </a:r>
            <a:r>
              <a:rPr b="0" i="1" lang="ru-RU" sz="2000" spc="-1" strike="noStrike">
                <a:solidFill>
                  <a:srgbClr val="000000"/>
                </a:solidFill>
                <a:latin typeface="Trebuchet MS"/>
              </a:rPr>
              <a:t>.</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Сократите сложное предложение за счет менее существенной части.</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Замените фрагменты предложений обобщающими понятиями</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 Исключите повторы и объедините предложения.</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Изложите указанную часть текста одним предложением.</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одчеркните в тексте предложения, смысловые части, которые могут быть убраны без ущерба для содержания. </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Сжато изложите содержание  абзаца.</a:t>
            </a:r>
            <a:endParaRPr b="0" lang="en-US" sz="20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Напишите текст, объединяющий общую информацию высказываний</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Заголовок 1" descr=""/>
          <p:cNvPicPr/>
          <p:nvPr/>
        </p:nvPicPr>
        <p:blipFill>
          <a:blip r:embed="rId1"/>
          <a:stretch/>
        </p:blipFill>
        <p:spPr>
          <a:xfrm>
            <a:off x="360360" y="317520"/>
            <a:ext cx="7345440" cy="1150920"/>
          </a:xfrm>
          <a:prstGeom prst="rect">
            <a:avLst/>
          </a:prstGeom>
          <a:ln w="0">
            <a:noFill/>
          </a:ln>
        </p:spPr>
      </p:pic>
      <p:sp>
        <p:nvSpPr>
          <p:cNvPr id="266"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мплексный анализ текста даёт учащимся возможность мыслить, рассуждать и выходить на метапредметные связи. </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оме того, комплексный анализ текста – один из основных видов упражнений подготовительного характера к проведению уроков развития речи и написания изложений. </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ализировать тексты ребята учатся с 5-го класса. Тогда же начинается их знакомство с основными лингвистическими понятиями (язык и речь, типы речи (повествование, описание, рассуждение), стили речи (разговорный и книжный с его разделением на стили деловой, научный, публицистический, художественный), виды речи (монолог и диалог), текст, тема, идея, функциональные возможности языковых средств). Задания для анализа текста должны отвечать его особенностям. Наиболее общие из них можно свести в единую памятку. </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42560" y="285480"/>
            <a:ext cx="7715160" cy="58402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                    </a:t>
            </a:r>
            <a:r>
              <a:rPr b="0" lang="ru-RU" sz="2000" spc="-1" strike="noStrike">
                <a:solidFill>
                  <a:srgbClr val="000000"/>
                </a:solidFill>
                <a:latin typeface="Trebuchet MS"/>
              </a:rPr>
              <a:t>Памятка для анализа текста</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1. Определите, что перед вами – слова, предложения или текст. Докажите свою точку зрения.</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2. Озаглавьте текст. (Объясните имеющееся заглавие. Придумайте свое заглавие (варианты заглавий), сопоставьте.)</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3. Составьте план, выделите опорные слова.</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4. Укажите особенности частей текста. Есть ли смысловая связь между ними? Есть ли языковая связь?</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5. Определите тему текста. (О чем текст?)</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6. Назовите идею текста, его главную мысль.</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7. Укажите, о чем текст: о развитии действия, о признаках предмета или это вывод на основе приведенных аргументов к высказанному утверждению? На какой вопрос отвечает текст? Тип речи текста.</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одумайте, какого стиля текст: разговорного или книжного? (Делового, научного, публицистического, художественного?)</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Заголовок 1" descr=""/>
          <p:cNvPicPr/>
          <p:nvPr/>
        </p:nvPicPr>
        <p:blipFill>
          <a:blip r:embed="rId1"/>
          <a:stretch/>
        </p:blipFill>
        <p:spPr>
          <a:xfrm>
            <a:off x="450720" y="237960"/>
            <a:ext cx="7255080" cy="695520"/>
          </a:xfrm>
          <a:prstGeom prst="rect">
            <a:avLst/>
          </a:prstGeom>
          <a:ln w="0">
            <a:noFill/>
          </a:ln>
        </p:spPr>
      </p:pic>
      <p:sp>
        <p:nvSpPr>
          <p:cNvPr id="269" name=""/>
          <p:cNvSpPr txBox="1"/>
          <p:nvPr/>
        </p:nvSpPr>
        <p:spPr>
          <a:xfrm>
            <a:off x="457200" y="856800"/>
            <a:ext cx="7238880" cy="55990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онтроля за качеством усвоения материала по сжатию текста я использую практические и  тестовые задания («Тесты для промежуточной и итоговой аттестации в 5-9 классах» под редакцией Н.А.Сениной.), структурированные под экзаменационные материалы. </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адача учителя на уроке - отработать навыки выполнения таких заданий, закрепить их в индивидуальной, групповой и фронтальной работе и только потом провести контрольную или проверочную работу с целью проверки знаний, анализа и исправления ошибок. </a:t>
            </a:r>
            <a:endParaRPr b="0" lang="en-US" sz="20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ая методика подготовки и проведения  практических работ и тестирования дает прогнозируемый достаточно высокий результат.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450720" y="317520"/>
            <a:ext cx="7255080" cy="1150920"/>
          </a:xfrm>
          <a:prstGeom prst="rect">
            <a:avLst/>
          </a:prstGeom>
          <a:ln w="0">
            <a:noFill/>
          </a:ln>
        </p:spPr>
      </p:pic>
      <p:sp>
        <p:nvSpPr>
          <p:cNvPr id="271"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одукты серии «Уроки Кирилла и Мефодия» </a:t>
            </a:r>
            <a:r>
              <a:rPr b="0" lang="ru-RU" sz="1400" spc="-1" strike="noStrike">
                <a:solidFill>
                  <a:srgbClr val="000000"/>
                </a:solidFill>
                <a:latin typeface="Times New Roman"/>
                <a:ea typeface="Times New Roman"/>
              </a:rPr>
              <a:t>разработаны в соответствии с государственным стандартом образования РФ. Программы включают уроки по разным темам школьного курса русского языка. </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a:t>
            </a:r>
            <a:r>
              <a:rPr b="1" lang="ru-RU" sz="1400" spc="-1" strike="noStrike">
                <a:solidFill>
                  <a:srgbClr val="000000"/>
                </a:solidFill>
                <a:latin typeface="Times New Roman"/>
                <a:ea typeface="Times New Roman"/>
              </a:rPr>
              <a:t>Программные продукты от фирмы «1C»</a:t>
            </a:r>
            <a:r>
              <a:rPr b="0" lang="ru-RU" sz="1400" spc="-1" strike="noStrike">
                <a:solidFill>
                  <a:srgbClr val="000000"/>
                </a:solidFill>
                <a:latin typeface="Times New Roman"/>
                <a:ea typeface="Times New Roman"/>
              </a:rPr>
              <a:t> адресованы абитуриентам, однако вполне могут быть использованы на уроках русского языка в средней школе. </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Методические материалы в сети</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 </a:t>
            </a:r>
            <a:r>
              <a:rPr b="1" lang="ru-RU" sz="1400" spc="-1" strike="noStrike">
                <a:solidFill>
                  <a:srgbClr val="000000"/>
                </a:solidFill>
                <a:latin typeface="Times New Roman"/>
                <a:ea typeface="Times New Roman"/>
              </a:rPr>
              <a:t>Справочно-информационный портал «Русский язык»</a:t>
            </a:r>
            <a:r>
              <a:rPr b="0" lang="ru-RU" sz="1400" spc="-1" strike="noStrike">
                <a:solidFill>
                  <a:srgbClr val="000000"/>
                </a:solidFill>
                <a:latin typeface="Times New Roman"/>
                <a:ea typeface="Times New Roman"/>
              </a:rPr>
              <a:t> – </a:t>
            </a:r>
            <a:r>
              <a:rPr b="0" lang="ru-RU" sz="1400" spc="-1" strike="noStrike" u="sng">
                <a:solidFill>
                  <a:srgbClr val="ffde66"/>
                </a:solidFill>
                <a:uFillTx/>
                <a:latin typeface="Times New Roman"/>
                <a:ea typeface="Times New Roman"/>
                <a:hlinkClick r:id="rId2"/>
              </a:rPr>
              <a:t>http://www.gramota.ru</a:t>
            </a:r>
            <a:r>
              <a:rPr b="0" lang="ru-RU" sz="1400" spc="-1" strike="noStrike">
                <a:solidFill>
                  <a:srgbClr val="002060"/>
                </a:solidFill>
                <a:latin typeface="Times New Roman"/>
                <a:ea typeface="Times New Roman"/>
              </a:rPr>
              <a:t>. </a:t>
            </a:r>
            <a:r>
              <a:rPr b="0" lang="ru-RU" sz="1400" spc="-1" strike="noStrike">
                <a:solidFill>
                  <a:srgbClr val="000000"/>
                </a:solidFill>
                <a:latin typeface="Times New Roman"/>
                <a:ea typeface="Times New Roman"/>
              </a:rPr>
              <a:t>Содержит много полезной информации, касающейся русского языка: рубрики «Язык и закон», «Наука о языке», «Язык и образование», «Язык и творчество» и др. </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 </a:t>
            </a:r>
            <a:r>
              <a:rPr b="1" lang="ru-RU" sz="1400" spc="-1" strike="noStrike">
                <a:solidFill>
                  <a:srgbClr val="000000"/>
                </a:solidFill>
                <a:latin typeface="Times New Roman"/>
                <a:ea typeface="Times New Roman"/>
              </a:rPr>
              <a:t>Издательский дом «Первое сентября», Русский язык – http://rus.1september.ru.</a:t>
            </a:r>
            <a:r>
              <a:rPr b="0" lang="ru-RU" sz="1400" spc="-1" strike="noStrike">
                <a:solidFill>
                  <a:srgbClr val="000000"/>
                </a:solidFill>
                <a:latin typeface="Times New Roman"/>
                <a:ea typeface="Times New Roman"/>
              </a:rPr>
              <a:t> Издательский дом «Первое сентября» поддерживает в Интернете два ресурса: электронную версию одноименной газеты и сайт для учителей «Я иду на урок русского языка» – </a:t>
            </a:r>
            <a:r>
              <a:rPr b="0" lang="ru-RU" sz="1400" spc="-1" strike="noStrike" u="sng">
                <a:solidFill>
                  <a:srgbClr val="ffde66"/>
                </a:solidFill>
                <a:uFillTx/>
                <a:latin typeface="Times New Roman"/>
                <a:ea typeface="Times New Roman"/>
                <a:hlinkClick r:id="rId3"/>
              </a:rPr>
              <a:t>http://www.rus.1september.ru/urok</a:t>
            </a:r>
            <a:r>
              <a:rPr b="0" lang="ru-RU" sz="1400" spc="-1" strike="noStrike">
                <a:solidFill>
                  <a:srgbClr val="000000"/>
                </a:solidFill>
                <a:latin typeface="Times New Roman"/>
                <a:ea typeface="Times New Roman"/>
              </a:rPr>
              <a:t>.</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a:t>
            </a:r>
            <a:r>
              <a:rPr b="1" lang="ru-RU" sz="1400" spc="-1" strike="noStrike">
                <a:solidFill>
                  <a:srgbClr val="000000"/>
                </a:solidFill>
                <a:latin typeface="Times New Roman"/>
                <a:ea typeface="Times New Roman"/>
              </a:rPr>
              <a:t>1C: Репетитор</a:t>
            </a:r>
            <a:r>
              <a:rPr b="0" lang="ru-RU" sz="1400" spc="-1" strike="noStrike">
                <a:solidFill>
                  <a:srgbClr val="000000"/>
                </a:solidFill>
                <a:latin typeface="Times New Roman"/>
                <a:ea typeface="Times New Roman"/>
              </a:rPr>
              <a:t> </a:t>
            </a:r>
            <a:r>
              <a:rPr b="0" lang="ru-RU" sz="1400" spc="-1" strike="noStrike" u="sng">
                <a:solidFill>
                  <a:srgbClr val="ffde66"/>
                </a:solidFill>
                <a:uFillTx/>
                <a:latin typeface="Times New Roman"/>
                <a:ea typeface="Times New Roman"/>
                <a:hlinkClick r:id="rId4"/>
              </a:rPr>
              <a:t>http://repetitor.1c.ru</a:t>
            </a:r>
            <a:r>
              <a:rPr b="0" lang="ru-RU" sz="1400" spc="-1" strike="noStrike">
                <a:solidFill>
                  <a:srgbClr val="ff0000"/>
                </a:solidFill>
                <a:latin typeface="Times New Roman"/>
                <a:ea typeface="Times New Roman"/>
              </a:rPr>
              <a:t> </a:t>
            </a:r>
            <a:r>
              <a:rPr b="0" lang="ru-RU" sz="1400" spc="-1" strike="noStrike">
                <a:solidFill>
                  <a:srgbClr val="000000"/>
                </a:solidFill>
                <a:latin typeface="Times New Roman"/>
                <a:ea typeface="Times New Roman"/>
              </a:rPr>
              <a:t>– сайт отдела обучающих программ фирмы 1C.</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временный учитель русского языка имеет возможность пользоваться всеми этими ресурсами исходя из своих потребностей, целей и этапов конкретного урока.</a:t>
            </a:r>
            <a:endParaRPr b="0" lang="en-US" sz="14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Заголовок 1" descr=""/>
          <p:cNvPicPr/>
          <p:nvPr/>
        </p:nvPicPr>
        <p:blipFill>
          <a:blip r:embed="rId1"/>
          <a:stretch/>
        </p:blipFill>
        <p:spPr>
          <a:xfrm>
            <a:off x="360360" y="298440"/>
            <a:ext cx="7345440" cy="635040"/>
          </a:xfrm>
          <a:prstGeom prst="rect">
            <a:avLst/>
          </a:prstGeom>
          <a:ln w="0">
            <a:noFill/>
          </a:ln>
        </p:spPr>
      </p:pic>
      <p:sp>
        <p:nvSpPr>
          <p:cNvPr id="273" name=""/>
          <p:cNvSpPr txBox="1"/>
          <p:nvPr/>
        </p:nvSpPr>
        <p:spPr>
          <a:xfrm>
            <a:off x="142560" y="856800"/>
            <a:ext cx="8001000" cy="55990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первых, </a:t>
            </a:r>
            <a:r>
              <a:rPr b="0" lang="ru-RU" sz="1800" spc="-1" strike="noStrike">
                <a:solidFill>
                  <a:srgbClr val="000000"/>
                </a:solidFill>
                <a:latin typeface="Times New Roman"/>
                <a:ea typeface="Times New Roman"/>
              </a:rPr>
              <a:t>изменено с </a:t>
            </a:r>
            <a:r>
              <a:rPr b="1" lang="ru-RU" sz="1800" spc="-1" strike="noStrike">
                <a:solidFill>
                  <a:srgbClr val="000000"/>
                </a:solidFill>
                <a:latin typeface="Times New Roman"/>
                <a:ea typeface="Times New Roman"/>
              </a:rPr>
              <a:t>4</a:t>
            </a:r>
            <a:r>
              <a:rPr b="0" lang="ru-RU" sz="1800" spc="-1" strike="noStrike">
                <a:solidFill>
                  <a:srgbClr val="000000"/>
                </a:solidFill>
                <a:latin typeface="Times New Roman"/>
                <a:ea typeface="Times New Roman"/>
              </a:rPr>
              <a:t> до </a:t>
            </a:r>
            <a:r>
              <a:rPr b="1" lang="ru-RU" sz="1800" spc="-1" strike="noStrike">
                <a:solidFill>
                  <a:srgbClr val="000000"/>
                </a:solidFill>
                <a:latin typeface="Times New Roman"/>
                <a:ea typeface="Times New Roman"/>
              </a:rPr>
              <a:t>3</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количество микротем исходного текста.</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о-вторых,</a:t>
            </a:r>
            <a:r>
              <a:rPr b="0" lang="ru-RU" sz="1800" spc="-1" strike="noStrike">
                <a:solidFill>
                  <a:srgbClr val="000000"/>
                </a:solidFill>
                <a:latin typeface="Times New Roman"/>
                <a:ea typeface="Times New Roman"/>
              </a:rPr>
              <a:t> изменился </a:t>
            </a:r>
            <a:r>
              <a:rPr b="0" lang="ru-RU" sz="1800" spc="-1" strike="noStrike" u="sng">
                <a:solidFill>
                  <a:srgbClr val="000000"/>
                </a:solidFill>
                <a:uFillTx/>
                <a:latin typeface="Times New Roman"/>
                <a:ea typeface="Times New Roman"/>
              </a:rPr>
              <a:t>объем изложения</a:t>
            </a:r>
            <a:r>
              <a:rPr b="0" lang="ru-RU" sz="1800" spc="-1" strike="noStrike">
                <a:solidFill>
                  <a:srgbClr val="000000"/>
                </a:solidFill>
                <a:latin typeface="Times New Roman"/>
                <a:ea typeface="Times New Roman"/>
              </a:rPr>
              <a:t> (не менее </a:t>
            </a:r>
            <a:r>
              <a:rPr b="1" lang="ru-RU" sz="1800" spc="-1" strike="noStrike">
                <a:solidFill>
                  <a:srgbClr val="000000"/>
                </a:solidFill>
                <a:latin typeface="Times New Roman"/>
                <a:ea typeface="Times New Roman"/>
              </a:rPr>
              <a:t>70</a:t>
            </a:r>
            <a:r>
              <a:rPr b="0" lang="ru-RU" sz="1800" spc="-1" strike="noStrike">
                <a:solidFill>
                  <a:srgbClr val="000000"/>
                </a:solidFill>
                <a:latin typeface="Times New Roman"/>
                <a:ea typeface="Times New Roman"/>
              </a:rPr>
              <a:t> слов, было - не менее </a:t>
            </a:r>
            <a:r>
              <a:rPr b="1" lang="ru-RU" sz="1800" spc="-1" strike="noStrike">
                <a:solidFill>
                  <a:srgbClr val="000000"/>
                </a:solidFill>
                <a:latin typeface="Times New Roman"/>
                <a:ea typeface="Times New Roman"/>
              </a:rPr>
              <a:t>90</a:t>
            </a:r>
            <a:r>
              <a:rPr b="0" lang="ru-RU" sz="1800" spc="-1" strike="noStrike">
                <a:solidFill>
                  <a:srgbClr val="000000"/>
                </a:solidFill>
                <a:latin typeface="Times New Roman"/>
                <a:ea typeface="Times New Roman"/>
              </a:rPr>
              <a:t> слов).</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третьих, </a:t>
            </a:r>
            <a:r>
              <a:rPr b="0" lang="ru-RU" sz="1800" spc="-1" strike="noStrike">
                <a:solidFill>
                  <a:srgbClr val="000000"/>
                </a:solidFill>
                <a:latin typeface="Times New Roman"/>
                <a:ea typeface="Times New Roman"/>
              </a:rPr>
              <a:t>уменьшился </a:t>
            </a:r>
            <a:r>
              <a:rPr b="0" lang="ru-RU" sz="1800" spc="-1" strike="noStrike" u="sng">
                <a:solidFill>
                  <a:srgbClr val="000000"/>
                </a:solidFill>
                <a:uFillTx/>
                <a:latin typeface="Times New Roman"/>
                <a:ea typeface="Times New Roman"/>
              </a:rPr>
              <a:t>объём исходного текста</a:t>
            </a:r>
            <a:r>
              <a:rPr b="0" lang="ru-RU" sz="1800" spc="-1" strike="noStrike">
                <a:solidFill>
                  <a:srgbClr val="000000"/>
                </a:solidFill>
                <a:latin typeface="Times New Roman"/>
                <a:ea typeface="Times New Roman"/>
              </a:rPr>
              <a:t> (теперь</a:t>
            </a:r>
            <a:r>
              <a:rPr b="1" lang="ru-RU" sz="1800" spc="-1" strike="noStrike">
                <a:solidFill>
                  <a:srgbClr val="000000"/>
                </a:solidFill>
                <a:latin typeface="Times New Roman"/>
                <a:ea typeface="Times New Roman"/>
              </a:rPr>
              <a:t>135 </a:t>
            </a:r>
            <a:r>
              <a:rPr b="0" lang="ru-RU" sz="1800" spc="-1" strike="noStrike">
                <a:solidFill>
                  <a:srgbClr val="000000"/>
                </a:solidFill>
                <a:latin typeface="Times New Roman"/>
                <a:ea typeface="Times New Roman"/>
              </a:rPr>
              <a:t>слов в сравнении с демоверсией 2011 – </a:t>
            </a:r>
            <a:r>
              <a:rPr b="1" lang="ru-RU" sz="1800" spc="-1" strike="noStrike">
                <a:solidFill>
                  <a:srgbClr val="000000"/>
                </a:solidFill>
                <a:latin typeface="Times New Roman"/>
                <a:ea typeface="Times New Roman"/>
              </a:rPr>
              <a:t>248</a:t>
            </a:r>
            <a:r>
              <a:rPr b="0" lang="ru-RU" sz="1800" spc="-1" strike="noStrike">
                <a:solidFill>
                  <a:srgbClr val="000000"/>
                </a:solidFill>
                <a:latin typeface="Times New Roman"/>
                <a:ea typeface="Times New Roman"/>
              </a:rPr>
              <a:t> слов).</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четвёртых, </a:t>
            </a:r>
            <a:r>
              <a:rPr b="0" lang="ru-RU" sz="1800" spc="-1" strike="noStrike">
                <a:solidFill>
                  <a:srgbClr val="000000"/>
                </a:solidFill>
                <a:latin typeface="Times New Roman"/>
                <a:ea typeface="Times New Roman"/>
              </a:rPr>
              <a:t>изменена </a:t>
            </a:r>
            <a:r>
              <a:rPr b="0" lang="ru-RU" sz="1800" spc="-1" strike="noStrike" u="sng">
                <a:solidFill>
                  <a:srgbClr val="000000"/>
                </a:solidFill>
                <a:uFillTx/>
                <a:latin typeface="Times New Roman"/>
                <a:ea typeface="Times New Roman"/>
              </a:rPr>
              <a:t>система оценивания</a:t>
            </a:r>
            <a:r>
              <a:rPr b="0" lang="ru-RU" sz="1800" spc="-1" strike="noStrike">
                <a:solidFill>
                  <a:srgbClr val="000000"/>
                </a:solidFill>
                <a:latin typeface="Times New Roman"/>
                <a:ea typeface="Times New Roman"/>
              </a:rPr>
              <a:t> задания С1 (</a:t>
            </a:r>
            <a:r>
              <a:rPr b="0" lang="ru-RU" sz="1800" spc="-1" strike="noStrike" u="sng">
                <a:solidFill>
                  <a:srgbClr val="ffde66"/>
                </a:solidFill>
                <a:uFillTx/>
                <a:latin typeface="Times New Roman"/>
                <a:ea typeface="Times New Roman"/>
                <a:hlinkClick r:id="rId2"/>
              </a:rPr>
              <a:t>изменён критерий ИК2</a:t>
            </a:r>
            <a:r>
              <a:rPr b="0" lang="ru-RU" sz="1800" spc="-1" strike="noStrike">
                <a:solidFill>
                  <a:srgbClr val="000000"/>
                </a:solidFill>
                <a:latin typeface="Times New Roman"/>
                <a:ea typeface="Times New Roman"/>
              </a:rPr>
              <a:t> - слайд №2).</a:t>
            </a:r>
            <a:endParaRPr b="0" lang="en-US" sz="1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пятых,</a:t>
            </a:r>
            <a:r>
              <a:rPr b="0" lang="ru-RU" sz="1800" spc="-1" strike="noStrike">
                <a:solidFill>
                  <a:srgbClr val="000000"/>
                </a:solidFill>
                <a:latin typeface="Times New Roman"/>
                <a:ea typeface="Times New Roman"/>
              </a:rPr>
              <a:t> изменилась </a:t>
            </a:r>
            <a:r>
              <a:rPr b="0" lang="ru-RU" sz="1800" spc="-1" strike="noStrike" u="sng">
                <a:solidFill>
                  <a:srgbClr val="000000"/>
                </a:solidFill>
                <a:uFillTx/>
                <a:latin typeface="Times New Roman"/>
                <a:ea typeface="Times New Roman"/>
              </a:rPr>
              <a:t>форма проведения</a:t>
            </a:r>
            <a:r>
              <a:rPr b="0" lang="ru-RU" sz="1800" spc="-1" strike="noStrike">
                <a:solidFill>
                  <a:srgbClr val="000000"/>
                </a:solidFill>
                <a:latin typeface="Times New Roman"/>
                <a:ea typeface="Times New Roman"/>
              </a:rPr>
              <a:t> сжатого изложения (экзаменуемые прослушивают исходный текст</a:t>
            </a:r>
            <a:r>
              <a:rPr b="1" lang="ru-RU" sz="1800" spc="-1" strike="noStrike">
                <a:solidFill>
                  <a:srgbClr val="000000"/>
                </a:solidFill>
                <a:latin typeface="Times New Roman"/>
                <a:ea typeface="Times New Roman"/>
              </a:rPr>
              <a:t> </a:t>
            </a:r>
            <a:r>
              <a:rPr b="1" lang="ru-RU" sz="1800" spc="-1" strike="noStrike" u="sng">
                <a:solidFill>
                  <a:srgbClr val="ffde66"/>
                </a:solidFill>
                <a:uFillTx/>
                <a:latin typeface="Times New Roman"/>
                <a:ea typeface="Times New Roman"/>
                <a:hlinkClick r:id="rId3"/>
              </a:rPr>
              <a:t>в аудиозаписи</a:t>
            </a:r>
            <a:r>
              <a:rPr b="0" lang="ru-RU" sz="1800" spc="-1" strike="noStrike">
                <a:solidFill>
                  <a:srgbClr val="000000"/>
                </a:solidFill>
                <a:latin typeface="Times New Roman"/>
                <a:ea typeface="Times New Roman"/>
              </a:rPr>
              <a:t>, а не из уст учителя-словесника, как это было раньше). Время звучания текста в аудиозаписи - примерно </a:t>
            </a:r>
            <a:r>
              <a:rPr b="1" lang="ru-RU" sz="1800" spc="-1" strike="noStrike">
                <a:solidFill>
                  <a:srgbClr val="000000"/>
                </a:solidFill>
                <a:latin typeface="Times New Roman"/>
                <a:ea typeface="Times New Roman"/>
              </a:rPr>
              <a:t>2,5</a:t>
            </a:r>
            <a:r>
              <a:rPr b="0" lang="ru-RU" sz="1800" spc="-1" strike="noStrike">
                <a:solidFill>
                  <a:srgbClr val="000000"/>
                </a:solidFill>
                <a:latin typeface="Times New Roman"/>
                <a:ea typeface="Times New Roman"/>
              </a:rPr>
              <a:t> минуты.</a:t>
            </a:r>
            <a:br>
              <a:rPr sz="1800"/>
            </a:br>
            <a:r>
              <a:rPr b="0" lang="ru-RU" sz="1600" spc="-1" strike="noStrike">
                <a:solidFill>
                  <a:srgbClr val="000000"/>
                </a:solidFill>
                <a:latin typeface="Times New Roman"/>
                <a:ea typeface="Times New Roman"/>
              </a:rPr>
              <a:t>Помните также о том, что: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кзаменуемый должен передать главное содержание как каждой микротемы, так и всего текста в целом; </a:t>
            </a:r>
            <a:r>
              <a:rPr b="0" lang="ru-RU" sz="1600" spc="-1" strike="noStrike" u="sng">
                <a:solidFill>
                  <a:srgbClr val="000000"/>
                </a:solidFill>
                <a:uFillTx/>
                <a:latin typeface="Times New Roman"/>
                <a:ea typeface="Times New Roman"/>
              </a:rPr>
              <a:t> </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количество микротем</a:t>
            </a:r>
            <a:r>
              <a:rPr b="0" lang="ru-RU" sz="1600" spc="-1" strike="noStrike">
                <a:solidFill>
                  <a:srgbClr val="000000"/>
                </a:solidFill>
                <a:latin typeface="Times New Roman"/>
                <a:ea typeface="Times New Roman"/>
              </a:rPr>
              <a:t> после сжатия текста </a:t>
            </a:r>
            <a:r>
              <a:rPr b="0" lang="ru-RU" sz="1600" spc="-1" strike="noStrike" u="sng">
                <a:solidFill>
                  <a:srgbClr val="000000"/>
                </a:solidFill>
                <a:uFillTx/>
                <a:latin typeface="Times New Roman"/>
                <a:ea typeface="Times New Roman"/>
              </a:rPr>
              <a:t>не должно меняться;</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чтения текста экзаменуемым</a:t>
            </a:r>
            <a:r>
              <a:rPr b="0" lang="ru-RU" sz="1600" spc="-1" strike="noStrike" u="sng">
                <a:solidFill>
                  <a:srgbClr val="000000"/>
                </a:solidFill>
                <a:uFillTx/>
                <a:latin typeface="Times New Roman"/>
                <a:ea typeface="Times New Roman"/>
              </a:rPr>
              <a:t> разрешается </a:t>
            </a:r>
            <a:r>
              <a:rPr b="0" lang="ru-RU" sz="1600" spc="-1" strike="noStrike">
                <a:solidFill>
                  <a:srgbClr val="000000"/>
                </a:solidFill>
                <a:latin typeface="Times New Roman"/>
                <a:ea typeface="Times New Roman"/>
              </a:rPr>
              <a:t>делать записи в черновике;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пользоваться </a:t>
            </a:r>
            <a:r>
              <a:rPr b="0" lang="ru-RU" sz="1600" spc="-1" strike="noStrike" u="sng">
                <a:solidFill>
                  <a:srgbClr val="000000"/>
                </a:solidFill>
                <a:uFillTx/>
                <a:latin typeface="Times New Roman"/>
                <a:ea typeface="Times New Roman"/>
              </a:rPr>
              <a:t>орфографическим словарём</a:t>
            </a:r>
            <a:r>
              <a:rPr b="0" lang="ru-RU" sz="1600" spc="-1" strike="noStrike">
                <a:solidFill>
                  <a:srgbClr val="000000"/>
                </a:solidFill>
                <a:latin typeface="Times New Roman"/>
                <a:ea typeface="Times New Roman"/>
              </a:rPr>
              <a:t> на протяжении </a:t>
            </a:r>
            <a:r>
              <a:rPr b="0" lang="ru-RU" sz="1600" spc="-1" strike="noStrike" u="sng">
                <a:solidFill>
                  <a:srgbClr val="000000"/>
                </a:solidFill>
                <a:uFillTx/>
                <a:latin typeface="Times New Roman"/>
                <a:ea typeface="Times New Roman"/>
              </a:rPr>
              <a:t>всего экзамена</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максимальное количество баллов</a:t>
            </a:r>
            <a:r>
              <a:rPr b="0" lang="ru-RU" sz="1600" spc="-1" strike="noStrike">
                <a:solidFill>
                  <a:srgbClr val="000000"/>
                </a:solidFill>
                <a:latin typeface="Times New Roman"/>
                <a:ea typeface="Times New Roman"/>
              </a:rPr>
              <a:t>, которое может набрать экзаменуемый, равняется </a:t>
            </a:r>
            <a:r>
              <a:rPr b="0" lang="ru-RU" sz="1600" spc="-1" strike="noStrike" u="sng">
                <a:solidFill>
                  <a:srgbClr val="000000"/>
                </a:solidFill>
                <a:uFillTx/>
                <a:latin typeface="Times New Roman"/>
                <a:ea typeface="Times New Roman"/>
              </a:rPr>
              <a:t>7</a:t>
            </a:r>
            <a:r>
              <a:rPr b="0" lang="ru-RU" sz="1600" spc="-1" strike="noStrike">
                <a:solidFill>
                  <a:srgbClr val="000000"/>
                </a:solidFill>
                <a:latin typeface="Times New Roman"/>
                <a:ea typeface="Times New Roman"/>
              </a:rPr>
              <a:t>.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Заголовок 1" descr=""/>
          <p:cNvPicPr/>
          <p:nvPr/>
        </p:nvPicPr>
        <p:blipFill>
          <a:blip r:embed="rId1"/>
          <a:stretch/>
        </p:blipFill>
        <p:spPr>
          <a:xfrm>
            <a:off x="450720" y="298440"/>
            <a:ext cx="7255080" cy="635040"/>
          </a:xfrm>
          <a:prstGeom prst="rect">
            <a:avLst/>
          </a:prstGeom>
          <a:ln w="0">
            <a:noFill/>
          </a:ln>
        </p:spPr>
      </p:pic>
      <p:sp>
        <p:nvSpPr>
          <p:cNvPr id="275" name=""/>
          <p:cNvSpPr txBox="1"/>
          <p:nvPr/>
        </p:nvSpPr>
        <p:spPr>
          <a:xfrm>
            <a:off x="457200" y="856800"/>
            <a:ext cx="7238880" cy="559908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а, направленная на обучение написания сжатого изложения, будет более эффективной, если:</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лементы комплексной работы по обучению чтению и пониманию текста систематически включать в уроки русского языка (а не только в специальные уроки по развитию речи) в 5-9-ых классах; использовать для этого различные виды тренировочных упражнений;</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довательно формировать умения учащихся в понимании прочитанного текста, сжатии текста и последующей переработке информации путем трансформации, сжатия и др.;</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читывать необходимость реализации внутрипредметных связей между уроками русского языка и литературы;</a:t>
            </a:r>
            <a:endParaRPr b="0" lang="en-US" sz="16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чно вырабатывать у школьников навык самоконтроля;</a:t>
            </a:r>
            <a:endParaRPr b="0" lang="en-US" sz="16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дготовка к написанию сжатого изложения  - одна из центральных задач учителя при подготовке к ГИА. Умение выразить информацию в краткой, логически стройной форме необходимо ученикам не только при написании сжатого изложения, но и при подготовке сообщений, аннотаций, составлении тезисов, конспектировании.</a:t>
            </a:r>
            <a:r>
              <a:rPr b="0" lang="ru-RU" sz="1400" spc="-1" strike="noStrike">
                <a:solidFill>
                  <a:srgbClr val="000000"/>
                </a:solidFill>
                <a:latin typeface="Trebuchet MS"/>
              </a:rPr>
              <a:t> </a:t>
            </a:r>
            <a:endParaRPr b="0" lang="en-US" sz="14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rebuchet MS"/>
              </a:rPr>
              <a:t>Каждый педагог, творчески подходящий к процессу обучения, вырабатывает свою систему работы с учащимися. Но всех нас объединяет одно: необходим результат. И это не только успешная сдача выпускниками 9 - х классов ГИА по русскому языку, это прежде всего воспитание личности, уважительно относящейся к  языку, владеющей письменной и устной речью, личности компетентной. </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450720" y="249120"/>
            <a:ext cx="7255080" cy="970200"/>
          </a:xfrm>
          <a:prstGeom prst="rect">
            <a:avLst/>
          </a:prstGeom>
          <a:ln w="0">
            <a:noFill/>
          </a:ln>
        </p:spPr>
      </p:pic>
      <p:sp>
        <p:nvSpPr>
          <p:cNvPr id="277" name=""/>
          <p:cNvSpPr txBox="1"/>
          <p:nvPr/>
        </p:nvSpPr>
        <p:spPr>
          <a:xfrm>
            <a:off x="142920" y="785880"/>
            <a:ext cx="7929360" cy="5929200"/>
          </a:xfrm>
          <a:prstGeom prst="rect">
            <a:avLst/>
          </a:prstGeom>
          <a:noFill/>
          <a:ln w="0">
            <a:noFill/>
          </a:ln>
        </p:spPr>
        <p:txBody>
          <a:bodyPr anchor="t">
            <a:normAutofit fontScale="99000"/>
          </a:bodyPr>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Бархударов С.Г., Крючков С.Е., Максимов А.Ю. и др. Русский язык: Учебники для 8, 9 кл. общеобразовательных учреждений. – М.: Просвещение.</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Драбкина С.В., Субботин Д.И. "Русский язык 2012. Успешная подготовка. Разбор заданий. Алгоритмы. Тесты". -  М,: «Интеллект», 2012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Комплект методических материалов, обеспечивающих проведение государственной (итоговой) аттестации учащихся 9-х классов общеобразовательных учреждений в новых формах. – 2-е изд.. – М.: Просвещение, 2006.</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Куманяева А.Е. Изложение на экзамене. – М, «Экзамен», 2006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Ладыженская Т.А., Баранов М.Т., Тростенцова Л.А. и др. Русский язык: Учебники для 5, 6, 7 кл. общеобразовательных учреждений / Научный ред. акад. РАО Н.М. Шанский. – М.: Просвещение; </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Львова С. И. ГИА 2010. Русский язык: Сборник заданий: 9 класс – М.:Эксмо,2010.8.Майоров А.Н. Теория и практика создания тестов для системы образования. – М.: Интеллект-Центр, 2001.</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Разумовская М.М. и др. Русский язык. Учебники для 8,9кл общеобразовательных учреждений. – М,: Просвещение.</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Сенина.Н.А. Русский язык. Тесты для промежуточной аттестации. Учебное пособие 5-9кл, - Ростов-на-Дону: Легион, 2011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Сычева В. П. ЕГЭ. Русский язык. 9 класс. Государственная итоговая аттестация (по новой форме). Типовые тестовые задания. – М.:Экзамен, 2009. 12.Хаустова Д.А. Написание сжатого изложения.-М,: «Экзамен», 2012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Шапиро Н.А. Подготовка к ГИА по русскому языку в 9-м классе: методика и практика.- М,:Педагогический университет «Первое сентября», 2011г</a:t>
            </a:r>
            <a:endParaRPr b="0" lang="en-US" sz="1400" spc="-1" strike="noStrike">
              <a:solidFill>
                <a:srgbClr val="000000"/>
              </a:solidFill>
              <a:latin typeface="Trebuchet MS"/>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Щербина И.В. Учимся писать изложение. – М, «Школьная пресса», 2005г</a:t>
            </a:r>
            <a:endParaRPr b="0" lang="en-US" sz="1400" spc="-1" strike="noStrike">
              <a:solidFill>
                <a:srgbClr val="000000"/>
              </a:solidFill>
              <a:latin typeface="Trebuchet MS"/>
            </a:endParaRPr>
          </a:p>
          <a:p>
            <a:pPr marL="270000" indent="-27000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28760" y="285480"/>
            <a:ext cx="7500960" cy="614340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rebuchet MS"/>
              </a:rPr>
              <a:t> </a:t>
            </a:r>
            <a:r>
              <a:rPr b="1" lang="ru-RU" sz="1800" spc="-1" strike="noStrike">
                <a:solidFill>
                  <a:srgbClr val="ff0000"/>
                </a:solidFill>
                <a:latin typeface="Trebuchet MS"/>
              </a:rPr>
              <a:t>Задания, предлагаемые учащимся на итоговой аттестации, проверяют все виды компетенций:</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1) лингвистическую, то есть умение проводить элементарный лингвистический анализ языковых явлений;</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2) языковую, то есть практическое владение русским языком, его словарем и грамматическим строем, соблюдение языковых норм;</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3) коммуникативную, то есть владение разными видами речевой деятельности, умение воспринимать чужую речь и создавать собственные высказывания. </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Первая часть</a:t>
            </a:r>
            <a:r>
              <a:rPr b="0" lang="ru-RU" sz="1800" spc="-1" strike="noStrike">
                <a:solidFill>
                  <a:srgbClr val="000000"/>
                </a:solidFill>
                <a:latin typeface="Trebuchet MS"/>
              </a:rPr>
              <a:t> экзамена (С-1) состоит в написании сжатого изложения по прослушанному тексту и требует от школьника мобилизации памяти, владения норм правописания, навыков информационной обработки текста (выделить главное, отсечь второстепенное, при этом используя адекватные лексические и грамматические средства). Вряд ли кто-нибудь будет спорить, что в наш информационный век умение воспринимать и обрабатывать информацию - это отнюдь не школьно-академическое, отвлеченное требование, а действительно важное умение, постоянно используемое в жизни.</a:t>
            </a:r>
            <a:endParaRPr b="0" lang="en-US" sz="1800" spc="-1" strike="noStrike">
              <a:solidFill>
                <a:srgbClr val="000000"/>
              </a:solidFill>
              <a:latin typeface="Trebuchet MS"/>
            </a:endParaRPr>
          </a:p>
          <a:p>
            <a:pP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450720" y="262080"/>
            <a:ext cx="7255080" cy="817560"/>
          </a:xfrm>
          <a:prstGeom prst="rect">
            <a:avLst/>
          </a:prstGeom>
          <a:ln w="0">
            <a:noFill/>
          </a:ln>
        </p:spPr>
      </p:pic>
      <p:sp>
        <p:nvSpPr>
          <p:cNvPr id="233" name=""/>
          <p:cNvSpPr txBox="1"/>
          <p:nvPr/>
        </p:nvSpPr>
        <p:spPr>
          <a:xfrm>
            <a:off x="457200" y="928800"/>
            <a:ext cx="7238880" cy="5527440"/>
          </a:xfrm>
          <a:prstGeom prst="rect">
            <a:avLst/>
          </a:prstGeom>
          <a:noFill/>
          <a:ln w="0">
            <a:noFill/>
          </a:ln>
        </p:spPr>
        <p:txBody>
          <a:bodyPr anchor="t">
            <a:normAutofit fontScale="95000"/>
          </a:bodyPr>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Анализ учебно-методической литературы позволяет говорить о том, что в современной методике обучения русскому языку еще существуют нерешенные проблемы. Так, все большую актуальность приобретает проблема обучения связной речи.</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Во-первых, это обусловлено тем, что развитая (устная и письменная) речь - показатель уровня культуры человека, его интеллекта, кругозора. </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Во-вторых, с каждым годом увеличивается поток информации, в которой нужно уметь быстро ориентироваться, выбирать главное. Умение  уяснить суть, основное в воспринимаемом материале, а также точно и лаконично передать его другим предстает в таких условиях насущной проблемой действительности.</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В рамках школьного образования в процессе формирования умения видеть сущностную сторону усваиваемого содержания и воспроизводить главное  важную роль играет работа над сжатым изложением текста. Кроме того, обучение этому виду изложений способствует формированию таких коммуникативных качеств речи, как лаконичность и точность.</a:t>
            </a:r>
            <a:endParaRPr b="0" lang="en-US" sz="1800" spc="-1" strike="noStrike">
              <a:solidFill>
                <a:srgbClr val="000000"/>
              </a:solidFill>
              <a:latin typeface="Trebuchet MS"/>
            </a:endParaRPr>
          </a:p>
          <a:p>
            <a:pPr marL="259200" indent="-2592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Заголовок 1" descr=""/>
          <p:cNvPicPr/>
          <p:nvPr/>
        </p:nvPicPr>
        <p:blipFill>
          <a:blip r:embed="rId1"/>
          <a:stretch/>
        </p:blipFill>
        <p:spPr>
          <a:xfrm>
            <a:off x="328680" y="360360"/>
            <a:ext cx="7748640" cy="1004760"/>
          </a:xfrm>
          <a:prstGeom prst="rect">
            <a:avLst/>
          </a:prstGeom>
          <a:ln w="0">
            <a:noFill/>
          </a:ln>
        </p:spPr>
      </p:pic>
      <p:sp>
        <p:nvSpPr>
          <p:cNvPr id="235" name=""/>
          <p:cNvSpPr txBox="1"/>
          <p:nvPr/>
        </p:nvSpPr>
        <p:spPr>
          <a:xfrm>
            <a:off x="4648320" y="1857240"/>
            <a:ext cx="4495680" cy="45547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Trebuchet MS"/>
              </a:rPr>
              <a:t>  </a:t>
            </a:r>
            <a:endParaRPr b="0" lang="en-US" sz="2000" spc="-1" strike="noStrike">
              <a:solidFill>
                <a:srgbClr val="000000"/>
              </a:solidFill>
              <a:latin typeface="Trebuchet MS"/>
            </a:endParaRPr>
          </a:p>
        </p:txBody>
      </p:sp>
      <p:sp>
        <p:nvSpPr>
          <p:cNvPr id="236" name=""/>
          <p:cNvSpPr txBox="1"/>
          <p:nvPr/>
        </p:nvSpPr>
        <p:spPr>
          <a:xfrm>
            <a:off x="357120" y="1142640"/>
            <a:ext cx="7500960" cy="53118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блему адекватности восприятия текста на слух;</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блему организации планомерной и постоянной работы над освоением учениками лексического богатства русского языка;</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гие ученики не придают должного значения разделению текста на абзацы или нечетко обозначают красную строку, а ведь в критериях оценки особое внимание обращается на абзацное членение текста;</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проблема выделения главной и второстепенной информации в тексте;</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неумение видеть логику рассуждения и обозначать логический переход от одной мысли к другой;</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ногие ученики допускают грамматические и речевые ошибки.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ubTitle"/>
          </p:nvPr>
        </p:nvSpPr>
        <p:spPr>
          <a:xfrm>
            <a:off x="285480" y="499680"/>
            <a:ext cx="7643880" cy="5715000"/>
          </a:xfrm>
          <a:prstGeom prst="rect">
            <a:avLst/>
          </a:prstGeom>
          <a:noFill/>
          <a:ln w="0">
            <a:noFill/>
          </a:ln>
        </p:spPr>
        <p:txBody>
          <a:bodyPr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rebuchet MS"/>
              </a:rPr>
              <a:t>.</a:t>
            </a:r>
            <a:r>
              <a:rPr b="0" lang="ru-RU" sz="1900" spc="-1" strike="noStrike">
                <a:solidFill>
                  <a:srgbClr val="000000"/>
                </a:solidFill>
                <a:latin typeface="Times New Roman"/>
                <a:ea typeface="Times New Roman"/>
              </a:rPr>
              <a:t>Результаты экзамена позволяют сделать вывод о том, что в курсе русского языка в основной школе большее внимание уделяется теоретической составляющей в освоении норм написания сжатого изложения, чем практическому овладению этими нормами.  Усиление практической направленности обучения русскому языку и соединение теории с практикой может быть достигнуто на основе многоплановой работы с различными видами упражнений, направленных на подготовку к написанию сжатого изложения.</a:t>
            </a:r>
            <a:endParaRPr b="0" lang="en-US" sz="19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ителю необходимо осознать, что этой формой письменной работы проверяется умение точно понимать смысл и принцип построения текста, а значит нужно обучать школьников пониманию текста, предлагая различные аналитические и творческие задания с разнообразными формулировками, разного объема – в том числе и сжатые изложения, когда необходимые для их написания навыки уже будут выработаны.</a:t>
            </a:r>
            <a:endParaRPr b="0" lang="en-US" sz="20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Сказанное определяет необходимость совершенствования методики обучения сжатому изложению, а значит, и </a:t>
            </a:r>
            <a:r>
              <a:rPr b="1" lang="ru-RU" sz="2000" spc="-1" strike="noStrike">
                <a:solidFill>
                  <a:srgbClr val="000000"/>
                </a:solidFill>
                <a:latin typeface="Trebuchet MS"/>
              </a:rPr>
              <a:t>актуальность </a:t>
            </a:r>
            <a:r>
              <a:rPr b="0" lang="ru-RU" sz="2000" spc="-1" strike="noStrike">
                <a:solidFill>
                  <a:srgbClr val="000000"/>
                </a:solidFill>
                <a:latin typeface="Trebuchet MS"/>
              </a:rPr>
              <a:t>этой темы.</a:t>
            </a:r>
            <a:endParaRPr b="0" lang="en-US" sz="2000" spc="-1" strike="noStrike">
              <a:solidFill>
                <a:srgbClr val="000000"/>
              </a:solidFill>
              <a:latin typeface="Trebuchet MS"/>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Заголовок 1" descr=""/>
          <p:cNvPicPr/>
          <p:nvPr/>
        </p:nvPicPr>
        <p:blipFill>
          <a:blip r:embed="rId1"/>
          <a:stretch/>
        </p:blipFill>
        <p:spPr>
          <a:xfrm>
            <a:off x="450720" y="262080"/>
            <a:ext cx="7255080" cy="884160"/>
          </a:xfrm>
          <a:prstGeom prst="rect">
            <a:avLst/>
          </a:prstGeom>
          <a:ln w="0">
            <a:noFill/>
          </a:ln>
        </p:spPr>
      </p:pic>
      <p:sp>
        <p:nvSpPr>
          <p:cNvPr id="239" name=""/>
          <p:cNvSpPr txBox="1"/>
          <p:nvPr/>
        </p:nvSpPr>
        <p:spPr>
          <a:xfrm>
            <a:off x="457200" y="856800"/>
            <a:ext cx="7238880" cy="55990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Целенаправленная, последовательная и систематическая работа по обучению сжатому изложению могла бы повысить уровень сформированности точности и лаконичности связной речи учащихся  при соблюдении следующих методических условий: во-первых, если в основу  методической системы будет положен необходимый и достаточный минимум теоретических сведений о сокращенной передаче информации; во-вторых, в процессе обучения будет использоваться соответствующая формируемым коммуникативно-речевым умениям система упражнений.</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Отсюда вытекают следующие </a:t>
            </a:r>
            <a:r>
              <a:rPr b="1" lang="ru-RU" sz="1800" spc="-1" strike="noStrike">
                <a:solidFill>
                  <a:srgbClr val="000000"/>
                </a:solidFill>
                <a:latin typeface="Trebuchet MS"/>
              </a:rPr>
              <a:t>задачи</a:t>
            </a:r>
            <a:r>
              <a:rPr b="0" lang="ru-RU" sz="1800" spc="-1" strike="noStrike">
                <a:solidFill>
                  <a:srgbClr val="000000"/>
                </a:solidFill>
                <a:latin typeface="Trebuchet MS"/>
              </a:rPr>
              <a:t>, стоящие перед учителем</a:t>
            </a:r>
            <a:r>
              <a:rPr b="1" lang="ru-RU" sz="1800" spc="-1" strike="noStrike">
                <a:solidFill>
                  <a:srgbClr val="000000"/>
                </a:solidFill>
                <a:latin typeface="Trebuchet MS"/>
              </a:rPr>
              <a:t>:</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выявить уровень сформированности коммуникативно-речевых умений, необходимых для создания сжатого текста;</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определить эффективные методы, приемы и средства обучения сжатому изложению;</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разработать систему упражнений по обучению сжатому изложению, определить их типологию;</a:t>
            </a:r>
            <a:endParaRPr b="0" lang="en-US" sz="18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274680" y="208080"/>
            <a:ext cx="7662960" cy="1869840"/>
          </a:xfrm>
          <a:prstGeom prst="rect">
            <a:avLst/>
          </a:prstGeom>
          <a:ln w="0">
            <a:noFill/>
          </a:ln>
        </p:spPr>
      </p:pic>
      <p:sp>
        <p:nvSpPr>
          <p:cNvPr id="241" name=""/>
          <p:cNvSpPr txBox="1"/>
          <p:nvPr/>
        </p:nvSpPr>
        <p:spPr>
          <a:xfrm>
            <a:off x="356760" y="1714320"/>
            <a:ext cx="7572600" cy="478620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Научная новизна  </a:t>
            </a:r>
            <a:r>
              <a:rPr b="0" lang="ru-RU" sz="1800" spc="-1" strike="noStrike">
                <a:solidFill>
                  <a:srgbClr val="000000"/>
                </a:solidFill>
                <a:latin typeface="Trebuchet MS"/>
              </a:rPr>
              <a:t>заключается в том, что:</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определен перечень формируемых коммуникативно-речевых умений при работе по обучению созданию сжатых текстов;</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отобран, систематизирован и адаптирован необходимый и достаточный минимум теоретических знаний о сокращенной передаче информации;</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составлена текстотека материалов для сжатых изложений в соответствии со способами компрессии текста; </a:t>
            </a:r>
            <a:endParaRPr b="0" lang="en-US" sz="18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r>
              <a:rPr b="0" lang="ru-RU" sz="1800" spc="-1" strike="noStrike">
                <a:solidFill>
                  <a:srgbClr val="000000"/>
                </a:solidFill>
                <a:latin typeface="Trebuchet MS"/>
              </a:rPr>
              <a:t>-  разработана система упражнений, направленных на формирование и совершенствование точности и лаконичности связной речи  школьников в процессе обучения сжатому изложению.</a:t>
            </a:r>
            <a:endParaRPr b="0" lang="en-US" sz="18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rebuchet MS"/>
              </a:rPr>
              <a:t>Практическая значимость  </a:t>
            </a:r>
            <a:r>
              <a:rPr b="0" lang="ru-RU" sz="1800" spc="-1" strike="noStrike">
                <a:solidFill>
                  <a:srgbClr val="000000"/>
                </a:solidFill>
                <a:latin typeface="Trebuchet MS"/>
              </a:rPr>
              <a:t>определяется тем, что предложенные виды  тренировочных заданий  могут быть использованы  в практике обучения  школьников написанию сжатого изложения.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Заголовок 1" descr=""/>
          <p:cNvPicPr/>
          <p:nvPr/>
        </p:nvPicPr>
        <p:blipFill>
          <a:blip r:embed="rId1"/>
          <a:stretch/>
        </p:blipFill>
        <p:spPr>
          <a:xfrm>
            <a:off x="208080" y="237960"/>
            <a:ext cx="7802280" cy="908280"/>
          </a:xfrm>
          <a:prstGeom prst="rect">
            <a:avLst/>
          </a:prstGeom>
          <a:ln w="0">
            <a:noFill/>
          </a:ln>
        </p:spPr>
      </p:pic>
      <p:sp>
        <p:nvSpPr>
          <p:cNvPr id="243" name=""/>
          <p:cNvSpPr txBox="1"/>
          <p:nvPr/>
        </p:nvSpPr>
        <p:spPr>
          <a:xfrm>
            <a:off x="214200" y="999720"/>
            <a:ext cx="7786800" cy="513396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ересказ – самое распространенное задание, с которым сталкивается ученик в  школе. При этом от него требуется изложение сути, главной, существенной информации. Вот здесь и необходимо умение сжато излагать мысль, катко пересказывать текст. </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робный пересказ требовал от ученика механического запоминания информации, в то время как краткий пересказ требует умения запоминать текст осмысленно, то есть анализировать его содержание и группировать информацию уже на этапе прослушивания. Именно поэтому на экзамене предпочтение отдано сжатому изложению, которое активизирует аналитические способности ученика: умение воспринимать и обрабатывать информацию на слух, излагать ее кратко и связно.</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жатое изложение должно быть коротким по форме, но не бедным по содержанию.</a:t>
            </a:r>
            <a:endParaRPr b="0" lang="en-US" sz="1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При обучении сжатому изложению формируются следующие коммуникативно-речевые умения: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отобрать в исходном тексте основное (относительно частей исходного текста) и существенное (внутри каждой основной части);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сокращать текст разными способами;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правильно и логично излагать свои мысли,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ие точно использовать языковые средства обобщенной передачи содержания. </a:t>
            </a:r>
            <a:endParaRPr b="0" lang="en-US" sz="16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Людмила</dc:creator>
  <dc:description/>
  <dc:language>en-US</dc:language>
  <cp:lastModifiedBy>Людмила</cp:lastModifiedBy>
  <dcterms:modified xsi:type="dcterms:W3CDTF">2012-06-15T03:08:05Z</dcterms:modified>
  <cp:revision>74</cp:revision>
  <dc:subject/>
  <dc:title>Система   подготовки обучающихся     к    ГИА  по  русскому   языку</dc:title>
</cp:coreProperties>
</file>