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6.jpeg" ContentType="image/jpeg"/>
  <Override PartName="/ppt/media/image42.png" ContentType="image/png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.wmf" ContentType="image/x-wmf"/>
  <Override PartName="/ppt/media/image2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png" ContentType="image/png"/>
  <Override PartName="/ppt/media/image34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44.png" ContentType="image/png"/>
  <Override PartName="/ppt/media/image4.wmf" ContentType="image/x-wmf"/>
  <Override PartName="/ppt/media/image45.png" ContentType="image/png"/>
  <Override PartName="/ppt/media/image10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FAE4-ADA0-49B8-B835-E7AD8C7D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872-6A89-4CA2-9B08-EB7E8FD9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26C8B-8099-4779-BEFB-960378F0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ED243-C373-49FD-A194-6B13FB56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7AAB1-5BB4-433E-8F54-0E99A445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2FD47-9F06-4E82-8510-189CC1BE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BA259-F165-4280-9EC5-C715AC81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964D6-017C-4ADF-A2BC-9BA312B0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9F8E4-8D38-4394-A67F-A39448B1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1DCC3-E94D-408E-8157-2D658822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94436-5E69-4EFE-A744-9DA254E9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BC9ED-1E1F-42EA-877F-651F253B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996-A8C1-48A6-AB45-7021F01D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26D51-AD86-4BEF-B593-8A10641A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2E29D-10EB-4D40-B0EF-00CEA919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E90DF-5EA8-408E-932E-3E878D7E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44C22-731F-4F3D-AA7B-27A1ACD2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BC091-781D-4662-B8B7-70F9DD4E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B6F3E-BABB-497C-B550-D593732F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39496-C90D-4FC7-91C9-D072051F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57429-38B3-49E1-971E-857C0486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A650F-2FEE-489F-B210-81761FF3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B5918-78D7-49EE-AAB8-5C747F3A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64C-6252-43E2-8705-D47844B1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3F60D-0148-43D4-BE8C-419BC03A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1565B-0264-4640-91DD-6D1BE3C1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87F8E-7131-4CB4-A478-EA32C328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F6274-9F0C-4E63-B08F-5C60AD79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67BE2-1BA2-4243-AF24-BBF3D5D1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277A4-1862-4AE9-9449-76C9BA99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14045-4F86-4DD8-978B-0CDB5C9C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A3A4C-1076-408A-A131-04BBFFA6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6D8E8-FF0B-4285-8F62-A403F3E3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0DE91-A411-413E-AF09-C7ADA826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8B29-A2F1-4CF7-9C47-8504F3D9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CC943-A1B7-4F7B-9800-D13755C0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5CF5B-CD97-4B21-948A-BE62FE07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62B13-07DF-4A09-86E0-00BE3242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3038F-347A-4441-98CE-0CB2F437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186DA-5793-487F-88A0-FFD18C98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EDB0C-C916-4759-9129-739176BB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85C21-B343-4617-9085-9B509195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ADB60-41C6-498E-AB04-1E54619E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765F8-FB10-4958-AB52-CDA8FC60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A160F-D57C-4E54-80AB-34C4387D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9358-C476-4F0A-9C2C-CD1073CD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91682-3472-456C-AFCE-B98B7258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12842-D949-406B-B0DE-685164FD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95F81-97B1-4C9F-8077-703BBDE7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A3D02-F8BC-4656-9B2F-2A8693D4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D9472-ADE3-48FC-BF06-38BD0568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BE46-22A5-468C-8470-5B629CE6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5A9E-830D-4D2C-89A7-7876AFA5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C2CC-131A-4718-B1EF-70B88FE4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C74C-A037-4D36-82B5-4959D32C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BE53-3892-43A6-A5CE-DD5623C6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1C1-C008-4723-8FF3-3FED0C6F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14F9-181C-4F3F-93A7-011183F9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E478-6DCC-4034-9E35-C4D1677F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A9A9-C72C-481A-B165-7EE01BE1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4010-1161-4FEA-828A-A0E600A4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ABC1-D0E9-44BF-86A7-911399DC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3E41-5688-426A-9CB8-7D931868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BC6B8-F295-4B2A-ADBA-45D91A2A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D69AC-0939-4CBB-973B-7D3176C3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EEE3-8D6C-42D1-9CB9-F9377AB5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1BDDE-F19F-423B-AD3D-7EA94018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710-D09B-470B-B382-EC3E2E2D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2B479-661A-49D3-BFC4-B3165896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580D-FBB5-482C-871C-4E294FBB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49C9-5E6A-48CD-893B-DCABD372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086FB-C0A5-4479-A31E-EB16E3BC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9DFC6-A856-44CF-9523-BE77DCEA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E1CA1-BCAC-4E65-B17C-AC54C0FF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CB26A-2CE7-429B-8D1B-4BC0D42D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FFEC3-6D39-438F-8A84-A4D0EB83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4952D-3739-43BD-AD25-485FA2AA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6E89B-7EC0-4098-8F00-E847C970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5AD-C12F-43A1-A058-2BB93CD4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1BBA7-06AE-4309-84FB-D63274BB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0E33B-CC0D-46E7-B27F-2ADFCD27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B9916-BE58-4B64-84C8-3E96A19B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F2A63-222D-435B-A841-BDBA1E26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DF679-E1A5-45F4-97DE-1A0367F7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0AC11-5E5C-404C-B0A5-D5E6FA0F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5B408-7C57-47D2-AC0A-534EED21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5A2DA-80E3-4B7A-9A7E-1145322A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B0ACB-7270-4AD3-8212-4F23C471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45467-DF44-4A9D-87B3-FDC9751B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32C-6908-4195-AF00-95BB41E2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7BB70-6007-4354-8260-B68568BE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493D9-B2A3-43FE-9102-49E81378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A24D7-1385-4543-B0F3-E70BEB93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ED02F-FD29-49D7-B6AE-00AD7371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4831A-C060-4CE5-8F65-057F974B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6CFF5-9C77-447C-9960-4BE8B285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39F76-14BE-4086-8B9E-E71C2AEE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85B35-1EBF-46B6-AF0D-7E662969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427A-4DBC-4DE9-A468-48CDB30B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05544-6CFD-4ADE-81C7-BB2DE3CF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53C-BE8A-40CE-8612-7F0B940C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4AEAF-9666-4AFA-B440-D8FEB8F6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5D318-F93C-41CD-B9A6-2D8E3680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14947-8EE8-4AC4-A589-72CE237F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16C41-2144-4E14-90AC-AA3E4A5A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8D20E-19A3-4939-A4FD-052A663B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8CD24-C7EB-4A46-BF47-8D32C82F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5FF26-2E5F-42D1-81DE-E0C001BB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FF906-F7B9-4F35-B005-97C0FB8C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438C9-9BF0-4585-B956-0C50C59E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3F14B-638D-4E93-A8D7-807F8920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9D7-74A8-4FB8-9E7B-A32A6FE2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3DB38-2C65-4915-A95A-0572123C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D286B-744C-41F0-9CA9-85DB568A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BF1F5-3C6A-4C43-8018-7BB27753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BD5FA-BA22-4B7E-943C-766925B1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0E079-98A8-4053-A290-D316106C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B1B2A-4B28-4758-9FA6-FE8360D7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05A82-91E1-40C7-BA63-8CB52267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94E75-A896-4402-8118-7789B236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09E9B-46C7-44E2-9D07-61B72D40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62D7D-2CFD-498B-9947-F5BB61FA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52A-F0CD-40B6-98F5-77B8CFF0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B7319-8C96-4C29-895C-88D329EE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5DBD2-89BF-4AB8-A124-CC31E0A7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2579A-AFEA-4D29-BDD9-430EF45F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4253A-038A-4ADB-9884-BA3D5D67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21250-CB8D-4F7B-A95F-F9449386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A35AB-4C17-4E6B-9CA3-CDE88D18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CCFD2-B54C-493D-8F99-6231BBA7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73614-A69E-4C06-AB5B-DF44B98D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2512C-978D-4F44-BE43-47F1F9C1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E4EC1-7132-479F-BAA2-1907A2FB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D5D-3090-4A0C-A0DD-41D82C34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131EB-D671-445E-BDE1-BC3EEB1E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A30A9-9FAB-403C-A4D1-20081B30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BFE59-205E-4CF4-BE13-4D2B5CFD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02919-15E2-4B3A-8631-ED290665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9397B-96A9-462E-8185-79ED4C1A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1C33E-217F-4B4D-B64B-AA02780C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7C90D-8CC6-4A1F-82E7-A40D64CD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3B61C-E042-4E89-834E-880F5AA9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C17BC-2144-4576-A067-12FAF9F7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4C4A6-5C27-40F2-A7B6-7E54BAAD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486768"/>
                </a:gs>
                <a:gs pos="100000">
                  <a:srgbClr val="5880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486768"/>
                </a:gs>
                <a:gs pos="100000">
                  <a:srgbClr val="5880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50000">
                    <a:srgbClr val="00cc99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0088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58807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50000">
                    <a:srgbClr val="00cc99"/>
                  </a:gs>
                  <a:gs pos="100000">
                    <a:srgbClr val="0088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32D8-2910-4D74-A507-F08D5C2EA6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D78B-560A-413F-A6D4-B6D4B02FBC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0006-7A7E-494B-A5FC-C5B001A0E5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5045-82C1-4F5C-B6B7-748E7444CA3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8871"/>
                </a:gs>
                <a:gs pos="50000">
                  <a:srgbClr val="00cc99"/>
                </a:gs>
                <a:gs pos="100000">
                  <a:srgbClr val="0088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8871"/>
                </a:gs>
                <a:gs pos="100000">
                  <a:srgbClr val="5880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588073"/>
                </a:gs>
                <a:gs pos="100000">
                  <a:srgbClr val="008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50000">
                    <a:srgbClr val="00cc99"/>
                  </a:gs>
                  <a:gs pos="100000">
                    <a:srgbClr val="0088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D8A0-CB2B-4719-A2B2-2B1FACD793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93EA-2659-462E-8D84-A8BD191A1B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C523-6CDD-42A2-BD27-9AE2194549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EEB1-54DD-4456-98E6-93BD814E2A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E287-5BD2-415D-BA0E-BD406DF453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4501-A5F7-486D-B7F9-7F78BE35ED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70D9-DD8E-43AB-95DF-E968C05B52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5E35-3746-4165-90DD-CE80674B37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30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0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99640" y="3068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1" lang="en-US" sz="6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214200" y="428760"/>
            <a:ext cx="87868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Игра по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информатик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196666"/>
                </a:solidFill>
                <a:latin typeface="Tahoma"/>
              </a:rPr>
              <a:t>«Умники и умницы»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6286680" y="500040"/>
            <a:ext cx="2104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/>
          <p:cNvSpPr/>
          <p:nvPr/>
        </p:nvSpPr>
        <p:spPr>
          <a:xfrm>
            <a:off x="500040" y="500040"/>
            <a:ext cx="51116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6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ловек, живое сущест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ли автомат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тройство, которое способ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восприятию и исполнению коман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зывается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регулировщ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льзов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уче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сполн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8" dur="indefinite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9" dur="indefinite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4"/>
          <p:cNvSpPr/>
          <p:nvPr/>
        </p:nvSpPr>
        <p:spPr>
          <a:xfrm>
            <a:off x="684360" y="404640"/>
            <a:ext cx="5111640" cy="29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7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6768"/>
                </a:solidFill>
                <a:latin typeface="Arial"/>
              </a:rPr>
              <a:t>Форма организации, при котор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676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86768"/>
                </a:solidFill>
                <a:latin typeface="Arial"/>
              </a:rPr>
              <a:t>в зависимости от выполн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6768"/>
                </a:solidFill>
                <a:latin typeface="Arial"/>
              </a:rPr>
              <a:t>условия совершается либо од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6768"/>
                </a:solidFill>
                <a:latin typeface="Arial"/>
              </a:rPr>
              <a:t>либо другая коман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6768"/>
                </a:solidFill>
                <a:latin typeface="Arial"/>
              </a:rPr>
              <a:t>называется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алгоритм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AutoShape 6"/>
          <p:cNvSpPr/>
          <p:nvPr/>
        </p:nvSpPr>
        <p:spPr>
          <a:xfrm>
            <a:off x="3348000" y="3860640"/>
            <a:ext cx="336708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ветвле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нформаци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AutoShape 8"/>
          <p:cNvSpPr/>
          <p:nvPr/>
        </p:nvSpPr>
        <p:spPr>
          <a:xfrm>
            <a:off x="3348000" y="5157720"/>
            <a:ext cx="336708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цик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Line 9"/>
          <p:cNvSpPr/>
          <p:nvPr/>
        </p:nvSpPr>
        <p:spPr>
          <a:xfrm>
            <a:off x="192888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Line 10"/>
          <p:cNvSpPr/>
          <p:nvPr/>
        </p:nvSpPr>
        <p:spPr>
          <a:xfrm>
            <a:off x="5000760" y="3357720"/>
            <a:ext cx="4608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7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3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4"/>
          <p:cNvSpPr/>
          <p:nvPr/>
        </p:nvSpPr>
        <p:spPr>
          <a:xfrm>
            <a:off x="684360" y="404640"/>
            <a:ext cx="5111640" cy="29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8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Для чего памя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компьют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не предназначе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пи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в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образов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8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0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2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4"/>
          <p:cNvSpPr/>
          <p:nvPr/>
        </p:nvSpPr>
        <p:spPr>
          <a:xfrm>
            <a:off x="357120" y="404640"/>
            <a:ext cx="5438880" cy="29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9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Назовите наибольшу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из предложенных едини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измерения информ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 б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бай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килоб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килобай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9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56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4"/>
          <p:cNvSpPr/>
          <p:nvPr/>
        </p:nvSpPr>
        <p:spPr>
          <a:xfrm>
            <a:off x="684360" y="404640"/>
            <a:ext cx="5111640" cy="29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Назовите устрой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ввода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ыш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систем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л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прин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0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94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utoShape 4"/>
          <p:cNvSpPr/>
          <p:nvPr/>
        </p:nvSpPr>
        <p:spPr>
          <a:xfrm>
            <a:off x="539640" y="404640"/>
            <a:ext cx="5904000" cy="28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11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6768"/>
                </a:solidFill>
                <a:latin typeface="Tahoma"/>
              </a:rPr>
              <a:t>Форма организации, при котор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6768"/>
                </a:solidFill>
                <a:latin typeface="Tahoma"/>
              </a:rPr>
              <a:t>одна и та же последовательность действ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6768"/>
                </a:solidFill>
                <a:latin typeface="Tahoma"/>
              </a:rPr>
              <a:t>повторяется, пока выполняет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6768"/>
                </a:solidFill>
                <a:latin typeface="Tahoma"/>
              </a:rPr>
              <a:t>заранее установленное услов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6768"/>
                </a:solidFill>
                <a:latin typeface="Tahoma"/>
              </a:rPr>
              <a:t>называется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 ветвле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алгоритм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цик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программ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1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28" dur="10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4"/>
          <p:cNvSpPr/>
          <p:nvPr/>
        </p:nvSpPr>
        <p:spPr>
          <a:xfrm>
            <a:off x="684360" y="404640"/>
            <a:ext cx="5111640" cy="29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12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Назовите устрой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вывода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ыш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систем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л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скан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2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66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42960" y="428760"/>
            <a:ext cx="51116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13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Как называет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програм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для работы  с текст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wer P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3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0" dur="10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4"/>
          <p:cNvSpPr/>
          <p:nvPr/>
        </p:nvSpPr>
        <p:spPr>
          <a:xfrm>
            <a:off x="684360" y="404640"/>
            <a:ext cx="5111640" cy="29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14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Кто может зараз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компьюте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 бацил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микроб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виру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арази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4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34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AutoShape 4"/>
          <p:cNvSpPr/>
          <p:nvPr/>
        </p:nvSpPr>
        <p:spPr>
          <a:xfrm>
            <a:off x="684360" y="404640"/>
            <a:ext cx="5111640" cy="29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15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6768"/>
                </a:solidFill>
                <a:latin typeface="Arial"/>
              </a:rPr>
              <a:t>Графическое изображ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6768"/>
                </a:solidFill>
                <a:latin typeface="Arial"/>
              </a:rPr>
              <a:t>алгоритма называется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324000" y="3860640"/>
            <a:ext cx="302400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 программ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AutoShape 6"/>
          <p:cNvSpPr/>
          <p:nvPr/>
        </p:nvSpPr>
        <p:spPr>
          <a:xfrm>
            <a:off x="3348000" y="3789360"/>
            <a:ext cx="3024360" cy="136836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блок схем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сполнител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AutoShape 8"/>
          <p:cNvSpPr/>
          <p:nvPr/>
        </p:nvSpPr>
        <p:spPr>
          <a:xfrm>
            <a:off x="3348000" y="5157720"/>
            <a:ext cx="3024360" cy="122400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ветвл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5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8" dur="2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543800" cy="3838680"/>
          </a:xfrm>
          <a:prstGeom prst="rect">
            <a:avLst/>
          </a:prstGeom>
          <a:solidFill>
            <a:srgbClr val="008871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1 тур </a:t>
            </a:r>
            <a:br>
              <a:rPr sz="8000"/>
            </a:br>
            <a:br>
              <a:rPr sz="8000"/>
            </a:br>
            <a:r>
              <a:rPr b="1" lang="ru-RU" sz="8000" spc="-1" strike="noStrike">
                <a:solidFill>
                  <a:srgbClr val="dddddd"/>
                </a:solidFill>
                <a:latin typeface="Tahoma"/>
              </a:rPr>
              <a:t>«Разминка»</a:t>
            </a:r>
            <a:endParaRPr b="1" lang="en-US" sz="80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Заголовок 1" descr=""/>
          <p:cNvPicPr/>
          <p:nvPr/>
        </p:nvPicPr>
        <p:blipFill>
          <a:blip r:embed="rId1"/>
          <a:stretch/>
        </p:blipFill>
        <p:spPr>
          <a:xfrm>
            <a:off x="895320" y="622440"/>
            <a:ext cx="75722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AutoShape 3">
            <a:hlinkClick r:id="" action="ppaction://hlinkshowjump?jump=previousslide"/>
          </p:cNvPr>
          <p:cNvSpPr/>
          <p:nvPr/>
        </p:nvSpPr>
        <p:spPr>
          <a:xfrm>
            <a:off x="7848720" y="609588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9" h="21600">
                <a:moveTo>
                  <a:pt x="16378" y="10800"/>
                </a:moveTo>
                <a:lnTo>
                  <a:pt x="30391" y="3794"/>
                </a:lnTo>
                <a:lnTo>
                  <a:pt x="3039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108000" y="1484280"/>
            <a:ext cx="892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Информацию, не зависящую от чьего-либо мнения или суждения, называю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А) достовер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Б) актуаль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В) объектив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Г) полез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Д) понят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WordArt 15"/>
          <p:cNvSpPr txBox="1"/>
          <p:nvPr/>
        </p:nvSpPr>
        <p:spPr>
          <a:xfrm>
            <a:off x="2143080" y="304920"/>
            <a:ext cx="585792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latin typeface="Arial"/>
              </a:rPr>
              <a:t>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90" name="TextBox 4" descr=""/>
          <p:cNvPicPr/>
          <p:nvPr/>
        </p:nvPicPr>
        <p:blipFill>
          <a:blip r:embed="rId1"/>
          <a:stretch/>
        </p:blipFill>
        <p:spPr>
          <a:xfrm>
            <a:off x="1809720" y="0"/>
            <a:ext cx="64501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indefinite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5" dur="indefinite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76" dur="indefinite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AutoShape 3">
            <a:hlinkClick r:id="" action="ppaction://hlinkshowjump?jump=previousslide"/>
          </p:cNvPr>
          <p:cNvSpPr/>
          <p:nvPr/>
        </p:nvSpPr>
        <p:spPr>
          <a:xfrm>
            <a:off x="7848720" y="609588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9" h="21600">
                <a:moveTo>
                  <a:pt x="16378" y="10800"/>
                </a:moveTo>
                <a:lnTo>
                  <a:pt x="30391" y="3794"/>
                </a:lnTo>
                <a:lnTo>
                  <a:pt x="3039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Прямоугольник 2"/>
          <p:cNvSpPr/>
          <p:nvPr/>
        </p:nvSpPr>
        <p:spPr>
          <a:xfrm>
            <a:off x="500040" y="1857240"/>
            <a:ext cx="7858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Наибольший объем информации человек получает при помощ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А) осяз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Б) слу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В) обоня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Г) з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Д) вкусовых рецепто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3" name="Прямоугольник 3" descr=""/>
          <p:cNvPicPr/>
          <p:nvPr/>
        </p:nvPicPr>
        <p:blipFill>
          <a:blip r:embed="rId1"/>
          <a:stretch/>
        </p:blipFill>
        <p:spPr>
          <a:xfrm>
            <a:off x="950760" y="231840"/>
            <a:ext cx="65534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indefinite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83" dur="indefinite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4" dur="indefinite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3">
            <a:hlinkClick r:id="" action="ppaction://hlinkshowjump?jump=previousslide"/>
          </p:cNvPr>
          <p:cNvSpPr/>
          <p:nvPr/>
        </p:nvSpPr>
        <p:spPr>
          <a:xfrm>
            <a:off x="7848720" y="609588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9" h="21600">
                <a:moveTo>
                  <a:pt x="16378" y="10800"/>
                </a:moveTo>
                <a:lnTo>
                  <a:pt x="30391" y="3794"/>
                </a:lnTo>
                <a:lnTo>
                  <a:pt x="3039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5" name="Прямоугольник 2" descr=""/>
          <p:cNvPicPr/>
          <p:nvPr/>
        </p:nvPicPr>
        <p:blipFill>
          <a:blip r:embed="rId1"/>
          <a:stretch/>
        </p:blipFill>
        <p:spPr>
          <a:xfrm>
            <a:off x="1596960" y="165240"/>
            <a:ext cx="6357960" cy="1212840"/>
          </a:xfrm>
          <a:prstGeom prst="rect">
            <a:avLst/>
          </a:prstGeom>
          <a:ln w="0">
            <a:noFill/>
          </a:ln>
        </p:spPr>
      </p:pic>
      <p:sp>
        <p:nvSpPr>
          <p:cNvPr id="696" name="Прямоугольник 3"/>
          <p:cNvSpPr/>
          <p:nvPr/>
        </p:nvSpPr>
        <p:spPr>
          <a:xfrm>
            <a:off x="357120" y="1428840"/>
            <a:ext cx="8429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Расследование преступления представляет собой  информационный  процесс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А) кодирования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Б) поиска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В) хранения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Г) передачи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Д) защиты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indefinite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1" dur="indefinite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92" dur="indefinite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AutoShape 3">
            <a:hlinkClick r:id="" action="ppaction://hlinkshowjump?jump=previousslide"/>
          </p:cNvPr>
          <p:cNvSpPr/>
          <p:nvPr/>
        </p:nvSpPr>
        <p:spPr>
          <a:xfrm>
            <a:off x="7848720" y="609588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9" h="21600">
                <a:moveTo>
                  <a:pt x="16378" y="10800"/>
                </a:moveTo>
                <a:lnTo>
                  <a:pt x="30391" y="3794"/>
                </a:lnTo>
                <a:lnTo>
                  <a:pt x="3039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8" name="Прямоугольник 2" descr=""/>
          <p:cNvPicPr/>
          <p:nvPr/>
        </p:nvPicPr>
        <p:blipFill>
          <a:blip r:embed="rId1"/>
          <a:stretch/>
        </p:blipFill>
        <p:spPr>
          <a:xfrm>
            <a:off x="1523880" y="231840"/>
            <a:ext cx="6357960" cy="1218960"/>
          </a:xfrm>
          <a:prstGeom prst="rect">
            <a:avLst/>
          </a:prstGeom>
          <a:ln w="0">
            <a:noFill/>
          </a:ln>
        </p:spPr>
      </p:pic>
      <p:sp>
        <p:nvSpPr>
          <p:cNvPr id="699" name="Прямоугольник 5"/>
          <p:cNvSpPr/>
          <p:nvPr/>
        </p:nvSpPr>
        <p:spPr>
          <a:xfrm>
            <a:off x="500040" y="1571760"/>
            <a:ext cx="757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Поиск слова в тексте по заданному образцу является процессо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А) хранения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Б) обработки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В) передачи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Г) уничтожения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indefinite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9" dur="indefinite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0" dur="indefinite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AutoShape 3">
            <a:hlinkClick r:id="" action="ppaction://hlinkshowjump?jump=previousslide"/>
          </p:cNvPr>
          <p:cNvSpPr/>
          <p:nvPr/>
        </p:nvSpPr>
        <p:spPr>
          <a:xfrm>
            <a:off x="7848720" y="609588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9" h="21600">
                <a:moveTo>
                  <a:pt x="16378" y="10800"/>
                </a:moveTo>
                <a:lnTo>
                  <a:pt x="30391" y="3794"/>
                </a:lnTo>
                <a:lnTo>
                  <a:pt x="3039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1" name="Прямоугольник 2" descr=""/>
          <p:cNvPicPr/>
          <p:nvPr/>
        </p:nvPicPr>
        <p:blipFill>
          <a:blip r:embed="rId1"/>
          <a:stretch/>
        </p:blipFill>
        <p:spPr>
          <a:xfrm>
            <a:off x="1523880" y="231840"/>
            <a:ext cx="6357960" cy="1218960"/>
          </a:xfrm>
          <a:prstGeom prst="rect">
            <a:avLst/>
          </a:prstGeom>
          <a:ln w="0">
            <a:noFill/>
          </a:ln>
        </p:spPr>
      </p:pic>
      <p:sp>
        <p:nvSpPr>
          <p:cNvPr id="702" name="Прямоугольник 3"/>
          <p:cNvSpPr/>
          <p:nvPr/>
        </p:nvSpPr>
        <p:spPr>
          <a:xfrm>
            <a:off x="500040" y="1571760"/>
            <a:ext cx="757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Перевод текста с английского языка на русский является процессо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А) хранения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Б) передачи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В) поиска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Г) обработки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Д) ни одним из перечисленных выше проце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indefinite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07" dur="indefinite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8" dur="indefinite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3">
            <a:hlinkClick r:id="" action="ppaction://hlinkshowjump?jump=previousslide"/>
          </p:cNvPr>
          <p:cNvSpPr/>
          <p:nvPr/>
        </p:nvSpPr>
        <p:spPr>
          <a:xfrm>
            <a:off x="7848720" y="609588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9" h="21600">
                <a:moveTo>
                  <a:pt x="16378" y="10800"/>
                </a:moveTo>
                <a:lnTo>
                  <a:pt x="30391" y="3794"/>
                </a:lnTo>
                <a:lnTo>
                  <a:pt x="3039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4" name="Прямоугольник 2" descr=""/>
          <p:cNvPicPr/>
          <p:nvPr/>
        </p:nvPicPr>
        <p:blipFill>
          <a:blip r:embed="rId1"/>
          <a:stretch/>
        </p:blipFill>
        <p:spPr>
          <a:xfrm>
            <a:off x="1523880" y="231840"/>
            <a:ext cx="6357960" cy="1218960"/>
          </a:xfrm>
          <a:prstGeom prst="rect">
            <a:avLst/>
          </a:prstGeom>
          <a:ln w="0">
            <a:noFill/>
          </a:ln>
        </p:spPr>
      </p:pic>
      <p:sp>
        <p:nvSpPr>
          <p:cNvPr id="705" name="Прямоугольник 3"/>
          <p:cNvSpPr/>
          <p:nvPr/>
        </p:nvSpPr>
        <p:spPr>
          <a:xfrm>
            <a:off x="500040" y="1571760"/>
            <a:ext cx="7572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При телефонном разговоре в качестве источника информации следу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рассматрива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А) человека слушающе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Б) телефонную труб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В) человека говоряще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Г) телефонную се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Д) телефонный пров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indefinite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5" dur="indefinite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16" dur="indefinite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Заголовок 1" descr=""/>
          <p:cNvPicPr/>
          <p:nvPr/>
        </p:nvPicPr>
        <p:blipFill>
          <a:blip r:embed="rId1"/>
          <a:stretch/>
        </p:blipFill>
        <p:spPr>
          <a:xfrm>
            <a:off x="847800" y="701640"/>
            <a:ext cx="75643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708" name="Прямоугольник 2"/>
          <p:cNvSpPr/>
          <p:nvPr/>
        </p:nvSpPr>
        <p:spPr>
          <a:xfrm>
            <a:off x="500040" y="1571760"/>
            <a:ext cx="757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Скромный серый колобок,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Длинный тонкий проводок,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Ну а на коробке -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Две или три кнопки.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В зоопарке есть зайчишка,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У компьютера  есть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                           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МЫШК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AutoShape 28">
            <a:hlinkClick r:id="rId2" action="ppaction://hlinksldjump"/>
          </p:cNvPr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0" name="Picture 4" descr="Мышь(mouse)1"/>
          <p:cNvPicPr/>
          <p:nvPr/>
        </p:nvPicPr>
        <p:blipFill>
          <a:blip r:embed="rId3"/>
          <a:stretch/>
        </p:blipFill>
        <p:spPr>
          <a:xfrm>
            <a:off x="6215040" y="1857240"/>
            <a:ext cx="26956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2000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712" name="Прямоугольник 2"/>
          <p:cNvSpPr/>
          <p:nvPr/>
        </p:nvSpPr>
        <p:spPr>
          <a:xfrm>
            <a:off x="500040" y="1619280"/>
            <a:ext cx="7572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Словно смелый капитан!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А на нем -  горит экран.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Яркой радугой он дышит,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И на нем компьютер пишет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И рисует без запинки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Всевозможные картинки.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Наверху машины всей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Размещается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                  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Д И С П Л Е Й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AutoShape 28">
            <a:hlinkClick r:id="rId2" action="ppaction://hlinksldjump"/>
          </p:cNvPr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4" name="Picture 2" descr="Картинка 2 из 6752"/>
          <p:cNvPicPr/>
          <p:nvPr/>
        </p:nvPicPr>
        <p:blipFill>
          <a:blip r:embed="rId3"/>
          <a:stretch/>
        </p:blipFill>
        <p:spPr>
          <a:xfrm>
            <a:off x="5662440" y="1214280"/>
            <a:ext cx="325296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2000"/>
                                        <p:tgtEl>
                                          <p:spTgt spid="7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18"/>
          <p:cNvSpPr txBox="1"/>
          <p:nvPr/>
        </p:nvSpPr>
        <p:spPr>
          <a:xfrm>
            <a:off x="250920" y="11592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25" name="Прямоугольник 18" descr=""/>
          <p:cNvPicPr/>
          <p:nvPr/>
        </p:nvPicPr>
        <p:blipFill>
          <a:blip r:embed="rId3"/>
          <a:stretch/>
        </p:blipFill>
        <p:spPr>
          <a:xfrm>
            <a:off x="-66600" y="500040"/>
            <a:ext cx="89485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716" name="Прямоугольник 2"/>
          <p:cNvSpPr/>
          <p:nvPr/>
        </p:nvSpPr>
        <p:spPr>
          <a:xfrm>
            <a:off x="500040" y="1571760"/>
            <a:ext cx="757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Около дисплея - главный блок: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Там бежит электроток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К самым важным микросхемам.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Этот блок зовут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С И С Т Е М Н Ы М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8" name="Picture 4" descr="Картинка 3 из 870"/>
          <p:cNvPicPr/>
          <p:nvPr/>
        </p:nvPicPr>
        <p:blipFill>
          <a:blip r:embed="rId2"/>
          <a:stretch/>
        </p:blipFill>
        <p:spPr>
          <a:xfrm>
            <a:off x="5072040" y="3214800"/>
            <a:ext cx="2643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1000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720" name="Прямоугольник 2"/>
          <p:cNvSpPr/>
          <p:nvPr/>
        </p:nvSpPr>
        <p:spPr>
          <a:xfrm>
            <a:off x="142920" y="1500120"/>
            <a:ext cx="757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По клавишам прыг да скок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Бе-ре-ги но-го-ток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Раз-два и готово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Отстукали слово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Вот где пальцам физкультур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Это вот -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             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К Л А В И А Т У Р 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2" name="Picture 2" descr="Картинка 9 из 48661"/>
          <p:cNvPicPr/>
          <p:nvPr/>
        </p:nvPicPr>
        <p:blipFill>
          <a:blip r:embed="rId2"/>
          <a:stretch/>
        </p:blipFill>
        <p:spPr>
          <a:xfrm>
            <a:off x="5605560" y="1643040"/>
            <a:ext cx="3538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6" dur="1000"/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724" name="Прямоугольник 2"/>
          <p:cNvSpPr/>
          <p:nvPr/>
        </p:nvSpPr>
        <p:spPr>
          <a:xfrm>
            <a:off x="500040" y="157176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В ней записаны программ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И для мамы, и для папы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В упаковке, как конфет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Быстро вертится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Д И С К Е Т 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6" name="Picture 2" descr="Картинка 2 из 649"/>
          <p:cNvPicPr/>
          <p:nvPr/>
        </p:nvPicPr>
        <p:blipFill>
          <a:blip r:embed="rId2"/>
          <a:stretch/>
        </p:blipFill>
        <p:spPr>
          <a:xfrm>
            <a:off x="6000840" y="1214280"/>
            <a:ext cx="22636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1000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728" name="Прямоугольник 2"/>
          <p:cNvSpPr/>
          <p:nvPr/>
        </p:nvSpPr>
        <p:spPr>
          <a:xfrm>
            <a:off x="500040" y="1571760"/>
            <a:ext cx="5143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И компьютеры пор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Говорят между собо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Но для этого од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Им штуковина нуж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К телефону подключил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Сообщение получил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Вещь, известная не всем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Называется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М О Д Е 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0" name="Picture 2" descr="Картинка 14 из 2458"/>
          <p:cNvPicPr/>
          <p:nvPr/>
        </p:nvPicPr>
        <p:blipFill>
          <a:blip r:embed="rId2"/>
          <a:stretch/>
        </p:blipFill>
        <p:spPr>
          <a:xfrm>
            <a:off x="4973760" y="1214280"/>
            <a:ext cx="3527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1000"/>
                                        <p:tgtEl>
                                          <p:spTgt spid="7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оугольник 2"/>
          <p:cNvSpPr/>
          <p:nvPr/>
        </p:nvSpPr>
        <p:spPr>
          <a:xfrm>
            <a:off x="500040" y="1571760"/>
            <a:ext cx="5857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Для чего же этот ящик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Он в себя бумагу тащи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И сейчас же буквы, точк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Запятые - строчка к строчке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Напечатает картинк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Ловкий масте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Струйный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П Р И Н Т Е 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4" name="Picture 5" descr="sp"/>
          <p:cNvPicPr/>
          <p:nvPr/>
        </p:nvPicPr>
        <p:blipFill>
          <a:blip r:embed="rId2"/>
          <a:stretch/>
        </p:blipFill>
        <p:spPr>
          <a:xfrm>
            <a:off x="5934240" y="1500120"/>
            <a:ext cx="29509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1000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1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736" name="Прямоугольник 3"/>
          <p:cNvSpPr/>
          <p:nvPr/>
        </p:nvSpPr>
        <p:spPr>
          <a:xfrm>
            <a:off x="500040" y="157176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А теперь, друзья, загадка!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Что такое: рукоятка,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Кнопки две, курок и хвостик?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Ну конечно, это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    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Д Ж О Й С Т И 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8" name="Picture 8" descr="13023-48"/>
          <p:cNvPicPr/>
          <p:nvPr/>
        </p:nvPicPr>
        <p:blipFill>
          <a:blip r:embed="rId2"/>
          <a:stretch/>
        </p:blipFill>
        <p:spPr>
          <a:xfrm>
            <a:off x="6715080" y="1857240"/>
            <a:ext cx="20192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1000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Заголовок 1" descr=""/>
          <p:cNvPicPr/>
          <p:nvPr/>
        </p:nvPicPr>
        <p:blipFill>
          <a:blip r:embed="rId1"/>
          <a:stretch/>
        </p:blipFill>
        <p:spPr>
          <a:xfrm>
            <a:off x="652320" y="701640"/>
            <a:ext cx="80042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Рисунок 1" descr=""/>
          <p:cNvPicPr/>
          <p:nvPr/>
        </p:nvPicPr>
        <p:blipFill>
          <a:blip r:embed="rId1"/>
          <a:srcRect l="3490" t="2355" r="42921" b="95065"/>
          <a:stretch/>
        </p:blipFill>
        <p:spPr>
          <a:xfrm>
            <a:off x="785880" y="1143000"/>
            <a:ext cx="8072280" cy="500040"/>
          </a:xfrm>
          <a:prstGeom prst="rect">
            <a:avLst/>
          </a:prstGeom>
          <a:ln w="0">
            <a:noFill/>
          </a:ln>
        </p:spPr>
      </p:pic>
      <p:pic>
        <p:nvPicPr>
          <p:cNvPr id="741" name="Рисунок 2" descr=""/>
          <p:cNvPicPr/>
          <p:nvPr/>
        </p:nvPicPr>
        <p:blipFill>
          <a:blip r:embed="rId2"/>
          <a:srcRect l="12551" t="-103" r="9103" b="98272"/>
          <a:stretch/>
        </p:blipFill>
        <p:spPr>
          <a:xfrm>
            <a:off x="785880" y="2071800"/>
            <a:ext cx="8143920" cy="857160"/>
          </a:xfrm>
          <a:prstGeom prst="rect">
            <a:avLst/>
          </a:prstGeom>
          <a:ln w="0">
            <a:noFill/>
          </a:ln>
        </p:spPr>
      </p:pic>
      <p:pic>
        <p:nvPicPr>
          <p:cNvPr id="742" name="Рисунок 3" descr=""/>
          <p:cNvPicPr/>
          <p:nvPr/>
        </p:nvPicPr>
        <p:blipFill>
          <a:blip r:embed="rId3"/>
          <a:srcRect l="0" t="5703" r="46446" b="88901"/>
          <a:stretch/>
        </p:blipFill>
        <p:spPr>
          <a:xfrm>
            <a:off x="785880" y="3214800"/>
            <a:ext cx="7929360" cy="714240"/>
          </a:xfrm>
          <a:prstGeom prst="rect">
            <a:avLst/>
          </a:prstGeom>
          <a:ln w="0">
            <a:noFill/>
          </a:ln>
        </p:spPr>
      </p:pic>
      <p:sp>
        <p:nvSpPr>
          <p:cNvPr id="743" name="Прямоугольник 4"/>
          <p:cNvSpPr/>
          <p:nvPr/>
        </p:nvSpPr>
        <p:spPr>
          <a:xfrm>
            <a:off x="515880" y="142920"/>
            <a:ext cx="7950240" cy="5814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28440">
            <a:solidFill>
              <a:srgbClr val="000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Как называется данный элемент ок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4" name="Рисунок 1" descr=""/>
          <p:cNvPicPr/>
          <p:nvPr/>
        </p:nvPicPr>
        <p:blipFill>
          <a:blip r:embed="rId4"/>
          <a:srcRect l="0" t="97021" r="0" b="0"/>
          <a:stretch/>
        </p:blipFill>
        <p:spPr>
          <a:xfrm>
            <a:off x="857160" y="4429080"/>
            <a:ext cx="8286840" cy="571680"/>
          </a:xfrm>
          <a:prstGeom prst="rect">
            <a:avLst/>
          </a:prstGeom>
          <a:ln w="0">
            <a:noFill/>
          </a:ln>
        </p:spPr>
      </p:pic>
      <p:pic>
        <p:nvPicPr>
          <p:cNvPr id="745" name="Рисунок 6" descr=""/>
          <p:cNvPicPr/>
          <p:nvPr/>
        </p:nvPicPr>
        <p:blipFill>
          <a:blip r:embed="rId5"/>
          <a:srcRect l="0" t="94892" r="0" b="2886"/>
          <a:stretch/>
        </p:blipFill>
        <p:spPr>
          <a:xfrm>
            <a:off x="642960" y="5715000"/>
            <a:ext cx="8358120" cy="571680"/>
          </a:xfrm>
          <a:prstGeom prst="rect">
            <a:avLst/>
          </a:prstGeom>
          <a:ln w="0">
            <a:noFill/>
          </a:ln>
        </p:spPr>
      </p:pic>
      <p:pic>
        <p:nvPicPr>
          <p:cNvPr id="746" name="Прямоугольник 7" descr=""/>
          <p:cNvPicPr/>
          <p:nvPr/>
        </p:nvPicPr>
        <p:blipFill>
          <a:blip r:embed="rId6"/>
          <a:stretch/>
        </p:blipFill>
        <p:spPr>
          <a:xfrm>
            <a:off x="-255600" y="53028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747" name="Прямоугольник 8" descr=""/>
          <p:cNvPicPr/>
          <p:nvPr/>
        </p:nvPicPr>
        <p:blipFill>
          <a:blip r:embed="rId7"/>
          <a:stretch/>
        </p:blipFill>
        <p:spPr>
          <a:xfrm>
            <a:off x="-255600" y="424332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748" name="Прямоугольник 9" descr=""/>
          <p:cNvPicPr/>
          <p:nvPr/>
        </p:nvPicPr>
        <p:blipFill>
          <a:blip r:embed="rId8"/>
          <a:stretch/>
        </p:blipFill>
        <p:spPr>
          <a:xfrm>
            <a:off x="-291960" y="3029040"/>
            <a:ext cx="1298520" cy="1128600"/>
          </a:xfrm>
          <a:prstGeom prst="rect">
            <a:avLst/>
          </a:prstGeom>
          <a:ln w="0">
            <a:noFill/>
          </a:ln>
        </p:spPr>
      </p:pic>
      <p:pic>
        <p:nvPicPr>
          <p:cNvPr id="749" name="Прямоугольник 10" descr=""/>
          <p:cNvPicPr/>
          <p:nvPr/>
        </p:nvPicPr>
        <p:blipFill>
          <a:blip r:embed="rId9"/>
          <a:stretch/>
        </p:blipFill>
        <p:spPr>
          <a:xfrm>
            <a:off x="-255600" y="1816200"/>
            <a:ext cx="1298520" cy="1128600"/>
          </a:xfrm>
          <a:prstGeom prst="rect">
            <a:avLst/>
          </a:prstGeom>
          <a:ln w="0">
            <a:noFill/>
          </a:ln>
        </p:spPr>
      </p:pic>
      <p:pic>
        <p:nvPicPr>
          <p:cNvPr id="750" name="Прямоугольник 11" descr=""/>
          <p:cNvPicPr/>
          <p:nvPr/>
        </p:nvPicPr>
        <p:blipFill>
          <a:blip r:embed="rId10"/>
          <a:stretch/>
        </p:blipFill>
        <p:spPr>
          <a:xfrm>
            <a:off x="-328680" y="5389560"/>
            <a:ext cx="12985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Рисунок 1" descr=""/>
          <p:cNvPicPr/>
          <p:nvPr/>
        </p:nvPicPr>
        <p:blipFill>
          <a:blip r:embed="rId1"/>
          <a:srcRect l="3490" t="2355" r="42921" b="95065"/>
          <a:stretch/>
        </p:blipFill>
        <p:spPr>
          <a:xfrm>
            <a:off x="785880" y="1143000"/>
            <a:ext cx="4429080" cy="500040"/>
          </a:xfrm>
          <a:prstGeom prst="rect">
            <a:avLst/>
          </a:prstGeom>
          <a:ln w="0">
            <a:noFill/>
          </a:ln>
        </p:spPr>
      </p:pic>
      <p:pic>
        <p:nvPicPr>
          <p:cNvPr id="752" name="Рисунок 2" descr=""/>
          <p:cNvPicPr/>
          <p:nvPr/>
        </p:nvPicPr>
        <p:blipFill>
          <a:blip r:embed="rId2"/>
          <a:srcRect l="12551" t="-103" r="9103" b="98272"/>
          <a:stretch/>
        </p:blipFill>
        <p:spPr>
          <a:xfrm>
            <a:off x="714240" y="2071800"/>
            <a:ext cx="4500720" cy="857160"/>
          </a:xfrm>
          <a:prstGeom prst="rect">
            <a:avLst/>
          </a:prstGeom>
          <a:ln w="0">
            <a:noFill/>
          </a:ln>
        </p:spPr>
      </p:pic>
      <p:pic>
        <p:nvPicPr>
          <p:cNvPr id="753" name="Рисунок 3" descr=""/>
          <p:cNvPicPr/>
          <p:nvPr/>
        </p:nvPicPr>
        <p:blipFill>
          <a:blip r:embed="rId3"/>
          <a:srcRect l="0" t="5703" r="46446" b="88901"/>
          <a:stretch/>
        </p:blipFill>
        <p:spPr>
          <a:xfrm>
            <a:off x="857160" y="3214800"/>
            <a:ext cx="4429080" cy="714240"/>
          </a:xfrm>
          <a:prstGeom prst="rect">
            <a:avLst/>
          </a:prstGeom>
          <a:ln w="0">
            <a:noFill/>
          </a:ln>
        </p:spPr>
      </p:pic>
      <p:sp>
        <p:nvSpPr>
          <p:cNvPr id="754" name="Прямоугольник 4"/>
          <p:cNvSpPr/>
          <p:nvPr/>
        </p:nvSpPr>
        <p:spPr>
          <a:xfrm>
            <a:off x="1210680" y="142920"/>
            <a:ext cx="4257360" cy="5814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28440">
            <a:solidFill>
              <a:srgbClr val="000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Правильные отв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5" name="Рисунок 1" descr=""/>
          <p:cNvPicPr/>
          <p:nvPr/>
        </p:nvPicPr>
        <p:blipFill>
          <a:blip r:embed="rId4"/>
          <a:srcRect l="0" t="97021" r="0" b="0"/>
          <a:stretch/>
        </p:blipFill>
        <p:spPr>
          <a:xfrm>
            <a:off x="857160" y="4429080"/>
            <a:ext cx="4429080" cy="571680"/>
          </a:xfrm>
          <a:prstGeom prst="rect">
            <a:avLst/>
          </a:prstGeom>
          <a:ln w="0">
            <a:noFill/>
          </a:ln>
        </p:spPr>
      </p:pic>
      <p:pic>
        <p:nvPicPr>
          <p:cNvPr id="756" name="Рисунок 6" descr=""/>
          <p:cNvPicPr/>
          <p:nvPr/>
        </p:nvPicPr>
        <p:blipFill>
          <a:blip r:embed="rId5"/>
          <a:srcRect l="0" t="94892" r="0" b="2886"/>
          <a:stretch/>
        </p:blipFill>
        <p:spPr>
          <a:xfrm>
            <a:off x="642960" y="5715000"/>
            <a:ext cx="4643280" cy="571680"/>
          </a:xfrm>
          <a:prstGeom prst="rect">
            <a:avLst/>
          </a:prstGeom>
          <a:ln w="0">
            <a:noFill/>
          </a:ln>
        </p:spPr>
      </p:pic>
      <p:pic>
        <p:nvPicPr>
          <p:cNvPr id="757" name="Прямоугольник 7" descr=""/>
          <p:cNvPicPr/>
          <p:nvPr/>
        </p:nvPicPr>
        <p:blipFill>
          <a:blip r:embed="rId6"/>
          <a:stretch/>
        </p:blipFill>
        <p:spPr>
          <a:xfrm>
            <a:off x="-255600" y="53028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758" name="Прямоугольник 8" descr=""/>
          <p:cNvPicPr/>
          <p:nvPr/>
        </p:nvPicPr>
        <p:blipFill>
          <a:blip r:embed="rId7"/>
          <a:stretch/>
        </p:blipFill>
        <p:spPr>
          <a:xfrm>
            <a:off x="-255600" y="424332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759" name="Прямоугольник 9" descr=""/>
          <p:cNvPicPr/>
          <p:nvPr/>
        </p:nvPicPr>
        <p:blipFill>
          <a:blip r:embed="rId8"/>
          <a:stretch/>
        </p:blipFill>
        <p:spPr>
          <a:xfrm>
            <a:off x="-291960" y="3029040"/>
            <a:ext cx="1298520" cy="1128600"/>
          </a:xfrm>
          <a:prstGeom prst="rect">
            <a:avLst/>
          </a:prstGeom>
          <a:ln w="0">
            <a:noFill/>
          </a:ln>
        </p:spPr>
      </p:pic>
      <p:pic>
        <p:nvPicPr>
          <p:cNvPr id="760" name="Прямоугольник 10" descr=""/>
          <p:cNvPicPr/>
          <p:nvPr/>
        </p:nvPicPr>
        <p:blipFill>
          <a:blip r:embed="rId9"/>
          <a:stretch/>
        </p:blipFill>
        <p:spPr>
          <a:xfrm>
            <a:off x="-255600" y="1816200"/>
            <a:ext cx="1298520" cy="1128600"/>
          </a:xfrm>
          <a:prstGeom prst="rect">
            <a:avLst/>
          </a:prstGeom>
          <a:ln w="0">
            <a:noFill/>
          </a:ln>
        </p:spPr>
      </p:pic>
      <p:pic>
        <p:nvPicPr>
          <p:cNvPr id="761" name="Прямоугольник 11" descr=""/>
          <p:cNvPicPr/>
          <p:nvPr/>
        </p:nvPicPr>
        <p:blipFill>
          <a:blip r:embed="rId10"/>
          <a:stretch/>
        </p:blipFill>
        <p:spPr>
          <a:xfrm>
            <a:off x="-328680" y="5389560"/>
            <a:ext cx="1298520" cy="1127160"/>
          </a:xfrm>
          <a:prstGeom prst="rect">
            <a:avLst/>
          </a:prstGeom>
          <a:ln w="0">
            <a:noFill/>
          </a:ln>
        </p:spPr>
      </p:pic>
      <p:sp>
        <p:nvSpPr>
          <p:cNvPr id="762" name="Прямоугольник 12"/>
          <p:cNvSpPr/>
          <p:nvPr/>
        </p:nvSpPr>
        <p:spPr>
          <a:xfrm>
            <a:off x="5376240" y="928800"/>
            <a:ext cx="3497040" cy="9471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Строка основ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мен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Прямоугольник 13"/>
          <p:cNvSpPr/>
          <p:nvPr/>
        </p:nvSpPr>
        <p:spPr>
          <a:xfrm>
            <a:off x="5631120" y="2000160"/>
            <a:ext cx="3196800" cy="9471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Полос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прокру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Прямоугольник 14"/>
          <p:cNvSpPr/>
          <p:nvPr/>
        </p:nvSpPr>
        <p:spPr>
          <a:xfrm>
            <a:off x="5640840" y="3071880"/>
            <a:ext cx="3234960" cy="9471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Панел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инструм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Прямоугольник 15"/>
          <p:cNvSpPr/>
          <p:nvPr/>
        </p:nvSpPr>
        <p:spPr>
          <a:xfrm>
            <a:off x="5645160" y="5857920"/>
            <a:ext cx="3486240" cy="5205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Строка состоя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Прямоугольник 16"/>
          <p:cNvSpPr/>
          <p:nvPr/>
        </p:nvSpPr>
        <p:spPr>
          <a:xfrm>
            <a:off x="5927400" y="4500720"/>
            <a:ext cx="2741040" cy="5205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Панель зада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Заголовок 1" descr=""/>
          <p:cNvPicPr/>
          <p:nvPr/>
        </p:nvPicPr>
        <p:blipFill>
          <a:blip r:embed="rId1"/>
          <a:stretch/>
        </p:blipFill>
        <p:spPr>
          <a:xfrm>
            <a:off x="847800" y="701640"/>
            <a:ext cx="75643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56800" y="714240"/>
            <a:ext cx="7543800" cy="5214960"/>
          </a:xfrm>
          <a:prstGeom prst="rect">
            <a:avLst/>
          </a:prstGeom>
          <a:solidFill>
            <a:srgbClr val="008871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 тур</a:t>
            </a:r>
            <a:br>
              <a:rPr sz="8000"/>
            </a:br>
            <a:r>
              <a:rPr b="1" lang="ru-RU" sz="8000" spc="-1" strike="noStrike">
                <a:solidFill>
                  <a:srgbClr val="dddddd"/>
                </a:solidFill>
                <a:latin typeface="Tahoma"/>
              </a:rPr>
              <a:t> </a:t>
            </a:r>
            <a:br>
              <a:rPr sz="8000"/>
            </a:br>
            <a:r>
              <a:rPr b="1" lang="ru-RU" sz="8000" spc="-1" strike="noStrike">
                <a:solidFill>
                  <a:srgbClr val="dddddd"/>
                </a:solidFill>
                <a:latin typeface="Tahoma"/>
              </a:rPr>
              <a:t>«А ну-ка, </a:t>
            </a:r>
            <a:br>
              <a:rPr sz="8000"/>
            </a:br>
            <a:r>
              <a:rPr b="1" lang="ru-RU" sz="8000" spc="-1" strike="noStrike">
                <a:solidFill>
                  <a:srgbClr val="dddddd"/>
                </a:solidFill>
                <a:latin typeface="Tahoma"/>
              </a:rPr>
              <a:t>       угадай!»</a:t>
            </a:r>
            <a:endParaRPr b="1" lang="en-US" sz="80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Прямоугольник 1" descr=""/>
          <p:cNvPicPr/>
          <p:nvPr/>
        </p:nvPicPr>
        <p:blipFill>
          <a:blip r:embed="rId1"/>
          <a:stretch/>
        </p:blipFill>
        <p:spPr>
          <a:xfrm>
            <a:off x="2090880" y="890640"/>
            <a:ext cx="5035320" cy="5132160"/>
          </a:xfrm>
          <a:prstGeom prst="rect">
            <a:avLst/>
          </a:prstGeom>
          <a:ln w="0">
            <a:noFill/>
          </a:ln>
        </p:spPr>
      </p:pic>
      <p:pic>
        <p:nvPicPr>
          <p:cNvPr id="769" name="Прямоугольник 2" descr=""/>
          <p:cNvPicPr/>
          <p:nvPr/>
        </p:nvPicPr>
        <p:blipFill>
          <a:blip r:embed="rId2"/>
          <a:stretch/>
        </p:blipFill>
        <p:spPr>
          <a:xfrm>
            <a:off x="-96840" y="96840"/>
            <a:ext cx="92772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Прямоугольник 1" descr=""/>
          <p:cNvPicPr/>
          <p:nvPr/>
        </p:nvPicPr>
        <p:blipFill>
          <a:blip r:embed="rId1"/>
          <a:stretch/>
        </p:blipFill>
        <p:spPr>
          <a:xfrm>
            <a:off x="66600" y="890640"/>
            <a:ext cx="4316400" cy="5132160"/>
          </a:xfrm>
          <a:prstGeom prst="rect">
            <a:avLst/>
          </a:prstGeom>
          <a:ln w="0">
            <a:noFill/>
          </a:ln>
        </p:spPr>
      </p:pic>
      <p:pic>
        <p:nvPicPr>
          <p:cNvPr id="771" name="Прямоугольник 2" descr=""/>
          <p:cNvPicPr/>
          <p:nvPr/>
        </p:nvPicPr>
        <p:blipFill>
          <a:blip r:embed="rId2"/>
          <a:stretch/>
        </p:blipFill>
        <p:spPr>
          <a:xfrm>
            <a:off x="4280040" y="890640"/>
            <a:ext cx="4321080" cy="5132160"/>
          </a:xfrm>
          <a:prstGeom prst="rect">
            <a:avLst/>
          </a:prstGeom>
          <a:ln w="0">
            <a:noFill/>
          </a:ln>
        </p:spPr>
      </p:pic>
      <p:sp>
        <p:nvSpPr>
          <p:cNvPr id="772" name="Прямоугольник 4"/>
          <p:cNvSpPr/>
          <p:nvPr/>
        </p:nvSpPr>
        <p:spPr>
          <a:xfrm>
            <a:off x="2210760" y="214200"/>
            <a:ext cx="4257360" cy="5814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28440">
            <a:solidFill>
              <a:srgbClr val="000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Правильные отв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2" descr="D:\Учитель\Саламатина Л.А\Сканированные\2009-09-26\Сканировать10017.BMP"/>
          <p:cNvPicPr/>
          <p:nvPr/>
        </p:nvPicPr>
        <p:blipFill>
          <a:blip r:embed="rId1"/>
          <a:srcRect l="52718" t="36005" r="0" b="0"/>
          <a:stretch/>
        </p:blipFill>
        <p:spPr>
          <a:xfrm>
            <a:off x="826920" y="0"/>
            <a:ext cx="7372440" cy="6669000"/>
          </a:xfrm>
          <a:prstGeom prst="rect">
            <a:avLst/>
          </a:prstGeom>
          <a:ln w="0">
            <a:noFill/>
          </a:ln>
        </p:spPr>
      </p:pic>
      <p:sp>
        <p:nvSpPr>
          <p:cNvPr id="774" name="WordArt 6"/>
          <p:cNvSpPr txBox="1"/>
          <p:nvPr/>
        </p:nvSpPr>
        <p:spPr>
          <a:xfrm>
            <a:off x="5092560" y="4248000"/>
            <a:ext cx="4874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5" name="WordArt 7"/>
          <p:cNvSpPr txBox="1"/>
          <p:nvPr/>
        </p:nvSpPr>
        <p:spPr>
          <a:xfrm>
            <a:off x="5651640" y="4248000"/>
            <a:ext cx="4870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6" name="WordArt 8"/>
          <p:cNvSpPr txBox="1"/>
          <p:nvPr/>
        </p:nvSpPr>
        <p:spPr>
          <a:xfrm>
            <a:off x="6316560" y="4221000"/>
            <a:ext cx="4874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7" name="WordArt 9"/>
          <p:cNvSpPr txBox="1"/>
          <p:nvPr/>
        </p:nvSpPr>
        <p:spPr>
          <a:xfrm>
            <a:off x="5148360" y="620640"/>
            <a:ext cx="4874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8" name="WordArt 10"/>
          <p:cNvSpPr txBox="1"/>
          <p:nvPr/>
        </p:nvSpPr>
        <p:spPr>
          <a:xfrm>
            <a:off x="5740560" y="620640"/>
            <a:ext cx="4870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9" name="WordArt 11"/>
          <p:cNvSpPr txBox="1"/>
          <p:nvPr/>
        </p:nvSpPr>
        <p:spPr>
          <a:xfrm>
            <a:off x="6389640" y="620640"/>
            <a:ext cx="4874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2" descr="D:\Учитель\Саламатина Л.А\Сканированные\2009-09-26\Сканировать10018.BMP"/>
          <p:cNvPicPr/>
          <p:nvPr/>
        </p:nvPicPr>
        <p:blipFill>
          <a:blip r:embed="rId1"/>
          <a:srcRect l="2836" t="33181" r="50236" b="5496"/>
          <a:stretch/>
        </p:blipFill>
        <p:spPr>
          <a:xfrm>
            <a:off x="1187280" y="303120"/>
            <a:ext cx="7093080" cy="6294600"/>
          </a:xfrm>
          <a:prstGeom prst="rect">
            <a:avLst/>
          </a:prstGeom>
          <a:ln w="0">
            <a:noFill/>
          </a:ln>
        </p:spPr>
      </p:pic>
      <p:sp>
        <p:nvSpPr>
          <p:cNvPr id="781" name="WordArt 5"/>
          <p:cNvSpPr txBox="1"/>
          <p:nvPr/>
        </p:nvSpPr>
        <p:spPr>
          <a:xfrm>
            <a:off x="3909960" y="1989000"/>
            <a:ext cx="132408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чал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2" name="WordArt 6"/>
          <p:cNvSpPr txBox="1"/>
          <p:nvPr/>
        </p:nvSpPr>
        <p:spPr>
          <a:xfrm>
            <a:off x="3203640" y="2637000"/>
            <a:ext cx="22464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кипятить вод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3" name="WordArt 7"/>
          <p:cNvSpPr txBox="1"/>
          <p:nvPr/>
        </p:nvSpPr>
        <p:spPr>
          <a:xfrm>
            <a:off x="2556000" y="3141720"/>
            <a:ext cx="3528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ожить в чашку пакетик завар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4" name="WordArt 8"/>
          <p:cNvSpPr txBox="1"/>
          <p:nvPr/>
        </p:nvSpPr>
        <p:spPr>
          <a:xfrm>
            <a:off x="3119400" y="3672000"/>
            <a:ext cx="296532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лить кипяток в чашк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5" name="WordArt 10"/>
          <p:cNvSpPr txBox="1"/>
          <p:nvPr/>
        </p:nvSpPr>
        <p:spPr>
          <a:xfrm>
            <a:off x="3262320" y="4175280"/>
            <a:ext cx="29653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бавить 2 чайные ложки сахар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6" name="WordArt 11"/>
          <p:cNvSpPr txBox="1"/>
          <p:nvPr/>
        </p:nvSpPr>
        <p:spPr>
          <a:xfrm>
            <a:off x="3405240" y="4797360"/>
            <a:ext cx="26067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мешать ложко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7" name="WordArt 12"/>
          <p:cNvSpPr txBox="1"/>
          <p:nvPr/>
        </p:nvSpPr>
        <p:spPr>
          <a:xfrm>
            <a:off x="4125960" y="5398920"/>
            <a:ext cx="1166760" cy="1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и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8" name="WordArt 13"/>
          <p:cNvSpPr txBox="1"/>
          <p:nvPr/>
        </p:nvSpPr>
        <p:spPr>
          <a:xfrm>
            <a:off x="4140360" y="5950080"/>
            <a:ext cx="102204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ец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2" descr="D:\Учитель\Саламатина Л.А\Сканированные\2009-09-26\Сканировать10021.BMP"/>
          <p:cNvPicPr/>
          <p:nvPr/>
        </p:nvPicPr>
        <p:blipFill>
          <a:blip r:embed="rId1"/>
          <a:srcRect l="52846" t="0" r="0" b="49512"/>
          <a:stretch/>
        </p:blipFill>
        <p:spPr>
          <a:xfrm>
            <a:off x="649440" y="282600"/>
            <a:ext cx="8243640" cy="6242040"/>
          </a:xfrm>
          <a:prstGeom prst="rect">
            <a:avLst/>
          </a:prstGeom>
          <a:ln w="0">
            <a:noFill/>
          </a:ln>
        </p:spPr>
      </p:pic>
      <p:sp>
        <p:nvSpPr>
          <p:cNvPr id="790" name="WordArt 3"/>
          <p:cNvSpPr txBox="1"/>
          <p:nvPr/>
        </p:nvSpPr>
        <p:spPr>
          <a:xfrm>
            <a:off x="3780000" y="3213000"/>
            <a:ext cx="194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лен?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1" name="WordArt 4"/>
          <p:cNvSpPr txBox="1"/>
          <p:nvPr/>
        </p:nvSpPr>
        <p:spPr>
          <a:xfrm>
            <a:off x="1258920" y="4076640"/>
            <a:ext cx="1512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чись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2" name="WordArt 5"/>
          <p:cNvSpPr txBox="1"/>
          <p:nvPr/>
        </p:nvSpPr>
        <p:spPr>
          <a:xfrm>
            <a:off x="6227640" y="4076640"/>
            <a:ext cx="19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регись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D:\Учитель\Саламатина Л.А\Сканированные\2009-09-26\Сканировать10020.BMP"/>
          <p:cNvPicPr/>
          <p:nvPr/>
        </p:nvPicPr>
        <p:blipFill>
          <a:blip r:embed="rId1"/>
          <a:srcRect l="52859" t="0" r="0" b="16169"/>
          <a:stretch/>
        </p:blipFill>
        <p:spPr>
          <a:xfrm>
            <a:off x="2484360" y="0"/>
            <a:ext cx="5616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D:\Учитель\Саламатина Л.А\Сканированные\2009-09-26\Сканировать10020.BMP"/>
          <p:cNvPicPr/>
          <p:nvPr/>
        </p:nvPicPr>
        <p:blipFill>
          <a:blip r:embed="rId1"/>
          <a:srcRect l="2489" t="0" r="49286" b="24256"/>
          <a:stretch/>
        </p:blipFill>
        <p:spPr>
          <a:xfrm>
            <a:off x="1476360" y="73080"/>
            <a:ext cx="6108840" cy="6784920"/>
          </a:xfrm>
          <a:prstGeom prst="rect">
            <a:avLst/>
          </a:prstGeom>
          <a:ln w="0">
            <a:noFill/>
          </a:ln>
        </p:spPr>
      </p:pic>
      <p:sp>
        <p:nvSpPr>
          <p:cNvPr id="795" name="WordArt 5"/>
          <p:cNvSpPr txBox="1"/>
          <p:nvPr/>
        </p:nvSpPr>
        <p:spPr>
          <a:xfrm>
            <a:off x="5724360" y="112536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3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6" name="WordArt 6"/>
          <p:cNvSpPr txBox="1"/>
          <p:nvPr/>
        </p:nvSpPr>
        <p:spPr>
          <a:xfrm>
            <a:off x="6372360" y="112536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2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7" name="WordArt 7"/>
          <p:cNvSpPr txBox="1"/>
          <p:nvPr/>
        </p:nvSpPr>
        <p:spPr>
          <a:xfrm>
            <a:off x="6875640" y="112536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5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8" name="WordArt 8"/>
          <p:cNvSpPr txBox="1"/>
          <p:nvPr/>
        </p:nvSpPr>
        <p:spPr>
          <a:xfrm>
            <a:off x="5867280" y="609444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30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9" name="WordArt 9"/>
          <p:cNvSpPr txBox="1"/>
          <p:nvPr/>
        </p:nvSpPr>
        <p:spPr>
          <a:xfrm>
            <a:off x="6372360" y="609300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5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0" name="WordArt 10"/>
          <p:cNvSpPr txBox="1"/>
          <p:nvPr/>
        </p:nvSpPr>
        <p:spPr>
          <a:xfrm>
            <a:off x="6948360" y="609444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0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571680" y="476280"/>
            <a:ext cx="542916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Основным носител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информации в социу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на современном этап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является</a:t>
            </a: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357120" y="3714840"/>
            <a:ext cx="2808360" cy="14428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: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фотоплен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3071880" y="3714840"/>
            <a:ext cx="3081240" cy="14428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диск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AutoShape 69"/>
          <p:cNvSpPr/>
          <p:nvPr/>
        </p:nvSpPr>
        <p:spPr>
          <a:xfrm>
            <a:off x="428760" y="5157720"/>
            <a:ext cx="2808000" cy="17002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бума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AutoShape 70"/>
          <p:cNvSpPr/>
          <p:nvPr/>
        </p:nvSpPr>
        <p:spPr>
          <a:xfrm>
            <a:off x="3143160" y="5143680"/>
            <a:ext cx="3081600" cy="155700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жестк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дис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5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3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4"/>
          <p:cNvSpPr/>
          <p:nvPr/>
        </p:nvSpPr>
        <p:spPr>
          <a:xfrm>
            <a:off x="684360" y="476280"/>
            <a:ext cx="51116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2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ч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ледовательность коман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полните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:алгорит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кли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ветв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пользова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7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4"/>
          <p:cNvSpPr/>
          <p:nvPr/>
        </p:nvSpPr>
        <p:spPr>
          <a:xfrm>
            <a:off x="357120" y="476280"/>
            <a:ext cx="54388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3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Какая из этих величин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из области информати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киловат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илобай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илоба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иловоль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7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1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4"/>
          <p:cNvSpPr/>
          <p:nvPr/>
        </p:nvSpPr>
        <p:spPr>
          <a:xfrm>
            <a:off x="684360" y="404640"/>
            <a:ext cx="5459400" cy="29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4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Первым средств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дальней  связ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принято счита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поч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телеф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AutoShape 7"/>
          <p:cNvSpPr/>
          <p:nvPr/>
        </p:nvSpPr>
        <p:spPr>
          <a:xfrm>
            <a:off x="428760" y="5143680"/>
            <a:ext cx="3000240" cy="14284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мпьютер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е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3357720" y="5143680"/>
            <a:ext cx="2808000" cy="155700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радиосвяз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6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2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AutoShape 4"/>
          <p:cNvSpPr/>
          <p:nvPr/>
        </p:nvSpPr>
        <p:spPr>
          <a:xfrm>
            <a:off x="714240" y="357120"/>
            <a:ext cx="511200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5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Что не являет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информационны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процесс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утилиз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б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передач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хран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7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3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59:18Z</dcterms:created>
  <dc:creator>Yuya</dc:creator>
  <dc:description/>
  <dc:language>en-US</dc:language>
  <cp:lastModifiedBy>arina</cp:lastModifiedBy>
  <dcterms:modified xsi:type="dcterms:W3CDTF">2012-06-15T08:08:30Z</dcterms:modified>
  <cp:revision>147</cp:revision>
  <dc:subject/>
  <dc:title> Математическая игра</dc:title>
</cp:coreProperties>
</file>