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2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.wmf" ContentType="image/x-wmf"/>
  <Override PartName="/ppt/media/image2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34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44.png" ContentType="image/png"/>
  <Override PartName="/ppt/media/image4.wmf" ContentType="image/x-wmf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B74-F30D-4CB1-A177-C9D6FCCD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652-4A1E-4E2E-A5BA-79A86544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BAAEE-4718-4FC6-8D4B-3F858DDF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B57D1-AB5C-44D2-8C11-6D7E456A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D76B6-BD6F-4DF8-8364-74EC1C9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AD99A-BE00-435B-B270-746D6E80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1374-4EA3-42E9-9547-ABCF8DEB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CF94-3B45-470D-9306-0C5907D1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688A9-A664-4A3E-A218-7A70BA2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F0FFC-DC51-49D4-8E5C-21BB83D8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4B531-C789-4E02-AF51-44EE7133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20CC-1E16-403B-B70D-DAE49CC6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4C5-8F43-4DF2-9353-680901C8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949FF-BDE7-4874-832A-64EA91DC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C639C-08EC-454A-A596-A02D7DC6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0BE5A-97D3-420E-A322-2B078F57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CCA8A-DE1C-46D1-8EDF-5F73358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A2B94-0BB3-461D-A982-E25402CB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4A323-D3DC-4B1F-89BB-3575DE0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C42DE-CF6E-41CE-8B07-E9BAACEC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9C76B-ACFE-4BC2-8505-0850F963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4528F-E4EB-431F-A303-8DB50661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C91EF-0F52-4742-BE00-D919BAA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F51-9F5F-4C59-8399-382F8AA4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CCDA9-5222-4CDF-9D03-37823C98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0DBC4-EC1E-4FDA-BCBB-AAA3E251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45CB5-3C92-4A08-8EE8-D8A447C4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9852E-0C33-41AF-80FB-A6C90083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2ECCE-3747-42A1-897F-CB4E6CD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E961C-F31B-4BC1-835F-AD67A17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73FA-5FEF-4DFF-BB25-480FAF09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B4FBC-BCF7-46DB-B681-6867DFD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B2545-4406-48B3-965B-D399BF4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47A8-C355-410A-B5F7-562E4454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E12C-13C2-43E6-A738-ABC40B9A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DFE04-7A4B-4A04-8326-2F38744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1A93-00CD-4976-A284-2BD4D673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4986-FF16-4B9A-A217-89CDC3FA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8418D-1980-4B3A-907B-A955EE1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5498B-2CF9-4968-B380-DC784F0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660AD-4312-4159-B957-846113F5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E6EFE-89F0-423D-A75E-98A950DF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C3733-2863-4807-8FBD-80ACDED9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6A8AF-F9AD-422A-9115-C872DA4E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FAEB9-4116-400E-9123-B251141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B27-9AEC-41F5-81EA-AEE6B120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DE5DEB-E960-4C6F-8977-4321913C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C9382-0EED-4BAB-9D1B-7853B23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F7E61-696E-48CC-BED8-808E54B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9E7B9-FF78-4624-A5A8-541E66D0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BCF20-BDB3-40A7-A2C0-81342507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642C-8456-4032-813B-38F8AD5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4DF7-7E08-4E44-92DC-E9F031E4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A7D-8541-4F2A-9E82-161B0D3D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C1FC-9B0B-4A98-B856-81DF2F40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DDD7-2DB3-4D84-90B5-DDB97BFB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3AD-2B26-4B4D-8ECA-75B8F87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BD97-86EE-4971-B7C5-FD0E45BF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28B5-EF90-4A65-A417-11F89A0A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84F6-011F-4CD3-934E-0796232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CD63-49DD-4B54-8D2B-A7A51E9A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47B1-D01C-497C-868C-078D1477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2F31-7F69-4C66-B76B-C19E78B7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9B79-5EC7-48D6-88C0-05191361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83EE9-92D5-43B2-976C-479A10A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8C05-699D-4E1C-ADDC-1F0BC7A2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2F5F-49B6-43F5-A2BF-EF5DD1A9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BCC-7809-4DAD-8123-947D0E23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C363C-4B56-46FD-9EA3-FC3831E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82AF-C4B6-4D05-A8D3-F529FC2E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5D24-D420-41D5-BB0C-D5EFFD1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3DD2-AA57-4C1C-A9C1-B2E5CA2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EDE8-8BEB-439C-AAE8-40759F65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CEE19-3D24-44C3-8546-56E36049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3E51-26D9-40E4-B48A-F45164D3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AC13C-34B6-4801-8644-934A2764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30013-032E-498B-889F-3DA316E0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C02F-2DC9-4B37-A746-6214FE4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0AE-BA8C-43A0-A8C2-DE2BED3E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978B5-92C3-427E-ACC6-05D93F81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D5E7-BF68-4220-B21E-02A732E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52CD-24CE-46EC-8D55-841B6954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03890-721A-4F6A-A293-7EB521B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1CDB-30FE-4BA3-8C4C-9492133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7CD3-F560-4AA7-922F-72123CB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2CC0-B17D-4D9A-939F-8D550315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384B-D31A-4F91-A8F7-083E6EE9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81FA8-7F32-437A-B917-646ABC4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F2198-4A28-484C-9AA9-44859CCC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B2B-0A54-4A16-944C-0EDD8C38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6FEC-F5EE-4C3D-A85E-3C80F14B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0EF6-1F30-4DF3-A5A2-964A5301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316E-73E8-467E-B971-A6B7917C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69DAE-D63A-47A5-977D-C2D0C0DF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796E5-715B-4B5A-99D2-90547A10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05A8E-88EA-4A38-8815-9D01659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4C257-0E2D-4CD7-8BF0-ADFF8CE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CC109-AAA5-486B-9901-9F6D779D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799D2-BEE2-46A4-A5CA-00DD489D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39CC5-CA62-4594-BDEB-FEF8810C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F51-300E-40CA-8C22-9E07F36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5E4A-3F71-4CB2-8B1B-8A674DC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19674-2422-4F2A-A863-18413913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F82D-AFCF-4F56-BB99-F3D35C1F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6036-6AA8-4F32-8C02-E49AA9E1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189F2-DD32-49F2-A760-EBF0EC12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4DA3-95B9-4DB8-A53D-E4EE4F9B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59D6-C66C-486D-9165-77A888A5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05D07-DA5F-41CA-952E-CE449CFF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C01E-153D-4D2D-B81E-6B77529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7529-E1D5-4829-81F5-04F77E06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B38-01B4-4DCE-A79F-4D9D97D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DEDBB-07F4-4515-A93D-FDF8177B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FA675-979B-46EF-BFFA-113397D5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27578-12BE-4ACD-ACEF-EE5E703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D69E2-F44D-4336-A9D3-3C2CF4C7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81DD-AE04-4402-8AC5-0CCA295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5CF3E-1734-4552-A941-8F44F0CF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0756-BFA2-4EF5-83B4-C202AB3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E38EA-E758-4033-B8C2-6D461F94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92B29-52C9-404A-AE0B-610EAF0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750E-B632-47EE-8278-B2504ADA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65A-BA83-4B56-B2BD-89925E9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CC63-69AE-4CE8-B28E-C381026B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A668-25FB-45ED-AA79-8277F73B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7D418-B605-4AFC-AC41-FC3B4BA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A1A77-7E1A-475E-8D60-8CD05FA9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11BCD-2B4A-41FE-B657-3D381F8F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401D-FF09-490E-A0A8-02881A23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EDAD5-D708-489F-9EF0-A9B513F3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7E4EB-E670-48FF-ADFD-4505393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7C582-14EC-429D-81D5-9378D441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BB44-0676-48F8-BB5F-8243DAC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3D2-BCF7-44BA-BDAA-621517D3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DD391-D4D0-4937-9CB2-E76BF8B6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EB21-2186-4B81-BF54-B59D9E4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1FF4-E411-480C-A362-AB93551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D0685-9546-492C-8E2B-2400B23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AF90-FECC-4D9B-B780-62B92CB3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13153-78CC-4832-8BF0-D7C67C0A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C50D-AC7A-4A21-A289-5BDDAE40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98DDF-51D1-4084-86FA-63B53BCA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931C-5DC7-48E7-B656-451B80A4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86C84-90B0-4B19-A166-C9DE83A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486768"/>
                </a:gs>
                <a:gs pos="100000">
                  <a:srgbClr val="5880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F7F5-E484-4084-AF26-CE6103D25D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060-6A78-4CC6-8160-64B5CC1269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42F-E974-4402-9CE0-522048ADBF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DBCF-1B01-4B41-9CB2-E1A91ED8C73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50000">
                  <a:srgbClr val="00cc99"/>
                </a:gs>
                <a:gs pos="100000">
                  <a:srgbClr val="0088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8871"/>
                </a:gs>
                <a:gs pos="100000">
                  <a:srgbClr val="5880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588073"/>
                </a:gs>
                <a:gs pos="100000">
                  <a:srgbClr val="008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486768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48676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100000">
                    <a:srgbClr val="5880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588073"/>
                  </a:gs>
                  <a:gs pos="100000">
                    <a:srgbClr val="00887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8871"/>
                  </a:gs>
                  <a:gs pos="50000">
                    <a:srgbClr val="00cc99"/>
                  </a:gs>
                  <a:gs pos="100000">
                    <a:srgbClr val="00887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6BCA-01D3-467D-9479-B8A8AD704D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1DB1-996D-43CA-A24B-03FC7A00BF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E90B-44BC-4C5D-AD75-9483743391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01F-21C8-40AD-B931-95AB6954C1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C265-9C72-42F2-AE6D-A147B6D5A3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5B7-1325-4A46-A251-BC687B45EC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0082-3A69-431B-B33A-8A0B86D559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F101-2AE8-4C9C-BE62-97A37034585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0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30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99640" y="3068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214200" y="428760"/>
            <a:ext cx="87868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Игра по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информатик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196666"/>
                </a:solidFill>
                <a:latin typeface="Tahoma"/>
              </a:rPr>
              <a:t>«Умники и умницы»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6286680" y="500040"/>
            <a:ext cx="210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4"/>
          <p:cNvSpPr/>
          <p:nvPr/>
        </p:nvSpPr>
        <p:spPr>
          <a:xfrm>
            <a:off x="500040" y="50004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6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ловек, живое существ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ли автоматиче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ройство, которое способ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восприятию и исполнению ком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егулировщ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уче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8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9" dur="indefinite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7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Форма организации, при котор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в зависимости от выполн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условия совершается либо одн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либо другая коман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алгорит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6"/>
          <p:cNvSpPr/>
          <p:nvPr/>
        </p:nvSpPr>
        <p:spPr>
          <a:xfrm>
            <a:off x="3348000" y="3860640"/>
            <a:ext cx="336708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ветвл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нформаци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AutoShape 8"/>
          <p:cNvSpPr/>
          <p:nvPr/>
        </p:nvSpPr>
        <p:spPr>
          <a:xfrm>
            <a:off x="3348000" y="5157720"/>
            <a:ext cx="336708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цик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192888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5000760" y="3357720"/>
            <a:ext cx="46080" cy="5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3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8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Для чего памя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омпьют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е предназначе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пи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в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8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0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2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4"/>
          <p:cNvSpPr/>
          <p:nvPr/>
        </p:nvSpPr>
        <p:spPr>
          <a:xfrm>
            <a:off x="357120" y="404640"/>
            <a:ext cx="543888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9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наибольшую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 предложенных едини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мерения информа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би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бай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илоб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килобай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9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6" dur="10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в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истем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рин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0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94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AutoShape 4"/>
          <p:cNvSpPr/>
          <p:nvPr/>
        </p:nvSpPr>
        <p:spPr>
          <a:xfrm>
            <a:off x="539640" y="404640"/>
            <a:ext cx="5904000" cy="288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1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Форма организации, при котор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одна и та же последовательность действ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повторяется, пока выполняет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заранее установленное услов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6768"/>
                </a:solidFill>
                <a:latin typeface="Tahoma"/>
              </a:rPr>
              <a:t>называется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ветвлени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алгоритм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цик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рограмм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1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2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Назовит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вывод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истем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скан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66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42960" y="42876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3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ак называ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програм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для работы  с текст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 P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3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0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4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то может зарази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омпьюте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бацилл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микро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иру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арази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4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4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utoShape 4"/>
          <p:cNvSpPr/>
          <p:nvPr/>
        </p:nvSpPr>
        <p:spPr>
          <a:xfrm>
            <a:off x="684360" y="404640"/>
            <a:ext cx="511164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15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Графическое изображ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6768"/>
                </a:solidFill>
                <a:latin typeface="Arial"/>
              </a:rPr>
              <a:t>алгоритма называется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24000" y="3860640"/>
            <a:ext cx="302400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 програм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3348000" y="3789360"/>
            <a:ext cx="3024360" cy="136836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блок схем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сполнител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8"/>
          <p:cNvSpPr/>
          <p:nvPr/>
        </p:nvSpPr>
        <p:spPr>
          <a:xfrm>
            <a:off x="3348000" y="5157720"/>
            <a:ext cx="3024360" cy="1224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етвл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5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8" dur="2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543800" cy="383868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1 тур </a:t>
            </a: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«Разминка»</a:t>
            </a:r>
            <a:endParaRPr b="1" lang="en-US" sz="8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Заголовок 1" descr=""/>
          <p:cNvPicPr/>
          <p:nvPr/>
        </p:nvPicPr>
        <p:blipFill>
          <a:blip r:embed="rId1"/>
          <a:stretch/>
        </p:blipFill>
        <p:spPr>
          <a:xfrm>
            <a:off x="895320" y="622440"/>
            <a:ext cx="75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108000" y="1484280"/>
            <a:ext cx="8928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Информацию, не зависящую от чьего-либо мнения или суждения, называю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достовер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актуаль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объектив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полез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понятн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WordArt 15"/>
          <p:cNvSpPr txBox="1"/>
          <p:nvPr/>
        </p:nvSpPr>
        <p:spPr>
          <a:xfrm>
            <a:off x="2143080" y="304920"/>
            <a:ext cx="585792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latin typeface="Arial"/>
              </a:rPr>
              <a:t>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90" name="TextBox 4" descr=""/>
          <p:cNvPicPr/>
          <p:nvPr/>
        </p:nvPicPr>
        <p:blipFill>
          <a:blip r:embed="rId1"/>
          <a:stretch/>
        </p:blipFill>
        <p:spPr>
          <a:xfrm>
            <a:off x="1809720" y="0"/>
            <a:ext cx="64501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5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6" dur="indefinite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Прямоугольник 2"/>
          <p:cNvSpPr/>
          <p:nvPr/>
        </p:nvSpPr>
        <p:spPr>
          <a:xfrm>
            <a:off x="500040" y="1857240"/>
            <a:ext cx="7858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Наибольший объем информации человек получает при помощ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ося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слух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обоня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з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вкусовых рецепто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3" name="Прямоугольник 3" descr=""/>
          <p:cNvPicPr/>
          <p:nvPr/>
        </p:nvPicPr>
        <p:blipFill>
          <a:blip r:embed="rId1"/>
          <a:stretch/>
        </p:blipFill>
        <p:spPr>
          <a:xfrm>
            <a:off x="950760" y="231840"/>
            <a:ext cx="65534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83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4" dur="indefinite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5" name="Прямоугольник 2" descr=""/>
          <p:cNvPicPr/>
          <p:nvPr/>
        </p:nvPicPr>
        <p:blipFill>
          <a:blip r:embed="rId1"/>
          <a:stretch/>
        </p:blipFill>
        <p:spPr>
          <a:xfrm>
            <a:off x="1596960" y="165240"/>
            <a:ext cx="6357960" cy="1212840"/>
          </a:xfrm>
          <a:prstGeom prst="rect">
            <a:avLst/>
          </a:prstGeom>
          <a:ln w="0">
            <a:noFill/>
          </a:ln>
        </p:spPr>
      </p:pic>
      <p:sp>
        <p:nvSpPr>
          <p:cNvPr id="696" name="Прямоугольник 3"/>
          <p:cNvSpPr/>
          <p:nvPr/>
        </p:nvSpPr>
        <p:spPr>
          <a:xfrm>
            <a:off x="357120" y="142884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Расследование преступления представляет собой  информационный  процесс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кодирова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поиск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защиты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1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92" dur="indefinite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8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699" name="Прямоугольник 5"/>
          <p:cNvSpPr/>
          <p:nvPr/>
        </p:nvSpPr>
        <p:spPr>
          <a:xfrm>
            <a:off x="500040" y="157176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оиск слова в тексте по заданному образцу является процесс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обработк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уничтож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99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0" dur="indefinite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1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702" name="Прямоугольник 3"/>
          <p:cNvSpPr/>
          <p:nvPr/>
        </p:nvSpPr>
        <p:spPr>
          <a:xfrm>
            <a:off x="500040" y="157176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еревод текста с английского языка на русский является процессо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хранения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передач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поиска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обработки информ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ни одним из перечисленных выше процес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07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08" dur="indefinite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3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9" h="21600">
                <a:moveTo>
                  <a:pt x="16378" y="10800"/>
                </a:moveTo>
                <a:lnTo>
                  <a:pt x="30391" y="3794"/>
                </a:lnTo>
                <a:lnTo>
                  <a:pt x="3039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4" name="Прямоугольник 2" descr=""/>
          <p:cNvPicPr/>
          <p:nvPr/>
        </p:nvPicPr>
        <p:blipFill>
          <a:blip r:embed="rId1"/>
          <a:stretch/>
        </p:blipFill>
        <p:spPr>
          <a:xfrm>
            <a:off x="1523880" y="231840"/>
            <a:ext cx="6357960" cy="1218960"/>
          </a:xfrm>
          <a:prstGeom prst="rect">
            <a:avLst/>
          </a:prstGeom>
          <a:ln w="0">
            <a:noFill/>
          </a:ln>
        </p:spPr>
      </p:pic>
      <p:sp>
        <p:nvSpPr>
          <p:cNvPr id="705" name="Прямоугольник 3"/>
          <p:cNvSpPr/>
          <p:nvPr/>
        </p:nvSpPr>
        <p:spPr>
          <a:xfrm>
            <a:off x="500040" y="1571760"/>
            <a:ext cx="757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При телефонном разговоре в качестве источника информации сле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рассматрив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А) человека слушаю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Б) телефонную труб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В) человека говоряще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Г) телефонную се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Д) телефонный про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15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16" dur="indefinite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Заголовок 1" descr=""/>
          <p:cNvPicPr/>
          <p:nvPr/>
        </p:nvPicPr>
        <p:blipFill>
          <a:blip r:embed="rId1"/>
          <a:stretch/>
        </p:blipFill>
        <p:spPr>
          <a:xfrm>
            <a:off x="847800" y="701640"/>
            <a:ext cx="7564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08" name="Прямоугольник 2"/>
          <p:cNvSpPr/>
          <p:nvPr/>
        </p:nvSpPr>
        <p:spPr>
          <a:xfrm>
            <a:off x="500040" y="1571760"/>
            <a:ext cx="757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кромный серый колобок,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линный тонкий проводок,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у а на коробке -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ве или три кнопки.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зоопарке есть зайчишка,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У компьютера  есть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МЫШКА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AutoShape 28">
            <a:hlinkClick r:id="rId2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4" descr="Мышь(mouse)1"/>
          <p:cNvPicPr/>
          <p:nvPr/>
        </p:nvPicPr>
        <p:blipFill>
          <a:blip r:embed="rId3"/>
          <a:stretch/>
        </p:blipFill>
        <p:spPr>
          <a:xfrm>
            <a:off x="6215040" y="1857240"/>
            <a:ext cx="2695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3" dur="20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12" name="Прямоугольник 2"/>
          <p:cNvSpPr/>
          <p:nvPr/>
        </p:nvSpPr>
        <p:spPr>
          <a:xfrm>
            <a:off x="500040" y="1619280"/>
            <a:ext cx="7572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ловно смелый капитан!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А на нем -  горит экран.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Яркой радугой он дышит,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на нем компьютер пишет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рисует без запинки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севозможные картинки.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верху машины всей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Размещ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И С П Л Е Й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AutoShape 28">
            <a:hlinkClick r:id="rId2" action="ppaction://hlinksldjump"/>
          </p:cNvPr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4" name="Picture 2" descr="Картинка 2 из 6752"/>
          <p:cNvPicPr/>
          <p:nvPr/>
        </p:nvPicPr>
        <p:blipFill>
          <a:blip r:embed="rId3"/>
          <a:stretch/>
        </p:blipFill>
        <p:spPr>
          <a:xfrm>
            <a:off x="5662440" y="1214280"/>
            <a:ext cx="325296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2000"/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8"/>
          <p:cNvSpPr txBox="1"/>
          <p:nvPr/>
        </p:nvSpPr>
        <p:spPr>
          <a:xfrm>
            <a:off x="250920" y="11592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25" name="Прямоугольник 18" descr=""/>
          <p:cNvPicPr/>
          <p:nvPr/>
        </p:nvPicPr>
        <p:blipFill>
          <a:blip r:embed="rId3"/>
          <a:stretch/>
        </p:blipFill>
        <p:spPr>
          <a:xfrm>
            <a:off x="-66600" y="500040"/>
            <a:ext cx="89485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16" name="Прямоугольник 2"/>
          <p:cNvSpPr/>
          <p:nvPr/>
        </p:nvSpPr>
        <p:spPr>
          <a:xfrm>
            <a:off x="500040" y="1571760"/>
            <a:ext cx="757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коло дисплея - главный блок: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Там бежит электроток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самым важным микросхемам.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Этот блок зовут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 И С Т Е М Н Ы М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Picture 4" descr="Картинка 3 из 870"/>
          <p:cNvPicPr/>
          <p:nvPr/>
        </p:nvPicPr>
        <p:blipFill>
          <a:blip r:embed="rId2"/>
          <a:stretch/>
        </p:blipFill>
        <p:spPr>
          <a:xfrm>
            <a:off x="5072040" y="3214800"/>
            <a:ext cx="26431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7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2"/>
          <p:cNvSpPr/>
          <p:nvPr/>
        </p:nvSpPr>
        <p:spPr>
          <a:xfrm>
            <a:off x="142920" y="1500120"/>
            <a:ext cx="757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о клавишам прыг да скок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Бе-ре-ги но-го-ток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Раз-два и готово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тстукали слово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от где пальцам физкультур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Это вот -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Л А В И А Т У Р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2" name="Picture 2" descr="Картинка 9 из 48661"/>
          <p:cNvPicPr/>
          <p:nvPr/>
        </p:nvPicPr>
        <p:blipFill>
          <a:blip r:embed="rId2"/>
          <a:stretch/>
        </p:blipFill>
        <p:spPr>
          <a:xfrm>
            <a:off x="5605560" y="1643040"/>
            <a:ext cx="35384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6" dur="1000"/>
                                        <p:tgtEl>
                                          <p:spTgt spid="7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4" name="Прямоугольник 2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ней записаны програм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для мамы, и для папы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 упаковке, как конфет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Быстро верти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И С К Е Т 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2" descr="Картинка 2 из 649"/>
          <p:cNvPicPr/>
          <p:nvPr/>
        </p:nvPicPr>
        <p:blipFill>
          <a:blip r:embed="rId2"/>
          <a:stretch/>
        </p:blipFill>
        <p:spPr>
          <a:xfrm>
            <a:off x="6000840" y="1214280"/>
            <a:ext cx="22636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1000"/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28" name="Прямоугольник 2"/>
          <p:cNvSpPr/>
          <p:nvPr/>
        </p:nvSpPr>
        <p:spPr>
          <a:xfrm>
            <a:off x="500040" y="1571760"/>
            <a:ext cx="5143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компьютеры пор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Говорят между собо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о для этого од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м штуковина нуж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 телефону подключил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ообщение получил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Вещь, известная не всем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зывается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М О Д Е 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0" name="Picture 2" descr="Картинка 14 из 2458"/>
          <p:cNvPicPr/>
          <p:nvPr/>
        </p:nvPicPr>
        <p:blipFill>
          <a:blip r:embed="rId2"/>
          <a:stretch/>
        </p:blipFill>
        <p:spPr>
          <a:xfrm>
            <a:off x="4973760" y="1214280"/>
            <a:ext cx="3527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1000"/>
                                        <p:tgtEl>
                                          <p:spTgt spid="7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оугольник 2"/>
          <p:cNvSpPr/>
          <p:nvPr/>
        </p:nvSpPr>
        <p:spPr>
          <a:xfrm>
            <a:off x="500040" y="1571760"/>
            <a:ext cx="5857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ля чего же этот ящи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Он в себя бумагу тащи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И сейчас же буквы, точк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Запятые - строчка к строчке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апечатает картин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Ловкий масте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Струйный ..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 Р И Н Т Е 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4" name="Picture 5" descr="sp"/>
          <p:cNvPicPr/>
          <p:nvPr/>
        </p:nvPicPr>
        <p:blipFill>
          <a:blip r:embed="rId2"/>
          <a:stretch/>
        </p:blipFill>
        <p:spPr>
          <a:xfrm>
            <a:off x="5934240" y="1500120"/>
            <a:ext cx="29509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1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Прямоугольник 1" descr=""/>
          <p:cNvPicPr/>
          <p:nvPr/>
        </p:nvPicPr>
        <p:blipFill>
          <a:blip r:embed="rId1"/>
          <a:stretch/>
        </p:blipFill>
        <p:spPr>
          <a:xfrm>
            <a:off x="884160" y="92160"/>
            <a:ext cx="6248520" cy="121284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оугольник 3"/>
          <p:cNvSpPr/>
          <p:nvPr/>
        </p:nvSpPr>
        <p:spPr>
          <a:xfrm>
            <a:off x="500040" y="157176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А теперь, друзья, загадка!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Что такое: рукоятка,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нопки две, курок и хвостик?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Ну конечно, это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Д Ж О Й С Т И 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AutoShape 28"/>
          <p:cNvSpPr/>
          <p:nvPr/>
        </p:nvSpPr>
        <p:spPr>
          <a:xfrm>
            <a:off x="800100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13023-48"/>
          <p:cNvPicPr/>
          <p:nvPr/>
        </p:nvPicPr>
        <p:blipFill>
          <a:blip r:embed="rId2"/>
          <a:stretch/>
        </p:blipFill>
        <p:spPr>
          <a:xfrm>
            <a:off x="6715080" y="1857240"/>
            <a:ext cx="20192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1000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Заголовок 1" descr=""/>
          <p:cNvPicPr/>
          <p:nvPr/>
        </p:nvPicPr>
        <p:blipFill>
          <a:blip r:embed="rId1"/>
          <a:stretch/>
        </p:blipFill>
        <p:spPr>
          <a:xfrm>
            <a:off x="652320" y="701640"/>
            <a:ext cx="80042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8072280" cy="500040"/>
          </a:xfrm>
          <a:prstGeom prst="rect">
            <a:avLst/>
          </a:prstGeom>
          <a:ln w="0">
            <a:noFill/>
          </a:ln>
        </p:spPr>
      </p:pic>
      <p:pic>
        <p:nvPicPr>
          <p:cNvPr id="741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85880" y="2071800"/>
            <a:ext cx="8143920" cy="857160"/>
          </a:xfrm>
          <a:prstGeom prst="rect">
            <a:avLst/>
          </a:prstGeom>
          <a:ln w="0">
            <a:noFill/>
          </a:ln>
        </p:spPr>
      </p:pic>
      <p:pic>
        <p:nvPicPr>
          <p:cNvPr id="742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785880" y="3214800"/>
            <a:ext cx="7929360" cy="71424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оугольник 4"/>
          <p:cNvSpPr/>
          <p:nvPr/>
        </p:nvSpPr>
        <p:spPr>
          <a:xfrm>
            <a:off x="515880" y="142920"/>
            <a:ext cx="795024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Как называется данный элемент ок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4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8286840" cy="571680"/>
          </a:xfrm>
          <a:prstGeom prst="rect">
            <a:avLst/>
          </a:prstGeom>
          <a:ln w="0">
            <a:noFill/>
          </a:ln>
        </p:spPr>
      </p:pic>
      <p:pic>
        <p:nvPicPr>
          <p:cNvPr id="745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8358120" cy="571680"/>
          </a:xfrm>
          <a:prstGeom prst="rect">
            <a:avLst/>
          </a:prstGeom>
          <a:ln w="0">
            <a:noFill/>
          </a:ln>
        </p:spPr>
      </p:pic>
      <p:pic>
        <p:nvPicPr>
          <p:cNvPr id="746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47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48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49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50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Рисунок 1" descr=""/>
          <p:cNvPicPr/>
          <p:nvPr/>
        </p:nvPicPr>
        <p:blipFill>
          <a:blip r:embed="rId1"/>
          <a:srcRect l="3490" t="2355" r="42921" b="95065"/>
          <a:stretch/>
        </p:blipFill>
        <p:spPr>
          <a:xfrm>
            <a:off x="785880" y="1143000"/>
            <a:ext cx="4429080" cy="500040"/>
          </a:xfrm>
          <a:prstGeom prst="rect">
            <a:avLst/>
          </a:prstGeom>
          <a:ln w="0">
            <a:noFill/>
          </a:ln>
        </p:spPr>
      </p:pic>
      <p:pic>
        <p:nvPicPr>
          <p:cNvPr id="752" name="Рисунок 2" descr=""/>
          <p:cNvPicPr/>
          <p:nvPr/>
        </p:nvPicPr>
        <p:blipFill>
          <a:blip r:embed="rId2"/>
          <a:srcRect l="12551" t="-103" r="9103" b="98272"/>
          <a:stretch/>
        </p:blipFill>
        <p:spPr>
          <a:xfrm>
            <a:off x="714240" y="2071800"/>
            <a:ext cx="4500720" cy="857160"/>
          </a:xfrm>
          <a:prstGeom prst="rect">
            <a:avLst/>
          </a:prstGeom>
          <a:ln w="0">
            <a:noFill/>
          </a:ln>
        </p:spPr>
      </p:pic>
      <p:pic>
        <p:nvPicPr>
          <p:cNvPr id="753" name="Рисунок 3" descr=""/>
          <p:cNvPicPr/>
          <p:nvPr/>
        </p:nvPicPr>
        <p:blipFill>
          <a:blip r:embed="rId3"/>
          <a:srcRect l="0" t="5703" r="46446" b="88901"/>
          <a:stretch/>
        </p:blipFill>
        <p:spPr>
          <a:xfrm>
            <a:off x="857160" y="3214800"/>
            <a:ext cx="4429080" cy="714240"/>
          </a:xfrm>
          <a:prstGeom prst="rect">
            <a:avLst/>
          </a:prstGeom>
          <a:ln w="0">
            <a:noFill/>
          </a:ln>
        </p:spPr>
      </p:pic>
      <p:sp>
        <p:nvSpPr>
          <p:cNvPr id="754" name="Прямоугольник 4"/>
          <p:cNvSpPr/>
          <p:nvPr/>
        </p:nvSpPr>
        <p:spPr>
          <a:xfrm>
            <a:off x="1210680" y="142920"/>
            <a:ext cx="4257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равильные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5" name="Рисунок 1" descr=""/>
          <p:cNvPicPr/>
          <p:nvPr/>
        </p:nvPicPr>
        <p:blipFill>
          <a:blip r:embed="rId4"/>
          <a:srcRect l="0" t="97021" r="0" b="0"/>
          <a:stretch/>
        </p:blipFill>
        <p:spPr>
          <a:xfrm>
            <a:off x="857160" y="4429080"/>
            <a:ext cx="4429080" cy="571680"/>
          </a:xfrm>
          <a:prstGeom prst="rect">
            <a:avLst/>
          </a:prstGeom>
          <a:ln w="0">
            <a:noFill/>
          </a:ln>
        </p:spPr>
      </p:pic>
      <p:pic>
        <p:nvPicPr>
          <p:cNvPr id="756" name="Рисунок 6" descr=""/>
          <p:cNvPicPr/>
          <p:nvPr/>
        </p:nvPicPr>
        <p:blipFill>
          <a:blip r:embed="rId5"/>
          <a:srcRect l="0" t="94892" r="0" b="2886"/>
          <a:stretch/>
        </p:blipFill>
        <p:spPr>
          <a:xfrm>
            <a:off x="642960" y="5715000"/>
            <a:ext cx="4643280" cy="571680"/>
          </a:xfrm>
          <a:prstGeom prst="rect">
            <a:avLst/>
          </a:prstGeom>
          <a:ln w="0">
            <a:noFill/>
          </a:ln>
        </p:spPr>
      </p:pic>
      <p:pic>
        <p:nvPicPr>
          <p:cNvPr id="757" name="Прямоугольник 7" descr=""/>
          <p:cNvPicPr/>
          <p:nvPr/>
        </p:nvPicPr>
        <p:blipFill>
          <a:blip r:embed="rId6"/>
          <a:stretch/>
        </p:blipFill>
        <p:spPr>
          <a:xfrm>
            <a:off x="-255600" y="53028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58" name="Прямоугольник 8" descr=""/>
          <p:cNvPicPr/>
          <p:nvPr/>
        </p:nvPicPr>
        <p:blipFill>
          <a:blip r:embed="rId7"/>
          <a:stretch/>
        </p:blipFill>
        <p:spPr>
          <a:xfrm>
            <a:off x="-255600" y="4243320"/>
            <a:ext cx="1298520" cy="1127160"/>
          </a:xfrm>
          <a:prstGeom prst="rect">
            <a:avLst/>
          </a:prstGeom>
          <a:ln w="0">
            <a:noFill/>
          </a:ln>
        </p:spPr>
      </p:pic>
      <p:pic>
        <p:nvPicPr>
          <p:cNvPr id="759" name="Прямоугольник 9" descr=""/>
          <p:cNvPicPr/>
          <p:nvPr/>
        </p:nvPicPr>
        <p:blipFill>
          <a:blip r:embed="rId8"/>
          <a:stretch/>
        </p:blipFill>
        <p:spPr>
          <a:xfrm>
            <a:off x="-291960" y="302904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60" name="Прямоугольник 10" descr=""/>
          <p:cNvPicPr/>
          <p:nvPr/>
        </p:nvPicPr>
        <p:blipFill>
          <a:blip r:embed="rId9"/>
          <a:stretch/>
        </p:blipFill>
        <p:spPr>
          <a:xfrm>
            <a:off x="-255600" y="1816200"/>
            <a:ext cx="1298520" cy="1128600"/>
          </a:xfrm>
          <a:prstGeom prst="rect">
            <a:avLst/>
          </a:prstGeom>
          <a:ln w="0">
            <a:noFill/>
          </a:ln>
        </p:spPr>
      </p:pic>
      <p:pic>
        <p:nvPicPr>
          <p:cNvPr id="761" name="Прямоугольник 11" descr=""/>
          <p:cNvPicPr/>
          <p:nvPr/>
        </p:nvPicPr>
        <p:blipFill>
          <a:blip r:embed="rId10"/>
          <a:stretch/>
        </p:blipFill>
        <p:spPr>
          <a:xfrm>
            <a:off x="-328680" y="5389560"/>
            <a:ext cx="1298520" cy="1127160"/>
          </a:xfrm>
          <a:prstGeom prst="rect">
            <a:avLst/>
          </a:prstGeom>
          <a:ln w="0">
            <a:noFill/>
          </a:ln>
        </p:spPr>
      </p:pic>
      <p:sp>
        <p:nvSpPr>
          <p:cNvPr id="762" name="Прямоугольник 12"/>
          <p:cNvSpPr/>
          <p:nvPr/>
        </p:nvSpPr>
        <p:spPr>
          <a:xfrm>
            <a:off x="5376240" y="928800"/>
            <a:ext cx="349704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Строка основ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       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Прямоугольник 13"/>
          <p:cNvSpPr/>
          <p:nvPr/>
        </p:nvSpPr>
        <p:spPr>
          <a:xfrm>
            <a:off x="5631120" y="2000160"/>
            <a:ext cx="319680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олос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рокру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Прямоугольник 14"/>
          <p:cNvSpPr/>
          <p:nvPr/>
        </p:nvSpPr>
        <p:spPr>
          <a:xfrm>
            <a:off x="5640840" y="3071880"/>
            <a:ext cx="3234960" cy="9471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ан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инструмен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Прямоугольник 15"/>
          <p:cNvSpPr/>
          <p:nvPr/>
        </p:nvSpPr>
        <p:spPr>
          <a:xfrm>
            <a:off x="5645160" y="5857920"/>
            <a:ext cx="34862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Прямоугольник 16"/>
          <p:cNvSpPr/>
          <p:nvPr/>
        </p:nvSpPr>
        <p:spPr>
          <a:xfrm>
            <a:off x="5927400" y="4500720"/>
            <a:ext cx="2741040" cy="520560"/>
          </a:xfrm>
          <a:prstGeom prst="rect">
            <a:avLst/>
          </a:prstGeom>
          <a:solidFill>
            <a:srgbClr val="33cccc"/>
          </a:solidFill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3434"/>
                </a:solidFill>
                <a:latin typeface="Tahoma"/>
              </a:rPr>
              <a:t>Панель зада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Заголовок 1" descr=""/>
          <p:cNvPicPr/>
          <p:nvPr/>
        </p:nvPicPr>
        <p:blipFill>
          <a:blip r:embed="rId1"/>
          <a:stretch/>
        </p:blipFill>
        <p:spPr>
          <a:xfrm>
            <a:off x="847800" y="701640"/>
            <a:ext cx="7564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7543800" cy="5214960"/>
          </a:xfrm>
          <a:prstGeom prst="rect">
            <a:avLst/>
          </a:prstGeom>
          <a:solidFill>
            <a:srgbClr val="008871"/>
          </a:solidFill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 тур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 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«А ну-ка, </a:t>
            </a:r>
            <a:br>
              <a:rPr sz="8000"/>
            </a:br>
            <a:r>
              <a:rPr b="1" lang="ru-RU" sz="8000" spc="-1" strike="noStrike">
                <a:solidFill>
                  <a:srgbClr val="dddddd"/>
                </a:solidFill>
                <a:latin typeface="Tahoma"/>
              </a:rPr>
              <a:t>       угадай!»</a:t>
            </a:r>
            <a:endParaRPr b="1" lang="en-US" sz="8000" spc="-1" strike="noStrike">
              <a:solidFill>
                <a:srgbClr val="ddddd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Прямоугольник 1" descr=""/>
          <p:cNvPicPr/>
          <p:nvPr/>
        </p:nvPicPr>
        <p:blipFill>
          <a:blip r:embed="rId1"/>
          <a:stretch/>
        </p:blipFill>
        <p:spPr>
          <a:xfrm>
            <a:off x="2090880" y="890640"/>
            <a:ext cx="5035320" cy="5132160"/>
          </a:xfrm>
          <a:prstGeom prst="rect">
            <a:avLst/>
          </a:prstGeom>
          <a:ln w="0">
            <a:noFill/>
          </a:ln>
        </p:spPr>
      </p:pic>
      <p:pic>
        <p:nvPicPr>
          <p:cNvPr id="769" name="Прямоугольник 2" descr=""/>
          <p:cNvPicPr/>
          <p:nvPr/>
        </p:nvPicPr>
        <p:blipFill>
          <a:blip r:embed="rId2"/>
          <a:stretch/>
        </p:blipFill>
        <p:spPr>
          <a:xfrm>
            <a:off x="-96840" y="96840"/>
            <a:ext cx="92772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Прямоугольник 1" descr=""/>
          <p:cNvPicPr/>
          <p:nvPr/>
        </p:nvPicPr>
        <p:blipFill>
          <a:blip r:embed="rId1"/>
          <a:stretch/>
        </p:blipFill>
        <p:spPr>
          <a:xfrm>
            <a:off x="66600" y="890640"/>
            <a:ext cx="4316400" cy="5132160"/>
          </a:xfrm>
          <a:prstGeom prst="rect">
            <a:avLst/>
          </a:prstGeom>
          <a:ln w="0">
            <a:noFill/>
          </a:ln>
        </p:spPr>
      </p:pic>
      <p:pic>
        <p:nvPicPr>
          <p:cNvPr id="771" name="Прямоугольник 2" descr=""/>
          <p:cNvPicPr/>
          <p:nvPr/>
        </p:nvPicPr>
        <p:blipFill>
          <a:blip r:embed="rId2"/>
          <a:stretch/>
        </p:blipFill>
        <p:spPr>
          <a:xfrm>
            <a:off x="4280040" y="890640"/>
            <a:ext cx="4321080" cy="5132160"/>
          </a:xfrm>
          <a:prstGeom prst="rect">
            <a:avLst/>
          </a:prstGeom>
          <a:ln w="0">
            <a:noFill/>
          </a:ln>
        </p:spPr>
      </p:pic>
      <p:sp>
        <p:nvSpPr>
          <p:cNvPr id="772" name="Прямоугольник 4"/>
          <p:cNvSpPr/>
          <p:nvPr/>
        </p:nvSpPr>
        <p:spPr>
          <a:xfrm>
            <a:off x="2210760" y="214200"/>
            <a:ext cx="4257360" cy="581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28440">
            <a:solidFill>
              <a:srgbClr val="0000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3434"/>
                </a:solidFill>
                <a:latin typeface="Tahoma"/>
              </a:rPr>
              <a:t>Правильные отве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2" descr="D:\Учитель\Саламатина Л.А\Сканированные\2009-09-26\Сканировать10017.BMP"/>
          <p:cNvPicPr/>
          <p:nvPr/>
        </p:nvPicPr>
        <p:blipFill>
          <a:blip r:embed="rId1"/>
          <a:srcRect l="52718" t="36005" r="0" b="0"/>
          <a:stretch/>
        </p:blipFill>
        <p:spPr>
          <a:xfrm>
            <a:off x="826920" y="0"/>
            <a:ext cx="7372440" cy="6669000"/>
          </a:xfrm>
          <a:prstGeom prst="rect">
            <a:avLst/>
          </a:prstGeom>
          <a:ln w="0">
            <a:noFill/>
          </a:ln>
        </p:spPr>
      </p:pic>
      <p:sp>
        <p:nvSpPr>
          <p:cNvPr id="774" name="WordArt 6"/>
          <p:cNvSpPr txBox="1"/>
          <p:nvPr/>
        </p:nvSpPr>
        <p:spPr>
          <a:xfrm>
            <a:off x="5092560" y="424800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651640" y="4248000"/>
            <a:ext cx="48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6316560" y="422100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5148360" y="62064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5740560" y="620640"/>
            <a:ext cx="4870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6389640" y="620640"/>
            <a:ext cx="4874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D:\Учитель\Саламатина Л.А\Сканированные\2009-09-26\Сканировать10018.BMP"/>
          <p:cNvPicPr/>
          <p:nvPr/>
        </p:nvPicPr>
        <p:blipFill>
          <a:blip r:embed="rId1"/>
          <a:srcRect l="2836" t="33181" r="50236" b="5496"/>
          <a:stretch/>
        </p:blipFill>
        <p:spPr>
          <a:xfrm>
            <a:off x="1187280" y="303120"/>
            <a:ext cx="7093080" cy="6294600"/>
          </a:xfrm>
          <a:prstGeom prst="rect">
            <a:avLst/>
          </a:prstGeom>
          <a:ln w="0">
            <a:noFill/>
          </a:ln>
        </p:spPr>
      </p:pic>
      <p:sp>
        <p:nvSpPr>
          <p:cNvPr id="781" name="WordArt 5"/>
          <p:cNvSpPr txBox="1"/>
          <p:nvPr/>
        </p:nvSpPr>
        <p:spPr>
          <a:xfrm>
            <a:off x="3909960" y="1989000"/>
            <a:ext cx="13240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л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2" name="WordArt 6"/>
          <p:cNvSpPr txBox="1"/>
          <p:nvPr/>
        </p:nvSpPr>
        <p:spPr>
          <a:xfrm>
            <a:off x="3203640" y="2637000"/>
            <a:ext cx="2246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кипятить вод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3" name="WordArt 7"/>
          <p:cNvSpPr txBox="1"/>
          <p:nvPr/>
        </p:nvSpPr>
        <p:spPr>
          <a:xfrm>
            <a:off x="2556000" y="3141720"/>
            <a:ext cx="35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ложить в чашку пакетик завар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4" name="WordArt 8"/>
          <p:cNvSpPr txBox="1"/>
          <p:nvPr/>
        </p:nvSpPr>
        <p:spPr>
          <a:xfrm>
            <a:off x="3119400" y="3672000"/>
            <a:ext cx="296532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лить кипяток в чаш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5" name="WordArt 10"/>
          <p:cNvSpPr txBox="1"/>
          <p:nvPr/>
        </p:nvSpPr>
        <p:spPr>
          <a:xfrm>
            <a:off x="3262320" y="4175280"/>
            <a:ext cx="29653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бавить 2 чайные ложки сахар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6" name="WordArt 11"/>
          <p:cNvSpPr txBox="1"/>
          <p:nvPr/>
        </p:nvSpPr>
        <p:spPr>
          <a:xfrm>
            <a:off x="3405240" y="4797360"/>
            <a:ext cx="2606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ешать ложко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7" name="WordArt 12"/>
          <p:cNvSpPr txBox="1"/>
          <p:nvPr/>
        </p:nvSpPr>
        <p:spPr>
          <a:xfrm>
            <a:off x="4125960" y="5398920"/>
            <a:ext cx="1166760" cy="1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пи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4140360" y="5950080"/>
            <a:ext cx="10220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ец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2" descr="D:\Учитель\Саламатина Л.А\Сканированные\2009-09-26\Сканировать10021.BMP"/>
          <p:cNvPicPr/>
          <p:nvPr/>
        </p:nvPicPr>
        <p:blipFill>
          <a:blip r:embed="rId1"/>
          <a:srcRect l="52846" t="0" r="0" b="49512"/>
          <a:stretch/>
        </p:blipFill>
        <p:spPr>
          <a:xfrm>
            <a:off x="649440" y="282600"/>
            <a:ext cx="8243640" cy="6242040"/>
          </a:xfrm>
          <a:prstGeom prst="rect">
            <a:avLst/>
          </a:prstGeom>
          <a:ln w="0">
            <a:noFill/>
          </a:ln>
        </p:spPr>
      </p:pic>
      <p:sp>
        <p:nvSpPr>
          <p:cNvPr id="790" name="WordArt 3"/>
          <p:cNvSpPr txBox="1"/>
          <p:nvPr/>
        </p:nvSpPr>
        <p:spPr>
          <a:xfrm>
            <a:off x="3780000" y="3213000"/>
            <a:ext cx="194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ен?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1" name="WordArt 4"/>
          <p:cNvSpPr txBox="1"/>
          <p:nvPr/>
        </p:nvSpPr>
        <p:spPr>
          <a:xfrm>
            <a:off x="1258920" y="4076640"/>
            <a:ext cx="151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ечис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2" name="WordArt 5"/>
          <p:cNvSpPr txBox="1"/>
          <p:nvPr/>
        </p:nvSpPr>
        <p:spPr>
          <a:xfrm>
            <a:off x="6227640" y="4076640"/>
            <a:ext cx="194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гис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D:\Учитель\Саламатина Л.А\Сканированные\2009-09-26\Сканировать10020.BMP"/>
          <p:cNvPicPr/>
          <p:nvPr/>
        </p:nvPicPr>
        <p:blipFill>
          <a:blip r:embed="rId1"/>
          <a:srcRect l="52859" t="0" r="0" b="16169"/>
          <a:stretch/>
        </p:blipFill>
        <p:spPr>
          <a:xfrm>
            <a:off x="2484360" y="0"/>
            <a:ext cx="5616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D:\Учитель\Саламатина Л.А\Сканированные\2009-09-26\Сканировать10020.BMP"/>
          <p:cNvPicPr/>
          <p:nvPr/>
        </p:nvPicPr>
        <p:blipFill>
          <a:blip r:embed="rId1"/>
          <a:srcRect l="2489" t="0" r="49286" b="24256"/>
          <a:stretch/>
        </p:blipFill>
        <p:spPr>
          <a:xfrm>
            <a:off x="1476360" y="73080"/>
            <a:ext cx="6108840" cy="6784920"/>
          </a:xfrm>
          <a:prstGeom prst="rect">
            <a:avLst/>
          </a:prstGeom>
          <a:ln w="0">
            <a:noFill/>
          </a:ln>
        </p:spPr>
      </p:pic>
      <p:sp>
        <p:nvSpPr>
          <p:cNvPr id="795" name="WordArt 5"/>
          <p:cNvSpPr txBox="1"/>
          <p:nvPr/>
        </p:nvSpPr>
        <p:spPr>
          <a:xfrm>
            <a:off x="572436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3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6" name="WordArt 6"/>
          <p:cNvSpPr txBox="1"/>
          <p:nvPr/>
        </p:nvSpPr>
        <p:spPr>
          <a:xfrm>
            <a:off x="637236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6875640" y="112536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5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5867280" y="60944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3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9" name="WordArt 9"/>
          <p:cNvSpPr txBox="1"/>
          <p:nvPr/>
        </p:nvSpPr>
        <p:spPr>
          <a:xfrm>
            <a:off x="6372360" y="6093000"/>
            <a:ext cx="360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5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6948360" y="609444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0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4"/>
          <p:cNvSpPr/>
          <p:nvPr/>
        </p:nvSpPr>
        <p:spPr>
          <a:xfrm>
            <a:off x="571680" y="476280"/>
            <a:ext cx="54291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Основным носител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информации в социу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на современном эта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является</a:t>
            </a:r>
            <a:r>
              <a:rPr b="0" lang="ru-RU" sz="3200" spc="-1" strike="noStrike">
                <a:solidFill>
                  <a:srgbClr val="486768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357120" y="3714840"/>
            <a:ext cx="2808360" cy="14428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: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фотоплен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3071880" y="3714840"/>
            <a:ext cx="3081240" cy="14428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иск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AutoShape 69"/>
          <p:cNvSpPr/>
          <p:nvPr/>
        </p:nvSpPr>
        <p:spPr>
          <a:xfrm>
            <a:off x="428760" y="5157720"/>
            <a:ext cx="2808000" cy="17002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бума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0"/>
          <p:cNvSpPr/>
          <p:nvPr/>
        </p:nvSpPr>
        <p:spPr>
          <a:xfrm>
            <a:off x="3143160" y="5143680"/>
            <a:ext cx="3081600" cy="1557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жест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дис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5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4"/>
          <p:cNvSpPr/>
          <p:nvPr/>
        </p:nvSpPr>
        <p:spPr>
          <a:xfrm>
            <a:off x="684360" y="476280"/>
            <a:ext cx="51116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2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ледовательность коман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нител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:алгорит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клиен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ветв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пользов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7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4"/>
          <p:cNvSpPr/>
          <p:nvPr/>
        </p:nvSpPr>
        <p:spPr>
          <a:xfrm>
            <a:off x="357120" y="476280"/>
            <a:ext cx="543888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3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Какая из этих величин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з области информати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киловат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бай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б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иловоль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41" dur="1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684360" y="404640"/>
            <a:ext cx="5459400" cy="295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4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Первым средств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дальней  связ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Tahoma"/>
              </a:rPr>
              <a:t>принято счита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поч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телеф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428760" y="5143680"/>
            <a:ext cx="3000240" cy="14284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мпьютер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3357720" y="5143680"/>
            <a:ext cx="2808000" cy="155700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радиосвяз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2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4"/>
          <p:cNvSpPr/>
          <p:nvPr/>
        </p:nvSpPr>
        <p:spPr>
          <a:xfrm>
            <a:off x="714240" y="357120"/>
            <a:ext cx="511200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опрос 5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Что не являетс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информационны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6768"/>
                </a:solidFill>
                <a:latin typeface="Arial"/>
              </a:rPr>
              <a:t>процесс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AutoShape 5"/>
          <p:cNvSpPr/>
          <p:nvPr/>
        </p:nvSpPr>
        <p:spPr>
          <a:xfrm>
            <a:off x="53964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утил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3348000" y="386064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: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б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7"/>
          <p:cNvSpPr/>
          <p:nvPr/>
        </p:nvSpPr>
        <p:spPr>
          <a:xfrm>
            <a:off x="53964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передач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3348000" y="5157720"/>
            <a:ext cx="2808360" cy="129708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хра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9"/>
          <p:cNvSpPr/>
          <p:nvPr/>
        </p:nvSpPr>
        <p:spPr>
          <a:xfrm>
            <a:off x="1692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716360" y="342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11"/>
          <p:cNvSpPr/>
          <p:nvPr/>
        </p:nvSpPr>
        <p:spPr>
          <a:xfrm>
            <a:off x="5796000" y="98100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6156360" y="4508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Line 13"/>
          <p:cNvSpPr/>
          <p:nvPr/>
        </p:nvSpPr>
        <p:spPr>
          <a:xfrm>
            <a:off x="6156360" y="5805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7" name="Picture 63" descr=""/>
          <p:cNvPicPr/>
          <p:nvPr/>
        </p:nvPicPr>
        <p:blipFill>
          <a:blip r:embed="rId1"/>
          <a:stretch/>
        </p:blipFill>
        <p:spPr>
          <a:xfrm>
            <a:off x="5857920" y="357120"/>
            <a:ext cx="28764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3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59:18Z</dcterms:created>
  <dc:creator>Yuya</dc:creator>
  <dc:description/>
  <dc:language>en-US</dc:language>
  <cp:lastModifiedBy>arina</cp:lastModifiedBy>
  <dcterms:modified xsi:type="dcterms:W3CDTF">2012-06-15T08:08:30Z</dcterms:modified>
  <cp:revision>147</cp:revision>
  <dc:subject/>
  <dc:title> Математическая игра</dc:title>
</cp:coreProperties>
</file>