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FDA-325C-4D8F-98BE-F5C0505D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5C3-4B13-43BD-8F74-9712A2EE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0D9-65B5-4DEC-AD97-30902ACC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053-07B1-4D43-9015-E3A8ED62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A7B-6D0E-4CCC-934F-53FD1741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AD3-F634-4B1E-A2F4-1F400918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34A-5DE2-4E29-BACE-96C88472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116-C2E4-4750-8942-CDC3381D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CF3-76D0-4589-B4BE-D60571E4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A84-C22B-4621-BAF9-6FF593C4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47B-9C6E-43FB-9271-50C478EF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458-87DD-41AD-90EF-571FF11C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8DB7-E2BE-4874-A137-A33C67BFD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78644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аграрной реформы П. А. Столыпина на становление производительных сил саратовской дерев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7840" y="4642920"/>
            <a:ext cx="39146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0 «А»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ыгина Александ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Ведра и вод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щина не охотно отпускала своих членов. Один хуторянин в сердцах подсчитывал, сколько водки ему пришлось поставить упрямым односельчанам: «когда просили о выходе ¼ ведра, при составлении договора – ½ ведра, домой пришли ¼ ведра, пошли землю обмерять ½ ведра, к земскому начальнику ½ ведра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Объект 3"/>
          <p:cNvGraphicFramePr/>
          <p:nvPr/>
        </p:nvGraphicFramePr>
        <p:xfrm>
          <a:off x="0" y="0"/>
          <a:ext cx="9134640" cy="684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464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G:\Сашка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1916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Диаграмма 3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00080"/>
                    <a:ext cx="914400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Анализ обеспечения орудия труда клиентов бан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29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количеству инвентаря пашни клиентов банка превосходили в 2 раза общинные дворы, 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плуг приходил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зяй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рона – на 3, 88 хозяй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Этого явно недостаточ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epr-magazine.ru/business/otrasl_obzor/vipwagon/pic1.jpg"/>
          <p:cNvPicPr/>
          <p:nvPr/>
        </p:nvPicPr>
        <p:blipFill>
          <a:blip r:embed="rId1"/>
          <a:stretch/>
        </p:blipFill>
        <p:spPr>
          <a:xfrm>
            <a:off x="214200" y="285840"/>
            <a:ext cx="87868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Саратовская губер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Содержимое 5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реформы в Саратовской губер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6615000" cy="354348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4"/>
          <p:cNvSpPr/>
          <p:nvPr/>
        </p:nvSpPr>
        <p:spPr>
          <a:xfrm>
            <a:off x="5929200" y="5214960"/>
            <a:ext cx="2928960" cy="1285920"/>
          </a:xfrm>
          <a:prstGeom prst="roundRect">
            <a:avLst>
              <a:gd name="adj" fmla="val 16667"/>
            </a:avLst>
          </a:prstGeom>
          <a:solidFill>
            <a:srgbClr val="ffcc99">
              <a:alpha val="12000"/>
            </a:srgbClr>
          </a:solidFill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% - составляла беднота, которая купила землю, чтобы ее продать и порвать с зем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авая фигурная скобка 5"/>
          <p:cNvSpPr/>
          <p:nvPr/>
        </p:nvSpPr>
        <p:spPr>
          <a:xfrm>
            <a:off x="6500880" y="2071800"/>
            <a:ext cx="714240" cy="242892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2428920"/>
              <a:gd name="textAreaBottom" fmla="*/ 2410560 h 24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16200" y="10800"/>
                  <a:pt x="21600" y="10800"/>
                </a:cubicBezTo>
                <a:cubicBezTo>
                  <a:pt x="162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7286760" y="3000240"/>
            <a:ext cx="150012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52% - Выделенц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840" y="428760"/>
            <a:ext cx="4038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Важнейшие факторы, определяющие уровень благосостояние каждой страны – это её земля и народ. Один из вопросов, который волнует российских реформаторов прошлого и настоящего, а возможно будет волновать их и в будущем, это та модель, которую следует взять за образец при проведении аграрных реформ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Две основные проблемы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Крупной или мелкой форме собственности отдать предпочтение 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Государственной или частной форме собственности на землю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4920" y="428400"/>
            <a:ext cx="42861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им из тех людей, кто пытался решить аграрную проблему был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ётр Аркадьевич Столып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Администратор\Рабочий стол\d343d1e2d7a45624b588a190b72.jpg"/>
          <p:cNvPicPr/>
          <p:nvPr/>
        </p:nvPicPr>
        <p:blipFill>
          <a:blip r:embed="rId1"/>
          <a:stretch/>
        </p:blipFill>
        <p:spPr>
          <a:xfrm>
            <a:off x="5143680" y="2214720"/>
            <a:ext cx="33573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Оставшиеся, которые не продали землю в 1912 г. из ни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деленцы без общи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асть из них продали землю, ушли на заработки в горо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угая часть, землю купила, но не обрабатывала в достаточной степени – не мо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реселенческая политика в целом бы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чно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3008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Конец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9680" y="2714400"/>
            <a:ext cx="818676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естьянство превращалось в крупнейшую противоправительственную сил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13840" y="1571400"/>
            <a:ext cx="27147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. А. Столыпин в ноябре 1905 г. получил право высылать из уездов неблагонадежных крестьян по приговорам сельских сходов за счёт государств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Documents and Settings\Администратор\Рабочий стол\e00b10f44ba0288b56dfb9b0d2e8787c_full.jpg"/>
          <p:cNvPicPr/>
          <p:nvPr/>
        </p:nvPicPr>
        <p:blipFill>
          <a:blip r:embed="rId2"/>
          <a:stretch/>
        </p:blipFill>
        <p:spPr>
          <a:xfrm>
            <a:off x="3071880" y="1571760"/>
            <a:ext cx="5781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8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372520" cy="6143760"/>
          </a:xfrm>
          <a:prstGeom prst="rect">
            <a:avLst/>
          </a:prstGeom>
          <a:ln w="0">
            <a:noFill/>
          </a:ln>
        </p:spPr>
      </p:pic>
      <p:pic>
        <p:nvPicPr>
          <p:cNvPr id="51" name="Диаграмма 3" descr="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77872796_large_4000491_stolipin_i_evreiskii_vopros.jpg"/>
          <p:cNvPicPr/>
          <p:nvPr/>
        </p:nvPicPr>
        <p:blipFill>
          <a:blip r:embed="rId1"/>
          <a:stretch/>
        </p:blipFill>
        <p:spPr>
          <a:xfrm>
            <a:off x="34920" y="214200"/>
            <a:ext cx="8942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Диаграмма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3714840" y="500040"/>
            <a:ext cx="1714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6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Левая фигурная скобка 3"/>
          <p:cNvSpPr/>
          <p:nvPr/>
        </p:nvSpPr>
        <p:spPr>
          <a:xfrm>
            <a:off x="642960" y="1785960"/>
            <a:ext cx="714240" cy="350028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3500280"/>
              <a:gd name="textAreaBottom" fmla="*/ 348192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5400" y="10800"/>
                  <a:pt x="0" y="10800"/>
                </a:cubicBezTo>
                <a:cubicBezTo>
                  <a:pt x="54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0" y="3143160"/>
            <a:ext cx="642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,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400" y="5428800"/>
            <a:ext cx="7358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е из того, что делалось в стране, проводилось и в Саратовской губернии, в частности, 27 августа 1908 г. губернатор С. С. Татищев направил в комитет по землеустроительным делам ходатайство с просьбой отпустить на организацию показательных хозяйств 15 тыс. руб. Просьба была удовлетворена комите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pics.livejournal.com/bb_mos/pic/000cs6ew"/>
          <p:cNvPicPr/>
          <p:nvPr/>
        </p:nvPicPr>
        <p:blipFill>
          <a:blip r:embed="rId1"/>
          <a:stretch/>
        </p:blipFill>
        <p:spPr>
          <a:xfrm>
            <a:off x="1571760" y="142920"/>
            <a:ext cx="54799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57520" y="285840"/>
            <a:ext cx="3328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ас сожгли за то, что вы отруба взяли, пожалуйста, просим вас, откажитесь от отрубов, если не откажитесь от отрубов, то мы вас в сумку загоним и убьём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G:\01324d9e6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действие крестьян реформ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1714680"/>
            <a:ext cx="837252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инники оказывали моральное и физическое воздействие на выделенцев и членов их сем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ртили и уничтожали постройки и имуществ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лечили скот и птиц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гли посевы выделенце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ей не принимали в шко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лодожёнов не пускали венчаться в церков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рещали пользоваться дорог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9:21:04Z</dcterms:created>
  <dc:creator>XTreme</dc:creator>
  <dc:description/>
  <dc:language>en-US</dc:language>
  <cp:lastModifiedBy>кабинет</cp:lastModifiedBy>
  <dcterms:modified xsi:type="dcterms:W3CDTF">2011-12-17T19:06:33Z</dcterms:modified>
  <cp:revision>121</cp:revision>
  <dc:subject/>
  <dc:title>Влияние аграрной реформы П. А. Столыпина на становление производительных сил саратовской деревни.</dc:title>
</cp:coreProperties>
</file>