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AA6-51B9-4176-BA86-35213212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E6C-F1E8-41F5-8660-962F62C8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F99-3429-4EAA-A39E-91602DF0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7FA-25BD-427F-82E5-60C5206C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36281-150B-4DCC-93CE-1CAB4016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696D6-146E-419B-BA63-B9E83EE3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62268-43D3-4D86-9048-2A391F12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C56B9-8046-4BB3-8B59-8835B90F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48A62-17C5-4CB6-BAC2-D8551E8F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2DAFA-D4F4-489C-B556-DD93BB75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64398-680C-4CE7-8783-19817A2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AB7-8394-4241-A5D8-C550BF88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04D1D-877D-46B4-8871-A428F2D6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ABE23-2E24-4878-B94F-B05FCCE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593F8-A1F7-4C28-8424-D66729D8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8146D-AA07-4D96-8926-59DAD35D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3116C-435E-42B3-AD3A-8EBB68C6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D91-93A0-408D-9EA6-7DD26474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52D-27A5-488D-84BE-209AD894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9CC-86EA-4257-8E6E-4B3EA3B3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C47-C10D-44A9-A915-F7768199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AAD-286B-48F7-BDBF-A2847366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DAB-D76E-427F-94CF-18055C3E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0DA-2AF6-4233-AAD8-12C03292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48C5-45D6-4647-B2DF-C770A3A5F7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C785-7C6F-43EE-97BD-EB9A069021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ost.kards.ru/images/postcard/10554/1055359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luzhok.ru/pics/art1/art511_0.jpg&amp;pageurl=http://www.luzhok.ru%2Fencyclop%2Fgarden%2Fannual%2Fart511.html&amp;id=7122149&amp;iid=8&amp;imgwidth=200&amp;imgheight=300&amp;imgsize=16269&amp;images_links=b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Жизнь без сигарет!</a:t>
            </a:r>
            <a:br>
              <a:rPr sz="6000"/>
            </a:br>
            <a:r>
              <a:rPr b="0" lang="ru-RU" sz="6000" spc="-1" strike="noStrike" u="sng">
                <a:solidFill>
                  <a:srgbClr val="ff0000"/>
                </a:solidFill>
                <a:uFillTx/>
                <a:latin typeface="Tahoma"/>
              </a:rPr>
              <a:t>Курить-здоровью вредить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05960" cy="25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   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МЕТАНОЛ</a:t>
            </a:r>
            <a:br>
              <a:rPr sz="4400"/>
            </a:b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это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очень</a:t>
            </a:r>
            <a:r>
              <a:rPr b="1" i="1" lang="ru-RU" sz="4000" spc="-1" strike="noStrike">
                <a:solidFill>
                  <a:srgbClr val="ffffff"/>
                </a:solidFill>
                <a:latin typeface="Arial Narrow"/>
              </a:rPr>
              <a:t> ядовитое вещество, вызывающее тяжелое отравление, слепоту, смерть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85228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Формальдеги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это ядовитое вещество, вызывающе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боль в груди,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ашель, бронхит, коньюктивит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, сильные 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еки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кожи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ЕРОВОДОРОД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острую кислородную недостаточность это токсическое вещество,      вызывающее, приводящую к поражению нервной систем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  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АЦЕТАЛЬДЕГИ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это ядовитый па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раздражающий глаз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ыхательные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 пути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ызывающий удушье и головную бол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РАДИОАКТИВНЫЕ ЭЛЕМЕН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 Narrow"/>
              </a:rPr>
              <a:t>Изотопы полония являются первопричиной </a:t>
            </a:r>
            <a:r>
              <a:rPr b="1" i="1" lang="ru-RU" sz="3100" spc="-1" strike="noStrike">
                <a:solidFill>
                  <a:srgbClr val="ffffff"/>
                </a:solidFill>
                <a:latin typeface="Arial Narrow"/>
              </a:rPr>
              <a:t>рака легких</a:t>
            </a:r>
            <a:r>
              <a:rPr b="1" i="1" lang="en-US" sz="31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ffffff"/>
                </a:solidFill>
                <a:latin typeface="Arial Narrow"/>
              </a:rPr>
              <a:t>Человек, выкуривающий в день пачку сигарет, получает дозу облучения в </a:t>
            </a:r>
            <a:r>
              <a:rPr b="1" i="1" lang="ru-RU" sz="3100" spc="-1" strike="noStrike">
                <a:solidFill>
                  <a:srgbClr val="ffffff"/>
                </a:solidFill>
                <a:latin typeface="Arial Narrow"/>
              </a:rPr>
              <a:t>3,5 раза</a:t>
            </a:r>
            <a:r>
              <a:rPr b="0" i="1" lang="ru-RU" sz="3100" spc="-1" strike="noStrike">
                <a:solidFill>
                  <a:srgbClr val="ffffff"/>
                </a:solidFill>
                <a:latin typeface="Arial Narrow"/>
              </a:rPr>
              <a:t> больше дозы, принятой международным соглашением по защите от радиации.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Радиоактивный свинец и висму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расстройство сна и аппети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нарушение деятельности желудка и кишечника повышенная раздражительность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плохая успеваем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отставание в физическом развитии</a:t>
            </a:r>
            <a:r>
              <a:rPr b="0" i="1" lang="ru-RU" sz="3200" spc="-1" strike="noStrike">
                <a:solidFill>
                  <a:srgbClr val="ff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008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Из истории </a:t>
            </a:r>
            <a:br>
              <a:rPr sz="4000"/>
            </a:b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 Христофор Колумб (1451 – 1506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Картинка 60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341360"/>
            <a:ext cx="7921440" cy="5516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Европу табак попал из Америки, где побывал мореплаватель Христофор Колумб. Высадившись на незнакомый берег, Колумб и его спутники увидели, что туземцы - взрослые и дети - держали в зубах дымящиеся пучки тлеющих листьев неизвестного европейцам растения. Выяснилось, что "дикари" традиционно используют его листья для частого вдыхания дыма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Табак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(Nicotiana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д однолетн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многолетни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устарников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авянистых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т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мей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аслен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i?id=7122149&amp;tov=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268280"/>
            <a:ext cx="4923000" cy="5329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</a:rPr>
              <a:t>Из истории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вращаясь в Европу, Колумб захватил с собой несколько кип сушёных листьев "тобакко" 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кольких курильщиков. Он рассчитывал развлечь своих соотечественников невиданной экзотикой. Так и случилось: краснолицые "дикари", украшенные перьями и пускающие дым изо рта, поразили весь испанский двор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коре табак попал во Францию: Жан Нико, бывший послом в Испании, привёз оттуда листья и семена табака в подарок своей королеве Екатерине Медичи. От фамилии Нико произошло слово "никотин" - так называют основной компонент табака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850160" cy="5886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                 </a:t>
            </a:r>
            <a:r>
              <a:rPr b="0" lang="ru-RU" sz="4400" spc="-1" strike="noStrike" u="sng">
                <a:solidFill>
                  <a:srgbClr val="ff0000"/>
                </a:solidFill>
                <a:uFillTx/>
                <a:latin typeface="Tahoma"/>
              </a:rPr>
              <a:t>ЗА ТАБАК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Элемент комфор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Кокет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Снятие нервного напряж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Желание казаться взросле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-Стремление похуде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                  </a:t>
            </a:r>
            <a:r>
              <a:rPr b="0" lang="ru-RU" sz="4800" spc="-1" strike="noStrike" u="sng">
                <a:solidFill>
                  <a:srgbClr val="ff0000"/>
                </a:solidFill>
                <a:uFillTx/>
                <a:latin typeface="Tahoma"/>
              </a:rPr>
              <a:t>ПРОТИВ ТАБАКА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тарит кож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Жёлтые зуб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Плохой запах из р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Голос хриплый, прокуренн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Склонность к простудным заболевания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Пальцы рук, ногти желтею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Замедляется ро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Рак лёгких, губ, горла, кож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8"/>
          <p:cNvSpPr/>
          <p:nvPr/>
        </p:nvSpPr>
        <p:spPr>
          <a:xfrm>
            <a:off x="4356000" y="1700280"/>
            <a:ext cx="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6" descr="1318265694_bez-sigaret-zhit-spokoynee-1.jpg"/>
          <p:cNvPicPr/>
          <p:nvPr/>
        </p:nvPicPr>
        <p:blipFill>
          <a:blip r:embed="rId1"/>
          <a:stretch/>
        </p:blipFill>
        <p:spPr>
          <a:xfrm>
            <a:off x="0" y="285840"/>
            <a:ext cx="5143680" cy="3857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sigareta.jpg"/>
          <p:cNvPicPr/>
          <p:nvPr/>
        </p:nvPicPr>
        <p:blipFill>
          <a:blip r:embed="rId2"/>
          <a:stretch/>
        </p:blipFill>
        <p:spPr>
          <a:xfrm>
            <a:off x="5286240" y="3357720"/>
            <a:ext cx="3556080" cy="31748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3000" spc="-1" strike="noStrike">
                <a:solidFill>
                  <a:srgbClr val="ff0000"/>
                </a:solidFill>
                <a:latin typeface="Tahoma"/>
              </a:rPr>
              <a:t>Рак кожи</a:t>
            </a:r>
            <a:endParaRPr b="0" lang="en-US" sz="1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 "/>
          <p:cNvPicPr/>
          <p:nvPr/>
        </p:nvPicPr>
        <p:blipFill>
          <a:blip r:embed="rId1"/>
          <a:stretch/>
        </p:blipFill>
        <p:spPr>
          <a:xfrm>
            <a:off x="285840" y="2928960"/>
            <a:ext cx="4678200" cy="3608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0" lang="ru-RU" sz="9600" spc="-1" strike="noStrike">
                <a:solidFill>
                  <a:srgbClr val="ff0000"/>
                </a:solidFill>
                <a:latin typeface="Tahoma"/>
              </a:rPr>
              <a:t>Рак губы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 "/>
          <p:cNvPicPr/>
          <p:nvPr/>
        </p:nvPicPr>
        <p:blipFill>
          <a:blip r:embed="rId1"/>
          <a:stretch/>
        </p:blipFill>
        <p:spPr>
          <a:xfrm>
            <a:off x="714240" y="3286080"/>
            <a:ext cx="3286440" cy="2478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           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Рак лёгких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2234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5" descr=" "/>
          <p:cNvPicPr/>
          <p:nvPr/>
        </p:nvPicPr>
        <p:blipFill>
          <a:blip r:embed="rId1"/>
          <a:stretch/>
        </p:blipFill>
        <p:spPr>
          <a:xfrm>
            <a:off x="1187280" y="1413000"/>
            <a:ext cx="7091640" cy="5084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3"/>
          <p:cNvGraphicFramePr/>
          <p:nvPr/>
        </p:nvGraphicFramePr>
        <p:xfrm>
          <a:off x="250920" y="333360"/>
          <a:ext cx="8570880" cy="58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57088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0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92120" y="333360"/>
            <a:ext cx="8178840" cy="855720"/>
          </a:xfrm>
          <a:prstGeom prst="rect">
            <a:avLst/>
          </a:prstGeom>
          <a:noFill/>
          <a:ln w="0">
            <a:noFill/>
          </a:ln>
          <a:effectLst>
            <a:outerShdw dist="77353" dir="10237521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Monotype Corsiva"/>
              </a:rPr>
              <a:t>В России курят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1187280" y="1413000"/>
          <a:ext cx="7037640" cy="50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03764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22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868320" y="1908000"/>
          <a:ext cx="7715160" cy="407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908000"/>
                    <a:ext cx="771516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"/>
          <p:cNvGraphicFramePr/>
          <p:nvPr/>
        </p:nvGraphicFramePr>
        <p:xfrm>
          <a:off x="900000" y="1916280"/>
          <a:ext cx="7715520" cy="407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1916280"/>
                    <a:ext cx="77155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178000" y="447840"/>
            <a:ext cx="4835520" cy="1617480"/>
          </a:xfrm>
          <a:prstGeom prst="rect">
            <a:avLst/>
          </a:prstGeom>
          <a:noFill/>
          <a:ln w="0">
            <a:noFill/>
          </a:ln>
          <a:effectLst>
            <a:outerShdw dist="77353" dir="10237521" blurRad="0" rotWithShape="0">
              <a:srgbClr val="99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Monotype Corsiva"/>
              </a:rPr>
              <a:t>В мире курят…</a:t>
            </a:r>
            <a:r>
              <a:rPr b="1" i="1" lang="ru-RU" sz="5000" spc="-1" strike="noStrike">
                <a:solidFill>
                  <a:srgbClr val="ff9933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Прямоугольник 1" descr=""/>
          <p:cNvPicPr/>
          <p:nvPr/>
        </p:nvPicPr>
        <p:blipFill>
          <a:blip r:embed="rId1"/>
          <a:stretch/>
        </p:blipFill>
        <p:spPr>
          <a:xfrm>
            <a:off x="1231920" y="274680"/>
            <a:ext cx="7412040" cy="11574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rol-semi.jpg"/>
          <p:cNvPicPr/>
          <p:nvPr/>
        </p:nvPicPr>
        <p:blipFill>
          <a:blip r:embed="rId2"/>
          <a:stretch/>
        </p:blipFill>
        <p:spPr>
          <a:xfrm>
            <a:off x="214200" y="1643040"/>
            <a:ext cx="3571920" cy="33750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s_dnem_semi.jpg"/>
          <p:cNvPicPr/>
          <p:nvPr/>
        </p:nvPicPr>
        <p:blipFill>
          <a:blip r:embed="rId3"/>
          <a:stretch/>
        </p:blipFill>
        <p:spPr>
          <a:xfrm>
            <a:off x="6469200" y="1857240"/>
            <a:ext cx="2674800" cy="2005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загруженное.jpg"/>
          <p:cNvPicPr/>
          <p:nvPr/>
        </p:nvPicPr>
        <p:blipFill>
          <a:blip r:embed="rId4"/>
          <a:stretch/>
        </p:blipFill>
        <p:spPr>
          <a:xfrm>
            <a:off x="3143160" y="3857760"/>
            <a:ext cx="3925800" cy="274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siga_medium.png"/>
          <p:cNvPicPr/>
          <p:nvPr/>
        </p:nvPicPr>
        <p:blipFill>
          <a:blip r:embed="rId1"/>
          <a:stretch/>
        </p:blipFill>
        <p:spPr>
          <a:xfrm>
            <a:off x="2643120" y="2000160"/>
            <a:ext cx="4210200" cy="3152880"/>
          </a:xfrm>
          <a:prstGeom prst="rect">
            <a:avLst/>
          </a:prstGeom>
          <a:ln w="0">
            <a:noFill/>
          </a:ln>
        </p:spPr>
      </p:pic>
      <p:sp>
        <p:nvSpPr>
          <p:cNvPr id="144" name="Знак запрета 2"/>
          <p:cNvSpPr/>
          <p:nvPr/>
        </p:nvSpPr>
        <p:spPr>
          <a:xfrm>
            <a:off x="1571760" y="357120"/>
            <a:ext cx="6500520" cy="621504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428760" y="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 курите , подумайте о своем будущ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2071800" y="1857240"/>
            <a:ext cx="542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олнил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 ученица  11 «Б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ран А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верил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 Ушакова А.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«Табак приносит вред телу, разрушает разум, отупляет целые нации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                                                          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. де Бальза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Kunstler Script"/>
              </a:rPr>
              <a:t>Минздрав предупреждает</a:t>
            </a:r>
            <a:r>
              <a:rPr b="1" lang="en-US" sz="4200" spc="-1" strike="noStrike">
                <a:solidFill>
                  <a:srgbClr val="ff0000"/>
                </a:solidFill>
                <a:latin typeface="Kunstler Script"/>
              </a:rPr>
              <a:t> </a:t>
            </a:r>
            <a:r>
              <a:rPr b="1" lang="en-US" sz="4200" spc="-1" strike="noStrike">
                <a:solidFill>
                  <a:srgbClr val="ff0000"/>
                </a:solidFill>
                <a:latin typeface="Bernard MT Condensed"/>
              </a:rPr>
              <a:t>!</a:t>
            </a:r>
            <a:br>
              <a:rPr sz="4200"/>
            </a:br>
            <a:r>
              <a:rPr b="0" lang="ru-RU" sz="4200" spc="-1" strike="noStrike">
                <a:solidFill>
                  <a:srgbClr val="ff0000"/>
                </a:solidFill>
                <a:latin typeface="Bernard MT Condensed"/>
              </a:rPr>
              <a:t>Курение опасно для вашего здоровья!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данным министерства здравоохра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ульс курильщика в среднем 10-20 ударов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нуту, чаще пульса некурящего, то есть 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го в 3 раза больше шансов заработа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рдечный приступ. Курильщики в 2,5 ча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ют простудными заболевания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урение – не то занятие, которое можно бросить без усилий. Это настоящая наркомания, и тем более опасная, что многие не воспринимают ее всерьез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Курение - наркома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5071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Курящие ежегодно выкуривают в атмосферу: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  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720 т синильной кислоты (яд!)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 384000 т аммиак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 108000 т никотин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 600000 т дёгт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 550000 т угарного газа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мертельная доза никотина: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мг на 1 кг массы тела       взрослого человек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0-70 мг для подростка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Script MT Bold"/>
              </a:rPr>
              <a:t>                </a:t>
            </a:r>
            <a:r>
              <a:rPr b="1" lang="ru-RU" sz="4000" spc="-1" strike="noStrike">
                <a:solidFill>
                  <a:srgbClr val="ff0000"/>
                </a:solidFill>
                <a:latin typeface="Script MT Bold"/>
              </a:rPr>
              <a:t>Никот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62064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самых сильных ядов растительного происхо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тицы погибают, если к их клюву всего лишь поднести стеклянную палочку, смоченную никоти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лик погибает от1\4 капли никотина, собака – от 1\2 кап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человека смертельная доза никотина составляет от 50 до 100 мг, или 2-3 капли. Именно такая доза поступает ежедневно в кровь после выкуривания 20-25 сигар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937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 Narrow"/>
              </a:rPr>
              <a:t>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АММИА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Раздражает слизистые оболочки вызывая боли </a:t>
            </a:r>
            <a:fld id="{FA80E11D-39A6-47FA-8A0E-A7D50D82047E}" type="slidenum"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в желудке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Происходит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слезотечение,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 повышенное отделение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мокроты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Вызывает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удушье, головокружение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Снижается сопротивляемость легких к инфекционным заболеваниям, в частности к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туберкулезу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(Из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100 случаев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 заболеваний туберкулеза - </a:t>
            </a:r>
            <a:r>
              <a:rPr b="1" i="1" lang="ru-RU" sz="3200" spc="-1" strike="noStrike">
                <a:solidFill>
                  <a:srgbClr val="ffffff"/>
                </a:solidFill>
                <a:latin typeface="Arial Narrow"/>
              </a:rPr>
              <a:t>95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 приходится на курильщик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553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79280" y="1557000"/>
            <a:ext cx="1240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55840" y="49680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755640" y="549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ИНИЛЬНАЯ КИСЛ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-79200" y="1125360"/>
            <a:ext cx="9304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егко проникает в кровь (снижает способность клеток воспринимать кислород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0" y="2421000"/>
            <a:ext cx="68547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ервыми страдают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рвные клетки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0" y="3429000"/>
            <a:ext cx="1335240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большой дозе проявляется отравл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 сильнейшим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збуждением ЦНС наступ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аралич, останавливается дыхание ,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атем и  сердц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2:43:32Z</dcterms:created>
  <dc:creator>user</dc:creator>
  <dc:description/>
  <dc:language>en-US</dc:language>
  <cp:lastModifiedBy>123</cp:lastModifiedBy>
  <dcterms:modified xsi:type="dcterms:W3CDTF">2006-01-12T10:50:31Z</dcterms:modified>
  <cp:revision>21</cp:revision>
  <dc:subject/>
  <dc:title>Прежде чем закурить – подумай!</dc:title>
</cp:coreProperties>
</file>