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62E-F0D5-4DBB-A8E5-E2114CE4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018-027A-472A-A4AB-07AC34AF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6AD-4F33-452C-97B0-F1473022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9F7-2E3D-4E85-AF69-45FAACD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9A1-7097-4619-BAE5-7B0785C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8A3A-FB01-4D3B-82D5-1D4A68DF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CB2-FD16-47B3-90DA-8D8E2C6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ACDC-91DA-4EAE-AAA0-4FE6EDB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2915-8D7F-4183-86FC-8DDADE3F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B541-A133-43A3-B710-01FA30F0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AF7-BE64-4138-A17F-08E8E1C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17B-475D-42B6-807F-E2B174EA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6914-69C1-4DD5-B7AC-53E3CAD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741D-3576-4362-8F94-907E431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7BA-DE25-4B4F-8C04-F966A8DC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DFB-453C-4CC8-A0C0-8DFF0B7B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FD65-660B-4376-8A1E-99CAB922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88A-AB3D-4BFD-8D4F-5DDBDB9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C56-E071-4901-952E-087CDA5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E24-C2E2-4324-8E25-8210113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C91-40F5-41B4-A144-C8C23EE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923-064F-4918-A7EE-CDD790A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C08-ABC8-41BD-9A65-B8CB9E56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FE4-CC52-45E1-8446-0173BDD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62CF-9BCC-4B8D-A332-BBEC042B9EF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CED-00E4-4C75-B139-C4806B92624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rea7.ru/images/culture/ii_38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0848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Жизнь на селе в старину.</a:t>
            </a:r>
            <a:br>
              <a:rPr sz="48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ЕЗЕНТАЦИЯ К УРОКУ ОКРУЖАЮЩЕГО МИРА 3КЛАСС ПРОГРАММА «Гармония»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читель ГБОУ СОШ № 767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нтипова Елена Владимиров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ебята, как украшали наши дедушки окна и крышу в избах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380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4455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были в школьном музее и видели много предметов быта. Какие из них вы запомнил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1941480"/>
            <a:ext cx="6985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ередине избы стоял стол. Стол называли «божьей ладонью». Нельзя за столом ругаться и стучать по нему кулаком. В центре стола стоял чугунок со щами или с кашей. После молитвы начинал трапезу первым хозяин дом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448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старину говорили 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хлеб на стол, так стол-престол, а хлеба ни куска, так и стол доска. Как вы это понимаете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2378160"/>
            <a:ext cx="59770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75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У печи стояли ухваты, которыми доставали чугунки из печи. Ухват служил  и оружием от непрошенных гостей. Еще с помощью ухвата изображали рога быка  в разных играх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734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ядом с топкой стояла кочерга. Зачем нужна кочерг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348000" y="138600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 полках хранились горшки и кувшины из глины, деревянные ковши, миски, кружк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00000" y="156852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илок  в старину не было. Чем же ели щ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 каждого была своя ложка. Ложки и другую деревянную посуду мастера украшали символами Солнца, воды, земли,дожд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5640" y="2701800"/>
            <a:ext cx="55450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чём сходство и различие старинной и современной посуды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ую посуду ставили на стол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ервым начинал трапезу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еустройство, голод, беды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рудно жили наши деды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А зимой , в холодный год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ам , где люди , там и скот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этих избах печи был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Без трубы, не как тепер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Их по-чёрному топили 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ым клубился в окна , в двер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1755720"/>
            <a:ext cx="788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Людей, которые обрабатывали землю, выращивали на ней культурные растения, называли крестьянами. Крестьянские дети помогали взрослым . Чем они могли помочь 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19280" y="2459160"/>
            <a:ext cx="6012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2324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Девочки ухаживали за домашним животными. Летом дети ворошили сено, собирали его в копны. Ребята ходили в лес по грибы и ягоды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078000" y="2060640"/>
            <a:ext cx="4297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484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ного дел было в избе. С шести лет присматривали за младшими в семье.Ходили за водой, приносили дрова к печи.Подметали, накрывали на стол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92360" y="1825560"/>
            <a:ext cx="60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В свободное время дети играли.Мальчики играли в городки из круглых чурок, в бабки из косте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" descr="Картинка 51 из 80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47640"/>
            <a:ext cx="6480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 девочек были самодельные  тряпичные кукл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5118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7372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то умели делать крестьянские дети ?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о что играли на Руси дети ? А во что играете вы?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то умеешь делать по дому ты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58560" y="4581000"/>
            <a:ext cx="639108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-589320"/>
            <a:ext cx="74768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5214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Главной в русском доме была печь. В печи готовили , в ней мылись, она была настоящим лекарством. Чужих людей на печь не пускали. Девушка при сватовстве  залезала на печь и , когда сватовство заканчивалось, спускалась к будущему  жениху или ,наоборот, отсиживалась на п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4005360"/>
            <a:ext cx="71643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48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стые печи топились по-черному- дым выходил из трубы через узкое оконце в стен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3141720"/>
            <a:ext cx="74772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9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772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Более сложная печь  имела трубу и топилась по- белому –без копоти и едкого дыма. А как сейчас отапливают деревянные дома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3716280"/>
            <a:ext cx="73260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3211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Чтобы сберечь тепло в избе, окна делали небольшими, из бычьего пузыря  или кусочков полупрозрачной слюды. Как вы думаете, в доме было светло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22800" y="2205000"/>
            <a:ext cx="33638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 чем освещали изб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27080" y="1197000"/>
            <a:ext cx="46310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учину вставляли в светец , который прибивали к стене. Под ним ставили таз с водой. Заче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697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кто знает –как менялось освещение  со времене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442880"/>
            <a:ext cx="5616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32:44Z</dcterms:created>
  <dc:creator>елена</dc:creator>
  <dc:description/>
  <dc:language>en-US</dc:language>
  <cp:lastModifiedBy>елена</cp:lastModifiedBy>
  <dcterms:modified xsi:type="dcterms:W3CDTF">2012-03-26T16:18:12Z</dcterms:modified>
  <cp:revision>3</cp:revision>
  <dc:subject/>
  <dc:title>Слайд 1</dc:title>
</cp:coreProperties>
</file>