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239D-9C7C-4573-9B17-FFFF7543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3E4-D5DA-4181-9FDE-DA926835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B69C-357D-49DF-BDEB-11C42ACE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CD65-3032-4149-9C35-12DC1963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3735-D3C2-4E3E-83A2-3D16AAB3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2FF0-9C90-483C-AB5A-3065EA79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4C3B-9401-4ABE-AB05-7585E379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DC28-6C2E-4BD8-8A8B-89655009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6A62-7F34-4500-A8E0-3F835800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8D26-EEB9-4A86-9447-6F843FF8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E4C7-BD24-43E4-ACA2-BE5DF514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30AA-EB3D-42ED-9AE7-31057EC8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AA51-2F99-4DBA-9FF0-E3182C9C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67A6-C188-4495-8BE8-E9126631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AF75-183C-4E2A-A257-ED9927D1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A889-E711-47BF-A7FB-F97868AF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A781-09E6-4502-9EC1-3D05F922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40AB-6EB9-4978-8193-A3DB871F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0900-F453-4007-80BD-6183BFE9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A474-9FC1-451E-B0D8-74347B4A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746E-330C-4E7C-AE45-79CF7FC2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C43-2C11-48FB-9E72-5C2D08E2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F643-553D-4C64-9603-D4B4F0ED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BA47-BC42-4B52-B3CC-B55D4559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4311-C52D-459C-9665-88B789D7F04B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AF34-B3F3-4618-9B1F-898CE8FA6B7A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rea7.ru/images/culture/ii_381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708480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Жизнь на селе в старину.</a:t>
            </a:r>
            <a:br>
              <a:rPr sz="48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РЕЗЕНТАЦИЯ К УРОКУ ОКРУЖАЮЩЕГО МИРА 3КЛАСС ПРОГРАММА «Гармония».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Учитель ГБОУ СОШ № 767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Антипова Елена Владимировн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2360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Ребята, как украшали наши дедушки окна и крышу в избах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3803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4455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Мы были в школьном музее и видели много предметов быта. Какие из них вы запомнили?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11280" y="1941480"/>
            <a:ext cx="698508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середине избы стоял стол. Стол называли «божьей ладонью». Нельзя за столом ругаться и стучать по нему кулаком. В центре стола стоял чугунок со щами или с кашей. После молитвы начинал трапезу первым хозяин дом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4484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В старину говорили :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хлеб на стол, так стол-престол, а хлеба ни куска, так и стол доска. Как вы это понимаете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258920" y="2378160"/>
            <a:ext cx="59770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-387720"/>
            <a:ext cx="759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У печи стояли ухваты, которыми доставали чугунки из печи. Ухват служил  и оружием от непрошенных гостей. Еще с помощью ухвата изображали рога быка  в разных играх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236016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57340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Рядом с топкой стояла кочерга. Зачем нужна кочерга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348000" y="1386000"/>
            <a:ext cx="4103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На полках хранились горшки и кувшины из глины, деревянные ковши, миски, кружки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900000" y="1568520"/>
            <a:ext cx="648036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Вилок  в старину не было. Чем же ели щи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5616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У каждого была своя ложка. Ложки и другую деревянную посуду мастера украшали символами Солнца, воды, земли,дождя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195640" y="2701800"/>
            <a:ext cx="554508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чём сходство и различие старинной и современной посуды 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кую посуду ставили на стол 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то первым начинал трапезу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Неустройство, голод, беды-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Трудно жили наши деды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А зимой , в холодный год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Там , где люди , там и скот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В этих избах печи был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Без трубы, не как теперь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Их по-чёрному топили 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Дым клубился в окна , в дверь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-1755720"/>
            <a:ext cx="78850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Людей, которые обрабатывали землю, выращивали на ней культурные растения, называли крестьянами. Крестьянские дети помогали взрослым . Чем они могли помочь ?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619280" y="2459160"/>
            <a:ext cx="601200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72324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Девочки ухаживали за домашним животными. Летом дети ворошили сено, собирали его в копны. Ребята ходили в лес по грибы и ягоды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078000" y="2060640"/>
            <a:ext cx="42976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44840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Много дел было в избе. С шести лет присматривали за младшими в семье.Ходили за водой, приносили дрова к печи.Подметали, накрывали на стол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692360" y="1825560"/>
            <a:ext cx="6048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В свободное время дети играли.Мальчики играли в городки из круглых чурок, в бабки из костей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9" name="" descr="Картинка 51 из 80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547640"/>
            <a:ext cx="64800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У девочек были самодельные  тряпичные куклы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51181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920" y="1699920"/>
            <a:ext cx="737208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Что умели делать крестьянские дети ?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Во что играли на Руси дети ? А во что играете вы?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Что умеешь делать по дому ты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58560" y="4581000"/>
            <a:ext cx="6391080" cy="28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-589320"/>
            <a:ext cx="74768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311"/>
                </a:solidFill>
                <a:latin typeface="Arial"/>
              </a:rPr>
              <a:t>Молодцы!</a:t>
            </a:r>
            <a:endParaRPr b="0" lang="en-US" sz="7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752148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Главной в русском доме была печь. В печи готовили , в ней мылись, она была настоящим лекарством. Чужих людей на печь не пускали. Девушка при сватовстве  залезала на печь и , когда сватовство заканчивалось, спускалась к будущему  жениху или ,наоборот, отсиживалась на печи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4005360"/>
            <a:ext cx="716436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771640" y="328608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48400" cy="25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остые печи топились по-черному- дым выходил из трубы через узкое оконце в стене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3141720"/>
            <a:ext cx="747720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1293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4772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Более сложная печь  имела трубу и топилась по- белому –без копоти и едкого дыма. А как сейчас отапливают деревянные дома?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3716280"/>
            <a:ext cx="7326000" cy="23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211640" y="2276640"/>
            <a:ext cx="3211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Чтобы сберечь тепло в избе, окна делали небольшими, из бычьего пузыря  или кусочков полупрозрачной слюды. Как вы думаете, в доме было светло?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222800" y="2205000"/>
            <a:ext cx="33638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А чем освещали избу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27080" y="1197000"/>
            <a:ext cx="46310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Лучину вставляли в светец , который прибивали к стене. Под ним ставили таз с водой. Зачем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6978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А кто знает –как менялось освещение  со временем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0920" y="1442880"/>
            <a:ext cx="561636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3:32:44Z</dcterms:created>
  <dc:creator>елена</dc:creator>
  <dc:description/>
  <dc:language>en-US</dc:language>
  <cp:lastModifiedBy>елена</cp:lastModifiedBy>
  <dcterms:modified xsi:type="dcterms:W3CDTF">2012-03-26T16:18:12Z</dcterms:modified>
  <cp:revision>3</cp:revision>
  <dc:subject/>
  <dc:title>Слайд 1</dc:title>
</cp:coreProperties>
</file>