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F9B-E8BF-4CE2-A91B-78C3089B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9D9-4971-44E5-AA1C-FD46C01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5799-95E5-45F1-A559-A23B745F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2D7-E0BE-4CF5-826B-4E56F34A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841-6380-4566-9EF4-8E42D601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01C-5835-4C08-A0B1-4ABDDEC9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745-CCD9-48D0-B6C7-9E729B8E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4F8-9030-497E-BCC6-C658C77E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D59-2022-4AE4-806E-C6260ED9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42A-21B7-410E-8144-7981BA2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797-24B7-40DA-8BCA-1A784F3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A3B-AB5F-47A8-B17A-27FEB2E4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7308-F697-4769-A925-86C2D1D01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" Target="slide27.xml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219320" y="228816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ема: Дисперсные системы и раств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295280" y="457560"/>
            <a:ext cx="70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МОУ «Икрянинская С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>
            <a:off x="762120" y="1447920"/>
            <a:ext cx="7632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666600" y="586728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Автор: учитель химии Юдина И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04920" y="304920"/>
          <a:ext cx="8381880" cy="624816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140472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 (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ной системы не образу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 (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а (г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а газированной воды, мыльная пена, взбитые сливки, взбитый крем, пастил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 (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ая пена (г/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нопласт, пенобетон, пеностекло, пемза, ла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о степени дисперс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.е. по среднему размеру частиц дисперсной фазы) систему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рубодисперс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редний диаметр частиц более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6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), они неустойчивые и со временем разделяются на дисперсную фазу и дисперсную сре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онко (высоко) дисперсные, или коллоидные систем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иаметр частиц от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6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  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), значительно более устойч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лассификация дисперсных систем и растворов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хема 2 с.92 учебни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Взвеси</a:t>
            </a:r>
            <a:r>
              <a:rPr b="0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 – это дисперсные системы, в которых размер частицы фазы более 100 нм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"/>
              </a:rPr>
              <a:t>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то непрозрачные системы, отдельные частицы которых можно заметить невооруженным глазом. Дисперсная фаза и дисперсная среда легко разделяются отстаиванием, фильтрованием. Такие системы разделяются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304920" y="3430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Эмульсии (</a:t>
            </a: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и среда, и фаза – нерастворимые друг в друге жидкост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Arial"/>
                <a:ea typeface="Times New Roman"/>
              </a:rPr>
              <a:t>Это хорошо известные вам молоко, лимфа, водоэмульсионные краск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Users\123\Desktop\Новая папка (3)\молоко.jpg"/>
          <p:cNvPicPr/>
          <p:nvPr/>
        </p:nvPicPr>
        <p:blipFill>
          <a:blip r:embed="rId1"/>
          <a:stretch/>
        </p:blipFill>
        <p:spPr>
          <a:xfrm>
            <a:off x="3257640" y="1676520"/>
            <a:ext cx="4591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123\Desktop\Новая папка (3)\молокооооооо.jpg"/>
          <p:cNvPicPr/>
          <p:nvPr/>
        </p:nvPicPr>
        <p:blipFill>
          <a:blip r:embed="rId1"/>
          <a:stretch/>
        </p:blipFill>
        <p:spPr>
          <a:xfrm>
            <a:off x="4876920" y="228600"/>
            <a:ext cx="4038480" cy="6248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123\Desktop\Новая папка (3)\молокооо.jpg"/>
          <p:cNvPicPr/>
          <p:nvPr/>
        </p:nvPicPr>
        <p:blipFill>
          <a:blip r:embed="rId2"/>
          <a:stretch/>
        </p:blipFill>
        <p:spPr>
          <a:xfrm>
            <a:off x="533520" y="304920"/>
            <a:ext cx="3657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123\Desktop\Новая папка (3)\2.bmp"/>
          <p:cNvPicPr/>
          <p:nvPr/>
        </p:nvPicPr>
        <p:blipFill>
          <a:blip r:embed="rId1"/>
          <a:stretch/>
        </p:blipFill>
        <p:spPr>
          <a:xfrm>
            <a:off x="304920" y="914400"/>
            <a:ext cx="844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380880" y="2437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успензи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 среда – жидкость, фаза – нерастворимое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й твердое вещество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тобы приготовить суспензию , надо вещество измельчить до тонкого порошка, высыпать в жидкость и хорошо взболтать. Со временем частица выпадут на дно сосуда.  Очевидно, чем меньше частицы, тем дольше будет сохраняться суспенз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Это строительные растворы, взвешенный в воде реч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и морской ил, живая взвесь микроскопических живых организмов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орской воде – планктон, которым питаются гиганты – киты,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304920" y="23364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Аэрозоли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взвеси в газе (например, в воздухе) мелких части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жидкостей или твердых вещест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зличаются пыли, дымы, тума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C:\Users\123\Desktop\Новая папка (3)\5.jpg"/>
          <p:cNvPicPr/>
          <p:nvPr/>
        </p:nvPicPr>
        <p:blipFill>
          <a:blip r:embed="rId1"/>
          <a:stretch/>
        </p:blipFill>
        <p:spPr>
          <a:xfrm>
            <a:off x="5410080" y="1143000"/>
            <a:ext cx="312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123\Desktop\Новая папка (3)\космическая пыль.jpg"/>
          <p:cNvPicPr/>
          <p:nvPr/>
        </p:nvPicPr>
        <p:blipFill>
          <a:blip r:embed="rId1"/>
          <a:stretch/>
        </p:blipFill>
        <p:spPr>
          <a:xfrm>
            <a:off x="4876920" y="3049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123\Desktop\Новая папка (3)\пыль9.jpg"/>
          <p:cNvPicPr/>
          <p:nvPr/>
        </p:nvPicPr>
        <p:blipFill>
          <a:blip r:embed="rId2"/>
          <a:stretch/>
        </p:blipFill>
        <p:spPr>
          <a:xfrm>
            <a:off x="457200" y="304920"/>
            <a:ext cx="3962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123\Desktop\Новая папка (3)\таман2.jpg"/>
          <p:cNvPicPr/>
          <p:nvPr/>
        </p:nvPicPr>
        <p:blipFill>
          <a:blip r:embed="rId1"/>
          <a:stretch/>
        </p:blipFill>
        <p:spPr>
          <a:xfrm>
            <a:off x="457200" y="380880"/>
            <a:ext cx="4267080" cy="6096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123\Desktop\Новая папка (3)\туман.jpg"/>
          <p:cNvPicPr/>
          <p:nvPr/>
        </p:nvPicPr>
        <p:blipFill>
          <a:blip r:embed="rId2"/>
          <a:stretch/>
        </p:blipFill>
        <p:spPr>
          <a:xfrm>
            <a:off x="4952880" y="380880"/>
            <a:ext cx="39625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22200" y="30492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персные системы и раств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80880" y="780120"/>
            <a:ext cx="73580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зучив тему, вы узнает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 новой зависимости – зависимости свойств             вещества от состояния их рздроблен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>
            <a:hlinkClick r:id="rId1" action="ppaction://hlinksldjump"/>
          </p:cNvPr>
          <p:cNvSpPr/>
          <p:nvPr/>
        </p:nvSpPr>
        <p:spPr>
          <a:xfrm>
            <a:off x="1006920" y="2438280"/>
            <a:ext cx="397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Что такое дисперсные систем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>
            <a:hlinkClick r:id="rId2" action="ppaction://hlinksldjump"/>
          </p:cNvPr>
          <p:cNvSpPr/>
          <p:nvPr/>
        </p:nvSpPr>
        <p:spPr>
          <a:xfrm>
            <a:off x="1099800" y="2971800"/>
            <a:ext cx="4586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лассификацию дисперсных сист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>
            <a:hlinkClick r:id="rId3" action="ppaction://hlinksldjump"/>
          </p:cNvPr>
          <p:cNvSpPr/>
          <p:nvPr/>
        </p:nvSpPr>
        <p:spPr>
          <a:xfrm>
            <a:off x="1015920" y="3657600"/>
            <a:ext cx="638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Какими свойствами обладают дисперсные систем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>
            <a:hlinkClick r:id="rId4" action="ppaction://hlinksldjump"/>
          </p:cNvPr>
          <p:cNvSpPr/>
          <p:nvPr/>
        </p:nvSpPr>
        <p:spPr>
          <a:xfrm>
            <a:off x="1090080" y="4343400"/>
            <a:ext cx="6171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Значение дисперсных систем в современном мир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4">
            <a:hlinkClick r:id="rId5" action="ppaction://hlinksldjump"/>
          </p:cNvPr>
          <p:cNvSpPr/>
          <p:nvPr/>
        </p:nvSpPr>
        <p:spPr>
          <a:xfrm>
            <a:off x="7848720" y="6019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123\Desktop\Новая папка (3)\туман3.jpg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межуточное место между дисперсными системами и истинными растворами занимают коллоидные системы.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оллоидные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переводе с греческого “колла” – клей, “еидос” вид клееподобные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такие дисперсные системы, в которых размер частиц фазы от 100 до 1 нм. Эти частицы не видны невооруженным глазом, и дисперсная фаза и дисперсная среда в таких системах отстаиванием разделяются с труд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курса общей биологии вам известно, что частицы такого размера можно обнаружить при помощи ультрамикроскопа, в котором используется принцип рассеивания света. Благодаря этому коллоидная частица в нем кажется яркой точкой на темном ф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лассификация коллоидных систем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Коллоидные раство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большинство жидкостей живой клетки (цитоплазма, ядерный сок – кариоплазма, содержимое органоидов и вакуолей). И живого организма в целом (кровь, лимфа, тканевая жидкость, пищеварительные соки и т.д.) Такие системы образуют клеи, крахмал, белки, некоторые полим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Ге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сту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ним относят большое количество полимерных гелей, кондитерские, косметические и медицинские гели (желатин, холодец, мармелад, торт “Птичье молоко”) и конечно же бесконечное множество природных гелей: минералы (опал), тела медуз, хрящи, сухожилия, волосы, мышечная и нервная ткани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00"/>
                </a:solidFill>
                <a:latin typeface="Arial"/>
              </a:rPr>
              <a:t>Эффект Тинд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304920" y="1295280"/>
            <a:ext cx="86868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личают коллоидные растворы от истинных по 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</a:rPr>
              <a:t>образующейся “светящейся дорожке” – конусу при пропускании через них луча све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- истинный раствор хлорида натри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- коллоидный раствор гидроксида желез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11" descr="http://festival.1september.ru/articles/581350/img1.gif"/>
          <p:cNvPicPr/>
          <p:nvPr/>
        </p:nvPicPr>
        <p:blipFill>
          <a:blip r:embed="rId1"/>
          <a:stretch/>
        </p:blipFill>
        <p:spPr>
          <a:xfrm>
            <a:off x="457200" y="236232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Коагуля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явление слипания коллоидных частиц и выпадения их в осадок – наблюдается при нейтрализации зарядов этих частиц, когда в коллоидный раствор добавляют электролит. При этом раствор превращается в суспензию или гель. Некоторые органические коллоиды коагулируют при нагревании (клей, яичный белок) или при изменении кислотно-щелочной среды раствора.</a:t>
            </a: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 временем структура гелей нарушается (отслаивается) – из них выделяется вода. Это явление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ерезисом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280" y="61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80880" y="57888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ыполните лабораторные опыты по теме (групповая работа, в группе по 2 человек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м выдан образец дисперсной системы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аша задача: определить какая дисперсная система вам выда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ано учащимся: раствор сахара, раствор хлорида железа (III), смесь воды и речного песка, желатин, раствор хлорида алюминия, раствор поваренной соли, смесь воды и растительного мас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я по выполнению лабораторного опы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смотрите внимательно выданный вам образец (внешнее описание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полните графу № 1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емешайте дисперсную систему. Понаблюдайте за способностью осажд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ждается или расслаивается в течении несколько минут или с трудом в течении продолжительного времени, или не осаждаются. Заполните графу № 2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наблюдаете осаждение частиц, исследуйте его на процесс коагуляции. Отлейте немного раствора в две пробирки и добавьте в одну 2–3 капли желтой кровяной соли и в другую 3–5 капель щелочи, что наблюдает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пустите дисперсную систему через фильт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наблюдаете? Заполните графу № 3 таблицы. (Отфильтруйте немного в пробир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пустите через раствор луч света фонарика на фоне темной бумаг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то наблюдаете? (можно наблюдать эффект Тиндал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делайте вывод: что это за дисперсная система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дисперсной средой? Что является дисперсной фазой? Каковы размеры частиц в нем? (графа №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457200"/>
          <a:ext cx="8686800" cy="5943600"/>
        </p:xfrm>
        <a:graphic>
          <a:graphicData uri="http://schemas.openxmlformats.org/drawingml/2006/table">
            <a:tbl>
              <a:tblPr/>
              <a:tblGrid>
                <a:gridCol w="1528560"/>
                <a:gridCol w="1930320"/>
                <a:gridCol w="2090880"/>
                <a:gridCol w="1460520"/>
                <a:gridCol w="1676520"/>
              </a:tblGrid>
              <a:tr h="19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62626"/>
                          </a:solidFill>
                          <a:latin typeface="Arial"/>
                        </a:rPr>
                        <a:t>Внешний вид и видимость час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саждаться и  способность к коагуля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задерживаться фильт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ение эффекта Тинд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исперсной системы, размеры част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9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75d1"/>
                </a:solidFill>
                <a:latin typeface="Arial"/>
              </a:rPr>
              <a:t>Закрепление изуче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, сделать анализ профессионально значимой информации из следующего текста.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риготовление кофе – целое искусство. Важно знать о сущности физико-химических явлений происходящих в кофейне. Когда кофе заливают кипящей водой, начинается процесс экстрагирования – вытяжка из кофе его растворимых компонентов. Одновременно всплывающие пузырьки пара увлекают за собой ароматические вещества. Варят кофе в лужёных изнутри сосудах. Сначала наливают воду и добавляют сахар по вкусу. Это не случайно, а потому, что водопроводная вода жёсткая, ионы кальция тормозят процесс экстрагирования. При кипячении кофе образуется густая шапка пены – это своеобразная крышка, не позволяющая летучим веществам покидать сосуд, сохраняя аромат и вкус напитка. Пене дают подняться один раз, так как бурлящая жидкость может разрушить пенистую крышку. Подогретый кофе не имеет аром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Определить место дисперсной системы кофе в классификации по агрегатному состоянию фазы 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Определить компоненты фазы 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Где на практике можно встретиться с пе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Условия сохранения  вкусовых кач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Зачем кофе готовят на подслащённой вод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омашнее зад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раграф №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пражнение 1-4 ус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-6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1114200" y="1242000"/>
            <a:ext cx="76042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Изучив тему, следу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ять место дисперсной системы в классифик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 агрегатному состоянию фазы и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ять компоненты фазы и сре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22200" y="30492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Times New Roman"/>
              </a:rPr>
              <a:t>Дисперсные системы и раств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">
            <a:hlinkClick r:id="rId1" action="ppaction://hlinksldjump"/>
          </p:cNvPr>
          <p:cNvSpPr/>
          <p:nvPr/>
        </p:nvSpPr>
        <p:spPr>
          <a:xfrm>
            <a:off x="7848720" y="6095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ктуализация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ните, что называют раствор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образите в виде схемы состав раств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спомните, что называют растворител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Если растворитель и растворенное вещество находятся в одинаковом состоянии, то какой из компонентов является растворител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кажите значимость раств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286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е вещества в природе встречаются очень ред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роде чаще всего встречаются смеси различн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 стрелкой 5"/>
          <p:cNvCxnSpPr/>
          <p:nvPr/>
        </p:nvCxnSpPr>
        <p:spPr>
          <a:xfrm flipH="1">
            <a:off x="2971440" y="2362320"/>
            <a:ext cx="991440" cy="121968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8" name="Прямая со стрелкой 6"/>
          <p:cNvCxnSpPr/>
          <p:nvPr/>
        </p:nvCxnSpPr>
        <p:spPr>
          <a:xfrm>
            <a:off x="5257800" y="2361960"/>
            <a:ext cx="991440" cy="10674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59" name="Блок-схема: процесс 9"/>
          <p:cNvSpPr/>
          <p:nvPr/>
        </p:nvSpPr>
        <p:spPr>
          <a:xfrm>
            <a:off x="990720" y="3657600"/>
            <a:ext cx="2361960" cy="17524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етерог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неоднородные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), составные  части можно обнаружить  визуально или с помощью оптических приб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Блок-схема: процесс 10"/>
          <p:cNvSpPr/>
          <p:nvPr/>
        </p:nvSpPr>
        <p:spPr>
          <a:xfrm>
            <a:off x="5943600" y="3657600"/>
            <a:ext cx="2286000" cy="18288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омог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однородные), 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составные части нельзя обнаружить ни визуально, ни с помощью оптических приб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Дисперсными называют гетерогенные системы, в которых одно вещество в виде очень мелких частиц равномерно распределено в объеме друг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исперсных системах 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сперсная фаз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то  вещество, которое присутствует в меньшем количестве и распределено в объеме друг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исперсная сре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о вещество, которое присутствует в большем количестве, в объеме которого распределена дисперсная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2"/>
          <p:cNvSpPr/>
          <p:nvPr/>
        </p:nvSpPr>
        <p:spPr>
          <a:xfrm>
            <a:off x="53352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частицами дисперсной фазы  и дисперсной средой  существует поверхность разде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ависимости от агрегатного состояния дисперсионной среды и дисперсионной фазы выделяют следующие  основные </a:t>
            </a:r>
            <a:r>
              <a:rPr b="0" lang="ru-RU" sz="1400" spc="-1" strike="noStrike">
                <a:solidFill>
                  <a:srgbClr val="00b050"/>
                </a:solidFill>
                <a:latin typeface="Arial"/>
              </a:rPr>
              <a:t>виды дисперсных сист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143000"/>
          <a:ext cx="8305920" cy="533556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458640">
                <a:tc grid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 дисперсной системы, ее обознач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ы дисперс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ионная ф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персионная 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892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 (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эрозоль (т/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ыль, дым, хлопья сне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 (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спензии (т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оидные растворы (т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инные раств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т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ина, зубная паста, губная пома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 яичного белка, плазма крови, спиртовая вытяжка хлорофилла, кремниевая кисло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солей, щелочей, сахар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 (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ые растворы (т/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лавы, минералы, цветные стекл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04920"/>
          <a:ext cx="8305920" cy="617040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2097000">
                <a:tc rowSpan="3"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 (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эрозоль (ж/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ман, облака, моросящий дождь, струя из аэрозольного баллончи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ь(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мульсия (ж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инные растворы (ж/ж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, масло, майонез, крем, мази, эмульсионные краск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шие спирты +вода, ацетон + вод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ое тело (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ердая эмульсия (ж/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мчуг, оп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1-01-04T11:54:2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