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D72-5EE0-47DB-BC64-CDE10BED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1C1-443B-4819-9A86-49A6925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E09-448F-4BE8-86B2-7FF6184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938-B410-42AA-9F38-7F1AF57D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A13-7B9E-4568-AAD3-D73A401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4D3-60F9-4748-A56A-24EBA76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CF8-0776-4E2F-A62A-128B339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B70-B43B-414A-B217-2AAFB0E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843-631C-49B5-B88D-BA70C93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B05-37E6-4064-8A9D-A85EEF13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178-8457-4D5F-86F9-F6FD133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FCF-3804-4FDD-A785-B62C24E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35D8-65F5-4736-9C6E-DF36BB5A8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" Target="slide27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19320" y="228816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ма: Дисперсные системы и раств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95280" y="45756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МОУ «Икрянинская С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762120" y="1447920"/>
            <a:ext cx="763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66600" y="586728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втор: учитель химии Юдина И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04920" y="304920"/>
          <a:ext cx="8381880" cy="624816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14047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ной системы не образ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 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а (г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а газированной воды, мыльная пена, взбитые сливки, взбитый крем, пастил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ая пена (г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опласт, пенобетон, пеностекло, пемза, ла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 степени дисперс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.е. по среднему размеру частиц дисперсной фазы) систему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рубодисперс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редний диаметр частиц более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6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), они неустойчивые и со временем разделяются на дисперсную фазу и дисперсну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онко (высоко) дисперсные, или коллоидные систе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иаметр частиц от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6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  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), значительно более устойч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лассификация дисперсных систем и растворов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хема 2 с.92 учеб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Взвеси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 – это дисперсные системы, в которых размер частицы фазы более 100 нм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то непрозрачные системы, отдельные частицы которых можно заметить невооруженным глазом. Дисперсная фаза и дисперсная среда легко разделяются отстаиванием, фильтрованием. Такие системы разделяются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304920" y="3430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Эмульсии (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и среда, и фаза – нерастворимые друг в друге жидк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Это хорошо известные вам молоко, лимфа, водоэмульсионные краск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Users\123\Desktop\Новая папка (3)\молоко.jpg"/>
          <p:cNvPicPr/>
          <p:nvPr/>
        </p:nvPicPr>
        <p:blipFill>
          <a:blip r:embed="rId1"/>
          <a:stretch/>
        </p:blipFill>
        <p:spPr>
          <a:xfrm>
            <a:off x="3257640" y="1676520"/>
            <a:ext cx="4591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123\Desktop\Новая папка (3)\молокооооооо.jpg"/>
          <p:cNvPicPr/>
          <p:nvPr/>
        </p:nvPicPr>
        <p:blipFill>
          <a:blip r:embed="rId1"/>
          <a:stretch/>
        </p:blipFill>
        <p:spPr>
          <a:xfrm>
            <a:off x="4876920" y="228600"/>
            <a:ext cx="4038480" cy="624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123\Desktop\Новая папка (3)\молокооо.jpg"/>
          <p:cNvPicPr/>
          <p:nvPr/>
        </p:nvPicPr>
        <p:blipFill>
          <a:blip r:embed="rId2"/>
          <a:stretch/>
        </p:blipFill>
        <p:spPr>
          <a:xfrm>
            <a:off x="533520" y="304920"/>
            <a:ext cx="3657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123\Desktop\Новая папка (3)\2.bmp"/>
          <p:cNvPicPr/>
          <p:nvPr/>
        </p:nvPicPr>
        <p:blipFill>
          <a:blip r:embed="rId1"/>
          <a:stretch/>
        </p:blipFill>
        <p:spPr>
          <a:xfrm>
            <a:off x="304920" y="914400"/>
            <a:ext cx="844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80880" y="2437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успенз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 среда – жидкость, фаза – нерастворимое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й твердое вещество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тобы приготовить суспензию , надо вещество измельчить до тонкого порошка, высыпать в жидкость и хорошо взболтать. Со временем частица выпадут на дно сосуда.  Очевидно, чем меньше частицы, тем дольше будет сохраняться суспенз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Это строительные растворы, взвешенный в воде реч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 морской ил, живая взвесь микроскопических живых организмов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рской воде – планктон, которым питаются гиганты – киты,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304920" y="2336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эрозо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взвеси в газе (например, в воздухе) мелких части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жидкостей или твердых вещест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личаются пыли, дымы, тум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123\Desktop\Новая папка (3)\5.jpg"/>
          <p:cNvPicPr/>
          <p:nvPr/>
        </p:nvPicPr>
        <p:blipFill>
          <a:blip r:embed="rId1"/>
          <a:stretch/>
        </p:blipFill>
        <p:spPr>
          <a:xfrm>
            <a:off x="5410080" y="1143000"/>
            <a:ext cx="312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123\Desktop\Новая папка (3)\космическая пыль.jpg"/>
          <p:cNvPicPr/>
          <p:nvPr/>
        </p:nvPicPr>
        <p:blipFill>
          <a:blip r:embed="rId1"/>
          <a:stretch/>
        </p:blipFill>
        <p:spPr>
          <a:xfrm>
            <a:off x="4876920" y="3049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123\Desktop\Новая папка (3)\пыль9.jpg"/>
          <p:cNvPicPr/>
          <p:nvPr/>
        </p:nvPicPr>
        <p:blipFill>
          <a:blip r:embed="rId2"/>
          <a:stretch/>
        </p:blipFill>
        <p:spPr>
          <a:xfrm>
            <a:off x="457200" y="304920"/>
            <a:ext cx="3962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123\Desktop\Новая папка (3)\таман2.jpg"/>
          <p:cNvPicPr/>
          <p:nvPr/>
        </p:nvPicPr>
        <p:blipFill>
          <a:blip r:embed="rId1"/>
          <a:stretch/>
        </p:blipFill>
        <p:spPr>
          <a:xfrm>
            <a:off x="457200" y="380880"/>
            <a:ext cx="4267080" cy="609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123\Desktop\Новая папка (3)\туман.jpg"/>
          <p:cNvPicPr/>
          <p:nvPr/>
        </p:nvPicPr>
        <p:blipFill>
          <a:blip r:embed="rId2"/>
          <a:stretch/>
        </p:blipFill>
        <p:spPr>
          <a:xfrm>
            <a:off x="4952880" y="380880"/>
            <a:ext cx="3962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22200" y="30492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персные системы и раств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0880" y="780120"/>
            <a:ext cx="7358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вы узнает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 новой зависимости – зависимости свойств             вещества от состояния их рздроблен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>
            <a:hlinkClick r:id="rId1" action="ppaction://hlinksldjump"/>
          </p:cNvPr>
          <p:cNvSpPr/>
          <p:nvPr/>
        </p:nvSpPr>
        <p:spPr>
          <a:xfrm>
            <a:off x="1006920" y="2438280"/>
            <a:ext cx="397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Что такое дисперсные систем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>
            <a:hlinkClick r:id="rId2" action="ppaction://hlinksldjump"/>
          </p:cNvPr>
          <p:cNvSpPr/>
          <p:nvPr/>
        </p:nvSpPr>
        <p:spPr>
          <a:xfrm>
            <a:off x="1099800" y="2971800"/>
            <a:ext cx="458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ификацию дисперсных сист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>
            <a:hlinkClick r:id="rId3" action="ppaction://hlinksldjump"/>
          </p:cNvPr>
          <p:cNvSpPr/>
          <p:nvPr/>
        </p:nvSpPr>
        <p:spPr>
          <a:xfrm>
            <a:off x="1015920" y="3657600"/>
            <a:ext cx="63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акими свойствами обладают дисперсные систем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4" action="ppaction://hlinksldjump"/>
          </p:cNvPr>
          <p:cNvSpPr/>
          <p:nvPr/>
        </p:nvSpPr>
        <p:spPr>
          <a:xfrm>
            <a:off x="1090080" y="4343400"/>
            <a:ext cx="6171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начение дисперсных систем в современном ми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4">
            <a:hlinkClick r:id="rId5" action="ppaction://hlinksldjump"/>
          </p:cNvPr>
          <p:cNvSpPr/>
          <p:nvPr/>
        </p:nvSpPr>
        <p:spPr>
          <a:xfrm>
            <a:off x="784872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123\Desktop\Новая папка (3)\туман3.jpg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ежуточное место между дисперсными системами и истинными растворами занимают коллоидные системы.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оллоидные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переводе с греческого “колла” – клей, “еидос” вид клееподобные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такие дисперсные системы, в которых размер частиц фазы от 100 до 1 нм. Эти частицы не видны невооруженным глазом, и дисперсная фаза и дисперсная среда в таких системах отстаиванием разделяются с тру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урса общей биологии вам известно, что частицы такого размера можно обнаружить при помощи ультрамикроскопа, в котором используется принцип рассеивания света. Благодаря этому коллоидная частица в нем кажется яркой точкой на темном ф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ассификация коллоидных систе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Коллоидные раств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большинство жидкостей живой клетки (цитоплазма, ядерный сок – кариоплазма, содержимое органоидов и вакуолей). И живого организма в целом (кровь, лимфа, тканевая жидкость, пищеварительные соки и т.д.) Такие системы образуют клеи, крахмал, белки, некоторые полим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Г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ту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им относят большое количество полимерных гелей, кондитерские, косметические и медицинские гели (желатин, холодец, мармелад, торт “Птичье молоко”) и конечно же бесконечное множество природных гелей: минералы (опал), тела медуз, хрящи, сухожилия, волосы, мышечная и нервная ткан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Эффект Тинд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304920" y="1295280"/>
            <a:ext cx="868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 коллоидные растворы от истинных по 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образующейся “светящейся дорожке” – конусу при пропускании через них луча све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- истинный раствор хлорида натр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- коллоидный раствор гидроксида желез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1" descr="http://festival.1september.ru/articles/581350/img1.gif"/>
          <p:cNvPicPr/>
          <p:nvPr/>
        </p:nvPicPr>
        <p:blipFill>
          <a:blip r:embed="rId1"/>
          <a:stretch/>
        </p:blipFill>
        <p:spPr>
          <a:xfrm>
            <a:off x="457200" y="236232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Коагуля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явление слипания коллоидных частиц и выпадения их в осадок – наблюдается при нейтрализации зарядов этих частиц, когда в коллоидный раствор добавляют электролит. При этом раствор превращается в суспензию или гель. Некоторые органические коллоиды коагулируют при нагревании (клей, яичный белок) или при изменении кислотно-щелочной среды раствора.</a:t>
            </a: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 временем структура гелей нарушается (отслаивается) – из них выделяется вода. Это явление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ерезисо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61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57888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лабораторные опыты по теме (групповая работа, в группе по 2 человек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м выдан образец дисперсной системы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аша задача: определить какая дисперсная система вам выд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ано учащимся: раствор сахара, раствор хлорида железа (III), смесь воды и речного песка, желатин, раствор хлорида алюминия, раствор поваренной соли, смесь воды и растительного ма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я по выполнению лабораторного опы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те внимательно выданный вам образец (внешнее описание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олните графу № 1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мешайте дисперсную систему. Понаблюдайте за способностью осажд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ждается или расслаивается в течении несколько минут или с трудом в течении продолжительного времени, или не осаждаются. Заполните графу № 2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наблюдаете осаждение частиц, исследуйте его на процесс коагуляции. Отлейте немного раствора в две пробирки и добавьте в одну 2–3 капли желтой кровяной соли и в другую 3–5 капель щелочи, что наблюда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пустите дисперсную систему через фильт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наблюдаете? Заполните графу № 3 таблицы. (Отфильтруйте немного в пробир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пустите через раствор луч света фонарика на фоне темной бумаг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наблюдаете? (можно наблюдать эффект Тиндал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делайте вывод: что это за дисперсная система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дисперсной средой? Что является дисперсной фазой? Каковы размеры частиц в нем? (графа №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457200"/>
          <a:ext cx="8686800" cy="5943600"/>
        </p:xfrm>
        <a:graphic>
          <a:graphicData uri="http://schemas.openxmlformats.org/drawingml/2006/table">
            <a:tbl>
              <a:tblPr/>
              <a:tblGrid>
                <a:gridCol w="1528560"/>
                <a:gridCol w="1930320"/>
                <a:gridCol w="2090880"/>
                <a:gridCol w="1460520"/>
                <a:gridCol w="1676520"/>
              </a:tblGrid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Внешний вид и видимость час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саждаться и  способность к коагу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задерживаться фильт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эффекта Тинд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исперсной системы, размеры час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75d1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, сделать анализ профессионально значимой информации из следующего текста.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риготовление кофе – целое искусство. Важно знать о сущности физико-химических явлений происходящих в кофейне. Когда кофе заливают кипящей водой, начинается процесс экстрагирования – вытяжка из кофе его растворимых компонентов. Одновременно всплывающие пузырьки пара увлекают за собой ароматические вещества. Варят кофе в лужёных изнутри сосудах. Сначала наливают воду и добавляют сахар по вкусу. Это не случайно, а потому, что водопроводная вода жёсткая, ионы кальция тормозят процесс экстрагирования. При кипячении кофе образуется густая шапка пены – это своеобразная крышка, не позволяющая летучим веществам покидать сосуд, сохраняя аромат и вкус напитка. Пене дают подняться один раз, так как бурлящая жидкость может разрушить пенистую крышку. Подогретый кофе не имеет аром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Определить место дисперсной системы кофе в классификации по агрегатному состоянию фазы 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пределить компоненты фазы 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Где на практике можно встретиться с пе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Условия сохранения  вкусовых кач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Зачем кофе готовят на подслащённой в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машнее зад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раграф №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жнение 1-4 у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-6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1114200" y="1242000"/>
            <a:ext cx="76042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следу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ять место дисперсной системы в класс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агрегатному состоянию фазы и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ять компоненты фазы и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22200" y="30492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персные системы и раств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">
            <a:hlinkClick r:id="rId1" action="ppaction://hlinksldjump"/>
          </p:cNvPr>
          <p:cNvSpPr/>
          <p:nvPr/>
        </p:nvSpPr>
        <p:spPr>
          <a:xfrm>
            <a:off x="7848720" y="6095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ктуализац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, что называют раств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образите в виде схемы состав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помните, что называют растворител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ли растворитель и растворенное вещество находятся в одинаковом состоянии, то какой из компонентов является растворител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кажите значимость раств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86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е вещества в природе встречаются очень ред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роде чаще всего встречаются смеси различн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5"/>
          <p:cNvCxnSpPr/>
          <p:nvPr/>
        </p:nvCxnSpPr>
        <p:spPr>
          <a:xfrm flipH="1">
            <a:off x="2971440" y="2362320"/>
            <a:ext cx="991440" cy="1219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8" name="Прямая со стрелкой 6"/>
          <p:cNvCxnSpPr/>
          <p:nvPr/>
        </p:nvCxnSpPr>
        <p:spPr>
          <a:xfrm>
            <a:off x="5257800" y="2361960"/>
            <a:ext cx="991440" cy="10674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9" name="Блок-схема: процесс 9"/>
          <p:cNvSpPr/>
          <p:nvPr/>
        </p:nvSpPr>
        <p:spPr>
          <a:xfrm>
            <a:off x="990720" y="3657600"/>
            <a:ext cx="2361960" cy="1752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етерог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неоднородные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), составные  части можно обнаружить  визуально или с помощью оптических приб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Блок-схема: процесс 10"/>
          <p:cNvSpPr/>
          <p:nvPr/>
        </p:nvSpPr>
        <p:spPr>
          <a:xfrm>
            <a:off x="5943600" y="3657600"/>
            <a:ext cx="2286000" cy="18288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мог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однородные),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оставные части нельзя обнаружить ни визуально, ни с помощью оптических приб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Дисперсными называют гетерогенные системы, в которых одно вещество в виде очень мелких частиц равномерно распределено в объеме друг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сперсных системах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сперсная фаз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то  вещество, которое присутствует в меньшем количестве и распределено в объеме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сперсная сре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о вещество, которое присутствует в большем количестве, в объеме которого распределена дисперсная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2"/>
          <p:cNvSpPr/>
          <p:nvPr/>
        </p:nvSpPr>
        <p:spPr>
          <a:xfrm>
            <a:off x="53352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частицами дисперсной фазы  и дисперсной средой  существует поверхность разд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ависимости от агрегатного состояния дисперсионной среды и дисперсионной фазы выделяют следующие  основные </a:t>
            </a: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виды дисперсных сист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143000"/>
          <a:ext cx="8305920" cy="533556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458640"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 дисперсной системы, ее обознач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 дисперс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ионная ф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ионная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эрозоль (т/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ыль, дым, хлопья сне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 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спензии 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оидные растворы 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инные раств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ина, зубная паста, губная пома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 яичного белка, плазма крови, спиртовая вытяжка хлорофилла, кремниевая кисло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солей, щелочей, сахар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ые растворы (т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лавы, минералы, цветные стекл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04920"/>
          <a:ext cx="8305920" cy="61704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209700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эрозоль (ж/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, облака, моросящий дождь, струя из аэрозольного баллончи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мульсия (ж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инные растворы (ж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, масло, майонез, крем, мази, эмульсионные крас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шие спирты +вода, ацетон + во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ая эмульсия (ж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мчуг, оп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1-01-04T11:54:2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